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8.wmf" ContentType="image/x-wmf"/>
  <Override PartName="/ppt/media/image10.wmf" ContentType="image/x-wmf"/>
  <Override PartName="/ppt/media/image16.jpeg" ContentType="image/jpeg"/>
  <Override PartName="/ppt/media/image15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7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46D-929C-4290-AA07-1DFC40B6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B09-671E-424B-852D-05055CC6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770-2307-47D2-8884-44337A1D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DD5-9853-4CDF-95D7-23C30C0C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1871-45C2-4190-BDF0-F8C75048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0D6A-D462-446B-815B-1B116450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744C-501E-4D84-9060-5A484D1A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449C-C956-42A7-86B7-A578AE85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BAF6-F1C7-4B0A-B3A0-108871C1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5949-F286-46CB-9026-1435407A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C489-2835-4950-96DF-37A3F9C0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2B1-7D4F-4421-9473-858FB066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431E-B0EF-43A8-8455-CBA6B49D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4F13-FA26-44E8-A546-EE2E77C2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CBEC-9FF0-4B9D-9E9B-4DFB38CF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C136-7212-4C1B-9E3C-9618F3BA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908D-C038-4196-A5EA-0513F43A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14A-30E2-43D1-9616-1E24C231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57C-F10D-46FD-8C46-80E9D9C6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C1F-A17E-428E-B711-F538BC62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4B8-696C-4625-84FC-8CC33994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D5D-22F4-45A3-BCD6-04A6CD19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973-6DF1-4639-98B9-E4D65A31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948-815F-4569-A560-2E801ECD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5045-C1EF-43E2-BD83-C4C999F9849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77D8-AEB0-481F-BAF7-E9F8D554F79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uasa-battery.net/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tech@botik.ru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7416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Построение городской оптической магистрали с учетом особенностей электропитания в райцентрах Росс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брамов С. М., Котельников В. П.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омарев А. Ю., Шевчук Ю. 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осНИИ РП, Переславль-Залес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0520" y="163440"/>
            <a:ext cx="109368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Устранение неэффективност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дея коммут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Структурная схем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214200" y="2637000"/>
            <a:ext cx="8713800" cy="282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остав коммутаторного модуля (</a:t>
            </a: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$</a:t>
            </a: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172 + </a:t>
            </a: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N×$</a:t>
            </a: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120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2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еталлический контейн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6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оммутатор Fast Ethernet, 8 портов full-duplex (Sureco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N×$12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ансиверы Lantech (от 1 до 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00Base-TX RJ-45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FO 100Base-F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5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Аккумуляторная батарея 12V 24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3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лок пит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1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лок розеток, шнур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мпоновк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65120" y="2133720"/>
            <a:ext cx="8213400" cy="4465080"/>
            <a:chOff x="465120" y="2133720"/>
            <a:chExt cx="8213400" cy="4465080"/>
          </a:xfrm>
        </p:grpSpPr>
        <p:graphicFrame>
          <p:nvGraphicFramePr>
            <p:cNvPr id="195" name=""/>
            <p:cNvGraphicFramePr/>
            <p:nvPr/>
          </p:nvGraphicFramePr>
          <p:xfrm>
            <a:off x="3878280" y="2133720"/>
            <a:ext cx="3523680" cy="38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78280" y="2133720"/>
                      <a:ext cx="3523680" cy="38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465120" y="2237760"/>
              <a:ext cx="8213400" cy="4361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120" y="2237760"/>
              <a:ext cx="8213400" cy="43610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91720" y="3573000"/>
              <a:ext cx="264600" cy="8424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91720" y="3573000"/>
              <a:ext cx="2646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21120" y="3564360"/>
              <a:ext cx="268200" cy="8244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21120" y="3564360"/>
              <a:ext cx="26820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23920" y="3657240"/>
              <a:ext cx="2815920" cy="2934720"/>
            </a:xfrm>
            <a:prstGeom prst="rect">
              <a:avLst/>
            </a:prstGeom>
            <a:solidFill>
              <a:srgbClr val="99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3920" y="3657240"/>
              <a:ext cx="2815920" cy="2934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35600" y="3178800"/>
              <a:ext cx="952200" cy="317376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35600" y="3178800"/>
              <a:ext cx="952200" cy="3173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71040" y="3338640"/>
              <a:ext cx="486720" cy="48240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1"/>
                  </a:lnTo>
                  <a:lnTo>
                    <a:pt x="107" y="7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2"/>
                  </a:lnTo>
                  <a:lnTo>
                    <a:pt x="155" y="79"/>
                  </a:lnTo>
                  <a:lnTo>
                    <a:pt x="154" y="94"/>
                  </a:lnTo>
                  <a:lnTo>
                    <a:pt x="150" y="108"/>
                  </a:lnTo>
                  <a:lnTo>
                    <a:pt x="143" y="121"/>
                  </a:lnTo>
                  <a:lnTo>
                    <a:pt x="133" y="132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2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7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71040" y="3338640"/>
              <a:ext cx="486720" cy="48240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1"/>
                  </a:lnTo>
                  <a:lnTo>
                    <a:pt x="107" y="7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2"/>
                  </a:lnTo>
                  <a:lnTo>
                    <a:pt x="155" y="79"/>
                  </a:lnTo>
                  <a:lnTo>
                    <a:pt x="154" y="94"/>
                  </a:lnTo>
                  <a:lnTo>
                    <a:pt x="150" y="108"/>
                  </a:lnTo>
                  <a:lnTo>
                    <a:pt x="143" y="121"/>
                  </a:lnTo>
                  <a:lnTo>
                    <a:pt x="133" y="132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2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7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7848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3" y="0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2" y="15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848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3" y="0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2" y="15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760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5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7760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5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61720" y="2558160"/>
              <a:ext cx="2740680" cy="1005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61720" y="2558160"/>
              <a:ext cx="2740680" cy="1005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17400" y="4237200"/>
              <a:ext cx="4273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17400" y="4237200"/>
              <a:ext cx="4273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10000" y="4237200"/>
              <a:ext cx="43056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10000" y="4237200"/>
              <a:ext cx="43056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44520" y="4237200"/>
              <a:ext cx="272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4520" y="4237200"/>
              <a:ext cx="272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35720" y="4237200"/>
              <a:ext cx="425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35720" y="4237200"/>
              <a:ext cx="425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3240" y="4237200"/>
              <a:ext cx="2797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43240" y="4237200"/>
              <a:ext cx="2797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59280" y="4237200"/>
              <a:ext cx="4276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59280" y="4237200"/>
              <a:ext cx="4276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87320" y="4237200"/>
              <a:ext cx="26964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87320" y="4237200"/>
              <a:ext cx="26964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58720" y="4237200"/>
              <a:ext cx="425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58720" y="4237200"/>
              <a:ext cx="425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84600" y="4237200"/>
              <a:ext cx="2743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84600" y="4237200"/>
              <a:ext cx="2743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480" y="4237200"/>
              <a:ext cx="4345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480" y="4237200"/>
              <a:ext cx="4345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90520" y="4237200"/>
              <a:ext cx="26964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0520" y="4237200"/>
              <a:ext cx="26964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5480" y="3082320"/>
              <a:ext cx="3078000" cy="16808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5480" y="3082320"/>
              <a:ext cx="3078000" cy="1680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71040" y="4144320"/>
              <a:ext cx="486720" cy="48024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7"/>
                  </a:lnTo>
                  <a:lnTo>
                    <a:pt x="143" y="121"/>
                  </a:lnTo>
                  <a:lnTo>
                    <a:pt x="133" y="133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7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71040" y="4144320"/>
              <a:ext cx="486720" cy="48024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7"/>
                  </a:lnTo>
                  <a:lnTo>
                    <a:pt x="143" y="121"/>
                  </a:lnTo>
                  <a:lnTo>
                    <a:pt x="133" y="133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7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7848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7848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7760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7760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71040" y="4884480"/>
              <a:ext cx="486720" cy="4770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1"/>
                  </a:lnTo>
                  <a:lnTo>
                    <a:pt x="107" y="6"/>
                  </a:lnTo>
                  <a:lnTo>
                    <a:pt x="120" y="12"/>
                  </a:lnTo>
                  <a:lnTo>
                    <a:pt x="133" y="22"/>
                  </a:lnTo>
                  <a:lnTo>
                    <a:pt x="143" y="33"/>
                  </a:lnTo>
                  <a:lnTo>
                    <a:pt x="150" y="48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6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1"/>
                  </a:lnTo>
                  <a:lnTo>
                    <a:pt x="107" y="150"/>
                  </a:lnTo>
                  <a:lnTo>
                    <a:pt x="92" y="152"/>
                  </a:lnTo>
                  <a:lnTo>
                    <a:pt x="79" y="155"/>
                  </a:lnTo>
                  <a:lnTo>
                    <a:pt x="61" y="152"/>
                  </a:lnTo>
                  <a:lnTo>
                    <a:pt x="46" y="150"/>
                  </a:lnTo>
                  <a:lnTo>
                    <a:pt x="34" y="141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6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3" y="22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71040" y="4884480"/>
              <a:ext cx="486720" cy="4770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1"/>
                  </a:lnTo>
                  <a:lnTo>
                    <a:pt x="107" y="6"/>
                  </a:lnTo>
                  <a:lnTo>
                    <a:pt x="120" y="12"/>
                  </a:lnTo>
                  <a:lnTo>
                    <a:pt x="133" y="22"/>
                  </a:lnTo>
                  <a:lnTo>
                    <a:pt x="143" y="33"/>
                  </a:lnTo>
                  <a:lnTo>
                    <a:pt x="150" y="48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6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1"/>
                  </a:lnTo>
                  <a:lnTo>
                    <a:pt x="107" y="150"/>
                  </a:lnTo>
                  <a:lnTo>
                    <a:pt x="92" y="152"/>
                  </a:lnTo>
                  <a:lnTo>
                    <a:pt x="79" y="155"/>
                  </a:lnTo>
                  <a:lnTo>
                    <a:pt x="61" y="152"/>
                  </a:lnTo>
                  <a:lnTo>
                    <a:pt x="46" y="150"/>
                  </a:lnTo>
                  <a:lnTo>
                    <a:pt x="34" y="141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6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3" y="22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7848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848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7760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7760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71040" y="5703480"/>
              <a:ext cx="486720" cy="4788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4"/>
                  </a:lnTo>
                  <a:lnTo>
                    <a:pt x="133" y="22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3"/>
                  </a:lnTo>
                  <a:lnTo>
                    <a:pt x="150" y="108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3"/>
                  </a:lnTo>
                  <a:lnTo>
                    <a:pt x="107" y="150"/>
                  </a:lnTo>
                  <a:lnTo>
                    <a:pt x="92" y="154"/>
                  </a:lnTo>
                  <a:lnTo>
                    <a:pt x="79" y="155"/>
                  </a:lnTo>
                  <a:lnTo>
                    <a:pt x="61" y="154"/>
                  </a:lnTo>
                  <a:lnTo>
                    <a:pt x="46" y="150"/>
                  </a:lnTo>
                  <a:lnTo>
                    <a:pt x="34" y="143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8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2"/>
                  </a:lnTo>
                  <a:lnTo>
                    <a:pt x="34" y="14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71040" y="5703480"/>
              <a:ext cx="486720" cy="4788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4"/>
                  </a:lnTo>
                  <a:lnTo>
                    <a:pt x="133" y="22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3"/>
                  </a:lnTo>
                  <a:lnTo>
                    <a:pt x="150" y="108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3"/>
                  </a:lnTo>
                  <a:lnTo>
                    <a:pt x="107" y="150"/>
                  </a:lnTo>
                  <a:lnTo>
                    <a:pt x="92" y="154"/>
                  </a:lnTo>
                  <a:lnTo>
                    <a:pt x="79" y="155"/>
                  </a:lnTo>
                  <a:lnTo>
                    <a:pt x="61" y="154"/>
                  </a:lnTo>
                  <a:lnTo>
                    <a:pt x="46" y="150"/>
                  </a:lnTo>
                  <a:lnTo>
                    <a:pt x="34" y="143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8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2"/>
                  </a:lnTo>
                  <a:lnTo>
                    <a:pt x="34" y="14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848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19" y="21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848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19" y="21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7760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7760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1200" y="4237200"/>
              <a:ext cx="26136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1200" y="4237200"/>
              <a:ext cx="26136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мпоновк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31640" y="2637000"/>
            <a:ext cx="8278200" cy="2878920"/>
            <a:chOff x="431640" y="2637000"/>
            <a:chExt cx="8278200" cy="2878920"/>
          </a:xfrm>
        </p:grpSpPr>
        <p:sp>
          <p:nvSpPr>
            <p:cNvPr id="263" name=""/>
            <p:cNvSpPr/>
            <p:nvPr/>
          </p:nvSpPr>
          <p:spPr>
            <a:xfrm>
              <a:off x="460080" y="2637000"/>
              <a:ext cx="8221320" cy="28479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0080" y="2637000"/>
              <a:ext cx="8221320" cy="2847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5640" y="2639880"/>
              <a:ext cx="2829240" cy="2288520"/>
            </a:xfrm>
            <a:prstGeom prst="rect">
              <a:avLst/>
            </a:prstGeom>
            <a:solidFill>
              <a:srgbClr val="99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15640" y="2639880"/>
              <a:ext cx="2829240" cy="2288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480" y="2716920"/>
              <a:ext cx="3736440" cy="31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8480" y="2716920"/>
              <a:ext cx="3736440" cy="31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56720" y="2639880"/>
              <a:ext cx="204840" cy="76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56720" y="2639880"/>
              <a:ext cx="204840" cy="76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1280" y="2639880"/>
              <a:ext cx="207360" cy="76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1280" y="2639880"/>
              <a:ext cx="207360" cy="76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42800" y="4010400"/>
              <a:ext cx="1032120" cy="4500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42800" y="4010400"/>
              <a:ext cx="1032120" cy="45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49280" y="4062600"/>
              <a:ext cx="962640" cy="79308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9280" y="4062600"/>
              <a:ext cx="962640" cy="793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1640" y="5306760"/>
              <a:ext cx="182520" cy="20916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9" y="0"/>
                  </a:moveTo>
                  <a:lnTo>
                    <a:pt x="0" y="0"/>
                  </a:lnTo>
                  <a:lnTo>
                    <a:pt x="0" y="60"/>
                  </a:lnTo>
                  <a:lnTo>
                    <a:pt x="58" y="60"/>
                  </a:lnTo>
                  <a:lnTo>
                    <a:pt x="58" y="5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66400" y="2734200"/>
              <a:ext cx="2740680" cy="1712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66400" y="2734200"/>
              <a:ext cx="2740680" cy="1712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01880" y="5379840"/>
              <a:ext cx="241920" cy="9792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1880" y="5379840"/>
              <a:ext cx="241920" cy="97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04320" y="5369400"/>
              <a:ext cx="242640" cy="10836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04320" y="5369400"/>
              <a:ext cx="242640" cy="108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6160" y="4856040"/>
              <a:ext cx="3084840" cy="5238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66160" y="4856040"/>
              <a:ext cx="3084840" cy="523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77840" y="2922840"/>
              <a:ext cx="88776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3" y="351"/>
                  </a:moveTo>
                  <a:lnTo>
                    <a:pt x="282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77840" y="2922840"/>
              <a:ext cx="88776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3" y="351"/>
                  </a:moveTo>
                  <a:lnTo>
                    <a:pt x="282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7340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7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7340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7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19760" y="2922840"/>
              <a:ext cx="890640" cy="1226520"/>
            </a:xfrm>
            <a:custGeom>
              <a:avLst/>
              <a:gdLst/>
              <a:ahLst/>
              <a:rect l="l" t="t" r="r" b="b"/>
              <a:pathLst>
                <a:path w="283" h="351">
                  <a:moveTo>
                    <a:pt x="164" y="351"/>
                  </a:moveTo>
                  <a:lnTo>
                    <a:pt x="283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19760" y="2922840"/>
              <a:ext cx="890640" cy="1226520"/>
            </a:xfrm>
            <a:custGeom>
              <a:avLst/>
              <a:gdLst/>
              <a:ahLst/>
              <a:rect l="l" t="t" r="r" b="b"/>
              <a:pathLst>
                <a:path w="283" h="351">
                  <a:moveTo>
                    <a:pt x="164" y="351"/>
                  </a:moveTo>
                  <a:lnTo>
                    <a:pt x="283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09560" y="2748600"/>
              <a:ext cx="434520" cy="78300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38" y="219"/>
                  </a:moveTo>
                  <a:lnTo>
                    <a:pt x="128" y="22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38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09560" y="2748600"/>
              <a:ext cx="434520" cy="78300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38" y="219"/>
                  </a:moveTo>
                  <a:lnTo>
                    <a:pt x="128" y="22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38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58800" y="2922840"/>
              <a:ext cx="88416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5" y="351"/>
                  </a:moveTo>
                  <a:lnTo>
                    <a:pt x="281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5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58800" y="2922840"/>
              <a:ext cx="88416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5" y="351"/>
                  </a:moveTo>
                  <a:lnTo>
                    <a:pt x="281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5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51120" y="2748600"/>
              <a:ext cx="42804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51120" y="2748600"/>
              <a:ext cx="42804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45880" y="2922840"/>
              <a:ext cx="88488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3" y="351"/>
                  </a:moveTo>
                  <a:lnTo>
                    <a:pt x="281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45880" y="2922840"/>
              <a:ext cx="88488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3" y="351"/>
                  </a:moveTo>
                  <a:lnTo>
                    <a:pt x="281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2160" y="2748600"/>
              <a:ext cx="421560" cy="783000"/>
            </a:xfrm>
            <a:custGeom>
              <a:avLst/>
              <a:gdLst/>
              <a:ahLst/>
              <a:rect l="l" t="t" r="r" b="b"/>
              <a:pathLst>
                <a:path w="134" h="224">
                  <a:moveTo>
                    <a:pt x="134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6" y="0"/>
                  </a:lnTo>
                  <a:lnTo>
                    <a:pt x="134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2160" y="2748600"/>
              <a:ext cx="421560" cy="783000"/>
            </a:xfrm>
            <a:custGeom>
              <a:avLst/>
              <a:gdLst/>
              <a:ahLst/>
              <a:rect l="l" t="t" r="r" b="b"/>
              <a:pathLst>
                <a:path w="134" h="224">
                  <a:moveTo>
                    <a:pt x="134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6" y="0"/>
                  </a:lnTo>
                  <a:lnTo>
                    <a:pt x="134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000" y="2922840"/>
              <a:ext cx="880560" cy="122652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63" y="351"/>
                  </a:moveTo>
                  <a:lnTo>
                    <a:pt x="280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5000" y="2922840"/>
              <a:ext cx="880560" cy="122652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63" y="351"/>
                  </a:moveTo>
                  <a:lnTo>
                    <a:pt x="280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7680" y="2748600"/>
              <a:ext cx="42732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7680" y="2748600"/>
              <a:ext cx="42732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16920" y="2922840"/>
              <a:ext cx="88704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4" y="351"/>
                  </a:moveTo>
                  <a:lnTo>
                    <a:pt x="282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16920" y="2922840"/>
              <a:ext cx="88704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4" y="351"/>
                  </a:moveTo>
                  <a:lnTo>
                    <a:pt x="282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1248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1248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27320" y="5306760"/>
              <a:ext cx="182520" cy="20916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1" y="0"/>
                  </a:moveTo>
                  <a:lnTo>
                    <a:pt x="58" y="0"/>
                  </a:lnTo>
                  <a:lnTo>
                    <a:pt x="58" y="60"/>
                  </a:lnTo>
                  <a:lnTo>
                    <a:pt x="0" y="60"/>
                  </a:lnTo>
                  <a:lnTo>
                    <a:pt x="0" y="5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еталлический контейнер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50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5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250 мм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1619280" y="1989000"/>
            <a:ext cx="6192720" cy="459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еталлический контейнер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50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5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250 мм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474920" y="1989000"/>
            <a:ext cx="6192720" cy="4578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Аккумуляторная батаре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тарея NPL24-12I, </a:t>
            </a:r>
            <a:r>
              <a:rPr b="0" lang="ru-RU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www.yuasa-battery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ип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инцово-гелевая, необслуживаемая (sealed lead-acid, P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рок службы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7—10 л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мк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и разряде током 1А: 24А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пряжение заряд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буферном режиме 13.5–13.8 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пряжение разряда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2.5–10.5 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rcRect l="411" t="5445" r="770" b="5139"/>
          <a:stretch/>
        </p:blipFill>
        <p:spPr>
          <a:xfrm>
            <a:off x="179280" y="2852640"/>
            <a:ext cx="875196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структура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rcRect l="0" t="0" r="4926" b="20050"/>
          <a:stretch/>
        </p:blipFill>
        <p:spPr>
          <a:xfrm>
            <a:off x="1949400" y="1974960"/>
            <a:ext cx="5243400" cy="4883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 (корпус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727280" y="1916280"/>
            <a:ext cx="568800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 (компоновка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042920" y="1989000"/>
            <a:ext cx="6985080" cy="4745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Устойчивость к плохому электропитанию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Допустимо на входе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от ~165 В до ~280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16000" y="2565360"/>
          <a:ext cx="7586640" cy="4049640"/>
        </p:xfrm>
        <a:graphic>
          <a:graphicData uri="http://schemas.openxmlformats.org/drawingml/2006/table">
            <a:tbl>
              <a:tblPr/>
              <a:tblGrid>
                <a:gridCol w="2232000"/>
                <a:gridCol w="2519280"/>
                <a:gridCol w="2835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и-веров (шт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номная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(ча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дка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ча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8—9.3—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—11—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—13—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—15—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—20—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—27—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99840" y="40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лучшена коннективность магистральных роутеров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50920" y="2349360"/>
          <a:ext cx="8640720" cy="3942000"/>
        </p:xfrm>
        <a:graphic>
          <a:graphicData uri="http://schemas.openxmlformats.org/drawingml/2006/table">
            <a:tbl>
              <a:tblPr/>
              <a:tblGrid>
                <a:gridCol w="1726920"/>
                <a:gridCol w="2233800"/>
                <a:gridCol w="2808360"/>
                <a:gridCol w="1871640"/>
              </a:tblGrid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ыло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ло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учше в...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ери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TT (ms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.4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.1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dwith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/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Заключение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02920" y="1981080"/>
            <a:ext cx="69138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Готов отвечать на вопросы..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11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ические подробности:</a:t>
            </a:r>
            <a:br>
              <a:rPr sz="3200"/>
            </a:br>
            <a:br>
              <a:rPr sz="3200"/>
            </a:br>
            <a:r>
              <a:rPr b="0" lang="en-US" sz="4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tech@botik.ru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структура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rcRect l="0" t="0" r="4926" b="20050"/>
          <a:stretch/>
        </p:blipFill>
        <p:spPr>
          <a:xfrm>
            <a:off x="174600" y="2128680"/>
            <a:ext cx="2689200" cy="2503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недостатк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058840"/>
            <a:ext cx="42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ольшое числ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промежуточны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ршрутиз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недостатк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058840"/>
            <a:ext cx="428472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устойчиво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к перебоя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электро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реша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проблему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Идея модернизаци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058840"/>
            <a:ext cx="42847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мутаторы н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гистр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стойчивост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гистрал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к перебоя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электро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944720" y="1784520"/>
            <a:ext cx="7199280" cy="50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12920" y="2116080"/>
            <a:ext cx="3679560" cy="3746520"/>
          </a:xfrm>
          <a:prstGeom prst="downArrowCallout">
            <a:avLst>
              <a:gd name="adj1" fmla="val 22956"/>
              <a:gd name="adj2" fmla="val 24282"/>
              <a:gd name="adj3" fmla="val 7203"/>
              <a:gd name="adj4" fmla="val 87120"/>
            </a:avLst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9520" y="318960"/>
            <a:ext cx="7981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Национальные особенности электропитан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2520" y="2117880"/>
            <a:ext cx="369576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изкое качество (180—260 вольт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ые аварии, длительные ремон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ерные отключ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S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 справя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1200" y="270000"/>
            <a:ext cx="1168560" cy="1307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170240" y="2050920"/>
            <a:ext cx="4973760" cy="3768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PS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быкновенны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Неэффективность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P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Sergei M. Abramov</cp:lastModifiedBy>
  <dcterms:modified xsi:type="dcterms:W3CDTF">2002-09-20T12:25:20Z</dcterms:modified>
  <cp:revision>149</cp:revision>
  <dc:subject/>
  <dc:title>Selling an Idea or a Product</dc:title>
</cp:coreProperties>
</file>