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80525" cy="6991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CDA-FAA5-462D-BCF7-B1CE3F17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D7D-3E50-4363-8BBC-AF2B7B4C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4D5-F002-4560-9406-831FEE3C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592-A4A8-4C43-BB64-3D9D1027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DAB7-03A6-403F-86AE-6D787C8C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DDD44-613B-4601-B775-E6832BCF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CD74-6DE0-4A40-968D-55B18AA8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2D1C-29B5-448A-A94A-1DEE2712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8DCB7-4E63-47DD-A9C7-2BAEF624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8ED8-D20A-40A3-BADC-2686CA13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6BE2-F046-4566-BED8-552BFF2A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A8B1-B0DB-4773-925C-0C66AD32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9272-8E42-4AAE-9649-4A125B9D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5646-8BF5-459E-BB0E-89942274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9C5F-DEAE-49A3-A2E0-30DE4989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91B1-BD4B-4B53-B11E-45C7A10C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DF38-9860-4D9B-9F60-979FAF91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92C-255C-49FC-A6CC-95AFB5DF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A70-E850-4974-BC28-1C32DAF9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B14-25BC-4328-B984-D726BA62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6DF-5710-445F-B1C6-D59B99A7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D4F-096A-4EA0-B845-E68CD09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1D0B-474A-4AAB-8DD9-3CC6F9E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A72C-6E87-42E3-9A56-F492EB1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EA87-A667-4664-9A46-D34B271E1A18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44FF-AC98-41AE-890B-62A83F1D0B26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Chapter 1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roblem Solving, Programming,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and Calculation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Be sure to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understand your problem well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Find a solution that is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orrect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.  But there may be several solutions that trade off efficiency (in time, space, number of processors, etc.) and clarity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In this text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Haskell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is used to express solutions to problems of many kinds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Haskell is a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functional language</a:t>
            </a: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 quite unlike most conventional programming languages (such as C, C++, Java, Visual Basic, etc.)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o best understand Haskell, understand the concept of </a:t>
            </a: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computation by calculation</a:t>
            </a:r>
            <a:r>
              <a:rPr b="0" i="1" lang="en-US" sz="24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omputation by Calcul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Computation by calculation is a simple concept that everyone should be familiar with, since it’s not unlike ordinary arithmetic calculation.  For exampl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 * (9 + 5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 * 14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4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However, since we want computers to perform these tasks, we are also interested in issues such as efficiency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3 * (9 + 5)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3*9 + 3*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7 + 3*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27 + 15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4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ame answer, but the former was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more efficient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n the latter, since it took a fewer number of steps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2057040"/>
            <a:ext cx="79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are also interested i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abstraction: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 the process of recognizing a repeating pattern, and capturing it succinctly in one place instead of many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r example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3*(9+5)      4*(6+2)      7*(8+1)      ...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is repeating pattern can be captured as a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function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easy x y z = x*(y+z)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n each instance can be replaced by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easy 3 9 5   easy 4 6 2   easy 7 8 1   ..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We can also perform calculations with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symbols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.  For example, we can 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prov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that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asy a b c = easy a c b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asy a b c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a*(b+c)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{ unfold }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a*(c+b)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{ commutativity of + }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easy a c b     { fold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Expressions,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Values, and Type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2209320"/>
            <a:ext cx="7958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he objects on which we calculate are called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expressions</a:t>
            </a:r>
            <a:r>
              <a:rPr b="0" i="1" lang="en-US" sz="1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hen no more unfolding (of either a primitive or user-defined function) is possible, the resulting expression is called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value</a:t>
            </a:r>
            <a:r>
              <a:rPr b="0" i="1" lang="en-US" sz="1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very expression (and therefore every value) has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type</a:t>
            </a:r>
            <a:r>
              <a:rPr b="0" i="1" lang="en-US" sz="1800" spc="-1" strike="noStrike">
                <a:solidFill>
                  <a:srgbClr val="003366"/>
                </a:solidFill>
                <a:latin typeface="Comic Sans MS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(A type is a collection of expressions with common attributes.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We writ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p :: T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to say that expressio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p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has type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Examples: 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Atomic expressions:  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42 :: Integer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’a’ :: Char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True :: Bool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Structured expressions: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[1,2,3] :: [Integer]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   -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list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of integers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’b’,4) :: (Char,Integer)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– a </a:t>
            </a:r>
            <a:r>
              <a:rPr b="0" i="1" lang="en-US" sz="1800" spc="-1" strike="noStrike">
                <a:solidFill>
                  <a:srgbClr val="0000ff"/>
                </a:solidFill>
                <a:latin typeface="Comic Sans MS"/>
              </a:rPr>
              <a:t>pair</a:t>
            </a: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consisting of </a:t>
            </a:r>
            <a:br>
              <a:rPr sz="1800"/>
            </a:b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                                                        a character and an intege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Functions: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+)  :: Integer -&gt; Integer -&gt; Integer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asy :: Integer -&gt; Integer -&gt; Integer -&gt; Integer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958160" cy="36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ur derivation of the function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asy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 good example of the use of the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abstraction principle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: separating a repeating pattern from the particular instances in which it appears.  In particular, the example demonstrates </a:t>
            </a: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functional abstraction</a:t>
            </a:r>
            <a:r>
              <a:rPr b="0" i="1" lang="en-US" sz="2000" spc="-1" strike="noStrike">
                <a:solidFill>
                  <a:srgbClr val="003366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Naming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an even simpler kind of abstraction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let pi = 3.14159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in 2*pi*r1 + 2*pi*r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Comic Sans MS"/>
              </a:rPr>
              <a:t>Data abstraction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the use of data structures to store common values on which common operations may be applied in an abstract manner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“circle areas” example from the text demonstrates all three kinds of abstraction.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ircle Areas” Example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Original program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Area = pi*r1^2 + pi*r2^2 + pi*r3^2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24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 more abstract program: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totalArea = 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listSum [circArea r1, circArea r2, circArea r3]</a:t>
            </a:r>
            <a:br>
              <a:rPr sz="2000"/>
            </a:b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Sum []     = 0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listSum (a:as) = a + listSum as</a:t>
            </a:r>
            <a:br>
              <a:rPr sz="1000"/>
            </a:br>
            <a:r>
              <a:rPr b="1" lang="en-US" sz="1000" spc="-1" strike="noStrike">
                <a:solidFill>
                  <a:srgbClr val="800000"/>
                </a:solidFill>
                <a:latin typeface="Courier New"/>
              </a:rPr>
              <a:t>  </a:t>
            </a:r>
            <a:br>
              <a:rPr sz="1000"/>
            </a:b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circArea r = pi*r^2</a:t>
            </a:r>
            <a:br>
              <a:rPr sz="1000"/>
            </a:br>
            <a:r>
              <a:rPr b="1" lang="en-US" sz="1000" spc="-1" strike="noStrike">
                <a:solidFill>
                  <a:srgbClr val="8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The new program is longer than the old – in what ways is it better?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he code for the area of a circle has been isolated (using functional abstraction), thus minimizing errors and facilitating change and reus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mic Sans MS"/>
              </a:rPr>
              <a:t>The number of circles has been generalized (via data abstraction) from three to an arbitrary number, thus anticipating change and reus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roof by Calculation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09280" y="2057400"/>
            <a:ext cx="83343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Proof that the new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totalArea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 is equivalent to the old: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listSum [circArea r1, circArea r2, circArea r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listSum [circArea r2, circArea r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circArea r2 + listSum [circArea r3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circArea r2 + circArea r3 + listSum []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listSum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ircArea r1 + circArea r2 + circArea r3 +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unfold circArea (three places)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*r1^2 + pi*r2^2 + pi*r3^2 + 0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{ simple arithmetic }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i*r1^2 + pi*r2^2 + pi*r3^2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29T22:47:58Z</dcterms:created>
  <dc:creator>Tim Sheard</dc:creator>
  <dc:description/>
  <dc:language>en-US</dc:language>
  <cp:lastModifiedBy>Paul Hudak</cp:lastModifiedBy>
  <cp:lastPrinted>1999-10-07T20:38:26Z</cp:lastPrinted>
  <dcterms:modified xsi:type="dcterms:W3CDTF">2000-09-04T19:17:52Z</dcterms:modified>
  <cp:revision>89</cp:revision>
  <dc:subject/>
  <dc:title>Lecture #1,  Sept. 30, 1996</dc:title>
</cp:coreProperties>
</file>