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9280525" cy="69913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18913-968C-4BE1-9C37-7E85C639C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479A4-8393-4AEB-A79F-F14B0286C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529F9-53BD-4A63-87E3-FA48CE10A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4D149-B1D9-4053-9DB7-55930184B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B7030-2349-49E8-92CF-035DA1B6F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75D4A-2B07-40A3-BEEB-7B74DB4CB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ADB95-B460-4D9A-AF4B-07C082FAD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AF8BD-E98D-48F9-922B-AF0D8B6E3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41AA5-E28C-4456-925D-B04066802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BCADA-9B23-4682-87F0-4BD86F800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96830-5546-4B1C-B028-E726AF5DA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97D69-C879-450D-9ED6-337B8DBC4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91334-3758-4574-B398-4124B2619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C1AD0-536D-4FFB-B5A8-F698D7EC4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1C719-84FB-46CB-B3C2-280BBA244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B2077-BC20-4DB1-95FF-512A2CE56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2576A-31B2-434C-95B8-066BC7821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979AF-E33A-4021-AC95-4909689CF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7015E-306C-41E8-AF91-48CEEAB8C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D8259-97CB-427A-ABBB-01ADAAA3B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72926-6F76-4CF1-ABB5-7AD48E0D0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415F4-C5BF-4D37-B0A9-D811AC495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DA17E-B01A-41E0-9010-0FC54BF0A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ECBEC-5E33-4232-9E21-61AA409DE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8400"/>
            <a:ext cx="8915400" cy="6713280"/>
            <a:chOff x="0" y="68400"/>
            <a:chExt cx="8915400" cy="6713280"/>
          </a:xfrm>
        </p:grpSpPr>
        <p:grpSp>
          <p:nvGrpSpPr>
            <p:cNvPr id="1" name=""/>
            <p:cNvGrpSpPr/>
            <p:nvPr/>
          </p:nvGrpSpPr>
          <p:grpSpPr>
            <a:xfrm>
              <a:off x="0" y="68400"/>
              <a:ext cx="647640" cy="6713280"/>
              <a:chOff x="0" y="68400"/>
              <a:chExt cx="647640" cy="671328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6672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672948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781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652932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6453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660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58197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57769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63817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6181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6053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6348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5853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59389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6253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6219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55720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56293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5681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54291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53532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500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47196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4676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52815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508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0" y="49528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0" y="52484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0" y="47530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0" y="4838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0" y="515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0" y="51195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0" y="449424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0" y="43657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0" y="4251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0" y="4565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0" y="45324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0" y="4054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0" y="4111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0" y="41641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0" y="391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0" y="3835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0" y="398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0" y="3763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0" y="35640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0" y="37306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0" y="36352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0" y="36021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0" y="3381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0" y="3438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3490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0" y="3238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3162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0" y="3309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0" y="25290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24861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309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2890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762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3057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621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6478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0" y="29624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0" y="29289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0" y="2281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0" y="2338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0" y="23907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0" y="21384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0" y="22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0" y="16128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0" y="1569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0" y="19749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0" y="1846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0" y="1646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0" y="17319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0" y="20462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0" y="2013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0" y="1365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0" y="1422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0" y="1474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0" y="12222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0" y="1293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0" y="1139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10256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828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885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9381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0" y="685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0" y="6094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0" y="7570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0" y="538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0" y="504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0" y="4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0" y="111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0" y="6840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0" y="144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0" y="230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0" y="320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635040" y="325440"/>
              <a:ext cx="8280360" cy="1782720"/>
              <a:chOff x="635040" y="325440"/>
              <a:chExt cx="8280360" cy="1782720"/>
            </a:xfrm>
          </p:grpSpPr>
          <p:sp>
            <p:nvSpPr>
              <p:cNvPr id="101" name=""/>
              <p:cNvSpPr/>
              <p:nvPr/>
            </p:nvSpPr>
            <p:spPr>
              <a:xfrm>
                <a:off x="884160" y="325440"/>
                <a:ext cx="496800" cy="145080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35040" y="4572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300800" y="1770120"/>
                <a:ext cx="1474920" cy="33804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252960" y="19224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  <a:p>
            <a:pPr lvl="1" marL="698400" indent="-268560">
              <a:spcBef>
                <a:spcPts val="7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  <a:p>
            <a:pPr lvl="2" marL="1020600" indent="-21456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  <a:p>
            <a:pPr lvl="3" marL="1342800" indent="-214560">
              <a:spcBef>
                <a:spcPts val="7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  <a:p>
            <a:pPr lvl="4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  <a:p>
            <a:pPr lvl="5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  <a:p>
            <a:pPr lvl="6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1"/>
          </p:nvPr>
        </p:nvSpPr>
        <p:spPr>
          <a:xfrm>
            <a:off x="809640" y="6373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2"/>
          </p:nvPr>
        </p:nvSpPr>
        <p:spPr>
          <a:xfrm>
            <a:off x="3131640" y="6377040"/>
            <a:ext cx="3086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3"/>
          </p:nvPr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16285-390A-4315-ACE8-F87CA1F353B8}" type="slidenum"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"/>
          <p:cNvGrpSpPr/>
          <p:nvPr/>
        </p:nvGrpSpPr>
        <p:grpSpPr>
          <a:xfrm>
            <a:off x="0" y="68400"/>
            <a:ext cx="8678880" cy="6713280"/>
            <a:chOff x="0" y="68400"/>
            <a:chExt cx="8678880" cy="6713280"/>
          </a:xfrm>
        </p:grpSpPr>
        <p:sp>
          <p:nvSpPr>
            <p:cNvPr id="147" name=""/>
            <p:cNvSpPr/>
            <p:nvPr/>
          </p:nvSpPr>
          <p:spPr>
            <a:xfrm>
              <a:off x="1098720" y="784080"/>
              <a:ext cx="7580160" cy="14860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grpSp>
          <p:nvGrpSpPr>
            <p:cNvPr id="148" name=""/>
            <p:cNvGrpSpPr/>
            <p:nvPr/>
          </p:nvGrpSpPr>
          <p:grpSpPr>
            <a:xfrm>
              <a:off x="0" y="68400"/>
              <a:ext cx="990720" cy="6713280"/>
              <a:chOff x="0" y="68400"/>
              <a:chExt cx="990720" cy="6713280"/>
            </a:xfrm>
          </p:grpSpPr>
          <p:sp>
            <p:nvSpPr>
              <p:cNvPr id="149" name=""/>
              <p:cNvSpPr/>
              <p:nvPr/>
            </p:nvSpPr>
            <p:spPr>
              <a:xfrm>
                <a:off x="0" y="6672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0" y="672948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0" y="6781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0" y="652932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0" y="6453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0" y="660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0" y="58197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0" y="57769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0" y="63817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0" y="6181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0" y="6053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0" y="6348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0" y="5853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0" y="59389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0" y="6253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6219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55720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56293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0" y="5681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0" y="54291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0" y="53532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0" y="5500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0" y="47196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0" y="4676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0" y="52815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0" y="508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0" y="49528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0" y="52484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0" y="47530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0" y="4838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0" y="515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0" y="51195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0" y="449424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0" y="43657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0" y="4251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0" y="4565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0" y="45324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0" y="4054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0" y="4111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0" y="41641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0" y="391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0" y="3835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0" y="398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0" y="3763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0" y="35640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0" y="37306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0" y="36352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0" y="36021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0" y="3381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0" y="3438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0" y="3490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0" y="3238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0" y="3162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0" y="3309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0" y="25290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0" y="24861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0" y="309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0" y="2890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0" y="2762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0" y="3057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0" y="25621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0" y="26478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0" y="29624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0" y="29289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0" y="2281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0" y="2338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0" y="23907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0" y="21384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0" y="22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0" y="16128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0" y="1569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0" y="19749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0" y="1846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0" y="1646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0" y="17319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0" y="20462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0" y="2013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0" y="1365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0" y="1422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0" y="1474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0" y="12222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0" y="1293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0" y="1139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0" y="10256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0" y="828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0" y="885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0" y="9381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0" y="685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0" y="6094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0" y="7570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538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0" y="504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0" y="4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0" y="111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0" y="6840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144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0" y="230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0" y="320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</p:grpSp>
      </p:grpSp>
      <p:sp>
        <p:nvSpPr>
          <p:cNvPr id="247" name="PlaceHolder 1"/>
          <p:cNvSpPr>
            <a:spLocks noGrp="1"/>
          </p:cNvSpPr>
          <p:nvPr>
            <p:ph type="dt" idx="4"/>
          </p:nvPr>
        </p:nvSpPr>
        <p:spPr>
          <a:xfrm>
            <a:off x="1387440" y="63579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ftr" idx="5"/>
          </p:nvPr>
        </p:nvSpPr>
        <p:spPr>
          <a:xfrm>
            <a:off x="3722760" y="6357960"/>
            <a:ext cx="22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6"/>
          </p:nvPr>
        </p:nvSpPr>
        <p:spPr>
          <a:xfrm>
            <a:off x="6464160" y="636120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C7F2D-C905-43FD-95B8-6901D8BD72BF}" type="slidenum"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51" name=""/>
          <p:cNvSpPr/>
          <p:nvPr/>
        </p:nvSpPr>
        <p:spPr>
          <a:xfrm>
            <a:off x="3017880" y="2120760"/>
            <a:ext cx="5662440" cy="777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52" name=""/>
          <p:cNvSpPr/>
          <p:nvPr/>
        </p:nvSpPr>
        <p:spPr>
          <a:xfrm>
            <a:off x="1098720" y="861840"/>
            <a:ext cx="5662440" cy="781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  <a:p>
            <a:pPr lvl="2" marL="857160" algn="ctr"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  <a:p>
            <a:pPr lvl="3" marL="1200240" algn="ctr">
              <a:spcBef>
                <a:spcPts val="4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lvl="4" marL="1542960" algn="ctr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omic Sans MS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 lvl="5" marL="1542960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omic Sans MS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 lvl="6" marL="1542960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omic Sans MS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Comic Sans MS"/>
              </a:rPr>
              <a:t>Chapter 18</a:t>
            </a:r>
            <a:endParaRPr b="0" lang="en-US" sz="40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1566720" y="2693520"/>
            <a:ext cx="6662880" cy="29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omic Sans MS"/>
              </a:rPr>
              <a:t>Higher-Order Types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Using the Maybe Monad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762120" y="2057040"/>
            <a:ext cx="79581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Consider the expression “g (f x)”.  Suppose that both “f” and “g” could return errors that are encoded as “Nothing”.  We might do:</a:t>
            </a:r>
            <a:br>
              <a:rPr sz="2400"/>
            </a:br>
            <a:br>
              <a:rPr sz="8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case f x of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   Nothing -&gt; Nothing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   Just y   -&gt; case g y of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Nothing -&gt; Nothing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Just z   -&gt; </a:t>
            </a:r>
            <a:r>
              <a:rPr b="0" i="1" lang="en-US" sz="2000" spc="-1" strike="noStrike">
                <a:solidFill>
                  <a:srgbClr val="003366"/>
                </a:solidFill>
                <a:latin typeface="Comic Sans MS"/>
              </a:rPr>
              <a:t>…proper result using z…</a:t>
            </a:r>
            <a:br>
              <a:rPr sz="2000"/>
            </a:br>
            <a:r>
              <a:rPr b="0" i="1" lang="en-US" sz="2000" spc="-1" strike="noStrike">
                <a:solidFill>
                  <a:srgbClr val="003366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But since Maybe is a Monad, we could instead do:</a:t>
            </a:r>
            <a:br>
              <a:rPr sz="2400"/>
            </a:br>
            <a:br>
              <a:rPr sz="8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pl-PL" sz="2000" spc="-1" strike="noStrike">
                <a:solidFill>
                  <a:srgbClr val="003366"/>
                </a:solidFill>
                <a:latin typeface="Comic Sans MS"/>
              </a:rPr>
              <a:t>do y &lt;- f x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    </a:t>
            </a:r>
            <a:r>
              <a:rPr b="0" lang="pl-PL" sz="2000" spc="-1" strike="noStrike">
                <a:solidFill>
                  <a:srgbClr val="003366"/>
                </a:solidFill>
                <a:latin typeface="Comic Sans MS"/>
              </a:rPr>
              <a:t>z &lt;- g y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    </a:t>
            </a:r>
            <a:r>
              <a:rPr b="0" lang="pl-PL" sz="2000" spc="-1" strike="noStrike">
                <a:solidFill>
                  <a:srgbClr val="003366"/>
                </a:solidFill>
                <a:latin typeface="Comic Sans MS"/>
              </a:rPr>
              <a:t>return </a:t>
            </a:r>
            <a:r>
              <a:rPr b="0" i="1" lang="en-US" sz="2000" spc="-1" strike="noStrike">
                <a:solidFill>
                  <a:srgbClr val="003366"/>
                </a:solidFill>
                <a:latin typeface="Comic Sans MS"/>
              </a:rPr>
              <a:t>…proper result using z…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Simplifying Further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433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Note that the last expression can be desugared and simplified as follows:</a:t>
            </a:r>
            <a:br>
              <a:rPr sz="2400"/>
            </a:br>
            <a:br>
              <a:rPr sz="8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f x &gt;&gt;= \y -&gt;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</a:t>
            </a:r>
            <a:r>
              <a:rPr b="0" lang="es-ES" sz="2000" spc="-1" strike="noStrike">
                <a:solidFill>
                  <a:srgbClr val="003366"/>
                </a:solidFill>
                <a:latin typeface="Comic Sans MS"/>
              </a:rPr>
              <a:t>f x &gt;&gt;= \y -&gt;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g y &gt;&gt;= \z -&gt;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</a:t>
            </a:r>
            <a:r>
              <a:rPr b="0" lang="es-ES" sz="2000" spc="-1" strike="noStrike">
                <a:solidFill>
                  <a:srgbClr val="003366"/>
                </a:solidFill>
                <a:latin typeface="Comic Sans MS"/>
              </a:rPr>
              <a:t>g y &gt;&gt;= return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return z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Wingdings"/>
                <a:ea typeface="Wingdings"/>
              </a:rPr>
              <a:t></a:t>
            </a:r>
            <a:r>
              <a:rPr b="0" lang="es-E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s-ES" sz="2000" spc="-1" strike="noStrike">
                <a:solidFill>
                  <a:srgbClr val="003366"/>
                </a:solidFill>
                <a:latin typeface="Comic Sans MS"/>
              </a:rPr>
              <a:t>f x &gt;&gt;= \y -&gt;</a:t>
            </a:r>
            <a:r>
              <a:rPr b="0" lang="es-E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s-ES" sz="2000" spc="-1" strike="noStrike">
                <a:solidFill>
                  <a:srgbClr val="003366"/>
                </a:solidFill>
                <a:latin typeface="Wingdings"/>
                <a:ea typeface="Wingdings"/>
              </a:rPr>
              <a:t></a:t>
            </a:r>
            <a:r>
              <a:rPr b="0" lang="es-E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s-ES" sz="2000" spc="-1" strike="noStrike">
                <a:solidFill>
                  <a:srgbClr val="003366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f x &gt;&gt;= g</a:t>
            </a:r>
            <a:r>
              <a:rPr b="0" lang="es-ES" sz="2000" spc="-1" strike="noStrike">
                <a:solidFill>
                  <a:srgbClr val="003366"/>
                </a:solidFill>
                <a:latin typeface="Comic Sans MS"/>
              </a:rPr>
              <a:t> </a:t>
            </a:r>
            <a:br>
              <a:rPr sz="2000"/>
            </a:br>
            <a:r>
              <a:rPr b="0" lang="es-E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s-ES" sz="2000" spc="-1" strike="noStrike">
                <a:solidFill>
                  <a:srgbClr val="003366"/>
                </a:solidFill>
                <a:latin typeface="Comic Sans MS"/>
              </a:rPr>
              <a:t>g y</a:t>
            </a:r>
            <a:br>
              <a:rPr sz="2000"/>
            </a:br>
            <a:r>
              <a:rPr b="0" lang="es-ES" sz="2000" spc="-1" strike="noStrike">
                <a:solidFill>
                  <a:srgbClr val="003366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So we started with g (f x) and ended with f x &gt;&gt;= g.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But we can do better by defining:</a:t>
            </a:r>
            <a:br>
              <a:rPr sz="2400"/>
            </a:br>
            <a:br>
              <a:rPr sz="8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(g .$ f) x = f x &gt;&gt;= g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   -- Question: what is the type of (.$)?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Thus we started with “g . f” and ended with “g .$ f”.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The List Monad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38080" y="2057400"/>
            <a:ext cx="795816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The List data type is a law-abiding Monad:</a:t>
            </a:r>
            <a:br>
              <a:rPr sz="2400"/>
            </a:br>
            <a:br>
              <a:rPr sz="8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instance  Monad []  where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   m &gt;&gt;= k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=  concat (map k m)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   return x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=  [x]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   fail x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=  [ ]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For example:</a:t>
            </a:r>
            <a:br>
              <a:rPr sz="2400"/>
            </a:br>
            <a:br>
              <a:rPr sz="8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do x &lt;- [1,2,3]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    y &lt;- [4,5]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    return (x,y)</a:t>
            </a:r>
            <a:br>
              <a:rPr sz="2000"/>
            </a:br>
            <a:br>
              <a:rPr sz="8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[(1,4),(1,5),(2,4),(2,5),(3,4),(3,5)]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Note that this is the same as:</a:t>
            </a:r>
            <a:br>
              <a:rPr sz="2400"/>
            </a:br>
            <a:br>
              <a:rPr sz="9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[(x,y) | x &lt;- [1,2,3], y &lt;- [4,5]]</a:t>
            </a:r>
            <a:br>
              <a:rPr sz="2000"/>
            </a:br>
            <a:br>
              <a:rPr sz="900"/>
            </a:b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Indeed, list comprehension syntax is an alternative to do syntax, but restricted to lists (historically).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Useful Monad Operations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762120" y="2057040"/>
            <a:ext cx="79581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sequence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:: Monad m =&gt; [m a] -&gt; m [a]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sequence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=  foldr mcons (return [])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   where mcons p q = do x  &lt;- p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 xs &lt;- q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 return (x:xs)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sequence_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:: Monad m =&gt; [m a] -&gt; m ()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sequence_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=  foldr (&gt;&gt;) (return ())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mapM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:: Monad m =&gt; (a -&gt; m b) -&gt; [a] -&gt; m [b]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mapM f as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=  sequence (map f as)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mapM_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:: Monad m =&gt; (a -&gt; m b) -&gt; [a] -&gt; m ()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mapM_ f as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=  sequence_ (map f as)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(=&lt;&lt;)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:: Monad m =&gt; (a -&gt; m b) -&gt; m a -&gt; m b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f =&lt;&lt; x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=  x &gt;&gt;= f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State Monads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449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State monads are perhaps the most common kind of monad: they involve updating and threading </a:t>
            </a:r>
            <a:r>
              <a:rPr b="0" i="1" lang="en-US" sz="2400" spc="-1" strike="noStrike">
                <a:solidFill>
                  <a:srgbClr val="003366"/>
                </a:solidFill>
                <a:latin typeface="Comic Sans MS"/>
              </a:rPr>
              <a:t>state</a:t>
            </a: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 through a computation.  Abstractly:</a:t>
            </a:r>
            <a:br>
              <a:rPr sz="2400"/>
            </a:br>
            <a:br>
              <a:rPr sz="8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data SM a = SM (State -&gt; (State, a))</a:t>
            </a:r>
            <a:br>
              <a:rPr sz="2000"/>
            </a:br>
            <a:br>
              <a:rPr sz="9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instance Monad SM where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    return a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= SM $ \s -&gt; (s,a)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    SM sm0 &gt;&gt;= fsm1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= SM $ \s0 -&gt;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 let (s1,a1)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= sm0 s0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      SM sm1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= fsm1 a1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      (s2,a2)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= sm1 s1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 in (s2,a2)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Haskell’s </a:t>
            </a:r>
            <a:r>
              <a:rPr b="0" i="1" lang="en-US" sz="2400" spc="-1" strike="noStrike">
                <a:solidFill>
                  <a:srgbClr val="003366"/>
                </a:solidFill>
                <a:latin typeface="Comic Sans MS"/>
              </a:rPr>
              <a:t>IO monad</a:t>
            </a: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 is a state monad, where State corresponds to the “state of the world”.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But state monads are also commonly user defined.</a:t>
            </a:r>
            <a:br>
              <a:rPr sz="2400"/>
            </a:b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(For example, tree labeling – </a:t>
            </a:r>
            <a:r>
              <a:rPr b="0" i="1" lang="en-US" sz="2400" spc="-1" strike="noStrike">
                <a:solidFill>
                  <a:srgbClr val="003366"/>
                </a:solidFill>
                <a:latin typeface="Comic Sans MS"/>
              </a:rPr>
              <a:t>see text.</a:t>
            </a: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IO is a State Monad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449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Suppose we have these operations that implement an association list:</a:t>
            </a:r>
            <a:br>
              <a:rPr sz="2400"/>
            </a:br>
            <a:br>
              <a:rPr sz="8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lookup :: a -&gt; [(a,b)] -&gt; Maybe b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update :: a -&gt; b -&gt; [(a,b)] -&gt; [(a,b)]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exists :: a [(a,b)] -&gt; Bool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A file system is just an association list mapping file names (strings) to file contents (strings):</a:t>
            </a:r>
            <a:br>
              <a:rPr sz="2400"/>
            </a:br>
            <a:br>
              <a:rPr sz="8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type State = [(String, String)]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Then an extremely simplified IO monad is:</a:t>
            </a:r>
            <a:br>
              <a:rPr sz="2400"/>
            </a:br>
            <a:br>
              <a:rPr sz="800"/>
            </a:b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data IO a = IO (State -&gt; (State, a))</a:t>
            </a:r>
            <a:br>
              <a:rPr sz="2000"/>
            </a:br>
            <a:br>
              <a:rPr sz="800"/>
            </a:b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whose instance in Monad is exactly as on the preceding slide, replacing “SM” with “IO”.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State Monad Operations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09640" y="2214720"/>
            <a:ext cx="7958160" cy="41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All that remains is defining the domain-specific operations, such as:</a:t>
            </a:r>
            <a:br>
              <a:rPr sz="2400"/>
            </a:br>
            <a:br>
              <a:rPr sz="24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readFile :: String -&gt; IO (Maybe String)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readFile s = IO (\fs -&gt; (fs, lookup s fs) )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writeFile :: String -&gt; String -&gt; IO ()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writeFile s c = IO (\fs -&gt; (update s c fs, ()) )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fileExists :: String -&gt; IO Bool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fileExists s = IO (\fs -&gt; (fs, exists s fs) )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Variations include generating an error instead of using the Maybe type, etc.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Polymorphic State Monad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449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The state monad can be made polymorphic in the state, in the following way:</a:t>
            </a:r>
            <a:br>
              <a:rPr sz="2400"/>
            </a:b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data SM s a = SM (s -&gt; (s, a))</a:t>
            </a:r>
            <a:br>
              <a:rPr sz="2000"/>
            </a:br>
            <a:br>
              <a:rPr sz="9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instance Monad </a:t>
            </a: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(SM s)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where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    return a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= SM $ \s -&gt; (s,a)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    SM sm0 &gt;&gt;= fsm1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= SM $ \s0 -&gt;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 let (s1,a1)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= sm0 s0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      SM sm1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= fsm1 a1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      (s2,a2)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= sm1 s1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 in (s2,a2)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Note the partial application of the type constructor SM in the instance declaration.  This works because SM has kind * -&gt; * -&gt; *, so “SM s” has kind * -&gt; *.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The Type of a Type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838080" y="2057400"/>
            <a:ext cx="79581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In previous chapters we discussed: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Monomorphic types such as Int, Bool, etc.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Polymorphic types such as [a], Tree a, etc.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Monomorphic types such as [Int], Tree Bool, etc.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Int, Bool, etc. are </a:t>
            </a:r>
            <a:r>
              <a:rPr b="0" i="1" lang="en-US" sz="2400" spc="-1" strike="noStrike">
                <a:solidFill>
                  <a:srgbClr val="003366"/>
                </a:solidFill>
                <a:latin typeface="Comic Sans MS"/>
              </a:rPr>
              <a:t>nullary type constructors, </a:t>
            </a: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whereas [.], Tree, etc. are </a:t>
            </a:r>
            <a:r>
              <a:rPr b="0" i="1" lang="en-US" sz="2400" spc="-1" strike="noStrike">
                <a:solidFill>
                  <a:srgbClr val="003366"/>
                </a:solidFill>
                <a:latin typeface="Comic Sans MS"/>
              </a:rPr>
              <a:t>unary type constructors.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The “type of a type” is called a </a:t>
            </a:r>
            <a:r>
              <a:rPr b="0" i="1" lang="en-US" sz="2400" spc="-1" strike="noStrike">
                <a:solidFill>
                  <a:srgbClr val="003366"/>
                </a:solidFill>
                <a:latin typeface="Comic Sans MS"/>
              </a:rPr>
              <a:t>kind</a:t>
            </a: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.  The kind of all monomorphic types is written “*”:</a:t>
            </a:r>
            <a:br>
              <a:rPr sz="2400"/>
            </a:br>
            <a:br>
              <a:rPr sz="800"/>
            </a:br>
            <a:r>
              <a:rPr b="0" lang="en-US" sz="8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Int, Bool, [Int], Tree Bool  ::  *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Therefore the type of unary type constructors is:</a:t>
            </a:r>
            <a:br>
              <a:rPr sz="2400"/>
            </a:br>
            <a:br>
              <a:rPr sz="900"/>
            </a:b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[.], Tree  ::  * -&gt; *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These “higher-order types” can be used in useful ways, especially when used with type classes.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The Functor Class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8182080" cy="449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The Functor class demonstrates the use of high-order types:</a:t>
            </a:r>
            <a:br>
              <a:rPr sz="2400"/>
            </a:br>
            <a:br>
              <a:rPr sz="8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class Functor f where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fmap :: (a -&gt; b) -&gt; f a -&gt; f b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Note that “f” is “applied”, so should have kind “* -&gt; *”.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For example:</a:t>
            </a:r>
            <a:br>
              <a:rPr sz="2400"/>
            </a:br>
            <a:br>
              <a:rPr sz="8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instance Functor Tree where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   fmap f (Leaf x)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  = Leaf (f x)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   fmap f (Branch t1 t2)  = Branch (fmap f t1) (fmap f t2)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Or, using the function mapTree previously defined:</a:t>
            </a:r>
            <a:br>
              <a:rPr sz="2400"/>
            </a:br>
            <a:br>
              <a:rPr sz="8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instance Functor Tree where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   fmap = mapTree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Exercise:  Write the instance declaration for </a:t>
            </a:r>
            <a:r>
              <a:rPr b="0" i="1" lang="en-US" sz="2400" spc="-1" strike="noStrike">
                <a:solidFill>
                  <a:srgbClr val="003366"/>
                </a:solidFill>
                <a:latin typeface="Comic Sans MS"/>
              </a:rPr>
              <a:t>lists.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The Monad Class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809640" y="2214720"/>
            <a:ext cx="7958160" cy="41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Monads are perhaps the most famous (or infamous?) feature in Haskell.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They are captured in a type class:</a:t>
            </a:r>
            <a:br>
              <a:rPr sz="2400"/>
            </a:br>
            <a:br>
              <a:rPr sz="800"/>
            </a:br>
            <a:r>
              <a:rPr b="0" lang="en-US" sz="8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class  Monad m  where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(&gt;&gt;=)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:: m a -&gt; (a -&gt; m b) -&gt; m b   -- “bind”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(&gt;&gt;)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:: m a -&gt; m b -&gt; m b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   -- “sequence”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return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:: a -&gt; m a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fail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:: String -&gt; m a</a:t>
            </a:r>
            <a:br>
              <a:rPr sz="2000"/>
            </a:br>
            <a:br>
              <a:rPr sz="8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m &gt;&gt; k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=  m &gt;&gt;= \_ -&gt; k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fail s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= error s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The key operations are (&gt;&gt;=) and return.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Syntactic Mystery Unveiled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449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The “do” syntax in Haskell is shorthand for Monad operations, as captured by these rules: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  <a:p>
            <a:pPr lvl="1" marL="914400" indent="-45720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do e </a:t>
            </a:r>
            <a:r>
              <a:rPr b="0" lang="en-US" sz="2000" spc="-1" strike="noStrike">
                <a:solidFill>
                  <a:srgbClr val="003366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e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lvl="1" marL="914400" indent="-45720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66"/>
                </a:solidFill>
                <a:latin typeface="Comic Sans MS"/>
              </a:rPr>
              <a:t>do e1; e2; ...; en </a:t>
            </a:r>
            <a:r>
              <a:rPr b="0" lang="pt-BR" sz="2000" spc="-1" strike="noStrike">
                <a:solidFill>
                  <a:srgbClr val="003366"/>
                </a:solidFill>
                <a:latin typeface="Wingdings"/>
                <a:ea typeface="Wingdings"/>
              </a:rPr>
              <a:t></a:t>
            </a:r>
            <a:r>
              <a:rPr b="0" lang="pt-BR" sz="2000" spc="-1" strike="noStrike">
                <a:solidFill>
                  <a:srgbClr val="003366"/>
                </a:solidFill>
                <a:latin typeface="Comic Sans MS"/>
              </a:rPr>
              <a:t> e1 &gt;&gt; do e2 ; ...; en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lvl="1" marL="914400" indent="-45720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do pat &lt;- e1 ; e2 ; ...; en </a:t>
            </a:r>
            <a:r>
              <a:rPr b="0" lang="en-US" sz="2000" spc="-1" strike="noStrike">
                <a:solidFill>
                  <a:srgbClr val="003366"/>
                </a:solidFill>
                <a:latin typeface="Wingdings"/>
                <a:ea typeface="Wingdings"/>
              </a:rPr>
              <a:t>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let ok pat = do e2 ; ...; en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    ok _   = fail "..."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in e1 &gt;&gt;= ok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lvl="1" marL="914400" indent="-45720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03366"/>
                </a:solidFill>
                <a:latin typeface="Comic Sans MS"/>
              </a:rPr>
              <a:t>do let decllist ; e2 ; ...; en </a:t>
            </a:r>
            <a:r>
              <a:rPr b="0" lang="da-DK" sz="2000" spc="-1" strike="noStrike">
                <a:solidFill>
                  <a:srgbClr val="003366"/>
                </a:solidFill>
                <a:latin typeface="Wingdings"/>
                <a:ea typeface="Wingdings"/>
              </a:rPr>
              <a:t></a:t>
            </a:r>
            <a:br>
              <a:rPr sz="2000"/>
            </a:br>
            <a:r>
              <a:rPr b="0" lang="da-DK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da-DK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da-DK" sz="2000" spc="-1" strike="noStrike">
                <a:solidFill>
                  <a:srgbClr val="003366"/>
                </a:solidFill>
                <a:latin typeface="Comic Sans MS"/>
              </a:rPr>
              <a:t>let decllist in do e2 ; ...; en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lvl="1" marL="9144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Comic Sans MS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Note special case of rule 3: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  <a:p>
            <a:pPr lvl="1" marL="914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66"/>
                </a:solidFill>
                <a:latin typeface="Comic Sans MS"/>
              </a:rPr>
              <a:t>3a.  do x &lt;- e1 ; e2 ; ...; en </a:t>
            </a:r>
            <a:r>
              <a:rPr b="0" lang="pt-BR" sz="2000" spc="-1" strike="noStrike">
                <a:solidFill>
                  <a:srgbClr val="003366"/>
                </a:solidFill>
                <a:latin typeface="Wingdings"/>
                <a:ea typeface="Wingdings"/>
              </a:rPr>
              <a:t></a:t>
            </a:r>
            <a:br>
              <a:rPr sz="2000"/>
            </a:br>
            <a:r>
              <a:rPr b="0" lang="pt-BR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pt-BR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pt-BR" sz="2000" spc="-1" strike="noStrike">
                <a:solidFill>
                  <a:srgbClr val="003366"/>
                </a:solidFill>
                <a:latin typeface="Comic Sans MS"/>
              </a:rPr>
              <a:t>e1 &gt;&gt;= \x -&gt; do e2 ; ...; en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Example Involving IO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838080" y="2057400"/>
            <a:ext cx="79581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do” syntax can be completely eliminated:</a:t>
            </a:r>
            <a:br>
              <a:rPr sz="2400"/>
            </a:br>
            <a:br>
              <a:rPr sz="800"/>
            </a:br>
            <a:r>
              <a:rPr b="0" lang="en-US" sz="8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800" spc="-1" strike="noStrike">
                <a:solidFill>
                  <a:srgbClr val="003366"/>
                </a:solidFill>
                <a:latin typeface="Comic Sans MS"/>
              </a:rPr>
              <a:t>                  </a:t>
            </a:r>
            <a:r>
              <a:rPr b="0" lang="en-US" sz="8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do putStr “Hello”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    c &lt;- getChar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    return c</a:t>
            </a:r>
            <a:br>
              <a:rPr sz="2000"/>
            </a:br>
            <a:br>
              <a:rPr sz="8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putStr “Hello” &gt;&gt;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-- by rule (2)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do c &lt;- getChar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    return c</a:t>
            </a:r>
            <a:br>
              <a:rPr sz="2000"/>
            </a:br>
            <a:br>
              <a:rPr sz="8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putStr “Hello” &gt;&gt;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-- by rule (3a)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getChar &gt;&gt;= \c -&gt;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do return c</a:t>
            </a:r>
            <a:br>
              <a:rPr sz="2000"/>
            </a:br>
            <a:br>
              <a:rPr sz="8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putStr “Hello” &gt;&gt;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-- by rule (1)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getChar &gt;&gt;= \c -&gt;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return c</a:t>
            </a:r>
            <a:br>
              <a:rPr sz="2000"/>
            </a:br>
            <a:br>
              <a:rPr sz="8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putStr “Hello” &gt;&gt;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-- currying simplification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getChar &gt;&gt;=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return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Functor and Monad Laws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9581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Functor laws:</a:t>
            </a:r>
            <a:br>
              <a:rPr sz="2400"/>
            </a:br>
            <a:br>
              <a:rPr sz="8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fmap id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= id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fmap (f . g)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= fmap f . fmap g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Monad laws:</a:t>
            </a:r>
            <a:br>
              <a:rPr sz="2400"/>
            </a:br>
            <a:br>
              <a:rPr sz="8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pt-BR" sz="2000" spc="-1" strike="noStrike">
                <a:solidFill>
                  <a:srgbClr val="003366"/>
                </a:solidFill>
                <a:latin typeface="Comic Sans MS"/>
              </a:rPr>
              <a:t>return a &gt;&gt;= k</a:t>
            </a:r>
            <a:r>
              <a:rPr b="0" lang="pt-BR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pt-BR" sz="2000" spc="-1" strike="noStrike">
                <a:solidFill>
                  <a:srgbClr val="003366"/>
                </a:solidFill>
                <a:latin typeface="Comic Sans MS"/>
              </a:rPr>
              <a:t>   </a:t>
            </a:r>
            <a:r>
              <a:rPr b="0" lang="pt-BR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pt-BR" sz="2000" spc="-1" strike="noStrike">
                <a:solidFill>
                  <a:srgbClr val="003366"/>
                </a:solidFill>
                <a:latin typeface="Comic Sans MS"/>
              </a:rPr>
              <a:t>= k a</a:t>
            </a:r>
            <a:br>
              <a:rPr sz="2000"/>
            </a:br>
            <a:r>
              <a:rPr b="0" lang="pt-BR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pt-BR" sz="2000" spc="-1" strike="noStrike">
                <a:solidFill>
                  <a:srgbClr val="003366"/>
                </a:solidFill>
                <a:latin typeface="Comic Sans MS"/>
              </a:rPr>
              <a:t>m &gt;&gt;= return</a:t>
            </a:r>
            <a:r>
              <a:rPr b="0" lang="pt-BR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pt-BR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pt-BR" sz="2000" spc="-1" strike="noStrike">
                <a:solidFill>
                  <a:srgbClr val="003366"/>
                </a:solidFill>
                <a:latin typeface="Comic Sans MS"/>
              </a:rPr>
              <a:t>= m</a:t>
            </a:r>
            <a:br>
              <a:rPr sz="2000"/>
            </a:br>
            <a:r>
              <a:rPr b="0" lang="pt-BR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pt-BR" sz="2000" spc="-1" strike="noStrike">
                <a:solidFill>
                  <a:srgbClr val="003366"/>
                </a:solidFill>
                <a:latin typeface="Comic Sans MS"/>
              </a:rPr>
              <a:t>m &gt;&gt;= (\x -&gt; k x &gt;&gt;= h)</a:t>
            </a:r>
            <a:r>
              <a:rPr b="0" lang="pt-BR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pt-BR" sz="2000" spc="-1" strike="noStrike">
                <a:solidFill>
                  <a:srgbClr val="003366"/>
                </a:solidFill>
                <a:latin typeface="Comic Sans MS"/>
              </a:rPr>
              <a:t>= (m &gt;&gt;= k) &gt;&gt;= h</a:t>
            </a:r>
            <a:br>
              <a:rPr sz="2000"/>
            </a:br>
            <a:br>
              <a:rPr sz="800"/>
            </a:br>
            <a:r>
              <a:rPr b="0" lang="pt-BR" sz="2400" spc="-1" strike="noStrike">
                <a:solidFill>
                  <a:srgbClr val="003366"/>
                </a:solidFill>
                <a:latin typeface="Comic Sans MS"/>
              </a:rPr>
              <a:t>Note special case of last law:</a:t>
            </a:r>
            <a:br>
              <a:rPr sz="2400"/>
            </a:br>
            <a:br>
              <a:rPr sz="800"/>
            </a:br>
            <a:r>
              <a:rPr b="0" lang="pt-BR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pt-BR" sz="2000" spc="-1" strike="noStrike">
                <a:solidFill>
                  <a:srgbClr val="003366"/>
                </a:solidFill>
                <a:latin typeface="Comic Sans MS"/>
              </a:rPr>
              <a:t>m1 &gt;&gt; (m2 &gt;&gt; m3)</a:t>
            </a:r>
            <a:r>
              <a:rPr b="0" lang="pt-BR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pt-BR" sz="2000" spc="-1" strike="noStrike">
                <a:solidFill>
                  <a:srgbClr val="003366"/>
                </a:solidFill>
                <a:latin typeface="Comic Sans MS"/>
              </a:rPr>
              <a:t>= (m1 &gt;&gt; m2) &gt;&gt; m3</a:t>
            </a:r>
            <a:br>
              <a:rPr sz="2000"/>
            </a:br>
            <a:r>
              <a:rPr b="0" lang="pt-BR" sz="2000" spc="-1" strike="noStrike">
                <a:solidFill>
                  <a:srgbClr val="003366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Comic Sans MS"/>
              </a:rPr>
              <a:t>Connecting law:</a:t>
            </a:r>
            <a:br>
              <a:rPr sz="2400"/>
            </a:br>
            <a:br>
              <a:rPr sz="800"/>
            </a:br>
            <a:r>
              <a:rPr b="0" lang="pt-BR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fmap f xs = xs &gt;&gt;= return . f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Comic Sans MS"/>
              </a:rPr>
              <a:t>Monad Laws Expressed</a:t>
            </a:r>
            <a:br>
              <a:rPr sz="4000"/>
            </a:br>
            <a:r>
              <a:rPr b="0" lang="en-US" sz="4000" spc="-1" strike="noStrike">
                <a:solidFill>
                  <a:srgbClr val="003366"/>
                </a:solidFill>
                <a:latin typeface="Comic Sans MS"/>
              </a:rPr>
              <a:t>using “do” Syntax</a:t>
            </a:r>
            <a:endParaRPr b="0" lang="en-US" sz="40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44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do x &lt;- return a ; k x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=  k a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do x &lt;- m ; return x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=  m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do x &lt;- m ; y &lt;- k x ; h y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= do y &lt;- (do x &lt;- m ; k x) ; h y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do m1 ; m2 ; m3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= do (do m1 ; m2) ; m3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fmap f xs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= do x &lt;- xs ; return (f x)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For example, using the second rule above, the example given earlier can be simplified to just:</a:t>
            </a:r>
            <a:br>
              <a:rPr sz="2400"/>
            </a:br>
            <a:br>
              <a:rPr sz="8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do putStr “Hello”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    getChar</a:t>
            </a:r>
            <a:br>
              <a:rPr sz="2000"/>
            </a:br>
            <a:br>
              <a:rPr sz="800"/>
            </a:b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or, after desugaring:</a:t>
            </a: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putStr “Hello” &gt;&gt; getChar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The Maybe Monad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449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Recall the Maybe data type:</a:t>
            </a:r>
            <a:br>
              <a:rPr sz="2400"/>
            </a:br>
            <a:br>
              <a:rPr sz="9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data Maybe a 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= Just a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| Nothing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It is both a Functor and a Monad:</a:t>
            </a:r>
            <a:br>
              <a:rPr sz="2400"/>
            </a:br>
            <a:br>
              <a:rPr sz="8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instance  Monad Maybe  where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Just x  &gt;&gt;= k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=  k x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Nothing &gt;&gt;= k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=  Nothing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return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=  Just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fail s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=  Nothing</a:t>
            </a:r>
            <a:br>
              <a:rPr sz="2000"/>
            </a:br>
            <a:br>
              <a:rPr sz="8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instance  Functor Maybe  where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fmap f Nothing    =  Nothing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fmap f (Just x)   =  Just (f x)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These instances are in fact “law abiding”.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9-29T22:47:58Z</dcterms:created>
  <dc:creator>Tim Sheard</dc:creator>
  <dc:description/>
  <dc:language>en-US</dc:language>
  <cp:lastModifiedBy>Paul Hudak</cp:lastModifiedBy>
  <cp:lastPrinted>1999-10-07T20:38:26Z</cp:lastPrinted>
  <dcterms:modified xsi:type="dcterms:W3CDTF">2004-11-01T13:08:52Z</dcterms:modified>
  <cp:revision>256</cp:revision>
  <dc:subject/>
  <dc:title>Lecture #1,  Sept. 30, 1996</dc:title>
</cp:coreProperties>
</file>