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7697-E109-4A4C-849D-9DCFEA43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8410-132A-45DD-A289-1E69A2F5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AC0-2F2E-428F-8808-8A82E0F48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E126-8AB9-40EA-BCC6-6D6916EA8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BE88-13E4-455A-BCEF-35187485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E075-F570-463C-BD67-DC2C9BAE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FDF7-D52D-40E4-9FCA-379F86C9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61E9-25CA-4867-B321-0AF001D6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F698-481E-4F9B-9874-19E5EBF8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6247-652E-4398-804E-3045BA28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DF11-EB8F-4360-8D6D-31534341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C506-F21D-446D-878B-CD12541D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692B-D831-4D6E-A0D4-891991C5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60D1-EFAE-4408-89B0-C0F8AC48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6E63-9D82-48AC-84A3-374839B7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03AA-D298-4B25-BE45-6E9823F9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0EC8-ABBA-4581-B869-466F448D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DB38-8950-4ADB-ABD8-F61059D2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BC4F-4E9C-4927-8706-C3FD9DFA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338C-068D-4392-BA95-C6BDD937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9983-A33F-4C99-A4B1-0B5D102D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58A9-AE9D-40B6-ADA0-8D74E3C1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110C-699E-4985-A1D6-6A5CD660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7AEE-3D57-43F1-A475-71BD2D15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7209-8806-4475-B05B-3BFEE332D62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ACEC-D253-492E-89FA-0A020D1192C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19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An Imperative Robot Language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Robot Movemen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ve      :: Robo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ve = cond1 (isnt blocked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(Robot $ \s _ w -&gt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let newPos = movePos (position s) (facing s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graphicsMove w s newPo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return (s {position = newPos}, (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vePos :: Position -&gt; Direction -&gt; Posit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vePos (x,y) d = case d of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rth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&gt; (x, y+1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outh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&gt; (x, y-1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as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&gt; (x+1, y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s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&gt; (x-1, y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“graphicsMove” command is defined in Section 19.5 of the text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ens and Coi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nUp :: Robo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nUp = updateState (\s -&gt; s {pen = False})</a:t>
            </a:r>
            <a:br>
              <a:rPr sz="20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nDown :: Robo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nDown = updateState (\s -&gt; s {pen = True})</a:t>
            </a:r>
            <a:br>
              <a:rPr sz="20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etPenColor  :: Color -&gt; Robo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etPenColor c = updateState (\s -&gt; s {color = c})</a:t>
            </a:r>
            <a:br>
              <a:rPr sz="20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nCoin    :: Robot Boo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nCoin = queryState (\s -&gt; position s `elem` treasure s)</a:t>
            </a:r>
            <a:br>
              <a:rPr sz="20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ins     :: Robot In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ins  = queryState pocket</a:t>
            </a:r>
            <a:br>
              <a:rPr sz="20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ickCoin  :: Robo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ickCoin = cond1 onCoin (Robot $ \s _ w -&gt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eraseCoin w (position s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return (s {treasure = position s `delete` treasure s,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pocket   = pocket s + 1},  () ) 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Lifting to Monad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unctions can be “lifted” to the levels of monads using these pre-defined functions in the Monad library: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ftM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(Monad m) =&gt; (a -&gt; b) -&gt; (m a -&gt; m b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ftM f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\a -&gt; do a' &lt;-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return (f a'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ftM2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(Monad m) =&gt; (a -&gt; b -&gt; c) -&gt; (m a -&gt; m b -&gt; m c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ftM2 f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\a b -&gt; do a' &lt;-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b' &lt;- b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return (f a' b'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imilarly for liftM3, liftM4, etc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Logic and Control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Bool -&gt; Robot a -&gt; Robot a -&gt; Robot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d p c a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do pred &lt;- p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if pred then c else a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d1 p c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cond p c (return ())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ile  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Bool -&gt; Robot () -&gt; Robo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ile p b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cond1 p (b &gt;&gt; while p b)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||*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Bool -&gt; Robot Bool -&gt; Robot Boo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1 ||* b2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do p &lt;- b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if p then (return True) else b2</a:t>
            </a:r>
            <a:br>
              <a:rPr sz="20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sn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Bool -&gt; Robot Boo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sn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liftM not</a:t>
            </a:r>
            <a:br>
              <a:rPr sz="20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&gt;*), (&lt;*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Int -&gt; Robot Int -&gt; Robot Boo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&gt;*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liftM2 (&gt;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&lt;*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liftM2 (&lt;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7703640" y="4343400"/>
            <a:ext cx="14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[ similarly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or (&amp;&amp;*) ]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Haskell Array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rrays in Haskell have typ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x a =&gt; Array a b</a:t>
            </a:r>
            <a:br>
              <a:rPr sz="2400"/>
            </a:br>
            <a:br>
              <a:rPr sz="9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ere “a” is th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index type,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and must be in the class Ix, and “b” is th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container type,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i.e. the type of the values in the array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rrays are created by:</a:t>
            </a:r>
            <a:br>
              <a:rPr sz="24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rray :: Ix a =&gt; (a, a) -&gt; [(a, b)] -&gt; Array a b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ors :: Array Int Colo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ors = array (0, 7) (zip [0 .. 7] [Black .. White]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rrays ar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indexed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(in constant time) by the (!) operator.  For example:</a:t>
            </a:r>
            <a:br>
              <a:rPr sz="24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ors ! 3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Cya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he Grid is an Array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robot grid is a two-dimensional array:</a:t>
            </a:r>
            <a:br>
              <a:rPr sz="24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Grid = Array Position [Direction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Position = (Int, Int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list of directions is the unblocked directions in which the robot can move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which case the access operator “at” used previously is just:</a:t>
            </a:r>
            <a:br>
              <a:rPr sz="24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t :: Grid -&gt; Position -&gt; [Direction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t = (!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outer walls of the grid, as well as any inner walls, may be created by suitable instantiation of these lists of directions.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[ see text for details ]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Robot Simulator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graphics required for the robot simulator presents no new difficulties, except for an issue regarding “incrementally” updating the graphics image, rather than redrawing everything as we have previously done.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rawGri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Window -&gt; Grid -&gt; IO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rawCoin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Window -&gt; RobotState -&gt; IO ()</a:t>
            </a:r>
            <a:br>
              <a:rPr sz="2000"/>
            </a:br>
            <a:br>
              <a:rPr sz="2400"/>
            </a:b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[ see text for details ]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utting It All Together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e need a function that takes a robot program, an initial state, and an initial grid, and then “executes” the program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unRobot :: Robot () -&gt; RobotState -&gt; Grid -&gt; IO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unRobot (Robot sf) s g = runGraphics $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w &lt;- openWindowEx "Robot World" (Just (0,0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Just (xWin,yWin)) drawGraphic (Just 10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drawGrid w g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draws the grid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drawCoins w 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draws the coin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spaceWait w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waits for spacebar pres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sf s g w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executes program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spaceClose w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waits for spacebar pres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the previous chapter,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monads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were introduced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particular,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state monads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were described as a way to sequence stateful operations such as found in an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imperative language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this chapter, an imperative DSL called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Imperative Robot Language,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or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IRL,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will be designed and implemented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implementation will be in the form of 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graphical simulator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of the robot in action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IRL Command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commands’ behaviors can be guessed from their names and types:</a:t>
            </a:r>
            <a:br>
              <a:rPr sz="2400"/>
            </a:br>
            <a:br>
              <a:rPr sz="900"/>
            </a:br>
            <a:r>
              <a:rPr b="0" lang="en-US" sz="9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v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urnRight, turnLeft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urnTo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Direction -&gt; Robo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irect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Direct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locke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Boo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nUp, penDown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etPenColor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Color -&gt; Robo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ickCoin, dropCoi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nCoi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Boo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in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In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Bool -&gt; Robot a -&gt; Robot a -&gt; Robot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il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Bool -&gt; Robot () -&gt; Robo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||*), (&amp;&amp;*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Bool -&gt; Robot Bool -&gt; Robot Boo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&gt;*), (&lt;*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Int -&gt; Robot Int -&gt; Robot Boo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sn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Bool -&gt; Robot Boo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523880" y="2819520"/>
            <a:ext cx="152640" cy="1143000"/>
          </a:xfrm>
          <a:custGeom>
            <a:avLst/>
            <a:gdLst>
              <a:gd name="textAreaLeft" fmla="*/ 97560 w 152640"/>
              <a:gd name="textAreaRight" fmla="*/ 15300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1523880" y="4038480"/>
            <a:ext cx="152640" cy="457200"/>
          </a:xfrm>
          <a:custGeom>
            <a:avLst/>
            <a:gdLst>
              <a:gd name="textAreaLeft" fmla="*/ 97560 w 152640"/>
              <a:gd name="textAreaRight" fmla="*/ 153000 w 15264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4572000"/>
            <a:ext cx="152640" cy="609480"/>
          </a:xfrm>
          <a:custGeom>
            <a:avLst/>
            <a:gdLst>
              <a:gd name="textAreaLeft" fmla="*/ 97560 w 152640"/>
              <a:gd name="textAreaRight" fmla="*/ 153000 w 15264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52578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578880" y="32004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motion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741600" y="40384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pen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466560" y="472428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treasure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607320" y="5715000"/>
            <a:ext cx="9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contro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ample: Spiral Mo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piral :: Robot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piral = penDown &gt;&gt; loop 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where loop n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le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wice = do turnRigh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moven 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turnRigh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moven 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in cond blocked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twice &gt;&gt; turnRight &gt;&gt; moven n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twice &gt;&gt; loop (n+1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ven :: Int -&gt; Robot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ven n = mapM_ (const move) [1..n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Implementing IRL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irst we need to define the robot state:</a:t>
            </a:r>
            <a:br>
              <a:rPr sz="24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RobotState  = RobotState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{ posit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Posit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facing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Direct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pe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Bool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color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Colo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treasur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[ Position 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pocke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In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}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eriving Show</a:t>
            </a:r>
            <a:br>
              <a:rPr sz="20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Position = (Int, Int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a grid</a:t>
            </a:r>
            <a:br>
              <a:rPr sz="20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Direction = North | East | South | Wes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eriving (Eq, Show, Enum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grid itself is also part of the overall state, but it never changes, and thus is kept separate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ombining Monad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818208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most obvious design would b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ewtype Robot a = Robo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(RobotState -&gt; Grid -&gt; (RobotState, a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However, we want the output to also include graphics, so a better design is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ewtype Robot a = Robo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(RobotState -&gt; Grid -&gt; Window -&gt; IO (RobotState, a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this way the Robot monad and the IO monad are combined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Robot” is a State Monad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instance declaration resembles that of a state monad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tance Monad Robot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turn a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obot $ \s _ _ -&gt; return (s, a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obot sf0 &gt;&gt;= f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obot $ \s0 g w -&gt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do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s1, a1) &lt;- sf0 s0 g w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et Robot sf1 = f a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s2, a2) &lt;- sf1 s1 g w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turn (s2, a2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ll that remains is defining the “domain specific” operations in the Robot monad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Helper Func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64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help computing directions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ight,left :: Direction -&gt; Direct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ight 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toEnum (succ (fromEnum d) `mod` 4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eft  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toEnum (pred (fromEnum d) `mod` 4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help querying and updating the state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updateState :: (RobotState -&gt; RobotState) -&gt; Robo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updateState u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Robot (\s _ _ -&gt; return (u s, ()))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queryState  :: (RobotState -&gt; a) -&gt; Robot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queryState  q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Robot (\s _ _ -&gt; return (s, q s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o be defined later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t :: Grid -&gt; Position -&gt; [Direction]</a:t>
            </a:r>
            <a:br>
              <a:rPr sz="2000"/>
            </a:br>
            <a:br>
              <a:rPr sz="9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g `at` p” is the list of directions in which the robot can move (i.e. unblocked) from position p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irections and Blocking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urnLef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urnLeft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updateState ( \s -&gt; s {facing = left (facing s)} 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urnRight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urnRight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updateState ( \s -&gt; s {facing = right (facing s)} 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urnTo 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Direction -&gt; Robot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urnTo d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updateState ( \s -&gt; s {facing = d} 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irection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Direct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irection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queryState facing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locked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Robot Boo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locked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Robot $ \s g _ -&gt;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return ( s,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facing s `notElem` (g `at` position s) 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10-07T20:38:26Z</cp:lastPrinted>
  <dcterms:modified xsi:type="dcterms:W3CDTF">2004-11-01T14:28:29Z</dcterms:modified>
  <cp:revision>273</cp:revision>
  <dc:subject/>
  <dc:title>Lecture #1,  Sept. 30, 1996</dc:title>
</cp:coreProperties>
</file>