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A2A-F7A2-49EB-9C58-4DD2812D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723-50B3-4DA3-A965-0E7803DA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50CD-94D9-49DE-AB39-68F1E9BF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F6C4-C3BE-4209-BDC6-DFB10230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8706-4A06-4942-A04D-19CB81F4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BE89-EFC5-4AE2-9C11-176EBEC8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8A09-EFA2-49C0-8B09-8A5A51AD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04B5-1733-4BE2-85B1-3AB59CD5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6212-FD69-40E8-ADF7-830C3F25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D85E-91DA-4087-9965-57E914DE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51EF-E3CA-4DD1-BEB2-2ED0BF98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62A-1C4A-4D09-A9F9-6C3C447D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F7D9-F376-4CAE-9E06-54D3512E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E5A4-F288-42E0-B852-FDB0F71F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3549-4F24-4521-94EC-B9A10BF1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D84E-5A65-4164-9D44-6F5F17C1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C256-E40F-4DA2-8BED-80B05160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ADD-D1B9-4250-86BF-C6C0385C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0909-1B7F-4715-AC71-C9A80B8B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1EF-9F6C-4BA8-8AC4-274744D7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4F2-D111-4728-83F0-EEE538CD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65B4-57FB-49F3-AE7B-C3D98595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6B7-C0EB-4327-A590-029B04BA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7E0-EF12-4195-9657-389BD6E2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47D2-581D-449F-880F-8192247FB7D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6DAD-896F-4AB5-AECD-F2AF88AF54D1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by Paul Hudak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Presentation slides by 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Paul Hudak and Tim Sheard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781680" y="2590920"/>
            <a:ext cx="2057400" cy="27208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The Haskell School 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omic Sans MS"/>
              </a:rPr>
              <a:t>of Expression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On-Line Resourc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haskell.org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: home page for Haskell and related topics on functional programming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Comic Sans MS"/>
              </a:rPr>
              <a:t>haskell.org/soe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: home page for the text, with source code, demos, these slides, and other useful information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1T14:51:25Z</dcterms:created>
  <dc:creator>Paul Hudak</dc:creator>
  <dc:description/>
  <dc:language>en-US</dc:language>
  <cp:lastModifiedBy>Paul Hudak</cp:lastModifiedBy>
  <dcterms:modified xsi:type="dcterms:W3CDTF">2005-01-18T22:07:08Z</dcterms:modified>
  <cp:revision>4</cp:revision>
  <dc:subject/>
  <dc:title>The Haskell School  of Expression</dc:title>
</cp:coreProperties>
</file>