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3392-8785-4458-905E-B7F72E34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7CC-D8E9-4180-82D0-2032632A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0C81-484E-4E4B-BAA1-BA1EB70A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175-0FD0-45C8-AA34-AA3C2B7E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D0DC-74C4-447B-B438-5766BA70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8779-5F99-4757-8C63-1ACF6045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A2ED-C0E9-44C3-90D3-4FAB65E9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18F3-14A7-458F-BFA3-1817792A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15C0-06B4-4787-BF45-F4E3FEEA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1966-F937-4626-B263-7CB2031C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6DD4-A303-455D-B828-976EB288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1A4-BE30-41CE-B898-847E7F21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2F00E-8F4E-429A-B11D-491F837F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C33B-71F3-49C7-8A3B-4460C161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48D0-9BF7-40AC-B9D1-C5345056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519C-734A-4296-9271-EAABBE61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E767-85AD-4768-BB25-9281E8F9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6C25-9D48-4FC9-B343-79001A04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6A2-2F90-4B4F-89C1-207F1487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701-D089-4E04-B08A-A0DB386C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37D-AEBC-48BD-9468-3B23D534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588D-A4DE-493E-85BD-220B3E99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3E21-3406-46AA-AE94-20A57214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262-E5C2-41ED-A373-EFDD635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3510-3C10-4A6E-86B1-85C0EA2228A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F11F-DD83-4A9E-B3AB-694BF56F12E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2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Qualified Typ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Numeric Class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’s numeric types are embedded in a very rich, hierarchical set of type class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the Num class is defined by:</a:t>
            </a:r>
            <a:br>
              <a:rPr sz="24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 (Eq a, Show a) =&gt; Num a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+), (-), (*) :: a -&gt; a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egate :: a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bs, signum :: a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romInteger :: Integer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 Show is a type class whose main operator is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how :: Show a =&gt; a -&gt; Str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ee the Numeric Class Hierarchy in the Haskell Report on the next slid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3118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753480" y="2971800"/>
            <a:ext cx="27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’s Numeric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lass Hierarchy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erc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is method in the class Num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romInteger :: Num a =&gt; Integer -&gt; 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so, in the class Integral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Integer :: Integral a =&gt; a -&gt; Intege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explains the definition of intToFloat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ToFloat :: Int -&gt; Float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ToFloat n = fromInteger (toInteger n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generic coercion functions avoid a quadratic blowup in the number of coercion functions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lso, every integer literal, say “42”, is really shorthand for “fromInteger 42”, thus allowing that number to be typed a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ny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member of Num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rived Instanc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stances of the following type classes may be automatically derived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q, Ord, Enum, Bounded, Ix, Read, and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is done by adding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riving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clause.  For example:</a:t>
            </a:r>
            <a:br>
              <a:rPr sz="2400"/>
            </a:br>
            <a:br>
              <a:rPr sz="800"/>
            </a:br>
            <a:r>
              <a:rPr b="0" lang="en-US" sz="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Tree a = Leaf a | Branch (Tree a) (Tree a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riving (Show, Eq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will automatically create an instance for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how (Tree a) as well as one for Eq (Tree a) that is precisely equivalent to the one we defined earlier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Reasoning About Type Class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ost type classes implicitly carry a set of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law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the Eq class is expected to obey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a /= b)  =  not (a == 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a == b) &amp;&amp; (b == c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⊇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(a == c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imilarly, for the Ord class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a &lt;= a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(a &lt;= b) &amp;&amp; (b &lt;= c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⊇ 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(a &lt;= c)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(a &lt;= b) &amp;&amp; (b &lt;= a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⊇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 (a == b)</a:t>
            </a:r>
            <a:br>
              <a:rPr sz="2000"/>
            </a:b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(a /= b)  </a:t>
            </a:r>
            <a:r>
              <a:rPr b="0" lang="en-US" sz="20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⊇ </a:t>
            </a:r>
            <a:r>
              <a:rPr b="0" lang="pt-BR" sz="2000" spc="-1" strike="noStrike">
                <a:solidFill>
                  <a:srgbClr val="003366"/>
                </a:solidFill>
                <a:latin typeface="Comic Sans MS"/>
              </a:rPr>
              <a:t> (a &lt; b) || (b &lt;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These laws capture the properties of an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equivalence class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and a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total order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, respectivel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Unfortunately, there is nothing in Haskell that </a:t>
            </a:r>
            <a:r>
              <a:rPr b="0" i="1" lang="pt-BR" sz="2400" spc="-1" strike="noStrike">
                <a:solidFill>
                  <a:srgbClr val="003366"/>
                </a:solidFill>
                <a:latin typeface="Comic Sans MS"/>
              </a:rPr>
              <a:t>enforces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the laws – its up to the programmer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at should the principal type of (+) be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 -&gt; Int -&gt; I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oo specif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-&gt; a -&gt;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too genera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seems like we need something “in between”, that restricts “a” to be from the set of all number types, say Num = {Int, Integer, Float, Double, etc.}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all that the type signature  a -&gt; a -&gt; a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s really shorthand for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(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∀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) a -&gt; a -&gt; a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Qualified type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generalize this by qualifying the type variable, as in       (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∀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</a:t>
            </a:r>
            <a:r>
              <a:rPr b="1" lang="en-US" sz="2400" spc="-1" strike="noStrike">
                <a:solidFill>
                  <a:srgbClr val="003366"/>
                </a:solidFill>
                <a:latin typeface="Arial Unicode MS"/>
                <a:ea typeface="Arial Unicode MS"/>
              </a:rPr>
              <a:t>∈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Num) a -&gt; a -&gt; a,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ich in Haskell we write as  Num a =&gt; a -&gt; a -&gt; a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ype Class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um” in the previous example is called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ype clas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and should not be confused with a type constructor or a value constructor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um T” should be read “T is a member of (or an instance of) the type class Num”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’s type classes are one of its most innovative featur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capability is also called “overloading”, because one function name is used for potentially very different purpos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re are many pre-defined type classes, but you can also define your ow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: Equalit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ike addition, equality is not defined on all types (how do we test the equality of two functions, for example?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o the equality operator (==) in Haskell has type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q a =&gt; a -&gt; a -&gt; Bool.  For example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42 == 4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Tr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`a` == `a`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Tru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`a` == 4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&lt;&lt; type error! &gt;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(types don’t match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+1) == (\x-&gt;x+1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&lt;&lt; type error! &gt;&gt;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((-&gt;) is not an instance of Eq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: the type errors occur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at compile time!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quality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8224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Eq is defined by this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type class declaration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Eq a 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==), (/=)       :: a -&gt; a -&gt;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/= y           =  not (x == y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== y           =  not (x /= 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last two lines ar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default method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for the operators defined to be in this clas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type is made an instance of a class by an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instance declaration.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Eq In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==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intEq x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primitive equality for Int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Eq Floa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==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floatEq x 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primitive equality for Float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quality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ser-defined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ata types can also be made instances of Eq.  For exampl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data Tree a = Leaf a | Branch (Tree a) (Tree a)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instance 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       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Eq (Tree a) where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Leaf a1        == Leaf a2         =  a1 == a2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Branch l1 r1 == Branch l2 r2 =  l1==l2 &amp;&amp; r1==r2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_                 == _                   =  Fals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But something is strange here: is “a1 == a2” on the right-hand side correct?  How do we know that equality is defined on the type “a”??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quality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u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user-defined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data types can also be made instances of Eq.  For example: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data Tree a = Leaf a | Branch (Tree a) (Tree a)</a:t>
            </a:r>
            <a:br>
              <a:rPr sz="2400"/>
            </a:br>
            <a:br>
              <a:rPr sz="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instance </a:t>
            </a:r>
            <a:r>
              <a:rPr b="0" lang="pt-BR" sz="2400" spc="-1" strike="noStrike">
                <a:solidFill>
                  <a:srgbClr val="ff3300"/>
                </a:solidFill>
                <a:latin typeface="Comic Sans MS"/>
              </a:rPr>
              <a:t>Eq a =&gt;</a:t>
            </a: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Eq (Tree a) where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Leaf a1        == Leaf a2         =  a1 == a2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Branch l1 r1 == Branch l2 r2 =  l1==l2 &amp;&amp; r1==r2</a:t>
            </a:r>
            <a:br>
              <a:rPr sz="2400"/>
            </a:b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      _                 == _                   =  Fals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Comic Sans MS"/>
              </a:rPr>
              <a:t>But something is strange here: is “a1 == a2” on the right-hand side correct?  How do we know that equality is defined on the type “a”??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olution:  Introduce a </a:t>
            </a:r>
            <a:r>
              <a:rPr b="0" i="1" lang="en-US" sz="2400" spc="-1" strike="noStrike">
                <a:solidFill>
                  <a:srgbClr val="ff3300"/>
                </a:solidFill>
                <a:latin typeface="Comic Sans MS"/>
              </a:rPr>
              <a:t>constraint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on “a”, namely that it also be an instance of the type class Eq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onstraints / Contexts are Propagated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der this function:</a:t>
            </a:r>
            <a:br>
              <a:rPr sz="2400"/>
            </a:br>
            <a:br>
              <a:rPr sz="7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elem` 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 Fals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elem` (y:y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=  x==y || x `elem`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e use of (==) on the right-hand side of the second equation.  So the principal type for elem is:</a:t>
            </a:r>
            <a:br>
              <a:rPr sz="2400"/>
            </a:br>
            <a:br>
              <a:rPr sz="7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em :: Eq a =&gt; a -&gt; [a]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s is inferred automatically by Haskell, but as always, it is recommended that you provide your own type signature for all function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from Reg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Useful slogan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“polymorphism captures similar structure over different values, while type classes capture similar operations over different structures.”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a simple example, recall from Chapter 8:</a:t>
            </a:r>
            <a:br>
              <a:rPr sz="2000"/>
            </a:br>
            <a:br>
              <a:rPr sz="7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S :: Shape -&gt; Point -&gt;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R :: Region -&gt; Point -&gt; Boo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se are similar ops over different structures.  So:</a:t>
            </a:r>
            <a:br>
              <a:rPr sz="24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ass PC t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 :: t -&gt; Point -&gt; Bool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PC Shape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 = containsS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stance PC Region where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tains = contains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10-11T14:21:04Z</dcterms:modified>
  <cp:revision>119</cp:revision>
  <dc:subject/>
  <dc:title>Lecture #1,  Sept. 30, 1996</dc:title>
</cp:coreProperties>
</file>