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E69-C3EB-4475-A19F-44C19FBB7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8B3C-E326-468D-B83F-19135656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285-F190-4C89-8948-D3DB82B3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0C67-B3FF-47B4-AE6D-754450E8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E65-AE18-4860-96AE-6692C8DD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576F-7FBB-4498-A617-DED6D1E0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CCF9-2F15-430D-B50D-DC4B0ECC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51DD-8105-4AE4-88CD-D681DD0E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2869-DA89-4B65-8E4A-2D934651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47C6B-513F-4693-AEB1-71A54587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19EB-905D-4185-888A-7D138532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D0BD-C20C-41CB-A5B8-BAD18AA0E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3BE5-BBE0-43EA-AA97-FB4303E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7E0C-D7AD-46E3-AAA3-DC8AF79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7F82-3996-4883-94A1-680352D5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EEF6-F39E-44E3-AEB6-11A59CF5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4E86-67DF-43C8-AEE8-FBFF2162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18D6-BBA2-40EC-BD7F-8B29A32DB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820-31ED-4172-8873-84EE29E9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7E0-A6AC-4DB1-8635-5FA5C56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1B6-83D9-469D-AFB9-A08ABF91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D09D-EF5A-46DE-A24A-AC5CD16F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3E34-FCA3-4670-8ED0-E0FCE631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848-F3D2-493B-9179-5707D57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4A8DE-319C-4AF6-9507-90DCE330A31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1AC5-C45D-48E4-86C8-DB937B877DE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9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More About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urry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the function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imple n a b = n * (a+b)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: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n a b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reall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((simple n) a) b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 in fully parenthesized not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:: Float -&gt;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 n ::       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imple n) a ::            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(simple n) a) b ::                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for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ultSumByFive a b = simple 5 a b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 same a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ultSumByFive     = simple 5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e of Curry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, listProd :: [Integer]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 xs        = foldr (+) 0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xs        = foldr (*) 1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           = foldr (+)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          = foldr (*)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, or :: [Bool]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 xs   = foldr (&amp;&amp;) True 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  xs   = foldr (||) False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nd      = foldr (&amp;&amp;) Tr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r       = foldr (||)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1905120" y="3048120"/>
            <a:ext cx="0" cy="45720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905120" y="5562720"/>
            <a:ext cx="0" cy="45720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1295280" y="4343400"/>
            <a:ext cx="6705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Be Careful Though ...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id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x = g (x+2) y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is not equal to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= g (x+2)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cause to do so might change the value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general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x = e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equal to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 = 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nly if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does not appear free i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mplify Defini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foldl revOp []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revOp acc x = x : ac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prelude we have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lip f x y = f y 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what is its type?)  Thu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Op acc x = flip (:) acc x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 even bett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Op = flip (: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thu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xs = foldl (flip (:)) [] x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 even bett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verse = foldl (flip (:))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nymous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 far, all of our functions have been defined using 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qua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such as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efined b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ucc x = x+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raises the question: Is it possible to define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behaves jus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but has no name?  Much in the same way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.14159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value that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answer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y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it is writte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x+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Indeed, we could rewrite the previous definition of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ucc = \x -&gt; x+1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ctions are like currying for infix operators.  For example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+5) = \x -&gt; x + 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4-) = \y -&gt; 4 – y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 in fac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cc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is jus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+1)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!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ote that sections are consistent with the fact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+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for example, is equivalent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\y -&gt; x+y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hough convenient, however, sections are less expressive than anonymous functions.  For example, it’s hard to represen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x -&gt; (x+1)/2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s a section. 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also pattern match using an anonymous function, as i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\(x:xs) -&gt; x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which is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ead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 Composi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2209320"/>
            <a:ext cx="8334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ery often we would like to combine the effects of one function with that of another. 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unction composi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accomplishes this for us, and is simply defined as the infix operat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.)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f . g) x = f (g x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.g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 same as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\x -&gt; f (g x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 composition can be used to simplify previous definitions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SquareArea side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= sumList (map squareArea sides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= (sumList . map squareArea) sides</a:t>
            </a:r>
            <a:br>
              <a:rPr sz="2000"/>
            </a:br>
            <a:br>
              <a:rPr sz="1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bining this with currying simplification yields: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SquareArea = sumList . map squareAre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4:09:18Z</dcterms:created>
  <dc:creator>Paul Hudak</dc:creator>
  <dc:description/>
  <dc:language>en-US</dc:language>
  <cp:lastModifiedBy>Paul Hudak</cp:lastModifiedBy>
  <dcterms:modified xsi:type="dcterms:W3CDTF">2004-09-17T13:02:57Z</dcterms:modified>
  <cp:revision>14</cp:revision>
  <dc:subject/>
  <dc:title>Chapter 9</dc:title>
</cp:coreProperties>
</file>