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AFA1-A6B5-49DF-A51F-98EBF514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7994-7056-49D9-8095-9366B45A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50F-BC96-44D1-BF0E-B4EF8FE1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657-2CDE-4044-B2A9-C8E76FC4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F676-B467-4C6B-BF69-8CE5C724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3F90-78CC-4536-B043-D753BC8C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F317-377B-4B01-A09D-E20FD079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D6EA6-8E74-413B-88FD-EAE53C4D2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5E83-74EC-4581-941A-831D9AB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9954-1632-431C-8F38-F8F5B849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8EC7-3265-454D-965F-B57CE1C3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63EB-C1E8-4A21-989C-AFB86425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45E3-C7D8-4D47-B791-CBAE2870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AA79-F63D-4BA5-AAFA-9AFD6A07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C172-A912-42B1-AF76-6750C359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2AB1-E01F-40C0-B9A3-AD9918C5F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8BDE-097B-4609-A520-3E9C531C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7FFA-0E93-4E14-82B6-CFAB9C0A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E4F3-1A6C-483C-8431-A93CEEA42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C11-5CA0-4A84-93CC-84F2679F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15D-39C4-451F-AB7D-DC4253068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A028-AE67-4126-8AAA-35F7DE7B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7FC1-BA26-417A-8A4F-2AE9413C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2F55-7F6A-4713-AC9E-B7A5FFEB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7DA2-3D57-4FC4-9189-91EDA0F72337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B866-A687-456A-BD25-5F5EE21DC382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5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olymorphic and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igher-Order Function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rithmetic Sequenc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pecial syntax for computing  lists with regular properti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1 .. 6]    = [1,2,3,4,5,6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1,3 .. 9]  = [1,3,5,7,9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[5,4 .. 1]  = [5,4,3,2,1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finite lists too!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ke 9 [1,3..] = [1,3,5,7,9,11,13,15,17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ke 5 [5..]   = [5,6,7,8,9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Circles = map circle [2.4, 2.1 .. 0.3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loredCircles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zip [Black,Blue,Green,Cyan,Red,Magenta,Yellow,White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Circl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Drawing Shapes" (xWin,yWi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(reverse coloredCircle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5334120" cy="46227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Resul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hen to Define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igher-Order Fun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ognizing repeating patterns is the key, as we did for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As another example, consider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[]      =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Courier New"/>
              </a:rPr>
              <a:t>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(x:xs)  = x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listSum 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Prod []     =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Courier New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Prod (x:xs) = x </a:t>
            </a:r>
            <a:r>
              <a:rPr b="1" lang="en-US" sz="2000" spc="-1" strike="noStrike" u="sng">
                <a:solidFill>
                  <a:srgbClr val="800000"/>
                </a:solidFill>
                <a:uFillTx/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listProd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e similarities.  Also note the differences (underlined), which need to become parameters to the abstracted fun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ng 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leads to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 op init []     = ini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 op init (x:xs) = x `op` fold op init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fold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s also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olymorphic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 :: (a -&gt; b -&gt; b) -&gt; b -&gt; [a] -&gt;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listProd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now be redefined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listSum  xs = fold (+) 0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listProd xs = fold (*) 1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wo Folds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re Better than On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6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predefined in Haskell, though with the nam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because it “folds from the right”.  That i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r op init (x1 : x2 : ... : xn : []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x1 `op` (x2 `op` (...(xn `op` init)...)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there is another function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foldl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ich “folds from the left”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l op init (x1 : x2 : ... : xn : []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...((init `op` x1) `op` x2)...) `op` xn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y two folds?  Because sometimes using one can be more efficient than the other.  For example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r (++) [] [x,y,z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x ++ (y ++ z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foldl (++) [] [x,y,z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(x ++ y) ++ z</a:t>
            </a:r>
            <a:br>
              <a:rPr sz="2000"/>
            </a:br>
            <a:br>
              <a:rPr sz="8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former is more efficient than the latter; but not always – sometime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more efficient tha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Choose wisely!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versing a Lis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bvious but inefficient (why?)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[] 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(x::xs) = reverse xs ++ [x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uch better (why?)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xs = rev []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where rev acc  []    = ac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rev acc (x:xs) = rev (x:acc)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looks a lot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old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Indeed, we can redefin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revers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s:</a:t>
            </a:r>
            <a:br>
              <a:rPr sz="2000"/>
            </a:br>
            <a:br>
              <a:rPr sz="8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reverse xs = foldl revOp []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where revOp a b = b : a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morphic Length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79581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      :: [a] -&gt;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[]     =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(x:xs) = 1 + length x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olymorphic functions don’t “look at” their polymorphic arguments, and thus don’t care what the type i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[1,2,3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[’a’,’b’,’c’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ngth [[2],[],[1,2,3]]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2057400"/>
            <a:ext cx="4572000" cy="914400"/>
          </a:xfrm>
          <a:prstGeom prst="wedgeRoundRectCallout">
            <a:avLst>
              <a:gd name="adj1" fmla="val -27046"/>
              <a:gd name="adj2" fmla="val 84203"/>
              <a:gd name="adj3" fmla="val 16667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” is a type variable.  It is lowercase to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distinguish it from type names,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hich are capitaliz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morphism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09640" y="2214720"/>
            <a:ext cx="7958160" cy="380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any predefined functions are polymorphic.  For exampl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++) :: [a] -&gt; [a] -&gt; [a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id   :: a -&gt; a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head :: [a] -&gt; a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tail :: [a] -&gt; [a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[]   :: [a]            -- interesting!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you can define your own as well.  For example, suppose we defin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1 x = (1,x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:type tag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1 :: a -&gt; (Int,a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189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olymorphic Data Structur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9581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olymorphism is common in data structures that “don’t care” what kind of data they contai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examples on the previous page involv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list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tuples. 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particular, note that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(:) :: a -&gt; [a] -&gt; [a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(,) :: a -&gt; b -&gt; (a,b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note the way that the tupling operator is identified – which generalizes to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,,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,,,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, etc.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we can also easily define new data structures that are polymorphic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5816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type variabl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ause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yb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o be polymorphic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Maybe a = Nothing | Just a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e types of the constructors: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othing :: Maybe a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Just :: a -&gt; Maybe a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u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Just 3        :: Maybe In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Just “x“      :: Maybe String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Just (3,True) :: Maybe (Int,Bool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Just (Just 1) :: Maybe (Maybe Int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Maybe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ay be usefu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772164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e most common use of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yb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with a function that “may” return a useful value, but may also fail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, the division operator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(/)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n Haskell will cause a run-time error if its second argument is zero.  Thus we may wish to define a “safe” division function, as follows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feDivide :: Int -&gt; Int -&gt; Maybe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feDivide x 0 = Noth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feDivide x y = Just (x/y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on Over Recursive 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1760" y="2438280"/>
            <a:ext cx="818172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call from Section 4.1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ist []  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ist (p:ps)   = trans p : transList p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List []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List (c:cs) = putChar c : putCharList c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is something strongly similar about these definitions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deed, the only thing different about them (besides the variable names) is 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vs. 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use the abstraction principle to take advantage of thi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on Yields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map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what’s different; so they should be arguments to the abstracted fun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other words, we would like to define a function called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(say) such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tra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behaves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i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putChar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behaves lik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Li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 problem: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map f []     = [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map f (x:xs) = f x : map f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iven this, it is not hard to see that we can redefin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Li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Lis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s:</a:t>
            </a:r>
            <a:br>
              <a:rPr sz="2000"/>
            </a:br>
            <a:br>
              <a:rPr sz="12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ransList   xs = map trans   x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putCharList cs = map putChar c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map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is Polymorphic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greatest thing about map is that it i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olymorphic.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Its most general (i.e. principal) type i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:: (a-&gt;b) -&gt; [a] -&gt; [b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 whatever type is instantiated for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 must be the same at both instances of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; the same is true for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, sinc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 :: Vertex -&gt; Poi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he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trans :: [Vertex] -&gt; [Point]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sinc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 :: Char -&gt; IO ()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then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p putChar :: [Char] -&gt; [IO ()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09-09T00:35:47Z</dcterms:modified>
  <cp:revision>133</cp:revision>
  <dc:subject/>
  <dc:title>Lecture #1,  Sept. 30, 1996</dc:title>
</cp:coreProperties>
</file>