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159-D999-421A-8204-23A4618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623-6E79-4094-B086-7543A1A4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633-99CD-4594-8956-E92ACED6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206B-5DC9-4749-924C-CB493A2FB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4CD7D-1394-43FC-B2DD-065854317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D9D4-3179-4029-B5DC-F9A958BF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507A-E284-4178-A7FB-BB09399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E0FC-1B9D-4494-BDC1-05AE2191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053D-A90C-4EB7-BC85-A28C730D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19D76-31EF-429C-A9BF-7FEA47C6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80846-C409-432A-84DD-087535B4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18C0-8372-4ECE-92F5-CD9ABDB4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FC8A-BDF2-4E83-91C4-2AF02E7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976E0-5061-4E51-B1BC-5C6B0E52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61C3-0AB2-4FCA-B122-747CB2C9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731B-3D29-4473-8D51-767D9A2B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B781-0C8F-49AC-B6FA-3527EEA6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821-282B-439F-BA0A-A0EDFB52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BB3D-1635-44D2-9CF7-E2F72516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48FC-EAD6-4A9A-A6E1-835785C3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4D4-53E0-4643-8AA4-49637490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7694-92B4-4871-B7F3-16D8CA82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772-B8A9-43CD-A13E-D26289B8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686-88DD-423F-9430-7F3D286F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884B-00F2-4548-AE36-C4260566FB25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E4D13-5F56-4115-B8FA-D5A0DEE1715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4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hapes II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Drawing Shape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ome Test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1,sh2,sh3,sh4 :: Shap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1 = Rectangle 3 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2 = Ellipse 1 1.5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3 = RtTriangle 3 2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h4 = Polygon [(-2.5,2.5), (-1.5,2.0)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-1.1,0.2), (-1.7,-1.0)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(-3.0,0)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958160" cy="31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ing Shapes"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Red  (shapeToGraphic sh1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Blue (shapeToGraphic sh2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5334120" cy="46227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Multiple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2437920"/>
            <a:ext cx="795816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ype ColoredShapes = [(Color,Shape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s :: ColoredSha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s  = [(Red,sh1),(Blue,sh2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Yellow,sh3),(Magenta,sh4)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:: Window -&gt; ColoredShapes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[]  = return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((c,s):c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do 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c (shapeToGraphic s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ultiple Shapes, cont’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14800" y="21333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"Drawing Shapes“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(xWin,yWin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Shapes w sh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52280" y="2909880"/>
            <a:ext cx="43434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all the Shape Data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90360" y="2438280"/>
            <a:ext cx="74199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ata Shape = Rectangle Side Side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Ellipse Radius Radiu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RtTriangle Side Side   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| Polygon [ Vertex ]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Vertex = (Float,Float)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Side   =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ype Radius =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perties of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Note that some shapes are position independent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ectangle Side Sid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tTriangle Side Side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Ellipse Radius Radius</a:t>
            </a:r>
            <a:br>
              <a:rPr sz="2400"/>
            </a:b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 the other hand, a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olygon [Vertex]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defined in terms of where it appears in the plane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shape’s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Radiu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re measured in inches.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On the other hand, the Windows-based drawing mechanism of the last chapter was based on pixel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sidera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here do we draw position-independent shape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andomly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upper left corner (the window origin)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the middle of the window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choose the last option above, by defining the middle of the window as 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rigin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f a standard Cartesian coordinate system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o our new coordinate system has both a different notion of “origin” (middle vs. top-left) and of “units” (inches vs. pixels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will need to defin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coerc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tween these two coordinate system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ordinate Syste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105000" y="2633760"/>
            <a:ext cx="2934000" cy="3114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3124080" y="1676520"/>
            <a:ext cx="0" cy="510516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"/>
          <p:cNvSpPr/>
          <p:nvPr/>
        </p:nvSpPr>
        <p:spPr>
          <a:xfrm>
            <a:off x="1143000" y="2819520"/>
            <a:ext cx="57150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215280" y="236520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Window Coordinate System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2209680"/>
            <a:ext cx="0" cy="43434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4191120"/>
            <a:ext cx="6248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6171840" y="373392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Shape Coordinate System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6155280" y="5334120"/>
            <a:ext cx="165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200,200)</a:t>
            </a: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pixel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or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1,-1)</a:t>
            </a: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inche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5638680"/>
            <a:ext cx="152280" cy="1526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538000" y="28195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985920" y="41911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6051600" y="28195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200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2241360" y="556272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Comic Sans MS"/>
              </a:rPr>
              <a:t>(0,20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027480" y="41911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455200" y="419112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-1,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4579560" y="236232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1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4588920" y="57150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mic Sans MS"/>
              </a:rPr>
              <a:t>(0,-1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Units Coerc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chToPixel  :: Float -&gt; In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chToPixel x = round (100*x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ixelToInch  :: Int -&gt;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pixelToInch n = intToFloat n / 100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ToFloat   :: Int -&gt; Floa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ntToFloat  n = fromInteger (toInteger n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77724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, yWin ::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 = 6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 = 50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2, yWin2 :: 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xWin2 = xWin `div` 2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2 = yWin `div` 2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ans (x,y) = ( xWin2 + inchToPixel x,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yWin2 - inchToPixel y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on Coerc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29400" y="2709720"/>
            <a:ext cx="2181240" cy="221328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781680" y="2286000"/>
            <a:ext cx="1800" cy="297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5410080" y="3809880"/>
            <a:ext cx="3048120" cy="1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6781680" y="35053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omic Sans MS"/>
              </a:rPr>
              <a:t>(xWin2,yWin2)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7315200" y="49528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Comic Sans MS"/>
              </a:rPr>
              <a:t>(xWin,yWin)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7840800" y="4844880"/>
            <a:ext cx="112680" cy="10800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"/>
          <p:cNvSpPr/>
          <p:nvPr/>
        </p:nvSpPr>
        <p:spPr>
          <a:xfrm>
            <a:off x="6705720" y="3733920"/>
            <a:ext cx="114120" cy="1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ng Point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 :: Vertex -&gt; Poin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 (x,y) = ( xWin2 + inchToPixel x,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yWin2 - inchToPixel y 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      :: [Vertex] -&gt; [Point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[]     = []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ansList (p:ps) = trans p : transList p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anslating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:: Shape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Rectangle s1 s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let s12 = s1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22 = s2/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in polygon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transList [(-s12,-s22),(-s12,s22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(s12,s22),  (s12,-s22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Ellipse r1 r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ellipse (trans (-r1,-r2)) (trans (r1,r2)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RtTriangle s1 s2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polygon (transList [(0,0),(s1,0),(0,s2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shapeToGraphic (Polygon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= polygon (transList pts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6324480" y="2057400"/>
            <a:ext cx="2590920" cy="1371600"/>
          </a:xfrm>
          <a:prstGeom prst="wedgeRoundRectCallout">
            <a:avLst>
              <a:gd name="adj1" fmla="val -67648"/>
              <a:gd name="adj2" fmla="val 28240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Note: first two are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position independent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and centered about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the origi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19T21:15:59Z</cp:lastPrinted>
  <dcterms:modified xsi:type="dcterms:W3CDTF">2004-09-06T12:49:44Z</dcterms:modified>
  <cp:revision>103</cp:revision>
  <dc:subject/>
  <dc:title>Lecture #1,  Sept. 30, 1996</dc:title>
</cp:coreProperties>
</file>