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81B9-5FF1-4ED1-85E3-9C5F5C64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7FB1-1A67-47F7-A3E4-26CDC6F5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8063-27BF-475D-A61A-82985B1F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C099-1AE8-4FDB-BD2D-9E4905C6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A5C1-DF85-4700-9596-C70BFB1E4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D94B-C8F8-4157-9022-B153EEF7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C2BF-ABF3-4B1B-B039-17EAA658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27C3-4841-4C44-96AA-A8DBFDDA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6C5E-8390-4068-9AD3-3630949D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0715-A21F-48CD-8B71-31EE9025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6D88-6B34-4910-B0C8-0570027D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6CC4-EE35-4FEE-B90E-0CE08F7B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B484-BBF8-437E-80FB-E8436C71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9F5C-7DA0-4805-9261-B25BC873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34AF-2E67-4034-8014-2BDEF247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9131-5617-4BDF-9224-FCBAABC0F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2BF9-A15F-499E-B5D9-E07EC048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7ED0-B963-4B34-B8D9-9EB6C7C7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7A6-AB93-49AA-888B-F44E5F19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5AE6-62B8-4156-9998-0F803E88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F4B-B942-47D5-A9C7-EA5B1976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12ED-FD50-4327-9602-7309C43D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7CFD-71EF-4055-A0FA-61A7C04B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F934-695D-4BEE-AA2D-AE42CEA8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CEF4-9A52-48AB-AA7B-F7475A4853D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3D05-5ADF-4104-B639-3F2396196E0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3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mple Graphic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mplement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343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cf :: (Int,Int,Int) -&gt; String -&gt; (Int,Int,Int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cf (cc,w,lc) []          = (cc,w,lc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cf (cc,w,lc) (' '  : xs) = wcf (cc+1,w+1,lc) x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cf (cc,w,lc) ('\t' : xs) = wcf (cc+1,w+1,lc) x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cf (cc,w,lc) ('\n' : xs) = wcf (cc+1,w+1,lc+1) x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cf (cc,w,lc) (x : xs)    = wcf (cc+1,w,lc) x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c :: IO (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c = do name     &lt;- getLine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ontents &lt;- readFile name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let (cc,w,lc) = wcf (0,0,0) content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utStrLn (“The file: “ ++ name ++ “has “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utStrLn (show cc ++ “ characters “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utStrLn (show w  ++ “ words “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utStrLn (show lc ++ “ lines “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 Ru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958160" cy="357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Main&gt; wc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elegantProse.txt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he file: elegantProse.txt has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2970 characters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1249 words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141 lines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Main&gt;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5638680" y="2362320"/>
            <a:ext cx="2057400" cy="380880"/>
          </a:xfrm>
          <a:prstGeom prst="wedgeRectCallout">
            <a:avLst>
              <a:gd name="adj1" fmla="val -112500"/>
              <a:gd name="adj2" fmla="val 224166"/>
            </a:avLst>
          </a:prstGeom>
          <a:noFill/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 typed thi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Graphics Ac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818208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Graphics windows are traditionally programmed using commands; i.e. actions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ome graphics actions relate to opening up a graphics window, closing it, etc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Others are associated with drawing lines, circles, text, etc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Hello World” program using Graphics Library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80880" y="4495680"/>
            <a:ext cx="845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mport SOEGraphic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in0 =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unGraphics $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 w &lt;- openWindow "First window" (300,300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InWindow w (text (100,200) "hello world"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k &lt;- getKey 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loseWindow 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733920" y="2286000"/>
            <a:ext cx="4572000" cy="30542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14400" y="2209680"/>
            <a:ext cx="2209680" cy="1752840"/>
          </a:xfrm>
          <a:prstGeom prst="wedgeRoundRectCallout">
            <a:avLst>
              <a:gd name="adj1" fmla="val -16884"/>
              <a:gd name="adj2" fmla="val 81157"/>
              <a:gd name="adj3" fmla="val 16667"/>
            </a:avLst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This imports a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library,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SOEGraphics,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which contains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many functions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Graphics Operator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958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openWindow :: String -&gt; Point -&gt; IO Windo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pens a titled window of a particular siz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InWindow :: Window -&gt; Graphic -&gt;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isplays a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raphic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value in a given window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e that the return type is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O ()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etKey :: Window -&gt; IO Cha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aits until a key is pressed and then returns the character associated with the key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loseWindow :: Window -&gt;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loses the window (duh…)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ixing Graphics IO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with Terminal IO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paceClose :: Window -&gt;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paceClose w =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 k &lt;- getKey 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k == ' ' then closeWindow 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lse spaceClose w</a:t>
            </a:r>
            <a:br>
              <a:rPr sz="2000"/>
            </a:b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in1 =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unGraphics $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 w &lt;- openWindow "Second Program" (300,300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InWindow w (text (100,200) “Hello Again"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paceClose 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rawing Primitive Shap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1536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Graphics libraries contain simple actions for drawing a few primitive shapes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llipse      :: Point -&gt; Point -&gt; Graphic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hearEllipse :: Point -&gt; Point -&gt; Point -&gt; Graphic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ne         :: Point -&gt; Point -&gt; Graphic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olygon      :: [Point] -&gt; Graphic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olyline     :: [Point] -&gt; Graphic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rom these we will build much more complex drawing program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ordinate System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2514600" y="3048120"/>
            <a:ext cx="4800600" cy="32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1372320" y="2590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(0,0)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2743200"/>
            <a:ext cx="4648320" cy="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0" y="3048120"/>
            <a:ext cx="0" cy="33526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540600" y="2286000"/>
            <a:ext cx="19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Increasing  x-axis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 rot="5400000">
            <a:off x="1020960" y="4573080"/>
            <a:ext cx="19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Increasing  y-axis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lor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withColor :: Color -&gt; Graphic -&gt; Graphic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Color =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lack | Blue | Green | Cyan |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d | Magenta | Yellow | Whit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 Program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790640"/>
            <a:ext cx="8458200" cy="506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in2 =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unGraphics $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 w &lt;- openWindow "Draw some shapes" (300,300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InWindow w (ellipse (0,0) (50,50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InWindow w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shearEllipse (0,60) (100,120) (150,200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InWindow 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withColor Red (line (200,200) (299,275)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InWindow w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polygon [(100,100),(150,100),(160,200)]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InWindow w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withColor Green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polyline [(100,200),(150,200),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160,299),(100,200)]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paceClose 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ide Effects and Haskell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280" y="2214360"/>
            <a:ext cx="8334360" cy="43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ll the programs we have seen so far have no “side-effects.”  That is, programs are executed only for their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value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ut sometimes we want our programs to effect the real world (printing, controlling a robot, drawing a picture, etc)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ow do we reconcile these two competing properties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 Haskell, “pure values” are separated from “worldly actions”, in two ways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mic Sans MS"/>
              </a:rPr>
              <a:t>Type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  An expression with type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O 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has possible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action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ssociated with its execution, while returning a value of typ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Comic Sans MS"/>
              </a:rPr>
              <a:t>Syntax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  The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syntax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perform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n action, and (using layout) allows one to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sequence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veral action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Resul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4800600" y="2286000"/>
            <a:ext cx="4019400" cy="42670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9480" y="1873080"/>
            <a:ext cx="38862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; drawInWindow w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ellipse (0,0) (50,50)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; drawInWindow w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shearEllipse (0,60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100,120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     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150,200)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; drawInWindow w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withColor Red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line (200,200)                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299,275))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; drawInWindow w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polygon [(100,100),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 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150,100),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 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160,200)]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; drawInWindow w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withColor Green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polyline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[(100,200),(150,200),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66"/>
                </a:solidFill>
                <a:latin typeface="Courier New"/>
              </a:rPr>
              <a:t>(160,299),(100,200)])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More Complex Program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440" y="2367000"/>
            <a:ext cx="4800600" cy="42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We’d like to build bigger programs from these small piece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Sierpinski’s Triangle – a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fractal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nsisting of repeated drawing of a triangle at successively smaller size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s before, a key idea is separating pure computation from graphics action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5257800" y="2590920"/>
            <a:ext cx="37130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4792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Geometry of One Triang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5" name=""/>
          <p:cNvSpPr/>
          <p:nvPr/>
        </p:nvSpPr>
        <p:spPr>
          <a:xfrm>
            <a:off x="4747680" y="2513160"/>
            <a:ext cx="21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size</a:t>
            </a:r>
            <a:r>
              <a:rPr b="1" lang="en-US" sz="1600" spc="-1" strike="noStrike" baseline="30000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 +  size</a:t>
            </a:r>
            <a:r>
              <a:rPr b="1" lang="en-US" sz="1600" spc="-1" strike="noStrike" baseline="30000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  = hyp</a:t>
            </a:r>
            <a:r>
              <a:rPr b="1" lang="en-US" sz="1600" spc="-1" strike="noStrike" baseline="30000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28600" y="2590920"/>
            <a:ext cx="2514600" cy="914400"/>
          </a:xfrm>
          <a:prstGeom prst="wedgeEllipseCallout">
            <a:avLst>
              <a:gd name="adj1" fmla="val 65592"/>
              <a:gd name="adj2" fmla="val 45314"/>
            </a:avLst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mic Sans MS"/>
              </a:rPr>
              <a:t>Remember that </a:t>
            </a:r>
            <a:r>
              <a:rPr b="1" lang="en-US" sz="1400" spc="-1" strike="noStrike">
                <a:solidFill>
                  <a:srgbClr val="800000"/>
                </a:solidFill>
                <a:latin typeface="Comic Sans MS"/>
              </a:rPr>
              <a:t>y</a:t>
            </a:r>
            <a:r>
              <a:rPr b="1" lang="en-US" sz="1400" spc="-1" strike="noStrike">
                <a:solidFill>
                  <a:srgbClr val="003366"/>
                </a:solidFill>
                <a:latin typeface="Comic Sans MS"/>
              </a:rPr>
              <a:t> increases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Comic Sans MS"/>
              </a:rPr>
              <a:t>as we go down the page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4249800" y="327672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hyp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5034960" y="4267080"/>
            <a:ext cx="19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(x+size/2,y-size/2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9" name=""/>
          <p:cNvSpPr/>
          <p:nvPr/>
        </p:nvSpPr>
        <p:spPr>
          <a:xfrm>
            <a:off x="3216240" y="2409840"/>
            <a:ext cx="3124080" cy="380988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0" name=""/>
          <p:cNvSpPr/>
          <p:nvPr/>
        </p:nvSpPr>
        <p:spPr>
          <a:xfrm>
            <a:off x="2108160" y="220968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(x,y-size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>
            <a:off x="4816440" y="4359240"/>
            <a:ext cx="76320" cy="7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4816440" y="4435560"/>
            <a:ext cx="0" cy="1784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215880" y="4435560"/>
            <a:ext cx="160020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4" name=""/>
          <p:cNvSpPr/>
          <p:nvPr/>
        </p:nvSpPr>
        <p:spPr>
          <a:xfrm>
            <a:off x="3216240" y="4435560"/>
            <a:ext cx="1600200" cy="1784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5" name=""/>
          <p:cNvSpPr/>
          <p:nvPr/>
        </p:nvSpPr>
        <p:spPr>
          <a:xfrm>
            <a:off x="1741680" y="4267080"/>
            <a:ext cx="125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(x,y-size/2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2537640" y="60199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(x,y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7" name=""/>
          <p:cNvSpPr/>
          <p:nvPr/>
        </p:nvSpPr>
        <p:spPr>
          <a:xfrm>
            <a:off x="6426360" y="6019920"/>
            <a:ext cx="110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(x+size,y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4155120" y="6172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mic Sans MS"/>
              </a:rPr>
              <a:t>(x+size/2,y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raw 1 Triang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illTri x y size w =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rawInWindow 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withColor Blu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polygon [(x,y),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x+size,y),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(x,y-size)]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inSize = 8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>
            <a:off x="6095880" y="2286000"/>
            <a:ext cx="2819520" cy="289548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509440" y="518148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(x,y)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3" name=""/>
          <p:cNvSpPr/>
          <p:nvPr/>
        </p:nvSpPr>
        <p:spPr>
          <a:xfrm>
            <a:off x="7238880" y="51814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size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5562720" y="32767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Comic Sans MS"/>
              </a:rPr>
              <a:t>size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800" y="2590920"/>
            <a:ext cx="8610480" cy="4076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erpinskiTri w x y size =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size &lt;= minSiz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hen fillTri x y size 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lse let size2 = size `div` 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 do sierpinskiTri w x y size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erpinskiTri w x (y-size2) size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erpinskiTri w (x+size2) y size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main3 =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unGraphics $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 w &lt;- openWindow "Sierpinski's Tri" (400,400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ierpinskiTri w 50 300 256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28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paceClose 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Sierpinski’s Triangle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7" name=""/>
          <p:cNvSpPr/>
          <p:nvPr/>
        </p:nvSpPr>
        <p:spPr>
          <a:xfrm>
            <a:off x="7083360" y="2073240"/>
            <a:ext cx="1384200" cy="168768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8" name=""/>
          <p:cNvSpPr/>
          <p:nvPr/>
        </p:nvSpPr>
        <p:spPr>
          <a:xfrm>
            <a:off x="6356520" y="2057400"/>
            <a:ext cx="72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Comic Sans MS"/>
              </a:rPr>
              <a:t>(x,y-size)</a:t>
            </a: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9" name=""/>
          <p:cNvSpPr/>
          <p:nvPr/>
        </p:nvSpPr>
        <p:spPr>
          <a:xfrm>
            <a:off x="7791480" y="2936880"/>
            <a:ext cx="34920" cy="33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0" name=""/>
          <p:cNvSpPr/>
          <p:nvPr/>
        </p:nvSpPr>
        <p:spPr>
          <a:xfrm>
            <a:off x="7791480" y="2970360"/>
            <a:ext cx="0" cy="7905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7083000" y="2970360"/>
            <a:ext cx="7081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2" name=""/>
          <p:cNvSpPr/>
          <p:nvPr/>
        </p:nvSpPr>
        <p:spPr>
          <a:xfrm>
            <a:off x="7083360" y="2970360"/>
            <a:ext cx="708120" cy="7905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6213960" y="2895480"/>
            <a:ext cx="84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Comic Sans MS"/>
              </a:rPr>
              <a:t>(x,y-size/2)</a:t>
            </a: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4" name=""/>
          <p:cNvSpPr/>
          <p:nvPr/>
        </p:nvSpPr>
        <p:spPr>
          <a:xfrm>
            <a:off x="6643800" y="3581280"/>
            <a:ext cx="44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Comic Sans MS"/>
              </a:rPr>
              <a:t>(x,y)</a:t>
            </a: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8246520" y="3733920"/>
            <a:ext cx="75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Comic Sans MS"/>
              </a:rPr>
              <a:t>(x+size,y)</a:t>
            </a: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6" name=""/>
          <p:cNvSpPr/>
          <p:nvPr/>
        </p:nvSpPr>
        <p:spPr>
          <a:xfrm>
            <a:off x="7341840" y="3733920"/>
            <a:ext cx="88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0000"/>
                </a:solidFill>
                <a:latin typeface="Comic Sans MS"/>
              </a:rPr>
              <a:t>(x+size/2,y)</a:t>
            </a: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Sample Effects or Ac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tat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Intuitively, some programs have state that changes over tim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xception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re may be an error instead of a final valu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n-determinism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re may be multiple possible final value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mmunicat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re may be external influence on the computatio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erform some Input or Output, as well as a final valu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.g., draw graphics on a display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</a:t>
            </a:r>
            <a:r>
              <a:rPr b="1" lang="en-US" sz="4400" spc="-1" strike="noStrike">
                <a:solidFill>
                  <a:srgbClr val="800000"/>
                </a:solidFill>
                <a:latin typeface="Courier New"/>
              </a:rPr>
              <a:t>do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Syntax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2285640"/>
            <a:ext cx="79581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Le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c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be an action with typ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O 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n we can perform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c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retrieve its return value, and sequence it with other actions, by using th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syntax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 val &lt;- act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...        -- the next action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...        -- the action following that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return x   -- final action may return a value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ote that all actions following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val &lt;- ac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can use the variabl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val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function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akes a value of typ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and turns it into an action of typ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O 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, which does nothing but return the valu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5248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"/>
          <p:cNvSpPr/>
          <p:nvPr/>
        </p:nvSpPr>
        <p:spPr>
          <a:xfrm>
            <a:off x="1600200" y="4038480"/>
            <a:ext cx="35686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0" name=""/>
          <p:cNvSpPr/>
          <p:nvPr/>
        </p:nvSpPr>
        <p:spPr>
          <a:xfrm>
            <a:off x="2514600" y="3352680"/>
            <a:ext cx="6094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ourier New"/>
              </a:rPr>
              <a:t>do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Syntax Detail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2" name=""/>
          <p:cNvSpPr/>
          <p:nvPr/>
        </p:nvSpPr>
        <p:spPr>
          <a:xfrm>
            <a:off x="1523880" y="2286000"/>
            <a:ext cx="1752840" cy="380880"/>
          </a:xfrm>
          <a:prstGeom prst="wedgeRectCallout">
            <a:avLst>
              <a:gd name="adj1" fmla="val -28259"/>
              <a:gd name="adj2" fmla="val 229999"/>
            </a:avLst>
          </a:prstGeom>
          <a:solidFill>
            <a:srgbClr val="cc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:: Integ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"/>
          <p:cNvSpPr/>
          <p:nvPr/>
        </p:nvSpPr>
        <p:spPr>
          <a:xfrm>
            <a:off x="1600200" y="4419720"/>
            <a:ext cx="356868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2286000"/>
            <a:ext cx="2210040" cy="380880"/>
          </a:xfrm>
          <a:prstGeom prst="wedgeRectCallout">
            <a:avLst>
              <a:gd name="adj1" fmla="val -71194"/>
              <a:gd name="adj2" fmla="val 233750"/>
            </a:avLst>
          </a:prstGeom>
          <a:solidFill>
            <a:srgbClr val="cc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:: IO Integ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3352680"/>
            <a:ext cx="2666880" cy="1219320"/>
          </a:xfrm>
          <a:prstGeom prst="wedgeRectCallout">
            <a:avLst>
              <a:gd name="adj1" fmla="val -90296"/>
              <a:gd name="adj2" fmla="val 16796"/>
            </a:avLst>
          </a:prstGeom>
          <a:solidFill>
            <a:srgbClr val="cc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::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(actions without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3366"/>
                </a:solidFill>
                <a:latin typeface="Courier New"/>
              </a:rPr>
              <a:t>v &lt;- …”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usually have this type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6" name=""/>
          <p:cNvSpPr/>
          <p:nvPr/>
        </p:nvSpPr>
        <p:spPr>
          <a:xfrm>
            <a:off x="4419720" y="5334120"/>
            <a:ext cx="3200400" cy="1218960"/>
          </a:xfrm>
          <a:prstGeom prst="wedgeRectCallout">
            <a:avLst>
              <a:gd name="adj1" fmla="val -70388"/>
              <a:gd name="adj2" fmla="val -99611"/>
            </a:avLst>
          </a:prstGeom>
          <a:solidFill>
            <a:srgbClr val="cc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:: IO Integ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(the type of the last action also determines the type of the entire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do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expression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"/>
          <p:cNvSpPr/>
          <p:nvPr/>
        </p:nvSpPr>
        <p:spPr>
          <a:xfrm>
            <a:off x="1752480" y="365760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3657600"/>
            <a:ext cx="1523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4191120"/>
            <a:ext cx="1295640" cy="380880"/>
          </a:xfrm>
          <a:prstGeom prst="wedgeRectCallout">
            <a:avLst>
              <a:gd name="adj1" fmla="val 71324"/>
              <a:gd name="adj2" fmla="val -152083"/>
            </a:avLst>
          </a:prstGeom>
          <a:solidFill>
            <a:srgbClr val="cc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:: Cha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>
            <a:off x="4267080" y="2895480"/>
            <a:ext cx="1752840" cy="381240"/>
          </a:xfrm>
          <a:prstGeom prst="wedgeRectCallout">
            <a:avLst>
              <a:gd name="adj1" fmla="val -62773"/>
              <a:gd name="adj2" fmla="val 147083"/>
            </a:avLst>
          </a:prstGeom>
          <a:solidFill>
            <a:srgbClr val="cccc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:: IO Cha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94920" y="3276360"/>
            <a:ext cx="495324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 x &lt;- f 5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 &lt;- getChar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utChar c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(x + 4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When IO Actions are Performe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95816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A value of type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IO a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s an action, but it is still a value: it will only have an effect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when it is performed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Haskell, a program’s value is the value of the variable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n the module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  If that value has type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IO a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, then it will be performed, since it is an action.  If it has any other type, its value is simply printed on the display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Hugs, however, you can type any expression to the Hugs prompt.  E.g., for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above, if the expression has type 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IO a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t will be performed, otherwise its value will be printed on the display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redefined IO Ac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95816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-- get one character from keyboard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etChar :: IO Cha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-- write one character to termina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utChar :: Char -&gt;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-- get a whole line from keyboard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etLine :: IO String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-- read a file as a String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adFile :: FilePath -&gt; IO String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-- write a String to a fil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writeFile :: FilePath -&gt; String -&gt; IO (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Recursive Actio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534520" cy="388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etLine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an be defined recursively in terms of simpler actions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etLine :: IO String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getLine =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o c &lt;- getChar        -- get a charact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c == '\n'        -- if it’s a newlin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hen return ""   -- then return empty string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lse do l &lt;- getLine –- otherwise get rest of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-- line recursively,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(c:l)  -- and return entire lin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: Unix wc Command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unix wc (word count) program reads a file and then prints out counts of characters, words, and line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Reading the file is an action, but computing the information is a pure computatio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trategy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efine a pure function that counts the number of characters, words, and lines in a string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umber of lines = number of ‘\n’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number of words ~= number of  ‘  ’  plus number of ‘\t’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efine an action that reads a file into a string, applies the above function, and then prints out the result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Paul Hudak</dc:creator>
  <dc:description/>
  <dc:language>en-US</dc:language>
  <cp:lastModifiedBy>Paul Hudak</cp:lastModifiedBy>
  <cp:lastPrinted>1999-10-07T20:38:26Z</cp:lastPrinted>
  <dcterms:modified xsi:type="dcterms:W3CDTF">2004-09-03T13:22:55Z</dcterms:modified>
  <cp:revision>118</cp:revision>
  <dc:subject/>
  <dc:title>SOE: Chapter 3</dc:title>
</cp:coreProperties>
</file>