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280525" cy="6991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16AB-A16F-4142-BB5F-0B4704FF3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E369-F672-4725-8E5D-A39829B9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B89F-EC29-442A-840C-BE97382E3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51F7-2DD8-4474-B291-5F24174F7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7378-65BA-4935-9F0B-99CB01D5A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EDE7-873B-4040-82A6-30ADBBBA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BD2E-E4F1-43D7-9352-E70E8F74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5AB9-2F28-456A-90FF-7A6C51BD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B62F-D936-4945-9944-DF174ED5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AB91-F325-40EF-8C40-5EBE726D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0BDE-4779-4C91-B556-7A6E978D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3963-6713-498C-9F0A-844A27F1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E6E3-6EC1-499F-A3FF-5603FF90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0B18-613F-438A-8991-CD555AC8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E2C8-0909-4A86-BD85-41948EB8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86B1-16CC-4DFE-B1B1-A3DD53300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EEEE-E467-4B7C-BB36-DCF3444C3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8AAD-D14D-4E93-9EE0-C1221718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0C27-CBCE-409A-831A-52D7E7AF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6F5E-8108-4987-9E22-B53CED3B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B5C3-68C4-4011-B42F-52052DB0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2C7E-AD21-4038-93BD-ADEE0BB6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D160-9809-4E40-A22D-8F305BBE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BEBE-B078-44F1-82AF-4B01AAF9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C17C-F3EF-486D-A408-85594CB1AF4A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0C01-ACCF-49A6-BCD3-908B81514EB0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hapter 17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Rendering Reactive Animations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Motivat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958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 the previous chapter we learned just enough about advanced IO and concurrency to develop a “renderer” for FAL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at renderer is called “reactimate”, and has type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actimate :: String -&gt; Behavior a -&gt; (a -&gt; IO Graphic) -&gt; IO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But first, we need a way to extract an infinite stream of time-stamped user actions from the operating system.  We want the values in the stream to be: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Just ua” if there is a user action “ua” present at the time we ask for it, and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othing” if there is not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windowUser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stream of user actions will be supplied by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indowUser ::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Window -&gt; IO (([Maybe UserAction],[Time]), IO ()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Executing the command: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(us,ts), addEvents) &lt;- windowUser w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yields a user action stream “us” and a time stream “ts”.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lso yields an IO action “addEvents” that causes the OS to update “us” with whatever user actions happen to be pending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at that tim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 followed by a “Nothing”.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Note: “addEvents” is an IO action – it does nothing until executed.  “reactimate” will call windowUser, process all user actions in “us” until it sees “Nothing”, then execute “addEvents”, and repeat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Using First-Class Channel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indowUser” will use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first-class channels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s a helper function, we define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akeStream :: IO ([a], a -&gt; IO ()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akeStream =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o ch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&lt;- newCha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contents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&lt;- getChanContents ch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return (contents, writeChan ch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makeStream” creates a new channel, converts its contents into a stream using “getChannelContents”, and returns that stream along with a function to write into the channel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Definition of windowUser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958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indowUser :: Window -&gt; IO (([Maybe UserAction],[Time]), IO ()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indowUser w =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o (evs, addEv) &lt;- makeStream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t0 &lt;- timeGetTim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let loop rt =  do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ev &lt;- maybeGetWindowEvent w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ase mev of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othing -&gt; return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Just e   -&gt; do addEv (Just e, rt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oop r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let addEvents = do t &lt;- timeGetTim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let rt = w32ToTime (t-t0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loop r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addEv (Nothing, rt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return ((map fst evs, map snd evs), addEvents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32ToTime t = intToFloat (word32ToInt t) / 1000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Turning Nothing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into Something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Recall that the non-occurrence of an event corresponds to a time when we wish to sample the picture.  So we need to convert non-occurrences into occurrences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ample :: Event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ample = Event (\(us,_) -&gt; map aux us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here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ux Nothing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Just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ux (Just _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Nothing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n, for a given FAL program “franProg”, we can describe the individual picture values that we want as an event stream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ample `snapshot_` franProg   ::  Event Pictur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s leads finally to the definition of “reactimate”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Reactimat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09640" y="2057400"/>
            <a:ext cx="7958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actimate :: String -&gt; Behavior a -&gt; (a -&gt; IO Graphic) -&gt; IO (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actimate title franProg toGraphic =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unGraphics $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o w &lt;- openWindowEx title (Just (0,0)) (Just (xWin,yWin)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drawBufferedGraphic (Just 30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(user, addEvents) &lt;- windowUser w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addEvents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let drawPic (Just p) = do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g &lt;- toGraphic p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setGraphic w g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addEvents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getWindowTick w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drawPic Nothing  = return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mapM_ drawPic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runEvent (sample `snapshot_` franProg) user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unEvent (Event fe) u = fe u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9T22:47:58Z</dcterms:created>
  <dc:creator>Tim Sheard</dc:creator>
  <dc:description/>
  <dc:language>en-US</dc:language>
  <cp:lastModifiedBy>Paul Hudak</cp:lastModifiedBy>
  <cp:lastPrinted>1999-10-07T20:38:26Z</cp:lastPrinted>
  <dcterms:modified xsi:type="dcterms:W3CDTF">2004-10-22T14:03:26Z</dcterms:modified>
  <cp:revision>235</cp:revision>
  <dc:subject/>
  <dc:title>Lecture #1,  Sept. 30, 1996</dc:title>
</cp:coreProperties>
</file>