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7C1A-5BE0-47C3-A46B-301F2564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228-F956-481D-842C-3343211B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38AF-E00A-42C0-88CD-6FE4EC98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EF76-F1D3-43E7-BF2C-90782AB25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905E-2AE9-4A63-81D6-8C03ED90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4F7F-D5D0-4329-ADDC-B5568581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F65D-B6F6-482D-9FDE-8FB073AF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F98C-8DF0-4E1D-A55D-5D844C47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0801C-A395-4C3D-8BC6-ED34CC9E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D6FF-6BEB-482C-9333-788C1F01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8C29-D5F6-475E-82C5-FDD2DE4F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6C06-5516-4CA5-9D0B-50FE42B8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B8DC-4789-4AA6-B88A-48E9ADCD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1B4E-6A4E-47FA-83F3-768CF0E2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7700-DA21-418D-BC87-920D3936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817E-CF3E-4AD4-987B-B07B4402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7C91-48D8-4668-AC31-3A06DDA5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72CB-47C5-4CDA-9AE7-01B4251E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7A2D-ED45-43A1-AB74-85458524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51CF-A179-4E76-9732-CAEC0F2E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6F2A-4480-44C8-B68D-16362E55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FF47-2056-4DC2-9D7B-4030E9F5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69DC-77FE-41A3-9A97-11956FF4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DE28-F145-4469-BDFB-9C5E9B45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4370-0E05-4C00-9DFF-5F27206A8EAA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6153-E031-4453-A66C-C7D2B27DC37D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2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A Module of Shapes: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Part I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Functions over </a:t>
            </a:r>
            <a:r>
              <a:rPr b="1" lang="en-US" sz="4400" spc="-1" strike="noStrike">
                <a:solidFill>
                  <a:srgbClr val="800000"/>
                </a:solidFill>
                <a:latin typeface="Courier New"/>
              </a:rPr>
              <a:t>shap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unctions on shapes can be defined using pattern matching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area :: Shape -&gt; Float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area (Rectangle s1 s2)  =  s1*s2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area (Ellipse r1 r2)    =  pi*r1*r2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area (RtTriangle s1 s2) = (s1*s2)/2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area (Polygon (v1:pts)) =  polyArea pts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where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polyArea :: [(Float,Float)] -&gt; Float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polyArea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(v2:v3:vs)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= triArea v1 v2 v3 +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        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polyArea (v3:vs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polyArea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_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       = 0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ote use of auxiliary function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ote use of nested pattern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Note use of wild card pattern (which matches anything)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362320" y="3200400"/>
            <a:ext cx="4724280" cy="3048120"/>
          </a:xfrm>
          <a:custGeom>
            <a:avLst/>
            <a:gdLst/>
            <a:ahLst/>
            <a:rect l="l" t="t" r="r" b="b"/>
            <a:pathLst>
              <a:path w="4176" h="3216">
                <a:moveTo>
                  <a:pt x="1104" y="0"/>
                </a:moveTo>
                <a:lnTo>
                  <a:pt x="3600" y="384"/>
                </a:lnTo>
                <a:lnTo>
                  <a:pt x="4176" y="2160"/>
                </a:lnTo>
                <a:lnTo>
                  <a:pt x="2160" y="3216"/>
                </a:lnTo>
                <a:lnTo>
                  <a:pt x="528" y="2160"/>
                </a:lnTo>
                <a:lnTo>
                  <a:pt x="0" y="960"/>
                </a:lnTo>
                <a:lnTo>
                  <a:pt x="1104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3354480" y="289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>
            <a:off x="6402240" y="3276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7012080" y="5181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>
            <a:off x="4802040" y="6248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>
            <a:off x="2668320" y="51814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2135520" y="38098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3581280" y="3200400"/>
            <a:ext cx="3505320" cy="205740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228600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totalArea = area (triangle [A,B,C])  +  area (polygon[A,C,D,E,F]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3785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lgorithm for Computing Area of Polyg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riArea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371240" y="2209680"/>
            <a:ext cx="65818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riArea v1 v2 v3 =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et a = distBetween v1 v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 = distBetween v2 v3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 = distBetween v3 v1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 = 0.5*(a+b+c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n sqrt (s*(s-a)*(s-b)*(s-c)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istBetween (x1,y1) (x2,y2)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= sqrt ((x1-x2)^2 + (y1-y2)^2)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efining New Datatyp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ability to define new data types in a programming language is important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Kinds of data types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enumerated type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record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(or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product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variant record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(or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sum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recursive type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askell’s  </a:t>
            </a: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data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declaration provides these kinds of data types in a uniform way that abstracts away from their implementation details, by providing an abstract interface to the newly defined type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Before looking at the example from Chapter 2, let’s look at some simpler example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he Data Declara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11360" y="1981080"/>
            <a:ext cx="84326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xample of an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enumerat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data type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Day = Sun | Mon | Tue | Wed | Thu | Fri | Sat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deriving Sho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names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un </a:t>
            </a: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through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Sa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are constructor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nstants (since they have no arguments)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nd are the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only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elements of the type. 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r example, we can define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valday :: Integer -&gt; Day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valday 1 = Sun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valday 2 = Mon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valday 3 = Tue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valday 4 = Wed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valday 5 = Thu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valday 6 = Fri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valday 7 = Sat 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Hugs&gt; valday 4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Courier New"/>
              </a:rPr>
              <a:t>Wed</a:t>
            </a:r>
            <a:endParaRPr b="0" lang="en-US" sz="16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onstructors &amp; Pattern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Constructors can be matched by 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patterns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or example</a:t>
            </a:r>
            <a:r>
              <a:rPr b="0" lang="en-US" sz="2400" spc="-1" strike="noStrike">
                <a:solidFill>
                  <a:srgbClr val="003366"/>
                </a:solidFill>
                <a:latin typeface="Courier New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yval :: Day -&gt; Integer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yval Sun = 1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yval Mon = 2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yval Tue = 3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yval Wed = 4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yval Thu = 5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yval Fri = 6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yval Sat = 7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Hugs&gt; dayval Wed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4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Other Enumeration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ata Type Exampl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160" y="2209320"/>
            <a:ext cx="8458200" cy="41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Bool = True | False  -- predefined in Haskell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deriving Sho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Direction = North | East | South | West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deriving Sho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Move = Paper | Rock | Scissors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deriving Sho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eats :: Move -&gt; Mov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eats Paper    = Scissor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eats Rock     = Pape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eats Scissors = Rock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Hugs&gt; beats Pape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cissors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Variant Record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8076960" cy="388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More complicated data types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Tagger = Tagn Integer | Tagb Bool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se constructors are not constants – they are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unctions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agn :: Integer -&gt; Tagge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agb :: Bool    -&gt; Tagger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s for all constructors, something like “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agn 12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annot be simplified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and thus, as discussed in Chapter 1, it is a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valu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2" marL="108576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an be used in pattern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ample functions on </a:t>
            </a:r>
            <a:r>
              <a:rPr b="1" lang="en-US" sz="4400" spc="-1" strike="noStrike">
                <a:solidFill>
                  <a:srgbClr val="800000"/>
                </a:solidFill>
                <a:latin typeface="Courier New"/>
              </a:rPr>
              <a:t>Tagger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9581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umber  (Tagn n) = n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boolean (Tagb b) = b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sNum (Tagn _) = Tru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sNum (Tagb _) = Fals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sBool x = not (isNum x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Hugs&gt; :t numbe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umber :: Tagger -&gt; Integer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Hugs&gt; number (Tagn 3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Hugs&gt; isNum (Tagb False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nother Variant Record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Data Typ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Temp = Celsius  Floa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Fahrenheit  Floa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| Kelvin  Float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can use patterns to define functions over this type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oKelvin (Celsius c)    = Kelvin (c + 272.0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oKelvin (Fahrenheit f) =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Kelvin ( 5/9*(f-32.0) + 272.0 )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oKelvin (Kelvin k)     = Kelvin k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Finally: the </a:t>
            </a:r>
            <a:r>
              <a:rPr b="1" lang="en-US" sz="4400" spc="-1" strike="noStrike">
                <a:solidFill>
                  <a:srgbClr val="800000"/>
                </a:solidFill>
                <a:latin typeface="Courier New"/>
              </a:rPr>
              <a:t>Shape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 Data Type from the Tex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29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hap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data type from Chapter 2 is another example of a variant data type: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ata Shape = Rectangle Float Float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| Ellipse Float Float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| RtTriangle Float Float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| Polygon [(Float,Float)]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eriving Show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last line – “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deriving Show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” – tells the system to build a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how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function for the typ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hape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(more on this later)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can also define functions yielding refined shapes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ircle, square :: Float -&gt; Shape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ircle radius = Ellipse radius radius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quare side   = Rectangle side side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 Hudak</cp:lastModifiedBy>
  <cp:lastPrinted>1999-10-07T20:38:26Z</cp:lastPrinted>
  <dcterms:modified xsi:type="dcterms:W3CDTF">2004-09-03T13:23:02Z</dcterms:modified>
  <cp:revision>78</cp:revision>
  <dc:subject/>
  <dc:title>Lecture #1,  Sept. 30, 1996</dc:title>
</cp:coreProperties>
</file>