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39D5-9ECA-4BDB-8F9A-3D4E846E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7BB-500C-4921-9F9D-EDFA782E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588-72B4-4E19-A7A3-BD9E359B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66C-A64B-4436-BD38-649E811A0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7B40-072E-44B6-A6E0-094CCB62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C7535-B3DA-4EDB-9CFB-4149F876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DF43-6671-4E7C-9C78-9D6E9F73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4217-DDDA-4125-B22C-FD4E7996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905A-2210-41C0-84A5-289C1E27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7141-A942-416C-A90F-9CDD08F4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95A3-3B79-4303-8571-6A9733D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7C0D-E4E6-4F77-B66F-02D6E7D2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ACC7-BC89-45C4-9510-AE5842C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BC71-4BEE-4678-8CE1-99AD460B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AE9D-D296-4F9D-8B25-E873DD67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6FFD4-3570-4496-A7CC-9EC821B9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2C9B-ADF4-43E0-B7D6-8D9A35B5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C21-EFE1-4E2C-9085-4320E9A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CFC-E0E7-4A8F-9B84-20E36856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00B-06B1-452D-BFA6-B158701A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9935-BFB2-4D5E-9A07-F3D27253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CD0E-A074-42B0-880D-673A219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F8B9-F274-45DB-892D-1804CA21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E389-9550-4B2E-8B67-3D5140B8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5EA3-DFAF-4E6F-8326-5812CE54A8D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7020-9657-4BDD-828C-0D266B0D699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6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hapes III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rimeters of Sha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utting it all Togeth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erimeter (Ellipse r1 r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r1 &gt; r2   = ellipsePerim r1 r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otherwise = ellipsePerim r2 r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ellipsePerim r1 r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let e = sqrt (r1^2 - r2^2) / r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 = scanl aux (0.25*e^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map intToFloat [2..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s i = nextEl e s i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est x = x &gt; epsil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Sum = foldl (+) 0 (takeWhile test 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2*r1*pi*(1 - sSum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Perimeter of a Sha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83822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compute the perimeter we need a function with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our equations (1 for each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onstructor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first three are easy …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erimeter :: Shape -&gt;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erimeter (Rectangle  s1 s2) = 2*(s1+s2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erimeter (RtTriangle s1 s2) =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s1 + s2 + sqrt (s1^2+s2^2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erimeter (Polygon pts)      =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foldl (+) 0 (sides 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assumes that we can compute the lengths of th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d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of a polygon.  This shouldn’t be too difficult since we can compute the distance between two points with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istBetween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1981080"/>
            <a:ext cx="1676520" cy="762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7696080" y="2286000"/>
            <a:ext cx="1067040" cy="1676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909800" y="168120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"/>
          <p:cNvSpPr/>
          <p:nvPr/>
        </p:nvSpPr>
        <p:spPr>
          <a:xfrm>
            <a:off x="2900160" y="22147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2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738000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7989840" y="38750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2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ursive Def’n of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id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83059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      :: [Vertex] -&gt; [Sid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 []    =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(v:vs) = aux v v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v1 (v2:vs’) = distBetween v1 v2 : aux v2 vs’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vn []       = distBetween vn v  :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aux vn []       = [distBetween vn v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can we do better?  Can we remove the direct recursion, as a seasoned functional programmer might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Visualize What’s Happening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8191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list of vertices is: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s = [A,B,C,D,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need to compute the distances between the pairs of points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A,B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B,C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C,D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D,E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E,A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we compute these pairs as a list?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(A,B),(B,C),(C,D),(D,E),(E,A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es, by “zipping” the two list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A,B,C,D,E]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B,C,D,E,A]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 follow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zip vs (tail vs ++ [head vs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600200" y="2286000"/>
            <a:ext cx="2209680" cy="1066680"/>
          </a:xfrm>
          <a:prstGeom prst="pentagon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1284120" y="249876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A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2521440" y="19810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B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3819960" y="251460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3413160" y="32608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749600" y="3260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New Version of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id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leads to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  :: [Vertex] -&gt; [Sid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des vs = zipWith distBetween vs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tail vs ++ [head vs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With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predefined function that is just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except that it applies its first argument (a function) to each pair of values.  For exampl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With (+) [1,2,3] [4,5,6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5,7,9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re is one remaining case: the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ellips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The perimeter of an ellipse is given by the summation of an infinite series.  For an ellipse with radii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p = 2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(1 - </a:t>
            </a:r>
            <a:r>
              <a:rPr b="1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here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= 1/4 e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= 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-1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(2i-1)(2i-3) e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   for i &gt;= 1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                        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4i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e   = sqrt (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2</a:t>
            </a:r>
            <a:r>
              <a:rPr b="1" lang="en-US" sz="2400" spc="-1" strike="noStrike" baseline="30000">
                <a:solidFill>
                  <a:srgbClr val="8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) / r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Given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 is easy to compute </a:t>
            </a:r>
            <a:r>
              <a:rPr b="0" lang="en-US" sz="2400" spc="-1" strike="noStrike">
                <a:solidFill>
                  <a:srgbClr val="800000"/>
                </a:solidFill>
                <a:latin typeface="Comic Sans MS"/>
              </a:rPr>
              <a:t>s</a:t>
            </a:r>
            <a:r>
              <a:rPr b="1" lang="en-US" sz="2400" spc="-1" strike="noStrike" baseline="-25000">
                <a:solidFill>
                  <a:srgbClr val="800000"/>
                </a:solidFill>
                <a:latin typeface="Comic Sans MS"/>
              </a:rPr>
              <a:t>i+1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imeter of an Ellips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2514600" y="4800600"/>
            <a:ext cx="25146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puting the Seri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xtEl:: Float -&gt; Float -&gt; Float -&gt;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xtEl e s i = s*(2*i-1)*(2*i-3)*(e^2) / (4*i^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w we want to comput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 …]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o fix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let’s defin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ux s i = nextEl e s i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, we would like to comput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 = aux (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) 3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= 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4 = aux (aux (aux s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) 3) 4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...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5715000" y="3276720"/>
            <a:ext cx="3276720" cy="1241640"/>
          </a:xfrm>
          <a:prstGeom prst="rect">
            <a:avLst/>
          </a:prstGeom>
          <a:noFill/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Comic Sans MS"/>
              </a:rPr>
              <a:t>i+1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= s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(2i-1)(2i-3) e</a:t>
            </a:r>
            <a:r>
              <a:rPr b="0" lang="en-US" sz="2400" spc="-1" strike="noStrike" baseline="30000">
                <a:solidFill>
                  <a:srgbClr val="003366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                 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4i</a:t>
            </a:r>
            <a:r>
              <a:rPr b="0" lang="en-US" sz="2400" spc="-1" strike="noStrike" baseline="30000">
                <a:solidFill>
                  <a:srgbClr val="003366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6705720" y="3733920"/>
            <a:ext cx="213336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4267080"/>
            <a:ext cx="3047760" cy="1219320"/>
          </a:xfrm>
          <a:prstGeom prst="wedgeEllipseCallout">
            <a:avLst>
              <a:gd name="adj1" fmla="val -95939"/>
              <a:gd name="adj2" fmla="val 36069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Can we captur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this pattern?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canl (scan from the left)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Yes, using the predefined function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canl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:: (a -&gt; b -&gt; b) -&gt; b -&gt; [a] -&gt; [b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f seed  []    = seed :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f seed (x:xs) = seed : scanl f newseed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where newseed =  f x seed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scanl (+) 0 [1,2,3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 0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1 = (+) 0 1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3 = (+) 1 2,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6 = (+) 3 3 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 0, 1, 3, 6 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Using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can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 result we want i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anl aux s1 [2 ..]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5791320" cy="5019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 flipV="1">
            <a:off x="6095880" y="2285640"/>
            <a:ext cx="0" cy="205740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6095880" y="4343400"/>
            <a:ext cx="1447920" cy="0"/>
          </a:xfrm>
          <a:prstGeom prst="line">
            <a:avLst/>
          </a:prstGeom>
          <a:ln w="381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6533280" y="402732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r2 = 1.5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152400" y="2960640"/>
            <a:ext cx="9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r1 = 2.1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1219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529560" y="2438280"/>
            <a:ext cx="26496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[s1 = 0.122449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2 = 0.0112453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3 = 0.00229496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4 = 0.000614721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5 = 0.000189685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...]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how quickl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values in the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ries get smaller ..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Series Valu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39:19Z</dcterms:created>
  <dc:creator>Paul Hudak</dc:creator>
  <dc:description/>
  <dc:language>en-US</dc:language>
  <cp:lastModifiedBy>Paul Hudak</cp:lastModifiedBy>
  <dcterms:modified xsi:type="dcterms:W3CDTF">2004-09-10T03:58:11Z</dcterms:modified>
  <cp:revision>22</cp:revision>
  <dc:subject/>
  <dc:title>The perimeter of a Shape</dc:title>
</cp:coreProperties>
</file>