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1DED-C913-402D-9FB7-37DDAD5E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7443-4D75-4C1F-83DE-DE12D283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D63A-081A-40FA-B840-0C535929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EA16-E068-43CB-8E58-74521D08D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1518-F4EE-48CC-A959-DB6A02AD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DE5C-F37D-4C27-ADEE-CE4BDD1D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64CA-7550-4B90-954C-A297297B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E34F-A23C-44E0-A856-0CFF79179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821F-267D-44FC-883E-2B8B7322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449D-8CEB-43D7-82DC-86475273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F0B6-7B05-4FD3-8BA1-7A742989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A328-BB4F-4BDA-A055-0FE65C2A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D1E0-5EF1-4476-916D-04BF1C05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305A-DB14-4978-874F-14DF9B63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0EF6-1A83-4BCB-AF64-AEA5599E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8318-58FC-4CC9-B05A-FE003445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153F-9613-4A00-BDB1-C063D551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2460-84A9-4668-BDE9-B0C99544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2EF3-2E34-49BF-970B-00D6AF69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477D-7693-434B-BB1B-1864E5B7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6AEE-13D7-47F4-98F8-9944303A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EFA3-D6D4-4D21-B3C0-7E434B14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7E83-6470-4545-95A4-6228F977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C135-362A-4828-8BEB-739D0328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D08B-FF69-4C50-9FF2-9DAED2C5157B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F026-6B8D-4357-B42F-A644A922C1A5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16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Communicating With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the Outside World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first-class channel implements an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unbounded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queue that can be written to and read from asynchronously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c &lt;- newCha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writeChan c `a`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writeChan c `b`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. . . 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. . .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a &lt;- readChan c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b &lt;- readChan c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return [a,b]</a:t>
            </a:r>
            <a:br>
              <a:rPr sz="20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turns the string "ab"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oncurrency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ncurrent processes may be forked off from the main computation by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kIO :: IO () -&gt; IO (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IO action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kIO p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ill cause p to run concurrently with the main program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, we can create a concurrent version of the client-server program from Chapter 14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[ see next slide ]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oncurrent Client-Server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3733560"/>
            <a:ext cx="390204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lient :: Chan Int -&gt;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Chan Int -&gt; IO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lient cin cout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writeChan cout 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loop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ere loop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c &lt;- readChan ci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print c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writeChan cout c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loop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76560" y="3733560"/>
            <a:ext cx="39034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erver :: Chan Int -&gt;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Chan Int -&gt; IO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erver cin cout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loop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ere loop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c &lt;- readChan ci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writeChan cout (c+1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loop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2133720" y="2133720"/>
            <a:ext cx="4952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ain :: IO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ain = do c1 &lt;- newChan :: IO (Chan Int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c2 &lt;- newChan :: IO (Chan Int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forkIO (client c1 c2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forkIO (server c2 c1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Chapter 3 we learned how to do basic IO, but it was fairly limited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this chapter we investigate advanced IO ideas: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file handles, channels, exceptions, and concurrency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ideas developed here will be used in the next chapter to write a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renderer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for FAL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ideas will continue to be cast in terms of “IO actions” of type “IO a”, and will be sequenced using Haskell’s “do” syntax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“mysteries” underlying the type “IO” and Haskell’s “do” syntax will be revealed in Chapter 18.  (Guess what’s underneath it all?  Yes,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functions!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File Handl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call from Chapter 3 the IO actions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riteFil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FilePath -&gt; String -&gt; IO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ppendFil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FilePath -&gt; String -&gt; IO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FilePath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Str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se functions open a file, write a string, and then close the file. 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ut if many successive writes are needed, the repeated openings and closings can be very inefficient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etter to open a file, and leave it open until done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penFil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FilePath -&gt; IOMode -&gt; IO Handl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Clos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Handle -&gt; IO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IOMode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ReadMode   | WriteMod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| AppendMode | ReadWriteMod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File Opera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Once open, many file operations are possible: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PutChar  :: Handle -&gt; Char -&gt; IO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PutStr   :: Handle -&gt; String -&gt; IO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PutStrLn :: Handle -&gt; String -&gt; IO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Print    :: Show a =&gt; Handle -&gt; a -&gt; IO (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GetChar  :: Handle -&gt; IO Cha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GetLine  :: Handle -&gt; IO Str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GetContents :: Handle -&gt; String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2895480"/>
            <a:ext cx="152640" cy="1143000"/>
          </a:xfrm>
          <a:custGeom>
            <a:avLst/>
            <a:gdLst>
              <a:gd name="textAreaLeft" fmla="*/ 0 w 152640"/>
              <a:gd name="textAreaRight" fmla="*/ 55080 w 1526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6324480" y="426708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6816240" y="2971800"/>
            <a:ext cx="19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en in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riteMode”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6760080" y="4267080"/>
            <a:ext cx="193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en in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adMode”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tandard Channel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s in many OS’s, certain kinds of IO are treated like files.  In Haskell these are called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channels,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and include standard input (stdin), standard output (stdout), and standard error (stderr)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deed, these two functions are pre-defined in the Prelude:</a:t>
            </a:r>
            <a:br>
              <a:rPr sz="2400"/>
            </a:br>
            <a:br>
              <a:rPr sz="1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etChar  :: IO Cha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etChar  = hGetChar stdin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utChar  :: IO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utChar  = hPutChar stdou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cep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re are many ways that an IO action might fail, and we need a way to detect and recover from such failure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Haskell, IO failures are called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exceptions,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and they can be “caught” by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Comic Sans MS"/>
              </a:rPr>
              <a:t>catch </a:t>
            </a:r>
            <a:r>
              <a:rPr b="0" lang="it-IT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3366"/>
                </a:solidFill>
                <a:latin typeface="Comic Sans MS"/>
              </a:rPr>
              <a:t>:: IO a -&gt; (IOError -&gt; IO a) -&gt; IO a</a:t>
            </a:r>
            <a:br>
              <a:rPr sz="2400"/>
            </a:br>
            <a:r>
              <a:rPr b="0" lang="it-IT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etChar'  :: IO Cha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etChar'  = catch getChar (\e -&gt; return '\n'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ispatching on IOError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oError is an abstract type with predicates such as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sEOFError :: IOError -&gt; Boo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sDoesNotExistError   :: IOError -&gt; Bool</a:t>
            </a:r>
            <a:br>
              <a:rPr sz="20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nd a “throw” operation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oError :: IOError -&gt; IO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“more refined” getChar can then be defined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etChar' :: IO Cha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etChar'  = catch getChar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\e -&gt; if isEOFError e then return '\n‘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  else ioError e   )</a:t>
            </a:r>
            <a:br>
              <a:rPr sz="20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ote how ioError “throws” the error to an outer dynamic scope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(See text for example of “nested” exceptions.)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utting It All Together</a:t>
            </a:r>
            <a:br>
              <a:rPr sz="4400"/>
            </a:b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(copying a file)</a:t>
            </a:r>
            <a:endParaRPr b="0" lang="en-US" sz="3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getAndOpenFile :: String -&gt; IOMode -&gt; IO Handle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getAndOpenFile prompt mode =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do 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putStr prompt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name &lt;- getLine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catch 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(do handle &lt;- openFile name mode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     return handle                         )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(\error -&gt; do putStrLn ("Cannot open " ++ name)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       print error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       getAndOpenFile prompt mode       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ain :: IO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ain =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fromHandle &lt;- getAndOpenFile "Copy from: " ReadMod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toHandle    &lt;- getAndOpenFile "Copy to: " WriteMod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contents    &lt;- hGetContents fromHandl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hPutStr toHandle content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hClose fromHandl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hClose toHandl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putStrLn "Done."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First-Class Channel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irst-class channels” are different from the “standard channels” described earlier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y are a mechanism through which Haskell “processes” can communicate asynchronously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first-class channel containing values of type “a” has type “Chan a”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key operations ar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ewCha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IO (Chan a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riteCha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Chan a -&gt; a -&gt; IO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adCha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Chan a -&gt; IO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etChanContent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Chan a -&gt; IO [a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sEmptyCha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Chan a -&gt; IO Boo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 Hudak</cp:lastModifiedBy>
  <cp:lastPrinted>1999-10-07T20:38:26Z</cp:lastPrinted>
  <dcterms:modified xsi:type="dcterms:W3CDTF">2004-10-22T13:54:02Z</dcterms:modified>
  <cp:revision>230</cp:revision>
  <dc:subject/>
  <dc:title>Lecture #1,  Sept. 30, 1996</dc:title>
</cp:coreProperties>
</file>