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0A4-D64B-41CF-85E4-7DF3538C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E73B-383D-400C-93C6-BBE85DF4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7D9F-584F-43AF-910B-BB626B5D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E82-6407-445F-AB74-CC96C207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AFE75-9DE8-46AA-AA4C-9EFE3529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C053-41D4-4B4E-87D0-5A9D398D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3D60-64F6-4CA4-B1C0-D9F15424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9945-CF01-4C9B-8919-12BFB3EE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0112-9540-4E51-B44C-1C9C48EC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A28-B4B9-4A4F-ACDA-D6251C2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6205-110B-416E-A9A3-C859D7D2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957-83EB-4485-8216-48A4CE4C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3956-6E11-40F0-8977-4DA68C1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BAD9-72BF-4BF6-AE91-993F2AF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8D73-437F-4EDF-9A12-546BEE4B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33F6-7BC5-47F7-84C2-F1C91603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2667-274E-4AF1-ACFA-5011A635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CEEB-83A9-476A-B59C-E20C8402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9D1D-87A3-41EA-97E9-C9C84E3F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B32-5DAC-4556-97B1-1C40345C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8EE1-E336-4EEE-B7DF-5DCAE3AE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7DC-0D6F-4DA3-94B0-59B49DB3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46A8-22F8-45FE-87F7-EEDEA191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CED5-ACF1-4520-9A2F-E4780018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F620-F2C5-40AE-9CAC-206D1E4643A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D7A3-132F-47B6-960B-949D8AB8A3AE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1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Proof by Induc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eneralizing Lemma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e lemma:</a:t>
            </a:r>
            <a:br>
              <a:rPr sz="2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l (flip (:)) [] xs ++ [x] = foldl (flip (:)) [] (x:xs)</a:t>
            </a: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s actually hard to prove directly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t ‘s easier to prove this generalization:</a:t>
            </a:r>
            <a:br>
              <a:rPr sz="28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l (flip (:)) ys xs ++ [y] = foldl (flip (:)) (ys++[y]) xs</a:t>
            </a:r>
            <a:br>
              <a:rPr sz="24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rom which the first lemma is easy to prov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Knowing when to introduce a lemma, and when to generalize it, it is a skill in proving theorems in any context.</a:t>
            </a:r>
            <a:br>
              <a:rPr sz="2800"/>
            </a:br>
            <a:br>
              <a:rPr sz="9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See text for proofs of lemmas.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ws of Lis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ere are many useful properties of functions such as (++), map, foldl, and foldr on list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ese properties can be used as “lemmas” in proving other properties of larger programs that use these function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ome of them depend on function “strictness”:  A function f is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strict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if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_|_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ws of 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(\x-&gt;x) = \x-&gt;x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(f . g) = map f . map g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. tail = tail . map f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. reverse = reverse . map f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. concat = concat . map (map f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map f (xs ++ ys) = map f xs ++ map f y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all strict f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 . head = head . map f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ws of fol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95816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op is associative, e `op` x = x, and x `op` e = x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for all finite x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r op e xs = foldl op 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the following are tru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op1` (y `op2` z) = (x `op1` y) `op2` z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x `op1` e = e `op2`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for all finite x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r op1 e xs = foldl op2 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all finite x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r op e xs = foldl (flip op) e (reverse x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duction on Other Data Typ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of by induction is not limited to lists.  Indeed, it is usually taught on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natural numbers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first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Example:  Exponentiation, defined by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(^)  :: Integer -&gt; Integer -&gt; Integer</a:t>
            </a:r>
            <a:br>
              <a:rPr sz="2400"/>
            </a:b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x^0 = 1</a:t>
            </a:r>
            <a:br>
              <a:rPr sz="2400"/>
            </a:b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x^n = x * x^(n-1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3366"/>
                </a:solidFill>
                <a:latin typeface="Comic Sans MS"/>
              </a:rPr>
              <a:t>Suppose we wish to prove that, for all natural numbers m and n:</a:t>
            </a:r>
            <a:br>
              <a:rPr sz="2800"/>
            </a:br>
            <a:r>
              <a:rPr b="0" lang="sv-SE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^(n+m) = x^n * x^m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4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Exponentiation 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s before, we proceed by induction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ase case:  n = 0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^(0+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^m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1 * (x^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^0 * x^m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uction step: assume x^(n+m) = x^n * x^m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x^((n+1)+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* x^(n+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* (x^n * x^m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x * x^n) * x^m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^(n+1) * x^m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Induction Over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User-Defined Data Typ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 the tree data typ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ata Tree a = Leaf  a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 | Branch (Tree a) (Tre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define these functions on it: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tten :: Tree a -&gt; [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tten (Leaf x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[x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latten (Branch t1 t2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=  flatten t1 ++ flatten t2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Tree :: Tree Int -&gt; Int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Tree (Leaf x)          = x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Tree (Branch t1 t2) = sumTree t1 + sumTree 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rther, assume that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= foldl (+)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Lemma: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sum (xs++ys) = sum xs + sum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5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Tree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Comic Sans MS"/>
              </a:rPr>
              <a:t>Theorem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:  sum . flatten = sumTree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Proof by induction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se case:  t = Leaf x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(Leaf x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nfold flatten</a:t>
            </a:r>
            <a:br>
              <a:rPr sz="2000"/>
            </a:br>
            <a:r>
              <a:rPr b="0" i="1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l (+) 0 (x:[]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yntax, and unfold sum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x + (foldl (+) 0 []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fold fold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x + 0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fold fold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rithmetic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Tree (Leaf x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fold sum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3" marL="142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5, cont’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Induction step:  assume th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t1) = sumTree t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t2) = sumTree t2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um (flatten (Branch t1 t2)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 (flatten t1 ++ flatten t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fold flatte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 (flatten t1) + sum (flatten t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lemma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Tree t1 + sumTree t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induction hyp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umTree (Branch t1 t2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fold sum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duction and Recu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wo sides of the same coin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uction usually starts with small things, and then generalizes to the large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.g. inductive definition of a list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[] is a list; and if xs is a list, then so is x : x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Recursion usually starts with the large thing, working its way back to the smal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.g. recursion over list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art with non-empty list x : xs; do something with x, then recurse on x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not surprising then, that proof by induction is closely tied to recursion: it is usually needed when proving properties about recursive fun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of by Induction on Lis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o prove property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P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by induction on the length of a list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ve P([])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-- the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base cas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66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ssume P(xs) is tru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–- the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induction hypothesis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nd prove that P(x:xs) is true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-– the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induction step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1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foldr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Recall this property about foldr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r (:) [] xs = x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 proof by induction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ase case:  xs = []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r (:) [] [] </a:t>
            </a: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[]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(immediate from the definition of foldr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duction step:  assume foldr (:) [] xs = xs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ldr (:) [] (x:xs)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: foldr (:) [] x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-- unfold foldr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x : x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-- by the induction hypothesi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2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 Property About length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Prove that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ngth (xs++ys) = length xs + length y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Question: Over which list (xs or ys) should we perform the induction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Hint: look at the definitions of length and (++), which recurse over the front of their arguments – thus we should use xs above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2, cont’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se case:  xs =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[] ++ y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y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0 + length y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[]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duction step:  assume length (xs++ys) = length xs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(x:xs) ++ ys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x : (xs ++ ys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+ length (xs ++ ys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1 + (length xs + length y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1 + length xs)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ngth (x:xs) + length y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Proving Function Equivalenc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Remember the mantra: “get it right first”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Later, we can improve our programs for efficiency reasons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But how do we know that the new program is the same as the old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nswer: by </a:t>
            </a:r>
            <a:r>
              <a:rPr b="0" i="1" lang="en-US" sz="2800" spc="-1" strike="noStrike">
                <a:solidFill>
                  <a:srgbClr val="003366"/>
                </a:solidFill>
                <a:latin typeface="Comic Sans MS"/>
              </a:rPr>
              <a:t>proving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them so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And in the case of recursive functions, we will need induction.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3: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quivalence of reverse Def’n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Recall these three definitions of reverse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 []    =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(x:xs) = reverse1 xs ++ [x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2 xs = rev []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 acc  []    = ac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 acc (x:xs) = rev (x:acc)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3 = foldl (flip (:))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is the obvious, but inefficient vers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2 is the recursive, efficient vers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3 is the non-recursive, efficient vers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Example 3, cont’d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Let’s prove that reverse1 = reverse3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ase case:  xs =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[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unfold reverse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ldl (flip (:)) []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fold foldl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3 [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fold reverse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duction step:  assume reverse1 xs = reverse3 x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verse1 (x:x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1 xs ++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unfold reverse1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3 xs ++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induction hypothesi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ldl (flip (:)) [] xs ++ [x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unfold reverse3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ldl (flip (:)) [] (x:x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LEMMA!!!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verse3 (x:xs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-- fold reverse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lemma state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ldl (flip (:)) [] xs ++ [x] = foldl (flip (:)) [] (x:xs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o we prove thi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09-30T14:30:45Z</dcterms:modified>
  <cp:revision>104</cp:revision>
  <dc:subject/>
  <dc:title>Lecture #1,  Sept. 30, 1996</dc:title>
</cp:coreProperties>
</file>