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B645-B22E-4855-A496-41339133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A3EE-E239-41B8-8C2C-2C74AFAC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B9D6-23C0-40B7-965C-BEC67507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1A7-41CE-4D5E-A6A2-619D3333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8397-387B-40A6-92D2-2CC67259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140B6-EE5E-4E1A-A2D7-B5F05CE3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64EC-F1D7-4742-977F-11AD3589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7BBF-2893-4ED2-A4D9-86604647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FEC9-DE8D-45A4-A0E6-CBE88E835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3883-23C3-4A6C-8CD9-22A7AE5C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D38C-26A9-4E44-81E3-1D04120C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FBC-714F-4A67-85FF-9E3F6793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F7C6-614C-4564-9B7C-DF381DBA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647D-28B0-4160-84D6-A721A9E8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EA38-39EC-4BFA-A21E-795670B2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95F56-2CD4-4291-AB02-F1688EA20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2749-0F2B-449B-A117-DA0BE8E5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BD7-DE38-469A-9576-849285BCF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4DBC-485C-4AC5-8BAF-D5D7463C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CCBE-D025-461B-9DB3-29981E01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E94-EFEE-44DC-904D-D28C730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41A8-A4EF-4596-B3DC-C84E50B2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A4B2-A121-4A1E-B916-9496ABB1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0CDC-271F-4477-887D-E0CEB662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0662-590B-4E18-B361-FC3CD893A78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D2E6-CF6C-4BFD-A3E3-690970FAFD7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3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A Module of Simple Anima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iding More Detai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057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have not yet hidden all the “practical” detail –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particular,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im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tself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through more aggressive lifting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g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2 Reg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hape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1 Shap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l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2 Ellips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d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0 R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ellow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0 Yello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late (Beh a1, Beh a2) (Beh r)   -- note complexity 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Beh (\t -&gt; Translate (a1 t, a2 t) (r t))</a:t>
            </a:r>
            <a:br>
              <a:rPr sz="20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an redefine the red revolving ball as follows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olvingBallB :: Behavior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olvingBallB =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ball = shape (ell 0.2 0.2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reg red (translate (sin time, cos time) ball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Lifting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mparison operator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 :: Ord a =&gt; Behavior a -&gt; Behavior a -&gt; Behavior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&gt;*) = lift2 (&gt;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ditional behavior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Fun :: Bool -&gt; a -&gt; a -&gt;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Fun p c a = if p then c else a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 :: Behavior Bool -&gt; Behavior a -&gt; Behavior a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d = lift3 ifFu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a flashing color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sh :: Behavior Colo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sh = cond (sin time &gt;* 0) red yell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ime Trave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function for translating a behavior through time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:: Behavior Time -&gt; Behavior a -&gt; Behavior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(Beh f) (Beh a) = Beh (a . f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(2*time) ani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double speed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(5+time) anim `over` ani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one anim 5 se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behind anothe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Trans (negate time) anim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go backward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y kind of animation can be time transformed:</a:t>
            </a:r>
            <a:br>
              <a:rPr sz="2400"/>
            </a:br>
            <a:br>
              <a:rPr sz="9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shingBall :: Behavior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shingBall = let ball = shape (ell 0.2 0.2)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in reg (timeTrans (8*time) flash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(translate (sin time, cos time) ball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nal 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olvingBalls :: Behavior Pictur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olvingBall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overMany [ timeTrans (time + t*pi/4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                   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flashingBal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| t &lt;- map lift0 [0..7] 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ee the text for one other example:</a:t>
            </a:r>
            <a:br>
              <a:rPr sz="2400"/>
            </a:b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 kaleidoscope program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n the abstract, an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animation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is a continuous, time-varying image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ut in practice, it is a sequence of static images displayed in succession so rapidly that it looks continuou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Our goal is to present to the programmer an abstract view that hides the practical detail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n addition, we will generalize animations to be continuous, time-varying quantities of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any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value, not just image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presenting Anim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usual, we will use our most powerful too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–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 funct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– to represent animation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ype Animation a = Time -&gt; a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ype Time = Floa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xample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ubberBall :: Animation Shap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ubberBall t = Ellipse (sin t) (cos t)</a:t>
            </a:r>
            <a:br>
              <a:rPr sz="1800"/>
            </a:br>
            <a:br>
              <a:rPr sz="12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volvingBall :: Animation Region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volvingBall t =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let ball = Shape (Ellipse 0.2 0.2)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in Translate (sin t, cos t) ball</a:t>
            </a:r>
            <a:br>
              <a:rPr sz="1800"/>
            </a:br>
            <a:br>
              <a:rPr sz="12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lanets :: Animation Pictu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lanets t =  le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1 = Region Red (Shape (rubberBall t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2 = Region Yellow (revolvingBall 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in p1 `Over` p2</a:t>
            </a:r>
            <a:br>
              <a:rPr sz="2000"/>
            </a:br>
            <a:br>
              <a:rPr sz="12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ellTime :: Animation String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ellTime t = "The time is: " ++ show 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 Animato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uppose we had a functio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imate :: String -&gt; Animation Graphic -&gt; IO ( 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ould then execute (i.e. display) the previous animations.  For example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1 :: IO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1 = animate "Animated Shape“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(withColor Blue . shapeToGraphic 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  rubberBall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2 :: IO (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in2 = animate "Animated Text“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(text (100,200) . tellTime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tion of “animate”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imate :: String -&gt; Animation Graphic -&gt; IO (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imate title anim = runGraphics (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o w &lt;- openWindowEx title (Just (0,0)) (Just (xWin,yWin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                                     drawBufferedGraphic (Just 30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t0 &lt;- timeGet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loop = do t &lt;- timeGet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et ft = intToFloat (word32ToInt (t-t0)) / 1000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setGraphic w (anim ft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getWindowTick w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loop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See text for detail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mon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an define many operations on animations based on the underlying type.  For example, for Pictures:</a:t>
            </a:r>
            <a:br>
              <a:rPr sz="20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emptyA :: Animation Pictur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emptyA t = EmptyPic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verA :: Animation Picture -&gt; Animation Pictur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-&gt; Animation Pictur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verA a1 a2 t = a1 t `Over` a2 t</a:t>
            </a:r>
            <a:br>
              <a:rPr sz="1800"/>
            </a:br>
            <a:br>
              <a:rPr sz="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verManyA :: [Animation Picture] -&gt; Animation Picture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verManyA = foldr overA emptyA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 can do a similar thing for Shapes, etc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so, for numeric animations, we could define functions like addA, multA, and so o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both case, however, there is a better solution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s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ype classes.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But first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wtype Behavior a  =  Beh (Time -&gt;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Numeric Anim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403884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instance Num a =&gt;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        Num (Behavior a) whe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+) = lift2 (+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*) = lift2 (*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negate = lift1 negat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bs = lift1 ab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signum = lift1 signum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fromInteger = lift0 . fromInteger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instance Fractional a =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        Fractional (Behavior a) whe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/) = lift2 (/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fromRational = lift0 . fromRational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1632600" y="4724280"/>
            <a:ext cx="67294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Where the lifting functions are defined by: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0 :: a -&gt; Behavior a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0 x = Beh (\t -&gt; x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1 :: (a -&gt; b) -&gt; (Behavior a -&gt; Behavior b)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1 f (Beh a) = Beh (\t -&gt; f (a t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2 :: (a -&gt; b -&gt; c) -&gt; (Behavior a -&gt; Behavior b -&gt; Behavior c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ift2 g (Beh a) (Beh b) = Beh (\t -&gt; g (a t) (b t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2057400"/>
            <a:ext cx="40388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instance Floating a =&gt;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        Floating (Behavior a) where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pi 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0 pi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sqrt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sqrt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exp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exp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log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log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sin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sin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cos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cos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tan   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= lift1 tan</a:t>
            </a:r>
            <a:br>
              <a:rPr sz="1600"/>
            </a:br>
            <a:r>
              <a:rPr b="0" i="1" lang="en-US" sz="1600" spc="-1" strike="noStrike">
                <a:solidFill>
                  <a:srgbClr val="003366"/>
                </a:solidFill>
                <a:latin typeface="Comic Sans MS"/>
              </a:rPr>
              <a:t>etc.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ype Class Magic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urthermore, defin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im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by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:: Behavior Tim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= Beh (\t -&gt; 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consider “time + 42”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ime + 4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unfold overloadings for time, (+), and 4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(lift2 (+)) (Beh (\t -&gt; t)) (Beh (\t -&gt; 42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unfold lift2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(\ (Beh a) (Beh b) -&gt; Beh (\t -&gt; a t + b t) )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(Beh (\t -&gt; t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 (Beh (\t -&gt; 42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unfold anonymous functio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Beh (\t -&gt; (\t -&gt; t) t + (\t -&gt; 42) t 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unfold two anonymous function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Beh (\t -&gt; t + 4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agic of type classes!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New Type Class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addition to using existing type classes such as Num, we can define new ones.  For example:</a:t>
            </a:r>
            <a:br>
              <a:rPr sz="24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Combine a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mpt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: a -&gt; a -&gt; a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Combine Picture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mpty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EmptyP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Ov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Combine a =&gt; Combine (Behavior a)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mpty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0 empty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lift2 over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Many :: Combine a =&gt; [a]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verMany = foldr over empt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07T00:34:51Z</dcterms:modified>
  <cp:revision>135</cp:revision>
  <dc:subject/>
  <dc:title>Lecture #1,  Sept. 30, 1996</dc:title>
</cp:coreProperties>
</file>