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5B59-7703-4CD1-9022-0D2C90326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2E4E-44A3-43E7-8ACE-0E0DC7B3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8363-8187-4D5C-913D-FADE31A35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5A7B-2E9B-4EDD-8BCB-FF343AC3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93A5-1110-471B-A388-07B2299D1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8A19-F103-4039-9E87-818A7F99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0B00-4598-4840-92BC-74C53AE4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A587-F1E7-40F3-BBF5-E5E32979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2C95-692D-4D28-8D6B-9D84CCA1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C373-F3AA-4CB4-9CF0-290B9592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4A99-3639-498B-B62D-C5FB728D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3E5F-A2F9-48CE-9DAC-05E7236D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22B4-0076-4F14-A57B-F99FD8BA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54A4-6565-40E9-BD20-36EA44BB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D264-5FC5-4B40-ADCF-E5F3B52B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0F5C-2DE1-4C0E-9863-855BB27E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4759-3829-4ED3-9D1A-648189199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C283-BD19-467C-B783-EFA0345C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5D40-6B16-4EC2-98BD-C37E50F2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737A-F39B-4463-94FD-7D5904B3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603B-9EC8-442E-A47F-E2A91D13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BF3E-EAD4-4AE8-A090-89EF192A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D9D1-E626-402E-86DB-864C2743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F0DB-0A0F-4AAD-99F0-0CC98A81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8DFC-FEDC-4CA5-AE4B-64F09ACD29B6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61E4-81ED-406D-8CF5-C2DF97CFB964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22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From Performance to MIDI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otiva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6400" y="1971360"/>
            <a:ext cx="795816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bstractly, an MDL program denotes a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Performance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But a Performance is just a Haskell data structure – we can analyze it, but we cannot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hear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it!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o  remedy this, we will convert a Performance into a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MIDI File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MIDI (Musical Instrument Digital Interface) is a standard protocol for describing electronic music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MIDI file format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is part of this standard, and all consumer PC’s are capable of playing them through the PC’s sound card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addition,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General MIDI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standardizes instrument and percussion names as used in MDL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Our Goal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0160" y="2072880"/>
            <a:ext cx="816624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e need to define a function (called “test” in text)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usicToMidi :: Music -&gt; IO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usicToMidi 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outputMidiFile "test.mid“ .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erformToMidi .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erform defCon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perform” was defined in the previous chapter, and “defCon” is just the default Context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o additionally we need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erformToMidi :: Performance -&gt; MidiFil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outputMidiFile :: String -&gt; MidiFile -&gt; IO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MidiFile” and “outputMidiFile” are imported from Haskore.  Our main job is to define “performToMidi”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idiFile Data Typ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19000" y="2052720"/>
            <a:ext cx="79581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MidiFile data type (imported from Haskore) captures the essence of a Midi file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data MidiFile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MidiFile MFType Division [Track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deriving (Show, Eq)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type MFType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In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type Track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[MEvent]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data Division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Ticks Int | SMPTE Int In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deriving (Show,Eq)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data MEven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MidiEvent ElapsedTime MidiEven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| MetaEvent ElapsedTime MetaEven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| NoEven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deriving (Show,Eq)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type ElapsedTime  = In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[ see text for details 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IDI Event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1960" y="2061720"/>
            <a:ext cx="795816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MIDI events are like MDL events, except that there are events for both start and end of a note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ata MidiEvent 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| NoteOff MidiChannel MPitch Velocity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| NoteOn MidiChannel MPitch Velocity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| ProgChange MidiChannel ProgNum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| ...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eriving (Show, Eq)</a:t>
            </a:r>
            <a:br>
              <a:rPr sz="2000"/>
            </a:br>
            <a:br>
              <a:rPr sz="8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ype MPitch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Int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ype Velocity        = In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ype ProgNum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Int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ype MidiChannel  = Int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ata MetaEvent = SetTempo MTempo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| ...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eriving (Show, Eq)</a:t>
            </a:r>
            <a:br>
              <a:rPr sz="2000"/>
            </a:br>
            <a:br>
              <a:rPr sz="8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ype MTempo      = Int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erformToMidi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280" y="2072880"/>
            <a:ext cx="833436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o convert a Performance into a MidiFile value: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erformToMidi :: Performance -&gt; MidiFil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erformToMidi pf 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MidiFile mfType (Ticks division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(map performToMEvs (splitByInst pf))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fTyp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= 1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In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ivis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= 96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In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s leaves two functions: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plitByInst :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erformance -&gt; [(MidiChannel,ProgNum,Performance)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erformToMEvs :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MidiChannel,ProgNum,Performance) -&gt; [MEvent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a Type 1 MIDI file, each instrument is associated with a separate track.  splitByInst splits the Performance to achieve this (see text for details)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erformToMEv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83343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erformToMEvs :: (MidiChannel,ProgNum,Performance) -&gt; [MEvent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erformToMEvs (ch,pn,perf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let setupIns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MidiEvent 0 (ProgChange ch pn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setTempo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MetaEvent 0 (SetTempo tempo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loop []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[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loop (e:es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let (mev1,mev2) = mkMEvents ch 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in  mev1 : insertMEvent mev2 (loop es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in  setupInst : setTempo : loop perf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empo = 500000 :: In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number of microsecs in one beat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sertMEvent :: MEvent -&gt; [MEvent] -&gt; [MEvent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sertMEvent ev1 [] = [ev1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sertMEvent ev1@(MidiEvent t1 _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evs@(ev2@(MidiEvent t2 _) : evs'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if t1 &lt;= t2 then ev1 : evs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else ev2 : insertMEvent ev1 evs'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kMEvent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20800" y="2180880"/>
            <a:ext cx="795816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inally, we convert individual notes: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kMEvents :: MidiChannel -&gt; Event -&gt; (MEvent,MEvent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kMEvents mChan (Event { eTime = t, ePitch = p, eDur = d }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( MidiEvent (toDelta t)       (NoteOn  mChan p 127),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MidiEvent (toDelta (t+d)) (NoteOff mChan p 127) 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oDelta t = round (t * 4.0 * intToFloat division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9T22:47:58Z</dcterms:created>
  <dc:creator>Tim Sheard</dc:creator>
  <dc:description/>
  <dc:language>en-US</dc:language>
  <cp:lastModifiedBy>Paul</cp:lastModifiedBy>
  <cp:lastPrinted>1999-10-07T20:38:26Z</cp:lastPrinted>
  <dcterms:modified xsi:type="dcterms:W3CDTF">2004-11-08T15:15:18Z</dcterms:modified>
  <cp:revision>310</cp:revision>
  <dc:subject/>
  <dc:title>Lecture #1,  Sept. 30, 1996</dc:title>
</cp:coreProperties>
</file>