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223375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043-B4AF-4CE9-9170-F0AB2060E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59B-8DE5-4383-B91D-290DEB76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C4A-C40D-4953-9B8B-211368D7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52F4-54E7-4DB5-B62C-CA77286A0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A8B4-2AD5-4A9A-9AD6-FE6D64E6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F248-C56C-44B4-B2F7-A242ABE2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39B7-FDF7-4D16-9D61-3C761130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568F-BCE4-4374-AB07-1098E681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E1A0-4412-478D-B8DE-31CA18DC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5062-300D-40CF-AD71-B4296330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7ABD-E1DE-4F1B-A791-16656640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C9E0-49E4-44A3-9827-59A8C0CD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23E1-F933-4BEF-81E9-BBFE8D07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194F-4CBB-4A8E-9A35-EF045A47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8B88-5873-43B7-885E-C88929D5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AD2C-B213-49F7-84FB-0283BDF6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74A2-57EC-4471-89CE-52D65BA4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A0E-A2A8-4E92-8A52-B5050D04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20DE-4D02-4E32-94D1-5141082A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9DA-2A93-4634-ABFE-255EAAB7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43A8-B64E-4F64-8F92-3121F894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6CD-63EC-4158-943A-926B0DE0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1607-66DC-4C03-8EE8-DB676763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4398-4AB5-408F-96A5-5F437326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494A-AEB0-4869-95DA-AC17DDEA546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AE56-8A80-4F8F-BA4A-93205915ACB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ree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1 = (C 10 :+ (C 8 :/ C 2)) :* (C 7 :- C 4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valuate           :: Expr -&gt; Floa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valuate (C x)      = x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valuate (e1 :+ e2) = evaluate e1 + evaluate e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valuate (e1 :- e2) = evaluate e1 - evaluate e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valuate (e1 :* e2) = evaluate e1 * evaluate e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valuate (e1 :/ e2) = evaluate e1 / evaluate e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in&gt; evaluate e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42.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re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ees are important data structures in computer scienc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ees have interesting propertie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y usually are finite, but unbounded in siz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y sometimes contain other types withi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y are often polymorphic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y may have differing “branching factors”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y may have different kinds of leaf and branching node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ots of interesting things can be modeled as tree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ists  (linear branching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rithmetic expressions (see text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arse trees (for language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a lazy language it is possible to have infinite tree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List a         = Ni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MkList a (List a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Tree a         = Leaf 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Branch (Tree a) (Tree a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IntegerTree    = IntLeaf Integer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IntBranch IntegerTree IntegerTre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SimpleTree     = SLeaf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SBranch SimpleTree SimpleTre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InternalTree a = ILeaf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IBranch a (InternalTree a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InternalTree a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FancyTree a b  = FLeaf a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FBranch b (FancyTree a b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FancyTree a b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atch up the Tre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39052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tegerTre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ee 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mpleTree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ternalTree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ancyTree 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723200" y="2438280"/>
            <a:ext cx="1905840" cy="497160"/>
            <a:chOff x="4723200" y="2438280"/>
            <a:chExt cx="1905840" cy="497160"/>
          </a:xfrm>
        </p:grpSpPr>
        <p:sp>
          <p:nvSpPr>
            <p:cNvPr id="299" name=""/>
            <p:cNvSpPr/>
            <p:nvPr/>
          </p:nvSpPr>
          <p:spPr>
            <a:xfrm>
              <a:off x="4876560" y="2438280"/>
              <a:ext cx="0" cy="2001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52880" y="2438280"/>
              <a:ext cx="8380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0960" y="2438280"/>
              <a:ext cx="0" cy="2001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67280" y="2438280"/>
              <a:ext cx="53316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400440" y="2438280"/>
              <a:ext cx="228600" cy="79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23200" y="2598120"/>
              <a:ext cx="39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‘</a:t>
              </a: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a’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38680" y="2598120"/>
              <a:ext cx="39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‘</a:t>
              </a: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b’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7238880" y="2362320"/>
            <a:ext cx="1371600" cy="1600200"/>
            <a:chOff x="7238880" y="2362320"/>
            <a:chExt cx="1371600" cy="1600200"/>
          </a:xfrm>
        </p:grpSpPr>
        <p:sp>
          <p:nvSpPr>
            <p:cNvPr id="307" name=""/>
            <p:cNvSpPr/>
            <p:nvPr/>
          </p:nvSpPr>
          <p:spPr>
            <a:xfrm flipH="1">
              <a:off x="7315200" y="2362320"/>
              <a:ext cx="380880" cy="762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96080" y="2362320"/>
              <a:ext cx="533520" cy="762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924320" y="3124440"/>
              <a:ext cx="304920" cy="4572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229600" y="3124440"/>
              <a:ext cx="304560" cy="4572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8880" y="3048120"/>
              <a:ext cx="2286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‘</a:t>
              </a: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a’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48360" y="3581640"/>
              <a:ext cx="2286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‘</a:t>
              </a: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b’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81880" y="3581640"/>
              <a:ext cx="2286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‘</a:t>
              </a: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c’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162920" y="4800600"/>
            <a:ext cx="1371600" cy="1600200"/>
            <a:chOff x="7162920" y="4800600"/>
            <a:chExt cx="1371600" cy="1600200"/>
          </a:xfrm>
        </p:grpSpPr>
        <p:sp>
          <p:nvSpPr>
            <p:cNvPr id="315" name=""/>
            <p:cNvSpPr/>
            <p:nvPr/>
          </p:nvSpPr>
          <p:spPr>
            <a:xfrm flipH="1">
              <a:off x="7239240" y="4800600"/>
              <a:ext cx="380880" cy="762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20120" y="4800600"/>
              <a:ext cx="533520" cy="762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848360" y="5562720"/>
              <a:ext cx="304920" cy="4572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153640" y="5562720"/>
              <a:ext cx="304560" cy="4572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62920" y="5486400"/>
              <a:ext cx="228600" cy="381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772400" y="6019920"/>
              <a:ext cx="2286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6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305920" y="6019920"/>
              <a:ext cx="22860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9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638680" y="3429000"/>
            <a:ext cx="1219320" cy="1219320"/>
            <a:chOff x="5638680" y="3429000"/>
            <a:chExt cx="1219320" cy="1219320"/>
          </a:xfrm>
        </p:grpSpPr>
        <p:sp>
          <p:nvSpPr>
            <p:cNvPr id="323" name=""/>
            <p:cNvSpPr/>
            <p:nvPr/>
          </p:nvSpPr>
          <p:spPr>
            <a:xfrm flipH="1">
              <a:off x="5638680" y="3429000"/>
              <a:ext cx="380880" cy="762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19560" y="3429000"/>
              <a:ext cx="533520" cy="76212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6247800" y="4191120"/>
              <a:ext cx="304920" cy="4572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53080" y="4191120"/>
              <a:ext cx="304920" cy="4572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4648320" y="4952880"/>
            <a:ext cx="1218600" cy="1295280"/>
            <a:chOff x="4648320" y="4952880"/>
            <a:chExt cx="1218600" cy="1295280"/>
          </a:xfrm>
        </p:grpSpPr>
        <p:sp>
          <p:nvSpPr>
            <p:cNvPr id="328" name=""/>
            <p:cNvSpPr/>
            <p:nvPr/>
          </p:nvSpPr>
          <p:spPr>
            <a:xfrm flipH="1">
              <a:off x="4648320" y="5029200"/>
              <a:ext cx="380880" cy="7617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029200" y="5029200"/>
              <a:ext cx="532800" cy="7617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5257440" y="5790960"/>
              <a:ext cx="304200" cy="4572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62360" y="5790960"/>
              <a:ext cx="304560" cy="45720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6560" y="4952880"/>
              <a:ext cx="30456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‘</a:t>
              </a: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a’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410080" y="5562360"/>
              <a:ext cx="30456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‘</a:t>
              </a: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b’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124080" y="2819520"/>
            <a:ext cx="1523880" cy="1523520"/>
            <a:chOff x="3124080" y="2819520"/>
            <a:chExt cx="1523880" cy="1523520"/>
          </a:xfrm>
        </p:grpSpPr>
        <p:sp>
          <p:nvSpPr>
            <p:cNvPr id="335" name=""/>
            <p:cNvSpPr/>
            <p:nvPr/>
          </p:nvSpPr>
          <p:spPr>
            <a:xfrm flipH="1">
              <a:off x="3276360" y="2895480"/>
              <a:ext cx="380880" cy="7617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57240" y="2895480"/>
              <a:ext cx="533520" cy="7617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3885480" y="3657600"/>
              <a:ext cx="304920" cy="456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90760" y="3657600"/>
              <a:ext cx="304920" cy="456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04960" y="2819520"/>
              <a:ext cx="3049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1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3429000"/>
              <a:ext cx="3045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24080" y="3581280"/>
              <a:ext cx="30456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‘</a:t>
              </a: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a’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33560" y="4114800"/>
              <a:ext cx="3049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‘</a:t>
              </a: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b’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43040" y="4114800"/>
              <a:ext cx="304920" cy="22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‘</a:t>
              </a:r>
              <a:r>
                <a:rPr b="1" lang="en-US" sz="1600" spc="-1" strike="noStrike">
                  <a:solidFill>
                    <a:srgbClr val="003366"/>
                  </a:solidFill>
                  <a:latin typeface="Comic Sans MS"/>
                </a:rPr>
                <a:t>c’</a:t>
              </a:r>
              <a:endParaRPr b="0" lang="en-US" sz="16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unctions on Tre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ransforming one kind of tree into another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Tree :: (a-&gt;b) -&gt; Tree a -&gt; Tree b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Tree f (Leaf x)       = Leaf (f x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Tree f (Branch t1 t2) = Branch (mapTree f t1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mapTree f t2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llecting the items in a tre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ringe               :: Tree a -&gt; [a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ringe (Leaf x)       = [x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ringe (Branch t1 t2) = fringe t1 ++ fringe t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at kind of information is lost using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ring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re Functions on Tre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eeSize               :: Tree a -&gt; Integ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eeSize (Leaf x)       = 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eeSize (Branch t1 t2) = treeSize t1 + treeSize t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eeHeight               :: Tree a -&gt; Integ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eeHeight (Leaf x)       = 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eeHeight (Branch t1 t2) = 1 + max (treeHeight t1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treeHeight t2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apture the Pattern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of Recurs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81817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ny of our functions on trees have similar structure.  Can we apply the abstraction principle?  Yes we can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oldTree :: (a -&gt; a -&gt; a) -&gt; (b -&gt; a) -&gt; Tree b -&gt; 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oldTree combine leafFn (Leaf x) = leafFn x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oldTree combine leafFn (Branch t1 t2)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mbine (foldTree combine leafFn t1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foldTree combine leafFn t2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Using </a:t>
            </a: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foldTre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With </a:t>
            </a:r>
            <a:r>
              <a:rPr b="1" lang="en-US" sz="2800" spc="-1" strike="noStrike">
                <a:solidFill>
                  <a:srgbClr val="800000"/>
                </a:solidFill>
                <a:latin typeface="Courier New"/>
              </a:rPr>
              <a:t>foldTree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we can redefine the previous functions as: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Tree f  = foldTree Branch fu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here fun x = Leaf (f x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ringe     = foldTree (++) fu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here fun x = [x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eeSize   = foldTree (+) (const 1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eeHeight = foldTree fun (const 0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here fun x y = 1 + max x y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rithmetic Express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Expr = C Float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Add Expr Expr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Sub Expr Exp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Mul Expr Expr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Div Expr Exp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r, using infix constructor name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3" marL="1428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Expr = C Float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Expr :+ Expr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Expr :- Exp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Expr :* Expr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Expr :/ Expr 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5562720" y="3886200"/>
            <a:ext cx="3429000" cy="1676520"/>
          </a:xfrm>
          <a:prstGeom prst="wedgeRoundRectCallout">
            <a:avLst>
              <a:gd name="adj1" fmla="val -72638"/>
              <a:gd name="adj2" fmla="val 29638"/>
              <a:gd name="adj3" fmla="val 16667"/>
            </a:avLst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Infix constructors begin with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a colon (:) , whereas ordinary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constructor functions begin with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an upper-case character.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9T13:56:38Z</dcterms:created>
  <dc:creator>Tim Sheard</dc:creator>
  <dc:description/>
  <dc:language>en-US</dc:language>
  <cp:lastModifiedBy>Paul Hudak</cp:lastModifiedBy>
  <cp:lastPrinted>1999-02-09T16:10:38Z</cp:lastPrinted>
  <dcterms:modified xsi:type="dcterms:W3CDTF">2004-09-15T15:28:45Z</dcterms:modified>
  <cp:revision>84</cp:revision>
  <dc:subject/>
  <dc:title>Lecture #9,  Feb. 10,  1999</dc:title>
</cp:coreProperties>
</file>