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BA0-A487-4205-AD36-5AFD0CEF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5EB-28FE-473E-9742-FC52D0BD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17C-C5F1-4611-B8A9-8557DFD48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4E44-D7EF-4624-B16A-CF687F2E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F285-7591-459C-B9E8-CCD50DB5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CA72-B28A-46FF-AF87-99825015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7E8D-F6B8-4301-9C54-39F1EA6A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621F-C1E9-4900-8E76-A7C64D9F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F61D-3A52-4336-9AEF-E29A92B4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E161-229E-4E0F-BE3A-6AC09688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3ECF-4DAF-4F32-A074-DCCC7CAA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A57A-DF17-49B3-AB9A-50EAA184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E649-D513-449E-ADCA-E13AD454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0E44-83D8-4F76-BFD2-DF657C6A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6596-6953-4842-BED3-A059C8FA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1177-AE19-46B9-8506-1ECA857A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F5E2-1249-4535-99AB-FA87088A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F953-A0CC-4781-A13E-FD4FDB26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B1C1-CE87-48B1-940C-02342EA6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6FD-4722-4AA4-AA75-A9C7AF9C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97E3-C55A-4569-930C-A1D0079A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72E-49D2-46D1-A787-480C79EF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FAE-F248-4C00-8210-1FC5D345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E7A4-A8FA-4382-9FF5-85AA2F55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8AB0-75FF-4C8F-A48D-974781F833D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2AE1-DCA4-497E-BC55-A0070BEAF28F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8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A Module of Region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Left Side of a Lin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1371600" y="2286000"/>
            <a:ext cx="5791320" cy="327672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1144440" y="56894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 = (ax,a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0" y="1142640"/>
            <a:ext cx="9144000" cy="51814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3" name=""/>
          <p:cNvSpPr/>
          <p:nvPr/>
        </p:nvSpPr>
        <p:spPr>
          <a:xfrm>
            <a:off x="7088040" y="23734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 = (bx,b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4" name=""/>
          <p:cNvSpPr/>
          <p:nvPr/>
        </p:nvSpPr>
        <p:spPr>
          <a:xfrm>
            <a:off x="856080" y="2111400"/>
            <a:ext cx="429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r a ray directed from poin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o poin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a poin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to the left of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ray (facing from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to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) when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5" name=""/>
          <p:cNvSpPr/>
          <p:nvPr/>
        </p:nvSpPr>
        <p:spPr>
          <a:xfrm>
            <a:off x="3048120" y="4648320"/>
            <a:ext cx="5867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sLeftOf :: Coordinate -&gt; Ray -&gt;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px,py) `isLeftOf` ((ax,ay),(bx,by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let (s,t) = (px-ax, py-a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u,v) = (px-bx, py-b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  s*v &gt;= t*u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ype Ray = (Coordinate, Coordinate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6" name=""/>
          <p:cNvSpPr/>
          <p:nvPr/>
        </p:nvSpPr>
        <p:spPr>
          <a:xfrm>
            <a:off x="3044880" y="3403440"/>
            <a:ext cx="152280" cy="136800"/>
          </a:xfrm>
          <a:prstGeom prst="ellipse">
            <a:avLst/>
          </a:prstGeom>
          <a:solidFill>
            <a:srgbClr val="0033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5486400"/>
            <a:ext cx="152640" cy="136440"/>
          </a:xfrm>
          <a:prstGeom prst="ellipse">
            <a:avLst/>
          </a:prstGeom>
          <a:solidFill>
            <a:srgbClr val="0033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7086600" y="2209680"/>
            <a:ext cx="152280" cy="136800"/>
          </a:xfrm>
          <a:prstGeom prst="ellipse">
            <a:avLst/>
          </a:prstGeom>
          <a:solidFill>
            <a:srgbClr val="0033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268360" y="35402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 = (px,p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olyg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409360" y="2498040"/>
            <a:ext cx="2820600" cy="1981800"/>
            <a:chOff x="5409360" y="2498040"/>
            <a:chExt cx="2820600" cy="1981800"/>
          </a:xfrm>
        </p:grpSpPr>
        <p:cxnSp>
          <p:nvCxnSpPr>
            <p:cNvPr id="342" name=""/>
            <p:cNvCxnSpPr/>
            <p:nvPr/>
          </p:nvCxnSpPr>
          <p:spPr>
            <a:xfrm flipV="1">
              <a:off x="6937200" y="3323880"/>
              <a:ext cx="1293120" cy="1156320"/>
            </a:xfrm>
            <a:prstGeom prst="straightConnector1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</p:cxnSp>
        <p:cxnSp>
          <p:nvCxnSpPr>
            <p:cNvPr id="343" name=""/>
            <p:cNvCxnSpPr/>
            <p:nvPr/>
          </p:nvCxnSpPr>
          <p:spPr>
            <a:xfrm flipH="1" flipV="1">
              <a:off x="7876440" y="2498040"/>
              <a:ext cx="353160" cy="826200"/>
            </a:xfrm>
            <a:prstGeom prst="straightConnector1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</p:cxnSp>
        <p:cxnSp>
          <p:nvCxnSpPr>
            <p:cNvPr id="344" name=""/>
            <p:cNvCxnSpPr/>
            <p:nvPr/>
          </p:nvCxnSpPr>
          <p:spPr>
            <a:xfrm flipH="1">
              <a:off x="5820120" y="2498400"/>
              <a:ext cx="2056680" cy="110520"/>
            </a:xfrm>
            <a:prstGeom prst="straightConnector1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</p:cxnSp>
        <p:cxnSp>
          <p:nvCxnSpPr>
            <p:cNvPr id="345" name=""/>
            <p:cNvCxnSpPr/>
            <p:nvPr/>
          </p:nvCxnSpPr>
          <p:spPr>
            <a:xfrm flipH="1">
              <a:off x="5409360" y="2608560"/>
              <a:ext cx="411480" cy="1156320"/>
            </a:xfrm>
            <a:prstGeom prst="straightConnector1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</p:cxnSp>
        <p:cxnSp>
          <p:nvCxnSpPr>
            <p:cNvPr id="346" name=""/>
            <p:cNvCxnSpPr/>
            <p:nvPr/>
          </p:nvCxnSpPr>
          <p:spPr>
            <a:xfrm>
              <a:off x="5410080" y="3763800"/>
              <a:ext cx="1527840" cy="716040"/>
            </a:xfrm>
            <a:prstGeom prst="straightConnector1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</p:cxnSp>
      </p:grpSp>
      <p:sp>
        <p:nvSpPr>
          <p:cNvPr id="347" name=""/>
          <p:cNvSpPr/>
          <p:nvPr/>
        </p:nvSpPr>
        <p:spPr>
          <a:xfrm>
            <a:off x="914400" y="2498760"/>
            <a:ext cx="3825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 poin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contained within a (convex) polygon if it is to the left of every side, when they are followed in counter-clockwise order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3187800"/>
            <a:ext cx="152280" cy="136440"/>
          </a:xfrm>
          <a:prstGeom prst="ellipse">
            <a:avLst/>
          </a:prstGeom>
          <a:solidFill>
            <a:srgbClr val="003366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9" name=""/>
          <p:cNvSpPr/>
          <p:nvPr/>
        </p:nvSpPr>
        <p:spPr>
          <a:xfrm>
            <a:off x="6554880" y="3187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0" name=""/>
          <p:cNvSpPr/>
          <p:nvPr/>
        </p:nvSpPr>
        <p:spPr>
          <a:xfrm>
            <a:off x="809640" y="4479840"/>
            <a:ext cx="833436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olygon pts `containsS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let shiftpts = tail pts ++ [head pts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eftOfList = map isLeftOfp (zip pts shiftpt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sLeftOfp p' = isLeftOf p p'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 and leftOfLis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ight Triang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09640" y="2437920"/>
            <a:ext cx="795816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tTriangle s1 s2 `containsS` p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= Polygon [(0,0),(s1,0),(0,s2)] `containsS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3" name=""/>
          <p:cNvSpPr/>
          <p:nvPr/>
        </p:nvSpPr>
        <p:spPr>
          <a:xfrm>
            <a:off x="4052880" y="6294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1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3171960" y="3786120"/>
            <a:ext cx="2514600" cy="248148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2625840" y="6267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(0,0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459160" y="34765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(0,s2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5689440" y="62676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(s1,0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2763720" y="47656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2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utting it all Togethe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tainsS :: Shape -&gt; Vertex -&gt;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ctangle s1 s2 `containsS` (x,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let t1 = s1/2; t2 = s2/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 -t1&lt;=x &amp;&amp; x&lt;=t1 &amp;&amp; -t2&lt;=y &amp;&amp; y&lt;=t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llipse r1 r2 `containsS` (x,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(x/r1)^2 + (y/r2)^2 &lt;= 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olygon pts `containsS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let shiftpts   = tail pts ++ [head pts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eftOfList = map isLeftOfp (zip pts shiftpt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sLeftOfp p' = isLeftOf p p'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 and leftOfLis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tTriangle s1 s2 `containsS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Polygon [(0,0),(s1,0),(0,s2)] `containsS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efining</a:t>
            </a:r>
            <a:r>
              <a:rPr b="1" lang="en-US" sz="4400" spc="-1" strike="noStrike">
                <a:solidFill>
                  <a:srgbClr val="800000"/>
                </a:solidFill>
                <a:latin typeface="Courier New"/>
              </a:rPr>
              <a:t> containsR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Using Recurs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09640" y="213372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tainsR :: Region -&gt; Vertex -&gt;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ape s `containsR` p = s `containsS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anslate (u,v) r `containsR` (x,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r `containsR` (x-u,y-v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cale (u,v) r     `containsR` (x,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r `containsR` (x/u,y/v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mplement r      `containsR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not (r `containsR` p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1 `Union` r2     `containsR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r1 `containsR` p || r2 `containsR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1 `Intersect` r2 `containsR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r1 `containsR` p &amp;&amp; r2 `containsR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mpty     `containsR` p = Fals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n Algebra of Reg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e that, for any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1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and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3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(r1 `Union` (r2 `Union` r3)) `containsR` p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f and only if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(r1 `Union` r2) `Union` r3)) `containsR` p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ich we can abbreviate as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(r1 `Union` (r2 `Union` r3)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((r1 `Union` r2) `Union` r3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other words,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Un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associativ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can prove this fact via calculat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2198520" y="4524480"/>
            <a:ext cx="246240" cy="122040"/>
            <a:chOff x="2198520" y="4524480"/>
            <a:chExt cx="246240" cy="122040"/>
          </a:xfrm>
        </p:grpSpPr>
        <p:sp>
          <p:nvSpPr>
            <p:cNvPr id="366" name=""/>
            <p:cNvSpPr/>
            <p:nvPr/>
          </p:nvSpPr>
          <p:spPr>
            <a:xfrm>
              <a:off x="2198520" y="4524480"/>
              <a:ext cx="24624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98520" y="4646520"/>
              <a:ext cx="24624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98520" y="4585320"/>
              <a:ext cx="24624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roof of Associativity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216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r1 `Union` (r2 `Union` r3)) `containsR` p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r1 `containsR` p) ||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((r2 `Union` r3) `containsR` p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r1 `containsR` p) ||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((r2 `containsR` p) || (r3 `containsR` p)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(r1 `containsR` p) || (r2 `containsR` p)) ||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(r3 `containsR` p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(r1 `Union` r2) `containsR` p) ||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(r3 `containsR` p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(r1 `Union` r2) `Union` r3) `containsR` p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Note that the proof depends on the associativity of (||), which can also be proved by calculation, but we take it as given.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re Axiom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re are many useful axioms for region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Courier New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Un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tersec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re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associativ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Courier New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Un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tersec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re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commutativ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Courier New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Un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tersec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re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distributiv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Courier New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mpty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univ = Complement Empty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re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zero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for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Un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tersec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respectively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Courier New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 `Union` Complement r        univ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 and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 `Intersect` Complement r    Empty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609480" indent="-60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is set of axioms captures what is called a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boolean algebra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5987880" y="4524480"/>
            <a:ext cx="246240" cy="122040"/>
            <a:chOff x="5987880" y="4524480"/>
            <a:chExt cx="246240" cy="122040"/>
          </a:xfrm>
        </p:grpSpPr>
        <p:sp>
          <p:nvSpPr>
            <p:cNvPr id="374" name=""/>
            <p:cNvSpPr/>
            <p:nvPr/>
          </p:nvSpPr>
          <p:spPr>
            <a:xfrm>
              <a:off x="5987880" y="4524480"/>
              <a:ext cx="24624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87880" y="4646520"/>
              <a:ext cx="24624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87880" y="4585320"/>
              <a:ext cx="24624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000840" y="4786200"/>
            <a:ext cx="245880" cy="122400"/>
            <a:chOff x="6000840" y="4786200"/>
            <a:chExt cx="245880" cy="122400"/>
          </a:xfrm>
        </p:grpSpPr>
        <p:sp>
          <p:nvSpPr>
            <p:cNvPr id="378" name=""/>
            <p:cNvSpPr/>
            <p:nvPr/>
          </p:nvSpPr>
          <p:spPr>
            <a:xfrm>
              <a:off x="6000840" y="4786200"/>
              <a:ext cx="24588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00840" y="4908600"/>
              <a:ext cx="24588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00840" y="4847400"/>
              <a:ext cx="245880" cy="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Region Data Typ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represents an area on the two-dimensional Cartesian plan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t is represented by a tree-like data structur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Region =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ape Shape               -- primitive shap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Translate Vector Region   -- translated 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Scale     Vector Region   -- scaled 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Complement Region         -- inverse of reg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Region `Union` Region     -- union of region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Region `Intersect` Region -- intersection of region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Empty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eriving Sho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ype Vector = (Float, Float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Questions about Reg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y is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tree-like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at is the strategy for writing functions over regions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 there a fold-function for regions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ow many parameters does it have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at is its type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an one define infinite regions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ff"/>
                </a:solidFill>
                <a:latin typeface="Comic Sans MS"/>
              </a:rPr>
              <a:t>What does a region mean? 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ets and Characteristic Func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91640" y="2057400"/>
            <a:ext cx="819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ow can we represent an infinite set in Haskell?  E.g.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set of all even number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set of all prime number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could use an infinite list, but then searching it might take a very long time!  (Membership becomes semi-decidable.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characteristic funct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for a set containing elements of typ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a function of type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z -&gt; Bool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at indicates whether or not a given element is in the set.  Since that information completely characterizes a set, we can use it to represent a set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type Set a = a -&gt;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ven  :: Set Integer       -- Integer -&gt; Boo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ven x = (x `mod` 2) == 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mbining Set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f sets are represented by characteristic functions, then how do we represent th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un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of two sets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intersect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of two sets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compleme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of a set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-class exercise – define the following Haskell functions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union     s1 s2 =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intersect s1 s2 =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complement   s  =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will use these later to define similar operations on region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Why Regions?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09280" y="2214720"/>
            <a:ext cx="833436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gions (as defined in the text) are interesting becaus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y allow us to build complex “shapes” from simpler one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y illustrate the use of tree-like data structure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y “solve” the problem of having rectangles and ellipses centered about the origi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ir meaning can be given as characteristic functions, since</a:t>
            </a:r>
            <a:r>
              <a:rPr b="0" i="1" lang="en-US" sz="2000" spc="-1" strike="noStrike">
                <a:solidFill>
                  <a:srgbClr val="3333ff"/>
                </a:solidFill>
                <a:latin typeface="Comic Sans MS"/>
              </a:rPr>
              <a:t> a region denotes the set of points contained within it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haracteristic Functions for Reg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830592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define the meaning of regions by a function:</a:t>
            </a:r>
            <a:br>
              <a:rPr sz="2000"/>
            </a:b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tainsR :: Region -&gt; Coordinate -&gt; Bool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type Coordinate = (Float, Float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e tha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tainsR r :: Coordinate -&gt; Bool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which is a characteristic function.  So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tains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“gives meaning to” region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other way to see this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containsR :: Region -&gt; Set Coordinat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can defin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tains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recursively, using pattern matching over the structure of a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g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ince the base cases of the recursion are primitive shapes, we also need a function that gives meaning to primitive shapes; we will call this function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tains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ectang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09320"/>
            <a:ext cx="795816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ctangle s1 s2 `containsS` (x,y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let t1 = s1/2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t2 = s2/2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in -t1&lt;=x &amp;&amp; x&lt;=t1 &amp;&amp; -t2&lt;=y &amp;&amp; y&lt;=t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1447920" y="3505320"/>
            <a:ext cx="6400800" cy="3124080"/>
            <a:chOff x="1447920" y="3505320"/>
            <a:chExt cx="6400800" cy="3124080"/>
          </a:xfrm>
        </p:grpSpPr>
        <p:sp>
          <p:nvSpPr>
            <p:cNvPr id="307" name=""/>
            <p:cNvSpPr/>
            <p:nvPr/>
          </p:nvSpPr>
          <p:spPr>
            <a:xfrm>
              <a:off x="3200400" y="4343400"/>
              <a:ext cx="2286000" cy="1523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47920" y="5105520"/>
              <a:ext cx="6400800" cy="14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43400" y="3505320"/>
              <a:ext cx="1440" cy="31240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08200" y="3727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Courier New"/>
                </a:rPr>
                <a:t>s1</a:t>
              </a:r>
              <a:endParaRPr b="0" lang="en-US" sz="20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16440" y="454644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Courier New"/>
                </a:rPr>
                <a:t>s2</a:t>
              </a:r>
              <a:endParaRPr b="0" lang="en-US" sz="20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01840" y="4089240"/>
              <a:ext cx="2286000" cy="18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15000" y="4419720"/>
              <a:ext cx="1440" cy="14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91320" y="4343400"/>
              <a:ext cx="1440" cy="1523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05320" y="4648320"/>
              <a:ext cx="48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Courier New"/>
                </a:rPr>
                <a:t>t1</a:t>
              </a:r>
              <a:endParaRPr b="0" lang="en-US" sz="20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3200400" y="4952520"/>
              <a:ext cx="1143000" cy="18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76920" y="4343400"/>
              <a:ext cx="1440" cy="762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62520" y="45306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Courier New"/>
                </a:rPr>
                <a:t>t2</a:t>
              </a:r>
              <a:endParaRPr b="0" lang="en-US" sz="20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llips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58760" y="2361960"/>
            <a:ext cx="7602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llipse r1 r2 `containsS` (x,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(x/r1)^2 + (y/r2)^2 &lt;= 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23880" y="3276720"/>
            <a:ext cx="6172200" cy="3352680"/>
            <a:chOff x="1523880" y="3276720"/>
            <a:chExt cx="6172200" cy="3352680"/>
          </a:xfrm>
        </p:grpSpPr>
        <p:sp>
          <p:nvSpPr>
            <p:cNvPr id="322" name=""/>
            <p:cNvSpPr/>
            <p:nvPr/>
          </p:nvSpPr>
          <p:spPr>
            <a:xfrm>
              <a:off x="1523880" y="4876920"/>
              <a:ext cx="617220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72000" y="3276720"/>
              <a:ext cx="0" cy="33526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124080" y="3962520"/>
              <a:ext cx="2895840" cy="1828800"/>
            </a:xfrm>
            <a:prstGeom prst="ellipse">
              <a:avLst/>
            </a:prstGeom>
            <a:noFill/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62520" y="45309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Courier New"/>
                </a:rPr>
                <a:t>r1</a:t>
              </a:r>
              <a:endParaRPr b="0" lang="en-US" sz="20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176720" y="4149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Courier New"/>
                </a:rPr>
                <a:t>r2</a:t>
              </a:r>
              <a:endParaRPr b="0" lang="en-US" sz="20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4572000" y="3962520"/>
              <a:ext cx="0" cy="9144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72000" y="4876920"/>
              <a:ext cx="1447920" cy="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1T15:30:59Z</dcterms:created>
  <dc:creator>Tim Sheard</dc:creator>
  <dc:description/>
  <dc:language>en-US</dc:language>
  <cp:lastModifiedBy>Paul Hudak</cp:lastModifiedBy>
  <cp:lastPrinted>1999-02-15T13:33:21Z</cp:lastPrinted>
  <dcterms:modified xsi:type="dcterms:W3CDTF">2004-09-15T13:37:59Z</dcterms:modified>
  <cp:revision>106</cp:revision>
  <dc:subject/>
  <dc:title>Lecture #10,  Feb. 15,  1999</dc:title>
</cp:coreProperties>
</file>