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2AFB-4242-43F4-8379-49B24237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C0D-31B5-4745-879C-11F15706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FB59-FD32-4C71-B2D8-B374E74D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966-FA2C-4B93-A88B-FCFE5C60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EF4E-746D-497C-AAD8-1A429860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1FDE-2A46-4408-B45F-7C2F822F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FB10-40AE-4385-9D55-7BE671E5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8090-2EBE-4274-9D36-070FA9D9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12A1-C19C-4B7E-AE5D-617EE5C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1F4B-CA89-4BC7-96AE-10DF25E7B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C106-245A-4F98-AE6A-9733A7DB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365-FC0B-4D14-B52F-0C11A79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674F-E8CB-43B6-B283-4060DF13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4FCB8-3767-44CB-959C-37A3B446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CAAC-1CD2-43ED-8CE4-E01E76E9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B4EB-1D15-472B-8BC7-D509C193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9C99-C2D5-4B1E-B251-BC0867B0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34D-A984-46F6-9FAD-F716C440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B91-0233-4930-ADAA-D7224BF2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64A-6AA5-4431-AD02-5B83AB2F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0DE-C8D4-415D-B2C5-E84DB9CD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67F-75E3-48D6-8F8E-0BB2472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B6A-0D89-45A7-998F-B797BD5F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69C-9B4B-41D3-AADE-53C0534D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24EC-ACE9-46AC-91C9-8B75446D598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FFB3-FFB4-4BB4-A7FC-4F56DEBE95B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21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Interpreting Functional Music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xioms for Music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063520"/>
            <a:ext cx="795816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empo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ultiplica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Transpose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ddi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1 (Tempo r2 m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(r1*r2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1 (Trans p2 m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(p1+p2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unction composition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mmuta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with respect to both tempo scaling and transposition.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1 . Tempo r2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2 . Tempo r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1 . Trans p2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2 . Trans p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1 . Trans p1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1 . Tempo r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empo scaling and transposition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istribu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ver both sequential and parallel composition.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(m1 :+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m1 :+: Tempo r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(m1 :=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m1 :=: Tempo r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(m1 :+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m1 :+: Trans p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(m1 :=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m1 :=: Trans p m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Axio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169720"/>
            <a:ext cx="7958160" cy="41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equential and parallel composition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ssocia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0 :+: (m1 :+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0 :+: m1) :+: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0 :=: (m1 :=: m2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0 :=: m1) :=: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arallel composition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mmutativ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0 :=: m1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1 :=: m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st 0 is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ni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Tempo and Trans, and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zero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sequential and parallel composition.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empo r (Rest 0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st 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p (Rest 0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st 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:+: Rest 0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st 0 :+: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:=: Rest 0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st 0 :=: m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pletenes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set of axioms so far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oun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dding this axiom (stated as an exercise in the text) makes the se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mplet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0 :+: m1) :=: (m2 :+: m3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0 :=: m2) :+: (m1 :=: m3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dur m0 = dur m2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is called the “serial-parallel axiom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ictorially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760400" y="5040360"/>
            <a:ext cx="5562720" cy="1143000"/>
            <a:chOff x="1760400" y="5040360"/>
            <a:chExt cx="5562720" cy="1143000"/>
          </a:xfrm>
        </p:grpSpPr>
        <p:sp>
          <p:nvSpPr>
            <p:cNvPr id="315" name=""/>
            <p:cNvSpPr/>
            <p:nvPr/>
          </p:nvSpPr>
          <p:spPr>
            <a:xfrm>
              <a:off x="1760400" y="5040360"/>
              <a:ext cx="220968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60400" y="5649840"/>
              <a:ext cx="2209680" cy="5335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03800" y="5040360"/>
              <a:ext cx="1219320" cy="11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37120" y="5040360"/>
              <a:ext cx="838080" cy="11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13080" y="5116320"/>
              <a:ext cx="68580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0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3080" y="5726160"/>
              <a:ext cx="68580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80120" y="5116320"/>
              <a:ext cx="106668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1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180120" y="5726160"/>
              <a:ext cx="106668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3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36720" y="5116320"/>
              <a:ext cx="68580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0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36720" y="5726160"/>
              <a:ext cx="68580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27080" y="5116320"/>
              <a:ext cx="106704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1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27080" y="5726160"/>
              <a:ext cx="1067040" cy="33732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66"/>
                  </a:solidFill>
                  <a:latin typeface="Comic Sans MS"/>
                </a:rPr>
                <a:t>m3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282200" y="534996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≡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program written in any language, including a DSL, must have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eaning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i.e.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terpreta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notation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odel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emantics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all of these terms are equivalent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FAL program denotes a time-varying animation, captured concretely in the type “Behavior” and the function “reactimate”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 IRL program denotes a state transformer, captured concretely in the type “Robot” and the function “runRobot”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is the meaning of an MDL program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bstractly, an MDL program denotes a piece of musi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cretely, it will denote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erformance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which is a sequence of musical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vent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 MDL program denotes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performance:</a:t>
            </a:r>
            <a:br>
              <a:rPr sz="2400"/>
            </a:br>
            <a:br>
              <a:rPr sz="800"/>
            </a:br>
            <a:r>
              <a:rPr b="0" i="1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erformance = [ Event ]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Event    = Event {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Time :: Time, eInst :: IName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Pitch :: AbsPitch, eDur :: DurT  }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deriving (Eq, Ord, Show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Tim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Dur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 event “Event t i p d” means that instrument i sounds pitch p at time t for duration 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performance p is assumed to be time-ordered, and simultaneous events are allow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rom Music to Performanc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convert a Music value to a Performance, we need to know the start time, default instrument, tempo, and key.  This is called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ntext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Context = Context { cTime :: Time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start 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cInst :: IName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instrume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cDur  :: DurT,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empo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cKey  :: Key }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ke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Show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Key     = AbsPitch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n a Music value’s meaning is captured by:</a:t>
            </a:r>
            <a:br>
              <a:rPr sz="2400"/>
            </a:br>
            <a:br>
              <a:rPr sz="20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:: Context -&gt; Music -&gt; Performanc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mpo and Metronom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tempo” is the duration, in seconds, of a whole not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convenience, we define a metronome function:</a:t>
            </a:r>
            <a:br>
              <a:rPr sz="2400"/>
            </a:br>
            <a:br>
              <a:rPr sz="800"/>
            </a:br>
            <a:r>
              <a:rPr b="0" lang="en-US" sz="7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tro :: Float -&gt; Dur -&gt; Du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tro setting dur = 60 / (setting * ratioToFloat dur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“metro 96 qn” corresponds to a tempo of 96 quarter notes per minut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ime to Perform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:: Context -&gt; Music -&gt; Performanc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c@(Context t i dt k) m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e m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Note p 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 let d' = rtf d * d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in [Event t i (transpose p k i) d'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Rest 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 [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m1 :+: m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 perform c m1 ++ perfor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c {cTime = t + rtf (dur m1) * dt})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m1 :=: m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merge (perform c m1) (perform c m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Tempo a m  -&gt; perform (c {cDur = dt / rtf a}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Trans p 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-&gt; perform (c {cKey = k + p}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str nm m -&gt; perform (c {cInst = nm}) 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 transpose p k Percussion = absPitch 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transpose p k _               = absPitch p + k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rtf = ratioToFloat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[ Note: the treatment of (:+:) is inefficient (why?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See the text for a more efficient solution. 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erg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function “merge” must preserve the time-ordered nature of its argument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correct but inefficient solution would b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:: Performance -&gt; Performance -&gt; Performanc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es1 es2 = sort (es1 ++ es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more efficient solution i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a@(e1:es1) b@(e2:es2)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e1 &lt; e2 then e1 : merge es1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else e2 : merge a es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[] es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es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rge es1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es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we are willing to give up a certain algebraic property (discussed later), the text gives an even more efficient soluti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 Algebra of Music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71040" y="2192040"/>
            <a:ext cx="8334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hese two Music values:</a:t>
            </a:r>
            <a:br>
              <a:rPr sz="2400"/>
            </a:b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1 :+: m2) :+: m3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m1 :+: (m2 :+: m3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Haskell values, they are not equal.  But under any reasonable interpretation of music, they should be.  “If they sound the same, they are the same.”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finition:</a:t>
            </a:r>
            <a:br>
              <a:rPr sz="2400"/>
            </a:br>
            <a:br>
              <a:rPr sz="800"/>
            </a:b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wo musical values m1 and m2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quival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ten m1 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2, if and only if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(</a:t>
            </a:r>
            <a:r>
              <a:rPr b="1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∀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)  perform c m1 = perform c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us we expect that:</a:t>
            </a:r>
            <a:br>
              <a:rPr sz="2400"/>
            </a:br>
            <a:br>
              <a:rPr sz="800"/>
            </a:br>
            <a:r>
              <a:rPr b="0" lang="en-US" sz="9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1 :+: m2) :+: m3  </a:t>
            </a:r>
            <a:r>
              <a:rPr b="0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m1 :+: (m2 :+: m3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[ Note similarity to equivalence of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region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n Ch. 8. 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xioms and Theore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associative law just given can be proved by unfolding “perform”.</a:t>
            </a:r>
            <a:br>
              <a:rPr sz="2400"/>
            </a:b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[ This is left as an exercise, but see the text for other examples of this technique. 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aws that can only be proved by appealing to the model are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xiom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aws that can be proved using only the axioms are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heorem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an axiom is true it is said to b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oun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f any equivalence can be expressed using the set of axioms, the set is said to b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mplet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sound and complete set of axioms is called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xiomatic semantic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1-05T15:20:43Z</dcterms:modified>
  <cp:revision>298</cp:revision>
  <dc:subject/>
  <dc:title>Lecture #1,  Sept. 30, 1996</dc:title>
</cp:coreProperties>
</file>