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C255-6E7F-4874-B44D-1EFA21EC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768-953F-4548-9748-3EE495B0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9BB-A91E-441F-9B62-00561982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CCF2-6F5E-40E9-BBB6-F232C549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3F69-30EE-47A8-9CFA-EA93A81A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DF604-BDA4-4A35-8CF8-7FB04FA3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28E0-18A3-4187-BFD1-617B9F2A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E114-7E7B-4DEA-B5AE-16349EC7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7723-7818-4992-962B-BBBBF379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B2A6-09CB-459A-A375-F8E9D2F99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CF11-2286-4E4E-9D99-379B374D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A113-1EC6-445F-9207-F811DA79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746D-3856-4986-A5A1-7CEF3265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FCD09-B5AF-4759-850E-5BE0C4D4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B361-9ED6-4C09-80C8-F9B1004A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2A64-E52B-47F6-BC32-6DEB25E9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C66F-08E4-4851-9F3A-05CCB0ED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9F6-9B2A-4708-8E91-A928FF27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65AF-25E7-46A1-B3D7-23387473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C46-BBF9-4BF8-B19B-13ACB08D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58D9-9016-4C6C-9719-168A01A4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4EF-DBDF-4D6D-B14F-1E478E7F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9A5-940C-401A-A3D7-536CCA68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E6F5-D876-4E21-86A9-21979517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C485-22CA-4515-8A60-F805FD1514A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A7CE-2DBD-4730-B6C9-BE20B9D7B240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5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A Module of Reactive Animat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urried Lifting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15364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rom this “lifted” version of application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$*) :: Beh (a-&gt;b) -&gt; Beh a -&gt; Beh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 ff $* Beh fb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 (\uts -&gt; zipWith ($) (ff uts) (fb uts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d the constant lifting operator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0 :: a -&gt; Beh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0 = const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l other lifting operators can be defined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1 :: (a -&gt; b) -&gt; (Beh a -&gt; Beh b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1 f b1  = lift0 f $* b1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2 :: (a -&gt; b -&gt; c) -&gt; (Beh a -&gt; Beh b -&gt; Beh c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2 f b1 b2  = lift1 f b1 $* b2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3 :: (a -&gt; b -&gt; c -&gt; d) -&gt; (Beh a -&gt; Beh b -&gt; Beh c -&gt; Beh d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ft3 f b1 b2 b3  = lift2 f b1 b2 $* b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7315200" y="3352680"/>
            <a:ext cx="1828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Comic Sans MS"/>
              </a:rPr>
              <a:t>(For conciseness, “Beh” is used instead of “Behavior”.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ample Lifting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958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irB :: Behavior a -&gt; Behavior b -&gt; Behavior (a,b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irB = lift2 (,)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stB :: Behavior (a,b)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stB  = lift1 fst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int :: Behavior Color -&gt; Behavior Region -&gt; Behavior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int = lift2 Region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, blue, yellow, green, white, black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    = lift0 R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ue   = lift0 Bl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. .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hape :: Behavior Shape -&gt; Behavior Reg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hape   = lift1 Shape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ll, rec :: Behavior Float -&gt; Behavior Float -&gt; Behavior Reg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ll x y  = shape (lift2 Ellipse   x y)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 x y = shape (lift2 Rectangle x 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See text for more lifting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vents and Reactivit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bstractly, we can think of events as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ype Event a = Behavior (Maybe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for type safety, this is better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Event a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Event ( ([Maybe UserAction], [Time]) -&gt; [Maybe a]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re of FAL’s reactivity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ntil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Behavior a -&gt; Event (Behavior a) -&gt; Behavior a</a:t>
            </a:r>
            <a:br>
              <a:rPr sz="20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witch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Behavior a -&gt; Event (Behavior a)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-&gt;&gt;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Event a -&gt; b -&gt; Event b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=&gt;&gt;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Event a -&gt; (a-&gt;b) -&gt; Event b</a:t>
            </a:r>
            <a:br>
              <a:rPr sz="20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lus primitive events such as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bp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Event (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imitive Eve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818208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bp” must look for a “left button press” in the stream of UserAction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bp :: Event (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bp = Event (\(uas,_) -&gt; map getlbp ua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where getlbp (Just (Button _ True True)) = Just (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getlbp   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=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imilarly for “key”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key :: Event Cha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key = Event (\(uas,_) -&gt; map getkey ua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where getkey (Just (Key ch True)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Just ch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getkey   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oth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ing UntilB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214360"/>
            <a:ext cx="83059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ntilB switches into a new behavior carried by the event.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ntil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Behavior a -&gt; Event (Behavior a) -&gt; Behavior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avior fb `untilB` Event fe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moB $ Behavior (\uts@(us,ts) -&gt; loop us ts (fe uts) (fb uts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loop (_:us) (_:ts) ~(e:es) (b:bs)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b : case e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hing -&gt; loop us ts es b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(Behavior fb') -&gt; fb' (us,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moB :: Behavior a -&gt; Behavior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emoB (Behavior fb) = Behavior (memo1 fb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Comic Sans MS"/>
              </a:rPr>
              <a:t>Stare at this code until you understand it completely!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he definition of “switch” is very similar (see text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vent Map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: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 = red `untilB` (lbp -&gt;&gt; blue)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at does “-&gt;&gt;” do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der type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, blue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ntilB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:: Behavior Color -&gt; Event (Behavior Color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-&gt;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b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:: Event (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-&gt;&gt;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:: Event ( ) -&gt;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-&gt; Event (Behavior Color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 (-&gt;&gt;) somehow “tags” an event with a Behavior.  Polymorphically speaking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-&gt;&gt;) :: Event a -&gt; b -&gt; Event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is actually a special case of the more general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=&gt;&gt;) :: Event a -&gt; (a-&gt;b) -&gt; Event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ing Event Map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=&gt;&gt;) is defined as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vent fe =&gt;&gt; f  =  Event (\uts -&gt; map aux (fe uts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ux (Just a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Just (f 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ux Nothin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ich can be defined more succinctly using fmap from the Functor class (discussed in Chapter 18!)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vent fe =&gt;&gt; f  =  Event (map (fmap f) . fe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-&gt;&gt;) is then defined in terms of (=&gt;&gt;)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 -&gt;&gt; v  =  e =&gt;&gt; \_ -&gt; v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Implementing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Predicate Event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ile” is defined as: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 :: Behavior Bool -&gt; Even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 (Behavior fb)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vent (\uts -&gt; map aux (fb uts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  aux Tru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Just (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ux Fals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n” is defined similarly (see text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ing Integr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tegral” is defined b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egral :: Behavior Float -&gt; Behavior Floa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egral (Behavior fb)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avior (\uts@(us,t:ts) -&gt; 0 : loop t 0 ts (fb uts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loop t0 acc (t1:ts) (a:as)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acc' = acc + (t1-t0)*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 acc' : loop t1 acc' ts as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corresponds to the standard definition of integration as a limit in calculus (see text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eppers”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teppers” are convenient variations of switch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tep :: a -&gt; Event a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`step` e = constB a `switch` e =&gt;&gt; constB</a:t>
            </a:r>
            <a:br>
              <a:rPr sz="20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tepAccum :: a -&gt; Event (a-&gt;a)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`stepAccum` e =  b where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 = a `step` (e `snapshot` b =&gt;&gt; uncurry ($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a counter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unter = 0 `stepAccum` lbp -&gt;&gt; (+1)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 example involving `step` is on the next slid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design of animations in Chapter 13 is elegant, and in fact has the feel of a small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omain-specific language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DSL),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mbedded in Haskel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owever, the language lack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reactivity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ability to interact with the user or other external stimuli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is chapter we add reactivity, and call the resulting DSL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unctional animation language,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A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addition, an implementation of FAL is described, using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ream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use Movemen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8181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’s convenient to treat mouse position as a pair of Behavior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use :: (Behavior Float, Behavior Floa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use = (fstB m, sndB m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m = (0,0) `step` m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re “mm” is defined a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m :: Event Coordinat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m = Event (\(uas,_) -&gt; map getmm ua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mm (Just (MouseMove pt))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Just (gPtToPt p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mm _ = Noth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nal Example: Paddleball!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paddleball game consists of three parts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nb-NO" sz="2000" spc="-1" strike="noStrike">
                <a:solidFill>
                  <a:srgbClr val="003366"/>
                </a:solidFill>
                <a:latin typeface="Comic Sans MS"/>
              </a:rPr>
              <a:t>paddleball vel = walls `over` paddle `over` pball vel</a:t>
            </a:r>
            <a:br>
              <a:rPr sz="2400"/>
            </a:br>
            <a:r>
              <a:rPr b="0" lang="nb-NO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Comic Sans MS"/>
              </a:rPr>
              <a:t>Where ”walls” and ”paddle” are defined by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alls = let upper = paint blue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(translate ( 0,1.7) (rec 4.4 0.05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left   =  paint bl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(translate (-2.2,0) (rec 0.05 3.4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right =  paint bl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(translate ( 2.2,0) (rec 0.05 3.4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in upper `over` left `over` right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ddle = paint red (translate (fst mouse, -1.7) (rec 0.5 0.05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core of the game is in “pball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ball vel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vel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vel `stepAccum` xbounce -&gt;&gt; negat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pos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integral xve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bounce = when (xpos &gt;*  2 ||* xpos &lt;* -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vel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vel `stepAccum` ybounce -&gt;&gt; negat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pos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integral yve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bounce  = when (ypos &gt;* 1.5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||* ypos `between` (-2.0,-1.5) &amp;&amp;*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fst mouse `between` (xpos-0.25,xpos+0.25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paint yellow (translate (xpos, ypos) (ell 0.2 0.2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`between` (a,b) = x &gt;* a &amp;&amp;* x &lt;*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AL by 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before, we use the polymorphic data type “Behavior” to capture time-varying valu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 = red `untilB` (lbp -&gt;&gt; blue)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ll1 :: Behavior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ll1 = paint color1 circ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irc :: Behavior Reg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irc = translate (cos time, sin time) (ell 0.2 0.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function “untilB” reflects reactive behavior, and “lbp” corresponds to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ft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b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tton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s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Reactivit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ursive reactivity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r  =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  `untilB` lbp -&gt;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ue `untilB` lbp -&gt;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hoice reactivity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2  = red `untilB`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(lbp -&gt;&gt; blue) .|. (key -&gt;&gt; yellow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ursive, choice reactivity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2r = red `untilB` colorEvent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colorEvent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lbp -&gt;&gt; blue `untilB` colorEvent) .|.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key -&gt;&gt; yellow `untilB` colorEven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ushing recursion into combinator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2h = red `switch` ((lbp -&gt;&gt; blue) .|. (key -&gt;&gt; yellow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vents With Data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vert button-press events into color events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1h = red `switch`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(lbp `withElem_` cycle [blue, red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ispatch on key pres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3 = white `switch` (key =&gt;&gt; \c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case c of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R' -&gt; r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B' -&gt; bl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Y' -&gt; yellow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_   -&gt; white 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arrying state forward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or4 = white `switch`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((key `snapshot` color4) =&gt;&gt; \(c, old) 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case c of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R' -&gt; r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B' -&gt; bl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'Y' -&gt; yellow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_   -&gt; lift0 old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ynamic Eve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Not all events are external.  For example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ile (time &gt;* 42) 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generates no events until time exceeds 42, and then generates events “infinitely often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n (time &gt;* 42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generates exactly one event when the time exceeds 42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lor5  =  red `untilB` (when (time &gt;* 5) -&gt;&gt; blue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tegr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position of a mass under the influence of an accelerating force f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, v :: Behavior Floa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 = s0 + integral v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v = v0 + integral 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mbining with reactivity, a bouncing ball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ll2 = paint red (translate (x,y) (ell 0.2 0.2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 =  -4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=  -3 + integral 0.5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 = 1.5 + integral v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v = integral g `switch` (hit `snapshot_` v =&gt;&gt; \v'-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lift0 (-v') + integral g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it = when (y &lt;* -1.5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5412960" y="2784600"/>
            <a:ext cx="2712240" cy="642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Comic Sans MS"/>
              </a:rPr>
              <a:t>Note similarity to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Comic Sans MS"/>
              </a:rPr>
              <a:t>mathematical equation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ing FA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reviously a behavior was conceptually a function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avior a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Time -&gt;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somehow we must now introduc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event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One obvious approach would b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avior a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[(UserAction, Time)] -&gt; Time -&gt; a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this would be very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efficien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why?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etter to do thi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havior a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≡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[(UserAction, Time)] -&gt; [Time] -&gt; [a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, even more efficient, and now as Haskell cod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Behavior a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Behavior ( ([Maybe UserAction], [Time]) -&gt; [a] )</a:t>
            </a:r>
            <a:br>
              <a:rPr sz="2000"/>
            </a:br>
            <a:br>
              <a:rPr sz="2000"/>
            </a:b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(see text for definition of UserAction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ime and Consta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:</a:t>
            </a:r>
            <a:br>
              <a:rPr sz="2400"/>
            </a:br>
            <a:br>
              <a:rPr sz="900"/>
            </a:br>
            <a:r>
              <a:rPr b="0" lang="en-US" sz="9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Behavior a =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Behavior ( ([Maybe UserAction], [Time]) -&gt; [a]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ith this representation, let’s define tim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 :: Behavior 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 = Behavior (\(_,ts) -&gt; t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tant behaviors are achieved via lifting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stB :: a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stB x = Behavior (\_ -&gt; repeat x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, blue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    = constB R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lue   = constB Blu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18T12:52:49Z</dcterms:modified>
  <cp:revision>212</cp:revision>
  <dc:subject/>
  <dc:title>Lecture #1,  Sept. 30, 1996</dc:title>
</cp:coreProperties>
</file>