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02DA-534D-45B9-A035-4214EA6AA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132-8C2C-4A1F-8C25-7F58F04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B3C7-825A-4533-BC57-4E8AD0204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C08-E189-4181-8000-354DCAA8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AEC74-B8A8-4EA4-92F4-2486EFE8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E0D2-BFDF-4A70-8497-59B843DF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80A9-A961-4742-8E22-82193FA6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CDE-8BF2-426B-B931-1735A240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E1843-030A-4DDE-9B43-D8C56857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3A69F-1CE4-4B34-9BFA-90850F65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5EF-2A86-4215-9D02-7084A11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0F7F-BEFB-4227-9FB8-B317CFDA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D419C-AAFE-4918-BF64-A6B35E98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E01-D508-46F7-BEF2-D490EF77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A5590-C2CC-45FC-9233-48FD0BD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4F66-0E98-4285-BA2F-6C1C1331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A4DE-2E4F-47AF-80C8-8738BAC30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935-7F5A-407A-9C3E-1CD75CFD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9A7-8405-4AE4-A4B4-E4E253F2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934D-9409-43B9-AFB6-C9B1494E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6695-C3F0-40C5-A49D-56D50A7C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79F-80D0-4540-84EF-B64F4DB6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F35-A96B-4A9A-94E3-C9790F1C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B7F-D47E-48C6-99C2-6CB85039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C2E6-BA4F-4DC2-8B99-F1A3A1D90EB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8BC9-491D-4AA0-888C-172E1649ACA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0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Drawing Reg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urning a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gio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to a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periment with a smaller problem to illustrate an efficiency problem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NewRegion = Rect Side Side  -- abstracts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 :: Region -&gt; New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 (Shape (Rectangle sx s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ect sx s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 (Scale (x,y) r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egToNReg (scaleReg (x,y) 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scaleReg (x,y) (Shape (Rectangle sx sy)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Shape (Rectangle (x*sx) (y*s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leReg (x,y) (Scale s r)            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Scale s (scaleReg (x,y) 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Proble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id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cale (x1,y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cale (x2,y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cale (x3,y3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.. (Shape (Rectangle sx s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.. )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the scaling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levels deep, how many traversals do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over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re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e’ve Seen This Befor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lieve it or not we have encountered this problem before. Recall the definition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: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[]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(x:xs) = (reverse xs) ++ [x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where []     ++ zs = z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(y:ys) ++ zs = y : (ys ++ z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id we solve this?  We used an extra accumulating parameter: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xs = revhelp xs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where revhelp [] zs     = z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revhelp (x:xs) zs = revhelp xs (x:zs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do the same thing f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ccumulate th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caling Facto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2 :: Region -&gt; New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ToNReg2 r = rToNR (1,1) 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rToNR :: (Float,Float) -&gt; Region -&gt; New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oNR (x1,y1) (Shape (Rectangle sx sy)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ect (x1*sx) (y1*s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oNR (x1,y1) (Scale (x2,y2) r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ToNR (x1*x2,y1*y2) 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solve our original problem, repeat this for all the constructors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not jus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u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stead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We also need to handle translation as well as scal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 Ve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:: Vector -&gt; Vector -&gt; Region -&gt;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sca (Shape s) = shapeToGRegion loc sca 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(x,y) sca (Translate (u,v) r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regToGReg1 (x+u, y+v) sca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(x,y) (Scale (u,v) r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regToGReg1 loc (x*u, y*v)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sca Empty = createRectangle (0,0) (0,0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1 loc sca (r1 `Union` r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let gr1 = regToGReg1 loc sca r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gr2 = regToGReg1 loc sca 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 orRegion gr1 g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suming, of course, that we can define:</a:t>
            </a:r>
            <a:br>
              <a:rPr sz="20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:: Vector -&gt; Vector -&gt; Shape -&gt; G.Region</a:t>
            </a:r>
            <a:br>
              <a:rPr sz="1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 write rules for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tersect, Complem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et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Matter of Sty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le the function on the previous page shows how to solve the problem, there are several stylistic issues that could make it more readable and understandabl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style of defining a function by patterns becomes cluttered when there are many parameters (other than the one which has the patterns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pattern of explicitly allocating and deallocating (bit-map)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’s will be repeated in cases for intersection and for complement, so we should abstract it, and give it a nam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Abstract the Low-Level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Bit-Map Details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rimGReg loc sca r1 r2 op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= let gr1 = regToGReg loc sca r1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gr2 = regToGReg loc sca r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 op gr1 gr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do with a Case Expres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 :: Vector -&gt; Vector -&gt; Region -&gt;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ToGReg (loc@(x,y)) (sca@(a,b)) shape =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ase shape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 s           -&gt; shapeToGRegion loc sca s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ranslate (u,v) r -&gt; regToGReg (x+u, y+v) sca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ale (u,v) r     -&gt; regToGReg loc (a*u, b*v)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mpty             -&gt; createRectangle (0,0) (0,0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`Union` r2     -&gt; primGReg loc sca r1 r2 or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`Intersect` r2 -&gt; primGReg loc sca r1 r2 and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mplement r      -&gt; primGReg loc sca winRect r diff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winRect :: 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inRect = Shape (Rectangle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pixelToInch xWin) (pixelToInch yWin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ionToGRegion :: Region -&gt;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ionToGRegion r = regToGReg (0,0) (1,1)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2971440" y="2666520"/>
            <a:ext cx="4724280" cy="3812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4876560" y="2666520"/>
            <a:ext cx="281916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2" name=""/>
          <p:cNvSpPr/>
          <p:nvPr/>
        </p:nvSpPr>
        <p:spPr>
          <a:xfrm>
            <a:off x="7696080" y="2666880"/>
            <a:ext cx="109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Pattern renaming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Shap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to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:: Vector -&gt; Vector -&gt; Shape -&gt; IO G.Regi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(lx,ly) (sx,sy) (Rectangle s1 s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createRectangle (trans(-s1/2,-s2/2)) (trans (s1/2,s2/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 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09480" y="3886200"/>
            <a:ext cx="3505320" cy="2974320"/>
            <a:chOff x="609480" y="3886200"/>
            <a:chExt cx="3505320" cy="2974320"/>
          </a:xfrm>
        </p:grpSpPr>
        <p:pic>
          <p:nvPicPr>
            <p:cNvPr id="736" name="" descr=""/>
            <p:cNvPicPr/>
            <p:nvPr/>
          </p:nvPicPr>
          <p:blipFill>
            <a:blip r:embed="rId1"/>
            <a:stretch/>
          </p:blipFill>
          <p:spPr>
            <a:xfrm>
              <a:off x="928800" y="4309920"/>
              <a:ext cx="2181240" cy="221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1981080" y="3886200"/>
              <a:ext cx="0" cy="2971800"/>
            </a:xfrm>
            <a:prstGeom prst="line">
              <a:avLst/>
            </a:prstGeom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9480" y="5410080"/>
              <a:ext cx="3048120" cy="0"/>
            </a:xfrm>
            <a:prstGeom prst="line">
              <a:avLst/>
            </a:prstGeom>
            <a:ln w="28440">
              <a:solidFill>
                <a:srgbClr val="cc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981080" y="5410080"/>
              <a:ext cx="965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( xWin2, 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yWin2)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124080" y="6340320"/>
              <a:ext cx="99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( xWin,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  </a:t>
              </a: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yWin )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40200" y="6445080"/>
              <a:ext cx="112680" cy="1080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962000" y="5362560"/>
              <a:ext cx="114480" cy="108000"/>
            </a:xfrm>
            <a:prstGeom prst="ellipse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733920" y="3886200"/>
            <a:ext cx="5181480" cy="2819520"/>
            <a:chOff x="3733920" y="3886200"/>
            <a:chExt cx="5181480" cy="2819520"/>
          </a:xfrm>
        </p:grpSpPr>
        <p:sp>
          <p:nvSpPr>
            <p:cNvPr id="744" name=""/>
            <p:cNvSpPr/>
            <p:nvPr/>
          </p:nvSpPr>
          <p:spPr>
            <a:xfrm>
              <a:off x="5153040" y="4641840"/>
              <a:ext cx="1849320" cy="1376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733920" y="5330880"/>
              <a:ext cx="51814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078600" y="3886200"/>
              <a:ext cx="0" cy="28195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403960" y="395280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1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93160" y="4875120"/>
              <a:ext cx="3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2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153040" y="4230720"/>
              <a:ext cx="18493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88120" y="4711680"/>
              <a:ext cx="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50040" y="4641840"/>
              <a:ext cx="0" cy="13762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60840" y="4917960"/>
              <a:ext cx="55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1/2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153040" y="5192640"/>
              <a:ext cx="9255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10240" y="4641840"/>
              <a:ext cx="0" cy="6890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92960" y="486108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Comic Sans MS"/>
                </a:rPr>
                <a:t>S2/2</a:t>
              </a:r>
              <a:endParaRPr b="0" lang="en-US" sz="1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Ellips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61760" y="213372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1 (lx,ly) (sx,sy) (Ellipse r1 r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createEllipse (trans (-r1,-r2)) (trans ( r1, r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133720" y="3962520"/>
            <a:ext cx="4952880" cy="2590560"/>
            <a:chOff x="2133720" y="3962520"/>
            <a:chExt cx="4952880" cy="2590560"/>
          </a:xfrm>
        </p:grpSpPr>
        <p:sp>
          <p:nvSpPr>
            <p:cNvPr id="759" name=""/>
            <p:cNvSpPr/>
            <p:nvPr/>
          </p:nvSpPr>
          <p:spPr>
            <a:xfrm>
              <a:off x="2133720" y="5198760"/>
              <a:ext cx="49528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579560" y="3962520"/>
              <a:ext cx="0" cy="2590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417480" y="4492440"/>
              <a:ext cx="2323440" cy="1413000"/>
            </a:xfrm>
            <a:prstGeom prst="ellipse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18960" y="4951080"/>
              <a:ext cx="38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270320" y="4656600"/>
              <a:ext cx="38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r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4579560" y="4492440"/>
              <a:ext cx="0" cy="70632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579560" y="5198760"/>
              <a:ext cx="11617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133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rawing Pictur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tures are composed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65000"/>
              <a:buFont typeface="Comic Sans MS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gions are composed of sha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tures add Color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Picture = Region Color Region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| Picture `Over` Pictur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| EmptyP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deriving Show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must be careful to use SOEGraphics, but SOEGraphics has its own Region datatype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import SOEGraphics hiding (Region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import qualified SOEGraphics as G (Regio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Polyg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t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838080" y="26665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1 (lx,ly) (sx,sy) (Polygon pt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createPolygon (map trans pt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1 (lx,ly) (sx,sy) (RtTriangle s1 s2)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= createPolygon (map trans [(0,0),(s1,0),(0,s2)])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where trans (x,y)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xWin2 + inchToPixel (lx+x*sx),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Matter of Style, 2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shapeToGRegion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has the same problems as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gToGReg1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extra parameters obscure the pattern match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is a repeated pattern, we should give it a nam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hapeToGRegion (lx,ly) (sx,sy) s = case s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ctangle s1 s2  -&gt; createRectangle (trans (-s1/2,-s2/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rans ( s1/2, s2/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llipse r1 r2    -&gt; createEllipse   (trans (-r1,-r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rans ( r1, r2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olygon pts      -&gt; createPolygon (map trans pt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tTriangle s1 s2 -&gt; createPolygon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map trans [(0,0),(s1,0),(0,s2)]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trans (x,y) = ( xWin2 + inchToPixel (lx+x*sx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yWin2 - inchToPixel (ly+y*s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,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 :: Picture -&gt;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 p = runGraphics (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w &lt;- openWindow "Region Test" (xWin,yWi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p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= Shape (Rectangle 3 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2 = Shape (Ellipse 1 1.5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3 = Shape (RtTriangle 3 2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4 = Shape (Polygon [(-2.5,2.5), (-3.0,0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-1.7,-1.0)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-1.1,0.2), (-1.5,2.0)]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6991200" cy="37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1 = r3 `Union`            -- RtTriangle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1 `Intersect`        -- Rectangl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mplement r2 `Union` -- Ellips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4                    -- Polygon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1 = Region Cyan reg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1 = draw pic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call the precedenc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of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Union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Intersec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5105520" y="3352680"/>
            <a:ext cx="388620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609588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g2 = let circle = Shape (Ellipse 0.5 0.5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quare = Shape (Rectangle 1 1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 (Scale (2,2) circl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`Union` (Translate (2,1) squar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`Union` (Translate (-2,0) squar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2 = Region Yellow reg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2 = draw pic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5410080" y="3657600"/>
            <a:ext cx="358164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ther Pictur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7720" y="3809520"/>
            <a:ext cx="3505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3 = pic2 `Over` pic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3 = draw pic3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4572000" y="2895480"/>
            <a:ext cx="44197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eparate Computation From A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oneCircle   = Shape (Ellipse 1 1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nyCircle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[ Translate (x,0) oneCircle | x &lt;- [0,2..]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veCircles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oldr Union Empty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ake 5 manyCircle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4 = Region Magenta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Scale (0.25,0.25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fiveCircle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219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4 = draw pic4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5029200" y="3276720"/>
            <a:ext cx="39625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rdering Pi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:: Picture -&gt; [(Color,Region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 EmptyPic      = [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Region c r)   = [(c,r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p1 `Over` p2)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pictToList p1 ++ pictToList p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6 = pic4 `Over` pic2 `Over` pic1 `Over` pic5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pic6 - - - &gt;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[(Magenta,?), (Yellow,?),(Cyan,?),(Cyan,?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Recovers the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 from top to bottom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Possible because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is a datatype that can be analyz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1"/>
          <a:stretch/>
        </p:blipFill>
        <p:spPr>
          <a:xfrm>
            <a:off x="6629400" y="2286000"/>
            <a:ext cx="23623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nalog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762120" y="2095560"/>
            <a:ext cx="815328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 EmptyPic      = [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Region c r)   = [(c,r)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 (p1 `Over` p2) = pictToList p1 ++ pictToList p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(Region c r)   = drawRegionInWindow w c 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(p1 `Over` p2) = do { drawPic w p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; drawPic w p1}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EmptyPic       = return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mething interesting to prov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Pic w = sequence .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map (uncurry (drawRegionInWindow w))) .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verse .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tToLis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ictures that Reac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nd the topmost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 a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“covers” the position of the mouse when a left button click appear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arch the picture list for the first 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contains the mouse posi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-arrange the list, bringing that one to the top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djust :: [(Color,Region)] -&gt; Vertex -&gt;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Maybe (Color,Region), [(Color,Region)]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djust []           p = (Nothing, []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djust ((c,r):regs) p =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r `containsR` p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hen (Just (c,r), reg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lse let (hit, rs) = adjust regs p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n  (hit, (c,r) : r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all the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Data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Region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Shape               -- primitive shap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Translate Vector Region   -- translat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cale     Vector Region   -- scal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Complement Region         -- inverse of a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Union` Region     -- un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Intersect` Region -- intersect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mpt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o we draw things like the intersection of two regions, or the complement of a region?  These are hard things to do efficiently.  Fortunately,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terface uses lower-level support to do this for u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oing it Non-recursivel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djust2 regs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case (break (\(_,r) -&gt; r `containsR` p) regs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top,hit:rest) -&gt; (Just hit, top++res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_,[])         -&gt; (Nothing, [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is from the Prelud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reak:: (a -&gt; Bool) -&gt; [a] -&gt; ([a],[a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reak even [1,3,5,4,7,6,12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[1,3,5],[4,7,6,12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 :: Window -&gt; [(Color,Region)] -&gt;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 w regs =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clear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equence [ drawRegionInWindow w c r |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(c,r) &lt;- reverse regs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x,y) &lt;- getLBP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ase (adjust regs (pixelToInch (x - xWin2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xelToInch (yWin2 - y) ))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Nothing,  _      ) -&gt; close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Just hit, newRegs) -&gt; loop w (hit : newReg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2 :: Picture -&gt;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2 pic = runGraphics (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w &lt;- openWindow "Picture demo" (xWin,yWi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 w (pictToList pic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y it Ou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676520" y="2666880"/>
            <a:ext cx="6200640" cy="29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1,p2,p3,p4 :: Pictur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1 = Region Magenta r1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2 = Region Cyan 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3 = Region Green r3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4 = Region Yellow r4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 :: Picture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c = foldl Over EmptyPic [p1,p2,p3,p4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in = draw2 pic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 Matter of Style, 3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2 w reg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= do clear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equence [ drawRegionInWindow w c r |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c,r) &lt;- reverse regs 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x,y) &lt;- getLBP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et aux (_,r) = r `containsR`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 pixelToInch (x-xWin2),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ixelToInch (yWin2-y) 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ase (break aux regs) of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_,[])        -&gt; closeWindow w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top,hit:bot) -&gt; loop w (hit : (top++bot)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raw3 pic = runGraphics (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 w &lt;- openWindow "Picture demo" (xWin,yWi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oop2 w (pictToList pic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90760" y="274284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datatype interfaces more directly to the underlying hardware.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t is essentially a two- dimensional array or “bit-map”, storing a binary value for each pixel in the window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14400" y="2666880"/>
            <a:ext cx="3048120" cy="3048120"/>
            <a:chOff x="914400" y="2666880"/>
            <a:chExt cx="3048120" cy="3048120"/>
          </a:xfrm>
        </p:grpSpPr>
        <p:sp>
          <p:nvSpPr>
            <p:cNvPr id="299" name=""/>
            <p:cNvSpPr/>
            <p:nvPr/>
          </p:nvSpPr>
          <p:spPr>
            <a:xfrm>
              <a:off x="15238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8288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33720" y="26668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382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432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48120" y="26668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5268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6576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26668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14400" y="26668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523880" y="29718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28800" y="29718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33720" y="29718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3828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320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48120" y="29718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268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5760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19320" y="29718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914400" y="29718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23880" y="32763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28800" y="32763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133720" y="32763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43828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4320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48120" y="32763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5268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5760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9320" y="32763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" y="32763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288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337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3828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432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481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268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76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19320" y="35812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14400" y="35812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2388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288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33720" y="38862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432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48120" y="38862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5268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576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19320" y="38862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14400" y="38862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52388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2880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33720" y="41907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3828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743200" y="41907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48120" y="41907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268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5760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19320" y="41907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14400" y="41907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388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288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37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3828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7432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481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5268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76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19320" y="44956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14400" y="44956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523880" y="48006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828800" y="48006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4800600"/>
              <a:ext cx="30456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38280" y="4800600"/>
              <a:ext cx="30492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4320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48120" y="4800600"/>
              <a:ext cx="30456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35268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65760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219320" y="4800600"/>
              <a:ext cx="304560" cy="3045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14400" y="4800600"/>
              <a:ext cx="30492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52388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8800" y="5105160"/>
              <a:ext cx="304920" cy="304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33720" y="51051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3828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4320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51051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35268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65760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19320" y="510516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4400" y="510516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288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33720" y="54100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43828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432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8120" y="54100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35268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19320" y="5410080"/>
              <a:ext cx="30456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5410080"/>
              <a:ext cx="30492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fficient Bit-Map Op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958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is efficient low-level support for combining bit-maps using a variety of operators.  For example, for unio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se operations are fast, but data (space) intensive, and this space needs to be explicitly allocated and de-allocated, a job for a much lower-level languag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762120" y="3200400"/>
            <a:ext cx="2133000" cy="1981080"/>
            <a:chOff x="762120" y="3200400"/>
            <a:chExt cx="2133000" cy="1981080"/>
          </a:xfrm>
        </p:grpSpPr>
        <p:sp>
          <p:nvSpPr>
            <p:cNvPr id="402" name=""/>
            <p:cNvSpPr/>
            <p:nvPr/>
          </p:nvSpPr>
          <p:spPr>
            <a:xfrm>
              <a:off x="1189080" y="320040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01480" y="32004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1604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82880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41560" y="320040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5576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68520" y="320040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8272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74520" y="32004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2120" y="32004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89080" y="3398760"/>
              <a:ext cx="2120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01480" y="3398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1604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41560" y="3398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5576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68520" y="3398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8272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74520" y="33987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2120" y="3398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89080" y="359712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480" y="359712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604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2880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41560" y="359712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5576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68520" y="359712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8272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74520" y="3597120"/>
              <a:ext cx="2142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2120" y="359712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89080" y="379404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01480" y="37940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1604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2880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41560" y="379404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5576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68520" y="379404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8272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74520" y="37940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120" y="37940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189080" y="3992400"/>
              <a:ext cx="2120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401480" y="399240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61604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2880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41560" y="3992400"/>
              <a:ext cx="2138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5576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68520" y="3992400"/>
              <a:ext cx="2138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272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4520" y="399240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62120" y="399240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89080" y="419112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01480" y="4191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61604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880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41560" y="419112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5576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68520" y="41911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68272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74520" y="4191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62120" y="4191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89080" y="438948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401480" y="438948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61604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2880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41560" y="43894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25576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468520" y="43894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68272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74520" y="438948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2120" y="43894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89080" y="458784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401480" y="45878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616040" y="458784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828800" y="458784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41560" y="458784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55760" y="45878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68520" y="458784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82720" y="45878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74520" y="45878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2120" y="45878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89080" y="478476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01480" y="4784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1604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880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41560" y="4784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5576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468520" y="47847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68272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974520" y="47847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2120" y="47847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189080" y="498312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01480" y="4983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1604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82880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1560" y="49831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5576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468520" y="49831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8272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74520" y="49831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62120" y="49831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429000" y="3200400"/>
            <a:ext cx="2133360" cy="1981080"/>
            <a:chOff x="3429000" y="3200400"/>
            <a:chExt cx="2133360" cy="1981080"/>
          </a:xfrm>
        </p:grpSpPr>
        <p:sp>
          <p:nvSpPr>
            <p:cNvPr id="503" name=""/>
            <p:cNvSpPr/>
            <p:nvPr/>
          </p:nvSpPr>
          <p:spPr>
            <a:xfrm>
              <a:off x="385596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068720" y="320040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8292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8440" y="320040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2264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135400" y="320040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4960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41760" y="320040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29000" y="320040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5596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68720" y="3398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28292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49568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708440" y="3398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92264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35400" y="3398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60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41760" y="3398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29000" y="3398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5596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68720" y="359712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8292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49568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708440" y="359712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2264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35400" y="359712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34960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41760" y="359712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29000" y="359712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596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68720" y="379404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28292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9568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08440" y="379404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92264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5400" y="379404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34960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41760" y="379404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429000" y="379404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5596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68720" y="3992400"/>
              <a:ext cx="21420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8292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49568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08440" y="3992400"/>
              <a:ext cx="21420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2264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35400" y="3992400"/>
              <a:ext cx="214200" cy="1987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4960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1760" y="3992400"/>
              <a:ext cx="21420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429000" y="3992400"/>
              <a:ext cx="212760" cy="1987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85596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68720" y="4191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8292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9568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08440" y="4191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2264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35400" y="419112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4960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41760" y="4191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429000" y="4191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5596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68720" y="438948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28292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9568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08440" y="438948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2264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35400" y="43894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4960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41760" y="438948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29000" y="438948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596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068720" y="458784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8292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9568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08440" y="458784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2264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35400" y="45878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4960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41760" y="4587840"/>
              <a:ext cx="21420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29000" y="4587840"/>
              <a:ext cx="212760" cy="19692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5596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068720" y="4784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8292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9568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708440" y="4784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92264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35400" y="478476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34960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41760" y="478476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29000" y="478476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5596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68720" y="4983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8292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9568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708440" y="4983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92264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35400" y="498312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4960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41760" y="4983120"/>
              <a:ext cx="21420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29000" y="4983120"/>
              <a:ext cx="212760" cy="198360"/>
            </a:xfrm>
            <a:prstGeom prst="rect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6581880" y="3195720"/>
            <a:ext cx="2133000" cy="1981080"/>
            <a:chOff x="6581880" y="3195720"/>
            <a:chExt cx="2133000" cy="1981080"/>
          </a:xfrm>
        </p:grpSpPr>
        <p:sp>
          <p:nvSpPr>
            <p:cNvPr id="604" name=""/>
            <p:cNvSpPr/>
            <p:nvPr/>
          </p:nvSpPr>
          <p:spPr>
            <a:xfrm>
              <a:off x="7008840" y="319572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21240" y="31957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43580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4856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861320" y="319572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807552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8288280" y="319572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50248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94280" y="319572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581880" y="319572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08840" y="3394080"/>
              <a:ext cx="2120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221240" y="33940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43580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4856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61320" y="33940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07552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288280" y="339408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50248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94280" y="33940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81880" y="3394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08840" y="359244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221240" y="359244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43580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4856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61320" y="359244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7552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288280" y="3592440"/>
              <a:ext cx="2138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50248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794280" y="3592440"/>
              <a:ext cx="2142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81880" y="359244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8840" y="378936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221240" y="37893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43580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64856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61320" y="378936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7552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288280" y="378936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50248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94280" y="378936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1880" y="378936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008840" y="3987720"/>
              <a:ext cx="2120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21240" y="398772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43580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4856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861320" y="3987720"/>
              <a:ext cx="21384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7552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288280" y="3987720"/>
              <a:ext cx="213840" cy="1987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50248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94280" y="3987720"/>
              <a:ext cx="2142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81880" y="3987720"/>
              <a:ext cx="212400" cy="198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08840" y="418644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21240" y="4186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43580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64856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1320" y="418644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07552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88280" y="418644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50248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94280" y="4186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581880" y="4186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08840" y="438480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1240" y="43848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43580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4856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1320" y="438480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07552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288280" y="438480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0248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94280" y="438480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81880" y="438480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08840" y="4583160"/>
              <a:ext cx="2120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21240" y="458316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435800" y="458316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48560" y="4583160"/>
              <a:ext cx="2124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861320" y="4583160"/>
              <a:ext cx="21384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75520" y="458316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288280" y="4583160"/>
              <a:ext cx="21384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8502480" y="458316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94280" y="4583160"/>
              <a:ext cx="214200" cy="19692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581880" y="4583160"/>
              <a:ext cx="212400" cy="196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008840" y="478008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221240" y="4780080"/>
              <a:ext cx="21420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3580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856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61320" y="478008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07552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88280" y="478008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50248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794280" y="478008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81880" y="478008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840" y="4978440"/>
              <a:ext cx="2120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21240" y="4978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43580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4856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861320" y="4978440"/>
              <a:ext cx="21384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7552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288280" y="4978440"/>
              <a:ext cx="213840" cy="19836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0248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94280" y="4978440"/>
              <a:ext cx="2142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581880" y="4978440"/>
              <a:ext cx="212400" cy="198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2950920" y="3890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5" name=""/>
          <p:cNvSpPr/>
          <p:nvPr/>
        </p:nvSpPr>
        <p:spPr>
          <a:xfrm>
            <a:off x="5867280" y="38862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Interfac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reateRectangle :: Point -&gt; Point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reateEllipse   :: Point -&gt; Point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reatePolygon   :: [Point]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Region 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rRegion  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orRegion 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iffRegion      :: G.Region -&gt; G.Region -&gt; IO G.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leteRegion    :: G.Region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Region      :: G.Region -&gt; Graph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se functions are defined in the SOEGraphics library modul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G.Reg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520" y="209520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draw things quickly, turn them into a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n turn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nto a graphic object, and then use all the machinery we have built up so far to display the object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RegionInWindow ::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Window -&gt; Color -&gt; Region -&gt; IO (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RegionInWindow w c r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rawInWindow w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(withColor c (drawRegion (regionToGRegion r))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ll we need to define, then, is: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ToG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first, let’s define what it means to draw a pictur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Pictur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3316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ictures combine multiple regions into one big picture.  They provide a mechanism for placing one sub-picture on top of another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:: Window -&gt; Picture -&gt; IO (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w (Region c r)   = drawRegionInWindow w c r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w (p1 `Over` p2) = do drawPic w p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drawPic w p1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Pic w EmptyPic       = return (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2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drawn befor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since we wan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1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appear “over”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p2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have a rich calculus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, which we can draw, take the perimeter of, and tell if a point lies with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defined a richer data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which allows more complex compositions (intersection, complement, etc.).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gav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 mathematical semantics as a set of points in the 2-dimensional plan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defined some interesting operator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which is the characteristic function for a reg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rich nature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makes it hard to draw efficiently, so we use a lower level data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enriched this even further with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ctur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yp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low level, relying on features like overwriting and explicit allocation and deallocation of memor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think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 a high-level interface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.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hides low-level detail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02-17T12:55:43Z</cp:lastPrinted>
  <dcterms:modified xsi:type="dcterms:W3CDTF">2004-10-22T19:52:27Z</dcterms:modified>
  <cp:revision>151</cp:revision>
  <dc:subject/>
  <dc:title>Lecture #1,  Sept. 30, 1996</dc:title>
</cp:coreProperties>
</file>