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B8C0-852D-42C4-B2B5-32804ABA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E09E-0844-4D40-BD47-B78A3BE3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77A4-1664-4CAC-AFA7-E2484608A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60A-BB0B-457C-9FEE-948B71E2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32B3-B315-4CC9-9E0E-F92AADA4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DFC3-A643-4163-AEC3-F5D64602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710EB-6287-4593-BFE2-C56C8831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E0472-584C-4CF0-9B53-6A573A79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01654-0A91-4E80-B511-A4B95B2B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2727-8DF5-460B-85CF-258A8BE7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A568-673C-417B-A3F3-69B43840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382E-75BA-4673-8268-CF12D7AF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6FAC-270C-4D76-8F1B-984CB0D8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3105-71DB-456E-B05D-CE1DBD65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AA2C-C6D9-4A3B-8ED4-773F868F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EB2F-6ADF-45BF-9DBF-935A06F52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725C-D29A-4F6D-82C4-C7F2DCB9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45C1-857F-47AF-9FB6-BDC9F54D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057-A427-41C6-AF56-D688A832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67FA-68E2-4369-9774-34F8471B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D52-BACD-41B9-BC4A-8912CE66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600E-30E3-49BE-99CE-F6AE2847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8CDC-2C95-429F-AD28-325DF6C4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DAFE-D0AC-4419-A4BD-C33ACBFC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6803-2D0D-4EEB-B20A-A055F018489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3687-0EF9-404D-8A74-5C42F3595BE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20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Functional Music Composition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cursively apply f (to elements in a sequence) and g (to accumulated phrases) n times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(Music -&gt; Music) -&gt; (Music -&gt; Music) 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Int -&gt; Music -&gt; Musi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p f g 0 m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Rest 0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p f g n m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m :=: g (rep f g (n-1) (f m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u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rep (Trans 5) (delay tn) 8 (c 4 tn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scad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rep (Trans 4) (delay en) 8 ru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scade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rep  id (delay sn) 2 cascade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aterfall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cascades :+: revM cascade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7620120" y="441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7620120" y="4952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7620120" y="5486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76201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500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750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9499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ercuss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rom the Midi Standard: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PercussionSound = AcousticBassDrum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MIDI Key 35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BassDrum1 | SideStick | AcousticSna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  . . .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MuteCuica | OpenCuica | MuteTriangl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OpenTriangl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MIDI Key 8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riving (Show,Eq,Ord,Ix,Enum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se must be mapped to Music values: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c :: PercussionSound -&gt; Dur -&gt; Musi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c ps = Note (pitch (fromEnum ps + 35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a “funky” rhythm:</a:t>
            </a:r>
            <a:br>
              <a:rPr sz="20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unkGroove = let p1 = perc LowTom q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p2 = perc AcousticSnare e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Tempo 3 (Instr Percussion (cut 8 (repeat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((p1 :+: qnr :+: p2 :+: qnr :+: p2 :+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p1 :+: p1 :+: qnr :+: p2 :+: enr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:=: roll en (perc ClosedHiHat 2) ) )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772400" y="4876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0666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re Exampl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i="1" lang="en-US" sz="3200" spc="-1" strike="noStrike">
                <a:solidFill>
                  <a:srgbClr val="003366"/>
                </a:solidFill>
                <a:latin typeface="Comic Sans MS"/>
              </a:rPr>
              <a:t>[ see text for examples of: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trills and rolls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truncating” parallel compositions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self-similar” (fractal) music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66"/>
                </a:solidFill>
                <a:latin typeface="Comic Sans MS"/>
              </a:rPr>
              <a:t>   </a:t>
            </a:r>
            <a:r>
              <a:rPr b="0" i="1" lang="en-US" sz="3200" spc="-1" strike="noStrike">
                <a:solidFill>
                  <a:srgbClr val="003366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MDL: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Music Description Language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DL is a DSL for computer music composition that is even simpler than FAL and IRL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t begins with primitive pitches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Pitch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= (PitchClass, Octave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PitchClas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= Cf | C | Cs | Df | D | Ds | E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| E | Es | Ff | F | Fs | Gf | 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| Gs | Af | A | As | Bf | B | B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deriving (Eq,Show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Octave     =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(Fs, 5) is an F-sharp in the fifth octave.  By convention, (A, 4) denotes “A440”, the A above middle C whose frequency is 440 Hz.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Music Data Typ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958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Music data type captures the essence of MDL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Music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Note Pitch Du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a not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Rest Du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a res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Music :+: Music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sequential composi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Music :=: Music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parallel composi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Tempo Dur Music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tempo scal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Trans  Int Music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transposi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Instr  IName Music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instrumenta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riving (Show, Eq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Dur   = Ratio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atio” (from module Ratio) is Haskell’s type for rational numbers, whose main operation is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%) :: (Integral a) =&gt; a -&gt; a -&gt; Ratio 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nstrument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ame is a data type of instrument names borrowed from Midi:</a:t>
            </a:r>
            <a:br>
              <a:rPr sz="2400"/>
            </a:br>
            <a:br>
              <a:rPr sz="16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INam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= AcousticGrandPiano | BrightAcousticPiano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ElectricGrandPiano | HonkyTonkPiano | RhodesPiano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ChorusedPiano | Harpsichord | Clavinet | Celest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Glockenspiel | MusicBox | Vibraphone | Marimb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Xylophone | TubularBells | Dulcimer | HammondOrga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PercussiveOrgan | RockOrgan | ChurchOrgan | ReedOrga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Accordion | Harmonica | TangoAccord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AcousticGuitarNylon | AcousticGuitarStee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ElectricGuitarJazz | ElectricGuitarClea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ElectricGuitarMuted | OverdrivenGuita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DistortionGuitar | GuitarHarmonics | AcousticBas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| . . 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bsolute Pitch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AbsPitch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In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bsPitch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Pitch -&gt; AbsPitch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bsPitch (pc,oct) = 12*oct + pcToInt pc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itch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AbsPitch -&gt; Pitch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itch a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( [C,Cs,D,Ds,E,F,Fs,G,Gs,A,As,B] !! mod ap 12,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quot ap 12 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cToI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PitchClass -&gt; In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cToInt pc = case pc of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f -&gt; -1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 -&gt; 0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s -&gt; 1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f -&gt; 1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 -&gt; 2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s -&gt; 3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Ef -&gt; 3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 -&gt; 4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s -&gt; 5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f -&gt; 4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 -&gt; 5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s -&gt; 6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Gf -&gt; 6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 -&gt; 7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s -&gt; 8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f -&gt; 8; A  -&gt; 9;  As -&gt; 10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Bf -&gt; 10; B  -&gt; 11; Bs -&gt; 1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Int -&gt; Pitch -&gt; Pitch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 i 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pitch (absPitch p + i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onvenient Note and Rest Names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057040"/>
            <a:ext cx="79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f, c, cs, df, d, ds, ef, e, es, ff, f, fs, gf, g, gs, af, a, as, bf, b, bs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Octave -&gt; Dur -&gt; Music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f o = Note (Cf,o);   c o = Note (C,o);  cs o = Note (Cs,o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f o = Note (Df,o);  d o = Note (D,o);  ds o = Note (Ds,o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. 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n,  hn,  qn,  en,  sn,  tn, dhn, dqn, den, ds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Du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nr, hnr, qnr, enr, snr, tnr, dhnr, dqnr, denr, dsn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Music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n  = 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; wnr  = Rest w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whol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n  = 1%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; hnr  = Rest h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half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qn  = 1%4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; qnr  = Rest q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quart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. 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hn = 3%4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; dhnr = Rest dh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dotted half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qn = 3%8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; dqnr = Rest dq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dotted quart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. 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Lines, Chords, Repetition,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and Delay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ines and chords: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ne, chor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[Music] -&gt; Musi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n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foldr (:+:) (Rest 0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hor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foldr (:=:) (Rest 0)</a:t>
            </a:r>
            <a:br>
              <a:rPr sz="2000"/>
            </a:br>
            <a:br>
              <a:rPr sz="9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a C major arpeggio and chord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Maj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[ n 4 qn | n &lt;- [c, e, g] ]</a:t>
            </a:r>
            <a:br>
              <a:rPr sz="20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MajAr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ne cMaj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MajCh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chord cMaj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petition and delay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peatM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Music -&gt; Musi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peatM m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m :+: repeatM m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delay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:: Dur -&gt; Music -&gt; Music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delay d m 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= Rest d :+: m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ur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t is sometimes useful to compute 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duration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of a Music value: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dur :: Music -&gt; Dur</a:t>
            </a:r>
            <a:br>
              <a:rPr sz="2000"/>
            </a:br>
            <a:br>
              <a:rPr sz="2000"/>
            </a:b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dur (Note _ d)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= d</a:t>
            </a:r>
            <a:br>
              <a:rPr sz="2000"/>
            </a:b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dur (Rest d)      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= d</a:t>
            </a:r>
            <a:br>
              <a:rPr sz="2000"/>
            </a:b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dur (m1 :+: m2)   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= dur m1     +     dur m2</a:t>
            </a:r>
            <a:br>
              <a:rPr sz="2000"/>
            </a:b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dur (m1 :=: m2)   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= dur m1 `max` dur m2</a:t>
            </a:r>
            <a:br>
              <a:rPr sz="2000"/>
            </a:b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dur (Tempo  a  m) 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= dur m / a</a:t>
            </a:r>
            <a:br>
              <a:rPr sz="2000"/>
            </a:b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dur (Trans  _  m) 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= dur m</a:t>
            </a:r>
            <a:br>
              <a:rPr sz="2000"/>
            </a:b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dur (Instr  _  m) 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Comic Sans MS"/>
              </a:rPr>
              <a:t>= dur m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etrograd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Using dur we can compute 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retrograd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(i.e. reverse) of a Music value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M :: Music -&gt; Music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M n@(Note _ _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M r@(Rest _)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M (Tempo a m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Tempo a (revM m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M (Trans i m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Trans i (revM m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M (Instr i m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Instr i (revM m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M (m1 :+: m2)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revM m2 :+: revM m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M (m1 :=: m2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t d1 = dur m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d2 = dur m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if d1&gt;d2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then revM m1 :=: (Rest (d1-d2) :+: revM m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else (Rest (d2-d1) :+: revM m1) :=: revM m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11-05T04:06:17Z</dcterms:modified>
  <cp:revision>290</cp:revision>
  <dc:subject/>
  <dc:title>Lecture #1,  Sept. 30, 1996</dc:title>
</cp:coreProperties>
</file>