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A461-1E14-4332-9268-6856E56CB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831B-AC95-4344-B1D3-284D8B3C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6A98-2985-4068-B0A3-74B44710F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9A2C-3327-44E8-8A67-57A56E88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DD27C-B92C-4E1E-9FAD-A7137401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B432-4BFD-4116-A021-5D0F5F59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0256-9D43-4624-BDD0-47099A72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0E8C-650D-41EE-AB39-755872C0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62BE-F92D-4F8B-B864-4E9F57EC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5211-CFB9-4446-AC89-73EB152E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8934-1F39-444E-A7D4-EACA8F76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7017-D343-4A4C-AD55-9E7B2655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E191-E85E-4A5E-8732-9226A4E1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CBAA-F15D-4EE5-9528-262DEB9F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DFBC-FB2A-4A84-AB27-AE44B555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A8EDC-4A3F-4F5E-88B5-1171A9D5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18D8-375E-4086-8155-C7A7A254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EE53-34DC-4F1E-A642-9A482064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8A7C-50AC-43B1-A123-59A697FF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CC2E-F596-43A9-B9C1-892C110D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9DF4-FD90-4918-91C9-546F8ABC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3D35-C109-4F40-A83B-A03781B0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4A43-39AD-4762-B671-50EB6C20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A73-48BE-4897-898D-9C3BB674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0614-46D3-40C8-A2EA-386D72175725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DA99-1DC8-41FE-83CB-F839584A9076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19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An Imperative Robot Language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Robot Movemen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ove      :: Robo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ove = cond1 (isnt blocked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(Robot $ \s _ w -&gt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let newPos = movePos (position s) (facing s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graphicsMove w s newPo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return (s {position = newPos}, (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ovePos :: Position -&gt; Direction -&gt; Posit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ovePos (x,y) d = case d of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rth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&gt; (x, y+1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outh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&gt; (x, y-1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as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&gt; (x+1, y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s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&gt; (x-1, y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“graphicsMove” command is defined in Section 19.5 of the text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ens and Coi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nUp :: Robo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nUp = updateState (\s -&gt; s {pen = False})</a:t>
            </a:r>
            <a:br>
              <a:rPr sz="20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nDown :: Robo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nDown = updateState (\s -&gt; s {pen = True})</a:t>
            </a:r>
            <a:br>
              <a:rPr sz="20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etPenColor  :: Color -&gt; Robo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etPenColor c = updateState (\s -&gt; s {color = c})</a:t>
            </a:r>
            <a:br>
              <a:rPr sz="20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nCoin    :: Robot Boo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nCoin = queryState (\s -&gt; position s `elem` treasure s)</a:t>
            </a:r>
            <a:br>
              <a:rPr sz="20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ins     :: Robot In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ins  = queryState pocket</a:t>
            </a:r>
            <a:br>
              <a:rPr sz="20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ickCoin  :: Robo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ickCoin = cond1 onCoin (Robot $ \s _ w -&gt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eraseCoin w (position s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return (s {treasure = position s `delete` treasure s,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pocket   = pocket s + 1},  () ) 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Lifting to Monad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unctions can be “lifted” to the levels of monads using these pre-defined functions in the Monad library: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iftM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(Monad m) =&gt; (a -&gt; b) -&gt; (m a -&gt; m b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iftM f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\a -&gt; do a' &lt;-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return (f a'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iftM2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(Monad m) =&gt; (a -&gt; b -&gt; c) -&gt; (m a -&gt; m b -&gt; m c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iftM2 f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\a b -&gt; do a' &lt;-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b' &lt;- b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return (f a' b'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imilarly for liftM3, liftM4, etc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Logic and Control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n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Bool -&gt; Robot a -&gt; Robot a -&gt; Robot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nd p c a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do pred &lt;- p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if pred then c else a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nd1 p c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cond p c (return ())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ile  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Bool -&gt; Robot () -&gt; Robo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ile p b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cond1 p (b &gt;&gt; while p b)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||*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Bool -&gt; Robot Bool -&gt; Robot Boo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1 ||* b2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do p &lt;- b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if p then (return True) else b2</a:t>
            </a:r>
            <a:br>
              <a:rPr sz="20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sn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Bool -&gt; Robot Boo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sn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liftM not</a:t>
            </a:r>
            <a:br>
              <a:rPr sz="20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&gt;*), (&lt;*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Int -&gt; Robot Int -&gt; Robot Boo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&gt;*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liftM2 (&gt;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&lt;*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liftM2 (&lt;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7703640" y="4343400"/>
            <a:ext cx="14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[ similarly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or (&amp;&amp;*) ]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Haskell Array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rrays in Haskell have typ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x a =&gt; Array a b</a:t>
            </a:r>
            <a:br>
              <a:rPr sz="2400"/>
            </a:br>
            <a:br>
              <a:rPr sz="9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ere “a” is th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index type,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and must be in the class Ix, and “b” is th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container type,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i.e. the type of the values in the array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rrays are created by:</a:t>
            </a:r>
            <a:br>
              <a:rPr sz="24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rray :: Ix a =&gt; (a, a) -&gt; [(a, b)] -&gt; Array a b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lors :: Array Int Colo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lors = array (0, 7) (zip [0 .. 7] [Black .. White]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rrays ar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indexed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(in constant time) by the (!) operator.  For example:</a:t>
            </a:r>
            <a:br>
              <a:rPr sz="24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lors ! 3 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Cya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he Grid is an Array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robot grid is a two-dimensional array:</a:t>
            </a:r>
            <a:br>
              <a:rPr sz="24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Grid = Array Position [Direction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Position = (Int, Int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list of directions is the unblocked directions in which the robot can move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which case the access operator “at” used previously is just:</a:t>
            </a:r>
            <a:br>
              <a:rPr sz="24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t :: Grid -&gt; Position -&gt; [Direction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t = (!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outer walls of the grid, as well as any inner walls, may be created by suitable instantiation of these lists of directions.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[ see text for details ]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Robot Simulator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graphics required for the robot simulator presents no new difficulties, except for an issue regarding “incrementally” updating the graphics image, rather than redrawing everything as we have previously done.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rawGri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Window -&gt; Grid -&gt; IO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rawCoin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Window -&gt; RobotState -&gt; IO ()</a:t>
            </a:r>
            <a:br>
              <a:rPr sz="2000"/>
            </a:br>
            <a:br>
              <a:rPr sz="2400"/>
            </a:b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[ see text for details ]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utting It All Together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e need a function that takes a robot program, an initial state, and an initial grid, and then “executes” the program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unRobot :: Robot () -&gt; RobotState -&gt; Grid -&gt; IO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unRobot (Robot sf) s g = runGraphics $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w &lt;- openWindowEx "Robot World" (Just (0,0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Just (xWin,yWin)) drawGraphic (Just 10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drawGrid w g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draws the grid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drawCoins w 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draws the coin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spaceWait w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waits for spacebar pres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sf s g w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executes program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spaceClose w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waits for spacebar pres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the previous chapter,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monads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were introduced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particular,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state monads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were described as a way to sequence stateful operations such as found in an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imperative language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this chapter, an imperative DSL called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Imperative Robot Language,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or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IRL,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will be designed and implemented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implementation will be in the form of a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graphical simulator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of the robot in action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IRL Command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commands’ behaviors can be guessed from their names and types:</a:t>
            </a:r>
            <a:br>
              <a:rPr sz="2400"/>
            </a:br>
            <a:br>
              <a:rPr sz="900"/>
            </a:br>
            <a:r>
              <a:rPr b="0" lang="en-US" sz="9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ov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urnRight, turnLeft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urnTo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Direction -&gt; Robo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irect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Direct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locke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Boo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nUp, penDown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etPenColor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Color -&gt; Robo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ickCoin, dropCoi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nCoi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Boo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in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In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n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Bool -&gt; Robot a -&gt; Robot a -&gt; Robot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il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Bool -&gt; Robot () -&gt; Robo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||*), (&amp;&amp;*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Bool -&gt; Robot Bool -&gt; Robot Boo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&gt;*), (&lt;*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Int -&gt; Robot Int -&gt; Robot Boo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sn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Bool -&gt; Robot Boo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523880" y="281952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1523880" y="4038480"/>
            <a:ext cx="152640" cy="457200"/>
          </a:xfrm>
          <a:custGeom>
            <a:avLst/>
            <a:gdLst>
              <a:gd name="textAreaLeft" fmla="*/ 97560 w 152640"/>
              <a:gd name="textAreaRight" fmla="*/ 153000 w 15264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457200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1523880" y="52578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578880" y="32004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motion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741600" y="4038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pen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466560" y="472428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treasure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607320" y="571500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contro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xample: Spiral Mo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piral :: Robot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piral = penDown &gt;&gt; loop 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where loop n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le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wice = do turnRigh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moven 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turnRigh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moven 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in cond blocked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twice &gt;&gt; turnRight &gt;&gt; moven n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twice &gt;&gt; loop (n+1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oven :: Int -&gt; Robot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oven n = mapM_ (const move) [1..n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Implementing IRL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irst we need to define the robot state:</a:t>
            </a:r>
            <a:br>
              <a:rPr sz="24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RobotState  = RobotState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{ posit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Posit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facing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Direct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pe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Bool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color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Colo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treasur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[ Position 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pocke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In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eriving Show</a:t>
            </a:r>
            <a:br>
              <a:rPr sz="20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Position = (Int, Int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a grid</a:t>
            </a:r>
            <a:br>
              <a:rPr sz="20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Direction = North | East | South | Wes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eriving (Eq, Show, Enum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grid itself is also part of the overall state, but it never changes, and thus is kept separate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ombining Monad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818208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most obvious design would b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ewtype Robot a = Robo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(RobotState -&gt; Grid -&gt; (RobotState, a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However, we want the output to also include graphics, so a better design is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ewtype Robot a = Robo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(RobotState -&gt; Grid -&gt; Window -&gt; IO (RobotState, a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this way the Robot monad and the IO monad are combined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Robot” is a State Monad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instance declaration resembles that of a state monad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stance Monad Robot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turn a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obot $ \s _ _ -&gt; return (s, a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obot sf0 &gt;&gt;= f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obot $ \s0 g w -&gt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do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s1, a1) &lt;- sf0 s0 g w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et Robot sf1 = f a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s2, a2) &lt;- sf1 s1 g w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turn (s2, a2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ll that remains is defining the “domain specific” operations in the Robot monad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Helper Func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0964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help computing directions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ight,left :: Direction -&gt; Direct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ight 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toEnum (succ (fromEnum d) `mod` 4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eft  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toEnum (pred (fromEnum d) `mod` 4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help querying and updating the state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updateState :: (RobotState -&gt; RobotState) -&gt; Robo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updateState u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Robot (\s _ _ -&gt; return (u s, ()))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queryState  :: (RobotState -&gt; a) -&gt; Robot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queryState  q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Robot (\s _ _ -&gt; return (s, q s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o be defined later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t :: Grid -&gt; Position -&gt; [Direction]</a:t>
            </a:r>
            <a:br>
              <a:rPr sz="2000"/>
            </a:br>
            <a:br>
              <a:rPr sz="9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“g `at` p” is the list of directions in which the robot can move (i.e. unblocked) from position p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irections and Blocking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urnLef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urnLeft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updateState ( \s -&gt; s {facing = left (facing s)} 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urnRight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urnRight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updateState ( \s -&gt; s {facing = right (facing s)} 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urnTo 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Direction -&gt; Robot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urnTo d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updateState ( \s -&gt; s {facing = d} 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irection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Direct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irection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queryState facing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locked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Boo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locked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Robot $ \s g _ -&gt;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return ( s,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facing s `notElem` (g `at` position s) 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Tim Sheard</dc:creator>
  <dc:description/>
  <dc:language>en-US</dc:language>
  <cp:lastModifiedBy>Paul Hudak</cp:lastModifiedBy>
  <cp:lastPrinted>1999-10-07T20:38:26Z</cp:lastPrinted>
  <dcterms:modified xsi:type="dcterms:W3CDTF">2004-11-01T14:28:29Z</dcterms:modified>
  <cp:revision>273</cp:revision>
  <dc:subject/>
  <dc:title>Lecture #1,  Sept. 30, 1996</dc:title>
</cp:coreProperties>
</file>