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FE6B-201D-4844-A8AF-DEB7C83D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1EFF-5FD0-42FB-8E1E-354CAC19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345C-EB72-4D1E-8439-48C42D573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9374-73CB-4665-B570-00A9245BA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7517-B658-4503-BAF5-5387E0C0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211E-2107-45A6-A3CC-B6F58748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E3C0-3BF0-4AEF-8DCC-788C94F8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1EEF-6E82-486C-951B-9CE86D9D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E223-A426-4A75-959B-C1FB9F11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FDB3-4ECB-4EE9-91BE-46D46D34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C7998-7FEB-455A-8155-B12E5A19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C340-A9E9-4413-A31C-D25C8387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71B5-2AD2-4A93-A99C-DD3B03B1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68C7-82EA-4157-88D1-8E9587DC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11E1-A9D6-40D3-AC59-3A10D272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753E-D92F-4735-988E-24C15BFC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09FE-303E-42A7-BA7C-968C9D18C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56B3-4B8E-47C1-89F1-90680AD8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33A5-1AB3-4F8A-A656-5109A6DA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A0A6-6F6B-4854-AA9B-C6DE9D50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CEB0-05FB-4939-BEAC-26E31AB2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2EE4-CDBD-47B9-9A1B-83052EB6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1047-1EB7-4C64-8ED3-E8805FF5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097E-D405-4D71-81F6-388C68AA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0E00-9A37-4D18-8974-FE57E53B8E2E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7614-B513-4B5D-9114-49C024985AE9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hapter 10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Drawing Regions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urning a </a:t>
            </a: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Region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into a </a:t>
            </a: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G.Reg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09120" y="22093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xperiment with a smaller problem to illustrate an efficiency problem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ta NewRegion = Rect Side Side  -- abstracts G.Regio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gToNReg :: Region -&gt; NewRegio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gToNReg (Shape (Rectangle sx sy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Rect sx sy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gToNReg (Scale (x,y) r)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regToNReg (scaleReg (x,y) r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where scaleReg (x,y) (Shape (Rectangle sx sy))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Shape (Rectangle (x*sx) (y*sy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caleReg (x,y) (Scale s r)              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Scale s (scaleReg (x,y) r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 Problem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81820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nside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Scale (x1,y1)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Scale (x2,y2)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Scale (x3,y3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... (Shape (Rectangle sx sy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... )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f the scaling is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levels deep, how many traversals does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gToNReg</a:t>
            </a: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erform over th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g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tree?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We’ve Seen This Befor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elieve it or not we have encountered this problem before. Recall the definition of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verse</a:t>
            </a: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:</a:t>
            </a:r>
            <a:br>
              <a:rPr sz="2000"/>
            </a:br>
            <a:br>
              <a:rPr sz="1000"/>
            </a:b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verse []     = []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reverse (x:xs) = (reverse xs) ++ [x]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where []     ++ zs = zs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(y:ys) ++ zs = y : (ys ++ zs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How did we solve this?  We used an extra accumulating parameter:</a:t>
            </a:r>
            <a:br>
              <a:rPr sz="2000"/>
            </a:br>
            <a:br>
              <a:rPr sz="1000"/>
            </a:b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verse xs = revhelp xs []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where revhelp [] zs     = zs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revhelp (x:xs) zs = revhelp xs (x:zs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e can do the same thing for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gion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ccumulate the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caling Factor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gToNReg2 :: Region -&gt; NewRegio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gToNReg2 r = rToNR (1,1) 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where rToNR :: (Float,Float) -&gt; Region -&gt; NewRegio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ToNR (x1,y1) (Shape (Rectangle sx sy))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Rect (x1*sx) (y1*sy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ToNR (x1,y1) (Scale (x2,y2) r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rToNR (x1*x2,y1*y2) 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o solve our original problem, repeat this for all the constructors of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gion</a:t>
            </a: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not just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hap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nd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cal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)</a:t>
            </a: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nd us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G.Reg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instead of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ewReg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  We also need to handle translation as well as scaling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Final Vers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gToGReg1 :: Vector -&gt; Vector -&gt; Region -&gt; G.Region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gToGReg1 loc sca (Shape s) = shapeToGRegion loc sca s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gToGReg1 (x,y) sca (Translate (u,v) r)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= regToGReg1 (x+u, y+v) sca r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gToGReg1 loc (x,y) (Scale (u,v) r)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= regToGReg1 loc (x*u, y*v) r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gToGReg1 loc sca Empty = createRectangle (0,0) (0,0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gToGReg1 loc sca (r1 `Union` r2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= let gr1 = regToGReg1 loc sca r1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gr2 = regToGReg1 loc sca r2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in orRegion gr1 gr2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ssuming, of course, that we can define:</a:t>
            </a:r>
            <a:br>
              <a:rPr sz="2000"/>
            </a:b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hapeToGRegion :: Vector -&gt; Vector -&gt; Shape -&gt; G.Region</a:t>
            </a:r>
            <a:br>
              <a:rPr sz="1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nd  write rules for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Intersect, Complemen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etc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 Matter of Styl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ile the function on the previous page shows how to solve the problem, there are several stylistic issues that could make it more readable and understandable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style of defining a function by patterns becomes cluttered when there are many parameters (other than the one which has the patterns)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pattern of explicitly allocating and deallocating (bit-map)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G.Reg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’s will be repeated in cases for intersection and for complement, so we should abstract it, and give it a name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Abstract the Low-Level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Bit-Map Details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primGReg loc sca r1 r2 op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= let gr1 = regToGReg loc sca r1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gr2 = regToGReg loc sca r2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in op gr1 gr2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Redo with a Case Express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gToGReg :: Vector -&gt; Vector -&gt; Region -&gt; G.Region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gToGReg (loc@(x,y)) (sca@(a,b)) shape =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case shape of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hape s           -&gt; shapeToGRegion loc sca s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Translate (u,v) r -&gt; regToGReg (x+u, y+v) sca r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cale (u,v) r     -&gt; regToGReg loc (a*u, b*v) r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Empty             -&gt; createRectangle (0,0) (0,0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1 `Union` r2     -&gt; primGReg loc sca r1 r2 orRegion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1 `Intersect` r2 -&gt; primGReg loc sca r1 r2 andRegion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Complement r      -&gt; primGReg loc sca winRect r diffRegion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where winRect :: Region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winRect = Shape (Rectangle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pixelToInch xWin) (pixelToInch yWin)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gionToGRegion :: Region -&gt; G.Region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gionToGRegion r = regToGReg (0,0) (1,1) r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2971440" y="2666520"/>
            <a:ext cx="4724280" cy="38124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4876560" y="2666520"/>
            <a:ext cx="281916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32" name=""/>
          <p:cNvSpPr/>
          <p:nvPr/>
        </p:nvSpPr>
        <p:spPr>
          <a:xfrm>
            <a:off x="7696080" y="2666880"/>
            <a:ext cx="109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Pattern renaming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Shape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 to </a:t>
            </a: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G.Region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: </a:t>
            </a: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Rectangl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hapeToGRegion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:: Vector -&gt; Vector -&gt; Shape -&gt; IO G.Region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hapeToGRegion (lx,ly) (sx,sy) (Rectangle s1 s2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= createRectangle (trans(-s1/2,-s2/2)) (trans (s1/2,s2/2)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where trans (x,y) = ( xWin2 + inchToPixel (lx+x*sx),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yWin2 - inchToPixel (ly+y*sy) 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609480" y="3886200"/>
            <a:ext cx="3505320" cy="2974320"/>
            <a:chOff x="609480" y="3886200"/>
            <a:chExt cx="3505320" cy="2974320"/>
          </a:xfrm>
        </p:grpSpPr>
        <p:pic>
          <p:nvPicPr>
            <p:cNvPr id="736" name="" descr=""/>
            <p:cNvPicPr/>
            <p:nvPr/>
          </p:nvPicPr>
          <p:blipFill>
            <a:blip r:embed="rId1"/>
            <a:stretch/>
          </p:blipFill>
          <p:spPr>
            <a:xfrm>
              <a:off x="928800" y="4309920"/>
              <a:ext cx="2181240" cy="221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1981080" y="3886200"/>
              <a:ext cx="0" cy="2971800"/>
            </a:xfrm>
            <a:prstGeom prst="line">
              <a:avLst/>
            </a:prstGeom>
            <a:ln w="284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09480" y="5410080"/>
              <a:ext cx="3048120" cy="0"/>
            </a:xfrm>
            <a:prstGeom prst="line">
              <a:avLst/>
            </a:prstGeom>
            <a:ln w="284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981080" y="5410080"/>
              <a:ext cx="965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( xWin2, </a:t>
              </a:r>
              <a:endParaRPr b="0" lang="en-US" sz="1400" spc="-1" strike="noStrike">
                <a:solidFill>
                  <a:srgbClr val="003366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yWin2)</a:t>
              </a:r>
              <a:endParaRPr b="0" lang="en-US" sz="1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124080" y="6340320"/>
              <a:ext cx="99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Comic Sans MS"/>
                </a:rPr>
                <a:t>( xWin,</a:t>
              </a:r>
              <a:endParaRPr b="0" lang="en-US" sz="1400" spc="-1" strike="noStrike">
                <a:solidFill>
                  <a:srgbClr val="003366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Comic Sans MS"/>
                </a:rPr>
                <a:t>  </a:t>
              </a:r>
              <a:r>
                <a:rPr b="1" lang="en-US" sz="1400" spc="-1" strike="noStrike">
                  <a:solidFill>
                    <a:srgbClr val="003366"/>
                  </a:solidFill>
                  <a:latin typeface="Comic Sans MS"/>
                </a:rPr>
                <a:t>yWin )</a:t>
              </a:r>
              <a:endParaRPr b="0" lang="en-US" sz="1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040200" y="6445080"/>
              <a:ext cx="112680" cy="10800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962000" y="5362560"/>
              <a:ext cx="114480" cy="10800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3733920" y="3886200"/>
            <a:ext cx="5181480" cy="2819520"/>
            <a:chOff x="3733920" y="3886200"/>
            <a:chExt cx="5181480" cy="2819520"/>
          </a:xfrm>
        </p:grpSpPr>
        <p:sp>
          <p:nvSpPr>
            <p:cNvPr id="744" name=""/>
            <p:cNvSpPr/>
            <p:nvPr/>
          </p:nvSpPr>
          <p:spPr>
            <a:xfrm>
              <a:off x="5153040" y="4641840"/>
              <a:ext cx="1849320" cy="13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733920" y="5330880"/>
              <a:ext cx="51814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078600" y="3886200"/>
              <a:ext cx="0" cy="281952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403960" y="3952800"/>
              <a:ext cx="37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Comic Sans MS"/>
                </a:rPr>
                <a:t>s1</a:t>
              </a:r>
              <a:endParaRPr b="0" lang="en-US" sz="1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193160" y="4875120"/>
              <a:ext cx="37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Comic Sans MS"/>
                </a:rPr>
                <a:t>s2</a:t>
              </a:r>
              <a:endParaRPr b="0" lang="en-US" sz="1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153040" y="4230720"/>
              <a:ext cx="18493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188120" y="4711680"/>
              <a:ext cx="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250040" y="4641840"/>
              <a:ext cx="0" cy="13762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460840" y="4917960"/>
              <a:ext cx="55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Comic Sans MS"/>
                </a:rPr>
                <a:t>s1/2</a:t>
              </a:r>
              <a:endParaRPr b="0" lang="en-US" sz="1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153040" y="5192640"/>
              <a:ext cx="92556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510240" y="4641840"/>
              <a:ext cx="0" cy="6890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92960" y="4861080"/>
              <a:ext cx="5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Comic Sans MS"/>
                </a:rPr>
                <a:t>S2/2</a:t>
              </a:r>
              <a:endParaRPr b="0" lang="en-US" sz="1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Ellips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hapeToGRegion1 (lx,ly) (sx,sy) (Ellipse r1 r2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= createEllipse (trans (-r1,-r2)) (trans ( r1, r2)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where trans (x,y) =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 xWin2 + inchToPixel (lx+x*sx),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yWin2 - inchToPixel (ly+y*sy) 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2133720" y="3962520"/>
            <a:ext cx="4952880" cy="2590560"/>
            <a:chOff x="2133720" y="3962520"/>
            <a:chExt cx="4952880" cy="2590560"/>
          </a:xfrm>
        </p:grpSpPr>
        <p:sp>
          <p:nvSpPr>
            <p:cNvPr id="759" name=""/>
            <p:cNvSpPr/>
            <p:nvPr/>
          </p:nvSpPr>
          <p:spPr>
            <a:xfrm>
              <a:off x="2133720" y="5198760"/>
              <a:ext cx="49528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579560" y="3962520"/>
              <a:ext cx="0" cy="259056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417480" y="4492440"/>
              <a:ext cx="2323440" cy="1413000"/>
            </a:xfrm>
            <a:prstGeom prst="ellipse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818960" y="4951080"/>
              <a:ext cx="38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r1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270320" y="4656600"/>
              <a:ext cx="38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r2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4579560" y="4492440"/>
              <a:ext cx="0" cy="70632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579560" y="5198760"/>
              <a:ext cx="116172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ictur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2133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rawing Picture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ictures are composed of Region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Comic Sans M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gions are composed of shape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ictures add Color</a:t>
            </a:r>
            <a:br>
              <a:rPr sz="2000"/>
            </a:br>
            <a:br>
              <a:rPr sz="1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ta Picture = Region Color Region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| Picture `Over` Picture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| EmptyPic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deriving Show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e must be careful to use SOEGraphics, but SOEGraphics has its own Region datatype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import SOEGraphics hiding (Region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import qualified SOEGraphics as G (Region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Polygon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 and </a:t>
            </a: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RtTriangl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8080" y="266652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hapeToGRegion1 (lx,ly) (sx,sy) (Polygon pts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= createPolygon (map trans pts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where trans (x,y) =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 xWin2 + inchToPixel (lx+x*sx),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yWin2 - inchToPixel (ly+y*sy) 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hapeToGRegion1 (lx,ly) (sx,sy) (RtTriangle s1 s2)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= createPolygon (map trans [(0,0),(s1,0),(0,s2)])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where trans (x,y) =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 xWin2 + inchToPixel (lx+x*sx), 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   yWin2 - inchToPixel (ly+y*sy) 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 Matter of Style, 2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shapeToGRegion1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has the same problems as 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regToGReg1</a:t>
            </a: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extra parameters obscure the pattern matching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re is a repeated pattern, we should give it a name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hapeToGRegion (lx,ly) (sx,sy) s = case s of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ctangle s1 s2  -&gt; createRectangle (trans (-s1/2,-s2/2)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     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trans ( s1/2, s2/2)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Ellipse r1 r2    -&gt; createEllipse   (trans (-r1,-r2)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     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trans ( r1, r2)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olygon pts      -&gt; createPolygon (map trans pts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tTriangle s1 s2 -&gt; createPolygon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map trans [(0,0),(s1,0),(0,s2)]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where trans (x,y) = ( xWin2 + inchToPixel (lx+x*sx),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yWin2 - inchToPixel (ly+y*sy) 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Drawing </a:t>
            </a: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Picture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,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ample </a:t>
            </a: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Region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draw :: Picture -&gt; IO (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draw p = runGraphics (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do w &lt;- openWindow "Region Test" (xWin,yWin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drawPic w p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paceClose w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1 = Shape (Rectangle 3 2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2 = Shape (Ellipse 1 1.5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3 = Shape (RtTriangle 3 2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4 = Shape (Polygon [(-2.5,2.5), (-3.0,0),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-1.7,-1.0),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-1.1,0.2), (-1.5,2.0)] 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ample Pictur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699120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g1 = r3 `Union`            -- RtTriangle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1 `Intersect`        -- Rectangle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Complement r2 `Union` -- Ellipse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4                    -- Polygon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ic1 = Region Cyan reg1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Main1 = draw pic1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Recall the precedence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of </a:t>
            </a:r>
            <a:r>
              <a:rPr b="0" lang="en-US" sz="1800" spc="-1" strike="noStrike">
                <a:solidFill>
                  <a:srgbClr val="800000"/>
                </a:solidFill>
                <a:latin typeface="Comic Sans MS"/>
              </a:rPr>
              <a:t>Union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 and </a:t>
            </a:r>
            <a:r>
              <a:rPr b="0" lang="en-US" sz="1800" spc="-1" strike="noStrike">
                <a:solidFill>
                  <a:srgbClr val="800000"/>
                </a:solidFill>
                <a:latin typeface="Comic Sans MS"/>
              </a:rPr>
              <a:t>Intersect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5105520" y="3352680"/>
            <a:ext cx="388620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ore Pictur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609588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g2 = let circle = Shape (Ellipse 0.5 0.5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quare = Shape (Rectangle 1 1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in (Scale (2,2) circle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`Union` (Translate (2,1) square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`Union` (Translate (-2,0) square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ic2 = Region Yellow reg2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main2 = draw pic2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1"/>
          <a:stretch/>
        </p:blipFill>
        <p:spPr>
          <a:xfrm>
            <a:off x="5410080" y="3657600"/>
            <a:ext cx="35816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nother Pictur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7720" y="3809520"/>
            <a:ext cx="3505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ic3 = pic2 `Over` pic1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main3 = draw pic3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4572000" y="2895480"/>
            <a:ext cx="441972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eparate Computation From Ac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534520" cy="20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oneCircle   = Shape (Ellipse 1 1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manyCircles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= [ Translate (x,0) oneCircle | x &lt;- [0,2..] ]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fiveCircles =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foldr Union Empty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take 5 manyCircles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ic4 = Region Magenta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Scale (0.25,0.25)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fiveCircles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main4 = draw pic4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5029200" y="3276720"/>
            <a:ext cx="396252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Ordering Pictur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ictToList :: Picture -&gt; [(Color,Region)]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ictToList  EmptyPic      = []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ictToList (Region c r)   = [(c,r)]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ictToList (p1 `Over` p2)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= pictToList p1 ++ pictToList p2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ic6 = pic4 `Over` pic2 `Over` pic1 `Over` pic5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ictToList pic6 - - - &gt;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[(Magenta,?), (Yellow,?),(Cyan,?),(Cyan,?)]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Recovers the </a:t>
            </a:r>
            <a:r>
              <a:rPr b="0" lang="en-US" sz="1800" spc="-1" strike="noStrike">
                <a:solidFill>
                  <a:srgbClr val="800000"/>
                </a:solidFill>
                <a:latin typeface="Comic Sans MS"/>
              </a:rPr>
              <a:t>Region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 from top to bottom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Possible because </a:t>
            </a:r>
            <a:r>
              <a:rPr b="0" lang="en-US" sz="1800" spc="-1" strike="noStrike">
                <a:solidFill>
                  <a:srgbClr val="800000"/>
                </a:solidFill>
                <a:latin typeface="Comic Sans MS"/>
              </a:rPr>
              <a:t>Picture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 is a datatype that can be analyzed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1"/>
          <a:stretch/>
        </p:blipFill>
        <p:spPr>
          <a:xfrm>
            <a:off x="6629400" y="2286000"/>
            <a:ext cx="236232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n Analogy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762120" y="2095560"/>
            <a:ext cx="815328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ictToList  EmptyPic      = []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ictToList (Region c r)   = [(c,r)]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ictToList (p1 `Over` p2) = pictToList p1 ++ pictToList p2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drawPic w (Region c r)   = drawRegionInWindow w c r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drawPic w (p1 `Over` p2) = do { drawPic w p2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; drawPic w p1}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drawPic w EmptyPic       = return (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omething interesting to prove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drawPic w = sequence .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map (uncurry (drawRegionInWindow w))) .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verse .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ictToList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ictures that Reac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ind the topmost 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Reg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in a 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Pictur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that “covers” the position of the mouse when a left button click appear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earch the picture list for the first 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Reg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that contains the mouse position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-arrange the list, bringing that one to the top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adjust :: [(Color,Region)] -&gt; Vertex -&gt;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Maybe (Color,Region), [(Color,Region)]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adjust []           p = (Nothing, []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adjust ((c,r):regs) p =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if r `containsR` p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then (Just (c,r), regs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else let (hit, rs) = adjust regs p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in  (hit, (c,r) : rs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Recall the </a:t>
            </a: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Region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 Datatyp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ta Region =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hape Shape               -- primitive shap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Translate Vector Region   -- translated regio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Scale     Vector Region   -- scaled regio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Complement Region         -- inverse of a regio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Region `Union` Region     -- union of region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Region `Intersect` Region -- intersection of region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Empty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How do we draw things like the intersection of two regions, or the complement of a region?  These are hard things to do efficiently.  Fortunately, th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G.Reg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interface uses lower-level support to do this for u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Doing it Non-recursively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djust2 regs p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case (break (\(_,r) -&gt; r `containsR` p) regs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of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top,hit:rest) -&gt; (Just hit, top++rest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_,[])         -&gt; (Nothing, []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is is from the Prelude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break:: (a -&gt; Bool) -&gt; [a] -&gt; ([a],[a]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r example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break even [1,3,5,4,7,6,12] </a:t>
            </a: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([1,3,5],[4,7,6,12]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utting it all Together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loop :: Window -&gt; [(Color,Region)] -&gt; IO (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loop w regs =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do clearWindow w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equence [ drawRegionInWindow w c r | 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         (c,r) &lt;- reverse regs ]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x,y) &lt;- getLBP w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case (adjust regs (pixelToInch (x - xWin2),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ixelToInch (yWin2 - y) )) of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Nothing,  _      ) -&gt; closeWindow w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Just hit, newRegs) -&gt; loop w (hit : newRegs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draw2 :: Picture -&gt; IO (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draw2 pic = runGraphics (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do w &lt;- openWindow "Picture demo" (xWin,yWin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loop w (pictToList pic)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ry it Ou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676520" y="2666880"/>
            <a:ext cx="6200640" cy="29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1,p2,p3,p4 :: Picture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1 = Region Magenta r1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2 = Region Cyan r2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3 = Region Green r3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4 = Region Yellow r4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ic :: Picture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ic = foldl Over EmptyPic [p1,p2,p3,p4]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main = draw2 pic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 Matter of Style, 3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loop2 w regs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= do clearWindow w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equence [ drawRegionInWindow w c r |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c,r) &lt;- reverse regs ]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x,y) &lt;- getLBP w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let aux (_,r) = r `containsR`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 pixelToInch (x-xWin2),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ixelToInch (yWin2-y) 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case (break aux regs) of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_,[])        -&gt; closeWindow w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top,hit:bot) -&gt; loop w (hit : (top++bot)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draw3 pic = runGraphics (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do w &lt;- openWindow "Picture demo" (xWin,yWin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loop2 w (pictToList pic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G.Reg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190760" y="2742840"/>
            <a:ext cx="46479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G.Region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datatype interfaces more directly to the underlying hardware.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t is essentially a two- dimensional array or “bit-map”, storing a binary value for each pixel in the window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914400" y="2666880"/>
            <a:ext cx="3048120" cy="3048120"/>
            <a:chOff x="914400" y="2666880"/>
            <a:chExt cx="3048120" cy="3048120"/>
          </a:xfrm>
        </p:grpSpPr>
        <p:sp>
          <p:nvSpPr>
            <p:cNvPr id="299" name=""/>
            <p:cNvSpPr/>
            <p:nvPr/>
          </p:nvSpPr>
          <p:spPr>
            <a:xfrm>
              <a:off x="1523880" y="26668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828800" y="26668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133720" y="2666880"/>
              <a:ext cx="30456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38280" y="26668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43200" y="26668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048120" y="2666880"/>
              <a:ext cx="30456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52680" y="26668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657600" y="26668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19320" y="2666880"/>
              <a:ext cx="30456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14400" y="26668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523880" y="2971800"/>
              <a:ext cx="304920" cy="3045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828800" y="2971800"/>
              <a:ext cx="304920" cy="3045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33720" y="2971800"/>
              <a:ext cx="30456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438280" y="2971800"/>
              <a:ext cx="30492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3200" y="2971800"/>
              <a:ext cx="30492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048120" y="2971800"/>
              <a:ext cx="30456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52680" y="2971800"/>
              <a:ext cx="30492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657600" y="2971800"/>
              <a:ext cx="30492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19320" y="2971800"/>
              <a:ext cx="30456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914400" y="2971800"/>
              <a:ext cx="30492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523880" y="3276360"/>
              <a:ext cx="304920" cy="3049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28800" y="3276360"/>
              <a:ext cx="304920" cy="3049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133720" y="3276360"/>
              <a:ext cx="30456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438280" y="327636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43200" y="327636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48120" y="3276360"/>
              <a:ext cx="30456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52680" y="327636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57600" y="327636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19320" y="3276360"/>
              <a:ext cx="30456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14400" y="327636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23880" y="35812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828800" y="35812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133720" y="3581280"/>
              <a:ext cx="30456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38280" y="35812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43200" y="35812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48120" y="3581280"/>
              <a:ext cx="30456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52680" y="35812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657600" y="35812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19320" y="3581280"/>
              <a:ext cx="30456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14400" y="35812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23880" y="3886200"/>
              <a:ext cx="30492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828800" y="3886200"/>
              <a:ext cx="30492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133720" y="3886200"/>
              <a:ext cx="30456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438280" y="3886200"/>
              <a:ext cx="30492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43200" y="3886200"/>
              <a:ext cx="30492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48120" y="3886200"/>
              <a:ext cx="30456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352680" y="3886200"/>
              <a:ext cx="30492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657600" y="3886200"/>
              <a:ext cx="30492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19320" y="3886200"/>
              <a:ext cx="30456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14400" y="3886200"/>
              <a:ext cx="30492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23880" y="419076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828800" y="419076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33720" y="4190760"/>
              <a:ext cx="30456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38280" y="419076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43200" y="4190760"/>
              <a:ext cx="304920" cy="3049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048120" y="4190760"/>
              <a:ext cx="30456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352680" y="419076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57600" y="419076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19320" y="4190760"/>
              <a:ext cx="30456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914400" y="419076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523880" y="44956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28800" y="44956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33720" y="4495680"/>
              <a:ext cx="30456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38280" y="44956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743200" y="44956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048120" y="4495680"/>
              <a:ext cx="30456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352680" y="44956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57600" y="44956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219320" y="4495680"/>
              <a:ext cx="30456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914400" y="44956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523880" y="4800600"/>
              <a:ext cx="304920" cy="3045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828800" y="4800600"/>
              <a:ext cx="304920" cy="3045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33720" y="4800600"/>
              <a:ext cx="304560" cy="3045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438280" y="4800600"/>
              <a:ext cx="304920" cy="3045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743200" y="4800600"/>
              <a:ext cx="30492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48120" y="4800600"/>
              <a:ext cx="30456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52680" y="4800600"/>
              <a:ext cx="30492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657600" y="4800600"/>
              <a:ext cx="30492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219320" y="4800600"/>
              <a:ext cx="304560" cy="3045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14400" y="4800600"/>
              <a:ext cx="30492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23880" y="510516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828800" y="5105160"/>
              <a:ext cx="304920" cy="3049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33720" y="5105160"/>
              <a:ext cx="30456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438280" y="510516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43200" y="510516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48120" y="5105160"/>
              <a:ext cx="30456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352680" y="510516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57600" y="510516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19320" y="5105160"/>
              <a:ext cx="30456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14400" y="510516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523880" y="54100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28800" y="54100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133720" y="5410080"/>
              <a:ext cx="30456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438280" y="54100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743200" y="54100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048120" y="5410080"/>
              <a:ext cx="30456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352680" y="54100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57600" y="54100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219320" y="5410080"/>
              <a:ext cx="30456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14400" y="54100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fficient Bit-Map Operat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7958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re is efficient low-level support for combining bit-maps using a variety of operators.  For example, for union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se operations are fast, but data (space) intensive, and this space needs to be explicitly allocated and de-allocated, a job for a much lower-level language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762120" y="3200400"/>
            <a:ext cx="2133000" cy="1981080"/>
            <a:chOff x="762120" y="3200400"/>
            <a:chExt cx="2133000" cy="1981080"/>
          </a:xfrm>
        </p:grpSpPr>
        <p:sp>
          <p:nvSpPr>
            <p:cNvPr id="402" name=""/>
            <p:cNvSpPr/>
            <p:nvPr/>
          </p:nvSpPr>
          <p:spPr>
            <a:xfrm>
              <a:off x="1189080" y="3200400"/>
              <a:ext cx="2120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401480" y="320040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616040" y="320040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28800" y="320040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41560" y="3200400"/>
              <a:ext cx="2138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55760" y="320040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68520" y="3200400"/>
              <a:ext cx="2138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682720" y="320040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974520" y="320040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62120" y="320040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89080" y="3398760"/>
              <a:ext cx="21204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401480" y="3398760"/>
              <a:ext cx="21420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616040" y="339876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28800" y="339876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41560" y="3398760"/>
              <a:ext cx="2138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55760" y="339876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68520" y="3398760"/>
              <a:ext cx="2138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682720" y="339876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74520" y="339876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62120" y="339876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189080" y="3597120"/>
              <a:ext cx="212040" cy="1969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01480" y="3597120"/>
              <a:ext cx="214200" cy="1969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616040" y="3597120"/>
              <a:ext cx="21240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828800" y="3597120"/>
              <a:ext cx="21240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041560" y="3597120"/>
              <a:ext cx="21384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255760" y="3597120"/>
              <a:ext cx="21240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468520" y="3597120"/>
              <a:ext cx="21384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682720" y="3597120"/>
              <a:ext cx="21240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974520" y="3597120"/>
              <a:ext cx="21420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2120" y="3597120"/>
              <a:ext cx="21240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89080" y="3794040"/>
              <a:ext cx="2120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01480" y="379404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616040" y="379404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28800" y="379404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41560" y="3794040"/>
              <a:ext cx="2138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55760" y="379404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468520" y="3794040"/>
              <a:ext cx="2138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82720" y="379404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974520" y="379404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2120" y="379404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189080" y="3992400"/>
              <a:ext cx="212040" cy="19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401480" y="3992400"/>
              <a:ext cx="214200" cy="19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616040" y="3992400"/>
              <a:ext cx="212400" cy="19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828800" y="3992400"/>
              <a:ext cx="212400" cy="19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041560" y="3992400"/>
              <a:ext cx="213840" cy="19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255760" y="3992400"/>
              <a:ext cx="212400" cy="19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68520" y="3992400"/>
              <a:ext cx="213840" cy="19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2720" y="3992400"/>
              <a:ext cx="212400" cy="19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74520" y="3992400"/>
              <a:ext cx="214200" cy="19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62120" y="3992400"/>
              <a:ext cx="212400" cy="19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189080" y="4191120"/>
              <a:ext cx="2120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401480" y="419112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616040" y="419112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828800" y="419112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41560" y="4191120"/>
              <a:ext cx="21384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255760" y="419112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68520" y="4191120"/>
              <a:ext cx="2138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682720" y="419112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74520" y="419112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62120" y="419112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89080" y="4389480"/>
              <a:ext cx="2120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401480" y="438948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616040" y="438948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828800" y="438948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041560" y="4389480"/>
              <a:ext cx="2138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255760" y="438948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468520" y="4389480"/>
              <a:ext cx="2138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82720" y="438948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74520" y="438948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2120" y="438948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189080" y="4587840"/>
              <a:ext cx="212040" cy="1969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401480" y="4587840"/>
              <a:ext cx="214200" cy="1969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616040" y="4587840"/>
              <a:ext cx="212400" cy="1969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828800" y="4587840"/>
              <a:ext cx="212400" cy="1969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041560" y="4587840"/>
              <a:ext cx="21384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255760" y="4587840"/>
              <a:ext cx="21240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468520" y="4587840"/>
              <a:ext cx="21384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682720" y="4587840"/>
              <a:ext cx="21240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74520" y="4587840"/>
              <a:ext cx="214200" cy="1969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62120" y="4587840"/>
              <a:ext cx="21240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189080" y="4784760"/>
              <a:ext cx="2120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401480" y="4784760"/>
              <a:ext cx="21420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16040" y="478476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828800" y="478476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41560" y="4784760"/>
              <a:ext cx="2138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255760" y="478476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468520" y="4784760"/>
              <a:ext cx="2138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82720" y="478476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74520" y="478476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62120" y="478476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89080" y="4983120"/>
              <a:ext cx="2120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401480" y="498312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16040" y="498312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828800" y="498312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041560" y="4983120"/>
              <a:ext cx="2138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255760" y="498312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468520" y="4983120"/>
              <a:ext cx="2138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682720" y="498312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974520" y="498312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62120" y="498312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429000" y="3200400"/>
            <a:ext cx="2133360" cy="1981080"/>
            <a:chOff x="3429000" y="3200400"/>
            <a:chExt cx="2133360" cy="1981080"/>
          </a:xfrm>
        </p:grpSpPr>
        <p:sp>
          <p:nvSpPr>
            <p:cNvPr id="503" name=""/>
            <p:cNvSpPr/>
            <p:nvPr/>
          </p:nvSpPr>
          <p:spPr>
            <a:xfrm>
              <a:off x="3855960" y="320040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068720" y="3200400"/>
              <a:ext cx="21420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282920" y="320040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495680" y="320040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08440" y="3200400"/>
              <a:ext cx="21420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922640" y="320040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135400" y="3200400"/>
              <a:ext cx="21420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349600" y="320040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641760" y="3200400"/>
              <a:ext cx="21420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429000" y="320040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55960" y="339876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68720" y="3398760"/>
              <a:ext cx="21420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282920" y="339876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495680" y="339876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08440" y="3398760"/>
              <a:ext cx="21420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922640" y="339876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135400" y="3398760"/>
              <a:ext cx="21420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49600" y="339876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641760" y="3398760"/>
              <a:ext cx="21420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29000" y="339876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855960" y="3597120"/>
              <a:ext cx="212760" cy="1969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68720" y="3597120"/>
              <a:ext cx="214200" cy="1969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282920" y="3597120"/>
              <a:ext cx="212760" cy="1969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495680" y="3597120"/>
              <a:ext cx="212760" cy="1969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708440" y="3597120"/>
              <a:ext cx="214200" cy="1969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922640" y="3597120"/>
              <a:ext cx="212760" cy="1969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135400" y="3597120"/>
              <a:ext cx="214200" cy="1969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349600" y="3597120"/>
              <a:ext cx="212760" cy="1969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41760" y="3597120"/>
              <a:ext cx="214200" cy="1969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29000" y="3597120"/>
              <a:ext cx="212760" cy="1969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855960" y="379404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068720" y="3794040"/>
              <a:ext cx="21420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282920" y="379404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95680" y="379404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708440" y="3794040"/>
              <a:ext cx="21420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922640" y="379404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5400" y="3794040"/>
              <a:ext cx="21420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349600" y="379404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641760" y="3794040"/>
              <a:ext cx="21420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429000" y="379404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855960" y="3992400"/>
              <a:ext cx="212760" cy="1987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068720" y="3992400"/>
              <a:ext cx="214200" cy="1987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82920" y="3992400"/>
              <a:ext cx="212760" cy="1987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495680" y="3992400"/>
              <a:ext cx="212760" cy="1987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708440" y="3992400"/>
              <a:ext cx="214200" cy="1987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922640" y="3992400"/>
              <a:ext cx="212760" cy="1987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135400" y="3992400"/>
              <a:ext cx="214200" cy="1987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49600" y="3992400"/>
              <a:ext cx="212760" cy="1987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641760" y="3992400"/>
              <a:ext cx="214200" cy="1987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429000" y="3992400"/>
              <a:ext cx="212760" cy="1987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855960" y="419112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68720" y="4191120"/>
              <a:ext cx="21420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82920" y="419112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495680" y="419112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708440" y="4191120"/>
              <a:ext cx="21420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922640" y="419112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135400" y="4191120"/>
              <a:ext cx="21420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49600" y="419112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641760" y="4191120"/>
              <a:ext cx="21420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429000" y="419112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855960" y="438948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068720" y="4389480"/>
              <a:ext cx="21420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282920" y="438948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495680" y="438948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08440" y="4389480"/>
              <a:ext cx="21420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922640" y="438948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135400" y="4389480"/>
              <a:ext cx="21420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349600" y="438948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641760" y="4389480"/>
              <a:ext cx="21420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429000" y="438948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55960" y="4587840"/>
              <a:ext cx="212760" cy="1969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068720" y="4587840"/>
              <a:ext cx="214200" cy="1969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282920" y="4587840"/>
              <a:ext cx="212760" cy="1969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495680" y="4587840"/>
              <a:ext cx="212760" cy="1969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708440" y="4587840"/>
              <a:ext cx="214200" cy="1969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922640" y="4587840"/>
              <a:ext cx="212760" cy="1969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135400" y="4587840"/>
              <a:ext cx="214200" cy="1969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349600" y="4587840"/>
              <a:ext cx="212760" cy="1969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641760" y="4587840"/>
              <a:ext cx="214200" cy="1969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429000" y="4587840"/>
              <a:ext cx="212760" cy="1969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55960" y="478476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068720" y="4784760"/>
              <a:ext cx="21420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282920" y="478476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495680" y="478476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708440" y="4784760"/>
              <a:ext cx="21420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922640" y="478476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135400" y="4784760"/>
              <a:ext cx="21420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349600" y="478476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641760" y="4784760"/>
              <a:ext cx="21420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429000" y="478476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855960" y="498312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068720" y="4983120"/>
              <a:ext cx="21420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82920" y="498312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95680" y="498312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708440" y="4983120"/>
              <a:ext cx="21420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922640" y="498312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135400" y="4983120"/>
              <a:ext cx="21420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349600" y="498312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641760" y="4983120"/>
              <a:ext cx="21420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429000" y="498312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6581880" y="3195720"/>
            <a:ext cx="2133000" cy="1981080"/>
            <a:chOff x="6581880" y="3195720"/>
            <a:chExt cx="2133000" cy="1981080"/>
          </a:xfrm>
        </p:grpSpPr>
        <p:sp>
          <p:nvSpPr>
            <p:cNvPr id="604" name=""/>
            <p:cNvSpPr/>
            <p:nvPr/>
          </p:nvSpPr>
          <p:spPr>
            <a:xfrm>
              <a:off x="7008840" y="3195720"/>
              <a:ext cx="2120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221240" y="319572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435800" y="319572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648560" y="319572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861320" y="3195720"/>
              <a:ext cx="2138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075520" y="319572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288280" y="3195720"/>
              <a:ext cx="21384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502480" y="319572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794280" y="319572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581880" y="319572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008840" y="3394080"/>
              <a:ext cx="21204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221240" y="3394080"/>
              <a:ext cx="21420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435800" y="339408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648560" y="339408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861320" y="3394080"/>
              <a:ext cx="2138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075520" y="339408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288280" y="3394080"/>
              <a:ext cx="21384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502480" y="339408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794280" y="3394080"/>
              <a:ext cx="21420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581880" y="339408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008840" y="3592440"/>
              <a:ext cx="212040" cy="1969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221240" y="3592440"/>
              <a:ext cx="214200" cy="1969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435800" y="3592440"/>
              <a:ext cx="21240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648560" y="3592440"/>
              <a:ext cx="21240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861320" y="3592440"/>
              <a:ext cx="21384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075520" y="3592440"/>
              <a:ext cx="21240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288280" y="3592440"/>
              <a:ext cx="213840" cy="1969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502480" y="3592440"/>
              <a:ext cx="21240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794280" y="3592440"/>
              <a:ext cx="21420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581880" y="3592440"/>
              <a:ext cx="21240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008840" y="3789360"/>
              <a:ext cx="2120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221240" y="378936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435800" y="378936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648560" y="378936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861320" y="3789360"/>
              <a:ext cx="2138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075520" y="378936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288280" y="3789360"/>
              <a:ext cx="21384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502480" y="378936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794280" y="378936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81880" y="378936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008840" y="3987720"/>
              <a:ext cx="212040" cy="19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221240" y="3987720"/>
              <a:ext cx="214200" cy="19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435800" y="3987720"/>
              <a:ext cx="212400" cy="19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648560" y="3987720"/>
              <a:ext cx="212400" cy="19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861320" y="3987720"/>
              <a:ext cx="213840" cy="19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075520" y="3987720"/>
              <a:ext cx="212400" cy="19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288280" y="3987720"/>
              <a:ext cx="213840" cy="1987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502480" y="3987720"/>
              <a:ext cx="212400" cy="19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794280" y="3987720"/>
              <a:ext cx="214200" cy="19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581880" y="3987720"/>
              <a:ext cx="212400" cy="19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008840" y="4186440"/>
              <a:ext cx="2120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221240" y="418644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435800" y="418644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648560" y="418644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1320" y="4186440"/>
              <a:ext cx="21384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075520" y="418644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288280" y="4186440"/>
              <a:ext cx="21384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502480" y="418644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794280" y="418644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581880" y="418644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008840" y="4384800"/>
              <a:ext cx="2120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21240" y="438480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435800" y="438480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48560" y="438480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1320" y="4384800"/>
              <a:ext cx="2138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075520" y="438480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288280" y="4384800"/>
              <a:ext cx="21384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02480" y="438480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794280" y="438480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581880" y="438480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008840" y="4583160"/>
              <a:ext cx="212040" cy="1969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21240" y="4583160"/>
              <a:ext cx="214200" cy="1969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435800" y="4583160"/>
              <a:ext cx="212400" cy="1969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648560" y="4583160"/>
              <a:ext cx="212400" cy="1969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861320" y="4583160"/>
              <a:ext cx="21384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75520" y="4583160"/>
              <a:ext cx="21240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288280" y="4583160"/>
              <a:ext cx="213840" cy="1969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502480" y="4583160"/>
              <a:ext cx="21240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794280" y="4583160"/>
              <a:ext cx="214200" cy="1969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581880" y="4583160"/>
              <a:ext cx="21240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008840" y="4780080"/>
              <a:ext cx="2120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221240" y="4780080"/>
              <a:ext cx="21420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435800" y="478008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48560" y="478008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61320" y="4780080"/>
              <a:ext cx="2138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075520" y="478008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288280" y="4780080"/>
              <a:ext cx="21384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502480" y="478008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794280" y="478008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581880" y="478008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840" y="4978440"/>
              <a:ext cx="2120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221240" y="497844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435800" y="497844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648560" y="497844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861320" y="4978440"/>
              <a:ext cx="2138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75520" y="497844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288280" y="4978440"/>
              <a:ext cx="21384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502480" y="497844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794280" y="497844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581880" y="497844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2950920" y="3890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05" name=""/>
          <p:cNvSpPr/>
          <p:nvPr/>
        </p:nvSpPr>
        <p:spPr>
          <a:xfrm>
            <a:off x="5867280" y="3886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G.Region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 Interfac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reateRectangle :: Point -&gt; Point -&gt; IO G.Regio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reateEllipse   :: Point -&gt; Point -&gt; IO G.Regio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reatePolygon   :: [Point] -&gt; IO G.Regio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ndRegion       :: G.Region -&gt; G.Region -&gt; IO G.Regio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orRegion        :: G.Region -&gt; G.Region -&gt; IO G.Regio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xorRegion       :: G.Region -&gt; G.Region -&gt; IO G.Regio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iffRegion      :: G.Region -&gt; G.Region -&gt; IO G.Regio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eleteRegion    :: G.Region -&gt; IO (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Region      :: G.Region -&gt; Graphic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se functions are defined in the SOEGraphics library module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Drawing </a:t>
            </a: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G.Reg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80520" y="2095200"/>
            <a:ext cx="84582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o draw things quickly, turn them into a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G.Reg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then turn th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G.Reg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into a graphic object, and then use all the machinery we have built up so far to display the object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RegionInWindow :: 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Window -&gt; Color -&gt; Region -&gt; IO ()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RegionInWindow w c r =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drawInWindow w 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(withColor c (drawRegion (regionToGRegion r))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ll we need to define, then, is: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gionToGReg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ut first, let’s define what it means to draw a picture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Drawing </a:t>
            </a: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Picture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533160" y="2362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ictures combine multiple regions into one big picture.  They provide a mechanism for placing one sub-picture on top of another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Pic :: Window -&gt; Picture -&gt; IO ()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Pic w (Region c r)   = drawRegionInWindow w c r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Pic w (p1 `Over` p2) = do drawPic w p2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        drawPic w p1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Pic w EmptyPic       = return (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ote that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p2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s drawn before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p1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since we want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p1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o appear “over”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p2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e have a rich calculus of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hap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, which we can draw, take the perimeter of, and tell if a point lies within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e defined a richer data typ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g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which allows more complex compositions (intersection, complement, etc.).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e gav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g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 mathematical semantics as a set of points in the 2-dimensional plane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e defined some interesting operators lik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ontainsR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which is the characteristic function for a region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rich nature of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g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makes it hard to draw efficiently, so we use a lower level datatyp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G.Region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e enriched this even further with th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ictur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type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G.Reg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is low level, relying on features like overwriting and explicit allocation and deallocation of memory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e can think of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g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s a high-level interface to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G.Reg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that hides low-level detail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9T22:47:58Z</dcterms:created>
  <dc:creator>Tim Sheard</dc:creator>
  <dc:description/>
  <dc:language>en-US</dc:language>
  <cp:lastModifiedBy>Paul Hudak</cp:lastModifiedBy>
  <cp:lastPrinted>1999-02-17T12:55:43Z</cp:lastPrinted>
  <dcterms:modified xsi:type="dcterms:W3CDTF">2004-10-22T19:52:27Z</dcterms:modified>
  <cp:revision>151</cp:revision>
  <dc:subject/>
  <dc:title>Lecture #1,  Sept. 30, 1996</dc:title>
</cp:coreProperties>
</file>