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8A0A-D2F9-4B4C-BBF4-BAE9A52F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9DF4-344A-4090-8FBD-B5F6D0E6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785-A4C8-4898-B848-C2322F1DB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0372-CFB6-4EA7-A846-59B14B42D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B62B-E110-4494-A281-5F46604D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2530-9FCD-4EC6-B1DA-1EDF2E23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3273-864F-49BB-BD46-570C9094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F842-8520-4E60-8860-658B74D3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E27F-6074-40F8-AC49-0D95BF6B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CEA2A-82AE-40BB-AE1E-DC263B4E5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9034-A3B0-4182-92A0-7076B4AC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96B-3F09-4FB6-B9B3-294DA6E3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3F1E-808A-496C-AC8C-4E785A12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7DC6-2719-4BE4-9406-22763AB0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5C18-8F16-436D-ACDC-367650E7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0E99-F95A-4B2C-B751-FBC93CE2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FCC2-5A08-4C62-BD87-1CCB7878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DFF-7942-46B6-8FB9-212DB143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EF9-073A-4798-9BE5-77363D5A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AB3-A137-4B65-9814-E0070F27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9817-6706-414C-A235-91A61B1B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B350-7D6F-4010-8A20-B07AA87D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5524-9014-4EB9-B9B4-10EC6C8F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B85-0958-464C-A5CF-E5F1F58F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7BBF-352F-4E68-8971-AFFBD41E91B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EB94-66BE-4C82-A5AF-6335BDA3A00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by Paul Hudak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Presentation slides by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Paul Hudak and Tim Sheard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781680" y="2590920"/>
            <a:ext cx="2057400" cy="27208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The Haskell School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of Expression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On-Line Resourc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haskell.org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: home page for Haskell and related topics on functional programming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haskell.org/soe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: home page for the text, with source code, demos, these slides, and other useful information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1T14:51:25Z</dcterms:created>
  <dc:creator>Paul Hudak</dc:creator>
  <dc:description/>
  <dc:language>en-US</dc:language>
  <cp:lastModifiedBy>Paul Hudak</cp:lastModifiedBy>
  <dcterms:modified xsi:type="dcterms:W3CDTF">2005-01-18T22:07:08Z</dcterms:modified>
  <cp:revision>4</cp:revision>
  <dc:subject/>
  <dc:title>The Haskell School  of Expression</dc:title>
</cp:coreProperties>
</file>