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8297-CE04-4A71-A75B-CA6ACABE4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FAC2-30AF-4D55-B503-7B45E3ED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A6E0-AD0D-4AA6-9A94-CC95810F6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CD38-3A67-4CF4-B576-89D4F071D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B279A-FFC6-4B4A-866D-01697F08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B2EA-AE68-4DAB-94BD-79869EB9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2C722-C01D-44CB-B3CF-5C9F334F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911F-7CB2-493C-876A-A985C80D0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AA2A-91DE-4E2A-96FF-9DB236FC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A8E6-236E-49EA-9165-50D86DD6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6D54-C065-4E5D-81F8-BF570AB6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71F9-B8EA-4123-84E1-4059FA966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9871-8B4B-4345-92FA-B0494574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80AF-99F4-4D9E-978C-31589C41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5F05-A8E1-48D0-9F3A-8E0932B2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0A5B-1B0C-4729-8C55-8263676D0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CDB2-38DF-467D-A621-78085D138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87C3-2BB4-4B49-913D-F80C7545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B707-EFB4-4075-AC51-5D425FB7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A7FB-E211-4FAD-9251-2B0EBDE8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5DBC-DE38-408C-A9DF-4D55D1D3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34E9-EF98-4A95-998E-EF67C5F5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A414-33F9-4ECD-96D4-27CD0D01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A0A7-E431-4271-B7AF-38E51BF5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919A-C1A9-43BE-A501-D9ABBDCBD2BE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B947-C766-4D79-B802-19909F7BF168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hapter 13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A Module of Simple Animations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Hiding More Detail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81057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e have not yet hidden all the “practical” detail –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 particular,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time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itself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But through more aggressive lifting: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g  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lift2 Regio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hape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lift1 Shap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ll  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lift2 Ellips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d  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lift0 Red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yellow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lift0 Yellow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ranslate (Beh a1, Beh a2) (Beh r)   -- note complexity he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Beh (\t -&gt; Translate (a1 t, a2 t) (r t))</a:t>
            </a:r>
            <a:br>
              <a:rPr sz="20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e can redefine the red revolving ball as follows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olvingBallB :: Behavior Pictu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olvingBallB =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et ball = shape (ell 0.2 0.2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 reg red (translate (sin time, cos time) ball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ore Lifting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83343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Comparison operators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&gt;*) :: Ord a =&gt; Behavior a -&gt; Behavior a -&gt; Behavior Boo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&gt;*) = lift2 (&gt;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Conditional behaviors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fFun :: Bool -&gt; a -&gt; a -&gt; a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fFun p c a = if p then c else a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nd :: Behavior Bool -&gt; Behavior a -&gt; Behavior a -&gt; Behavior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nd = lift3 ifFu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, a flashing color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lash :: Behavior Colo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lash = cond (sin time &gt;* 0) red yellow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ime Travel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 function for translating a behavior through time:</a:t>
            </a:r>
            <a:br>
              <a:rPr sz="2400"/>
            </a:br>
            <a:br>
              <a:rPr sz="9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imeTrans :: Behavior Time -&gt; Behavior a -&gt; Behavior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imeTrans (Beh f) (Beh a) = Beh (a . f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: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imeTrans (2*time) anim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double speed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imeTrans (5+time) anim `over` anim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one anim 5 sec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behind anothe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imeTrans (negate time) anim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go backward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ny kind of animation can be time transformed:</a:t>
            </a:r>
            <a:br>
              <a:rPr sz="2400"/>
            </a:br>
            <a:br>
              <a:rPr sz="9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lashingBall :: Behavior Pictu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lashingBall = let ball = shape (ell 0.2 0.2)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  in reg (timeTrans (8*time) flash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            (translate (sin time, cos time) ball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Final Exampl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olvingBalls :: Behavior Pictur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olvingBalls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overMany [ timeTrans (time + t*pi/4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                                    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flashingBall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| t &lt;- map lift0 [0..7] 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See the text for one other example:</a:t>
            </a:r>
            <a:br>
              <a:rPr sz="2400"/>
            </a:b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a kaleidoscope program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otivat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958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In the abstract, an </a:t>
            </a:r>
            <a:r>
              <a:rPr b="0" i="1" lang="en-US" sz="2800" spc="-1" strike="noStrike">
                <a:solidFill>
                  <a:srgbClr val="003366"/>
                </a:solidFill>
                <a:latin typeface="Comic Sans MS"/>
              </a:rPr>
              <a:t>animation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is a continuous, time-varying image.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But in practice, it is a sequence of static images displayed in succession so rapidly that it looks continuous.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Our goal is to present to the programmer an abstract view that hides the practical details.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In addition, we will generalize animations to be continuous, time-varying quantities of </a:t>
            </a:r>
            <a:r>
              <a:rPr b="0" i="1" lang="en-US" sz="2800" spc="-1" strike="noStrike">
                <a:solidFill>
                  <a:srgbClr val="003366"/>
                </a:solidFill>
                <a:latin typeface="Comic Sans MS"/>
              </a:rPr>
              <a:t>any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value, not just images.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Representing Animat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958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s usual, we will use our most powerful tool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–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a function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– to represent animations: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type Animation a = Time -&gt; a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type Time = Float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Examples: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rubberBall :: Animation Shape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rubberBall t = Ellipse (sin t) (cos t)</a:t>
            </a:r>
            <a:br>
              <a:rPr sz="1800"/>
            </a:br>
            <a:br>
              <a:rPr sz="12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revolvingBall :: Animation Region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revolvingBall t =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let ball = Shape (Ellipse 0.2 0.2)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in Translate (sin t, cos t) ball</a:t>
            </a:r>
            <a:br>
              <a:rPr sz="1800"/>
            </a:br>
            <a:br>
              <a:rPr sz="12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lanets :: Animation Pictu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lanets t =  le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1 = Region Red (Shape (rubberBall t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2 = Region Yellow (revolvingBall t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in p1 `Over` p2</a:t>
            </a:r>
            <a:br>
              <a:rPr sz="2000"/>
            </a:br>
            <a:br>
              <a:rPr sz="12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tellTime :: Animation String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tellTime t = "The time is: " ++ show t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n Animator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Suppose we had a function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nimate :: String -&gt; Animation Graphic -&gt; IO ( )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e could then execute (i.e. display) the previous animations.  For example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ain1 :: IO ( 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ain1 = animate "Animated Shape“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              (withColor Blue . shapeToGraphic .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                rubberBall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ain2 :: IO ( 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ain2 = animate "Animated Text“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              (text (100,200) . tellTime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Definition of “animate”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81820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nimate :: String -&gt; Animation Graphic -&gt; IO ( 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nimate title anim = runGraphics (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w &lt;- openWindowEx title (Just (0,0)) (Just (xWin,yWin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                                     drawBufferedGraphic (Just 30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t0 &lt;- timeGetTim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let loop = do t &lt;- timeGetTim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let ft = intToFloat (word32ToInt (t-t0)) / 1000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setGraphic w (anim ft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getWindowTick w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loop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loop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See text for detail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ommon Operat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2133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e can define many operations on animations based on the underlying type.  For example, for Pictures:</a:t>
            </a:r>
            <a:br>
              <a:rPr sz="20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emptyA :: Animation Picture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emptyA t = EmptyPic</a:t>
            </a:r>
            <a:br>
              <a:rPr sz="1800"/>
            </a:br>
            <a:br>
              <a:rPr sz="8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overA :: Animation Picture -&gt; Animation Picture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  -&gt; Animation Picture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overA a1 a2 t = a1 t `Over` a2 t</a:t>
            </a:r>
            <a:br>
              <a:rPr sz="1800"/>
            </a:br>
            <a:br>
              <a:rPr sz="8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overManyA :: [Animation Picture] -&gt; Animation Picture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overManyA = foldr overA emptyA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e can do a similar thing for Shapes, etc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lso, for numeric animations, we could define functions like addA, multA, and so on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 both case, however, there is a better solution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us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type classes.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 But first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ewtype Behavior a  =  Beh (Time -&gt; a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Numeric Animat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40388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instance Num a =&gt;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        Num (Behavior a) where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(+) = lift2 (+)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(*) = lift2 (*)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negate = lift1 negate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abs = lift1 abs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signum = lift1 signum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fromInteger = lift0 . fromInteger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instance Fractional a =&gt;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        Fractional (Behavior a) where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(/) = lift2 (/)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fromRational = lift0 . fromRational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1632600" y="4724280"/>
            <a:ext cx="672948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Where the lifting functions are defined by: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lift0 :: a -&gt; Behavior a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lift0 x = Beh (\t -&gt; x)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lift1 :: (a -&gt; b) -&gt; (Behavior a -&gt; Behavior b)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lift1 f (Beh a) = Beh (\t -&gt; f (a t)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lift2 :: (a -&gt; b -&gt; c) -&gt; (Behavior a -&gt; Behavior b -&gt; Behavior c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lift2 g (Beh a) (Beh b) = Beh (\t -&gt; g (a t) (b t)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5" name=""/>
          <p:cNvSpPr/>
          <p:nvPr/>
        </p:nvSpPr>
        <p:spPr>
          <a:xfrm>
            <a:off x="4952880" y="2057400"/>
            <a:ext cx="40388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instance Floating a =&gt;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        Floating (Behavior a) where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pi    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= lift0 pi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sqrt  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= lift1 sqrt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exp   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= lift1 exp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log   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= lift1 log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sin   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= lift1 sin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cos   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= lift1 cos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tan   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= lift1 tan</a:t>
            </a:r>
            <a:br>
              <a:rPr sz="1600"/>
            </a:br>
            <a:r>
              <a:rPr b="0" i="1" lang="en-US" sz="1600" spc="-1" strike="noStrike">
                <a:solidFill>
                  <a:srgbClr val="003366"/>
                </a:solidFill>
                <a:latin typeface="Comic Sans MS"/>
              </a:rPr>
              <a:t>etc.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ype Class Magic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urthermore, defin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time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by: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ime :: Behavior Tim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ime = Beh (\t -&gt; t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, consider “time + 42”: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ime + 42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unfold overloadings for time, (+), and 42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(lift2 (+)) (Beh (\t -&gt; t)) (Beh (\t -&gt; 42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unfold lift2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(\ (Beh a) (Beh b) -&gt; Beh (\t -&gt; a t + b t) )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(Beh (\t -&gt; t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(Beh (\t -&gt; 42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unfold anonymous functio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Beh (\t -&gt; (\t -&gt; t) t + (\t -&gt; 42) t 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unfold two anonymous functions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Beh (\t -&gt; t + 42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magic of type classes!!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New Type Class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 addition to using existing type classes such as Num, we can define new ones.  For example:</a:t>
            </a:r>
            <a:br>
              <a:rPr sz="24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lass Combine a whe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mpty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over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a -&gt; a -&gt; a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stance Combine Picture whe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mpty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EmptyPic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over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Over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stance Combine a =&gt; Combine (Behavior a) whe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mpty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lift0 empty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over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lift2 over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overMany :: Combine a =&gt; [a] -&gt;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overMany = foldr over empty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9T22:47:58Z</dcterms:created>
  <dc:creator>Tim Sheard</dc:creator>
  <dc:description/>
  <dc:language>en-US</dc:language>
  <cp:lastModifiedBy>Paul Hudak</cp:lastModifiedBy>
  <cp:lastPrinted>1999-10-07T20:38:26Z</cp:lastPrinted>
  <dcterms:modified xsi:type="dcterms:W3CDTF">2004-10-07T00:34:51Z</dcterms:modified>
  <cp:revision>135</cp:revision>
  <dc:subject/>
  <dc:title>Lecture #1,  Sept. 30, 1996</dc:title>
</cp:coreProperties>
</file>