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3A61-45C7-4B33-900E-D33F07CEC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A7D2-9684-4BD5-9C2D-C700C79E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64B4-5AD2-41C9-9DB0-32E6D6FA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2693-0641-47DE-9BD2-ED842710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75DF-F37B-4272-B979-215A1DCC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05A2-551B-4186-B907-FB72E8D6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F9B3-6C0C-4F45-8DD8-15C8080B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BFBE-85C7-4F60-8B05-447EBC59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3A75-1508-42A4-ADA4-1918C9A1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872A-6B75-416C-8358-BED4B28E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A2DB-2CCB-4906-84DA-27A7425A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AE9E-6F8B-4E1F-880A-4F4FB3B6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FFF9E-6B4A-4867-A42D-98F53E02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9810-B610-41D4-827B-D76DE926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39E7-F949-4507-AF27-2E8C237A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472B-2581-4AFD-8E23-3336503F9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D643-E883-4A7B-9102-55E5A9E0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0517-023D-4890-9507-C3413A5E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0F53-3FB4-4DDC-9AA6-4CB5E243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BF57-8292-44C2-B4B4-646DD318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F74C-69E5-4925-BE12-ED21B781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AB17-FCD5-4CD6-8BA9-EF2CB91C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732B-97EC-4E8D-83F4-51CE9842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2F61-B08B-4DD4-8162-9BBC5B95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A95C-416A-4498-B108-6D67B154F6D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3AD2-8A56-491A-A226-5D4D0357FE6D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11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Proof by Induction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Generalizing Lemma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83343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e lemma:</a:t>
            </a:r>
            <a:br>
              <a:rPr sz="2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ldl (flip (:)) [] xs ++ [x] = foldl (flip (:)) [] (x:xs)</a:t>
            </a:r>
            <a:br>
              <a:rPr sz="2400"/>
            </a:b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is actually hard to prove directly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It ‘s easier to prove this generalization:</a:t>
            </a:r>
            <a:br>
              <a:rPr sz="2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ldl (flip (:)) ys xs ++ [y] = foldl (flip (:)) (ys++[y]) xs</a:t>
            </a:r>
            <a:br>
              <a:rPr sz="2400"/>
            </a:b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rom which the first lemma is easy to prove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Knowing when to introduce a lemma, and when to generalize it, it is a skill in proving theorems in any context.</a:t>
            </a:r>
            <a:br>
              <a:rPr sz="2800"/>
            </a:br>
            <a:br>
              <a:rPr sz="9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(See text for proofs of lemmas.)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Laws of List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ere are many useful properties of functions such as (++), map, foldl, and foldr on lists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ese properties can be used as “lemmas” in proving other properties of larger programs that use these functions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ome of them depend on function “strictness”:  A function f is 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</a:rPr>
              <a:t>strict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if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_|_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=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_|_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Laws of Map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ap (\x-&gt;x) = \x-&gt;x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ap (f . g) = map f . map g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ap f . tail = tail . map f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ap f . reverse = reverse . map f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ap f . concat = concat . map (map f)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ap f (xs ++ ys) = map f xs ++ map f ys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all strict f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 . head = head . map f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Laws of fold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95816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f op is associative, e `op` x = x, and x `op` e = x,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n for all finite xs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ldr op e xs = foldl op e x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f the following are true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x `op1` (y `op2` z) = (x `op1` y) `op2` z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x `op1` e = e `op2` x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n for all finite xs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ldr op1 e xs = foldl op2 e x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r all finite xs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ldr op e xs = foldl (flip op) e (reverse x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Induction on Other Data Types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Proof by induction is not limited to lists.  Indeed, it is usually taught on 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</a:rPr>
              <a:t>natural numbers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first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Example:  Exponentiation, defined by: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sv-SE" sz="2400" spc="-1" strike="noStrike">
                <a:solidFill>
                  <a:srgbClr val="003366"/>
                </a:solidFill>
                <a:latin typeface="Comic Sans MS"/>
              </a:rPr>
              <a:t>(^)  :: Integer -&gt; Integer -&gt; Integer</a:t>
            </a:r>
            <a:br>
              <a:rPr sz="2400"/>
            </a:br>
            <a:r>
              <a:rPr b="0" lang="sv-SE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sv-SE" sz="2400" spc="-1" strike="noStrike">
                <a:solidFill>
                  <a:srgbClr val="003366"/>
                </a:solidFill>
                <a:latin typeface="Comic Sans MS"/>
              </a:rPr>
              <a:t>x^0 = 1</a:t>
            </a:r>
            <a:br>
              <a:rPr sz="2400"/>
            </a:br>
            <a:r>
              <a:rPr b="0" lang="sv-SE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sv-SE" sz="2400" spc="-1" strike="noStrike">
                <a:solidFill>
                  <a:srgbClr val="003366"/>
                </a:solidFill>
                <a:latin typeface="Comic Sans MS"/>
              </a:rPr>
              <a:t>x^n = x * x^(n-1)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3366"/>
                </a:solidFill>
                <a:latin typeface="Comic Sans MS"/>
              </a:rPr>
              <a:t>Suppose we wish to prove that, for all natural numbers m and n:</a:t>
            </a:r>
            <a:br>
              <a:rPr sz="2800"/>
            </a:br>
            <a:r>
              <a:rPr b="0" lang="sv-SE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x^(n+m) = x^n * x^m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Example 4: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A Property About Exponentiation 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s before, we proceed by induction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ase case:  n = 0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x^(0+m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x^m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1 * (x^m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x^0 * x^m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duction step: assume x^(n+m) = x^n * x^m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x^((n+1)+m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x * x^(n+m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x * (x^n * x^m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(x * x^n) * x^m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x^(n+1) * x^m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Induction Over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User-Defined Data Types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call the tree data type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Tree a = Leaf  a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| Branch (Tree a) (Tree a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nd define these functions on it: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latten :: Tree a -&gt; [a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latten (Leaf x)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[x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latten (Branch t1 t2)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flatten t1 ++ flatten t2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umTree :: Tree Int -&gt; Int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umTree (Leaf x)          = x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umTree (Branch t1 t2) = sumTree t1 + sumTree t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urther, assume that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um = foldl (+) 0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Lemma: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sum (xs++ys) = sum xs + sum y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Example 5: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A Property About Trees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mic Sans MS"/>
              </a:rPr>
              <a:t>Theorem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:  sum . flatten = sumTree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Proof by induction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ase case:  t = Leaf x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um (flatten (Leaf x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sum [x]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u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nfold flatten</a:t>
            </a:r>
            <a:br>
              <a:rPr sz="2000"/>
            </a:br>
            <a:r>
              <a:rPr b="0" i="1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ldl (+) 0 (x:[]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syntax, and unfold sum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x + (foldl (+) 0 []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unfold fold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x + 0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unfold fold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x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arithmetic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sumTree (Leaf x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fold sumTre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3" marL="142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Example 5, cont’d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Induction step:  assume that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um (flatten t1) = sumTree t1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um (flatten t2) = sumTree t2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um (flatten (Branch t1 t2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sum (flatten t1 ++ flatten t2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unfold flatte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sum (flatten t1) + sum (flatten t2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lemm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sumTree t1 + sumTree t2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induction hyp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sumTree (Branch t1 t2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fold sumTre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Induction and Recurs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wo sides of the same coin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duction usually starts with small things, and then generalizes to the large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.g. inductive definition of a list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[] is a list; and if xs is a list, then so is x : x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cursion usually starts with the large thing, working its way back to the small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.g. recursion over lists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tart with non-empty list x : xs; do something with x, then recurse on x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t is not surprising then, that proof by induction is closely tied to recursion: it is usually needed when proving properties about recursive function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roof by Induction on List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83343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o prove property 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by induction on the length of a list: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Prove P([])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-- the 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</a:rPr>
              <a:t>base case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ssume P(xs) is true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–- the 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</a:rPr>
              <a:t>induction hypothesis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nd prove that P(x:xs) is true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-– the 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</a:rPr>
              <a:t>induction step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Example 1: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A Property About foldr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833436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Recall this property about foldr: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ldr (:) [] xs = xs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 proof by induction: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ase case:  xs = []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ldr (:) [] []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[]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(immediate from the definition of foldr)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duction step:  assume foldr (:) [] xs = xs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ldr (:) [] (x:xs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x : foldr (:) [] xs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-- unfold foldr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x : xs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-- by the induction hypothesis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Example 2: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A Property About length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Prove that: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length (xs++ys) = length xs + length ys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Question: Over which list (xs or ys) should we perform the induction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Hint: look at the definitions of length and (++), which recurse over the front of their arguments – thus we should use xs above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Example 2, cont’d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ase case:  xs = [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ength ([] ++ y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ength ys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0 + length ys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ength [] + length y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duction step:  assume length (xs++ys) = length xs + length y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ength ((x:xs) ++ ys)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ength (x : (xs ++ ys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 + length (xs ++ ys)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 + (length xs + length y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1 + length xs) + length y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ength (x:xs) + length y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Proving Function Equivalence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Remember the mantra: “get it right first”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Later, we can improve our programs for efficiency reasons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But how do we know that the new program is the same as the old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nswer: by 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</a:rPr>
              <a:t>proving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them so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nd in the case of recursive functions, we will need induction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Example 3: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Equivalence of reverse Def’ns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Recall these three definitions of reverse: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erse1  []    = [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erse1 (x:xs) = reverse1 xs ++ [x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erse2 xs = rev [] x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 acc  []    = acc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 acc (x:xs) = rev (x:acc) x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erse3 = foldl (flip (:)) [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erse1 is the obvious, but inefficient versio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erse2 is the recursive, efficient versio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erse3 is the non-recursive, efficient versio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Example 3, cont’d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Let’s prove that reverse1 = reverse3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ase case:  xs = [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erse1 [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[]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unfold reverse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foldl (flip (:)) [] []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fold fold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reverse3 []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fold reverse3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duction step:  assume reverse1 xs = reverse3 x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erse1 (x:xs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reverse1 xs ++ [x]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unfold reverse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reverse3 xs ++ [x]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induction hypothesi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foldl (flip (:)) [] xs ++ [x]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unfold reverse3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foldl (flip (:)) [] (x:xs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LEMMA!!!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reverse3 (x:xs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fold reverse3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lemma states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ldl (flip (:)) [] xs ++ [x] = foldl (flip (:)) [] (x:xs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ow do we prove this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10-07T20:38:26Z</cp:lastPrinted>
  <dcterms:modified xsi:type="dcterms:W3CDTF">2004-09-30T14:30:45Z</dcterms:modified>
  <cp:revision>104</cp:revision>
  <dc:subject/>
  <dc:title>Lecture #1,  Sept. 30, 1996</dc:title>
</cp:coreProperties>
</file>