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7F22-9411-45C5-92B3-C45FE04A8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A364-7D64-41B3-A43A-004BC6F88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E587-CCB4-46D0-AD85-3BC5B2E08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1AC6-06B7-4535-AC03-536B562C4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FFF1-E41A-4555-A8C1-6F283FE3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9C1D-58E3-4827-9FC8-4E8CE55C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3541-CE94-461F-A880-288FF5E8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C726-48D4-4261-A3DF-03A518B9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872F-CB4C-48A0-960E-6786A0CF1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1E21-F9D1-4F8F-8592-3606B7F0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4DA7-CE98-4B8D-AEB5-4A74DF54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5672-B215-4F09-BD2A-0B7D722C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69E4-7876-445E-87F8-14AC3E5D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E67C-5723-4A16-BC7C-B884F8D3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18B7-C78F-4CAC-A53D-74D46CC2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179F-57E2-4420-8109-D0426BC2B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25B9-037F-4776-B00C-E853822E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5362-C5B1-4B29-A324-B1D28C8A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9683-4649-45B6-BD68-D6B2CB91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C676-5030-493A-B2F0-032D87ED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447B-8F62-4528-BC73-3112DB05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48B6-CED9-470A-A9AF-8B189F96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7DC9-B317-4CCD-86D8-5A7B0BB6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5848-90A8-4972-8D7B-D1E791CC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5836-DE07-4F49-AFC8-4CCC86E86872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2730-7DED-4EB3-AC94-77BDED76D711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hapter 15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A Module of Reactive Animations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urried Lifting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815364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rom this “lifted” version of application:</a:t>
            </a:r>
            <a:br>
              <a:rPr sz="24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$*) :: Beh (a-&gt;b) -&gt; Beh a -&gt; Beh b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eh ff $* Beh fb =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eh (\uts -&gt; zipWith ($) (ff uts) (fb uts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nd the constant lifting operator:</a:t>
            </a:r>
            <a:br>
              <a:rPr sz="24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ift0 :: a -&gt; Beh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ift0 = constB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ll other lifting operators can be defined:</a:t>
            </a:r>
            <a:br>
              <a:rPr sz="24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ift1 :: (a -&gt; b) -&gt; (Beh a -&gt; Beh b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ift1 f b1  = lift0 f $* b1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ift2 :: (a -&gt; b -&gt; c) -&gt; (Beh a -&gt; Beh b -&gt; Beh c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ift2 f b1 b2  = lift1 f b1 $* b2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ift3 :: (a -&gt; b -&gt; c -&gt; d) -&gt; (Beh a -&gt; Beh b -&gt; Beh c -&gt; Beh d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ift3 f b1 b2 b3  = lift2 f b1 b2 $* b3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7315200" y="3352680"/>
            <a:ext cx="1828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3300"/>
                </a:solidFill>
                <a:latin typeface="Comic Sans MS"/>
              </a:rPr>
              <a:t>(For conciseness, “Beh” is used instead of “Behavior”.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ample Lifting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9581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airB :: Behavior a -&gt; Behavior b -&gt; Behavior (a,b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airB = lift2 (,)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stB :: Behavior (a,b) -&gt; Behavior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stB  = lift1 fst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aint :: Behavior Color -&gt; Behavior Region -&gt; Behavior Pictu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aint = lift2 Region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d, blue, yellow, green, white, black :: Behavior Colo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d    = lift0 Red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lue   = lift0 Blu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 . .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hape :: Behavior Shape -&gt; Behavior Regio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hape   = lift1 Shape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ll, rec :: Behavior Float -&gt; Behavior Float -&gt; Behavior Regio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ll x y  = shape (lift2 Ellipse   x y)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c x y = shape (lift2 Rectangle x y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f3300"/>
                </a:solidFill>
                <a:latin typeface="Comic Sans MS"/>
              </a:rPr>
              <a:t>See text for more lifting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vents and Reactivity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958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bstractly, we can think of events as:</a:t>
            </a:r>
            <a:br>
              <a:rPr sz="24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ype Event a = Behavior (Maybe a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But for type safety, this is better:</a:t>
            </a:r>
            <a:br>
              <a:rPr sz="24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ewtype Event a 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Event ( ([Maybe UserAction], [Time]) -&gt; [Maybe a] 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Core of FAL’s reactivity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untilB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Behavior a -&gt; Event (Behavior a) -&gt; Behavior a</a:t>
            </a:r>
            <a:br>
              <a:rPr sz="20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witch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Behavior a -&gt; Event (Behavior a) -&gt; Behavior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-&gt;&gt;)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Event a -&gt; b -&gt; Event b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=&gt;&gt;)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Event a -&gt; (a-&gt;b) -&gt; Event b</a:t>
            </a:r>
            <a:br>
              <a:rPr sz="20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plus primitive events such as:</a:t>
            </a:r>
            <a:br>
              <a:rPr sz="24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bp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Event ( 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rimitive Event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818208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lbp” must look for a “left button press” in the stream of UserActions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bp :: Event ( 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bp = Event (\(uas,_) -&gt; map getlbp uas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 where getlbp (Just (Button _ True True)) = Just ( 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getlbp   _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= Nothin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Similarly for “key”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key :: Event Cha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key = Event (\(uas,_) -&gt; map getkey uas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 where getkey (Just (Key ch True))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Just ch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getkey   _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Nothing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Implementing UntilB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214360"/>
            <a:ext cx="83059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untilB switches into a new behavior carried by the event.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untilB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Behavior a -&gt; Event (Behavior a) -&gt; Behavior a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ehavior fb `untilB` Event fe 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emoB $ Behavior (\uts@(us,ts) -&gt; loop us ts (fe uts) (fb uts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ere loop (_:us) (_:ts) ~(e:es) (b:bs) 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b : case e of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othing -&gt; loop us ts es bs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Just (Behavior fb') -&gt; fb' (us,ts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emoB :: Behavior a -&gt; Behavior a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emoB (Behavior fb) = Behavior (memo1 fb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Comic Sans MS"/>
              </a:rPr>
              <a:t>Stare at this code until you understand it completely!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The definition of “switch” is very similar (see text)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vent Map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958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Recall: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lor1 :: Behavior Colo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lor1 = red `untilB` (lbp -&gt;&gt; blue)</a:t>
            </a:r>
            <a:br>
              <a:rPr sz="20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hat does “-&gt;&gt;” do?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Consider types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d, blue :: Behavior Colo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untilB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:: Behavior Color -&gt; Event (Behavior Color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-&gt; Behavior Colo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bp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:: Event ( 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-&gt;&gt;)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:: Event ( ) -&gt; Behavior Colo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 -&gt; Event (Behavior Color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So (-&gt;&gt;) somehow “tags” an event with a Behavior.  Polymorphically speaking:</a:t>
            </a:r>
            <a:br>
              <a:rPr sz="24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-&gt;&gt;) :: Event a -&gt; b -&gt; Event b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t is actually a special case of the more general:</a:t>
            </a:r>
            <a:br>
              <a:rPr sz="24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=&gt;&gt;) :: Event a -&gt; (a-&gt;b) -&gt; Event b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Implementing Event Map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(=&gt;&gt;) is defined as: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vent fe =&gt;&gt; f  =  Event (\uts -&gt; map aux (fe uts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er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ux (Just a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Just (f a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ux Nothing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Nothin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hich can be defined more succinctly using fmap from the Functor class (discussed in Chapter 18!)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vent fe =&gt;&gt; f  =  Event (map (fmap f) . fe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(-&gt;&gt;) is then defined in terms of (=&gt;&gt;)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 -&gt;&gt; v  =  e =&gt;&gt; \_ -&gt; v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Implementing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Predicate Events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hile” is defined as: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ile :: Behavior Bool -&gt; Event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ile (Behavior fb) =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vent (\uts -&gt; map aux (fb uts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ere   aux Tru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Just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ux False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Nothin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hen” is defined similarly (see text)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Implementing Integrat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tegral” is defined by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tegral :: Behavior Float -&gt; Behavior Floa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tegral (Behavior fb) 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ehavior (\uts@(us,t:ts) -&gt; 0 : loop t 0 ts (fb uts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ere loop t0 acc (t1:ts) (a:as) =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et acc' = acc + (t1-t0)*a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  acc' : loop t1 acc' ts as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s corresponds to the standard definition of integration as a limit in calculus (see text)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teppers”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Steppers” are convenient variations of switch:</a:t>
            </a:r>
            <a:br>
              <a:rPr sz="2400"/>
            </a:br>
            <a:br>
              <a:rPr sz="800"/>
            </a:b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tep :: a -&gt; Event a -&gt; Behavior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 `step` e = constB a `switch` e =&gt;&gt; constB</a:t>
            </a:r>
            <a:br>
              <a:rPr sz="2000"/>
            </a:br>
            <a:br>
              <a:rPr sz="800"/>
            </a:b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tepAccum :: a -&gt; Event (a-&gt;a) -&gt; Behavior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 `stepAccum` e =  b where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 = a `step` (e `snapshot` b =&gt;&gt; uncurry ($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, a counter: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unter = 0 `stepAccum` lbp -&gt;&gt; (+1)</a:t>
            </a:r>
            <a:br>
              <a:rPr sz="20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n example involving `step` is on the next slide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otivat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design of animations in Chapter 13 is elegant, and in fact has the feel of a small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domain-specific language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(DSL),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embedded in Haskell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However, the language lacks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reactivity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ability to interact with the user or other external stimuli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 this chapter we add reactivity, and call the resulting DSL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functional animation language,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or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FAL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 addition, an implementation of FAL is described, using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stream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ouse Movemen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8181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t’s convenient to treat mouse position as a pair of Behaviors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ouse :: (Behavior Float, Behavior Float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ouse = (fstB m, sndB m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ere m = (0,0) `step` mm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here “mm” is defined as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m :: Event Coordinat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m = Event (\(uas,_) -&gt; map getmm uas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ere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getmm (Just (MouseMove pt)) 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Just (gPtToPt pt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getmm _ = Nothin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Final Example: Paddleball!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 paddleball game consists of three parts:</a:t>
            </a:r>
            <a:br>
              <a:rPr sz="2400"/>
            </a:br>
            <a:br>
              <a:rPr sz="800"/>
            </a:b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nb-NO" sz="2000" spc="-1" strike="noStrike">
                <a:solidFill>
                  <a:srgbClr val="003366"/>
                </a:solidFill>
                <a:latin typeface="Comic Sans MS"/>
              </a:rPr>
              <a:t>paddleball vel = walls `over` paddle `over` pball vel</a:t>
            </a:r>
            <a:br>
              <a:rPr sz="2400"/>
            </a:br>
            <a:r>
              <a:rPr b="0" lang="nb-NO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3366"/>
                </a:solidFill>
                <a:latin typeface="Comic Sans MS"/>
              </a:rPr>
              <a:t>Where ”walls” and ”paddle” are defined by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alls = let upper = paint blue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(translate ( 0,1.7) (rec 4.4 0.05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 left   =  paint blu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(translate (-2.2,0) (rec 0.05 3.4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 right =  paint blu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(translate ( 2.2,0) (rec 0.05 3.4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in upper `over` left `over` right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addle = paint red (translate (fst mouse, -1.7) (rec 0.5 0.05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core of the game is in “pball”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utting it All Together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81820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ball vel 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e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xvel  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= vel `stepAccum` xbounce -&gt;&gt; negat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xpos  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= integral xvel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xbounce = when (xpos &gt;*  2 ||* xpos &lt;* -2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yvel  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= vel `stepAccum` ybounce -&gt;&gt; negat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ypos  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= integral yvel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ybounce  = when (ypos &gt;* 1.5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||* ypos `between` (-2.0,-1.5) &amp;&amp;*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  fst mouse `between` (xpos-0.25,xpos+0.25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 paint yellow (translate (xpos, ypos) (ell 0.2 0.2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x `between` (a,b) = x &gt;* a &amp;&amp;* x &lt;* b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FAL by Exampl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s before, we use the polymorphic data type “Behavior” to capture time-varying value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lor1 :: Behavior Colo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lor1 = red `untilB` (lbp -&gt;&gt; blue)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all1 :: Behavior Pictu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all1 = paint color1 circ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irc :: Behavior Regio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irc = translate (cos time, sin time) (ell 0.2 0.2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function “untilB” reflects reactive behavior, and “lbp” corresponds to a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eft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utton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res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ore Reactivity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958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Recursive reactivity:</a:t>
            </a:r>
            <a:br>
              <a:rPr sz="24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lor1r  =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d  `untilB` lbp -&gt;&gt;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lue `untilB` lbp -&gt;&gt;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lor1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Choice reactivity:</a:t>
            </a:r>
            <a:br>
              <a:rPr sz="24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lor2  = red `untilB`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(lbp -&gt;&gt; blue) .|. (key -&gt;&gt; yellow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Recursive, choice reactivity:</a:t>
            </a:r>
            <a:br>
              <a:rPr sz="24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lor2r = red `untilB` colorEvent whe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colorEvent =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lbp -&gt;&gt; blue `untilB` colorEvent) .|.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key -&gt;&gt; yellow `untilB` colorEvent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Pushing recursion into combinator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lor2h = red `switch` ((lbp -&gt;&gt; blue) .|. (key -&gt;&gt; yellow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vents With Data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Convert button-press events into color events:</a:t>
            </a:r>
            <a:br>
              <a:rPr sz="24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lor1h = red `switch`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(lbp `withElem_` cycle [blue, red]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Dispatch on key press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lor3 = white `switch` (key =&gt;&gt; \c -&gt;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case c of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'R' -&gt; red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'B' -&gt; blu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'Y' -&gt; yellow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_   -&gt; white  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Carrying state forward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lor4 = white `switch`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((key `snapshot` color4) =&gt;&gt; \(c, old) -&gt;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case c of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'R' -&gt; red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'B' -&gt; blu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'Y' -&gt; yellow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_   -&gt; lift0 old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Dynamic Event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Not all events are external.  For example: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hile (time &gt;* 42) 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generates no events until time exceeds 42, and then generates events “infinitely often”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hen (time &gt;* 42)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generates exactly one event when the time exceeds 42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color5  =  red `untilB` (when (time &gt;* 5) -&gt;&gt; blue)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Integrat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818208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position of a mass under the influence of an accelerating force f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, v :: Behavior Floa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 = s0 + integral v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v = v0 + integral f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Combining with reactivity, a bouncing ball:</a:t>
            </a:r>
            <a:br>
              <a:rPr sz="2400"/>
            </a:br>
            <a:br>
              <a:rPr sz="9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all2 = paint red (translate (x,y) (ell 0.2 0.2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er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g =  -4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x =  -3 + integral 0.5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y = 1.5 + integral v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v = integral g `switch` (hit `snapshot_` v =&gt;&gt; \v'-&gt;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lift0 (-v') + integral g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hit = when (y &lt;* -1.5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5412960" y="2784600"/>
            <a:ext cx="2712240" cy="6426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Comic Sans MS"/>
              </a:rPr>
              <a:t>Note similarity to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Comic Sans MS"/>
              </a:rPr>
              <a:t>mathematical equations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Implementing FAL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958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Previously a behavior was conceptually a function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ehavior a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Time -&gt; a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But somehow we must now introduc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events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.  One obvious approach would be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ehavior a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[(UserAction, Time)] -&gt; Time -&gt; a</a:t>
            </a:r>
            <a:br>
              <a:rPr sz="20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But this would be very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inefficient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(why?)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Better to do this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ehavior a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[(UserAction, Time)] -&gt; [Time] -&gt; [a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Or, even more efficient, and now as Haskell code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ewtype Behavior a 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Behavior ( ([Maybe UserAction], [Time]) -&gt; [a] )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ff3300"/>
                </a:solidFill>
                <a:latin typeface="Comic Sans MS"/>
              </a:rPr>
              <a:t>(see text for definition of UserAction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ime and Constant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Recall:</a:t>
            </a:r>
            <a:br>
              <a:rPr sz="2400"/>
            </a:br>
            <a:br>
              <a:rPr sz="900"/>
            </a:br>
            <a:r>
              <a:rPr b="0" lang="en-US" sz="9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ewtype Behavior a 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Behavior ( ([Maybe UserAction], [Time]) -&gt; [a] 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ith this representation, let’s define time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ime :: Behavior Tim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ime = Behavior (\(_,ts) -&gt; ts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Constant behaviors are achieved via lifting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nstB :: a -&gt; Behavior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nstB x = Behavior (\_ -&gt; repeat x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d, blue :: Behavior Colo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d    = constB Red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lue   = constB Blu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9T22:47:58Z</dcterms:created>
  <dc:creator>Tim Sheard</dc:creator>
  <dc:description/>
  <dc:language>en-US</dc:language>
  <cp:lastModifiedBy>Paul Hudak</cp:lastModifiedBy>
  <cp:lastPrinted>1999-10-07T20:38:26Z</cp:lastPrinted>
  <dcterms:modified xsi:type="dcterms:W3CDTF">2004-10-18T12:52:49Z</dcterms:modified>
  <cp:revision>212</cp:revision>
  <dc:subject/>
  <dc:title>Lecture #1,  Sept. 30, 1996</dc:title>
</cp:coreProperties>
</file>