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2BA6-6249-4F0C-A2FE-A24ACC21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107-3B2F-4006-8001-875665D4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0BEB-C63F-48F4-B87D-60606F7FF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D5CA-04CA-470F-8AF5-1DC83F69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1E39-E564-4FA2-8415-0F59BA35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8974D-2645-4F84-983C-76F23C0C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D61B-87C7-4FB5-A26E-E321EC62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7E95-D178-4FCA-A447-947D487F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F75C-A321-4D04-9B7A-4403F3DF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B6445-B845-4529-BB34-1F5ADE7F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5B52-E0DD-4B4E-A077-F4095F8C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5F07-1E84-448D-B6FB-D9BFE792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C78C-DAB3-40A1-A07F-91773F3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C128-76BA-44A7-ACCC-C8997A02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0189-1729-428F-8849-6D017759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3593-6F51-48D5-AA19-1F10B2102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C5352-2956-4D6F-B048-E7489E6BD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CC9-2976-427A-A829-B57AEF60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0FE0-D8C4-436B-BCD2-3A4E1AF6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5C81-678C-4906-A918-B605B42B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15AF-4EAE-427E-8EFB-43DBAFF8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A504-C44C-40BC-87BC-B395CDA2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A25-181A-4B2C-966C-07A26F7E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992C-79F9-44D3-AECF-633930E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85B8-7B0A-4F89-BC69-39BDBA931F5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58EC-4762-46E3-A20F-51ADBD936BB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2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Qualified Ty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umeric Class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numeric types are embedded in a very rich, hierarchical set of type class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the Num class is defined by:</a:t>
            </a:r>
            <a:br>
              <a:rPr sz="24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 (Eq a, Show a) =&gt; Num a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+), (-), (*) :: a -&gt; a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gate :: a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, signum :: a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romInteger :: Integer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Show is a type class whose main operator is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ow :: Show a =&gt; a -&gt; Str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ee the Numeric Class Hierarchy in the Haskell Report on the next slid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3118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53480" y="2971800"/>
            <a:ext cx="27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Numeric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lass Hierarchy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erc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is method in the class Num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romInteger :: Num a =&gt; Integer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, in the class Integral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Integer :: Integral a =&gt; a -&gt; Intege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explains the definition of intToFloat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ToFloat :: Int -&gt;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ToFloat n = fromInteger (toInteger 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generic coercion functions avoid a quadratic blowup in the number of coercion functions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, every integer literal, say “42”, is really shorthand for “fromInteger 42”, thus allowing that number to be typed a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member of Nu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rived Instanc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stances of the following type classes may be automatically derive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q, Ord, Enum, Bounded, Ix, Read, and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is done by adding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riving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lause.  For example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Tree a = Leaf a | Branch (Tree a) (Tree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will automatically create an instance for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how (Tree a) as well as one for Eq (Tree a) that is precisely equivalent to the one we defined earlier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Reasoning About Type Class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st type classes implicitly carry a set of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aw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the Eq class is expected to obey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a /= b)  =  not (a == 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a == b) &amp;&amp; (b == c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(a == c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milarly, for the Ord clas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a &lt;= a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(a &lt;= b) &amp;&amp; (b &lt;= c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 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(a &lt;= c)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(a &lt;= b) &amp;&amp; (b &lt;= a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 (a == b)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(a /= b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 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(a &lt; b) || (b &lt;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hese laws capture the properties of an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equivalence class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and a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total order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, respectivel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Unfortunately, there is nothing in Haskell that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enforces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the laws – its up to the programmer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should the principal type of (+) be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 -&gt; Int -&gt; 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oo specif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-&gt; a -&gt;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oo genera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seems like we need something “in between”, that restricts “a” to be from the set of all number types, say Num = {Int, Integer, Float, Double, etc.}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that the type signature  a -&gt; a -&gt; a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s really shorthand fo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(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∀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) a -&gt; a -&gt; a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Qualified type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generalize this by qualifying the type variable, as in       (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∀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∈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Num) a -&gt; a -&gt; a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ch in Haskell we write as  Num a =&gt; a -&gt; a -&gt; a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ype Class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um” in the previous example is calle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ype clas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and should not be confused with a type constructor or a value constructor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um T” should be read “T is a member of (or an instance of) the type class Num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type classes are one of its most innovative featur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capability is also called “overloading”, because one function name is used for potentially very different purpos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 are many pre-defined type classes, but you can also define your ow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: Equal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ke addition, equality is not defined on all types (how do we test the equality of two functions, for example?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the equality operator (==) in Haskell has typ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q a =&gt; a -&gt; a -&gt; Bool.  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42 == 4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r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`a` == `a`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r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`a` == 4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&lt;&lt; type error! 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(types don’t match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+1) == (\x-&gt;x+1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&lt;&lt; type error! 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((-&gt;) is not an instance of Eq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: the type errors occu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t compile time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quality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82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q is defined by th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ype class declara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Eq a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=), (/=)       :: a -&gt; a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/= y           =  not (x == y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= y           =  not (x /= 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last two lines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fault method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the operators defined to be in this clas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type is made an instance of a class by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stance declaration.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Eq In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=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intEq x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primitive equality for I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Eq Floa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=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loatEq x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primitive equality for Float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quality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ser-defined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ata types can also be made instances of Eq.  For exampl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data Tree a = Leaf a | Branch (Tree a) (Tree a)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instance 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       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Eq (Tree a) where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Leaf a1        == Leaf a2         =  a1 == a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Branch l1 r1 == Branch l2 r2 =  l1==l2 &amp;&amp; r1==r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_                 == _                   =  Fals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But something is strange here: is “a1 == a2” on the right-hand side correct?  How do we know that equality is defined on the type “a”??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quality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ser-defined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ata types can also be made instances of Eq.  For exampl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data Tree a = Leaf a | Branch (Tree a) (Tree a)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instance 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Eq a =&gt;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Eq (Tree a) where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Leaf a1        == Leaf a2         =  a1 == a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Branch l1 r1 == Branch l2 r2 =  l1==l2 &amp;&amp; r1==r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_                 == _                   =  Fals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But something is strange here: is “a1 == a2” on the right-hand side correct?  How do we know that equality is defined on the type “a”??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:  Introduce a </a:t>
            </a: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constraint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on “a”, namely that it also be an instance of the type class Eq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onstraints / Contexts are Propagate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is function:</a:t>
            </a:r>
            <a:br>
              <a:rPr sz="2400"/>
            </a:br>
            <a:br>
              <a:rPr sz="7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elem` 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 Fals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elem` (y:y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 x==y || x `elem`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e use of (==) on the right-hand side of the second equation.  So the principal type for elem is:</a:t>
            </a:r>
            <a:br>
              <a:rPr sz="2400"/>
            </a:br>
            <a:br>
              <a:rPr sz="7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em :: Eq a =&gt; a -&gt; [a]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is inferred automatically by Haskell, but as always, it is recommended that you provide your own type signature for all fun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from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eful slogan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“polymorphism captures similar structure over different values, while type classes capture similar operations over different structures.”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a simple example, recall from Chapter 8:</a:t>
            </a:r>
            <a:br>
              <a:rPr sz="2000"/>
            </a:br>
            <a:br>
              <a:rPr sz="7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S :: Shape -&gt; Point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R :: Region -&gt; Point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are similar ops over different structures.  So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PC 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 :: t -&gt; Point -&gt; Bool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PC Shap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 = containsS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PC Region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 = contains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11T14:21:04Z</dcterms:modified>
  <cp:revision>119</cp:revision>
  <dc:subject/>
  <dc:title>Lecture #1,  Sept. 30, 1996</dc:title>
</cp:coreProperties>
</file>