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CF8-91D3-440D-88CF-437C195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6B3E-2BB4-4B02-9C7C-0F025079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619-0F05-4AE9-95B4-CAC347FE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CF6-D952-48BC-9F2B-C0AA23F1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F313-8F58-4BBF-903C-497012DF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B562-82E7-422D-A5A4-FBDC662D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F86-6779-43A9-B6D3-61B7B7F4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A9E4-702E-4189-97AB-1FD6AD32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6311-FA76-4BE9-836C-26EDD5554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AFC1-2D32-4E1A-BED4-579FEE49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7CAB-6C3A-43D4-91C7-30B64668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5F2-7824-4233-83D2-67820978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91D-2714-404B-AEC9-C5B3B36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791E-17BA-45E1-A686-097CD866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A04-87C8-491F-A522-8B45C594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EC51-6F18-46A2-9596-82495330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60D2-6F40-455C-93CF-1447F435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F49-C708-40E8-B2C1-5E90A569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A28-4D07-456B-9F26-B05FC347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EE84-408F-40F1-B62B-43C0D4E5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22BB-CF91-4540-8E32-9DD4AE47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E293-E966-4475-BB9F-4DF418A7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6631-F377-4D96-801D-5A354338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E294-C368-405E-972E-FA48B38A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4C3C-9A4D-4F40-8B78-48B688F4C26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9037-1EBC-493D-96A0-39CBA5E3EA9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8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 Module of Reg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Left Side of a Lin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71600" y="2286000"/>
            <a:ext cx="5791320" cy="3276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44440" y="56894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 = (ax,a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0" y="1142640"/>
            <a:ext cx="9144000" cy="5181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7088040" y="2373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 = (bx,b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856080" y="2111400"/>
            <a:ext cx="429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a ray directed from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to the left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ray (facing from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 whe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4648320"/>
            <a:ext cx="58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 :: Coordinate -&gt; Ray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x,py) `isLeftOf` ((ax,ay),(bx,b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(s,t) = (px-ax, py-a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u,v) = (px-bx, py-b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 s*v &gt;= t*u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Ray = (Coordinate, Coordinat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044880" y="3403440"/>
            <a:ext cx="152280" cy="1368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486400"/>
            <a:ext cx="152640" cy="13644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2209680"/>
            <a:ext cx="152280" cy="1368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268360" y="3540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 = (px,p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g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09360" y="2498040"/>
            <a:ext cx="2820600" cy="1981800"/>
            <a:chOff x="5409360" y="2498040"/>
            <a:chExt cx="2820600" cy="1981800"/>
          </a:xfrm>
        </p:grpSpPr>
        <p:cxnSp>
          <p:nvCxnSpPr>
            <p:cNvPr id="342" name=""/>
            <p:cNvCxnSpPr/>
            <p:nvPr/>
          </p:nvCxnSpPr>
          <p:spPr>
            <a:xfrm flipV="1">
              <a:off x="6937200" y="3323880"/>
              <a:ext cx="1293120" cy="11563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 flipH="1" flipV="1">
              <a:off x="7876440" y="2498040"/>
              <a:ext cx="353160" cy="82620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/>
            <p:nvPr/>
          </p:nvCxnSpPr>
          <p:spPr>
            <a:xfrm flipH="1">
              <a:off x="5820120" y="2498400"/>
              <a:ext cx="2056680" cy="1105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/>
            <p:nvPr/>
          </p:nvCxnSpPr>
          <p:spPr>
            <a:xfrm flipH="1">
              <a:off x="5409360" y="2608560"/>
              <a:ext cx="411480" cy="11563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/>
            <p:nvPr/>
          </p:nvCxnSpPr>
          <p:spPr>
            <a:xfrm>
              <a:off x="5410080" y="3763800"/>
              <a:ext cx="1527840" cy="71604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347" name=""/>
          <p:cNvSpPr/>
          <p:nvPr/>
        </p:nvSpPr>
        <p:spPr>
          <a:xfrm>
            <a:off x="914400" y="2498760"/>
            <a:ext cx="382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contained within a (convex) polygon if it is to the left of every side, when they are followed in counter-clockwise order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187800"/>
            <a:ext cx="152280" cy="13644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6554880" y="318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809640" y="4479840"/>
            <a:ext cx="833436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pt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shiftpts = tail pts ++ [head pts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ftOfList = map isLeftOfp (zip pts shift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p p' = isLeftOf p p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and leftOfLis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ight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437920"/>
            <a:ext cx="795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Triangle s1 s2 `containsS` p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Polygon [(0,0),(s1,0),(0,s2)]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52880" y="6294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171960" y="3786120"/>
            <a:ext cx="2514600" cy="24814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2625840" y="626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459160" y="347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0,s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5689440" y="6267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763720" y="4765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S :: Shape -&gt; Vertex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ctangle s1 s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t1 = s1/2; t2 = s2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-t1&lt;=x &amp;&amp; x&lt;=t1 &amp;&amp; -t2&lt;=y &amp;&amp; y&lt;=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r1 r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(x/r1)^2 + (y/r2)^2 &lt;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pt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shiftpts   = tail pts ++ [head pts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ftOfList = map isLeftOfp (zip pts shift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p p' = isLeftOf p p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and leftOfLis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Triangle s1 s2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Polygon [(0,0),(s1,0),(0,s2)]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ng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 containsR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Using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:: Region -&gt; Vertex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 `containsR` p = 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ate (u,v) r `containsR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 `containsR` (x-u,y-v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 (u,v) r     `containsR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 `containsR` (x/u,y/v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mplement r     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not (r `containsR` p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 `Union` r2    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1 `containsR` p ||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 `Intersect`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1 `containsR` p &amp;&amp;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mpty     `containsR` p =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lgebra of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, for any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3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(r2 `Union` r3)) `containsR` 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and only if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r2) `Union` r3)) `containsR` p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ch we can abbreviate a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(r2 `Union` r3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((r1 `Union` r2) `Union` r3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other words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ssociati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prove this fact via calcula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198520" y="4524480"/>
            <a:ext cx="246240" cy="122040"/>
            <a:chOff x="2198520" y="4524480"/>
            <a:chExt cx="246240" cy="122040"/>
          </a:xfrm>
        </p:grpSpPr>
        <p:sp>
          <p:nvSpPr>
            <p:cNvPr id="366" name=""/>
            <p:cNvSpPr/>
            <p:nvPr/>
          </p:nvSpPr>
          <p:spPr>
            <a:xfrm>
              <a:off x="2198520" y="452448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8520" y="46465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98520" y="45853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of Associa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1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r1 `Union` (r2 `Union` r3)) `containsR` p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r1 `containsR` p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(r2 `Union` r3)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r1 `containsR` p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(r2 `containsR` p) || (r3 `containsR` p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containsR` p) || (r2 `containsR` p)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r3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Union` r2) `containsR` p) ||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r3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Union` r2) `Union` r3)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e that the proof depends on the associativity of (||), which can also be proved by calculation, but we take it as given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Axio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are many useful axioms for region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ssociativ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mmutativ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distributi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v = Complement 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zero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respectivel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 `Union` Complement r        univ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n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 `Intersect` Complement r    Empty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set of axioms captures what is called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boolean algebra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987880" y="4524480"/>
            <a:ext cx="246240" cy="122040"/>
            <a:chOff x="5987880" y="4524480"/>
            <a:chExt cx="246240" cy="122040"/>
          </a:xfrm>
        </p:grpSpPr>
        <p:sp>
          <p:nvSpPr>
            <p:cNvPr id="374" name=""/>
            <p:cNvSpPr/>
            <p:nvPr/>
          </p:nvSpPr>
          <p:spPr>
            <a:xfrm>
              <a:off x="5987880" y="452448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87880" y="46465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87880" y="45853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00840" y="4786200"/>
            <a:ext cx="245880" cy="122400"/>
            <a:chOff x="6000840" y="4786200"/>
            <a:chExt cx="245880" cy="122400"/>
          </a:xfrm>
        </p:grpSpPr>
        <p:sp>
          <p:nvSpPr>
            <p:cNvPr id="378" name=""/>
            <p:cNvSpPr/>
            <p:nvPr/>
          </p:nvSpPr>
          <p:spPr>
            <a:xfrm>
              <a:off x="6000840" y="47862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0840" y="49086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00840" y="48474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gion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presents an area on the two-dimensional Cartesian plan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t is represented by a tree-like data structur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Regio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hape               -- primitive shap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Translate Vector Region   -- translat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cale     Vector Region   -- scal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Complement Region         -- inverse of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Union` Region     -- un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Intersect` Region -- intersect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Vector = (Float, Floa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Questions about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y i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ree-lik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is the strategy for writing functions over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re a fold-function for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many parameters does it hav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is its typ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one define infinite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What does a region mean?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ts and Characteristic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2057400"/>
            <a:ext cx="819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can we represent an infinite set in Haskell?  E.g.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et of all even numbe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et of all prime numbe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ould use an infinite list, but then searching it might take a very long time!  (Membership becomes semi-decidable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haracteristic fun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r a set containing elements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function of type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 -&gt; Bool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at indicates whether or not a given element is in the set.  Since that information completely characterizes a set, we can use it to represent a set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ype Set a = a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en  :: Set Integer       -- Integer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en x = (x `mod` 2) =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bining Se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sets are represented by characteristic functions, then how do we represent th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two set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interse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two set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mplem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a set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-class exercise – define the following Haskell function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union     s1 s2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intersect s1 s2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complement   s 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use these later to define similar operations on reg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y Regions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83343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ions (as defined in the text) are interesting becaus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allow us to build complex “shapes” from simpler on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illustrate the use of tree-like data structur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“solve” the problem of having rectangles and ellipses centered about the orig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ir meaning can be given as characteristic functions, since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 a region denotes the set of points contained within i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haracteristic Functions for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3059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 the meaning of regions by a function: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:: Region -&gt; Coordinate -&gt; Boo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type Coordinate = (Float, Floa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r :: Coordinate -&gt; Boo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is a characteristic function.  S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“gives meaning to” reg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other way to see thi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containsR :: Region -&gt; Set Coordina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defin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cursively, using pattern matching over the structure of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nce the base cases of the recursion are primitive shapes, we also need a function that gives meaning to primitive shapes; we will call this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ctangle s1 s2 `containsS` (x,y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t1 = s1/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t2 = s2/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n -t1&lt;=x &amp;&amp; x&lt;=t1 &amp;&amp; -t2&lt;=y &amp;&amp; y&lt;=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447920" y="3505320"/>
            <a:ext cx="6400800" cy="3124080"/>
            <a:chOff x="1447920" y="3505320"/>
            <a:chExt cx="6400800" cy="3124080"/>
          </a:xfrm>
        </p:grpSpPr>
        <p:sp>
          <p:nvSpPr>
            <p:cNvPr id="307" name=""/>
            <p:cNvSpPr/>
            <p:nvPr/>
          </p:nvSpPr>
          <p:spPr>
            <a:xfrm>
              <a:off x="3200400" y="4343400"/>
              <a:ext cx="228600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5105520"/>
              <a:ext cx="640080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3400" y="3505320"/>
              <a:ext cx="1440" cy="3124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8200" y="372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s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6440" y="4546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s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1840" y="4089240"/>
              <a:ext cx="228600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000" y="4419720"/>
              <a:ext cx="14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4343400"/>
              <a:ext cx="1440" cy="1523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464832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t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200400" y="4952520"/>
              <a:ext cx="114300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6920" y="4343400"/>
              <a:ext cx="144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2520" y="4530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t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58760" y="2361960"/>
            <a:ext cx="7602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r1 r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(x/r1)^2 + (y/r2)^2 &lt;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23880" y="3276720"/>
            <a:ext cx="6172200" cy="3352680"/>
            <a:chOff x="1523880" y="3276720"/>
            <a:chExt cx="6172200" cy="3352680"/>
          </a:xfrm>
        </p:grpSpPr>
        <p:sp>
          <p:nvSpPr>
            <p:cNvPr id="322" name=""/>
            <p:cNvSpPr/>
            <p:nvPr/>
          </p:nvSpPr>
          <p:spPr>
            <a:xfrm>
              <a:off x="1523880" y="4876920"/>
              <a:ext cx="617220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3276720"/>
              <a:ext cx="0" cy="33526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3962520"/>
              <a:ext cx="2895840" cy="1828800"/>
            </a:xfrm>
            <a:prstGeom prst="ellipse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2520" y="4530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r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76720" y="4149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r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572000" y="3962520"/>
              <a:ext cx="0" cy="914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2000" y="4876920"/>
              <a:ext cx="14479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30:59Z</dcterms:created>
  <dc:creator>Tim Sheard</dc:creator>
  <dc:description/>
  <dc:language>en-US</dc:language>
  <cp:lastModifiedBy>Paul Hudak</cp:lastModifiedBy>
  <cp:lastPrinted>1999-02-15T13:33:21Z</cp:lastPrinted>
  <dcterms:modified xsi:type="dcterms:W3CDTF">2004-09-15T13:37:59Z</dcterms:modified>
  <cp:revision>106</cp:revision>
  <dc:subject/>
  <dc:title>Lecture #10,  Feb. 15,  1999</dc:title>
</cp:coreProperties>
</file>