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362-5A5A-4A47-8BD9-1D02B69E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CC91-C159-4F74-A40C-BC835BA4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49A2-4BB4-4BEB-9086-4CBEBDAE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8C2-E4DD-4A1E-868A-B8D7A835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D890-AF00-45F1-A119-E155D3EE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3A90-7801-4E8B-9D10-FC47613C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04F5-5E86-4CF2-A6BD-91B55F02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11CB-37CD-4894-AABF-3C222E4F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2AC8-97E4-4C36-B2D8-3C96AD88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272A-CB11-40C2-BB81-A840826E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9C86-1336-4043-A0E7-58BAB858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C070-64B8-494D-8805-F875D419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9C0B-13F9-4D4C-9F7C-A472D265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0E00-7089-42B6-9FF6-A2A73DDD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0F5B-EDD4-4244-B4BB-65BA1684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DE01-D46E-4502-AB81-93509373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09A2-AC59-4AC2-800C-21B2E3CB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2C1-0A9F-4AE8-A32A-16EDA91D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CA76-1DC6-41BF-BC86-D44A3BA2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1A60-B5B5-4B5D-B0E4-9890F011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0B81-D737-4193-A5B8-CC003E51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42CD-F674-4151-AB93-92C3DCEB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F854-CE33-4849-969A-18C20A7D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CD70-7A14-4909-B9E8-2AD429D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D224-6BF4-43FE-B3D8-40D7A5C8A63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DF17-F6D3-44A4-9B27-5394E3E6EF0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4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Programming With Stream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Bottom as an Approximation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here are increasingly more accurate approximations to [1,2,3], culminating in the list itself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no information at al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one element, then no inform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wo elements, then no inform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hree elements, then no inform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[ 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hree elements, then [ ]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e case of an infinite list, we have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note every lis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  ends in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4 :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4 : 5 :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imi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f a sequence of partial lists is an infinite lis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5471640" y="4724280"/>
            <a:ext cx="3202920" cy="119124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finition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list ending in _|_ is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alled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partial lis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duction on Strea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Key point: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f a property P (expressed as an equation in Haskell) is true for every partial list in a sequence whose limit is the stream xs, then P is also true of xs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prove that it is true of the sequence of partial lists, we use induction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rst prove that P(_|_) hold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assume that P(xs) holds, and prove that P(x:xs) holds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e constraint on P: “expressed as an equation in Haskell”.  This excludes non-continuous properties such as “xs is partial”, which, although trivially true of every partial list, is not true of an infinite lis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orem:  F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ll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ists x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take n xs ++ drop n xs  =  x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The base case for xs = [ ], and the induction step,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are easy to prove.  This establishes the validity of the theorem for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finite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lists.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For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infinite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lists, we first note that the property is stated as an equation in Haskell.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Then we prove the base case xs = _|_:</a:t>
            </a:r>
            <a:br>
              <a:rPr sz="2400"/>
            </a:br>
            <a:br>
              <a:rPr sz="8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n&gt;0: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n=0: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take n _|_ ++ drop n _|_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take 0 _|_ ++ drop 0 _|_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_|_ ++ drop n _|_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[ ] ++ drop 0 _|_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_|_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drop 0 _|_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_|_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2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orem: F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ll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ists x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verse (reverse xs) = x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rue for finite lists: the base case xs = [ ] is easy, and so is the induction step, relying on the lemma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(xs ++ ys) = reverse ys ++ reverse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infinite lists, the base case xs = _|_ also holds!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(reverse _|_)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 _|_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_|_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went wrong? Answer: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emma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oes not hold for partial lists!  In particular, the base case fails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(_|_ ++ y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ys ++ reverse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 ys ++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_|_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rea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ream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an infinite sequence of valu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ould define a special data type for them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Stream a = a :^ Stream a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in practice it’s easier to use conventional lists, ignoring [], so that we can reuse the many operations on list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treams are often defined recursively, such a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wos = 2 : two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y calculation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wo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2 : two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2 : 2 : two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2 : 2 : 2 : two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…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calculation does not terminate – yet it is not the same as _|_, in that it yields useful informati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[ Another example: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umsfrom n = n : numsfrom (n+1)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zy Evalu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wo ways to calculate “head twos”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ead two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ead two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ead (2 : two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ead (2 : two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ead (2 : 2 : two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ead (2 : 2 : 2 : two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…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e strategy terminates, the other doesn’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ormal orde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alculation guarantees finding a terminating sequenc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f one exist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rmal order calculation: always choos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outermos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alculation (e.g.: unfolding “head” above instead of unfolding “twos”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so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azy evaluation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on-strict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valuati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In contrast to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age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ric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evaluation.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: Fibonacci Sequenc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ll-known sequence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, 1, 2, 3, 5, 8, 13, 21, 34, 55, 89, …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ere is a Haskell program that mimics the mathematical definition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 0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 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 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ib (n-1) + fib (n-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nfortunately, this program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erribly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efficient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perform the calculation to see this).  Indeed, it has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xponential blow-up.</a:t>
            </a:r>
            <a:br>
              <a:rPr sz="2400"/>
            </a:b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erhaps surprisingly, it is more efficient to creat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finite stream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f Fibonacci numbers first, then select to the one we ne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bs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Note this relationship:</a:t>
            </a:r>
            <a:br>
              <a:rPr sz="2800"/>
            </a:b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  1   2   3    5    8  13  21  34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+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ail fib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  2   3   5    8   13  21  34  55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-------------------------------------------------------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ail (tail fib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2   3   5   8   13  21  34  55  89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s is easily transcribed into Haskell:</a:t>
            </a:r>
            <a:br>
              <a:rPr sz="28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  =  1 : 1 : add fibs (tail fibs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add = zipWith (+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d then finally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 n = fibs !! 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381200" y="384804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3"/>
                </a:lnTo>
                <a:cubicBezTo>
                  <a:pt x="10800" y="9973"/>
                  <a:pt x="16200" y="10873"/>
                  <a:pt x="21600" y="10873"/>
                </a:cubicBezTo>
                <a:cubicBezTo>
                  <a:pt x="16200" y="10873"/>
                  <a:pt x="10800" y="11773"/>
                  <a:pt x="10800" y="1267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3656880" y="502920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il (tail fib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hasing One’s Tai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182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ice in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1 : add fibs (tail fibs)</a:t>
            </a: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at “tail fibs” starts right here  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troduce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am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that value so it can b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hare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tf  where tf = 1 : add fibs (tail fib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tf  where tf = 1 : add fibs t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oing this again for the tail of the tail yield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tf  where tf = 1 : tf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tf2 = add fibs t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nally, unfold add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tf  where tf = 1 : tf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tf2 = 2 : add tf tf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2819520"/>
            <a:ext cx="3276360" cy="380880"/>
          </a:xfrm>
          <a:custGeom>
            <a:avLst/>
            <a:gdLst/>
            <a:ahLst/>
            <a:rect l="l" t="t" r="r" b="b"/>
            <a:pathLst>
              <a:path w="1432" h="336">
                <a:moveTo>
                  <a:pt x="1336" y="336"/>
                </a:moveTo>
                <a:cubicBezTo>
                  <a:pt x="1384" y="280"/>
                  <a:pt x="1432" y="224"/>
                  <a:pt x="1240" y="192"/>
                </a:cubicBezTo>
                <a:cubicBezTo>
                  <a:pt x="1048" y="160"/>
                  <a:pt x="368" y="176"/>
                  <a:pt x="184" y="144"/>
                </a:cubicBezTo>
                <a:cubicBezTo>
                  <a:pt x="0" y="112"/>
                  <a:pt x="68" y="56"/>
                  <a:pt x="136" y="0"/>
                </a:cubicBezTo>
              </a:path>
            </a:pathLst>
          </a:custGeom>
          <a:noFill/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124080" y="2743200"/>
            <a:ext cx="0" cy="763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arbage Colle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ecause of sharing, exponential blowup is avoid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 few more steps we hav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t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tf = 1 : tf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where tf2 = 2 : tf3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tf3 = 3 : add tf2 tf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w note that “tf” is only used in one place, and thus might as well be eliminated, yielding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1 : tf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here tf2 = 2 : tf3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tf3 = 3 : add tf2 tf3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nk of this as “garbage collection” of nam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ream Diagra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3381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 alternative (perhaps better) way to depict sharing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graphically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using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ream diagram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other example: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lient-server interaction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4952880"/>
            <a:ext cx="1143000" cy="6858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3809880"/>
            <a:ext cx="838080" cy="76212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2666880"/>
            <a:ext cx="838080" cy="76212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cxnSp>
        <p:nvCxnSpPr>
          <p:cNvPr id="313" name=""/>
          <p:cNvCxnSpPr>
            <a:stCxn id="310" idx="0"/>
            <a:endCxn id="311" idx="4"/>
          </p:cNvCxnSpPr>
          <p:nvPr/>
        </p:nvCxnSpPr>
        <p:spPr>
          <a:xfrm flipV="1">
            <a:off x="5905080" y="4571640"/>
            <a:ext cx="1080" cy="38160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1" idx="0"/>
            <a:endCxn id="312" idx="4"/>
          </p:cNvCxnSpPr>
          <p:nvPr/>
        </p:nvCxnSpPr>
        <p:spPr>
          <a:xfrm flipV="1">
            <a:off x="5905080" y="3428640"/>
            <a:ext cx="1080" cy="38160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4942800" y="350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4942800" y="4648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cxnSp>
        <p:nvCxnSpPr>
          <p:cNvPr id="317" name=""/>
          <p:cNvCxnSpPr>
            <a:stCxn id="315" idx="3"/>
            <a:endCxn id="312" idx="3"/>
          </p:cNvCxnSpPr>
          <p:nvPr/>
        </p:nvCxnSpPr>
        <p:spPr>
          <a:xfrm flipV="1">
            <a:off x="5229360" y="3317400"/>
            <a:ext cx="380160" cy="35640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6" idx="3"/>
            <a:endCxn id="311" idx="3"/>
          </p:cNvCxnSpPr>
          <p:nvPr/>
        </p:nvCxnSpPr>
        <p:spPr>
          <a:xfrm flipV="1">
            <a:off x="5229360" y="4460400"/>
            <a:ext cx="380160" cy="35640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 flipV="1">
            <a:off x="5943600" y="2133360"/>
            <a:ext cx="0" cy="5331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2514600"/>
            <a:ext cx="15238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7467480" y="2514600"/>
            <a:ext cx="0" cy="38098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38680" y="6324480"/>
            <a:ext cx="18288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38680" y="5638320"/>
            <a:ext cx="0" cy="685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5943600" y="3657600"/>
            <a:ext cx="990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657600"/>
            <a:ext cx="0" cy="22860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171840" y="594360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172200" y="5638320"/>
            <a:ext cx="0" cy="304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5422320" y="2209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fibs   1,1,2,3,5,8,…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6015960" y="33526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1,2,3,5,8,…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5950800" y="464832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2,3,5,8,…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733000" y="403848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: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733000" y="289548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: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5629680" y="510552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d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5913360" y="2471760"/>
            <a:ext cx="76320" cy="7632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3616200"/>
            <a:ext cx="76320" cy="7632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nductive Properties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of Stream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hese properties of list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ake n xs ++ drop n xs = x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(reverse xs) = x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e they true for streams, i.e. if “xs” is infinite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first one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the second one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why?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prove general properties on streams, we us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duc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but now the base case is _|_, not []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see why this works, think of _|_ as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pproxima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to a value (it happens to b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east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pproximation, containing no information at all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13T13:35:21Z</dcterms:modified>
  <cp:revision>164</cp:revision>
  <dc:subject/>
  <dc:title>Lecture #1,  Sept. 30, 1996</dc:title>
</cp:coreProperties>
</file>