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341-5519-4B1E-941E-587EE83D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EB7-61B8-4953-A55D-7F81EBCE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A7A7-A50F-482D-839E-D9BF0B5DA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E38-3279-430C-ABCC-5947A3F4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77BB-85D9-4882-A29B-4233BBAA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4E8A-04D0-48E6-A1EC-FCA08AD10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B3A6-0CF2-4904-8FCA-AA6E5EF3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789D-5482-4C16-843C-9A67D4E6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56A2-ECCA-4887-B3B7-88D6ABE0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9B97-2BEE-4327-AC7C-6135D247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59AE-6D3E-4F81-A7D1-373634D2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E003-9508-488F-B235-D8490027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D866-D63C-413A-8B97-F39A919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5B46E-0014-441E-A98D-CCB2063E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004C-B02E-4039-9918-EC6CF439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3C10-2FC3-4F4B-8837-CB1DEDEDA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88D2-7C54-4BEB-A7CE-19B0AD99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439-E365-4422-81C5-BB3FCC85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0A3-029C-40A7-96B2-B1DDC592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75E-8201-450C-B855-8C21A471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D57E-6526-4CCC-9B9B-55F111E0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789-8110-48E7-803E-29DEE55D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36F-C25D-4D36-A080-CC22B0FF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3295-FC0B-4A47-9E07-1128FA6C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5DF1-F018-4165-9817-BC11D1231C8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4B0C-750E-42B6-9F22-ED0123D925B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roblem Solving, Programming,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nd Calculati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e sure to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understand your problem well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nd a solution that is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orrec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But there may be several solutions that trade off efficiency (in time, space, number of processors, etc.) and clarit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text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Haskell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used to express solutions to problems of many kind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 is a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functional languag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quite unlike most conventional programming languages (such as C, C++, Java, Visual Basic, etc.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best understand Haskell, understand the concept of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omputation by calculation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putation by Calcul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mputation by calculation is a simple concept that everyone should be familiar with, since it’s not unlike ordinary arithmetic calculation.  For example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3 * (9 + 5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 * 14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4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ever, since we want computers to perform these tasks, we are also interested in issues such as efficiency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3 * (9 + 5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*9 + 3*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7 + 3*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7 + 1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4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ame answer, but the former wa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more effici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n the latter, since it took a fewer number of step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are also interested i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bstraction: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the process of recognizing a repeating pattern, and capturing it succinctly in one place instead of many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3*(9+5)      4*(6+2)      7*(8+1)      ..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repeating pattern can be captured as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function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easy x y z = x*(y+z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each instance can be replaced by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easy 3 9 5   easy 4 6 2   easy 7 8 1   ..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also perform calculations with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symbol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For example, we ca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ro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asy a b c = easy a c 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asy a b c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a*(b+c)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{ unfold }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a*(c+b)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{ commutativity of + }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easy a c b     { fold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pressions,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Values, and Ty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58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he objects on which we calculate are called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expressions</a:t>
            </a:r>
            <a:r>
              <a:rPr b="0" i="1" lang="en-US" sz="18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hen no more unfolding (of either a primitive or user-defined function) is possible, the resulting expression is called a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alue</a:t>
            </a:r>
            <a:r>
              <a:rPr b="0" i="1" lang="en-US" sz="18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Every expression (and therefore every value) has a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type</a:t>
            </a:r>
            <a:r>
              <a:rPr b="0" i="1" lang="en-US" sz="1800" spc="-1" strike="noStrike">
                <a:solidFill>
                  <a:srgbClr val="003366"/>
                </a:solidFill>
                <a:latin typeface="Comic Sans MS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A type is a collection of expressions with common attributes.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e write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p :: T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to say that expressio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p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has type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Examples: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Atomic expressions:  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42 :: Integer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’a’ :: Char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True :: Boo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tructured expressions: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[1,2,3] :: [Integer]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     - a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list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of integers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’b’,4) :: (Char,Integer)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– a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pair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consisting of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                                                  a character and an intege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unctions: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+)  :: Integer -&gt; Integer -&gt; Integer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asy :: Integer -&gt; Integer -&gt; Integer -&gt; Intege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58160" cy="36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ur derivation of 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as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 good example of the use of the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abstraction princip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 separating a repeating pattern from the particular instances in which it appears.  In particular, the example demonstrates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functional abstraction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Namin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n even simpler kind of abstraction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let pi = 3.14159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in 2*pi*r1 + 2*pi*r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Data abstrac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the use of data structures to store common values on which common operations may be applied in an abstract manner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“circle areas” example from the text demonstrates all three kinds of abstra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ircle Areas” 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riginal program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otalArea = pi*r1^2 + pi*r2^2 + pi*r3^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2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more abstract program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otalArea =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listSum [circArea r1, circArea r2, circArea r3]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listSum []     = 0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listSum (a:as) = a + listSum as</a:t>
            </a:r>
            <a:br>
              <a:rPr sz="1000"/>
            </a:br>
            <a:r>
              <a:rPr b="1" lang="en-US" sz="1000" spc="-1" strike="noStrike">
                <a:solidFill>
                  <a:srgbClr val="800000"/>
                </a:solidFill>
                <a:latin typeface="Courier New"/>
              </a:rPr>
              <a:t>  </a:t>
            </a: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circArea r = pi*r^2</a:t>
            </a:r>
            <a:br>
              <a:rPr sz="1000"/>
            </a:br>
            <a:r>
              <a:rPr b="1" lang="en-US" sz="1000" spc="-1" strike="noStrike">
                <a:solidFill>
                  <a:srgbClr val="8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new program is longer than the old – in what ways is it better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he code for the area of a circle has been isolated (using functional abstraction), thus minimizing errors and facilitating change and reus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he number of circles has been generalized (via data abstraction) from three to an arbitrary number, thus anticipating change and reus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oof by Calcul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280" y="2057400"/>
            <a:ext cx="83343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roof that the new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otalAre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equivalent to the old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[circArea r1, circArea r2, circArea r3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listSum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Area r1 + listSum [circArea r2, circArea r3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listSum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Area r1 + circArea r2 + listSum [circArea r3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listSum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Area r1 + circArea r2 + circArea r3 + listSum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listSum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Area r1 + circArea r2 + circArea r3 +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circArea (three places)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i*r1^2 + pi*r2^2 + pi*r3^2 +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simple arithmetic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i*r1^2 + pi*r2^2 + pi*r3^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0-09-04T19:17:52Z</dcterms:modified>
  <cp:revision>89</cp:revision>
  <dc:subject/>
  <dc:title>Lecture #1,  Sept. 30, 1996</dc:title>
</cp:coreProperties>
</file>