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D4AD-F605-435D-BC15-68662F64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CAA9-9EA8-4285-A3EC-A2B28731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07D9-4D1A-4A54-BAB4-CB75E7C1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F8E2-DEC7-4B31-8317-B8DBD6700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AB44-19BB-4764-AF35-1A5F31F93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F10A-DBF6-40EB-A545-26682040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D97B-D10D-490C-B101-25934906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3228-7E9F-4CB9-B785-9A9877C7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33D5-D002-4CB4-8EFA-0BB191F0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28F4-4E22-45E8-88C6-7C885631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B129A-9346-4785-9DDF-BA9A0E08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4106-8F1C-43B8-A0C5-E3AC480B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4B6F-8E9F-4934-8BA1-D8DFCC96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EBEF-A541-4B40-A3E4-3E654F9F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3783-70CE-4163-9756-DF1F4CF7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0369-D41E-4CBA-B7D7-3FC7FB22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974D-B82D-47F2-AEF7-06E5B396F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06C2-96AB-4F5B-8329-71B46248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2881-8E48-4CB5-B695-39632461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EC4C-4F1E-46F5-BAC9-0A907440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A1B2-6DAC-486E-899C-94A3E888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5794-D738-4169-9B02-0F828BCF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997C-F423-418C-BF5A-49933071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A8E2-4923-41BC-8D15-B465456B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2185-3758-41F5-B1C2-C82666007D6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D77A-00E2-4355-921F-3FAC8E47C2F1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3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mple Graphic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Implementa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343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wcf :: (Int,Int,Int) -&gt; String -&gt; (Int,Int,Int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wcf (cc,w,lc) []          = (cc,w,lc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wcf (cc,w,lc) (' '  : xs) = wcf (cc+1,w+1,lc) xs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wcf (cc,w,lc) ('\t' : xs) = wcf (cc+1,w+1,lc) xs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wcf (cc,w,lc) ('\n' : xs) = wcf (cc+1,w+1,lc+1) xs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wcf (cc,w,lc) (x : xs)    = wcf (cc+1,w,lc) xs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wc :: IO (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wc = do name     &lt;- getLine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contents &lt;- readFile name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let (cc,w,lc) = wcf (0,0,0) contents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utStrLn (“The file: “ ++ name ++ “has “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utStrLn (show cc ++ “ characters “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utStrLn (show w  ++ “ words “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utStrLn (show lc ++ “ lines “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ample Ru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7958160" cy="35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Main&gt; wc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elegantProse.txt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The file: elegantProse.txt has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2970 characters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1249 words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141 lines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Main&gt;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5638680" y="2362320"/>
            <a:ext cx="2057400" cy="380880"/>
          </a:xfrm>
          <a:prstGeom prst="wedgeRectCallout">
            <a:avLst>
              <a:gd name="adj1" fmla="val -112500"/>
              <a:gd name="adj2" fmla="val 224166"/>
            </a:avLst>
          </a:prstGeom>
          <a:noFill/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 typed thi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Graphics Ac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81820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Graphics windows are traditionally programmed using commands; i.e. actions.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ome graphics actions relate to opening up a graphics window, closing it, etc.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Others are associated with drawing lines, circles, text, etc.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Hello World” program using Graphics Library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4495680"/>
            <a:ext cx="845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mport SOEGraphic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in0 =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unGraphics $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o w &lt;- openWindow "First window" (300,300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InWindow w (text (100,200) "hello world"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k &lt;- getKey 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loseWindow 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733920" y="2286000"/>
            <a:ext cx="4572000" cy="30542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914400" y="2209680"/>
            <a:ext cx="2209680" cy="1752840"/>
          </a:xfrm>
          <a:prstGeom prst="wedgeRoundRectCallout">
            <a:avLst>
              <a:gd name="adj1" fmla="val -16884"/>
              <a:gd name="adj2" fmla="val 81157"/>
              <a:gd name="adj3" fmla="val 16667"/>
            </a:avLst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This imports a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library,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SOEGraphics,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which contains 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many functions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Graphics Operator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958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openWindow :: String -&gt; Point -&gt; IO Windo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pens a titled window of a particular siz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InWindow :: Window -&gt; Graphic -&gt; IO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isplays a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Graphic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value in a given window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te that the return type is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O ()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getKey :: Window -&gt; IO Cha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aits until a key is pressed and then returns the character associated with the key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loseWindow :: Window -&gt; IO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loses the window (duh…)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ixing Graphics IO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with Terminal IO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paceClose :: Window -&gt; IO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paceClose w =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o k &lt;- getKey 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k == ' ' then closeWindow 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lse spaceClose w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in1 =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unGraphics $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o w &lt;- openWindow "Second Program" (300,300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InWindow w (text (100,200) “Hello Again"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paceClose 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rawing Primitive Shap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1536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Graphics libraries contain simple actions for drawing a few primitive shapes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llipse      :: Point -&gt; Point -&gt; Graphic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hearEllipse :: Point -&gt; Point -&gt; Point -&gt; Graphic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ine         :: Point -&gt; Point -&gt; Graphic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olygon      :: [Point] -&gt; Graphic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olyline     :: [Point] -&gt; Graphic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rom these we will build much more complex drawing program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oordinate System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2514600" y="3048120"/>
            <a:ext cx="48006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13723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(0,0)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2743200"/>
            <a:ext cx="464832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0" y="3048120"/>
            <a:ext cx="0" cy="33526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540600" y="2286000"/>
            <a:ext cx="19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Increasing  x-axis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 rot="5400000">
            <a:off x="1020960" y="4573080"/>
            <a:ext cx="19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Increasing  y-axis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olor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withColor :: Color -&gt; Graphic -&gt; Graphic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Color =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lack | Blue | Green | Cyan |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d | Magenta | Yellow | Whit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ample Program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in2 =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unGraphics $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o w &lt;- openWindow "Draw some shapes" (300,300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InWindow w (ellipse (0,0) (50,50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InWindow w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shearEllipse (0,60) (100,120) (150,200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InWindow 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withColor Red (line (200,200) (299,275)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InWindow w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polygon [(100,100),(150,100),(160,200)]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InWindow w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withColor Green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polyline [(100,200),(150,200),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160,299),(100,200)]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paceClose 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ide Effects and Haskell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833436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ll the programs we have seen so far have no “side-effects.”  That is, programs are executed only for their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value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ut sometimes we want our programs to effect the real world (printing, controlling a robot, drawing a picture, etc)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ow do we reconcile these two competing properties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 Haskell, “pure values” are separated from “worldly actions”, in two ways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mic Sans MS"/>
              </a:rPr>
              <a:t>Type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  An expression with type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O a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has possible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action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ssociated with its execution, while returning a value of typ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mic Sans MS"/>
              </a:rPr>
              <a:t>Syntax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  The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o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syntax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perform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n action, and (using layout) allows one to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sequence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everal action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he Resul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800600" y="2286000"/>
            <a:ext cx="4019400" cy="42670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9480" y="1873080"/>
            <a:ext cx="38862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; drawInWindow w 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(ellipse (0,0) (50,50)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; drawInWindow w 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(shearEllipse (0,60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(100,120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(150,200)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; drawInWindow w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(withColor Red 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(line (200,200)                 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(299,275))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; drawInWindow w 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(polygon [(100,100),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   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(150,100),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   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(160,200)]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; drawInWindow w 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(withColor Green 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(polyline 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[(100,200),(150,200),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(160,299),(100,200)])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re Complex Program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440" y="2367000"/>
            <a:ext cx="480060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e’d like to build bigger programs from these small piece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: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ierpinski’s Triangle – a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fractal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nsisting of repeated drawing of a triangle at successively smaller size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s before, a key idea is separating pure computation from graphics action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5257800" y="2590920"/>
            <a:ext cx="3713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Geometry of One Triangl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4747680" y="2513160"/>
            <a:ext cx="21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size</a:t>
            </a:r>
            <a:r>
              <a:rPr b="1" lang="en-US" sz="1600" spc="-1" strike="noStrike" baseline="30000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 +  size</a:t>
            </a:r>
            <a:r>
              <a:rPr b="1" lang="en-US" sz="1600" spc="-1" strike="noStrike" baseline="30000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  = hyp</a:t>
            </a:r>
            <a:r>
              <a:rPr b="1" lang="en-US" sz="1600" spc="-1" strike="noStrike" baseline="30000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28600" y="2590920"/>
            <a:ext cx="2514600" cy="914400"/>
          </a:xfrm>
          <a:prstGeom prst="wedgeEllipseCallout">
            <a:avLst>
              <a:gd name="adj1" fmla="val 65592"/>
              <a:gd name="adj2" fmla="val 45314"/>
            </a:avLst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mic Sans MS"/>
              </a:rPr>
              <a:t>Remember that </a:t>
            </a:r>
            <a:r>
              <a:rPr b="1" lang="en-US" sz="1400" spc="-1" strike="noStrike">
                <a:solidFill>
                  <a:srgbClr val="800000"/>
                </a:solidFill>
                <a:latin typeface="Comic Sans MS"/>
              </a:rPr>
              <a:t>y</a:t>
            </a:r>
            <a:r>
              <a:rPr b="1" lang="en-US" sz="1400" spc="-1" strike="noStrike">
                <a:solidFill>
                  <a:srgbClr val="003366"/>
                </a:solidFill>
                <a:latin typeface="Comic Sans MS"/>
              </a:rPr>
              <a:t> increases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mic Sans MS"/>
              </a:rPr>
              <a:t>as we go down the page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4249800" y="327672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hyp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5034960" y="4267080"/>
            <a:ext cx="19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(x+size/2,y-size/2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9" name=""/>
          <p:cNvSpPr/>
          <p:nvPr/>
        </p:nvSpPr>
        <p:spPr>
          <a:xfrm>
            <a:off x="3216240" y="2409840"/>
            <a:ext cx="3124080" cy="380988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0" name=""/>
          <p:cNvSpPr/>
          <p:nvPr/>
        </p:nvSpPr>
        <p:spPr>
          <a:xfrm>
            <a:off x="2108160" y="2209680"/>
            <a:ext cx="10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(x,y-size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>
            <a:off x="4816440" y="435924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4816440" y="4435560"/>
            <a:ext cx="0" cy="1784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215880" y="4435560"/>
            <a:ext cx="16002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3216240" y="4435560"/>
            <a:ext cx="1600200" cy="1784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1741680" y="4267080"/>
            <a:ext cx="125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(x,y-size/2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2537640" y="60199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(x,y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6426360" y="6019920"/>
            <a:ext cx="110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(x+size,y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8" name=""/>
          <p:cNvSpPr/>
          <p:nvPr/>
        </p:nvSpPr>
        <p:spPr>
          <a:xfrm>
            <a:off x="4155120" y="6172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(x+size/2,y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raw 1 Triangl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illTri x y size w =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InWindow 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withColor Blu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polygon [(x,y),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x+size,y),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x,y-size)]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inSize = 8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>
            <a:off x="6095880" y="2286000"/>
            <a:ext cx="2819520" cy="289548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509440" y="51814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(x,y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3" name=""/>
          <p:cNvSpPr/>
          <p:nvPr/>
        </p:nvSpPr>
        <p:spPr>
          <a:xfrm>
            <a:off x="7238880" y="51814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size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5562720" y="32767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size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861048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ierpinskiTri w x y size =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size &lt;= minSiz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hen fillTri x y size 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lse let size2 = size `div` 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n do sierpinskiTri w x y size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ierpinskiTri w x (y-size2) size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ierpinskiTri w (x+size2) y size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in3 =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unGraphics $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o w &lt;- openWindow "Sierpinski's Tri" (400,400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ierpinskiTri w 50 300 256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paceClose 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Sierpinski’s Triangle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7" name=""/>
          <p:cNvSpPr/>
          <p:nvPr/>
        </p:nvSpPr>
        <p:spPr>
          <a:xfrm>
            <a:off x="7083360" y="2073240"/>
            <a:ext cx="1384200" cy="168768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6356520" y="2057400"/>
            <a:ext cx="72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Comic Sans MS"/>
              </a:rPr>
              <a:t>(x,y-size)</a:t>
            </a: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7791480" y="2936880"/>
            <a:ext cx="34920" cy="33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0" name=""/>
          <p:cNvSpPr/>
          <p:nvPr/>
        </p:nvSpPr>
        <p:spPr>
          <a:xfrm>
            <a:off x="7791480" y="2970360"/>
            <a:ext cx="0" cy="7905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7083000" y="2970360"/>
            <a:ext cx="708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>
            <a:off x="7083360" y="2970360"/>
            <a:ext cx="708120" cy="7905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6213960" y="2895480"/>
            <a:ext cx="84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Comic Sans MS"/>
              </a:rPr>
              <a:t>(x,y-size/2)</a:t>
            </a: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6643800" y="358128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Comic Sans MS"/>
              </a:rPr>
              <a:t>(x,y)</a:t>
            </a: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8246520" y="3733920"/>
            <a:ext cx="7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Comic Sans MS"/>
              </a:rPr>
              <a:t>(x+size,y)</a:t>
            </a: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6" name=""/>
          <p:cNvSpPr/>
          <p:nvPr/>
        </p:nvSpPr>
        <p:spPr>
          <a:xfrm>
            <a:off x="7341840" y="3733920"/>
            <a:ext cx="88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Comic Sans MS"/>
              </a:rPr>
              <a:t>(x+size/2,y)</a:t>
            </a: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ample Effects or Ac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tat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tuitively, some programs have state that changes over tim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xception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re may be an error instead of a final valu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n-determinism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re may be multiple possible final value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mmunicat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re may be external influence on the computat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rform some Input or Output, as well as a final valu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.g., draw graphics on a display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he </a:t>
            </a:r>
            <a:r>
              <a:rPr b="1" lang="en-US" sz="4400" spc="-1" strike="noStrike">
                <a:solidFill>
                  <a:srgbClr val="800000"/>
                </a:solidFill>
                <a:latin typeface="Courier New"/>
              </a:rPr>
              <a:t>do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 Syntax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9581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et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c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be an action with typ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O a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n we can perform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c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retrieve its return value, and sequence it with other actions, by using th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o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syntax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o val &lt;- act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...        -- the next action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...        -- the action following that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return x   -- final action may return a value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te that all actions following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val &lt;- ac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can use the variabl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val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function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akes a value of typ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and turns it into an action of typ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O a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which does nothing but return the valu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5248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1600200" y="4038480"/>
            <a:ext cx="35686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2514600" y="3352680"/>
            <a:ext cx="6094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ourier New"/>
              </a:rPr>
              <a:t>do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 Syntax Detail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1523880" y="2286000"/>
            <a:ext cx="1752840" cy="380880"/>
          </a:xfrm>
          <a:prstGeom prst="wedgeRectCallout">
            <a:avLst>
              <a:gd name="adj1" fmla="val -28259"/>
              <a:gd name="adj2" fmla="val 229999"/>
            </a:avLst>
          </a:prstGeom>
          <a:solidFill>
            <a:srgbClr val="cccc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:: Intege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1600200" y="4419720"/>
            <a:ext cx="35686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2286000"/>
            <a:ext cx="2210040" cy="380880"/>
          </a:xfrm>
          <a:prstGeom prst="wedgeRectCallout">
            <a:avLst>
              <a:gd name="adj1" fmla="val -71194"/>
              <a:gd name="adj2" fmla="val 233750"/>
            </a:avLst>
          </a:prstGeom>
          <a:solidFill>
            <a:srgbClr val="cccc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:: IO Intege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3352680"/>
            <a:ext cx="2666880" cy="1219320"/>
          </a:xfrm>
          <a:prstGeom prst="wedgeRectCallout">
            <a:avLst>
              <a:gd name="adj1" fmla="val -90296"/>
              <a:gd name="adj2" fmla="val 16796"/>
            </a:avLst>
          </a:prstGeom>
          <a:solidFill>
            <a:srgbClr val="cccc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:: IO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(actions withou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</a:rPr>
              <a:t>v &lt;- …”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usually have this type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4419720" y="5334120"/>
            <a:ext cx="3200400" cy="1218960"/>
          </a:xfrm>
          <a:prstGeom prst="wedgeRectCallout">
            <a:avLst>
              <a:gd name="adj1" fmla="val -70388"/>
              <a:gd name="adj2" fmla="val -99611"/>
            </a:avLst>
          </a:prstGeom>
          <a:solidFill>
            <a:srgbClr val="cccc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:: IO Intege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(the type of the last action also determines the type of the entire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o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expression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17524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3657600"/>
            <a:ext cx="1523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4191120"/>
            <a:ext cx="1295640" cy="380880"/>
          </a:xfrm>
          <a:prstGeom prst="wedgeRectCallout">
            <a:avLst>
              <a:gd name="adj1" fmla="val 71324"/>
              <a:gd name="adj2" fmla="val -152083"/>
            </a:avLst>
          </a:prstGeom>
          <a:solidFill>
            <a:srgbClr val="cccc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:: Cha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>
            <a:off x="4267080" y="2895480"/>
            <a:ext cx="1752840" cy="381240"/>
          </a:xfrm>
          <a:prstGeom prst="wedgeRectCallout">
            <a:avLst>
              <a:gd name="adj1" fmla="val -62773"/>
              <a:gd name="adj2" fmla="val 147083"/>
            </a:avLst>
          </a:prstGeom>
          <a:solidFill>
            <a:srgbClr val="cccc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:: IO Cha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94920" y="3276360"/>
            <a:ext cx="495324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o x &lt;- f 5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 &lt;- getChar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utChar c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(x + 4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When IO Actions are Performed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9581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value of type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IO a</a:t>
            </a: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s an action, but it is still a value: it will only have an effect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when it is performed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Haskell, a program’s value is the value of the variable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in the module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.  If that value has type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IO a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, then it will be performed, since it is an action.  If it has any other type, its value is simply printed on the display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Hugs, however, you can type any expression to the Hugs prompt.  E.g., for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above, if the expression has type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IO a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it will be performed, otherwise its value will be printed on the display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redefined IO Ac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95816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-- get one character from keyboard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getChar :: IO Cha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-- write one character to termina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utChar :: Char -&gt; IO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-- get a whole line from keyboard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getLine :: IO String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-- read a file as a String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adFile :: FilePath -&gt; IO String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-- write a String to a fil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writeFile :: FilePath -&gt; String -&gt; IO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Recursive Ac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8534520" cy="388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getLine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an be defined recursively in terms of simpler actions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getLine :: IO String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getLine =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o c &lt;- getChar        -- get a characte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c == '\n'        -- if it’s a newlin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hen return ""   -- then return empty string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lse do l &lt;- getLine –- otherwise get rest of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-- line recursively,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(c:l)  -- and return entire lin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ample: Unix wc Command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unix wc (word count) program reads a file and then prints out counts of characters, words, and line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ading the file is an action, but computing the information is a pure computation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trategy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efine a pure function that counts the number of characters, words, and lines in a string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umber of lines = number of ‘\n’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umber of words ~= number of  ‘  ’  plus number of ‘\t’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efine an action that reads a file into a string, applies the above function, and then prints out the result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Paul Hudak</dc:creator>
  <dc:description/>
  <dc:language>en-US</dc:language>
  <cp:lastModifiedBy>Paul Hudak</cp:lastModifiedBy>
  <cp:lastPrinted>1999-10-07T20:38:26Z</cp:lastPrinted>
  <dcterms:modified xsi:type="dcterms:W3CDTF">2004-09-03T13:22:55Z</dcterms:modified>
  <cp:revision>118</cp:revision>
  <dc:subject/>
  <dc:title>SOE: Chapter 3</dc:title>
</cp:coreProperties>
</file>