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0E8-FA1F-4063-BC4B-32279E8F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E297-A418-400C-B65A-BE99A963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515-F2D3-4FAD-99F7-074A9BDB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0B4-D8A0-4C51-8E30-A02FD3C1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AD5A-B0F2-43DD-B60F-151F9780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9B39-1B1D-4A5C-9959-D548A789A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9AEF-1837-4B4E-9376-7B1668B8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53B1-0C25-4055-9C73-C9250E80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0737-2219-4554-B06D-0889975A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3A81-2A18-44D6-8E80-6441A237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627-8368-429D-93EE-DC5E98A4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709-A4A4-4CF1-88A7-A4405A4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196B-09F6-4F16-9429-6FA2585C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D624-9A80-4001-AB4E-457B87E1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6AB36-8D5E-4DB2-9A0F-71601926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F00A-895F-450C-9D1A-DC225D97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A9EE-970B-4D25-9D66-192514B9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FCB-B76A-483F-A5E8-38F25272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FCB1-9ACF-4B79-A2C2-785FD384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731-3900-4167-8369-9E182B8F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EB1-72B8-42D8-88D2-23D96C85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41D-96A9-4048-8DD5-ADD27B1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D14-4272-4FD6-AF02-D98561DD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DF77-45FA-423E-B490-AC37FC4B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271A-02D4-424E-98EB-924E1776AC6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66DB-E0BB-4DF2-AB46-4701A512AAA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ore About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igher-Order Func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urry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 the function: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imple n a b = n * (a+b)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: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 n a b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reall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((simple n) a) b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in fully parenthesized nota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 :: Float -&gt; Float -&gt;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 n ::        Float -&gt;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imple n) a ::            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(simple n) a) b ::                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for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ultSumByFive a b = simple 5 a b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the same a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ultSumByFive     = simple 5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e of Curry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, listProd :: [Integer]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 xs        = foldr (+) 0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xs        = foldr (*) 1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           = foldr (+)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          = foldr (*)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, or :: [Bool]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 xs   = foldr (&amp;&amp;) True 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r  xs   = foldr (||) Fals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      = foldr (&amp;&amp;) Tr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r       = foldr (||) 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905120" y="3048120"/>
            <a:ext cx="0" cy="45720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05120" y="5562720"/>
            <a:ext cx="0" cy="45720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4343400"/>
            <a:ext cx="6705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Be Careful Though ...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id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x = g (x+2) y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is not equal to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= g (x+2) 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cause to do so might change the value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general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x = e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equal to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= 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only if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does not appear free in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implify Defini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xs = foldl revOp []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revOp acc x = x : ac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he prelude we have: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lip f x y = f y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what is its type?)  Thu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Op acc x = flip (:) acc x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 even bett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Op = flip (: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thu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xs = foldl (flip (:)) [] x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 even bett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= foldl (flip (:))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nymous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 far, all of our functions have been defined using a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qua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such as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defined by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ucc x = x+1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raises the question: Is it possible to define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behaves just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but has no name?  Much in the same way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.14159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value that behave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answer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y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it is writte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x -&gt; x+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Indeed, we could rewrite the previous definition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ucc = \x -&gt; x+1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e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ctions are like currying for infix operators.  For example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+5) = \x -&gt; x + 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4-) = \y -&gt; 4 – y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 in fac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jus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+1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!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e that sections are consistent with the fact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+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for example, is equivalent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x -&gt; \y -&gt; x+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hough convenient, however, sections are less expressive than anonymous functions.  For example, it’s hard to represen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x -&gt; (x+1)/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s a section. 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also pattern match using an anonymous function, as i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(x:xs) -&gt; 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which is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ion Composi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33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y often we would like to combine the effects of one function with that of another. 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unction compos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ccomplishes this for us, and is simply defined as the infix operat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.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f . g) x = f (g x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f.g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the same as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\x -&gt; f (g x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ction composition can be used to simplify previous definitions: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SquareArea side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= sumList (map squareArea sides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= (sumList . map squareArea) sides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mbining this with currying simplification yields: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SquareArea = sumList . map squareAre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4:09:18Z</dcterms:created>
  <dc:creator>Paul Hudak</dc:creator>
  <dc:description/>
  <dc:language>en-US</dc:language>
  <cp:lastModifiedBy>Paul Hudak</cp:lastModifiedBy>
  <dcterms:modified xsi:type="dcterms:W3CDTF">2004-09-17T13:02:57Z</dcterms:modified>
  <cp:revision>14</cp:revision>
  <dc:subject/>
  <dc:title>Chapter 9</dc:title>
</cp:coreProperties>
</file>