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494-5A56-4A9A-A00F-0667C7EFF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3D90-7A1B-4E8B-BB44-7BEF14CD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87F-0037-41E9-A2C8-4853E588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E8EF-909E-4DB5-BBE9-F845733F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0CFA-3DEC-4CE9-AE39-C0D76E88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30BC-421B-4341-8855-C19EF47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D024-9475-463E-AB91-E3342B9C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5A03-0958-4350-B381-D726791F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1641B-0F5C-4B0D-907E-B3141807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AEC5-A44D-492B-8804-B9F45339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A21E9-2E83-4D07-9696-22F8CECF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BCAB-2C70-4672-9A40-DF02CA67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074F-90DC-4C6F-B213-B644896E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5D50-A531-4353-8CD9-47867163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1CF6-B46E-40D0-A9D5-8A0C10F4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A6B-E697-449D-9B5F-7BDE0CEE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803C-FC6E-42FA-840B-FBF9F388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ACFF-DF65-4E7E-A928-8E928B3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D7C-E119-4FB8-AE12-BB070434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7AD7-AD09-4644-ACFB-F891EDFF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E12-D3A4-42F4-BC36-DA25BE5C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E25F-E449-4629-8718-ADEC74F3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3C6A-6A1B-4E7B-8303-B2B5AA38B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1436-4829-432F-898D-562DDB56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5C67-BA07-4618-936F-27015157185C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1D7D-EC59-48F3-BA45-D3C712372B83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 Module of Shapes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art 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s over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ha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s on shapes can be defined using pattern match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:: Shape -&gt;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Rectangle s1 s2)  =  s1*s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Ellipse r1 r2)    =  pi*r1*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RtTriangle s1 s2) = (s1*s2)/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Polygon (v1:pts)) =  polyArea pt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:: [(Float,Float)] -&gt;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(v2:v3:vs)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= triArea v1 v2 v3 +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(v3:v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_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 = 0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te use of auxiliary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e use of nested patter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ote use of wild card pattern (which matches anything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362320" y="3200400"/>
            <a:ext cx="4724280" cy="3048120"/>
          </a:xfrm>
          <a:custGeom>
            <a:avLst/>
            <a:gdLst/>
            <a:ahLst/>
            <a:rect l="l" t="t" r="r" b="b"/>
            <a:pathLst>
              <a:path w="4176" h="3216">
                <a:moveTo>
                  <a:pt x="1104" y="0"/>
                </a:moveTo>
                <a:lnTo>
                  <a:pt x="3600" y="384"/>
                </a:lnTo>
                <a:lnTo>
                  <a:pt x="4176" y="2160"/>
                </a:lnTo>
                <a:lnTo>
                  <a:pt x="2160" y="3216"/>
                </a:lnTo>
                <a:lnTo>
                  <a:pt x="528" y="2160"/>
                </a:lnTo>
                <a:lnTo>
                  <a:pt x="0" y="960"/>
                </a:lnTo>
                <a:lnTo>
                  <a:pt x="110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35448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3276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012080" y="51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4802040" y="6248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668320" y="5181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2135520" y="3809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00400"/>
            <a:ext cx="3505320" cy="2057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286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otalArea = area (triangle [A,B,C])  +  area (polygon[A,C,D,E,F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78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lgorithm for Computing Area of Polyg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iAre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5818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iArea v1 v2 v3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t a = distBetween v1 v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 = distBetween v2 v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 = distBetween v3 v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 = 0.5*(a+b+c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sqrt (s*(s-a)*(s-b)*(s-c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stBetween (x1,y1) (x2,y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qrt ((x1-x2)^2 + (y1-y2)^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ng New Dataty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ability to define new data types in a programming language is importan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inds of data typ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numerated ty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cord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o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roduc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riant record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o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um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cursive ty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askell’s  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data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claration provides these kinds of data types in a uniform way that abstracts away from their implementation details, by providing an abstract interface to the newly defined typ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fore looking at the example from Chapter 2, let’s look at some simpler exampl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Data Decla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1360" y="1981080"/>
            <a:ext cx="84326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ample of 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numera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ata typ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Day = Sun | Mon | Tue | Wed | Thu | Fri | S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nam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n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through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a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constructor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ants (since they have no arguments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are 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nly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ements of the type.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, we can defin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:: Integer -&gt; Day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1 = Su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2 = Mo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3 = Tu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4 = We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5 = Thu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6 = Fri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7 = Sat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ugs&gt; valday 4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We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structors &amp; Patter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tructors can be matched by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attern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:: Day -&gt; Intege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Sun = 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Mon = 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Tue = 3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Wed = 4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Thu = 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Fri = 6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Sat = 7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dayval We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ther Enumeration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ata Type 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4582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Bool = True | False  -- predefined in Haskel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Direction = North | East | South | Wes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Move = Paper | Rock | Scissor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:: Move -&gt; Mov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Paper    = Scisso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Rock     = Pap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Scissors = Roc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beats Pap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isso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ariant Recor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07696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re complicated data typ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agger = Tagn Integer | Tagb Boo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constructors are not constants – they a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n :: Integer -&gt; Tagg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b :: Bool    -&gt; Tagge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 for all constructors, something like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n 1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not be simplified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nd thus, as discussed in Chapter 1, it is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be used in patter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functions on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Tagg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umber  (Tagn n) = 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olean (Tagb b) =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Num (Tagn _) = Tr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Num (Tagb _) =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Bool x = not (isNum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:t numb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umber :: Tagger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number (Tagn 3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isNum (Tagb Fals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Variant Record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emp = Celsius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Fahrenheit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Kelvin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use patterns to define functions over this typ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Celsius c)    = Kelvin (c + 272.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Fahrenheit f)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Kelvin ( 5/9*(f-32.0) + 272.0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Kelvin k)     = Kelvin 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ly: the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Data Type from the Tex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2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ata type from Chapter 2 is another example of a variant data typ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Shape = Rectangl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Ellips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RtTriangl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Polygon [(Float,Float)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ast line –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 – tells the system to build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o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unction for the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ore on this later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also define functions yielding refined shape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le, square :: Float -&gt; Shap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le radius = Ellipse radius radiu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quare side   = Rectangle side sid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03T13:23:02Z</dcterms:modified>
  <cp:revision>78</cp:revision>
  <dc:subject/>
  <dc:title>Lecture #1,  Sept. 30, 1996</dc:title>
</cp:coreProperties>
</file>