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201-0A8C-443B-993D-A5FC9497B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7A71-0B7B-49DA-A7D6-67DE0364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F7BA-C59F-4B1C-9DCB-EFB3CC07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D62-E7A8-4398-A05F-8662ABEC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7D66-965E-4DEB-A4A8-BABC36DF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2762-7CFE-4A24-A51F-39A08C05B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81A-38BF-4983-92CD-110757BA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2E2E-C273-496E-8F1F-6FD77543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5EE-96D9-4A78-83BA-3CD405B8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419D-D53C-4EA4-984A-802ACDA3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FE198-050D-4D79-B836-26281156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C25-B4E8-4452-BC2E-E5CF0A18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F926-EC9E-4E6B-9E50-CD08559C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559B0-8542-4010-A8C0-5245079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02CB-227B-4332-86BA-22542B99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0BA2-A7CB-41B0-90A8-4472ED5C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9EA4-193B-49F7-9357-981B90A9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835-B59F-42F4-B96A-70A78D1D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E94-92AC-4CD3-8FB4-F8579DD1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C3A6-7513-4123-9512-DB112C98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242-56D5-4D8A-B8CE-CFEDEAD8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E042-EADD-4A5D-8F9A-FF8DEBC2B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7D5-1F7A-448E-9B8C-03C9564A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FFA4-11FF-4101-A056-387A04B5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AEE-AF7F-4E80-9673-D501EA634E3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A658-7EB6-4659-9AC6-C85BBF791AA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1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Interpreting Functional Music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xioms for Mus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063520"/>
            <a:ext cx="795816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empo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ultiplic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Transpose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ddi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1 (Tempo r2 m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(r1*r2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1 (Trans p2 m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(p1+p2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nction composition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mut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ith respect to both tempo scaling and transposition.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1 . Tempo r2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2 . Tempo r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1 . Trans p2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2 . Trans p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1 . Trans p1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1 . Tempo r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empo scaling and transposition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istribu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ver both sequential and parallel composition.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(m1 :+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m1 :+: Tempo r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(m1 :=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m1 :=: Tempo r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(m1 :+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m1 :+: Trans p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(m1 :=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m1 :=: Trans p m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Axio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169720"/>
            <a:ext cx="795816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equential and parallel composition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ssoci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0 :+: (m1 :+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+: m1) :+: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0 :=: (m1 :=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=: m1) :=: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arallel composition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mut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0 :=: m1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1 :=: m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st 0 is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Tempo and Trans, an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zero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sequential and parallel composition.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(Rest 0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(Rest 0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:+: Rest 0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 :+: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:=: Rest 0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 :=: m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pletenes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set of axioms so far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oun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dding this axiom (stated as an exercise in the text) makes the se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plet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+: m1) :=: (m2 :+: m3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=: m2) :+: (m1 :=: m3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dur m0 = dur m2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is called the “serial-parallel axiom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ictorially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60400" y="5040360"/>
            <a:ext cx="5562720" cy="1143000"/>
            <a:chOff x="1760400" y="5040360"/>
            <a:chExt cx="5562720" cy="1143000"/>
          </a:xfrm>
        </p:grpSpPr>
        <p:sp>
          <p:nvSpPr>
            <p:cNvPr id="315" name=""/>
            <p:cNvSpPr/>
            <p:nvPr/>
          </p:nvSpPr>
          <p:spPr>
            <a:xfrm>
              <a:off x="1760400" y="5040360"/>
              <a:ext cx="220968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60400" y="5649840"/>
              <a:ext cx="220968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03800" y="5040360"/>
              <a:ext cx="121932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7120" y="5040360"/>
              <a:ext cx="83808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13080" y="511632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0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3080" y="572616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80120" y="5116320"/>
              <a:ext cx="106668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80120" y="5726160"/>
              <a:ext cx="106668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3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6720" y="511632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0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36720" y="572616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7080" y="5116320"/>
              <a:ext cx="106704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7080" y="5726160"/>
              <a:ext cx="106704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3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282200" y="534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≡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rogram written in any language, including a DSL, must have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i.e.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terpreta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notation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odel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mantics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all of these terms are equivalen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FAL program denotes a time-varying animation, captured concretely in the type “Behavior” and the function “reactimate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 IRL program denotes a state transformer, captured concretely in the type “Robot” and the function “runRobot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is the meaning of an MDL program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tractly, an MDL program denotes a piece of musi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cretely, it will denote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erformance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which is a sequence of musical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ven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MDL program denotes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erformance:</a:t>
            </a:r>
            <a:br>
              <a:rPr sz="2400"/>
            </a:br>
            <a:br>
              <a:rPr sz="800"/>
            </a:br>
            <a:r>
              <a:rPr b="0" i="1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erformance = [ Event ]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Event    = Event {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Time :: Time, eInst :: IName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Pitch :: AbsPitch, eDur :: DurT  }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deriving (Eq, Ord, Show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Tim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Dur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event “Event t i p d” means that instrument i sounds pitch p at time t for duration 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erformance p is assumed to be time-ordered, and simultaneous events are allow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rom Music to Performanc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convert a Music value to a Performance, we need to know the start time, default instrument, tempo, and key.  This is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ntext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Context = Context { cTime :: Time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start 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cInst :: IName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instrum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cDur  :: DurT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emp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cKey  :: Key }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ke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Show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Key     = AbsPitc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n a Music value’s meaning is captured by:</a:t>
            </a:r>
            <a:br>
              <a:rPr sz="2400"/>
            </a:br>
            <a:br>
              <a:rPr sz="20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:: Context -&gt; Music -&gt; Performanc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mpo and Metronom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tempo” is the duration, in seconds, of a whole not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convenience, we define a metronome function:</a:t>
            </a:r>
            <a:br>
              <a:rPr sz="2400"/>
            </a:br>
            <a:br>
              <a:rPr sz="800"/>
            </a:br>
            <a:r>
              <a:rPr b="0" lang="en-US" sz="7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tro :: Float -&gt; Dur -&gt; Du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tro setting dur = 60 / (setting * ratioToFloat dur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“metro 96 qn” corresponds to a tempo of 96 quarter notes per minut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ime to Perfor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:: Context -&gt; Music -&gt; Performanc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c@(Context t i dt k) m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e m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Note p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 let d' = rtf d * d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in [Event t i (transpose p k i) d'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Rest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m1 :+: m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 perform c m1 ++ perfor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c {cTime = t + rtf (dur m1) * dt})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m1 :=: m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merge (perform c m1) (perform c m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Tempo a m  -&gt; perform (c {cDur = dt / rtf a}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Trans p 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perform (c {cKey = k + p}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str nm m -&gt; perform (c {cInst = nm}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 transpose p k Percussion = absPitch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transpose p k _               = absPitch p + k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rtf = ratioToFloat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[ Note: the treatment of (:+:) is inefficient (why?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See the text for a more efficient solution.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erg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unction “merge” must preserve the time-ordered nature of its argumen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correct but inefficient solution would b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:: Performance -&gt; Performance -&gt; Performanc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es1 es2 = sort (es1 ++ es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more efficient solution i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a@(e1:es1) b@(e2:es2)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e1 &lt; e2 then e1 : merge es1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else e2 : merge a es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[] es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s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es1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s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we are willing to give up a certain algebraic property (discussed later), the text gives an even more efficient solu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lgebra of Mus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1040" y="2192040"/>
            <a:ext cx="833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ese two Music values:</a:t>
            </a:r>
            <a:br>
              <a:rPr sz="2400"/>
            </a:b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1 :+: m2) :+: m3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m1 :+: (m2 :+: m3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Haskell values, they are not equal.  But under any reasonable interpretation of music, they should be.  “If they sound the same, they are the same.”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finition:</a:t>
            </a:r>
            <a:br>
              <a:rPr sz="2400"/>
            </a:br>
            <a:br>
              <a:rPr sz="8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o musical values m1 and m2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quival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ten m1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2, if and only if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(</a:t>
            </a:r>
            <a:r>
              <a:rPr b="1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)  perform c m1 = perform c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us we expect that:</a:t>
            </a:r>
            <a:br>
              <a:rPr sz="2400"/>
            </a:br>
            <a:br>
              <a:rPr sz="8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1 :+: m2) :+: m3 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m1 :+: (m2 :+: m3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[ Note similarity to equivalence of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gion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n Ch. 8. 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xioms and Theore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associative law just given can be proved by unfolding “perform”.</a:t>
            </a:r>
            <a:br>
              <a:rPr sz="2400"/>
            </a:b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[ This is left as an exercise, but see the text for other examples of this technique.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aws that can only be proved by appealing to the model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xiom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aws that can be proved using only the axioms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heorem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an axiom is true it is said to b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oun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any equivalence can be expressed using the set of axioms, the set is said to b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plet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sound and complete set of axioms is called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xiomatic semantic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5T15:20:43Z</dcterms:modified>
  <cp:revision>298</cp:revision>
  <dc:subject/>
  <dc:title>Lecture #1,  Sept. 30, 1996</dc:title>
</cp:coreProperties>
</file>