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FEF-71AF-40BF-82F6-9AB23B5C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29E-74FA-4DF6-8014-62C50E4C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5DB-6165-4675-B96D-DF2ED901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4F23-5440-49ED-9F47-3DFB883F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A2CF-9CCA-497A-BC5B-7C06F693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E446F-2CB4-4B9F-8A70-B8D01A6F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F159-7158-4E60-B2CE-E32D2EAA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939F-1736-4FC8-AE1F-C28FE4FC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CEF8-6E1C-4A7B-857B-97C785E3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7350-02EE-4C0D-AE12-852A82CC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9D36-F7F3-4115-B94A-3FE0F55A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F12F-97A5-4DE9-9FF6-57FAD869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A11A-A00C-4C4A-B571-31B787FD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9FF2-0BFC-46B4-97DE-02D4949B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EDE0-9BB9-44F4-8E6B-2496B1F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F4F1-B79C-40B9-858D-DF2B5902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9D7B-E4DE-4BC7-BC5B-AB44931D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AE4-6168-4AB2-B978-A9467DE7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54C-86CD-466C-9A09-8D7DD0CB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319B-5F2E-4A69-9D78-C9E6C9AD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30F-035E-4EA1-94B7-776DCB68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E6C-B8B2-492F-A73D-E46EE3EC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5F64-471F-4C15-955E-D503ACAB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3B7-552C-40B2-A6D7-E61B94ED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9155-BD46-4B3B-AEF8-A01F95D24BF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3D0B-E799-41EB-B5DD-E026FC0C6BF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7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Rendering Reactiv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previous chapter we learned just enough about advanced IO and concurrency to develop a “renderer” for 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at renderer is called “reactimate”, and has typ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:: String -&gt; Behavior a -&gt; (a -&gt; IO Graphic)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first, we need a way to extract an infinite stream of time-stamped user actions from the operating system.  We want the values in the stream to be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ua” if there is a user action “ua” present at the time we ask for it, an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” if there is no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indowUs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tream of user actions will be suppli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indow -&gt; IO (([Maybe UserAction],[Time]), IO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ecuting the command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(us,ts), addEvents) &lt;- windowUser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ields a user action stream “us” and a time stream “ts”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so yields an IO action “addEvents” that causes the OS to update “us” with whatever user actions happen to be pending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t that tim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followed by a “Nothing”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: “addEvents” is an IO action – it does nothing until executed.  “reactimate” will call windowUser, process all user actions in “us” until it sees “Nothing”, then execute “addEvents”, and repea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First-Class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ndowUser” will 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irst-class channe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a helper function, we defin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keStream :: IO ([a], a -&gt; IO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keStream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&lt;- newCh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ntent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&lt;- getChanContents 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contents, writeChan c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keStream” creates a new channel, converts its contents into a stream using “getChannelContents”, and returns that stream along with a function to write into the channe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 of windowUs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:: Window -&gt; IO (([Maybe UserAction],[Time]), IO (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w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(evs, addEv) &lt;- makeStrea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0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loop rt =  do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v &lt;- maybeGetWindowEvent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mev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return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e   -&gt; do addEv (Just e, r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op 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addEvents = do t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let rt = w32ToTime (t-t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loop 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addEv (Nothing, r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(map fst evs, map snd evs), addEven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32ToTime t = intToFloat (word32ToInt t) / 10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Turning Nothing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to Something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at the non-occurrence of an event corresponds to a time when we wish to sample the picture.  So we need to convert non-occurrences into occurrence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:: Even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= Event (\(us,_) -&gt; map aux u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Noth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(Just _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, for a given FAL program “franProg”, we can describe the individual picture values that we want as an event stream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`snapshot_` franProg   ::  Event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leads finally to the definition of “reactimate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actimat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:: String -&gt; Behavior a -&gt; (a -&gt; IO Graphic)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title franProg toGraphic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Graphics $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title (Just (0,0)) (Just (xWin,yWin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BufferedGraphic (Just 3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user, addEvents) &lt;- windowUser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ddEv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drawPic (Just p) = 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 &lt;- toGraphic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etGraphic w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ddEv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etWindowTick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drawPic Nothing  = return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apM_ drawP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runEvent (sample `snapshot_` franProg) use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Event (Event fe) u = fe u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22T14:03:26Z</dcterms:modified>
  <cp:revision>235</cp:revision>
  <dc:subject/>
  <dc:title>Lecture #1,  Sept. 30, 1996</dc:title>
</cp:coreProperties>
</file>