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8B9-406B-4022-AD56-F7343029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6DCC-382A-4E32-9E69-E6588D0E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15A-6195-4C81-9511-A77751232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994-714C-487C-849D-912146ED8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0CA1-22CA-4135-AC9F-7B37B3E2D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1E52-777C-4E1A-98F4-2AC7DAA7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1796-4596-4B6A-8777-D2A59164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C7BF-4BE1-4945-897D-55397E7F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088D-B2F0-4843-ACF6-BB58956E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F23F1-2E02-4F80-8468-4A3CB32E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BC89-A9D5-46C9-9E28-B5178148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0A7-7AD0-4DE9-8BE0-0BDD3D6D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6A1F-FC09-4E44-B38D-84A0C28D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7E82-2D1B-4309-9D4C-81E0D8B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8F13-257D-47E5-8289-9EA9F1D7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E38A-C703-44E5-A772-50C4A999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D132-1D18-4F4B-A15E-423D9BD2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2CB-05C4-439A-A6A7-360C013B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C5F-4084-4916-A818-EF2B20B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684-8328-4674-A7BA-4082A173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87D-24DD-4CD9-85B6-17D8C33A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FE8-F9B9-416E-95AD-A0425F52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73F5-9501-4508-9581-4DA27EF0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4AA2-07BA-4076-B132-366DEE19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71F7-01B2-4241-A0B0-E701FF4945B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9F54-4B22-46C0-8BE6-F2CE6339823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8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Higher-Order Typ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ing the Mayb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9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he expression “g (f x)”.  Suppose that both “f” and “g” could return errors that are encoded as “Nothing”.  We might do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e f x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Nothing -&gt;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Just y   -&gt; case g y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 -&gt;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z   -&gt;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…proper result using z…</a:t>
            </a:r>
            <a:br>
              <a:rPr sz="2000"/>
            </a:b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since Maybe is a Monad, we could instead do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l-PL" sz="2000" spc="-1" strike="noStrike">
                <a:solidFill>
                  <a:srgbClr val="003366"/>
                </a:solidFill>
                <a:latin typeface="Comic Sans MS"/>
              </a:rPr>
              <a:t>do y &lt;- f x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pl-PL" sz="2000" spc="-1" strike="noStrike">
                <a:solidFill>
                  <a:srgbClr val="003366"/>
                </a:solidFill>
                <a:latin typeface="Comic Sans MS"/>
              </a:rPr>
              <a:t>z &lt;- g 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pl-PL" sz="2000" spc="-1" strike="noStrike">
                <a:solidFill>
                  <a:srgbClr val="003366"/>
                </a:solidFill>
                <a:latin typeface="Comic Sans MS"/>
              </a:rPr>
              <a:t>retur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…proper result using z…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implifying Fur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at the last expression can be desugared and simplified as follow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 x &gt;&gt;= \y -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f x &gt;&gt;= \y -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 y &gt;&gt;= \z -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g y &gt;&gt;= retur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 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f x &gt;&gt;= \y -&gt;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 x &gt;&gt;= g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g y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 we started with g (f x) and ended with f x &gt;&gt;= g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we can do better by defining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g .$ f) x = f x &gt;&gt;= 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-- Question: what is the type of (.$)?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us we started with “g . f” and ended with “g .$ f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List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List data type is a law-abiding Mona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 Monad []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m &gt;&gt;= 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concat (map k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return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[x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ail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[ 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x &lt;- [1,2,3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y &lt;- [4,5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x,y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[(1,4),(1,5),(2,4),(2,5),(3,4),(3,5)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at this is the same as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[(x,y) | x &lt;- [1,2,3], y &lt;- [4,5]]</a:t>
            </a:r>
            <a:br>
              <a:rPr sz="20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eed, list comprehension syntax is an alternative to do syntax, but restricted to lists (historically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eful Monad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9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quenc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[m a] -&gt; m [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quenc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foldr mcons (return []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mcons p q = do x  &lt;- 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xs &lt;- q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return (x:x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quence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[m a] -&gt; m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quence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foldr (&gt;&gt;) (return (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p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(a -&gt; m b) -&gt; [a] -&gt; m [b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pM f a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sequence (map f a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pM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(a -&gt; m b) -&gt; [a] -&gt; m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pM_ f a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sequence_ (map f a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=&lt;&lt;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(a -&gt; m b) -&gt; m a -&gt; m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 =&lt;&lt;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x &gt;&gt;= 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ate Mona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tate monads are perhaps the most common kind of monad: they involve updating and threading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at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through a computation.  Abstractl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SM a = SM (State -&gt; (State, a)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Monad SM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 $ \s -&gt; (s,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M sm0 &gt;&gt;= fsm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 $ \s0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let (s1,a1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0 s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SM sm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sm1 a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(s2,a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1 s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in (s2,a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’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O mona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a state monad, where State corresponds to the “state of the world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state monads are also commonly user defined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For example, tree labeling –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ee text.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O is a Stat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uppose we have these operations that implement an association list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ookup :: a -&gt; [(a,b)] -&gt; Maybe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pdate :: a -&gt; b -&gt; [(a,b)] -&gt; [(a,b)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xists :: a [(a,b)]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ile system is just an association list mapping file names (strings) to file contents (strings)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State = [(String, String)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n an extremely simplified IO monad i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IO a = IO (State -&gt; (State, a)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ose instance in Monad is exactly as on the preceding slide, replacing “SM” with “IO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ate Monad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l that remains is defining the domain-specific operations, such as: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dFile :: String -&gt; IO (Maybe String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dFile s = IO (\fs -&gt; (fs, lookup s fs)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eFile :: String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eFile s c = IO (\fs -&gt; (update s c fs, ())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leExists :: String -&gt; IO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leExists s = IO (\fs -&gt; (fs, exists s fs)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Variations include generating an error instead of using the Maybe type, etc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morphic Stat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state monad can be made polymorphic in the state, in the following way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SM s a = SM (s -&gt; (s, a)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Monad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(SM 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 $ \s -&gt; (s,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M sm0 &gt;&gt;= fsm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 $ \s0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let (s1,a1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0 s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SM sm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sm1 a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(s2,a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1 s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in (s2,a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e partial application of the type constructor SM in the instance declaration.  This works because SM has kind * -&gt; * -&gt; *, so “SM s” has kind * -&gt; *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Type of 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previous chapters we discussed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nomorphic types such as Int, Bool, et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olymorphic types such as [a], Tree a, et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nomorphic types such as [Int], Tree Bool, et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t, Bool, etc.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ullary type constructors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as [.], Tree, etc.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nary type constructor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type of a type” is called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kin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The kind of all monomorphic types is written “*”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, Bool, [Int], Tree Bool  ::  *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refore the type of unary type constructors is:</a:t>
            </a:r>
            <a:br>
              <a:rPr sz="24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[.], Tree  ::  * -&gt; *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“higher-order types” can be used in useful ways, especially when used with type class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Functor Clas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Functor class demonstrates the use of high-order type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Functor f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:: (a -&gt; b) -&gt; f a -&gt; f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at “f” is “applied”, so should have kind “* -&gt; *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Functor Tree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map f (Leaf x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= Leaf (f x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map f (Branch t1 t2)  = Branch (fmap f t1) (fmap f t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, using the function mapTree previously define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Functor Tree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map = mapTre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ercise:  Write the instance declaration f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ist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Monad Clas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onads are perhaps the most famous (or infamous?) feature in Haskel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y are captured in a type clas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 Monad m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&gt;=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 a -&gt; (a -&gt; m b) -&gt; m b   -- “bind”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&gt;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 a -&gt; m b -&gt; m 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-- “sequence”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a -&gt; m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ai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String -&gt; m a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&gt;&gt; 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m &gt;&gt;= \_ -&gt; k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ail 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error 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key operations are (&gt;&gt;=) and retur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yntactic Mystery Unveile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do” syntax in Haskell is shorthand for Monad operations, as captured by these rules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e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do e1; e2; ...; en 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e1 &gt;&gt; do e2 ; ...; e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pat &lt;- e1 ; e2 ; ...; en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ok pat = do e2 ; ...; e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ok _   = fail "..."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e1 &gt;&gt;= ok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66"/>
                </a:solidFill>
                <a:latin typeface="Comic Sans MS"/>
              </a:rPr>
              <a:t>do let decllist ; e2 ; ...; en </a:t>
            </a:r>
            <a:r>
              <a:rPr b="0" lang="da-DK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br>
              <a:rPr sz="2000"/>
            </a:br>
            <a:r>
              <a:rPr b="0" lang="da-DK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da-DK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da-DK" sz="2000" spc="-1" strike="noStrike">
                <a:solidFill>
                  <a:srgbClr val="003366"/>
                </a:solidFill>
                <a:latin typeface="Comic Sans MS"/>
              </a:rPr>
              <a:t>let decllist in do e2 ; ...; e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special case of rule 3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3a.  do x &lt;- e1 ; e2 ; ...; en 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e1 &gt;&gt;= \x -&gt; do e2 ; ...; e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Involving IO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o” syntax can be completely eliminated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                  </a:t>
            </a: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putStr “Hello”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c &lt;- get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by rule (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 &lt;- get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by rule (3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&gt;&gt;= \c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return 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by rule (1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&gt;&gt;= \c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 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currying simplific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&gt;&gt;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unctor and Monad Law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unctor law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i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(f . g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map f . fmap 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onad law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return a &gt;&gt;= k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= k a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m &gt;&gt;= return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= m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m &gt;&gt;= (\x -&gt; k x &gt;&gt;= h)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= (m &gt;&gt;= k) &gt;&gt;= h</a:t>
            </a:r>
            <a:br>
              <a:rPr sz="2000"/>
            </a:br>
            <a:br>
              <a:rPr sz="8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Note special case of last law:</a:t>
            </a:r>
            <a:br>
              <a:rPr sz="2400"/>
            </a:br>
            <a:br>
              <a:rPr sz="8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m1 &gt;&gt; (m2 &gt;&gt; m3)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= (m1 &gt;&gt; m2) &gt;&gt; m3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Connecting law:</a:t>
            </a:r>
            <a:br>
              <a:rPr sz="2400"/>
            </a:br>
            <a:br>
              <a:rPr sz="8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f xs = xs &gt;&gt;= return . 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Monad Laws Expressed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using “do” Syntax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x &lt;- return a ; k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k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x &lt;- m ; return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m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x &lt;- m ; y &lt;- k x ; h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y &lt;- (do x &lt;- m ; k x) ; h 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m1 ; m2 ; m3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(do m1 ; m2) ; m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f x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x &lt;- xs ; return (f x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using the second rule above, the example given earlier can be simplified to just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putStr “Hello”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getChar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, after desugaring: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 get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Mayb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 the Maybe data type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Maybe a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both a Functor and a Mona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 Monad Maybe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x  &gt;&gt;= 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k x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 &gt;&gt;= 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Jus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ail 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Nothing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 Functor Maybe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f Nothing    = 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f (Just x)   =  Just (f x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instances are in fact “law abiding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1-01T13:08:52Z</dcterms:modified>
  <cp:revision>256</cp:revision>
  <dc:subject/>
  <dc:title>Lecture #1,  Sept. 30, 1996</dc:title>
</cp:coreProperties>
</file>