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B67C-6141-472A-9BFB-90D4A0D6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C84-26E1-4701-BE98-05D1CC21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3737-014E-4278-8FF5-C46D7893C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D56-D530-4200-8585-4AE3F22A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E49F-506E-4651-AAEC-8FD4ABA3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EC79-6B66-4642-A48F-CB90A8D9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206D-3B68-44FC-87E8-CDCD0C13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6E75-BCDC-4C72-8637-AED0CA3D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A0DD-0F55-4A5A-8BDF-455BE940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6996-A0FC-4CE2-A7B3-3953CE3F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9AF46-475A-43D2-9E63-6D459EC6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4F18-426F-4946-9017-46FBC491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99344-2785-414D-987C-88AE37C1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6B598-5530-4728-B783-20BF2247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F8023-A61A-4E45-A105-62934E94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B027-EF66-40F8-B79E-3E6A5DBE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9021-B7D5-4611-845A-3537DBBC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F24D-BE48-49C9-AE8C-4ED9B2CE1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940-A8D2-43A0-AEE6-3EE7EFD9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D09B-0148-40DB-B02D-B7A25C9F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B63-9D45-4B06-A35F-0143BB17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B8E4-C70B-4F9A-9B18-53F07B36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B8BE-F96C-4033-9DC7-B6B16046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8D39-A0A2-4DD9-A115-103041AD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B261-1E88-4E4E-AF09-25DCE1FEAB2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4B9B-3258-4389-A11D-83BD8BB1EC2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5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olymorphic and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igher-Order Funct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rithmetic Sequenc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pecial syntax for computing  lists with regular properti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1 .. 6]    = [1,2,3,4,5,6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1,3 .. 9]  = [1,3,5,7,9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5,4 .. 1]  = [5,4,3,2,1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finite lists too!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ke 9 [1,3..] = [1,3,5,7,9,11,13,15,17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ke 5 [5..]   = [5,6,7,8,9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Circles = map circle [2.4, 2.1 .. 0.3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loredCircles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zip [Black,Blue,Green,Cyan,Red,Magenta,Yellow,White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Circl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"Drawing Shapes" (xWin,yWin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Shapes w (reverse coloredCircle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334120" cy="46227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Resul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When to Define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Higher-Order Fun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cognizing repeating patterns is the key, as we did for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As another example, consider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 []      =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Courier New"/>
              </a:rPr>
              <a:t>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 (x:xs)  = x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listSum 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Prod []     =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Courier New"/>
              </a:rPr>
              <a:t>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Prod (x:xs) = x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listProd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e similarities.  Also note the differences (underlined), which need to become parameters to the abstracted func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bstracting 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leads to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 op init []     = ini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 op init (x:xs) = x `op` fold op init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fold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 also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polymorphi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 :: (a -&gt; b -&gt; b) -&gt; b -&gt; [a] -&gt;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listProd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n now be redefined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listSum  xs = fold (+) 0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listProd xs = fold (*) 1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wo Folds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re Better than On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predefined in Haskell, though with the nam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because it “folds from the right”.  That i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r op init (x1 : x2 : ... : xn : []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x1 `op` (x2 `op` (...(xn `op` init)...)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ut there is another function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foldl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ch “folds from the left”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l op init (x1 : x2 : ... : xn : []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...((init `op` x1) `op` x2)...) `op` xn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y two folds?  Because sometimes using one can be more efficient than the other.  For example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r (++) [] [x,y,z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x ++ (y ++ z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l (++) [] [x,y,z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x ++ y) ++ z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former is more efficient than the latter; but not always – sometimes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more efficient tha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Choose wisely!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versing a Lis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bvious but inefficient (why?)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reverse []      =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reverse (x::xs) = reverse xs ++ [x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uch better (why?)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reverse xs = rev []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where rev acc  []    = ac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rev acc (x:xs) = rev (x:acc)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looks a lot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Indeed, we can redefin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revers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reverse xs = foldl revOp []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where revOp a b = b :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olymorphic Length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9581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ngth       :: [a] -&gt;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ngth []     =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ngth (x:xs) = 1 + length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olymorphic functions don’t “look at” their polymorphic arguments, and thus don’t care what the type i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ngth [1,2,3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ngth [’a’,’b’,’c’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ngth [[2],[],[1,2,3]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2057400"/>
            <a:ext cx="4572000" cy="914400"/>
          </a:xfrm>
          <a:prstGeom prst="wedgeRoundRectCallout">
            <a:avLst>
              <a:gd name="adj1" fmla="val -27046"/>
              <a:gd name="adj2" fmla="val 84203"/>
              <a:gd name="adj3" fmla="val 16667"/>
            </a:avLst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” is a type variable.  It is lowercase to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distinguish it from type names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which are capitaliz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olymorphism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ny predefined functions are polymorphic.  For example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++) :: [a] -&gt; [a] -&gt; [a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id   :: a -&gt; a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head :: [a] -&gt; a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tail :: [a] -&gt; [a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[]   :: [a]            -- interesting!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ut you can define your own as well.  For example, suppose we define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g1 x = (1,x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n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ugs&gt; :type tag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g1 :: a -&gt; (Int,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olymorphic Data Structur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9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olymorphism is common in data structures that “don’t care” what kind of data they contai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examples on the previous page involv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list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tuples.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particular, note that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(:) :: a -&gt; [a] -&gt; [a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(,) :: a -&gt; b -&gt; (a,b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note the way that the tupling operator is identified – which generalizes to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,,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,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,,,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, etc.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ut we can also easily define new data structures that are polymorphi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type variabl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causes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yb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o be polymorphic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Maybe a = Nothing | Just a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e types of the constructors: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othing :: Maybe a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Just :: a -&gt; Maybe a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u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Just 3        :: Maybe In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Just “x“      :: Maybe String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Just (3,True) :: Maybe (Int,Bool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Just (Just 1) :: Maybe (Maybe Int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Maybe 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ay be usefu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772164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most common use of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Mayb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s with a function that “may” return a useful value, but may also fai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the division operator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(/)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n Haskell will cause a run-time error if its second argument is zero.  Thus we may wish to define a “safe” division function, as follows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feDivide :: Int -&gt; Int -&gt; Maybe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feDivide x 0 = Noth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feDivide x y = Just (x/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bstraction Over Recursive 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18172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call from Section 4.1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List []       =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List (p:ps)   = trans p : transList p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List []     =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List (c:cs) = putChar c : putCharList c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is something strongly similar about these definitions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deed, the only thing different about them (besides the variable names) is the functio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vs. the functio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use the abstraction principle to take advantage of thi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bstraction Yields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map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re what’s different; so they should be arguments to the abstracted func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other words, we would like to define a function called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(say) such tha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 tra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behaves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Li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 putCha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behaves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Li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 problem: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map f []     =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map f (x:xs) = f x : map f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iven this, it is not hard to see that we can redefin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Li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Li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s: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transList   xs = map trans  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putCharList cs = map putChar c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map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is Polymorphic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greatest thing about map is that it is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polymorphic.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Its most general (i.e. principal) type i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 :: (a-&gt;b) -&gt; [a] -&gt; [b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 whatever type is instantiated for “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” must be the same at both instances of “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”; the same is true for “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”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example, sinc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 :: Vertex -&gt; Poi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the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 trans :: [Vertex] -&gt; [Point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 sinc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 :: Char -&gt; IO (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the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 putChar :: [Char] -&gt; [IO ()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09-09T00:35:47Z</dcterms:modified>
  <cp:revision>133</cp:revision>
  <dc:subject/>
  <dc:title>Lecture #1,  Sept. 30, 1996</dc:title>
</cp:coreProperties>
</file>