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588E-A6C1-4021-A207-E70EED29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4F9-9716-487A-BE5E-764A6A87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7831-88CF-4E56-A95A-12D0B358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227E-9776-4FCA-9317-A219A768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301D1-9984-4929-B90D-DAB743BE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0987-AA5E-409F-8690-4DE56F528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8E06-752A-4844-88C9-826BCF04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7A29-BE39-4B53-9403-34C4BCF4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BB57-2310-4CC6-BA3E-7D132DBF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B5FE-B4C8-448E-811B-24826AC6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3DA2-EB47-4C60-A253-5A2A155D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D0D0-F0C4-4FE4-AA0B-1350BC3E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713FB-8276-4AF9-963B-1806931C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68331-3159-4D2A-B2C0-72D9175B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E856-577B-4BB2-8798-77D09ECB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8AED1-87D1-4944-B673-95AB0740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F24A-A066-4729-AA00-BD3621FB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558-7C00-4660-ABF7-F29257121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D3EE-64A0-4ECE-9607-7DA051A6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A12-10FF-405C-90D2-8F5E5DAE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663-8A99-4008-B871-33CD007E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9DA-540E-48B0-AF14-27A6DBC1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236-A6AE-46D6-B707-4047854E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1FE-65EB-404C-B7C1-BBEA201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9DF1-CA42-442E-B7EA-57AA346028E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91BD-4E0F-41D8-BE2B-12D3AF18C3D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6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hapes III: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erimeters of Shap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erimeter (Ellipse r1 r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r1 &gt; r2   = ellipsePerim r1 r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otherwise = ellipsePerim r2 r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ellipsePerim r1 r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e = sqrt (r1^2 - r2^2) / r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 = scanl aux (0.25*e^2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map intToFloat [2..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ux s i = nextEl e s i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est x = x &gt; epsil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Sum = foldl (+) 0 (takeWhile test 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2*r1*pi*(1 - sSum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Perimeter of a Sha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83822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compute the perimeter we need a function with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ur equations (1 for each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constructor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first three are easy …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erimeter :: Shape -&gt; Flo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perimeter (Rectangle  s1 s2) = 2*(s1+s2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perimeter (RtTriangle s1 s2) =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s1 + s2 + sqrt (s1^2+s2^2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perimeter (Polygon pts)      =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foldl (+) 0 (sides p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assumes that we can compute the lengths of th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id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of a polygon.  This shouldn’t be too difficult since we can compute the distance between two points with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istBetween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1981080"/>
            <a:ext cx="16765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7696080" y="2286000"/>
            <a:ext cx="1067040" cy="1676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909800" y="168120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900160" y="22147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2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738000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7989840" y="38750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2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cursive Def’n of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Sid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305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des       :: [Vertex] -&gt; [Side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des  []    =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des (v:vs) = aux v v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ux v1 (v2:vs’) = distBetween v1 v2 : aux v2 vs’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ux vn []       = distBetween vn v  :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aux vn []       = [distBetween vn v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can we do better?  Can we remove the direct recursion, as a seasoned functional programmer might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Visualize What’s Happening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list of vertices is: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vs = [A,B,C,D,E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need to compute the distances between the pairs of points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A,B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B,C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C,D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D,E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nd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E,A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 we compute these pairs as a list?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(A,B),(B,C),(C,D),(D,E),(E,A)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es, by “zipping” the two list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A,B,C,D,E]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[B,C,D,E,A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s follows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zip vs (tail vs ++ [head vs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2286000"/>
            <a:ext cx="2209680" cy="1066680"/>
          </a:xfrm>
          <a:prstGeom prst="pentagon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1284120" y="249876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2521440" y="1981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3819960" y="25146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3413160" y="32608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1749600" y="3260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New Version of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sid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leads to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des   :: [Vertex] -&gt; [Side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des vs = zipWith distBetween vs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tail vs ++ [head vs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ipWit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a predefined function that is just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except that it applies its first argument (a function) to each pair of values.  For exampl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ipWith (+) [1,2,3] [4,5,6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[5,7,9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re is one remaining case: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ellips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The perimeter of an ellipse is given by the summation of an infinite series.  For an ellipse with radii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1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p = 2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(1 - </a:t>
            </a:r>
            <a:r>
              <a:rPr b="1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 = 1/4 e</a:t>
            </a:r>
            <a:r>
              <a:rPr b="1" lang="en-US" sz="2400" spc="-1" strike="noStrike" baseline="30000">
                <a:solidFill>
                  <a:srgbClr val="8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  = 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i-1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(2i-1)(2i-3) e</a:t>
            </a:r>
            <a:r>
              <a:rPr b="1" lang="en-US" sz="2400" spc="-1" strike="noStrike" baseline="30000">
                <a:solidFill>
                  <a:srgbClr val="8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     for i &gt;= 1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4i</a:t>
            </a:r>
            <a:r>
              <a:rPr b="1" lang="en-US" sz="2400" spc="-1" strike="noStrike" baseline="30000">
                <a:solidFill>
                  <a:srgbClr val="8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e   = sqrt (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1</a:t>
            </a:r>
            <a:r>
              <a:rPr b="1" lang="en-US" sz="2400" spc="-1" strike="noStrike" baseline="30000">
                <a:solidFill>
                  <a:srgbClr val="8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8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) / 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Given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t is easy to compute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i+1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imeter of an Ellips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4800600"/>
            <a:ext cx="25146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puting the Seri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xtEl:: Float -&gt; Float -&gt; Float -&gt;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xtEl e s i = s*(2*i-1)*(2*i-3)*(e^2) / (4*i^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w we want to comput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,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,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, …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fix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let’s defin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ux s i = nextEl e s i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, we would like to compute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= aux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2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= aux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 = aux (aux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2) 3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= aux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4 = aux (aux (aux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2) 3) 4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...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3276720"/>
            <a:ext cx="3276720" cy="124164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Comic Sans MS"/>
              </a:rPr>
              <a:t>i+1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= 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2i-1)(2i-3) e</a:t>
            </a:r>
            <a:r>
              <a:rPr b="0" lang="en-US" sz="2400" spc="-1" strike="noStrike" baseline="30000">
                <a:solidFill>
                  <a:srgbClr val="003366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4i</a:t>
            </a:r>
            <a:r>
              <a:rPr b="0" lang="en-US" sz="2400" spc="-1" strike="noStrike" baseline="30000">
                <a:solidFill>
                  <a:srgbClr val="003366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6705720" y="3733920"/>
            <a:ext cx="213336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4267080"/>
            <a:ext cx="3047760" cy="1219320"/>
          </a:xfrm>
          <a:prstGeom prst="wedgeEllipseCallout">
            <a:avLst>
              <a:gd name="adj1" fmla="val -95939"/>
              <a:gd name="adj2" fmla="val 36069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Can we captur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is pattern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canl (scan from the left)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es, using the predefined function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canl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nl :: (a -&gt; b -&gt; b) -&gt; b -&gt; [a] -&gt; [b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nl f seed  []    = seed :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nl f seed (x:xs) = seed : scanl f newseed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where newseed =  f x seed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scanl (+) 0 [1,2,3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[ 0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1 = (+) 0 1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3 = (+) 1 2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6 = (+) 3 3 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[ 0, 1, 3, 6 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sing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can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the result we want i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nl aux s1 [2 ..]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791320" cy="50194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flipV="1">
            <a:off x="6095880" y="2285640"/>
            <a:ext cx="0" cy="20574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4343400"/>
            <a:ext cx="144792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6533280" y="402732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r2 = 1.5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152400" y="2960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r1 = 2.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1219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529560" y="2438280"/>
            <a:ext cx="26496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[s1 = 0.122449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2 = 0.0112453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3 = 0.00229496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4 = 0.000614721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5 = 0.000189685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...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how quickl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values in the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ries get smaller ..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ample Series Valu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39:19Z</dcterms:created>
  <dc:creator>Paul Hudak</dc:creator>
  <dc:description/>
  <dc:language>en-US</dc:language>
  <cp:lastModifiedBy>Paul Hudak</cp:lastModifiedBy>
  <dcterms:modified xsi:type="dcterms:W3CDTF">2004-09-10T03:58:11Z</dcterms:modified>
  <cp:revision>22</cp:revision>
  <dc:subject/>
  <dc:title>The perimeter of a Shape</dc:title>
</cp:coreProperties>
</file>