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00CD-E47B-41B1-9286-7D153F27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1BF-7193-4A67-8AF7-83DE1073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E49-6269-44D6-9C28-B5A3FB914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293-213F-4393-9FA9-5B35F36C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9473-4787-4703-9CC1-0EC586EF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A33C-5E47-4D62-8AE2-B538F741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0F7D-C0DF-4C00-9FD7-C24B3178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9911-7F4B-4601-A84B-7CC8E616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4189B-F14C-4E4F-9AE0-A4024269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9A6D-06DB-400B-A6A8-BA5CB873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C465-EC4B-4CAD-9037-CF4F79D7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DEE-F667-440F-871C-89BC001C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6F75-3D83-4127-ABCE-863FEFAC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64D1-D4C4-4446-8BA7-65C474D4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CDF4-CA14-49B3-A8FB-157E7738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96557-5A8B-49FB-80F0-061A51F2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8DB2-4906-486E-8AC9-338012C2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6B2-3B1E-42C9-A2CA-1F47E57D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F0A-A201-49BE-99AB-6B37B0BA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7E52-4F37-4B7E-A7E2-AA15FE9D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E11-525F-4D39-A1C3-1FC124EA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E3A-C270-4F05-89CF-1F827F31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7D4-3C86-4CC6-A4D9-088F0EC1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93F-C137-420C-B794-6AA86518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82C0-A27F-4ECA-8F10-2B0A2455407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D42B-1D07-465C-9BB4-2CCD6747827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22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From Performance to MIDI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6400" y="1971360"/>
            <a:ext cx="795816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bstractly, an MDL program denotes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Performanc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a Performance is just a Haskell data structure – we can analyze it, but we cannot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hea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t!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 remedy this, we will convert a Performance into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IDI Fil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IDI (Musical Instrument Digital Interface) is a standard protocol for describing electronic music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IDI file forma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part of this standard, and all consumer PC’s are capable of playing them through the PC’s sound car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addition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General MIDI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standardizes instrument and percussion names as used in MD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Our Goa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0160" y="2072880"/>
            <a:ext cx="81662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need to define a function (called “test” in text)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usicToMidi :: Music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usicToMidi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utputMidiFile "test.mid“ 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idi .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defCon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erform” was defined in the previous chapter, and “defCon” is just the default Contex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 additionally we need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idi :: Performance -&gt; MidiFi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utputMidiFile :: String -&gt; MidiFile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idiFile” and “outputMidiFile” are imported from Haskore.  Our main job is to define “performToMidi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idiFile Data 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9000" y="205272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idiFile data type (imported from Haskore) captures the essence of a Midi file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data MidiFil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idiFile MFType Division [Track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deriving (Show, Eq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type MFTyp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type Track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[MEvent]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data Divisio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Ticks Int | SMPTE Int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deriving (Show,Eq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data MEve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idiEvent ElapsedTime MidiEve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MetaEvent ElapsedTime MetaEve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NoEve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deriving (Show,Eq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type ElapsedTime  =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[ see text for details 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IDI Eve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1960" y="2061720"/>
            <a:ext cx="79581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IDI events are like MDL events, except that there are events for both start and end of a note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MidiEvent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NoteOff MidiChannel MPitch Velocity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NoteOn MidiChannel MPitch Velocity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ProgChange MidiChannel ProgNu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..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Show, Eq)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MPitc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n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Velocity        =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ProgNu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n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MidiChannel  = In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MetaEvent = SetTempo MTempo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..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Show, Eq)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MTempo      =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formToMidi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280" y="2072880"/>
            <a:ext cx="83343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convert a Performance into a MidiFile value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idi :: Performance -&gt; MidiFi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idi pf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MidiFile mfType (Ticks division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(map performToMEvs (splitByInst pf)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fTyp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= 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ivis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= 96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leaves two functions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plitByInst :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ance -&gt; [(MidiChannel,ProgNum,Performance)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Evs :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idiChannel,ProgNum,Performance) -&gt; [MEvent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a Type 1 MIDI file, each instrument is associated with a separate track.  splitByInst splits the Performance to achieve this (see text for details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formToMEv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Evs :: (MidiChannel,ProgNum,Performance) -&gt; [MEvent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Evs (ch,pn,perf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et setupIn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idiEvent 0 (ProgChange ch pn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setTemp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etaEvent 0 (SetTempo tempo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loop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[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loop (e:e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et (mev1,mev2) = mkMEvents ch 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in  mev1 : insertMEvent mev2 (loop e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in  setupInst : setTempo : loop per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= 500000 :: I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number of microsecs in one beat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ertMEvent :: MEvent -&gt; [MEvent] -&gt; [MEvent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ertMEvent ev1 [] = [ev1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ertMEvent ev1@(MidiEvent t1 _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evs@(ev2@(MidiEvent t2 _) : evs'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f t1 &lt;= t2 then ev1 : ev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else ev2 : insertMEvent ev1 evs'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kMEve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0800" y="2180880"/>
            <a:ext cx="79581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inally, we convert individual notes: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kMEvents :: MidiChannel -&gt; Event -&gt; (MEvent,MEven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kMEvents mChan (Event { eTime = t, ePitch = p, eDur = d }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( MidiEvent (toDelta t)       (NoteOn  mChan p 127)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MidiEvent (toDelta (t+d)) (NoteOff mChan p 127)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Delta t = round (t * 4.0 * intToFloat divis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</cp:lastModifiedBy>
  <cp:lastPrinted>1999-10-07T20:38:26Z</cp:lastPrinted>
  <dcterms:modified xsi:type="dcterms:W3CDTF">2004-11-08T15:15:18Z</dcterms:modified>
  <cp:revision>310</cp:revision>
  <dc:subject/>
  <dc:title>Lecture #1,  Sept. 30, 1996</dc:title>
</cp:coreProperties>
</file>