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2C20-7409-45BF-923F-434A44D5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8B84-9E56-4B32-A086-E20F1774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EF23-F605-4EAB-A220-36FE6AA76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7475-B259-41D0-8491-CFCC2025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61F5-EC90-4A9D-AC2F-1AD0D8B1C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6E21-CF4F-4DD8-BAC9-2DADB912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D2B8-78A3-46AB-BFDD-B9A35A85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A723-0B1B-4988-9011-634F39CE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C9AE-CE36-4D0F-ACCD-4360BA39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8460-B0AD-4572-859B-2579B8F9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256CD-6BF7-4971-AD25-A08DB4B7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0758-36CF-44C4-AA50-886C1EC8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7AD2-0905-4A73-9F79-B128880F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0503-5EE6-4B30-BA14-6F7AE910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29B4-04D3-49F1-8609-0E027A2A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7E50-A16F-45BB-B948-1A1837C1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DD3C-DAD6-4173-858F-FF5AC592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FB3B-07B2-48DB-85C9-DEA9F7D5C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DB64-407D-460E-9928-FF6C4FBD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5B32-434F-47B9-AD1A-40CBE501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FCD-44DE-415B-87A5-57872FEA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8B7A-77E0-4BA9-AD3A-ACF21443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57F-7BED-4CCD-8F8F-D2A8E740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4645-65B6-4618-BD5E-AC67A6DE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9CDC-A4FC-4443-A998-E2AF9AF72BD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7AA1-B46F-478A-B714-BBB59F30A3F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4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hapes II: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Drawing Shape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ome Test Shap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sh1,sh2,sh3,sh4 :: Shape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sh1 = Rectangle 3 2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sh2 = Ellipse 1 1.5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sh3 = RtTriangle 3 2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sh4 = Polygon [(-2.5,2.5), (-1.5,2.0),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(-1.1,0.2), (-1.7,-1.0),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(-3.0,0)]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rawing Shap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958160" cy="31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in1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runGraphics $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 w &lt;- openWindow "Drawing Shapes" (xWin,yWin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InWindow w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withColor Red  (shapeToGraphic sh1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InWindow w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withColor Blue (shapeToGraphic sh2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paceClose 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334120" cy="46227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Resul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rawing Multiple Shap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7958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ype ColoredShapes = [(Color,Shape)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hs :: ColoredShape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hs  = [(Red,sh1),(Blue,sh2),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Yellow,sh3),(Magenta,sh4)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Shapes :: Window -&gt; ColoredShapes -&gt;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Shapes w []  = return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Shapes w ((c,s):c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do drawInWindow w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withColor c (shapeToGraphic s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Shapes w c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ultiple Shapes, cont’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114800" y="2133360"/>
            <a:ext cx="502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in11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runGraphics $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 w &lt;- openWindow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"Drawing Shapes“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(xWin,yWin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Shapes w sh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paceClose w 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52280" y="2909880"/>
            <a:ext cx="434340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ecall the Shape Datatyp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4199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data Shape = Rectangle Side Side  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| Ellipse Radius Radius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| RtTriangle Side Side    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| Polygon [ Vertex ]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deriving Show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ype Vertex = (Float,Float)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ype Side   = Float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ype Radius = Float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roperties of Shap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e that some shapes are position independent: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Rectangle Side Side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RtTriangle Side Side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Ellipse Radius Radius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On the other hand, a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Polygon [Vertex]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s defined in terms of where it appears in the plane.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shape’s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Radiu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are measured in inches.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On the other hand, the Windows-based drawing mechanism of the last chapter was based on pixel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nsidera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do we draw position-independent shapes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andomly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the upper left corner (the window origin)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the middle of the window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will choose the last option above, by defining the middle of the window as the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origin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f a standard Cartesian coordinate system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o our new coordinate system has both a different notion of “origin” (middle vs. top-left) and of “units” (inches vs. pixels)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will need to define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coercion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between these two coordinate system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ordinate System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105000" y="2633760"/>
            <a:ext cx="2934000" cy="3114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124080" y="1676520"/>
            <a:ext cx="0" cy="51051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1143000" y="2819520"/>
            <a:ext cx="57150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215280" y="236520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Window Coordinate System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2209680"/>
            <a:ext cx="0" cy="43434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4191120"/>
            <a:ext cx="62481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6171840" y="3733920"/>
            <a:ext cx="262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Shape Coordinate System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6155280" y="5334120"/>
            <a:ext cx="165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(200,200)</a:t>
            </a: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pixels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or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(1,-1)</a:t>
            </a: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inches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5943600" y="5638680"/>
            <a:ext cx="152280" cy="152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538000" y="28195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(0,0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985920" y="41911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(0,0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6051600" y="2819520"/>
            <a:ext cx="8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(200,0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2241360" y="5562720"/>
            <a:ext cx="8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(0,200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6027480" y="41911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(1,0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455200" y="419112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(-1,0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4579560" y="23623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(0,1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4588920" y="571500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(0,-1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Units Coerc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inchToPixel  :: Float -&gt; Int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inchToPixel x = round (100*x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pixelToInch  :: Int -&gt; Float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pixelToInch n = intToFloat n / 100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intToFloat   :: Int -&gt; Float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intToFloat  n = fromInteger (toInteger n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990720" y="24379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xWin, yWin :: In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xWin = 60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yWin = 50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xWin2, yWin2 :: In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xWin2 = xWin `div` 2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yWin2 = yWin `div` 2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ans :: Vertex -&gt; Poin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ans (x,y) = ( xWin2 + inchToPixel x,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yWin2 - inchToPixel y 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ranslation Coerc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729400" y="2709720"/>
            <a:ext cx="2181240" cy="22132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781680" y="2286000"/>
            <a:ext cx="1800" cy="297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5410080" y="3809880"/>
            <a:ext cx="304812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6781680" y="3505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Comic Sans MS"/>
              </a:rPr>
              <a:t>(xWin2,yWin2)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7315200" y="4952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Comic Sans MS"/>
              </a:rPr>
              <a:t>(xWin,yWin)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7840800" y="4844880"/>
            <a:ext cx="112680" cy="108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6705720" y="3733920"/>
            <a:ext cx="114120" cy="108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ranslating Point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rans :: Vertex -&gt; Point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rans (x,y) = ( xWin2 + inchToPixel x,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yWin2 - inchToPixel y 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ransList       :: [Vertex] -&gt; [Point]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ransList []     = []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ransList (p:ps) = trans p : transList ps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ranslating Shap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9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shapeToGraphic :: Shape -&gt; Graphic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shapeToGraphic (Rectangle s1 s2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= let s12 = s1/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s22 = s2/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in polygon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(transList [(-s12,-s22),(-s12,s22),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(s12,s22),  (s12,-s22)]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shapeToGraphic (Ellipse r1 r2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= ellipse (trans (-r1,-r2)) (trans (r1,r2)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shapeToGraphic (RtTriangle s1 s2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= polygon (transList [(0,0),(s1,0),(0,s2)]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shapeToGraphic (Polygon pt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= polygon (transList pt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6324480" y="2057400"/>
            <a:ext cx="2590920" cy="1371600"/>
          </a:xfrm>
          <a:prstGeom prst="wedgeRoundRectCallout">
            <a:avLst>
              <a:gd name="adj1" fmla="val -67648"/>
              <a:gd name="adj2" fmla="val 28240"/>
              <a:gd name="adj3" fmla="val 16667"/>
            </a:avLst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Note: first two are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position independent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and centered about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the origin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19T21:15:59Z</cp:lastPrinted>
  <dcterms:modified xsi:type="dcterms:W3CDTF">2004-09-06T12:49:44Z</dcterms:modified>
  <cp:revision>103</cp:revision>
  <dc:subject/>
  <dc:title>Lecture #1,  Sept. 30, 1996</dc:title>
</cp:coreProperties>
</file>