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F4C-61D8-4C30-80F0-7EA81F3D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C45-09AD-47EF-B370-2967E5D1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CCEF-F4EA-4502-814B-A2D6CF1B9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AAC-F624-4E50-B14A-D17A83FE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64E3-CDF5-4AA0-AD93-9312067B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B4CC-D5F8-4CA8-B622-FCCF8F95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5B34-0948-47B0-BFB0-47A195DA0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D0FB-6295-4FD5-A0EA-655A23B0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C840-AAE7-45E3-8C4D-904BFF45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EFB1-DA42-4FF7-9C19-8D36EEEE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9769-33C3-4E50-BDC1-B4302320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6726-08E1-4979-94D8-5B332FF0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B1A9-9B5D-46E3-A852-88FCD11C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E712-B85E-43DF-B774-F28B0B3C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8652-EC50-4827-9BBA-F6AC4E3A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83D3-8E37-49DB-8FD5-95DFA58D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24C9-148D-41B0-AC29-C28E4723F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E4A5-952D-445E-A79D-00C8EE11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B8A-DDF6-47D5-AF95-913A5E34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29A9-ECBD-46C6-A44E-60BBE9EF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F35D-3AA4-4671-A2AA-D624D7AD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BE4E-D360-490C-881F-86DCC852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1B09-F5AF-4B41-A8D3-54033E13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1549-71EA-4C23-9346-C00329D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BC2D-E118-4F5B-88AC-692F7231DA1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6F97-A297-492E-8939-658906C1A93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6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Communicating With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the Outside World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irst-class channel implements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nbounded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queue that can be written to and read from asynchronousl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 &lt;- newCh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riteChan c `a`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riteChan c `b`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. . . 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. . .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a &lt;- readChan 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b &lt;- readChan 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[a,b]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turns the string "ab"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ncurrenc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current processes may be forked off from the main computation by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kIO :: IO () -&gt; IO (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O action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kIO p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ill cause p to run concurrently with the main program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we can create a concurrent version of the client-server program from Chapter 14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[ see next slide ]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ncurrent Client-Serv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3733560"/>
            <a:ext cx="39020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ient :: Chan Int -&gt;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han Int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ient cin cout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writeChan cout 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loop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 &lt;- readChan c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print 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riteChan cout 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76560" y="3733560"/>
            <a:ext cx="3903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rver :: Chan Int -&gt;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Chan Int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rver cin cout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loo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loop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 &lt;- readChan c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riteChan cout (c+1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21337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 ::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 = do c1 &lt;- newChan :: IO (Chan In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c2 &lt;- newChan :: IO (Chan In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forkIO (client c1 c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forkIO (server c2 c1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Chapter 3 we learned how to do basic IO, but it was fairly limit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chapter we investigate advanced IO ideas: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ile handles, channels, exceptions, and concurrenc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deas developed here will be used in the next chapter to write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rendere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FA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deas will continue to be cast in terms of “IO actions” of type “IO a”, and will be sequenced using Haskell’s “do” syntax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mysteries” underlying the type “IO” and Haskell’s “do” syntax will be revealed in Chapter 18.  (Guess what’s underneath it all?  Yes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unctions!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le Handl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 from Chapter 3 the IO action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eFi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FilePath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ppendFi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FilePath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FilePath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tr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functions open a file, write a string, and then close the file.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if many successive writes are needed, the repeated openings and closings can be very inefficien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etter to open a file, and leave it open until don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penFi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FilePath -&gt; IOMode -&gt; IO Hand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Clos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Handle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IOMode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adMode   | WriteMod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AppendMode | ReadWriteMod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le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ce open, many file operations are possible: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PutChar  :: Handle -&gt; Char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PutStr   :: Handle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PutStrLn :: Handle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Print    :: Show a =&gt; Handle -&gt; a -&gt; IO (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GetChar  :: Handle -&gt; IO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GetLine  :: Handle -&gt; IO Str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GetContents :: Handle -&gt;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289548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42670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816240" y="29718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n in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riteMode”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6760080" y="4267080"/>
            <a:ext cx="19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n in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adMode”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andard Channel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in many OS’s, certain kinds of IO are treated like files.  In Haskell these are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hannels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include standard input (stdin), standard output (stdout), and standard error (stderr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eed, these two functions are pre-defined in the Prelude:</a:t>
            </a:r>
            <a:br>
              <a:rPr sz="24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 :: IO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 = hGetChar stdin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Char  ::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Char  = hPutChar stdou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cep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re are many ways that an IO action might fail, and we need a way to detect and recover from such failur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Haskell, IO failures are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xceptions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they can be “caught” b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catch 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:: IO a -&gt; (IOError -&gt; IO a) -&gt; IO a</a:t>
            </a:r>
            <a:br>
              <a:rPr sz="2400"/>
            </a:b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'  :: IO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'  = catch getChar (\e -&gt; return '\n'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ispatching on IOErro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oError is an abstract type with predicates such a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EOFError :: IOError -&gt;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DoesNotExistError   :: IOError -&gt; Bool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d a “throw” operation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oError :: IOError -&gt; IO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“more refined” getChar can then be define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' :: IO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'  = catch getChar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\e -&gt; if isEOFError e then return '\n‘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else ioError e   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how ioError “throws” the error to an outer dynamic scop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See text for example of “nested” exceptions.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br>
              <a:rPr sz="4400"/>
            </a:b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(copying a file)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getAndOpenFile :: String -&gt; IOMode -&gt; IO Handl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getAndOpenFile prompt mode =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do 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putStr prompt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name &lt;- getLin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atch 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do handle &lt;- openFile name mod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return handle                         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\error -&gt; do putStrLn ("Cannot open " ++ nam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  print error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  getAndOpenFile prompt mode      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 ::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fromHandle &lt;- getAndOpenFile "Copy from: " ReadMod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toHandle    &lt;- getAndOpenFile "Copy to: " WriteMod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contents    &lt;- hGetContents fromHand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hPutStr toHandle content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hClose fromHand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hClose toHand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putStrLn "Done."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rst-Class Channel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rst-class channels” are different from the “standard channels” described earlier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y are a mechanism through which Haskell “processes” can communicate asynchronousl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irst-class channel containing values of type “a” has type “Chan a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key operations ar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Cha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O (Chan 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eCha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han a -&gt; a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dCha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han a -&gt; IO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nContent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han a -&gt; IO [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EmptyCha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han a -&gt; IO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22T13:54:02Z</dcterms:modified>
  <cp:revision>230</cp:revision>
  <dc:subject/>
  <dc:title>Lecture #1,  Sept. 30, 1996</dc:title>
</cp:coreProperties>
</file>