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445A-8659-436A-AFDC-BCF7E304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864-80AA-4AD4-A58E-6CDACDC0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FDC-D142-460F-8CF3-3741477E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CAF-2851-4C43-86E7-58260369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9997-D138-4C2A-BCF1-60921AE90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A00D8-ED11-4399-AAB7-B3E3E1D7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15FD-193C-4AEC-89F4-915F747C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EDEF-419E-479A-A154-4560D207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DEDF-AEEB-44AC-8719-0CD390DA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57EAA-F305-4C3D-95BB-2177376B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1487-6B69-475F-B914-B652F451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9D2-90A0-48CE-8522-EB9AD5A9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720D-7966-451F-8643-9BF0DBE1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6C2-9B76-4CD0-859F-89ADD5E6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D353-5674-43AA-A62A-599CB4CB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7135-79BC-4971-B904-D4D870FD0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4F3B-5228-45B3-8743-CA9E90F6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1894-A2D2-4AB2-BB5F-56250B23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4E3C-8987-4CCE-A3D8-7F9DA02C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0674-CDF3-4881-9822-BE20E64D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8A2-78C2-47F5-B92C-FBB3A26B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4C8-A258-49BC-BEC8-B874DAFD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0FB-D433-47FA-AF13-4B8F7EDE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F65F-A994-4EBC-B9A2-F82A1927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7833-5FBA-40EA-BADB-4C6B2C54B97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CA0-0F9C-478A-BAC6-397C67B48AC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0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Functional Music Composi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vely apply f (to elements in a sequence) and g (to accumulated phrases) n time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(Music -&gt; Music) -&gt; (Music -&gt; Music)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t -&gt; Music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 f g 0 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st 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 f g n 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 :=: g (rep f g (n-1) (f m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p (Trans 5) (delay tn) 8 (c 4 t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cad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p (Trans 4) (delay en) 8 ru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cad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p  id (delay sn) 2 cascad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aterfal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ascades :+: revM cascad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6201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6201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620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500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50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49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cus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m the Midi Standard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PercussionSound = AcousticBassDru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MIDI Key 35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BassDrum1 | SideStick | AcousticSna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  . . .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uteCuica | OpenCuica | MuteTriang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OpenTriang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MIDI Key 8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Eq,Ord,Ix,Enum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must be mapped to Music values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c :: PercussionSound -&gt; Dur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c ps = Note (pitch (fromEnum ps + 35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“funky” rhythm: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kGroove = let p1 = perc LowTom q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p2 = perc AcousticSnare 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empo 3 (Instr Percussion (cut 8 (repeat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((p1 :+: qnr :+: p2 :+: qnr :+: p2 :+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p1 :+: p1 :+: qnr :+: p2 :+: enr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:=: roll en (perc ClosedHiHat 2) ) )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7724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666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Examp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[ see text for examples of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trills and roll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truncating” parallel composition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self-similar” (fractal) music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MDL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Music Description Languag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DL is a DSL for computer music composition that is even simpler than FAL and IR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begins with primitive pitche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= (PitchClass, Octave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PitchClas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= Cf | C | Cs | Df | D | Ds | E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| E | Es | Ff | F | Fs | Gf | 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| Gs | Af | A | As | Bf | B | B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Eq,Show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Octave     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(Fs, 5) is an F-sharp in the fifth octave.  By convention, (A, 4) denotes “A440”, the A above middle C whose frequency is 440 Hz.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Music 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usic data type captures the essence of MDL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usic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e Pitch Du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a no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Rest Du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a re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usic :+: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sequential com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usic :=: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parallel com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Tempo Dur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empo scal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Trans  Int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rans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Instr  IName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instrument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Dur   = Ratio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atio” (from module Ratio) is Haskell’s type for rational numbers, whose main operation i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%) :: (Integral a) =&gt; a -&gt; a -&gt; Ratio 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strum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ame is a data type of instrument names borrowed from Midi:</a:t>
            </a:r>
            <a:br>
              <a:rPr sz="2400"/>
            </a:br>
            <a:br>
              <a:rPr sz="16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INa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AcousticGrandPiano | BrightAcousticPian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ElectricGrandPiano | HonkyTonkPiano | RhodesPian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ChorusedPiano | Harpsichord | Clavinet | Celest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Glockenspiel | MusicBox | Vibraphone | Marimb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Xylophone | TubularBells | Dulcimer | HammondOrg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PercussiveOrgan | RockOrgan | ChurchOrgan | ReedOrg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Accordion | Harmonica | TangoAccord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AcousticGuitarNylon | AcousticGuitarStee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ElectricGuitarJazz | ElectricGuitarCle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ElectricGuitarMuted | OverdrivenGuit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DistortionGuitar | GuitarHarmonics | AcousticBas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. . 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olute Pitch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Abs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Pitch -&gt; AbsPitch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Pitch (pc,oct) = 12*oct + pcToInt p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bsPitch -&gt; Pitch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tch a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( [C,Cs,D,Ds,E,F,Fs,G,Gs,A,As,B] !! mod ap 12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quot ap 12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cTo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PitchClass -&gt;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cToInt pc = case pc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f -&gt; -1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 -&gt; 0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s -&gt; 1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f -&gt; 1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 -&gt; 2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s -&gt; 3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Ef -&gt; 3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 -&gt; 4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s -&gt; 5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f -&gt; 4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-&gt; 5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s -&gt; 6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f -&gt; 6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 -&gt; 7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s -&gt; 8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f -&gt; 8; A  -&gt; 9;  As -&gt; 10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Bf -&gt; 10; B  -&gt; 11; Bs -&gt; 1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 -&gt; Pitch -&gt; Pitch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i 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pitch (absPitch p + i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onvenient Note and Rest Nam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05704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f, c, cs, df, d, ds, ef, e, es, ff, f, fs, gf, g, gs, af, a, as, bf, b, b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Octave -&gt; Dur -&gt; Mus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f o = Note (Cf,o);   c o = Note (C,o);  cs o = Note (Cs,o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f o = Note (Df,o);  d o = Note (D,o);  ds o = Note (Ds,o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n,  hn,  qn,  en,  sn,  tn, dhn, dqn, den, ds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u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nr, hnr, qnr, enr, snr, tnr, dhnr, dqnr, denr, dsn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us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n  = 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wnr  = Rest w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whol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n  = 1%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hnr  = Rest h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hal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n  = 1%4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qnr  = Rest q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quart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hn = 3%4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dhnr = Rest dh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otted hal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qn = 3%8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dqnr = Rest dq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otted quart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Lines, Chords, Repetition,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nd Delay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nes and chords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ne, chor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[Music]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n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oldr (:+:) (Rest 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hor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oldr (:=:) (Rest 0)</a:t>
            </a:r>
            <a:br>
              <a:rPr sz="20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C major arpeggio and chor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Maj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 n 4 qn | n &lt;- [c, e, g] ]</a:t>
            </a:r>
            <a:br>
              <a:rPr sz="20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MajAr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ne cMaj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MajCh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hord cMaj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petition and dela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eatM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usic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eatM m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 :+: repeatM m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elay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:: Dur -&gt; Music -&gt; Music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elay d m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= Rest d :+: 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u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sometimes useful to comput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ura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a Music value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:: Music -&gt; Dur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Note _ d)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Rest d)     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m1 :+: m2)  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1     +     dur m2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m1 :=: m2)  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1 `max` dur m2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Tempo  a  m)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 / a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Trans  _  m)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Instr  _  m)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trograd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ing dur we can comput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trograd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i.e. reverse) of a Music valu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:: Music -&gt; Musi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n@(Note _ _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r@(Rest _)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Tempo a m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empo a (revM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Trans i m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rans i (revM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Instr i m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str i (revM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m1 :+: m2)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vM m2 :+: revM m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m1 :=: m2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d1 = dur m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2 = dur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if d1&gt;d2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then revM m1 :=: (Rest (d1-d2) :+: revM m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else (Rest (d2-d1) :+: revM m1) :=: revM m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5T04:06:17Z</dcterms:modified>
  <cp:revision>290</cp:revision>
  <dc:subject/>
  <dc:title>Lecture #1,  Sept. 30, 1996</dc:title>
</cp:coreProperties>
</file>