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B1E-40BF-45F4-8BF1-C4D5FAE2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C428-A1F9-4ED4-B44B-A05889EB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634-224F-4DF4-8EDD-F2E43AB7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50FB-26AB-4137-B94B-5F0509793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5F5-4D43-4A41-B172-83A4276C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8714-0CE5-433F-8DAC-6505ECF2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59A9-6AC5-4A39-8380-5661577E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A2C-17C7-454C-9B28-E827B47A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66FE-1940-4E8D-9124-7BB1F136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174-ADAE-4493-A478-72B85682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246C-4F07-4D88-B098-B6A51DB7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7754-7C04-47BC-8E31-D240127C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9629-DD58-4209-A686-E3F40C0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D067-36A1-4C9C-B731-076F7495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CA0-B073-4BC1-83C7-93CAD680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7C926-A7BF-4F0B-99BC-437458C5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B404-F9A2-456F-AE0A-55FF6064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98E1-748D-4402-AC59-5F0B67D1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BE4-DDAF-44CC-A729-31AF7AD4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21CD-57D5-408E-A8E9-2386A785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3D0D-ADFC-4FCC-BA3B-660A7A7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90D-AE1B-4DC5-99EA-7C9758BA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CDF-4E75-48F4-A904-A3B4AACB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DC80-18C9-46F6-A91B-C74C30DB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18FE-5F8B-4790-9B68-955A33B1EFE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072A-D2F2-471C-BC87-6C69A282A54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1 = (C 10 :+ (C 8 :/ C 2)) :* (C 7 :- C 4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          :: Expr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C x)      =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+ e2) = evaluate e1 +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- e2) = evaluate e1 -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* e2) = evaluate e1 *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/ e2) = evaluate e1 /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&gt; evaluate e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2.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ees are important data structures in computer scienc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ees have interesting properti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usually are finite, but unbounded in siz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sometimes contain other types with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are often polymorph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may have differing “branching factors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may have different kinds of leaf and branching nod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ts of interesting things can be modeled as tre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sts  (linear branching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ithmetic expressions (see tex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rse trees (for language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a lazy language it is possible to have infinite tre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List a         = Ni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MkList a (List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ree a         = Leaf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Branch (Tree a) (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IntegerTree    = IntLeaf Intege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IntBranch IntegerTree Integer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SimpleTree     = SLeaf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Branch SimpleTree Simple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InternalTree a = ILeaf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IBranch a (InternalTree a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Internal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FancyTree a b  = FLeaf a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FBranch b (FancyTree a 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FancyTree a 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atch up the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ger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Tre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nalTre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ancyTree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723200" y="2438280"/>
            <a:ext cx="1905840" cy="497160"/>
            <a:chOff x="4723200" y="2438280"/>
            <a:chExt cx="1905840" cy="497160"/>
          </a:xfrm>
        </p:grpSpPr>
        <p:sp>
          <p:nvSpPr>
            <p:cNvPr id="299" name=""/>
            <p:cNvSpPr/>
            <p:nvPr/>
          </p:nvSpPr>
          <p:spPr>
            <a:xfrm>
              <a:off x="4876560" y="2438280"/>
              <a:ext cx="0" cy="2001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2438280"/>
              <a:ext cx="8380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2438280"/>
              <a:ext cx="0" cy="2001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7280" y="2438280"/>
              <a:ext cx="5331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00440" y="2438280"/>
              <a:ext cx="228600" cy="7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3200" y="2598120"/>
              <a:ext cx="39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8680" y="259812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238880" y="2362320"/>
            <a:ext cx="1371600" cy="1600200"/>
            <a:chOff x="7238880" y="2362320"/>
            <a:chExt cx="1371600" cy="1600200"/>
          </a:xfrm>
        </p:grpSpPr>
        <p:sp>
          <p:nvSpPr>
            <p:cNvPr id="307" name=""/>
            <p:cNvSpPr/>
            <p:nvPr/>
          </p:nvSpPr>
          <p:spPr>
            <a:xfrm flipH="1">
              <a:off x="7315200" y="236232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6080" y="236232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924320" y="312444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29600" y="312444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3048120"/>
              <a:ext cx="2286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48360" y="358164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1880" y="358164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62920" y="4800600"/>
            <a:ext cx="1371600" cy="1600200"/>
            <a:chOff x="7162920" y="4800600"/>
            <a:chExt cx="1371600" cy="1600200"/>
          </a:xfrm>
        </p:grpSpPr>
        <p:sp>
          <p:nvSpPr>
            <p:cNvPr id="315" name=""/>
            <p:cNvSpPr/>
            <p:nvPr/>
          </p:nvSpPr>
          <p:spPr>
            <a:xfrm flipH="1">
              <a:off x="7239240" y="480060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480060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848360" y="55627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53640" y="556272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62920" y="5486400"/>
              <a:ext cx="2286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601992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05920" y="601992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9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638680" y="3429000"/>
            <a:ext cx="1219320" cy="1219320"/>
            <a:chOff x="5638680" y="3429000"/>
            <a:chExt cx="1219320" cy="1219320"/>
          </a:xfrm>
        </p:grpSpPr>
        <p:sp>
          <p:nvSpPr>
            <p:cNvPr id="323" name=""/>
            <p:cNvSpPr/>
            <p:nvPr/>
          </p:nvSpPr>
          <p:spPr>
            <a:xfrm flipH="1">
              <a:off x="5638680" y="342900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9560" y="342900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247800" y="41911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41911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48320" y="4952880"/>
            <a:ext cx="1218600" cy="1295280"/>
            <a:chOff x="4648320" y="4952880"/>
            <a:chExt cx="1218600" cy="1295280"/>
          </a:xfrm>
        </p:grpSpPr>
        <p:sp>
          <p:nvSpPr>
            <p:cNvPr id="328" name=""/>
            <p:cNvSpPr/>
            <p:nvPr/>
          </p:nvSpPr>
          <p:spPr>
            <a:xfrm flipH="1">
              <a:off x="4648320" y="5029200"/>
              <a:ext cx="38088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029200"/>
              <a:ext cx="53280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257440" y="5790960"/>
              <a:ext cx="30420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360" y="579096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560" y="495288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0080" y="556236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124080" y="2819520"/>
            <a:ext cx="1523880" cy="1523520"/>
            <a:chOff x="3124080" y="2819520"/>
            <a:chExt cx="1523880" cy="1523520"/>
          </a:xfrm>
        </p:grpSpPr>
        <p:sp>
          <p:nvSpPr>
            <p:cNvPr id="335" name=""/>
            <p:cNvSpPr/>
            <p:nvPr/>
          </p:nvSpPr>
          <p:spPr>
            <a:xfrm flipH="1">
              <a:off x="3276360" y="2895480"/>
              <a:ext cx="38088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7240" y="2895480"/>
              <a:ext cx="53352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885480" y="3657600"/>
              <a:ext cx="304920" cy="456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90760" y="3657600"/>
              <a:ext cx="304920" cy="456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04960" y="281952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3429000"/>
              <a:ext cx="3045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3581280"/>
              <a:ext cx="3045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560" y="411480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040" y="411480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s on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forming one kind of tree into anoth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:: (a-&gt;b) -&gt; Tree a -&gt; Tree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(Leaf x)       = Leaf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(Branch t1 t2) = Branch (mapTree f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mapTree f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lecting the items in a tre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              :: Tree a -&gt; [a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(Leaf x)       =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(Branch t1 t2) = fringe t1 ++ fring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kind of information is lost using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Functions on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              :: Tree a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(Leaf x)       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(Branch t1 t2) = treeSize t1 + treeSiz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              :: Tree a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(Leaf x)       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(Branch t1 t2) = 1 + max (treeHeight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reeHeight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pture the Patter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f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81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ny of our functions on trees have similar structure.  Can we apply the abstraction principle?  Yes we ca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:: (a -&gt; a -&gt; a) -&gt; (b -&gt; a) -&gt; Tree b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combine leafFn (Leaf x) = leafFn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combine leafFn (Branch t1 t2)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mbine (foldTree combine leafFn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foldTree combine leafFn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foldTre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800000"/>
                </a:solidFill>
                <a:latin typeface="Courier New"/>
              </a:rPr>
              <a:t>foldTree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we can redefine the previous functions as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 = foldTree Branch 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= Leaf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    = foldTree (++) 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=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  = foldTree (+) (const 1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= foldTree fun (const 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y = 1 + max x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ithmetic Express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Expr = C Floa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Add Expr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ub Expr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Mul Expr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Div Expr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, using infix constructor nam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3" marL="1428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Expr = C Floa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+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-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*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/ Expr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3886200"/>
            <a:ext cx="3429000" cy="1676520"/>
          </a:xfrm>
          <a:prstGeom prst="wedgeRoundRectCallout">
            <a:avLst>
              <a:gd name="adj1" fmla="val -72638"/>
              <a:gd name="adj2" fmla="val 29638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fix constructors begin with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 colon (:) , whereas ordinary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structor functions begin with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n upper-case character.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3:56:38Z</dcterms:created>
  <dc:creator>Tim Sheard</dc:creator>
  <dc:description/>
  <dc:language>en-US</dc:language>
  <cp:lastModifiedBy>Paul Hudak</cp:lastModifiedBy>
  <cp:lastPrinted>1999-02-09T16:10:38Z</cp:lastPrinted>
  <dcterms:modified xsi:type="dcterms:W3CDTF">2004-09-15T15:28:45Z</dcterms:modified>
  <cp:revision>84</cp:revision>
  <dc:subject/>
  <dc:title>Lecture #9,  Feb. 10,  1999</dc:title>
</cp:coreProperties>
</file>