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ACF-F298-49C3-B024-E36DC456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BFC-69F1-4C8B-9147-FC3BAEF5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BA4-1E26-48B2-8485-ADBDB646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602-E854-4A94-ABC8-77CEEE7E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C8E3-39D9-44F8-B2E0-D720828E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8A6D-7F5F-4188-93AF-2513D67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D64D-B560-44FA-9719-A3405C2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7955-7CE5-4FFE-80C4-B0AB4C66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9093-C41B-4437-9253-76BDC22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5431-38CE-40B6-951A-1EA30F2E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00E3-34AD-46FE-8923-1BE184A0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C2B-C030-4A83-8B12-C681E4F2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40F7-CEB5-4B95-9850-D76C45B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A2F-7EED-49D3-B3F0-2141256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ADCC-15C1-4935-BA23-4CE8D58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3F5E-6A7A-4D88-8DCE-B6540D2B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D06C-7E89-44F1-9C31-45EE438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0B9-C72C-46A4-A59A-BF68EBD6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139-3649-43CB-BAF5-29C2517F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193E-9266-4DD3-A7C9-3EF09B5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810-237E-4AC9-9810-15B99949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8C7-E547-45AC-8F21-32ACDF1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564F-EB18-4E25-A1FE-0C99C73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C04-2300-468A-A771-2F6DE7D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78C-E3EE-41B3-819D-F6964789FC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Picture 23" descr="Logo1"/>
          <p:cNvPicPr/>
          <p:nvPr/>
        </p:nvPicPr>
        <p:blipFill>
          <a:blip r:embed="rId2"/>
          <a:srcRect l="73278" t="0" r="0" b="0"/>
          <a:stretch/>
        </p:blipFill>
        <p:spPr>
          <a:xfrm>
            <a:off x="34920" y="44280"/>
            <a:ext cx="865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69" name="Picture 23" descr="Logo1"/>
          <p:cNvPicPr/>
          <p:nvPr/>
        </p:nvPicPr>
        <p:blipFill>
          <a:blip r:embed="rId2"/>
          <a:stretch/>
        </p:blipFill>
        <p:spPr>
          <a:xfrm>
            <a:off x="2195640" y="93600"/>
            <a:ext cx="4716360" cy="167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494C-92EC-45D7-9B10-22F19EF817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tik.ru/~abram/haskell/" TargetMode="External"/><Relationship Id="rId2" Type="http://schemas.openxmlformats.org/officeDocument/2006/relationships/hyperlink" Target="mailto:abram@botik.ru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первый язык программирования»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Часть 1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рменова Л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Юмагуж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. 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УГП им. А.К.Айламазяна, Переславль-Залесск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уть функционального программиров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а = совокупность определений (функц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олнение программы = вычисление выра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ы будем использовать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ди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з языков ФП —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Haske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для изучения Ф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539640" y="3716280"/>
            <a:ext cx="82090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276640"/>
            <a:ext cx="8317080" cy="23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1. Функциональная парадигма в программировани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ервые пример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quare :: Integer -&gt; Integer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quare x = x * x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maller :: (Integer, Integer) -&gt; Integer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smaller (x, y) = if x &lt; y then x else 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айл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yprog.h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уск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U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ражнения на самостоятельно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написание функций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ычисление как преобразование выраже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ion, Simplification, Re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 (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3 + 4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quare (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7*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ноническая (нормальная) фо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ная последовательность редукци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squar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3 + 4) =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3 + 4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*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3 + 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7 *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3 + 4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Tahoma"/>
              </a:rPr>
              <a:t>7*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ноническая (нормальная) фо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войство «Черча—Россера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два порядка редукции приводят выражение к некоторым значениям (к некоторым величинам), то эти значения рав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Цепочка редукций может быть бесконечной (пример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которые пути упрощения за конечное число шагов приводят к значению-результату (к одному и тому же), другие— не заканчиваю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лайте ставки! —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Делайте ставки!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ree infinity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шансов (вариантов цепочки редукций), что вычисление выражен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infinit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т конечной дли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лько шансов (вариантов цепочки редукций), что вычисление выражен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infinity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будет бесконечной длин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се варианты редукции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ree infinity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AutoShape 12"/>
          <p:cNvSpPr/>
          <p:nvPr/>
        </p:nvSpPr>
        <p:spPr>
          <a:xfrm>
            <a:off x="1403280" y="5300640"/>
            <a:ext cx="6985080" cy="57636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1 + (1 + (1 + (1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13"/>
          <p:cNvSpPr/>
          <p:nvPr/>
        </p:nvSpPr>
        <p:spPr>
          <a:xfrm>
            <a:off x="1403280" y="4292640"/>
            <a:ext cx="6985080" cy="57636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1 + (1 + (1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1403280" y="3284640"/>
            <a:ext cx="6985080" cy="57600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1 + (1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AutoShape 15"/>
          <p:cNvSpPr/>
          <p:nvPr/>
        </p:nvSpPr>
        <p:spPr>
          <a:xfrm>
            <a:off x="1403280" y="2276640"/>
            <a:ext cx="6985080" cy="57600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1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16"/>
          <p:cNvSpPr/>
          <p:nvPr/>
        </p:nvSpPr>
        <p:spPr>
          <a:xfrm>
            <a:off x="1403280" y="1268280"/>
            <a:ext cx="6985080" cy="576360"/>
          </a:xfrm>
          <a:prstGeom prst="roundRect">
            <a:avLst>
              <a:gd name="adj" fmla="val 16667"/>
            </a:avLst>
          </a:pr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 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179280" y="227664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" name="Group 30"/>
          <p:cNvGrpSpPr/>
          <p:nvPr/>
        </p:nvGrpSpPr>
        <p:grpSpPr>
          <a:xfrm>
            <a:off x="395280" y="1773360"/>
            <a:ext cx="2087280" cy="503280"/>
            <a:chOff x="395280" y="1773360"/>
            <a:chExt cx="2087280" cy="503280"/>
          </a:xfrm>
        </p:grpSpPr>
        <p:sp>
          <p:nvSpPr>
            <p:cNvPr id="167" name="Line 20"/>
            <p:cNvSpPr/>
            <p:nvPr/>
          </p:nvSpPr>
          <p:spPr>
            <a:xfrm flipH="1">
              <a:off x="395280" y="1773360"/>
              <a:ext cx="107928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21"/>
            <p:cNvSpPr/>
            <p:nvPr/>
          </p:nvSpPr>
          <p:spPr>
            <a:xfrm flipH="1">
              <a:off x="1474200" y="1773360"/>
              <a:ext cx="1008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" name="Group 24"/>
          <p:cNvGrpSpPr/>
          <p:nvPr/>
        </p:nvGrpSpPr>
        <p:grpSpPr>
          <a:xfrm>
            <a:off x="2626920" y="1773360"/>
            <a:ext cx="1152360" cy="503280"/>
            <a:chOff x="2626920" y="1773360"/>
            <a:chExt cx="1152360" cy="503280"/>
          </a:xfrm>
        </p:grpSpPr>
        <p:sp>
          <p:nvSpPr>
            <p:cNvPr id="170" name="Line 22"/>
            <p:cNvSpPr/>
            <p:nvPr/>
          </p:nvSpPr>
          <p:spPr>
            <a:xfrm flipH="1">
              <a:off x="2626920" y="1773360"/>
              <a:ext cx="1152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Line 23"/>
            <p:cNvSpPr/>
            <p:nvPr/>
          </p:nvSpPr>
          <p:spPr>
            <a:xfrm>
              <a:off x="3120840" y="1773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" name="AutoShape 26"/>
          <p:cNvSpPr/>
          <p:nvPr/>
        </p:nvSpPr>
        <p:spPr>
          <a:xfrm>
            <a:off x="179280" y="3284640"/>
            <a:ext cx="505080" cy="57600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000"/>
              <a:gd name="textAreaBottom" fmla="*/ 551520 h 576000"/>
            </a:gdLst>
            <a:ahLst/>
            <a:rect l="textAreaLeft" t="textAreaTop" r="textAreaRight" b="textAreaBottom"/>
            <a:pathLst>
              <a:path w="21600" h="24631">
                <a:moveTo>
                  <a:pt x="3600" y="0"/>
                </a:moveTo>
                <a:arcTo wR="3600" hR="3600" stAng="16200000" swAng="-5400000"/>
                <a:lnTo>
                  <a:pt x="0" y="21031"/>
                </a:lnTo>
                <a:arcTo wR="3600" hR="3600" stAng="10800000" swAng="-5400000"/>
                <a:lnTo>
                  <a:pt x="18000" y="24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31"/>
          <p:cNvGrpSpPr/>
          <p:nvPr/>
        </p:nvGrpSpPr>
        <p:grpSpPr>
          <a:xfrm>
            <a:off x="395280" y="2781360"/>
            <a:ext cx="2087280" cy="503280"/>
            <a:chOff x="395280" y="2781360"/>
            <a:chExt cx="2087280" cy="503280"/>
          </a:xfrm>
        </p:grpSpPr>
        <p:sp>
          <p:nvSpPr>
            <p:cNvPr id="174" name="Line 32"/>
            <p:cNvSpPr/>
            <p:nvPr/>
          </p:nvSpPr>
          <p:spPr>
            <a:xfrm flipH="1">
              <a:off x="395280" y="2781360"/>
              <a:ext cx="107928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33"/>
            <p:cNvSpPr/>
            <p:nvPr/>
          </p:nvSpPr>
          <p:spPr>
            <a:xfrm flipH="1">
              <a:off x="1474200" y="2781360"/>
              <a:ext cx="1008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" name="Group 34"/>
          <p:cNvGrpSpPr/>
          <p:nvPr/>
        </p:nvGrpSpPr>
        <p:grpSpPr>
          <a:xfrm>
            <a:off x="323640" y="3789360"/>
            <a:ext cx="2087280" cy="503280"/>
            <a:chOff x="323640" y="3789360"/>
            <a:chExt cx="2087280" cy="503280"/>
          </a:xfrm>
        </p:grpSpPr>
        <p:sp>
          <p:nvSpPr>
            <p:cNvPr id="177" name="Line 35"/>
            <p:cNvSpPr/>
            <p:nvPr/>
          </p:nvSpPr>
          <p:spPr>
            <a:xfrm flipH="1">
              <a:off x="323640" y="3789360"/>
              <a:ext cx="107892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Line 36"/>
            <p:cNvSpPr/>
            <p:nvPr/>
          </p:nvSpPr>
          <p:spPr>
            <a:xfrm flipH="1">
              <a:off x="1402920" y="3789360"/>
              <a:ext cx="10080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AutoShape 37"/>
          <p:cNvSpPr/>
          <p:nvPr/>
        </p:nvSpPr>
        <p:spPr>
          <a:xfrm>
            <a:off x="179280" y="4292640"/>
            <a:ext cx="505080" cy="57636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360"/>
              <a:gd name="textAreaBottom" fmla="*/ 551880 h 576360"/>
            </a:gdLst>
            <a:ahLst/>
            <a:rect l="textAreaLeft" t="textAreaTop" r="textAreaRight" b="textAreaBottom"/>
            <a:pathLst>
              <a:path w="21600" h="24646">
                <a:moveTo>
                  <a:pt x="3600" y="0"/>
                </a:moveTo>
                <a:arcTo wR="3600" hR="3600" stAng="16200000" swAng="-5400000"/>
                <a:lnTo>
                  <a:pt x="0" y="21046"/>
                </a:lnTo>
                <a:arcTo wR="3600" hR="3600" stAng="10800000" swAng="-5400000"/>
                <a:lnTo>
                  <a:pt x="18000" y="24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38"/>
          <p:cNvSpPr/>
          <p:nvPr/>
        </p:nvSpPr>
        <p:spPr>
          <a:xfrm>
            <a:off x="179280" y="5300640"/>
            <a:ext cx="505080" cy="57636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360"/>
              <a:gd name="textAreaBottom" fmla="*/ 551880 h 576360"/>
            </a:gdLst>
            <a:ahLst/>
            <a:rect l="textAreaLeft" t="textAreaTop" r="textAreaRight" b="textAreaBottom"/>
            <a:pathLst>
              <a:path w="21600" h="24646">
                <a:moveTo>
                  <a:pt x="3600" y="0"/>
                </a:moveTo>
                <a:arcTo wR="3600" hR="3600" stAng="16200000" swAng="-5400000"/>
                <a:lnTo>
                  <a:pt x="0" y="21046"/>
                </a:lnTo>
                <a:arcTo wR="3600" hR="3600" stAng="10800000" swAng="-5400000"/>
                <a:lnTo>
                  <a:pt x="18000" y="24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39"/>
          <p:cNvGrpSpPr/>
          <p:nvPr/>
        </p:nvGrpSpPr>
        <p:grpSpPr>
          <a:xfrm>
            <a:off x="395280" y="4797360"/>
            <a:ext cx="2087280" cy="503280"/>
            <a:chOff x="395280" y="4797360"/>
            <a:chExt cx="2087280" cy="503280"/>
          </a:xfrm>
        </p:grpSpPr>
        <p:sp>
          <p:nvSpPr>
            <p:cNvPr id="182" name="Line 40"/>
            <p:cNvSpPr/>
            <p:nvPr/>
          </p:nvSpPr>
          <p:spPr>
            <a:xfrm flipH="1">
              <a:off x="395280" y="4797360"/>
              <a:ext cx="107928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41"/>
            <p:cNvSpPr/>
            <p:nvPr/>
          </p:nvSpPr>
          <p:spPr>
            <a:xfrm flipH="1">
              <a:off x="1474200" y="4797360"/>
              <a:ext cx="1008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" name="Group 42"/>
          <p:cNvGrpSpPr/>
          <p:nvPr/>
        </p:nvGrpSpPr>
        <p:grpSpPr>
          <a:xfrm>
            <a:off x="3564000" y="2781360"/>
            <a:ext cx="1152000" cy="503280"/>
            <a:chOff x="3564000" y="2781360"/>
            <a:chExt cx="1152000" cy="503280"/>
          </a:xfrm>
        </p:grpSpPr>
        <p:sp>
          <p:nvSpPr>
            <p:cNvPr id="185" name="Line 43"/>
            <p:cNvSpPr/>
            <p:nvPr/>
          </p:nvSpPr>
          <p:spPr>
            <a:xfrm flipH="1">
              <a:off x="3564000" y="2781360"/>
              <a:ext cx="11520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Line 44"/>
            <p:cNvSpPr/>
            <p:nvPr/>
          </p:nvSpPr>
          <p:spPr>
            <a:xfrm>
              <a:off x="4057200" y="2781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Group 45"/>
          <p:cNvGrpSpPr/>
          <p:nvPr/>
        </p:nvGrpSpPr>
        <p:grpSpPr>
          <a:xfrm>
            <a:off x="4500720" y="3789360"/>
            <a:ext cx="1152000" cy="503280"/>
            <a:chOff x="4500720" y="3789360"/>
            <a:chExt cx="1152000" cy="503280"/>
          </a:xfrm>
        </p:grpSpPr>
        <p:sp>
          <p:nvSpPr>
            <p:cNvPr id="188" name="Line 46"/>
            <p:cNvSpPr/>
            <p:nvPr/>
          </p:nvSpPr>
          <p:spPr>
            <a:xfrm flipH="1">
              <a:off x="4500720" y="3789360"/>
              <a:ext cx="11520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47"/>
            <p:cNvSpPr/>
            <p:nvPr/>
          </p:nvSpPr>
          <p:spPr>
            <a:xfrm>
              <a:off x="4993920" y="3789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" name="Group 48"/>
          <p:cNvGrpSpPr/>
          <p:nvPr/>
        </p:nvGrpSpPr>
        <p:grpSpPr>
          <a:xfrm>
            <a:off x="5363640" y="4797360"/>
            <a:ext cx="1152360" cy="503280"/>
            <a:chOff x="5363640" y="4797360"/>
            <a:chExt cx="1152360" cy="503280"/>
          </a:xfrm>
        </p:grpSpPr>
        <p:sp>
          <p:nvSpPr>
            <p:cNvPr id="191" name="Line 49"/>
            <p:cNvSpPr/>
            <p:nvPr/>
          </p:nvSpPr>
          <p:spPr>
            <a:xfrm flipH="1">
              <a:off x="5363640" y="4797360"/>
              <a:ext cx="1152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50"/>
            <p:cNvSpPr/>
            <p:nvPr/>
          </p:nvSpPr>
          <p:spPr>
            <a:xfrm>
              <a:off x="5857560" y="4797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Group 51"/>
          <p:cNvGrpSpPr/>
          <p:nvPr/>
        </p:nvGrpSpPr>
        <p:grpSpPr>
          <a:xfrm>
            <a:off x="6300360" y="5805360"/>
            <a:ext cx="1152360" cy="503280"/>
            <a:chOff x="6300360" y="5805360"/>
            <a:chExt cx="1152360" cy="503280"/>
          </a:xfrm>
        </p:grpSpPr>
        <p:sp>
          <p:nvSpPr>
            <p:cNvPr id="194" name="Line 52"/>
            <p:cNvSpPr/>
            <p:nvPr/>
          </p:nvSpPr>
          <p:spPr>
            <a:xfrm flipH="1">
              <a:off x="6300360" y="5805360"/>
              <a:ext cx="1152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53"/>
            <p:cNvSpPr/>
            <p:nvPr/>
          </p:nvSpPr>
          <p:spPr>
            <a:xfrm>
              <a:off x="6794280" y="5805360"/>
              <a:ext cx="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" name="AutoShape 54"/>
          <p:cNvSpPr/>
          <p:nvPr/>
        </p:nvSpPr>
        <p:spPr>
          <a:xfrm>
            <a:off x="179280" y="6308640"/>
            <a:ext cx="505080" cy="57636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576360"/>
              <a:gd name="textAreaBottom" fmla="*/ 551880 h 576360"/>
            </a:gdLst>
            <a:ahLst/>
            <a:rect l="textAreaLeft" t="textAreaTop" r="textAreaRight" b="textAreaBottom"/>
            <a:pathLst>
              <a:path w="21600" h="24646">
                <a:moveTo>
                  <a:pt x="3600" y="0"/>
                </a:moveTo>
                <a:arcTo wR="3600" hR="3600" stAng="16200000" swAng="-5400000"/>
                <a:lnTo>
                  <a:pt x="0" y="21046"/>
                </a:lnTo>
                <a:arcTo wR="3600" hR="3600" stAng="10800000" swAng="-5400000"/>
                <a:lnTo>
                  <a:pt x="18000" y="246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fde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Group 55"/>
          <p:cNvGrpSpPr/>
          <p:nvPr/>
        </p:nvGrpSpPr>
        <p:grpSpPr>
          <a:xfrm>
            <a:off x="395280" y="5805360"/>
            <a:ext cx="2087280" cy="503280"/>
            <a:chOff x="395280" y="5805360"/>
            <a:chExt cx="2087280" cy="503280"/>
          </a:xfrm>
        </p:grpSpPr>
        <p:sp>
          <p:nvSpPr>
            <p:cNvPr id="198" name="Line 56"/>
            <p:cNvSpPr/>
            <p:nvPr/>
          </p:nvSpPr>
          <p:spPr>
            <a:xfrm flipH="1">
              <a:off x="395280" y="5805360"/>
              <a:ext cx="1079280" cy="50328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57"/>
            <p:cNvSpPr/>
            <p:nvPr/>
          </p:nvSpPr>
          <p:spPr>
            <a:xfrm flipH="1">
              <a:off x="1474200" y="5805360"/>
              <a:ext cx="100836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Text Box 58"/>
          <p:cNvSpPr/>
          <p:nvPr/>
        </p:nvSpPr>
        <p:spPr>
          <a:xfrm>
            <a:off x="6499440" y="595008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— ленивый язык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енивые вычисления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ычисляется (редуцируется) то, без чего действительно невозможно обойтись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войств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Если существует порядок редукции приводящий за конечное число шагов к результату (к величине), то ленивые вычисления приводят к (этому) результат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еличины (значения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67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ица между значением и представлением значения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49 = 7*7 =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LIX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= 11000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ормальное (каноническое) предста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и не имеют канонического предста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Материалы по курсу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http://www.botik.ru/~abram/haskell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abram@botik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Типы величин (значений)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675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пы величин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ла (различных типо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гические зна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мво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орядоченные множе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Неопределенные величин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defined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99"/>
                </a:solidFill>
                <a:latin typeface="SymbolProp BT"/>
                <a:ea typeface="SymbolProp BT"/>
              </a:rPr>
              <a:t>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пределенная величина любого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ные варианты неопределенной величи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/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?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то закон соответствия, который сопоставляет каждому элементу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данного множеств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один единственный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или ни одного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лемент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множеств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4920" y="4268880"/>
            <a:ext cx="30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значения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:: A -&gt;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(x) =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x =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059280" y="429408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 :: Integer -&gt; Inte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 x = x*x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3059280" y="4221000"/>
            <a:ext cx="0" cy="259272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ункции (подход современной алгебры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усть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множеств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A×B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(x, y) | x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A, y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}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, y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,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’, y’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 :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x=x’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y=y’)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гд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функци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::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-&gt; B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мы будем писать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) = 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, и только тогда, когд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x, y)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Экзистенциональное равенство функци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:: A -&gt; B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. </a:t>
            </a:r>
            <a:br>
              <a:rPr sz="3200"/>
            </a:b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Говорят, 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= 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и только тогда, когд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x = g 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алгебраического определения понятия «функция» не приходится специально определять поняти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= 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_times’ x = x+x+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ree_times’’ x = 3*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Экзистенциональное равенство функци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зистенциональное равенство: нам важно равенство результатов, не важно ничто иное (не важны: способ вычисления результата, эффективность его вычисления, свойства текста описания функции и т.п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нсиональные свойства — текст определения функции, число шагов, вид цепочки редукций и т.п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позиция функци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усть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 :: X -&gt; 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:: Y -&gt; Z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определим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f . g) x = f (g x)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:: X -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" name="Group 28"/>
          <p:cNvGrpSpPr/>
          <p:nvPr/>
        </p:nvGrpSpPr>
        <p:grpSpPr>
          <a:xfrm>
            <a:off x="900000" y="2876400"/>
            <a:ext cx="8245440" cy="3948120"/>
            <a:chOff x="900000" y="2876400"/>
            <a:chExt cx="8245440" cy="3948120"/>
          </a:xfrm>
        </p:grpSpPr>
        <p:sp>
          <p:nvSpPr>
            <p:cNvPr id="225" name="Freeform 10"/>
            <p:cNvSpPr/>
            <p:nvPr/>
          </p:nvSpPr>
          <p:spPr>
            <a:xfrm>
              <a:off x="5856120" y="2876400"/>
              <a:ext cx="3289320" cy="2076480"/>
            </a:xfrm>
            <a:custGeom>
              <a:avLst/>
              <a:gdLst>
                <a:gd name="textAreaLeft" fmla="*/ 0 w 3289320"/>
                <a:gd name="textAreaRight" fmla="*/ 3289680 w 3289320"/>
                <a:gd name="textAreaTop" fmla="*/ 0 h 2076480"/>
                <a:gd name="textAreaBottom" fmla="*/ 2076480 h 2076480"/>
              </a:gdLst>
              <a:ahLst/>
              <a:rect l="textAreaLeft" t="textAreaTop" r="textAreaRight" b="textAreaBottom"/>
              <a:pathLst>
                <a:path w="2072" h="1308">
                  <a:moveTo>
                    <a:pt x="7" y="847"/>
                  </a:moveTo>
                  <a:cubicBezTo>
                    <a:pt x="14" y="772"/>
                    <a:pt x="30" y="673"/>
                    <a:pt x="98" y="575"/>
                  </a:cubicBezTo>
                  <a:cubicBezTo>
                    <a:pt x="166" y="477"/>
                    <a:pt x="280" y="348"/>
                    <a:pt x="416" y="257"/>
                  </a:cubicBezTo>
                  <a:cubicBezTo>
                    <a:pt x="552" y="166"/>
                    <a:pt x="741" y="60"/>
                    <a:pt x="915" y="30"/>
                  </a:cubicBezTo>
                  <a:cubicBezTo>
                    <a:pt x="1089" y="0"/>
                    <a:pt x="1293" y="31"/>
                    <a:pt x="1459" y="76"/>
                  </a:cubicBezTo>
                  <a:cubicBezTo>
                    <a:pt x="1625" y="121"/>
                    <a:pt x="1815" y="212"/>
                    <a:pt x="1913" y="303"/>
                  </a:cubicBezTo>
                  <a:cubicBezTo>
                    <a:pt x="2011" y="394"/>
                    <a:pt x="2072" y="514"/>
                    <a:pt x="2049" y="620"/>
                  </a:cubicBezTo>
                  <a:cubicBezTo>
                    <a:pt x="2026" y="726"/>
                    <a:pt x="1904" y="832"/>
                    <a:pt x="1776" y="938"/>
                  </a:cubicBezTo>
                  <a:cubicBezTo>
                    <a:pt x="1648" y="1044"/>
                    <a:pt x="1444" y="1202"/>
                    <a:pt x="1278" y="1255"/>
                  </a:cubicBezTo>
                  <a:cubicBezTo>
                    <a:pt x="1112" y="1308"/>
                    <a:pt x="945" y="1270"/>
                    <a:pt x="779" y="1255"/>
                  </a:cubicBezTo>
                  <a:cubicBezTo>
                    <a:pt x="613" y="1240"/>
                    <a:pt x="401" y="1202"/>
                    <a:pt x="280" y="1164"/>
                  </a:cubicBezTo>
                  <a:cubicBezTo>
                    <a:pt x="159" y="1126"/>
                    <a:pt x="99" y="1081"/>
                    <a:pt x="53" y="1028"/>
                  </a:cubicBezTo>
                  <a:cubicBezTo>
                    <a:pt x="7" y="975"/>
                    <a:pt x="0" y="922"/>
                    <a:pt x="7" y="847"/>
                  </a:cubicBezTo>
                  <a:close/>
                </a:path>
              </a:pathLst>
            </a:custGeom>
            <a:solidFill>
              <a:srgbClr val="bfde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384720" y="5264280"/>
              <a:ext cx="3095280" cy="1560240"/>
            </a:xfrm>
            <a:custGeom>
              <a:avLst/>
              <a:gdLst>
                <a:gd name="textAreaLeft" fmla="*/ 0 w 3095280"/>
                <a:gd name="textAreaRight" fmla="*/ 3095640 w 3095280"/>
                <a:gd name="textAreaTop" fmla="*/ 0 h 1560240"/>
                <a:gd name="textAreaBottom" fmla="*/ 1560600 h 1560240"/>
              </a:gdLst>
              <a:ahLst/>
              <a:rect l="textAreaLeft" t="textAreaTop" r="textAreaRight" b="textAreaBottom"/>
              <a:pathLst>
                <a:path w="1950" h="983">
                  <a:moveTo>
                    <a:pt x="68" y="386"/>
                  </a:moveTo>
                  <a:cubicBezTo>
                    <a:pt x="162" y="302"/>
                    <a:pt x="257" y="219"/>
                    <a:pt x="340" y="159"/>
                  </a:cubicBezTo>
                  <a:cubicBezTo>
                    <a:pt x="423" y="99"/>
                    <a:pt x="446" y="46"/>
                    <a:pt x="567" y="23"/>
                  </a:cubicBezTo>
                  <a:cubicBezTo>
                    <a:pt x="688" y="0"/>
                    <a:pt x="923" y="15"/>
                    <a:pt x="1066" y="23"/>
                  </a:cubicBezTo>
                  <a:cubicBezTo>
                    <a:pt x="1209" y="31"/>
                    <a:pt x="1322" y="61"/>
                    <a:pt x="1428" y="69"/>
                  </a:cubicBezTo>
                  <a:cubicBezTo>
                    <a:pt x="1534" y="77"/>
                    <a:pt x="1618" y="54"/>
                    <a:pt x="1701" y="69"/>
                  </a:cubicBezTo>
                  <a:cubicBezTo>
                    <a:pt x="1784" y="84"/>
                    <a:pt x="1904" y="76"/>
                    <a:pt x="1927" y="159"/>
                  </a:cubicBezTo>
                  <a:cubicBezTo>
                    <a:pt x="1950" y="242"/>
                    <a:pt x="1905" y="447"/>
                    <a:pt x="1837" y="568"/>
                  </a:cubicBezTo>
                  <a:cubicBezTo>
                    <a:pt x="1769" y="689"/>
                    <a:pt x="1663" y="817"/>
                    <a:pt x="1519" y="885"/>
                  </a:cubicBezTo>
                  <a:cubicBezTo>
                    <a:pt x="1375" y="953"/>
                    <a:pt x="1156" y="983"/>
                    <a:pt x="975" y="976"/>
                  </a:cubicBezTo>
                  <a:cubicBezTo>
                    <a:pt x="794" y="969"/>
                    <a:pt x="581" y="900"/>
                    <a:pt x="430" y="840"/>
                  </a:cubicBezTo>
                  <a:cubicBezTo>
                    <a:pt x="279" y="780"/>
                    <a:pt x="136" y="681"/>
                    <a:pt x="68" y="613"/>
                  </a:cubicBezTo>
                  <a:cubicBezTo>
                    <a:pt x="0" y="545"/>
                    <a:pt x="11" y="488"/>
                    <a:pt x="22" y="432"/>
                  </a:cubicBezTo>
                </a:path>
              </a:pathLst>
            </a:custGeom>
            <a:solidFill>
              <a:srgbClr val="bfde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Freeform 8"/>
            <p:cNvSpPr/>
            <p:nvPr/>
          </p:nvSpPr>
          <p:spPr>
            <a:xfrm>
              <a:off x="900000" y="3357720"/>
              <a:ext cx="2820960" cy="1823760"/>
            </a:xfrm>
            <a:custGeom>
              <a:avLst/>
              <a:gdLst>
                <a:gd name="textAreaLeft" fmla="*/ 0 w 2820960"/>
                <a:gd name="textAreaRight" fmla="*/ 2820960 w 2820960"/>
                <a:gd name="textAreaTop" fmla="*/ 0 h 1823760"/>
                <a:gd name="textAreaBottom" fmla="*/ 1824120 h 1823760"/>
              </a:gdLst>
              <a:ahLst/>
              <a:rect l="textAreaLeft" t="textAreaTop" r="textAreaRight" b="textAreaBottom"/>
              <a:pathLst>
                <a:path w="1777" h="1149">
                  <a:moveTo>
                    <a:pt x="15" y="725"/>
                  </a:moveTo>
                  <a:cubicBezTo>
                    <a:pt x="15" y="627"/>
                    <a:pt x="38" y="469"/>
                    <a:pt x="106" y="363"/>
                  </a:cubicBezTo>
                  <a:cubicBezTo>
                    <a:pt x="174" y="257"/>
                    <a:pt x="303" y="150"/>
                    <a:pt x="424" y="90"/>
                  </a:cubicBezTo>
                  <a:cubicBezTo>
                    <a:pt x="545" y="30"/>
                    <a:pt x="696" y="0"/>
                    <a:pt x="832" y="0"/>
                  </a:cubicBezTo>
                  <a:cubicBezTo>
                    <a:pt x="968" y="0"/>
                    <a:pt x="1104" y="37"/>
                    <a:pt x="1240" y="90"/>
                  </a:cubicBezTo>
                  <a:cubicBezTo>
                    <a:pt x="1376" y="143"/>
                    <a:pt x="1572" y="211"/>
                    <a:pt x="1648" y="317"/>
                  </a:cubicBezTo>
                  <a:cubicBezTo>
                    <a:pt x="1724" y="423"/>
                    <a:pt x="1777" y="597"/>
                    <a:pt x="1694" y="725"/>
                  </a:cubicBezTo>
                  <a:cubicBezTo>
                    <a:pt x="1611" y="853"/>
                    <a:pt x="1330" y="1027"/>
                    <a:pt x="1149" y="1088"/>
                  </a:cubicBezTo>
                  <a:cubicBezTo>
                    <a:pt x="968" y="1149"/>
                    <a:pt x="779" y="1111"/>
                    <a:pt x="605" y="1088"/>
                  </a:cubicBezTo>
                  <a:cubicBezTo>
                    <a:pt x="431" y="1065"/>
                    <a:pt x="212" y="1013"/>
                    <a:pt x="106" y="952"/>
                  </a:cubicBezTo>
                  <a:cubicBezTo>
                    <a:pt x="0" y="891"/>
                    <a:pt x="15" y="823"/>
                    <a:pt x="15" y="725"/>
                  </a:cubicBezTo>
                  <a:close/>
                </a:path>
              </a:pathLst>
            </a:custGeom>
            <a:solidFill>
              <a:srgbClr val="bfdee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Oval 14"/>
            <p:cNvSpPr/>
            <p:nvPr/>
          </p:nvSpPr>
          <p:spPr>
            <a:xfrm>
              <a:off x="6732720" y="4149720"/>
              <a:ext cx="145800" cy="1461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2986200" y="3635280"/>
              <a:ext cx="3752640" cy="874800"/>
            </a:xfrm>
            <a:custGeom>
              <a:avLst/>
              <a:gdLst>
                <a:gd name="textAreaLeft" fmla="*/ 0 w 3752640"/>
                <a:gd name="textAreaRight" fmla="*/ 3753000 w 375264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2364" h="551">
                  <a:moveTo>
                    <a:pt x="0" y="551"/>
                  </a:moveTo>
                  <a:cubicBezTo>
                    <a:pt x="104" y="483"/>
                    <a:pt x="368" y="231"/>
                    <a:pt x="624" y="145"/>
                  </a:cubicBezTo>
                  <a:cubicBezTo>
                    <a:pt x="880" y="59"/>
                    <a:pt x="1248" y="0"/>
                    <a:pt x="1538" y="33"/>
                  </a:cubicBezTo>
                  <a:cubicBezTo>
                    <a:pt x="1828" y="66"/>
                    <a:pt x="2192" y="279"/>
                    <a:pt x="2364" y="3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2986200" y="4440240"/>
              <a:ext cx="1914480" cy="1089000"/>
            </a:xfrm>
            <a:custGeom>
              <a:avLst/>
              <a:gdLst>
                <a:gd name="textAreaLeft" fmla="*/ 0 w 1914480"/>
                <a:gd name="textAreaRight" fmla="*/ 1914840 w 191448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1206" h="686">
                  <a:moveTo>
                    <a:pt x="0" y="44"/>
                  </a:moveTo>
                  <a:cubicBezTo>
                    <a:pt x="91" y="45"/>
                    <a:pt x="385" y="0"/>
                    <a:pt x="545" y="48"/>
                  </a:cubicBezTo>
                  <a:cubicBezTo>
                    <a:pt x="705" y="96"/>
                    <a:pt x="852" y="228"/>
                    <a:pt x="962" y="334"/>
                  </a:cubicBezTo>
                  <a:cubicBezTo>
                    <a:pt x="1072" y="440"/>
                    <a:pt x="1155" y="613"/>
                    <a:pt x="1206" y="68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5000760" y="4305240"/>
              <a:ext cx="1771560" cy="1266840"/>
            </a:xfrm>
            <a:custGeom>
              <a:avLst/>
              <a:gdLst>
                <a:gd name="textAreaLeft" fmla="*/ 0 w 1771560"/>
                <a:gd name="textAreaRight" fmla="*/ 1771920 w 177156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1116" h="798">
                  <a:moveTo>
                    <a:pt x="0" y="798"/>
                  </a:moveTo>
                  <a:cubicBezTo>
                    <a:pt x="71" y="772"/>
                    <a:pt x="282" y="717"/>
                    <a:pt x="427" y="642"/>
                  </a:cubicBezTo>
                  <a:cubicBezTo>
                    <a:pt x="572" y="567"/>
                    <a:pt x="758" y="452"/>
                    <a:pt x="873" y="345"/>
                  </a:cubicBezTo>
                  <a:cubicBezTo>
                    <a:pt x="988" y="238"/>
                    <a:pt x="1066" y="72"/>
                    <a:pt x="111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Oval 12"/>
            <p:cNvSpPr/>
            <p:nvPr/>
          </p:nvSpPr>
          <p:spPr>
            <a:xfrm>
              <a:off x="2916360" y="4437000"/>
              <a:ext cx="145800" cy="14616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Oval 13"/>
            <p:cNvSpPr/>
            <p:nvPr/>
          </p:nvSpPr>
          <p:spPr>
            <a:xfrm>
              <a:off x="4859280" y="5516640"/>
              <a:ext cx="146160" cy="145800"/>
            </a:xfrm>
            <a:prstGeom prst="ellipse">
              <a:avLst/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19"/>
            <p:cNvSpPr/>
            <p:nvPr/>
          </p:nvSpPr>
          <p:spPr>
            <a:xfrm>
              <a:off x="1842120" y="42210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Tahoma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4803120" y="5870520"/>
              <a:ext cx="561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Tahoma"/>
                </a:rPr>
                <a:t>Y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8271000" y="3357720"/>
              <a:ext cx="534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22"/>
            <p:cNvSpPr/>
            <p:nvPr/>
          </p:nvSpPr>
          <p:spPr>
            <a:xfrm>
              <a:off x="2621520" y="386064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499280" y="530064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3695400" y="443700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g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5"/>
            <p:cNvSpPr/>
            <p:nvPr/>
          </p:nvSpPr>
          <p:spPr>
            <a:xfrm>
              <a:off x="5648040" y="4653000"/>
              <a:ext cx="337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6"/>
            <p:cNvSpPr/>
            <p:nvPr/>
          </p:nvSpPr>
          <p:spPr>
            <a:xfrm>
              <a:off x="6655680" y="3573360"/>
              <a:ext cx="3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z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4153680" y="293220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Tahoma"/>
                </a:rPr>
                <a:t>f . g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ссоциативность компози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орем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усть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h :: X -&gt; Y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g :: Y -&gt; Z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:: Z -&gt; U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гд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. (g . h) = (f . g) .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означени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 . g . h = (f . g) .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трогие функ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6560" y="1341360"/>
            <a:ext cx="8498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defin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определенная величина любого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ределение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гая п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араметру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undefined = undef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 1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ero x = 0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 строг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 2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 x = x*x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г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 3.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(x, y) = if (x&lt;10) then x else y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огая п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не строгая по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276640"/>
            <a:ext cx="8317080" cy="23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Введение. История функционального программирован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иды вычислени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нергичные вычисл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ов по значени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допускают не строгие определения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нивые (Отложенные) вычисл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ов по необходим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пускают не строгие определения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ree x = 3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finity = infinity +1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gt; three infinity =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2. Преимущест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100%-чистое ФП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390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присваив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ссыл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т побочных эффек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 это хорош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ффекты локализован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100pure"/>
          <p:cNvPicPr/>
          <p:nvPr/>
        </p:nvPicPr>
        <p:blipFill>
          <a:blip r:embed="rId1"/>
          <a:stretch/>
        </p:blipFill>
        <p:spPr>
          <a:xfrm>
            <a:off x="4807080" y="981000"/>
            <a:ext cx="433692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П высокого порядк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54" name="Picture 5" descr="HigherOrder"/>
          <p:cNvPicPr/>
          <p:nvPr/>
        </p:nvPicPr>
        <p:blipFill>
          <a:blip r:embed="rId1"/>
          <a:stretch/>
        </p:blipFill>
        <p:spPr>
          <a:xfrm>
            <a:off x="3781440" y="2502000"/>
            <a:ext cx="5327640" cy="4240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4103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и высших поряд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выраж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 это хорош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аблоны вычислений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usable c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трогая типизац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57" name="Picture 6" descr="StaticType"/>
          <p:cNvPicPr/>
          <p:nvPr/>
        </p:nvPicPr>
        <p:blipFill>
          <a:blip r:embed="rId1"/>
          <a:stretch/>
        </p:blipFill>
        <p:spPr>
          <a:xfrm>
            <a:off x="3276720" y="2952720"/>
            <a:ext cx="5832360" cy="39052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9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чему это хорош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троль интерфейс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равление ошибок до запу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остоинст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нивая семан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0%-чистое Ф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и высшего поряд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иморф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пулярен: де-факто язык публикаций (мое знакомство с языко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кларативность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s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перати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пактный к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abl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3. Знакомство с системой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UGS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анды интерпретатор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44360" y="1557360"/>
            <a:ext cx="882036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рипты и сесс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264360" cy="2347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"/>
          <p:cNvPicPr/>
          <p:nvPr/>
        </p:nvPicPr>
        <p:blipFill>
          <a:blip r:embed="rId2"/>
          <a:stretch/>
        </p:blipFill>
        <p:spPr>
          <a:xfrm>
            <a:off x="1979640" y="4581360"/>
            <a:ext cx="676908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Prelude.h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704360" cy="33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6"/>
          <p:cNvSpPr/>
          <p:nvPr/>
        </p:nvSpPr>
        <p:spPr>
          <a:xfrm>
            <a:off x="2124000" y="5302080"/>
            <a:ext cx="5616720" cy="936720"/>
          </a:xfrm>
          <a:prstGeom prst="leftArrow">
            <a:avLst>
              <a:gd name="adj1" fmla="val 50000"/>
              <a:gd name="adj2" fmla="val 149904"/>
            </a:avLst>
          </a:prstGeom>
          <a:gradFill rotWithShape="0">
            <a:gsLst>
              <a:gs pos="0">
                <a:srgbClr val="ff0000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11"/>
          <p:cNvGrpSpPr/>
          <p:nvPr/>
        </p:nvGrpSpPr>
        <p:grpSpPr>
          <a:xfrm>
            <a:off x="2195640" y="4941720"/>
            <a:ext cx="5473440" cy="1727280"/>
            <a:chOff x="2195640" y="4941720"/>
            <a:chExt cx="5473440" cy="1727280"/>
          </a:xfrm>
        </p:grpSpPr>
        <p:sp>
          <p:nvSpPr>
            <p:cNvPr id="118" name="AutoShape 9"/>
            <p:cNvSpPr/>
            <p:nvPr/>
          </p:nvSpPr>
          <p:spPr>
            <a:xfrm>
              <a:off x="2195640" y="5300640"/>
              <a:ext cx="2592360" cy="936720"/>
            </a:xfrm>
            <a:prstGeom prst="leftArrow">
              <a:avLst>
                <a:gd name="adj1" fmla="val 49833"/>
                <a:gd name="adj2" fmla="val 14133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AutoShape 8"/>
            <p:cNvSpPr/>
            <p:nvPr/>
          </p:nvSpPr>
          <p:spPr>
            <a:xfrm>
              <a:off x="3995640" y="4941720"/>
              <a:ext cx="1368360" cy="1727280"/>
            </a:xfrm>
            <a:prstGeom prst="verticalScroll">
              <a:avLst>
                <a:gd name="adj" fmla="val 12500"/>
              </a:avLst>
            </a:prstGeom>
            <a:solidFill>
              <a:srgbClr val="bfde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PL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AutoShape 10"/>
            <p:cNvSpPr/>
            <p:nvPr/>
          </p:nvSpPr>
          <p:spPr>
            <a:xfrm>
              <a:off x="5076720" y="5300640"/>
              <a:ext cx="2592360" cy="936720"/>
            </a:xfrm>
            <a:prstGeom prst="leftArrow">
              <a:avLst>
                <a:gd name="adj1" fmla="val 49833"/>
                <a:gd name="adj2" fmla="val 141334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стор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28760" y="1773000"/>
            <a:ext cx="82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4х — первые компьют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ы в кодах, ассембл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е язык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граммир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иже к машине, или ближе к человеку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computr2"/>
          <p:cNvSpPr/>
          <p:nvPr/>
        </p:nvSpPr>
        <p:spPr>
          <a:xfrm>
            <a:off x="819000" y="5010120"/>
            <a:ext cx="1665360" cy="1521000"/>
          </a:xfrm>
          <a:custGeom>
            <a:avLst/>
            <a:gdLst>
              <a:gd name="textAreaLeft" fmla="*/ 477360 w 1665360"/>
              <a:gd name="textAreaRight" fmla="*/ 1200240 w 1665360"/>
              <a:gd name="textAreaTop" fmla="*/ 134640 h 1521000"/>
              <a:gd name="textAreaBottom" fmla="*/ 686160 h 152100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MCj03979290000[1]"/>
          <p:cNvPicPr/>
          <p:nvPr/>
        </p:nvPicPr>
        <p:blipFill>
          <a:blip r:embed="rId1"/>
          <a:srcRect l="0" t="0" r="0" b="13093"/>
          <a:stretch/>
        </p:blipFill>
        <p:spPr>
          <a:xfrm>
            <a:off x="6804000" y="4941720"/>
            <a:ext cx="152100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ментари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h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{-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Для получения функции, возводящей целое число в четвертую степень, воспользуемся композицией функций square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-}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, quad :: Integer -&gt; 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--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две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функции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 x = x*x 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quad   x = (square . square) x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--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Другое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определение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quad'   :: Integer -&gt; Integer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quad' x = square (square 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ментарии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h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1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Функция  squareNew, определенная на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множестве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целых чисел, возвращает квадрат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своего аргумента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gt; squareNew :: Integer -&gt; Integer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gt; squareNew(x) = x*x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Здесь использована другая форма вызова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функции: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аргумент заключен в круглые скобки.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Для функций,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зависящих от одной переменной,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допустимы обе формы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вызова, например,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squareNew(123) и squareNew 12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ментари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в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EX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lhs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1280" y="1341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\centerline{Максимум из двух чисел}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Функцию, определяющую максимальное из двух чисел,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можно задать с помощью конструкции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{\tt if \ldots then \ldots else}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\begin{code}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yMax     :: Int -&gt; Int -&gt; Int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yMax x y  = if x &gt;= y then x else y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\end{code}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Загрузив функцию, можно использовать ее вместо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функции {\tt max}, определенной в прелюд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3. Базовые типы язык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Базовые тип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огические знач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мво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орядоченные множеств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up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Целые числ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468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∞,∞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2^31, 2^31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ожение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тание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ение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пень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^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ление с остатк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‘div‘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‘mod‘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4572000" y="1341360"/>
            <a:ext cx="4321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7*17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120 `div`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120 `mod`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div 120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Целые числ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∞,∞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-2^31, 2^31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lud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Д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c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ное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ve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четное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d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образование в число с плавающей точкой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romI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romInteg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788000" y="1268280"/>
            <a:ext cx="40100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gcd 45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even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even 3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odd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исла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 плавающей точко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5688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7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ков после запято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1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ков после запято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ормы запис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0.5e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300360" y="1412640"/>
            <a:ext cx="26211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ер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gn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равнения чисе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87280" y="1413000"/>
            <a:ext cx="457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е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ольше или равно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gt;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ньше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ньше или равно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lt;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вно (</a:t>
            </a: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=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 равно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ина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ru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ожь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als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341360"/>
            <a:ext cx="403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1 &gt;=0.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2+3 &gt; 9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False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2+3 == 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1/3 == 0.3333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False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Логические величин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3672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ъюнкция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зъюнкция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|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рицание (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no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50920" y="1410840"/>
            <a:ext cx="5219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True &amp;&amp; 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False || 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not Fal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not False &amp;&amp; Fa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l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not (False &amp;&amp; False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стор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4х — первые компьют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е языки ближе к машине, чем к челове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перативный стиль, императивные языки: отражение фон-неймановской архитек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ан Тьюринг, Джон фон Ньюм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7" name="Group 10"/>
          <p:cNvGrpSpPr/>
          <p:nvPr/>
        </p:nvGrpSpPr>
        <p:grpSpPr>
          <a:xfrm>
            <a:off x="826920" y="4941720"/>
            <a:ext cx="7505640" cy="1726920"/>
            <a:chOff x="826920" y="4941720"/>
            <a:chExt cx="7505640" cy="1726920"/>
          </a:xfrm>
        </p:grpSpPr>
        <p:grpSp>
          <p:nvGrpSpPr>
            <p:cNvPr id="128" name="Group 4"/>
            <p:cNvGrpSpPr/>
            <p:nvPr/>
          </p:nvGrpSpPr>
          <p:grpSpPr>
            <a:xfrm>
              <a:off x="2203200" y="4941720"/>
              <a:ext cx="5473440" cy="1726920"/>
              <a:chOff x="2203200" y="4941720"/>
              <a:chExt cx="5473440" cy="1726920"/>
            </a:xfrm>
          </p:grpSpPr>
          <p:sp>
            <p:nvSpPr>
              <p:cNvPr id="129" name="AutoShape 5"/>
              <p:cNvSpPr/>
              <p:nvPr/>
            </p:nvSpPr>
            <p:spPr>
              <a:xfrm>
                <a:off x="2203200" y="5300280"/>
                <a:ext cx="2592360" cy="936360"/>
              </a:xfrm>
              <a:prstGeom prst="leftArrow">
                <a:avLst>
                  <a:gd name="adj1" fmla="val 49833"/>
                  <a:gd name="adj2" fmla="val 141388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AutoShape 6"/>
              <p:cNvSpPr/>
              <p:nvPr/>
            </p:nvSpPr>
            <p:spPr>
              <a:xfrm>
                <a:off x="4003200" y="4941720"/>
                <a:ext cx="1368360" cy="1726920"/>
              </a:xfrm>
              <a:prstGeom prst="verticalScroll">
                <a:avLst>
                  <a:gd name="adj" fmla="val 12500"/>
                </a:avLst>
              </a:prstGeom>
              <a:solidFill>
                <a:srgbClr val="bfde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ahoma"/>
                  </a:rPr>
                  <a:t>PL</a:t>
                </a: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AutoShape 7"/>
              <p:cNvSpPr/>
              <p:nvPr/>
            </p:nvSpPr>
            <p:spPr>
              <a:xfrm>
                <a:off x="5084280" y="5300280"/>
                <a:ext cx="2592360" cy="936360"/>
              </a:xfrm>
              <a:prstGeom prst="leftArrow">
                <a:avLst>
                  <a:gd name="adj1" fmla="val 49833"/>
                  <a:gd name="adj2" fmla="val 141388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" name="computr2"/>
            <p:cNvSpPr/>
            <p:nvPr/>
          </p:nvSpPr>
          <p:spPr>
            <a:xfrm>
              <a:off x="826920" y="5009760"/>
              <a:ext cx="1665360" cy="1521000"/>
            </a:xfrm>
            <a:custGeom>
              <a:avLst/>
              <a:gdLst>
                <a:gd name="textAreaLeft" fmla="*/ 477720 w 1665360"/>
                <a:gd name="textAreaRight" fmla="*/ 1200240 w 1665360"/>
                <a:gd name="textAreaTop" fmla="*/ 134640 h 1521000"/>
                <a:gd name="textAreaBottom" fmla="*/ 685800 h 15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022" y="20295"/>
                  </a:moveTo>
                  <a:lnTo>
                    <a:pt x="18828" y="18396"/>
                  </a:lnTo>
                  <a:lnTo>
                    <a:pt x="18828" y="13174"/>
                  </a:lnTo>
                  <a:lnTo>
                    <a:pt x="15478" y="13174"/>
                  </a:lnTo>
                  <a:lnTo>
                    <a:pt x="15478" y="11631"/>
                  </a:lnTo>
                  <a:lnTo>
                    <a:pt x="17326" y="11631"/>
                  </a:lnTo>
                  <a:lnTo>
                    <a:pt x="17326" y="11156"/>
                  </a:lnTo>
                  <a:lnTo>
                    <a:pt x="17326" y="0"/>
                  </a:lnTo>
                  <a:lnTo>
                    <a:pt x="10858" y="0"/>
                  </a:lnTo>
                  <a:lnTo>
                    <a:pt x="4274" y="0"/>
                  </a:lnTo>
                  <a:lnTo>
                    <a:pt x="4274" y="11037"/>
                  </a:lnTo>
                  <a:lnTo>
                    <a:pt x="4274" y="11631"/>
                  </a:lnTo>
                  <a:lnTo>
                    <a:pt x="6122" y="11631"/>
                  </a:lnTo>
                  <a:lnTo>
                    <a:pt x="6122" y="13174"/>
                  </a:lnTo>
                  <a:lnTo>
                    <a:pt x="2772" y="13174"/>
                  </a:lnTo>
                  <a:lnTo>
                    <a:pt x="2772" y="18514"/>
                  </a:lnTo>
                  <a:lnTo>
                    <a:pt x="693" y="20295"/>
                  </a:lnTo>
                  <a:lnTo>
                    <a:pt x="462" y="20413"/>
                  </a:lnTo>
                  <a:lnTo>
                    <a:pt x="231" y="20651"/>
                  </a:lnTo>
                  <a:lnTo>
                    <a:pt x="116" y="20888"/>
                  </a:lnTo>
                  <a:lnTo>
                    <a:pt x="0" y="21125"/>
                  </a:lnTo>
                  <a:lnTo>
                    <a:pt x="0" y="21244"/>
                  </a:lnTo>
                  <a:lnTo>
                    <a:pt x="116" y="21363"/>
                  </a:lnTo>
                  <a:lnTo>
                    <a:pt x="116" y="21481"/>
                  </a:lnTo>
                  <a:lnTo>
                    <a:pt x="231" y="21481"/>
                  </a:lnTo>
                  <a:lnTo>
                    <a:pt x="347" y="21600"/>
                  </a:lnTo>
                  <a:lnTo>
                    <a:pt x="578" y="21600"/>
                  </a:lnTo>
                  <a:lnTo>
                    <a:pt x="693" y="21600"/>
                  </a:lnTo>
                  <a:lnTo>
                    <a:pt x="10858" y="21600"/>
                  </a:lnTo>
                  <a:lnTo>
                    <a:pt x="20907" y="21600"/>
                  </a:lnTo>
                  <a:lnTo>
                    <a:pt x="21138" y="21600"/>
                  </a:lnTo>
                  <a:lnTo>
                    <a:pt x="21253" y="21600"/>
                  </a:lnTo>
                  <a:lnTo>
                    <a:pt x="21369" y="21481"/>
                  </a:lnTo>
                  <a:lnTo>
                    <a:pt x="21484" y="21481"/>
                  </a:lnTo>
                  <a:lnTo>
                    <a:pt x="21600" y="21363"/>
                  </a:lnTo>
                  <a:lnTo>
                    <a:pt x="21600" y="21244"/>
                  </a:lnTo>
                  <a:lnTo>
                    <a:pt x="21600" y="21125"/>
                  </a:lnTo>
                  <a:lnTo>
                    <a:pt x="21484" y="20888"/>
                  </a:lnTo>
                  <a:lnTo>
                    <a:pt x="21369" y="20651"/>
                  </a:lnTo>
                  <a:lnTo>
                    <a:pt x="21253" y="20413"/>
                  </a:lnTo>
                  <a:lnTo>
                    <a:pt x="21022" y="20295"/>
                  </a:lnTo>
                  <a:close/>
                </a:path>
                <a:path w="21600" h="21600">
                  <a:moveTo>
                    <a:pt x="18019" y="18514"/>
                  </a:moveTo>
                  <a:lnTo>
                    <a:pt x="17326" y="17921"/>
                  </a:lnTo>
                  <a:lnTo>
                    <a:pt x="4389" y="17921"/>
                  </a:lnTo>
                  <a:lnTo>
                    <a:pt x="3696" y="18514"/>
                  </a:lnTo>
                  <a:lnTo>
                    <a:pt x="18019" y="18514"/>
                  </a:lnTo>
                  <a:close/>
                </a:path>
                <a:path w="21600" h="21600">
                  <a:moveTo>
                    <a:pt x="19174" y="19701"/>
                  </a:moveTo>
                  <a:lnTo>
                    <a:pt x="18481" y="19108"/>
                  </a:lnTo>
                  <a:lnTo>
                    <a:pt x="3119" y="19108"/>
                  </a:lnTo>
                  <a:lnTo>
                    <a:pt x="2426" y="19701"/>
                  </a:lnTo>
                  <a:lnTo>
                    <a:pt x="19174" y="19701"/>
                  </a:lnTo>
                  <a:close/>
                </a:path>
                <a:path w="21600" h="21600">
                  <a:moveTo>
                    <a:pt x="20560" y="20769"/>
                  </a:moveTo>
                  <a:lnTo>
                    <a:pt x="19867" y="20176"/>
                  </a:lnTo>
                  <a:lnTo>
                    <a:pt x="1848" y="20176"/>
                  </a:lnTo>
                  <a:lnTo>
                    <a:pt x="1155" y="20769"/>
                  </a:lnTo>
                  <a:lnTo>
                    <a:pt x="20560" y="20769"/>
                  </a:lnTo>
                  <a:close/>
                </a:path>
                <a:path w="21600" h="21600">
                  <a:moveTo>
                    <a:pt x="18828" y="18396"/>
                  </a:moveTo>
                  <a:lnTo>
                    <a:pt x="17442" y="17209"/>
                  </a:lnTo>
                  <a:lnTo>
                    <a:pt x="4158" y="17209"/>
                  </a:lnTo>
                  <a:lnTo>
                    <a:pt x="2772" y="18514"/>
                  </a:lnTo>
                  <a:moveTo>
                    <a:pt x="13168" y="14123"/>
                  </a:moveTo>
                  <a:lnTo>
                    <a:pt x="13168" y="14716"/>
                  </a:lnTo>
                  <a:lnTo>
                    <a:pt x="17788" y="14716"/>
                  </a:lnTo>
                  <a:lnTo>
                    <a:pt x="17788" y="14123"/>
                  </a:lnTo>
                  <a:lnTo>
                    <a:pt x="13168" y="14123"/>
                  </a:lnTo>
                  <a:close/>
                </a:path>
                <a:path w="21600" h="21600">
                  <a:moveTo>
                    <a:pt x="6122" y="1899"/>
                  </a:moveTo>
                  <a:lnTo>
                    <a:pt x="6122" y="9732"/>
                  </a:lnTo>
                  <a:lnTo>
                    <a:pt x="15478" y="9732"/>
                  </a:lnTo>
                  <a:lnTo>
                    <a:pt x="15478" y="1899"/>
                  </a:lnTo>
                  <a:lnTo>
                    <a:pt x="6122" y="1899"/>
                  </a:lnTo>
                  <a:moveTo>
                    <a:pt x="6122" y="11631"/>
                  </a:moveTo>
                  <a:lnTo>
                    <a:pt x="15478" y="11631"/>
                  </a:lnTo>
                  <a:lnTo>
                    <a:pt x="15478" y="13174"/>
                  </a:lnTo>
                  <a:lnTo>
                    <a:pt x="6122" y="13174"/>
                  </a:lnTo>
                  <a:lnTo>
                    <a:pt x="6122" y="11631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3" name="Picture 9" descr="MCj03979290000[1]"/>
            <p:cNvPicPr/>
            <p:nvPr/>
          </p:nvPicPr>
          <p:blipFill>
            <a:blip r:embed="rId1"/>
            <a:srcRect l="0" t="0" r="0" b="13093"/>
            <a:stretch/>
          </p:blipFill>
          <p:spPr>
            <a:xfrm>
              <a:off x="6811920" y="4941720"/>
              <a:ext cx="152064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имвол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67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ец. Символ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\’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\”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\\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rd :: Char -&gt;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hr :: Int -&gt;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88000" y="1413000"/>
            <a:ext cx="4176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ord ’A’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5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ord ’a’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ord ’A’ - ord ’a’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3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chr 5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’3’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Main&gt; ord ’3’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имвол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951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ав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gt; ’b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= ’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’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gt; ’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284720" y="1341360"/>
            <a:ext cx="4470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ерации из pre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ифра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Digi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уква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Alph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главна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Upp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писная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Lower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бел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Spac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чатный символ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isAlphaNum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08000" y="5229360"/>
            <a:ext cx="5761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sDigit :: Char -&gt; Bool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sDigit c = c &gt;= ’0’ &amp;&amp; c &lt;= ’9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пис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1341360"/>
          <a:ext cx="8286840" cy="3799080"/>
        </p:xfrm>
        <a:graphic>
          <a:graphicData uri="http://schemas.openxmlformats.org/drawingml/2006/table">
            <a:tbl>
              <a:tblPr/>
              <a:tblGrid>
                <a:gridCol w="4449600"/>
                <a:gridCol w="38372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Спис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Ти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1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3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In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1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34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345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1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In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True, False, True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Boo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sin, cos, tan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Float -&gt; Floa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[1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2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3]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4,</a:t>
                      </a:r>
                      <a:r>
                        <a:rPr b="0" lang="ru-RU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5]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[[Int]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пис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9640" y="1414080"/>
            <a:ext cx="360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лов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d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вост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вернуть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vers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бавить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динить (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+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2560" y="1412640"/>
            <a:ext cx="4753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head [1,2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tail [1,2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2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length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True,False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reverse [1,2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3,2,1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&gt; 0: [1,2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0,1,2,3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тро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6560" y="4049280"/>
            <a:ext cx="7850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ерац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lude.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ords :: [char] -&gt;[[char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ines :: [char]-&gt;[[char]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words :: [[char]] -&gt; [cha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lines :: [[char]]-&gt;[cha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6227640" y="1773360"/>
            <a:ext cx="2916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[’a’, ’b’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head ”abc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826920" y="1844640"/>
            <a:ext cx="51134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пр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трока – это список символов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ype String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Char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Обознач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abc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тро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8200" y="1341000"/>
            <a:ext cx="7058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пер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ords :: [char] -&gt;[[char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ines :: [char]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[char]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words :: [[char]] -&gt; [char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lines :: [[char]]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char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&gt; [’a’, ’b’]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ab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&gt; head ”abcd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a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Упорядоченные множества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1280" y="1484280"/>
          <a:ext cx="8143920" cy="4611600"/>
        </p:xfrm>
        <a:graphic>
          <a:graphicData uri="http://schemas.openxmlformats.org/drawingml/2006/table">
            <a:tbl>
              <a:tblPr/>
              <a:tblGrid>
                <a:gridCol w="3860640"/>
                <a:gridCol w="428328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bfdee3"/>
                          </a:solidFill>
                          <a:latin typeface="Tahoma"/>
                          <a:ea typeface="Times New Roman"/>
                        </a:rPr>
                        <a:t>Картеж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bfdee3"/>
                          </a:solidFill>
                          <a:latin typeface="Tahoma"/>
                          <a:ea typeface="Times New Roman"/>
                        </a:rPr>
                        <a:t>Ти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4,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”cat”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Float, [Char]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’a’, True, 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Char, Bool, In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[1,2],sqr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[Int], Float-&gt;Floa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1, (2, 3)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Int, (Int, Int)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(1, 2), 3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(Int, Int), In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4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Задание функций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ъявление и определени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ъяв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_функции :: область_определения 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бласть _значени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_функции параметры = правил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be ::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be n = n*n*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омбинации функци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без параметро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нстан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:: Flo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= exp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с несколькими параметр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bcFormula :: Float -&gt; Float -&gt; Float -&gt; [Floa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bcFormula a b c = [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-b+sqrt(b*b-4.0*a*c))/(2.0*a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-b-sqrt(b*b-4.0*a*c))/(2.0*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-- </a:t>
            </a:r>
            <a:r>
              <a:rPr b="0" lang="ru-RU" sz="2800" spc="-1" strike="noStrike">
                <a:solidFill>
                  <a:srgbClr val="008000"/>
                </a:solidFill>
                <a:latin typeface="Tahoma"/>
              </a:rPr>
              <a:t>находит корни уравнения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ax^2+bx+c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он-неймановская архитектура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388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амять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чейка, адрес, содержимое ячейки, состояние памя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П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ка команды и данных, выполнение операций, запись данных, изменени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манды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6" descr="pics"/>
          <p:cNvPicPr/>
          <p:nvPr/>
        </p:nvPicPr>
        <p:blipFill>
          <a:blip r:embed="rId1"/>
          <a:stretch/>
        </p:blipFill>
        <p:spPr>
          <a:xfrm>
            <a:off x="4194000" y="1268280"/>
            <a:ext cx="48610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астные определе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ругое определ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cFormu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cFormula’ :: Float -&gt; Float -&gt; Float -&gt; [Float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cFormula’ a b c = [(-b+d)/n, (-b-d)/n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 = sqrt(b*b-4.0*a*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n = (2.0*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атистика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set +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abcFormula 1.0 2.0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[-1.0, -1.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80 reductions, 137 cell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abcFormula’ 1.0 2.0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[-1.0, -1.0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64 redutions, 108 cell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Частные определен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тье опреде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cFormu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bcFormula’’ :: Float -&gt; Float -&gt; Float -&gt; [Float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bcFormula’’ a b c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e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 = sqrt(b*b-4.0*a*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 = (2.0*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(-b+d)/n, (-b-d)/n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щий синтакс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м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ыражени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Результа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Результант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м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Выраж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пределения с альтернативами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… then … els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s’ x = if x&gt;=0 then x else -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se … of … -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s’’ x =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se x&gt;=0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rue  -&gt;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alse -&gt; -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хранные выраж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bs’’’  x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 x&gt;0 =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 x&lt;0 = -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| otherwise = 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опоставление с образцом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ец вместо парамет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qq :: Int -&gt;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qq (x+4) = x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заданная для различных образц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m’ []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m’ [x]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m’ [x, y] = x+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m’ [x, y, z] = x+y+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курс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екурсие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 ::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  n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n==0 =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n&gt;0   = n*fact (n-1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же при помощи образц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’ 0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’ (n+1) = (n+1) * fact (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урсивная функция для спис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m’ lis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list ==[] 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otherwise = head list + sum’ (tail lis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Полиморфизм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олиморфизм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ы полиморфных функций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ength :: [a] -&gt;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d :: [a]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менная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 определен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d :: a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d x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я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error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:: String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спользов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 ::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act n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n==0 =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n&gt;0   = n*fact (n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| n&lt;0   = error “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рицательный арг.!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in&gt; fact (-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gram error: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Отрицательный арг.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я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map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p :: (a-&gt;b) -&gt; [a] -&gt; [b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in&gt; map sqrt [1.0, 4.0, 9.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1.0, 2.0, 3.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in&gt; map even [2, 3, 4, 6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True, False, True, True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перация компози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.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:: (b-&gt;c) -&gt; (a-&gt;b) -&gt; (a-&gt;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 :: Int -&gt;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rt :: Int -&gt; Flo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 . square :: Int -&gt; 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rt . square :: Int -&gt; Flo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Фон-неймановская архитектура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388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ение из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сь в ячей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: битовые, арифметически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гика/срав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услов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услов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ешние обмены (ввод/выво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pics"/>
          <p:cNvPicPr/>
          <p:nvPr/>
        </p:nvPicPr>
        <p:blipFill>
          <a:blip r:embed="rId1"/>
          <a:stretch/>
        </p:blipFill>
        <p:spPr>
          <a:xfrm>
            <a:off x="4194000" y="1268280"/>
            <a:ext cx="48610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6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Классы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п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ласс – это множество типов с некоторыми общими характеристика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q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кают проверку на раве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r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порядоченные т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исловые т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ласс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функции для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+) :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m a =&gt; a -&gt; a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: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rd a =&gt; a -&gt; a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==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 :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q a =&gt; a -&gt; a -&gt; B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 :: Num a =&gt; a -&gt;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quare x = x*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7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Операторы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Нота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8552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фиксная нот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Main&gt; div 120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фиксная нот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Main&gt; 120 `div`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ператоры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опустимые символ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: # $ % * + - = . / \ &lt; &gt; ? ! @ ^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рещенные комбин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::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=  ..  --  @  \  |  &lt;-  -&gt;  ~  =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ahoma"/>
              </a:rPr>
              <a:t>(%%) ::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-&gt; Int -&gt; (Int, I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%%) x y = (div x y, rem x 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23 %%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in&gt; (%%) 23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5,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оритет оператор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1749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1 + 3 ^ 4 *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6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39640" y="285264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+ ((3 ^ 4) * 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284720" y="3357720"/>
            <a:ext cx="46782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quare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3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4859280" y="4869000"/>
            <a:ext cx="352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quare 3) +4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оритет оператор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68360" y="1341360"/>
          <a:ext cx="8286840" cy="4754520"/>
        </p:xfrm>
        <a:graphic>
          <a:graphicData uri="http://schemas.openxmlformats.org/drawingml/2006/table">
            <a:tbl>
              <a:tblPr/>
              <a:tblGrid>
                <a:gridCol w="2590920"/>
                <a:gridCol w="569592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Приорит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Операт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!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^  ^^  *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* /  :%  %  div quot rem mod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:  +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иоритет оператор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68360" y="1341360"/>
          <a:ext cx="8286840" cy="4754520"/>
        </p:xfrm>
        <a:graphic>
          <a:graphicData uri="http://schemas.openxmlformats.org/drawingml/2006/table">
            <a:tbl>
              <a:tblPr/>
              <a:tblGrid>
                <a:gridCol w="2519280"/>
                <a:gridCol w="5767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Приорит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bfdee3"/>
                          </a:solidFill>
                          <a:latin typeface="Tahoma"/>
                        </a:rPr>
                        <a:t>Операто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=  /=  &lt;  &lt;= elem notElem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amp;&amp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||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&gt;  &gt;&gt;=  =&lt;&lt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  $!  seq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ссоциативность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Оп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ператор </a:t>
            </a:r>
            <a:r>
              <a:rPr b="0" lang="ru-RU" sz="32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ссоциативен спра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выраж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яют как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ссоциативен слев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выраж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числяют как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ссоциатив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выражение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ожно вычислять в любом порядке и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еассоциативен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сли выражение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b </a:t>
            </a:r>
            <a:r>
              <a:rPr b="0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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c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рещено записывать без скобо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.П. == отражение фон-неймоновской архитектуры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388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дрес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ение из ячей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сь в ячей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ерации: битовые, арифметически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огика/сравн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зуслов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условны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х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нешние обмены (ввод/выво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356000" y="1341360"/>
            <a:ext cx="4608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я перемен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начение переменн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еменная в прав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в левой части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ot  and  or  xor  shl  shr  +  -  *  /  div  mod  &lt;&gt;  =  &lt;   &lt;=   &gt;   &gt;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call  return  halt  goto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f  for  while  until break  conti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read  wri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Ассоциативность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^2^3 = 2^8 = 256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  <a:ea typeface="Tahoma"/>
              </a:rPr>
              <a:t>≠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4^3 = 6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+ 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+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) + c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*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*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)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c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^ c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b ^ c)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: c : []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: (b : (c : []))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-&gt; 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а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b -&gt; c)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x y z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(f x) y) z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a &lt; b &lt; 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льзя!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== b == 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льзя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пределение оператор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ючевые сло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x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ссоциативность спра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xl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ассоциативность сле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неассоциативный опера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fixr 8 ^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-- </a:t>
            </a:r>
            <a:r>
              <a:rPr b="0" lang="ru-RU" sz="3200" spc="-1" strike="noStrike">
                <a:solidFill>
                  <a:srgbClr val="008000"/>
                </a:solidFill>
                <a:latin typeface="Tahoma"/>
              </a:rPr>
              <a:t>асс-ность справа, приоритет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^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:: Num a =&gt; a -&gt; a -&gt;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Прелюд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9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fixl 9  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8  ^, ^^, *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fixl 7  *, /, `quot`, `rem`, `div`, `mod`, :%,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fixl 6  +,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5  :, 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infix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4  ==, /=, &lt;, &lt;=, &gt;=, &gt;, `elem`, `notElem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3  &amp;&amp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2  |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nfixl 1  &gt;&gt;, &gt;&gt;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1  =&lt;&l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ahoma"/>
              </a:rPr>
              <a:t>infixr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0  $, $!, `seq`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8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 Карринг (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Currying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) 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ичная параметризац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ная параметр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us :: (Integer, Integer)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us (x, y) = x +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астичная параметр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usc :: Integer -&gt;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lusc x y = x +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ичная параметризация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lusc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ивает аргумент на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ccessor ::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ccessor x = plusc 1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передать часть параметр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ccessor :: Integer -&gt; Inte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uccessor = plusc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ьт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in&gt; successo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Функция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urry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ur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прелюдии преобразует не карринговую функцию и преобразует к частично примененной форм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y :: ((a, b) -&gt; c) -&gt; (a -&gt; b -&gt; 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y f x y = f (x, 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тная функция –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ncurr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curry :: (a -&gt; b -&gt; c) -&gt; ((a, b) -&gt; c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curry f (x, y) = f x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Скобк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68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ринговая функци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:: A -&gt; B -&gt; C -&gt; D -&gt; 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е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a b c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претируется т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(((f a) b) c)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аким образом определение нужно интерпретировать так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:: A -&gt; (B -&gt; (C -&gt; (D -&gt; E)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ператорные секции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2+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функция, которая прибавляет свой аргумент к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^3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я, которая возводит свой аргумент в ку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ugs.Base&gt; map (^2) [1,2,3,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1,4,9,16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ugs.Base&gt; map (2+) [1,2,3,4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[3,4,5,6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9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. Функции высшего порядк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стория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94х — первые компьюте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вые языки ближе к машине, чем к человеку. Императивный стиль, императивные языки: отражение фон-неймановской архитектур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ан Тьюринг, Джон фон Ньюм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ункциональные языки: отражение многовековой истории математ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. Шонфинкель, Хаскелл Карри, Алонсо Черч, Марков, Турчи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Abramov Sergei</cp:lastModifiedBy>
  <dcterms:modified xsi:type="dcterms:W3CDTF">2013-02-21T03:07:59Z</dcterms:modified>
  <cp:revision>457</cp:revision>
  <dc:subject/>
  <dc:title>Selling an Idea or a Product</dc:title>
</cp:coreProperties>
</file>