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26D-8B3A-444B-BBF8-DA43EA2E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E6E-9909-47B3-AE6C-4C3EE1A8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40D-C770-4288-869F-2C73AA74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6988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714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0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6988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714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1AB-7FEC-4530-B0B5-B0D89C85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DB3F-7E62-433E-B46B-37D48BC7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B811-594E-4B1A-A5D6-84232F94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ABF0-3ECF-41AE-9E13-FDC4B78C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215D-6880-4488-A690-D88562BD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DECA-B058-4392-91E0-959E26FF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79754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25F8-108C-43F8-9DD8-D8A0FFF5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98F4-19D9-4C23-9105-24A8B7BC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B07-258B-4831-8362-238EC0C5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A905-E4B5-4CEF-9AD8-6CF50985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473F-DBCF-43AE-A67A-6050C36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34FF-EC1F-4046-845C-AF2CE86B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A1EE-E722-4342-97D9-9625B632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6988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714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0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6988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714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B1E1-0654-411F-9ED6-1A5295D8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427-498C-4E6E-A9FF-6DDD2D6E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33C-1450-49A5-BBDA-3390F2D6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DF9-7D49-42FF-8410-7347EB83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79754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1A8-3064-46EF-B752-3BFD6B33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741-8D2A-4356-8A09-054E0AFC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1B4-4797-4A12-962E-F67E0D20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C10-C42D-4DEF-A196-80CB0EE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A284-D155-47E5-9936-E5B4E243B8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Picture 23" descr="Logo1"/>
          <p:cNvPicPr/>
          <p:nvPr/>
        </p:nvPicPr>
        <p:blipFill>
          <a:blip r:embed="rId2"/>
          <a:srcRect l="73278" t="0" r="0" b="0"/>
          <a:stretch/>
        </p:blipFill>
        <p:spPr>
          <a:xfrm>
            <a:off x="34920" y="44280"/>
            <a:ext cx="86508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69" name="Picture 23" descr="Logo1"/>
          <p:cNvPicPr/>
          <p:nvPr/>
        </p:nvPicPr>
        <p:blipFill>
          <a:blip r:embed="rId2"/>
          <a:stretch/>
        </p:blipFill>
        <p:spPr>
          <a:xfrm>
            <a:off x="2195640" y="93600"/>
            <a:ext cx="4716360" cy="1679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E0B5-0586-41A1-9173-57DC22DD62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лайды к курсу лекций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«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Haskell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ак первый язык программирования»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асть 2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рамов С. М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Юмагужи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.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ГП им. А.К.Айламазяна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(.):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ноголикий карринг...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8720" y="1125360"/>
            <a:ext cx="8136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.) :: </a:t>
            </a: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(b -&gt; c)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(a -&gt; b)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0" lang="ru-RU" sz="3200" spc="-1" strike="noStrike">
                <a:solidFill>
                  <a:srgbClr val="990000"/>
                </a:solidFill>
                <a:latin typeface="Tahoma"/>
              </a:rPr>
              <a:t>c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f . g) x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 (g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.) :: </a:t>
            </a: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(b -&gt; c)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(a -&gt; b)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0" lang="ru-RU" sz="3200" spc="-1" strike="noStrike">
                <a:solidFill>
                  <a:srgbClr val="990000"/>
                </a:solidFill>
                <a:latin typeface="Tahoma"/>
              </a:rPr>
              <a:t>(a -&gt; c)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 . g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  x =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 (g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.) :: </a:t>
            </a: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(b -&gt; c)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0" lang="ru-RU" sz="3200" spc="-1" strike="noStrike">
                <a:solidFill>
                  <a:srgbClr val="990000"/>
                </a:solidFill>
                <a:latin typeface="Tahoma"/>
              </a:rPr>
              <a:t>((a -&gt; b) -&gt; (a -&gt; c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йти к доске и дописать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.) f =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.) f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 = h’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’  x = f (g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терация: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ntil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ntil :: (a -&gt; Bool) -&gt; (a -&gt; a) -&gt; a -&gt; a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ntil p f x | p x  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= x</a:t>
            </a:r>
            <a:br>
              <a:rPr sz="3200"/>
            </a:b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| otherwise = until p f (f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язь и различие с итеративным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етод простой итерации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, sqrt’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вны с заданной точностью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fix 5 ~=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~=) :: Float -&gt; Float -&gt; Bool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~= b = abs (a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) &lt; h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where h = 0.00000000000000000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числение корня квадратного методом простой итерации: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rt’ x = until goodEnough improve 1 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here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oodEnough y = x ~= y*y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mprove y = (x/y + y)/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ариа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oodEnough y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x ~= y*y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 ~= square y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((x~=).square) y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oodEnough = ((x~=).squa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числение корня квадратного методом простой итерации: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rt’ x = until ((x~=).square) improve 1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where improve y = (x/y + y)/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600" spc="-1" strike="noStrike">
                <a:solidFill>
                  <a:srgbClr val="000099"/>
                </a:solidFill>
                <a:latin typeface="Tahoma"/>
              </a:rPr>
              <a:t>λ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ыраже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кции, композиции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p (2^) [1..10]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p (not.even) [1..10]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p ((5&gt;).abs) [-10..10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жные функции? 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кальное определение!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p (f) [-10..10] where f x = x*x+3*x+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выдумывать имен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p (\ x -&gt; x*x+3*x+4) [-10..10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600" spc="-1" strike="noStrike">
                <a:solidFill>
                  <a:srgbClr val="000099"/>
                </a:solidFill>
                <a:latin typeface="Tahoma"/>
              </a:rPr>
              <a:t>λ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ыраже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Формат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 \ образец -&gt; выражение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ло </a:t>
            </a:r>
            <a:r>
              <a:rPr b="0" lang="el-GR" sz="4000" spc="-1" strike="noStrike">
                <a:solidFill>
                  <a:srgbClr val="000000"/>
                </a:solidFill>
                <a:latin typeface="Tahoma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выражения может быть произвольным, однако оно не может быть рекурсивным, поскольку не существует связанного с функцией имени, на которое можно было бы ссылать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10. Числовые функции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Целочисленные задач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Частное и остаток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24000" y="1197000"/>
            <a:ext cx="9468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Symbol"/>
                <a:ea typeface="Symbol"/>
              </a:rPr>
              <a:t>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, m :: Integer,  m /= 0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n == q*m + r) &amp;&amp; (r `between` (0, m)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here q  = n `div`   m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r  = n `mod` m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c `between` (a, b)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 a == b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a == c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 a &lt; b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(a &lt;= c) &amp;&amp; (c &lt;  b)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 a &gt; b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(b &lt; c) &amp;&amp; (c &lt;= a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Частное и остаток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6000" y="1486080"/>
          <a:ext cx="8816760" cy="5111640"/>
        </p:xfrm>
        <a:graphic>
          <a:graphicData uri="http://schemas.openxmlformats.org/drawingml/2006/table">
            <a:tbl>
              <a:tblPr/>
              <a:tblGrid>
                <a:gridCol w="738000"/>
                <a:gridCol w="738360"/>
                <a:gridCol w="1920960"/>
                <a:gridCol w="1806480"/>
                <a:gridCol w="1806480"/>
                <a:gridCol w="1806480"/>
              </a:tblGrid>
              <a:tr h="102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 `div`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`mod`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`quot`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`rem`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писок простых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исел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[2 ..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n]</a:t>
            </a:r>
            <a:r>
              <a:rPr b="1" lang="en-US" sz="4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без дум об эффективности)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исок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собствен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елителей числа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br>
              <a:rPr sz="3200"/>
            </a:br>
            <a:br>
              <a:rPr sz="1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denominators ::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ger -&gt; [Integer]</a:t>
            </a:r>
            <a:br>
              <a:rPr sz="3200"/>
            </a:br>
            <a:br>
              <a:rPr sz="1200"/>
            </a:br>
            <a:r>
              <a:rPr b="0" lang="ru-RU" sz="3200" spc="-1" strike="noStrike">
                <a:solidFill>
                  <a:srgbClr val="990000"/>
                </a:solidFill>
                <a:latin typeface="Tahoma"/>
              </a:rPr>
              <a:t>Волонтер — к доске!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denominators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=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    filter ((0==).(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`mod`)) [2..(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-1)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исок простых чисел от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br>
              <a:rPr sz="3200"/>
            </a:br>
            <a:br>
              <a:rPr sz="1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mes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::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ger -&gt; [Integer]</a:t>
            </a:r>
            <a:br>
              <a:rPr sz="3200"/>
            </a:br>
            <a:br>
              <a:rPr sz="1200"/>
            </a:br>
            <a:r>
              <a:rPr b="0" lang="ru-RU" sz="3200" spc="-1" strike="noStrike">
                <a:solidFill>
                  <a:srgbClr val="990000"/>
                </a:solidFill>
                <a:latin typeface="Tahoma"/>
              </a:rPr>
              <a:t>Волонтер — к доске!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primes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=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ilter (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ull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.denominators) [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..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9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 Функции высшего поряд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писок простых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исел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[2 ..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n]</a:t>
            </a:r>
            <a:r>
              <a:rPr b="1" lang="en-US" sz="4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Решето Эратосфена)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исок простых чисел от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br>
              <a:rPr sz="3200"/>
            </a:br>
            <a:br>
              <a:rPr sz="1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mes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::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ger -&gt; [Integer]</a:t>
            </a:r>
            <a:br>
              <a:rPr sz="3200"/>
            </a:br>
            <a:br>
              <a:rPr sz="1200"/>
            </a:br>
            <a:r>
              <a:rPr b="0" lang="ru-RU" sz="3200" spc="-1" strike="noStrike">
                <a:solidFill>
                  <a:srgbClr val="990000"/>
                </a:solidFill>
                <a:latin typeface="Tahoma"/>
              </a:rPr>
              <a:t>Волонтер — к доске!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mes' x = sieve [2..x]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here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eve [] = []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eve (x : xs) =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 : sieve (filter ((0 /= ).(`mod`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)) x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акой день недели?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weekday ::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 -&gt; String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weekday 0 = "Sunday"    -- Воскресенье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weekday 1 = "Monday"    -- Понедельник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weekday 2 = "Tuesday"   -- Вторник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weekday 3 = "Wednesday" – Среда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weekday 4 = "Thursday"  -- Четверг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weekday 5 = "Friday"    -- Пятница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weekday 6 = "Saturday"  -- Субб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акой день недели?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ила определения високосных годов в григорианском календаре (введен папой Григорием в 1752 году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номер года делится на 4, то год является високосны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если номер года делится на 100, то год не високосны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если номер года делится на 400, то год високосный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вестно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декабря 0 года было воскресень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колько дней прошло с 31 декабря 0 года до?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365 *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исл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шедши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ет с 31.12.0 до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.m.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исл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шедших високос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исло дней во все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же прошедших месяцах в год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 даты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.m.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ahoma"/>
              </a:rPr>
              <a:t>Волонтер — к доске!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ведем все это в день недели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ечный календарь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7080" y="162828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daynumber d m y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y &gt;1752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=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(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y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*365 +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y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`div` 4 –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y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`div` 100 +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y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`div` 400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+ sum (take (m-1) months)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+ d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) `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od`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7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where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y1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= y-1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months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= [31,feb,31,30,31,30,31,31,30,31,30,31]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feb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= if leap then 29 else 28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leap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= (y `mod` 400 == 0)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|| ((y `mod` 4 == 0) &amp;&amp; (y `mod` 100 /= 0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weekday d m y = weekd (daynumber d m 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Разработка программы «сверху-вниз» на пример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7080" y="162828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weekday d m y = </a:t>
            </a: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weekd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daynumber d m y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daynumber d m y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y &gt;1752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=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( 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y1</a:t>
            </a: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*365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+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y1</a:t>
            </a: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 `div` 4 –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y1</a:t>
            </a: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 `div` 100 +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y1</a:t>
            </a: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 `div` 400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+ </a:t>
            </a: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sum (take (m-1) </a:t>
            </a: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months</a:t>
            </a: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+ </a:t>
            </a: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d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) `m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od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` 7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where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y1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= y-1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months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= [31,</a:t>
            </a: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feb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,31,30,31,30,31,31,30,31,30,31]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feb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= if </a:t>
            </a: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leap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then 29 else 28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leap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= (y `mod` 400 == 0)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|| ((y `mod` 4 == 0) &amp;&amp; (y `mod` 100 /= 0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Ink 4"/>
          <p:cNvSpPr/>
          <p:nvPr/>
        </p:nvSpPr>
        <p:spPr>
          <a:xfrm>
            <a:off x="7835760" y="4591080"/>
            <a:ext cx="6480" cy="4680"/>
          </a:xfrm>
          <a:custGeom>
            <a:avLst/>
            <a:gdLst/>
            <a:ahLst/>
            <a:rect l="l" t="t" r="r" b="b"/>
            <a:pathLst>
              <a:path w="16" h="14">
                <a:moveTo>
                  <a:pt x="21768" y="12754"/>
                </a:moveTo>
                <a:cubicBezTo>
                  <a:pt x="21779" y="12752"/>
                  <a:pt x="21783" y="12752"/>
                  <a:pt x="21783" y="127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Ink 5"/>
          <p:cNvSpPr/>
          <p:nvPr/>
        </p:nvSpPr>
        <p:spPr>
          <a:xfrm>
            <a:off x="928800" y="3092400"/>
            <a:ext cx="446040" cy="65160"/>
          </a:xfrm>
          <a:custGeom>
            <a:avLst/>
            <a:gdLst/>
            <a:ahLst/>
            <a:rect l="l" t="t" r="r" b="b"/>
            <a:pathLst>
              <a:path w="1241" h="184">
                <a:moveTo>
                  <a:pt x="2627" y="8589"/>
                </a:moveTo>
                <a:cubicBezTo>
                  <a:pt x="2616" y="8599"/>
                  <a:pt x="2593" y="8613"/>
                  <a:pt x="2585" y="8623"/>
                </a:cubicBezTo>
                <a:cubicBezTo>
                  <a:pt x="2583" y="8627"/>
                  <a:pt x="2582" y="8632"/>
                  <a:pt x="2580" y="8636"/>
                </a:cubicBezTo>
                <a:cubicBezTo>
                  <a:pt x="2601" y="8645"/>
                  <a:pt x="2622" y="8656"/>
                  <a:pt x="2644" y="8664"/>
                </a:cubicBezTo>
                <a:cubicBezTo>
                  <a:pt x="2710" y="8688"/>
                  <a:pt x="2780" y="8704"/>
                  <a:pt x="2848" y="8719"/>
                </a:cubicBezTo>
                <a:cubicBezTo>
                  <a:pt x="3055" y="8763"/>
                  <a:pt x="3265" y="8778"/>
                  <a:pt x="3476" y="8765"/>
                </a:cubicBezTo>
                <a:cubicBezTo>
                  <a:pt x="3576" y="8759"/>
                  <a:pt x="3685" y="8746"/>
                  <a:pt x="3775" y="8696"/>
                </a:cubicBezTo>
                <a:cubicBezTo>
                  <a:pt x="3790" y="8685"/>
                  <a:pt x="3805" y="8673"/>
                  <a:pt x="3820" y="86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11. Числовые функции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исленные вычисле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исленное дифференцировани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5160" y="1341360"/>
            <a:ext cx="8754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diff   :: (Float -&gt; Float) -&gt; (Float -&gt; Float)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diff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’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her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x = (f (x + h) - f x) / h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h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0.0001</a:t>
            </a:r>
            <a:br>
              <a:rPr sz="1400"/>
            </a:b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вивалентная карринговая форма:</a:t>
            </a:r>
            <a:br>
              <a:rPr sz="3200"/>
            </a:br>
            <a:br>
              <a:rPr sz="14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diff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::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Float -&gt; Float) -&gt; Float -&gt; Float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diff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f (x + h) - f x) / h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her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0.0001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ования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… diff ( square . sin )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араметриза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lexDiff h f x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(f (x + h) - f x) / h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roughDiff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flexDiff 0.01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ineDiff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flexDiff 0.0001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superDiff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flexDiff 0.000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Ink 5"/>
          <p:cNvSpPr/>
          <p:nvPr/>
        </p:nvSpPr>
        <p:spPr>
          <a:xfrm>
            <a:off x="1938240" y="21780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6052"/>
                </a:moveTo>
                <a:lnTo>
                  <a:pt x="5383" y="6052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ули функции,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метод Ньютон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3529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иближение к корню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ункц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(x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 – f(b)/f’(b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улучшенное приближение к корню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ункц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6" descr="ZERO"/>
          <p:cNvPicPr/>
          <p:nvPr/>
        </p:nvPicPr>
        <p:blipFill>
          <a:blip r:embed="rId1"/>
          <a:stretch/>
        </p:blipFill>
        <p:spPr>
          <a:xfrm>
            <a:off x="3780000" y="1341360"/>
            <a:ext cx="511308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Функции высшего поряд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ункции первого порядка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аргументы не есть функ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ункции высшего порядка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часть аргументов есть функ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ему о результатах не сказано? — Карринг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сточни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деи функций высшего порядка: функции должны иметь тот же статус, что и любая иная величина, одни функции могут быть входными и выходными данными други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знакомим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применением функций высшего порядка на ряде приме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4360" y="-360"/>
            <a:ext cx="7848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ули функции,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метод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ьютон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zero f = until goodEnough improve 1.0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where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improve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- f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/ diff  f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goodEnough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= f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~= 0.0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риация: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zero f = until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(0 ~=) . f)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improve 1.0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where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improve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- f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/ diff  f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… zero sin 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… zero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uare . sin)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братная функ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каком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л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функции?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(x) = square x – a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(x) = cube x – 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ube x = x*x*x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(x) = sin x – a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(x) = cos x – a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ит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rt’’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= zero f where f x = square x – a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ubic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= zero f where f x = cube x – a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csi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= zero f where f x = sin x – a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cco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= zero f where f x = cos x –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братная функ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893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бщаем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verse :: (Float –&gt; Float) –&gt; (Float –&gt; Float)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verse f a = zero g where g x = f x – a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ит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rt’’, cubic, arcsin, arccos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n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                    :: (Float –&gt; Float)</a:t>
            </a:r>
            <a:br>
              <a:rPr sz="3200"/>
            </a:b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rt’’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verse square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ubic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inverse cube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csi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inverse sin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cco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inverse cos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inverse ex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граниченная применимость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анное выше основано на методе Ньютона и применимы в области применимости (сходимости) данного мет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ервую очередь материал носит иллюстративный характ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практики есть более эффективные методы вычисления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rt, cubic, arcsin, arccos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12. Структуры данных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писк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писк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а из самых распространенных структур данных в функциональном программирова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исок — коллекция элементов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дного тип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особы порождения спис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[1, 2, 3]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1 : 2 : 3 :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[]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ямое перечисление и конструирование при помощи конструкторов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: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[1..100]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исловые интерва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[ x*x | x &lt;- [1..100], odd x ]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бстракции спис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лиморфизм конструкторов сп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in&gt; :t [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] :: [a]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in&gt;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:t (: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:) :: a -&gt; [a] -&gt; [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рка на пустой список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ul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 [a] -&gt; Bool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ull []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Tru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ull (_:_)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Fa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казание числовых интервалов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.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зарезервирова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i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&gt; [1 .. 9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1, 2, 3, 4, 5, 6, 7, 8, 9]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i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&gt; [2.6 .. 6.0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2.6, 3.6, 4.6, 5.6]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i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&gt; [2,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5 .. 20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2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8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1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4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7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0]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i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&gt; [1 .. 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1, 2, 3, 4, 5, 6, 7, 8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{Interrupted!}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i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&gt; [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3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.. 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1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3, 5, 7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9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11, 13, {Interrupted!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казание числовых интервалов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lass Enum a 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…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numFrom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a -&gt; 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-- [n..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numFromThen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a -&gt; a -&gt; 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-- [n,m..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numFromTo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a -&gt; a -&gt; 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-- [n..m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numFromThenTo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a -&gt; a -&gt; a -&gt; 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-- [n,n'..m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равнение списков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молч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можно и переопределить...): два списка равны, если они содержат одни и те же элементы в том же поряд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 Eq a =&gt; Eq [a]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[]        == []        =  Tru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(x:xs) == (y:ys) =  x==y &amp;&amp; xs==ys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_         == _         =  Fa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зовый тип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лжен быть из класса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q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ы «несравнимых» списков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Функции на списках: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map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filter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459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map :: (a -&gt; b) -&gt; [a] -&gt; [b]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map f [ ]     = []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map f (x:xs)  = f x : map f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уктурная индукция, сравнение с образц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ilter  :: (a -&gt; Bool) -&gt; [a] -&gt; [a]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ilter p [ ]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[ ]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ilter p (x:xs)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| p x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x : filter p xs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| otherwise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filter p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Лексикографический порядок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молч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ожно переопределить...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два списка сравниваются в лексикографическом поряд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nstance Ord a =&gt; Ord [a] wher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compare []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_:_)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L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compare []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[]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EQ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compare (_:_)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[]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G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compare (x:xs)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y:ys)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ase compare x y of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T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-&gt; LT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GT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-&gt; GT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Q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-&gt;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compare xs 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азовый тип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должен быть из класса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Or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меры «несравнимых» списков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ppend: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бъединение списков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1,2]     ++ [3,4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[1,2,3,4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1:2:[])++ (3:4:[]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1:2:3:4:[]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++) :: [a] -&gt; [a] -&gt; 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 ]       ++ ys  = y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x:xs) ++ ys  = x : (xs ++ 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Concat: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бъединение списков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oncat [[1, 2], [3], [], [4, 5, 6]]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1, 2, 3, 4, 5, 6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ниге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onca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[[a]] -&gt; [a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oncat []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[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oncat (xs:xss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xs ++ concat x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елюдии:</a:t>
            </a:r>
            <a:br>
              <a:rPr sz="3200"/>
            </a:b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conca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:: [[a]] -&gt; [a]</a:t>
            </a:r>
            <a:br>
              <a:rPr sz="3200"/>
            </a:b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conca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= foldr (++) [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181440" y="3787920"/>
            <a:ext cx="453564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head      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:: [a] -&gt; a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head (x:_)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= x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ast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:: [a] -&gt; a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ast [x]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= x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ast (_:xs)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= last x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11"/>
          <p:cNvPicPr/>
          <p:nvPr/>
        </p:nvPicPr>
        <p:blipFill>
          <a:blip r:embed="rId1"/>
          <a:stretch/>
        </p:blipFill>
        <p:spPr>
          <a:xfrm>
            <a:off x="684360" y="1324080"/>
            <a:ext cx="7704000" cy="2536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Разбиение списка на част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56000" y="3787920"/>
            <a:ext cx="478800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tail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:: [a] -&gt; [a]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tail (_:xs)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= xs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init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:: [a] -&gt; [a]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init [x]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= []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init (x:xs)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= x : init x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4572000" y="3960720"/>
            <a:ext cx="0" cy="285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11"/>
          <p:cNvPicPr/>
          <p:nvPr/>
        </p:nvPicPr>
        <p:blipFill>
          <a:blip r:embed="rId1"/>
          <a:stretch/>
        </p:blipFill>
        <p:spPr>
          <a:xfrm>
            <a:off x="1332000" y="1052640"/>
            <a:ext cx="6480000" cy="22064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Разбиение списка на част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3428640"/>
            <a:ext cx="8353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take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:: Int -&gt; [a] -&gt; [a]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take n  _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| n &lt;= 0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= []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take _  []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= []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take n  (x:xs)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= x : take (n-1) x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drop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:: Int -&gt; [a] -&gt; [a]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drop n xs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| n &lt;= 0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= xs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drop _ []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= []</a:t>
            </a:r>
            <a:br>
              <a:rPr sz="2400"/>
            </a:b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drop n (_:xs) 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ahoma"/>
              </a:rPr>
              <a:t>= drop (n-1) x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Разбиение списка на част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75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splitAt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Int -&gt; [a] -&gt; ([a], [a]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splitAt n xs | n &lt;= 0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([],xs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splitAt _ []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([],[]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splitAt n (x:xs)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(x:xs',xs''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where (xs',xs'') = splitAt (n-1) x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akeWhile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(a -&gt; Bool) -&gt; [a] -&gt; [a]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akeWhile p []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[]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akeWhile p (x:xs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| p x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x : takeWhile p xs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| otherwise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[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ropWhile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(a -&gt; Bool) -&gt; [a] -&gt; [a]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ropWhile p []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[]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ropWhile p xs@(x:xs'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| p x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dropWhile p xs‘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| otherwise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x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Разбиение списка на част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627200"/>
            <a:ext cx="89996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fixl 9 !!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!!)             :: [a] -&gt; Int -&gt; a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x:_)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!! 0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x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_:xs)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!! n | n&gt;0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xs !! (n-1)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_:_)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!! _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error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"Prelude.!!: negative index "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[]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!! _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error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"Prelude.!!: index too large 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ayofweek d =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"Sunday", "Monday"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"Tuesday",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"Wednesday"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"Thursday", "Friday"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"Saturday"] !!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бращение списк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ниге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everse       ::  [a] -&gt; [a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everse []     =  [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everse (x:xs) =  reverse xs ++ [x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елюдии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everse   :: [a] -&gt; [a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reverse    = foldl (flip (:)) []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99"/>
                </a:solidFill>
                <a:latin typeface="Tahoma"/>
              </a:rPr>
              <a:t>flip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99"/>
                </a:solidFill>
                <a:latin typeface="Tahoma"/>
              </a:rPr>
              <a:t>:: (a -&gt; b -&gt; c) -&gt; b -&gt; a -&gt; c</a:t>
            </a:r>
            <a:br>
              <a:rPr sz="3200"/>
            </a:br>
            <a:r>
              <a:rPr b="1" lang="es-ES" sz="3200" spc="-1" strike="noStrike">
                <a:solidFill>
                  <a:srgbClr val="000099"/>
                </a:solidFill>
                <a:latin typeface="Tahoma"/>
              </a:rPr>
              <a:t>flip f x y      = f y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Длина списк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964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ниге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ength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 [a] -&gt; In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ength [ ]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 0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ength (x:xs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 1 + length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елюдии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ength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 [a] -&gt; In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ength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foldl' (\n _ -&gt; n + 1)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оверка вхождения элемента в список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lem, notElem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: Eq a =&gt; a -&gt; [a] -&gt; Bool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lem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any . (==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otElem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all . (/=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ny, all  :: (a -&gt; Bool) -&gt; [a] -&gt; Bool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ny p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or . map p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ll p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and . map 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Повторно используемый код?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um      [ ]    = 0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um      (x:xs) = x + sum  x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duct  [ ]    = 1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duc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x:xs) = x * product x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d      [ ]    = True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d      (x:xs) = x &amp;&amp; and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ортировка вставкой: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Ord a =&gt; [a]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List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нига)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ert            ::  Ord a =&gt; a -&gt; [a] -&gt; [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ert e [ ]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[e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ert e (x:xs)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| e &lt;=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e : x : xs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| otherwis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x : insert e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ортировка вставкой: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Ord a =&gt; [a]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[a, b, c, d] —? —&gt;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`insert`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`insert`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`insert`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`insert`[]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sort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:: Ord a =&gt; [a] -&gt; [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sort  = foldr insert [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ортировка слиянием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erg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Ord a =&gt; [a] -&gt; [a] -&gt; [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erge []   ys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ys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erge xs   []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xs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erge (x:xs) (y:ys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|  x &lt;= y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x : merge xs (y:ys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| otherwis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y : merge (x:xs) 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ортировка слиянием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sort   :: Ord a =&gt; [a] -&gt; [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sort  xs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| len &lt;= 1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xs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| otherwis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merg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msort ys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msort zs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e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ength x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y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zs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splitAt (l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`div` 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Функции высшего порядка на списках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нее обсуждены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p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(a -&gt; b) -&gt; [a] -&gt; [b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ilte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(a -&gt; Bool) -&gt; [a] -&gt; [a]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fold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:: (a -&gt; b -&gt; a) -&gt; a -&gt; [b] -&gt; a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fold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:: (a -&gt; b -&gt; b) -&gt; b -&gt; [a] -&gt;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oldr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… 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(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…(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) … 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old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… 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((…(((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…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вертки без начального значе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записать максимум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ximum xs = foldl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?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(max) x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=&gt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ужна свертка без начального значения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oldr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… 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(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…(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… 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old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… 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((…((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…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вертки без начального значе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foldl1           :: (a -&gt; a -&gt; a) -&gt; [a] -&gt; a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foldl1 f (x:xs)   = foldl f x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oldr1           :: (a -&gt; a -&gt; a) -&gt; [a] -&gt;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oldr1 f [x]      = x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oldr1 f (x:xs)   = f x (foldr1 f x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Функция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zip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zipWith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360" y="1341000"/>
            <a:ext cx="903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zi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zipWit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берет два спис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вращает список па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ответствующих элементов; если списки разной длины, то длина результата равна более короткой дл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людия (в книге не так):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zipWith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:: (a-&gt;b-&gt;c) -&gt; [a]-&gt;[b]-&gt;[c]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zipWith z (a:as) (b:bs)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= z a b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zipWith z as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zipWith _ _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_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= []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zip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: [a] -&gt; [b] -&gt; [(a,b)]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zip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= zipWith  (\a b -&gt; (a,b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Функция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zip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zipWith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2868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p :: Num a =&gt; [a] -&gt; [a] -&gt;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p xs ys  = sum (zipWith (*) xs 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зотика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zip3, zipWith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5" descr="11"/>
          <p:cNvPicPr/>
          <p:nvPr/>
        </p:nvPicPr>
        <p:blipFill>
          <a:blip r:embed="rId1"/>
          <a:stretch/>
        </p:blipFill>
        <p:spPr>
          <a:xfrm>
            <a:off x="5435640" y="1336680"/>
            <a:ext cx="360036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Этюд н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zipWith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: проверка отсортированности спис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sSorted ::  Ord a =&gt; [a] -&gt; B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sSorted xs = (null xs) ||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nd (zipWith (&lt;=) xs (tail xs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полноты картины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unzip   :: [(a,b)] -&gt; ([a],[b]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unzip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foldr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onss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[], []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conss (x,y) (xs, ys) = (x:xs, y: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авая свертка: foldr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oldr :: ( a -&gt; b -&gt; b) -&gt; b -&gt; [a] -&gt; b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oldr f e [ ]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e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foldr f e (x:xs)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x `f` foldr f e x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sum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foldr   (+)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0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product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foldr   (*)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1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and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foldr   (&amp;&amp;)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канирование слев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an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old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old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old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old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old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…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old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канирование слев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полагая левую ассоциативность у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an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…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...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ы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scanl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anl (+) 0 [1, 1 ..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??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anl (*) 1 [1 ..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 ??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ее — два подхода к определению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an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наивный и эффектив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ефиксы списк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its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…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Наивно: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scanl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через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nit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its :: [a] -&gt; [[a]] ---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its [ ]       = [[ ]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its (x:xs) = [ ] : map (x:) (inits x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scanl :: (a-&gt;b-&gt;a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[b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[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scan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e xs = map (foldl f e) (inits x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scan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e = map (foldl f e) . i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жность вычислений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О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канирование слев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полагая левую ассоциативность у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an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…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...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канирование слев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полагая левую ассоциативность у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an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: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…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...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канирование слев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полагая левую ассоциативность у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an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: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’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’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’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’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…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’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...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 where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’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канирование слев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полагая левую ассоциативность у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an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: scan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’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’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=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: scanl (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(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…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Эффективное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scanl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scanl :: (a-&gt;b-&gt;a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[b]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---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броволец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scan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e [ ]       = [e]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scan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e (x:xs) = e : 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scanl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(f e x)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жность вычислений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О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Левая и правая свертки: fold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r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foldl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8248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dr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 e [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…  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] =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dr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 e 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 … 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[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 … ))) =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…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)) … 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polynomial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x    [c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  c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…  c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 c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] =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(</a:t>
            </a: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x·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x·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… (</a:t>
            </a: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x·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x·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+c</a:t>
            </a:r>
            <a:r>
              <a:rPr b="0" lang="en-US" sz="3200" spc="-1" strike="noStrike" baseline="-25000">
                <a:solidFill>
                  <a:srgbClr val="008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+c</a:t>
            </a:r>
            <a:r>
              <a:rPr b="0" lang="en-US" sz="3200" spc="-1" strike="noStrike" baseline="-25000">
                <a:solidFill>
                  <a:srgbClr val="99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…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+c</a:t>
            </a:r>
            <a:r>
              <a:rPr b="0" lang="en-US" sz="3200" spc="-1" strike="noStrike" baseline="-25000">
                <a:solidFill>
                  <a:srgbClr val="008000"/>
                </a:solidFill>
                <a:latin typeface="Tahoma"/>
              </a:rPr>
              <a:t>N-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+c</a:t>
            </a:r>
            <a:r>
              <a:rPr b="0" lang="en-US" sz="3200" spc="-1" strike="noStrike" baseline="-25000">
                <a:solidFill>
                  <a:srgbClr val="99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dl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 e [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…  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] =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dl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 e 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 … 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(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[])) … ))) =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((…(((e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…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-1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канирование справ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canr f e = map (foldr f e) .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ails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 [x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, []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ails :: [a] -&gt; [[a]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ails [ ]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= [[ ]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ails xxs@(_:xs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= xxs : tails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scanr :: (a -&gt; b -&gt; b) -&gt; b -&gt; [a] -&gt; [b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canr f e [ ]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[e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canr f e (x:xs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f x y : y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where  y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@(y:_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= scanr f e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канирование без пустых списков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ca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1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f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map (fold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1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f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nits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canr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f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map (foldr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f e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ails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scanl1 :: (a -&gt; a -&gt; a) -&gt; [a] -&gt; [a]</a:t>
            </a:r>
            <a:br>
              <a:rPr sz="3200"/>
            </a:b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scanl1 f [ ]        = [ ]</a:t>
            </a:r>
            <a:br>
              <a:rPr sz="3200"/>
            </a:b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scanl1 f (x:xs)  = scanl f x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scanr1 :: (a -&gt; a -&gt; a) -&gt; [a] -&gt; [a]</a:t>
            </a:r>
            <a:br>
              <a:rPr sz="3200"/>
            </a:b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scanr1 f []       = []</a:t>
            </a:r>
            <a:br>
              <a:rPr sz="3200"/>
            </a:b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scanr1 f [x]      = [x]</a:t>
            </a:r>
            <a:br>
              <a:rPr sz="3200"/>
            </a:b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scanr1 f (x:xs)   = f x q : qs</a:t>
            </a:r>
            <a:br>
              <a:rPr sz="3200"/>
            </a:b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    where qs@(q:_) = scanr1 f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1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 Структуры данных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писки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.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Абстракции списков.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бстракции списков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ктика математической нотаци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x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| x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N, x </a:t>
            </a:r>
            <a:r>
              <a:rPr b="0" i="1" lang="ru-RU" sz="2800" spc="-1" strike="noStrike">
                <a:solidFill>
                  <a:srgbClr val="000099"/>
                </a:solidFill>
                <a:latin typeface="Tahoma"/>
              </a:rPr>
              <a:t>четное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стракция списков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 x*x | x&lt;-[1..], even x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щее определе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 e | S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S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… S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выражение над переменными, опреде-ленные вне конструкции или справа от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диапазон изменения»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Q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итерато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енератор), или предикатное (охранное) выраж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ли локальное определ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«Диапазон изменения»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Q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(итератор, генератор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 x*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&lt;-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[1..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щий случай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| x &lt;- xs, Q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выра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x :: a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образец (определяет переменны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xs :: [a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выражение-источн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Базовая семантика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e |  ] = [ e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Семантика (правило генерации)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e | x &lt;-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s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, Q] = concat (map f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s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                where f x =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 | Q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едикатное (охранное) выражение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P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 x*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&lt;-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1..],  even x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щий случай: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p, Q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выра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 :: Bool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огическое выра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Семантика (охранное правило)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e | p, Q] = if p then 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 | Q] else [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Локальное определение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L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Пример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 (x*x, y)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&lt;-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1..10], y&lt;-[1..10]]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 (xx, y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x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&lt;-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1..10],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let xx = x*x, y&lt;-[1..10]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бщий случай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let p = e’, Q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выра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, e’ :: a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образец и выра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Семантика (локальное определение)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e |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et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= e’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, Q] =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et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= e’ in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e | Q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x * x  | x &lt;- [1 .. 5], odd x] =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авило генераци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oncat (map f [ 1 .. 5])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 x = [x*x| odd x] =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хранное правило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oncat (map f [ 1 .. 5])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 x = if odd x then [x*x] else [ ] =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именение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p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oncat [[1], [ ], [9], [ ], [25]] =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имен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oncat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1, 9, 25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ифагоровы треугольник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675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заданного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 все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рос-тые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+ y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ahoma"/>
              </a:rPr>
              <a:t>2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= z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 ≤ x ≤ y ≤ z ≤ 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yphs :: Integer -&gt;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[(Integer, Integer, Integer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Доброволец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yphs n  =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[ (x, y, z) | x &lt;- [1 .. n],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    y &lt;- [x+1 .. n]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    z &lt;- [y+1 .. n]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    x*x + y*y == z*z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    gcd x (gcd y z) == 1 ]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yphs   200: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3,443,359/ 82,847,859/ 3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ифогоровы треугольник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yphs1 n  =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[ (x, y, z) | x &lt;- [1 .. n]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    let xx =  x*x,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    y &lt;- [x+1 .. n]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    let yy =  y*y,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    z &lt;- [y+1 .. n]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    xx + yy == z*z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    gcd x (gcd y z) == 1 ]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yphs   200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3,443,359/ 82,847,859/ 350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yphs1 200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3,015,745/ 63,842,041/ 2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авая свертка: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foldl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foldl :: ( b -&gt; a -&gt; b) -&gt; b -&gt; [a] -&gt; b</a:t>
            </a:r>
            <a:br>
              <a:rPr sz="3200"/>
            </a:b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foldl f e [ ]</a:t>
            </a: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= e</a:t>
            </a:r>
            <a:br>
              <a:rPr sz="3200"/>
            </a:b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foldl f e (x:xs)</a:t>
            </a: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= foldl f ( e `f` x) xs</a:t>
            </a:r>
            <a:br>
              <a:rPr sz="3200"/>
            </a:b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числение (по схеме Горнера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ином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коэффициентами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точке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polynomial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s =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dl f 0 cs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here f s c = x*s+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ифогоровы треугольник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sqrt = truncate . sqrt . fromInteger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yphs2 n  =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[ (x, y, z) | x &lt;- [1 .. n],      let xx =  x*x,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y &lt;- [x+1 .. n], let yy =  y*y,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let z = isqrt (xx+yy)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z &lt;= n,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xx + yy == z*z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             gcd x (gcd y z) == 1 ]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yphs   200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3,443,359/ 82,847,859/ 350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yphs1 200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3,015,745/ 63,842,041/ 269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yphs2 200: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,301,711/   6,739,367/    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ифогоровы треугольник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yphs3 n  =  [ (x, y, z) |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let nn = n*n,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let n’ = isqrt (nn `div` 2)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x &lt;- [1 .. n’]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let xx =  x*x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let n’’ = isqrt(nn - xx),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y &lt;- [x+1 .. n’’]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1 == gcd x y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let yy =  y*y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let z = isqrt (xx+yy)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z &lt;= n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xx + yy == z*z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ифогоровы треугольник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yphs   200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3,443,359/ 82,847,859/ 350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yphs1 200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3,015,745/ 63,842,041/ 269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yphs2 200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,301,711/   6,739,367/    28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yphs3 200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,043,941/   6,572,842/   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Абстракция списков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vs.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                   map, filter, concat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заимно выразим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язан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ap f xs = [ f  x | x &lt;- xs 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filter p xs = [ x | x &lt;- xs, p x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oncat [ [ e | p ]  | Q] = [ e | Q, p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 e | Q, x &lt;- [ d | P]] = [e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{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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}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| Q, P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ло вкуса и меры выбирать между ни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мер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oncat (map f (filter even [1 .. 5])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 f x = map g [1 .. x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 g y = (x, y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(x, y)| x &lt;- [1 .. 5], even x, y &lt;- [1 .. x]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(2,1), (2,2), (4,1), (4,2), (4,3), (4,4)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1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4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 Структуры данных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писки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.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Бесконечные списки.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оздание бесконечных списков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асибо ленивой семанти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numFrom n = n : enumFrom (n+1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&gt;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numFrom 1 ?      -- [1 ..] = [1, 2, 3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исок вполне определен (конструктивен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ет быть весь целиком мы его за конечное время не построим, однак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фикс любой длин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а значит и любой элемент в списке) строится за конечное врем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еречис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Бесконечные списки на практик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роить список степеней тройки (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&gt;=0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ньшие заданного числ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akeWhile (&lt;=k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(map (3^) [1..]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о удобно рассматривать бесконечные (ленивые) перечисления объектов, из которых отбирается нужный (нужны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Жадные» функции неприменимы к бесконечным списка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Функции на бесконечных списках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epeat :: a -&gt; 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epeat x = x : repeat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opy :: Int -&gt; a -&gt; 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opy n x = take n (repeat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и высшего порядка на бесконечных списк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erate :: (a -&gt; a) -&gt; a -&gt; 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erate f x = x : iterate f (f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лучение списка простых чисел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этюд н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iterate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3, 4, 5, 6, 7, 8, 9, 10, 11 …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5, 7, 9, 11, 13, 15, 17, 19 …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5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7, 11, 13, 17, 19, 23, 25 …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rossout (x:xs)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ilter ((0 /=).(`mod`x)) x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erate crossout [2 ..]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3, 4, 5, 6, 7, 8, 9, 10, 11 ..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5, 7, 9, 11, 13, 15, 17, 19 ..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5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7, 11, 13, 17, 19, 23, 25 ..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зиция функци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.) :: (b -&gt; c) -&gt; (a -&gt; b) -&gt; (a -&gt; c)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f . g) x = f (g x)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odd = not . even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позиция позволяет более компактно (без вспомогательных обозначений) записывать алгоритм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lter (not . even) [1..100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лучение списка простых чисел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этюд н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iterate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rimes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p head (iterate crossout [2 ..]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 crossout (x:xs)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ilter ((0 /=).(`mod`x)) x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p head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3, 4, 5, 6, 7, 8, 9, 10, 11 ..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5, 7, 9, 11, 13, 15, 17, 19 ..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5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7, 11, 13, 17, 19, 23, 25 ..],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] = [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5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ленивой семантики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енератор псевдослуча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й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ых чисе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нальд Кнут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Искусство программирования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ext_seed :: Int -&gt; In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ext_seed n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ase test&gt;0 of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rue  -&gt; test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alse -&gt; test + 2147483647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est = 48271 * lo - 3399 * hi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hi    = n `div`   44488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o    = n `mod` 4448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енератор псевдослучаных чисе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севдослучайные из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0.. 2147483647]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and :: [Int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and  = iterate next_seed 23765492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севдослучайные из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0..99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and :: [Int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and = [ x `mod` 100 |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 &lt;- iterate next_seed 23765492 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Abramov Sergei</cp:lastModifiedBy>
  <dcterms:modified xsi:type="dcterms:W3CDTF">2013-09-26T17:34:57Z</dcterms:modified>
  <cp:revision>789</cp:revision>
  <dc:subject/>
  <dc:title>Selling an Idea or a Product</dc:title>
</cp:coreProperties>
</file>