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404-227A-4D4B-A4BD-B1903D1F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118-B54C-42C7-BFCB-43388A4A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018-3DEF-4827-A6A4-05CD9C8D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43B-1940-460B-9208-13EAF92D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C3BC-43A9-4A1A-A843-D7BEB992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3A3F-4550-43E8-A27F-A79FF2E1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E052-C805-4CA2-B4C1-EDA19578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5AB2-90F5-4613-A38A-7AC4931E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67F5-A218-4C2E-A0A8-352AF40E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0E36-FE08-4A44-8B07-A68B756E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B05E-C3B9-4EE4-AADA-6467C5EC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869-70AD-4799-902A-BC14A741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F1A-B0A4-418A-A9F0-AC8ECBA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AB64-179C-4899-BD57-25CEAC04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0CAE-C4E3-4C57-8C97-B7A453AF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3FE4-3A59-4A42-AC95-31F8C800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F520-D9D9-4A95-BC1D-BD287BA5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31C-D506-440B-A499-94C15A8A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A13-4384-40D2-A8DE-ADE5D789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799-4FF8-4A89-9759-70599045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9CA-9C6B-4613-8811-00759037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4C4-D621-4D60-B3E4-58E88F8F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6F8-BE5D-42C5-A2C7-4F973CC0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E5E-209D-427F-B940-4893A89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8892-7CFC-4CDB-91D6-F4BCB2FB9A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Picture 23" descr="Logo1"/>
          <p:cNvPicPr/>
          <p:nvPr/>
        </p:nvPicPr>
        <p:blipFill>
          <a:blip r:embed="rId2"/>
          <a:srcRect l="73278" t="0" r="0" b="0"/>
          <a:stretch/>
        </p:blipFill>
        <p:spPr>
          <a:xfrm>
            <a:off x="34920" y="44280"/>
            <a:ext cx="86508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69" name="Picture 23" descr="Logo1"/>
          <p:cNvPicPr/>
          <p:nvPr/>
        </p:nvPicPr>
        <p:blipFill>
          <a:blip r:embed="rId2"/>
          <a:stretch/>
        </p:blipFill>
        <p:spPr>
          <a:xfrm>
            <a:off x="2195640" y="93600"/>
            <a:ext cx="4716360" cy="1679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D86C-86EF-43B6-89C0-DABDC69E57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к первый язык программирования»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ь 3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Юмагужи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ГП им. А.К. 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отив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добно ввест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вое определение тип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волит яснее отразить назначение функций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ype Point = (Float, Float)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stanc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Point -&gt; Floa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ifferenc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oint -&gt; Point -&gt; Floa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area_polygon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[Point] -&gt; Floa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ransf_polygon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(Point -&gt; Point) -&gt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[Point] -&gt; [Point]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даление вершины из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join :: Tree a -&gt; Tree a -&gt; Tree a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join Leaf b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b2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join b1    Leaf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b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join b1    b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Node x b1' b2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    where (x, b1') = largest b1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argest :: Tree a -&gt; (a, Tree a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argest (Node x b1 Leaf) = (x, b1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argest (Node x b1 b2)   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y, Node x b1 b2'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 (y, b2') = largest b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170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лава 23.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азмеченное объединение.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ки поле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1" name="AutoShape 3"/>
          <p:cNvSpPr/>
          <p:nvPr/>
        </p:nvSpPr>
        <p:spPr>
          <a:xfrm>
            <a:off x="-36360" y="486900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оступ к полям: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по шаблону (позиционный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или по именам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ta Poin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= P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Float Floa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Floa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Poin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-&gt; Floa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(P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x _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_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x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y3D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Poin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-&gt; Float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y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(P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_ y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_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y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3D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Poin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-&gt; Float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(P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_ _ z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ta Poin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=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{ x3D::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Floa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, 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y3D::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Floa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z3D::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Floa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ta Poin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=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{ x3D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y3D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z3D ::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Floa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Метки полей: одним выстрелом двух зайце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Poin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{ x3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y3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z3D :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loa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есь сразу определены и конструктор, и селектор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Float-&gt;Float-&gt;Float -&gt; Poin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z3D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Poin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-&gt; Flo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P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x _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_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x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P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_ 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_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z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P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_ _ z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Метки полей: использова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bsPoint :: Point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-&gt; Flo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bsPoint 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qrt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3D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 *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3D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 +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y3D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 *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3D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+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z3D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 *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z3D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bsPoint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Pt3D x y z)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qrt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+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 + z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z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bsPoint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(Pt3D {x3D=x, y3D=y, z3D=z})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qrt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+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 + z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z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Метки полей: построение новых величин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{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z3D = 3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}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дентично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3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pdate function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py-on-write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астичное переопределение значений пол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X0Z :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i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 -&gt;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i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X0Z 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 y z) = 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3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 0 z)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X0Z p =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p{y3D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0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Метки полей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бщий случай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br>
              <a:rPr sz="3200"/>
            </a:b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br>
              <a:rPr sz="3200"/>
            </a:b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{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…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}</a:t>
            </a:r>
            <a:br>
              <a:rPr sz="3200"/>
            </a:b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{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…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}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{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Метки полей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бщий случай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{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…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}</a:t>
            </a:r>
            <a:br>
              <a:rPr sz="3200"/>
            </a:b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{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…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}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{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на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имена переменных (с малой буквы и ...), прич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j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≠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j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’’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j</a:t>
            </a:r>
            <a:r>
              <a:rPr b="1" lang="ru-RU" sz="3200" spc="-1" strike="noStrike" baseline="-25000">
                <a:solidFill>
                  <a:srgbClr val="990000"/>
                </a:solidFill>
                <a:latin typeface="Tahoma"/>
              </a:rPr>
              <a:t>’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≠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j</a:t>
            </a:r>
            <a:r>
              <a:rPr b="1" lang="ru-RU" sz="3200" spc="-1" strike="noStrike" baseline="-25000">
                <a:solidFill>
                  <a:srgbClr val="990000"/>
                </a:solidFill>
                <a:latin typeface="Tahoma"/>
              </a:rPr>
              <a:t>’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≠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i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’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пустимо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990000"/>
                </a:solidFill>
                <a:latin typeface="Tahoma"/>
              </a:rPr>
              <a:t>’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j</a:t>
            </a:r>
            <a:r>
              <a:rPr b="1" lang="ru-RU" sz="3200" spc="-1" strike="noStrike" baseline="-25000">
                <a:solidFill>
                  <a:srgbClr val="990000"/>
                </a:solidFill>
                <a:latin typeface="Tahoma"/>
              </a:rPr>
              <a:t>’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990000"/>
                </a:solidFill>
                <a:latin typeface="Tahoma"/>
              </a:rPr>
              <a:t>’’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j</a:t>
            </a:r>
            <a:r>
              <a:rPr b="1" lang="ru-RU" sz="3200" spc="-1" strike="noStrike" baseline="-25000">
                <a:solidFill>
                  <a:srgbClr val="990000"/>
                </a:solidFill>
                <a:latin typeface="Tahoma"/>
              </a:rPr>
              <a:t>’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 тогда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’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j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ahoma"/>
              </a:rPr>
              <a:t>’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ru-RU" sz="3200" spc="-1" strike="noStrike" baseline="30000">
                <a:solidFill>
                  <a:srgbClr val="000099"/>
                </a:solidFill>
                <a:latin typeface="Tahoma"/>
              </a:rPr>
              <a:t>’’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j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ahoma"/>
              </a:rPr>
              <a:t>’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разных «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...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..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 не допустимо использовать одно и тоже имя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990000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ки полей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ata Gstat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=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V {pG, vG </a:t>
            </a:r>
            <a:r>
              <a:rPr b="1" lang="en-US" sz="1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:: Float}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|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VT {vG, tG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:: Float}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|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T {pG, tG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:: Float}</a:t>
            </a:r>
            <a:br>
              <a:rPr sz="2800"/>
            </a:br>
            <a:br>
              <a:rPr sz="12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expansion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:: Float -&gt; Gstate -&gt; Gstat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expansion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x s =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e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v’ = x * vG 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{vG = v’}</a:t>
            </a:r>
            <a:br>
              <a:rPr sz="2800"/>
            </a:br>
            <a:br>
              <a:rPr sz="12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ain&gt; expansion 2 (PV 3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V{pG=3.0,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vG=8.0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}</a:t>
            </a:r>
            <a:br>
              <a:rPr sz="2800"/>
            </a:br>
            <a:br>
              <a:rPr sz="12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ain&gt; expansion 2 (VT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4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VT{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vG=6.0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,tG=4.0}</a:t>
            </a:r>
            <a:br>
              <a:rPr sz="2800"/>
            </a:br>
            <a:br>
              <a:rPr sz="12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ain&gt; expansion 2 (PT 3 4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rogram error: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Метки полей: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задание величин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in&gt; PV{vG=3,pG=2}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V{pG=2.0,vG=3.0}</a:t>
            </a:r>
            <a:br>
              <a:rPr sz="3200"/>
            </a:br>
            <a:br>
              <a:rPr sz="14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in&gt; PV{pG=3,vG=2}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V{pG=3.0,vG=2.0}</a:t>
            </a:r>
            <a:br>
              <a:rPr sz="3200"/>
            </a:br>
            <a:br>
              <a:rPr sz="14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in&gt; vG (PV{vG=3}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3.0</a:t>
            </a:r>
            <a:br>
              <a:rPr sz="3200"/>
            </a:br>
            <a:br>
              <a:rPr sz="14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in&gt; PV{vG=3}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V{pG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rogram error: PV data constructor built missing a labelled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отив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должим идею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 Point = (Float, Float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ype Polygon = [Point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stanc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Point -&gt; Flo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ifferenc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oint -&gt; Point -&gt; Flo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rea_polygo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olygo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-&gt; Flo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ransf_polygo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(Point -&gt; Point) -&gt;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olygo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olygo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ки полей: заключени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 «в одном флаконе» и конструкторов, и селектор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date function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py-on-write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частичное переопределение значений по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дноименные по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ных конструкторах — один код для разных струк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дновременно пользователю доступ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имена полей, и позиционный сти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помощью имен полей можно задать величину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все поля которой будут определе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T {pG=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170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лава 23.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азмеченное объединение.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Жадный конструктор в data-деклара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 умолчанию конструкторы ленивы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Haskell-е в общем случа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нструкторы являются ленивы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компоненты не вычисляются, пока это явно не потребуются: можно использовать структуры «бесконечные» и содержащие элементы, вычисление которых, если оно потребуется, приведет к прекращению выполнения или зациклива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нивые структуры усиливают выразительность Haskell, являются неотъемлемой чертой стиля программирования на Haske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Ленивость и строгость конструкторо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нутреннее представление полей ленивой структуры: громоздкая «упаковка», скрывающая вычисление (пока не потребуется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олнительное время и память для конструирования; для размещения в памяти используется куча (heap); требуется применять сборку мус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бежать накладных расходов позволяю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лаги строгости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ля помеченные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приводят к немедленному вычислению, игнорируя ленив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Флаг строгости: примеры использов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я, отмеченные в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декларации знаком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числяются в момент созд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lude.hs:</a:t>
            </a:r>
            <a:br>
              <a:rPr sz="3200"/>
            </a:br>
            <a:br>
              <a:rPr sz="16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data </a:t>
            </a:r>
            <a:r>
              <a:rPr b="1" lang="pt-BR" sz="3200" spc="-1" strike="noStrike">
                <a:solidFill>
                  <a:srgbClr val="990000"/>
                </a:solidFill>
                <a:latin typeface="Tahoma"/>
              </a:rPr>
              <a:t>Integral a =&gt;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Ratio a = !a </a:t>
            </a:r>
            <a:r>
              <a:rPr b="1" lang="pt-BR" sz="3200" spc="-1" strike="noStrike">
                <a:solidFill>
                  <a:srgbClr val="008000"/>
                </a:solidFill>
                <a:latin typeface="Tahoma"/>
              </a:rPr>
              <a:t>:%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 !a deriving (Eq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lex.hs:</a:t>
            </a:r>
            <a:br>
              <a:rPr sz="3200"/>
            </a:br>
            <a:br>
              <a:rPr sz="14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data </a:t>
            </a:r>
            <a:r>
              <a:rPr b="1" lang="pt-BR" sz="3200" spc="-1" strike="noStrike">
                <a:solidFill>
                  <a:srgbClr val="990000"/>
                </a:solidFill>
                <a:latin typeface="Tahoma"/>
              </a:rPr>
              <a:t>RealFloat a =&gt;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Complex a = !a </a:t>
            </a:r>
            <a:r>
              <a:rPr b="1" lang="pt-BR" sz="3200" spc="-1" strike="noStrike">
                <a:solidFill>
                  <a:srgbClr val="008000"/>
                </a:solidFill>
                <a:latin typeface="Tahoma"/>
              </a:rPr>
              <a:t>:+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 !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eriving (Eq,Read,Sho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Флаг строгости: когда стоит использовать?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задания тех компонент структуры, которы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се равно обязательно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удут вычисляться во время выполнения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задания тех компонент структуры, которы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егко вычисляют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никогда не приводят к ошибк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использовании типов, для которых частичн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определенные величины не нуж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Флаг строгости: предостереже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лаг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ет приводить к утечке памяти: сборка мусора не освобождает память тех полей, которые уже не потребуются для вычисл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лаг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ет использоваться только в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t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определениях; не допустим в других определениях тип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ккуратнее с использованием флагов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нивость — фундаментальное свойство Hask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отребление флагов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ет значительно усложнить обработку бесконечных структур, привести к неожиданных последствия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170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лава 23.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Новые типы: декларация newtyp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2" name="AutoShape 3"/>
          <p:cNvSpPr/>
          <p:nvPr/>
        </p:nvSpPr>
        <p:spPr>
          <a:xfrm>
            <a:off x="-36360" y="486900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овые типы: декларация newtype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кларация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ewtyp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когда нужен тип, который «совпадает» с существующим, но представлен отдельно в системе тип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нтаксис, как и в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декларации с одним конструктором и одним полем</a:t>
            </a:r>
            <a:br>
              <a:rPr sz="3200"/>
            </a:b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ewtype 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Т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ет быть с параметризованным полиморфизмом:</a:t>
            </a:r>
            <a:br>
              <a:rPr sz="3200"/>
            </a:b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ewtype 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k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C t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newtype 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4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4000" spc="-1" strike="noStrike" baseline="-25000">
                <a:solidFill>
                  <a:srgbClr val="000099"/>
                </a:solidFill>
                <a:latin typeface="Tahoma"/>
              </a:rPr>
              <a:t>k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= C t[a</a:t>
            </a:r>
            <a:r>
              <a:rPr b="1" lang="en-US" sz="4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…a</a:t>
            </a:r>
            <a:r>
              <a:rPr b="1" lang="en-US" sz="40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здается новый тип  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который «переименовывает» тип-основу 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[a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личие от типа-синонима (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yp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— это совершенно отдельный тип, который полностью соответствует исходному тип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ставление не требует дополнительных затрат памяти и времени (в отличии от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вый тип можно определять как экземпляр различных классо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допустим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о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ип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надлежность типа-основы каким-то классам не переносится автоматически на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ewtyp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ти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структор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трогий 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 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=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иноним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 использование и двух различных имен для одного и того же типа, например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 Point   = (Float, Float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 Complex = (Float, Float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есь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oin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точности то же самое, что и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omple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и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Float, Float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Такие определения типа и называют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синоним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мер: натуральные числ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ewtype Natural = MkNat Integer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deriving (Eq, Ord, Sho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базе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kNat ::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teger -&gt;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atural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м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oNatura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fromNatura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oNatural :: Integer -&gt; Natural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oNatural x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| x &lt;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= error "Величина меньше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!"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| otherwise = MkNat x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fromNatural :: Natural -&gt; Integer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fromNatural (MkNat i) =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Natural как экземпляр Num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Num Natural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romInteger = toNatura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 + y = toNatura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fromNatural x + fromNatural y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y = toNatura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fromNatural x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romNatural y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 * y = toNatura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fromNatural x * fromNatural 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мер: натуральные числ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Main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toNatural 5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kNat 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Main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MkNat 3 + MkNa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4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kNat 7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Main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MkNat 3 - MkNat 4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kN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rogram error: Величина меньше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!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Main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MkNat 3 * MkNat 4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kNat 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иноним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ype Name =  Old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о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пециально зарезервирова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я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ame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вого определения типа должно начинаться с заглавной букв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чем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ame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атривается как аббревиатура (сокращение) для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ld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рет циклических объявлений: каждый синоним должен выражаться в терминах уже существующих тип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инонимы из прелюд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 String = [Char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ки записываются в специальном вид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е различие между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'a'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"a"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ки — тип синоним, не являются отдельным типом. Наследуют свойства, присущие всем списка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имер, способ сравнения строк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&lt;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==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&gt;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араметризованный синоним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 Pairs 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(a, a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tomorph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a -&gt;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 Flag 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(a, Bool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tack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: рациональны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532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 Fraction = (Int, Int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qMul, qDiv, qAdd, qSub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raction -&gt; Fraction -&gt; 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implify :: Fraction -&gt; Fraction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implify (n,d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((signum d*n) `div` g, abs d `div` g) where g = gcd n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: рациональны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qMul (x, y) (p, q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implify (x*p, y*q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qDiv (x, y) (p, q)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f p == 0 then undefined els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implify (x*q, y*p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qAdd (x, y) (p, q)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implify (x*q + y*p, y*q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qSub (x, y) (p, q)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implify (x*q - y*p, y*q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7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</a:t>
            </a:r>
            <a:br>
              <a:rPr sz="40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Haskell как язык ООП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спользование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ля прототипиров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Ericsso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и разработке телекоммуникационных прилож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Software A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кспертная систе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Natural Exper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писана 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Hask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корость создания ПО возрастала в 9–25 раз по сравнению 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исанный прототип позволяет проанализировать плюсы и минус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внести изменения в проект на ранней стад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Кортежи.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спользование кортежей.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спользование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ля прототипиров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юс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стой, краткий и наглядный код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держаны инкапсуляция и полиморфиз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окий уровень кода (спецификация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вления памятью —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нивое вычисл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инусы (не критичны для прототип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ышенные требования к памяти (из-за рекурси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огда не очень высокое быстродейств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ОП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Haskel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повысить надежность программных компонент и их повторное использование, сократить затраты на разработк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тоды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окрытие деталей, абстрактность данны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личие ООП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других стилей: в обычном программировании программист ограничен встроенными типами данных,  в случае ООП программист может определять свои собственные абстрактные типы данн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Haskell сочетает ФП и ООП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дходящий инструментом для прототип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нкапсуляция, наследова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ООП два главных механизма абстракции: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капсуля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след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капсуля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но достич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дуль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бъекты как строительные блоки сложной системы, быстрое построение прототипа, причем окончательная доводка — по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след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инструмен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вторного использования код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позволяет изменять и настраивать поведение класса объектов без необходимости получать доступ к исходному коду реализации этого клас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бъект, класс.  Абстракция и  наследова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бъект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оплощение (элемент)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бстрактного типа данн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Можно использовать объект, зная лишь «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н делает», не зная «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а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бстрактный тип данн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ласс) обуславливает поведение элементов клас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спользуя наслед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ля расширения определения некоторого тип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бо задают новое поведение в дополнение к заданно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бо изменяем унаследован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бо и то, и друг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бъект, класс.  Абстракция и  наследова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изменении унаследованного, измененный объек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бязан допуск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его использование везде, где могут применяться объекты исходного тип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реализация неких соглашений. Соглашение фиксируется 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лас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экземпляром которого является данный объек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след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механизм реализации уточнения поведения (усовершенствование соглашения, регламентирующего поведение объекта из данного класс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лиморфизм, абстракц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страктное наслед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уточнения и подтип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личные типы полиморфиз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овая абстрак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крытие пред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урсивные определения типов да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ы и перегруз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ность ООП: объединение концепци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бстрактных типов дан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концепци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лиморфиз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Эти понятия можно считать абстрактным дополнением к понятиям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нкапсуля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след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из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атическ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инами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ль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лаб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лиморфиз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зволяет ослабить гнет сильной типиз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лиморфизм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щ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лиморф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ключающ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вязан с механизмом наслед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араметрическ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основан на поддержке родовых тип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ad hoc полиморфиз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адстройка над неполиморфной моделью типизации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overloadin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1,  2,..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используют дл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определяются для различных тип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==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работает со многими (но не со всеми) тип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лиморфизмы и клас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d hoc (overload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иморфизм —поведение различно для каждого типа (если поведение не определенно, то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rro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араметрический полиморфиз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тип не имеет никакого зна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kell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лас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беспечивает структурный способ управлени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ad hoc полиморфизм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регрузк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яем класс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ипы данных — экземпляры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instanc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класс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лиморфизмы и клас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асс (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ype clas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в Haskell есть коллекция типов, распределяющих между собой набор функций и/или операто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явление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clas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водит новый класс типов и перегружает операции, поддерживаемые в любом типе, являющимся экземпляром данного класса (методы класса — в соответствии с традициями ООП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явление экземпляра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stanc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екларирует, что тип является экземпляром класса и включает определения перегруженных опера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Tuples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ортежи (таплы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рт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абор взаимосвязанных велич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23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rue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1, 2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’а’, 12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True, False, True]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s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(a, b) -&gt; a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s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x, _) = x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n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(a, b) -&gt; 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n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_, y) =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ass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nstanc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class Num a wher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(+)     :: a -&gt; a -&gt;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negate  :: a -&gt;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ип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есть экземпляр класса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u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сли он содержит (перегруженные) методы класса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+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egat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оответствующих типов, определенные в н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stance Num Int wher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x + y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…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negate x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ип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есть экземпляр класса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u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соответствующими определениями методов класса для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+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e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Встроенные классы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q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ass Eq a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(==), (/=) :: a -&gt; a -&gt; Boo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-- Minimal complete definitio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-- (==) or (/=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x == y      = not (x/=y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x /= y      = not (x==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class Eq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кон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q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 полиморфной функ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лассе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lem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(Eq a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&gt; a -&gt; [a] -&gt; Boo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 `elem` []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Fals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 `elem` (y:ys)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 == y || (x `elem` 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(Eq a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кон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Ord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держит в себе типы, допускающие сравнение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&lt;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≤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≥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&gt;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сширяет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наследует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inherit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все операции класса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добавляя нов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перкласс для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класс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Ord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99"/>
                </a:solidFill>
                <a:latin typeface="Tahoma"/>
              </a:rPr>
              <a:t>data Ordering = LT | EQ | G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ass (Eq a) =&gt; Ord a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compare :: a -&gt; a -&gt; Ordering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(&lt;), (&lt;=), (&gt;=), (&gt;) :: a -&gt; a -&gt; Bool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max, min :: a -&gt; a -&gt; 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-- Minimal complete definition: (&lt;=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-- or compare using compare can b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-- more efficient for complex type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compare x 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x==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EQ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x&lt;=y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L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otherwis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Ord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 &lt;= 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compare x y  /= G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x &lt;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compare x y == L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x &gt;= 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compare x y  /= L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x &gt;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compare x y == G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max x 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x &lt;= y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y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otherwis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x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min x 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x &lt;= 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x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otherwis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ы функций над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Сортировки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мер: неупорядоченная пар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UOpair = Int :~ Int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Eq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Opair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(x :~ y) == (x' :~ y') =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==x') &amp;&amp; (y==y') ||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==y') &amp;&amp; (y==x'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Ord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Opair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a@(x :~ y) &lt;= a'@(x' :~ y'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+y) &lt; (x'+y') || (a == a'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лохое определени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1 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~ 3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&gt;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~ 2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ru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~ 3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=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~ 2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Fals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~ 2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&gt;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~ 3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ru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равим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справленное определе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Ord UOpair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 :~ y) &lt;= (x' :~ y'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 &lt; a' || (a == a') &amp;&amp; (b &lt;= b'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wher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a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) 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if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&lt;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hen (x, y)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else  (y, x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’) 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if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’ &lt;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y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’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hen (x’, y’)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else  (y’, x’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Tuples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ортежи (таплы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s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(a, b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c) -&gt; a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s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x, _, _) = x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n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(a, b, c) -&gt; 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n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_, y, _) = y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h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(a, b, c) -&gt; c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h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_, _, z) =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справленное определе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Ord UOpair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 :~ y) &lt;= (x' :~ y'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f x y) &lt;= (f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'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'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wher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 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if a &lt; b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hen [a, b]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else  [b, 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how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ype ShowS  =  String -&gt; String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ass Show a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show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a -&gt; String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showsPrec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Int -&gt; a -&gt; Show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showList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[a] -&gt; Sh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how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- Minimal complete definitio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- show or showsPrec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show x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showsPrec 0 x ""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showsPrec _ x 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show x ++ 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showList []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showString "[]“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showList (x:xs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showChar '[' . shows x . showl x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where showl []      = showChar ']‘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 showl (x:xs) = showChar ','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                  shows x . showl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ead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ype ReadS a = String -&gt; [(a,String)]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lass Read a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readsPrec :: Int -&gt; ReadS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readList  :: ReadS [a]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-- Minimal complete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--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efinition: readsPrec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readLis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ead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ype ReadS a = String -&gt; [(a,String)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сок либо пустой, либо из одного элемента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а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.остаток строки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м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adsPrec :: Int -&gt; ReadS a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ее простое чт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ad :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Read a) =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&gt;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tring -&gt;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 Enum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lass Enum a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succ, pred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toEnum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Int -&gt;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fromEnum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In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[n..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enumFrom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[a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[n,m..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enumFromTh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a -&gt; [a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[n..m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enumFromTo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a -&gt; [a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-- [n,n'..m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enumFromThenTo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: a-&gt;a-&gt;a-&gt; 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 Enum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 Minimal complete definition: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 toEnum, fromEnum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succ = toEnum . (1+) . fromEnum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pred = toEnum . subtract 1 . fromEnum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enumFrom x = map toEnum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[ fromEnum x ..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enumFromTo x y = map toEnum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[ fromEnum x .. fromEnum y 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enumFromThen x y = map toEnum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[ fromEnum x, fromEnum y ..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enumFromThenTo x y z  = map toEnum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[fromEnum x,fromEnum y .. fromEnum z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ласс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Num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 Множественное наследова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ass (Eq a, Show a) =&gt; Num a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(+), (-), (*)  :: a -&gt; a -&gt; a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negate         :: a -&gt; a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abs, signum    :: a -&gt; a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fromInteger    :: Integer -&gt; a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fromInt        :: Int -&gt; 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-- Minimal complete definition: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--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ll, except negate or (-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x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x + negate y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fromIn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fromIntegral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negate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0 -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ы чисе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Oval 124"/>
          <p:cNvSpPr/>
          <p:nvPr/>
        </p:nvSpPr>
        <p:spPr>
          <a:xfrm>
            <a:off x="214200" y="1197000"/>
            <a:ext cx="2160720" cy="86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128"/>
          <p:cNvSpPr/>
          <p:nvPr/>
        </p:nvSpPr>
        <p:spPr>
          <a:xfrm>
            <a:off x="216000" y="2741760"/>
            <a:ext cx="2160360" cy="86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Oval 132"/>
          <p:cNvSpPr/>
          <p:nvPr/>
        </p:nvSpPr>
        <p:spPr>
          <a:xfrm>
            <a:off x="216000" y="4286160"/>
            <a:ext cx="2160360" cy="86544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Oval 133"/>
          <p:cNvSpPr/>
          <p:nvPr/>
        </p:nvSpPr>
        <p:spPr>
          <a:xfrm>
            <a:off x="216000" y="5830920"/>
            <a:ext cx="2160360" cy="86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g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129"/>
          <p:cNvSpPr/>
          <p:nvPr/>
        </p:nvSpPr>
        <p:spPr>
          <a:xfrm>
            <a:off x="6732720" y="1197000"/>
            <a:ext cx="2160360" cy="86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Oval 130"/>
          <p:cNvSpPr/>
          <p:nvPr/>
        </p:nvSpPr>
        <p:spPr>
          <a:xfrm>
            <a:off x="6732720" y="2741760"/>
            <a:ext cx="2160360" cy="86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ac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6732720" y="4286160"/>
            <a:ext cx="2160360" cy="86544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lo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134"/>
          <p:cNvSpPr/>
          <p:nvPr/>
        </p:nvSpPr>
        <p:spPr>
          <a:xfrm>
            <a:off x="6732720" y="5830920"/>
            <a:ext cx="2160360" cy="86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alFl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126"/>
          <p:cNvSpPr/>
          <p:nvPr/>
        </p:nvSpPr>
        <p:spPr>
          <a:xfrm>
            <a:off x="3490920" y="3514680"/>
            <a:ext cx="2160720" cy="86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127"/>
          <p:cNvSpPr/>
          <p:nvPr/>
        </p:nvSpPr>
        <p:spPr>
          <a:xfrm>
            <a:off x="3490920" y="1973160"/>
            <a:ext cx="2160720" cy="86544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Oval 135"/>
          <p:cNvSpPr/>
          <p:nvPr/>
        </p:nvSpPr>
        <p:spPr>
          <a:xfrm>
            <a:off x="3489480" y="5056200"/>
            <a:ext cx="2160360" cy="86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alFr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3" name="AutoShape 139"/>
          <p:cNvCxnSpPr>
            <a:stCxn id="206" idx="3"/>
            <a:endCxn id="211" idx="6"/>
          </p:cNvCxnSpPr>
          <p:nvPr/>
        </p:nvCxnSpPr>
        <p:spPr>
          <a:xfrm flipH="1">
            <a:off x="5651280" y="1935000"/>
            <a:ext cx="1397520" cy="4723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14" name="AutoShape 141"/>
          <p:cNvCxnSpPr>
            <a:stCxn id="211" idx="5"/>
            <a:endCxn id="207" idx="2"/>
          </p:cNvCxnSpPr>
          <p:nvPr/>
        </p:nvCxnSpPr>
        <p:spPr>
          <a:xfrm>
            <a:off x="5335200" y="2711160"/>
            <a:ext cx="1397880" cy="4640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15" name="AutoShape 142"/>
          <p:cNvCxnSpPr>
            <a:stCxn id="202" idx="5"/>
            <a:endCxn id="211" idx="2"/>
          </p:cNvCxnSpPr>
          <p:nvPr/>
        </p:nvCxnSpPr>
        <p:spPr>
          <a:xfrm>
            <a:off x="2058840" y="1935000"/>
            <a:ext cx="1432800" cy="4723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16" name="AutoShape 143"/>
          <p:cNvCxnSpPr>
            <a:stCxn id="203" idx="5"/>
            <a:endCxn id="210" idx="2"/>
          </p:cNvCxnSpPr>
          <p:nvPr/>
        </p:nvCxnSpPr>
        <p:spPr>
          <a:xfrm>
            <a:off x="2060280" y="3479400"/>
            <a:ext cx="1430640" cy="4690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17" name="AutoShape 144"/>
          <p:cNvCxnSpPr>
            <a:stCxn id="212" idx="5"/>
            <a:endCxn id="209" idx="2"/>
          </p:cNvCxnSpPr>
          <p:nvPr/>
        </p:nvCxnSpPr>
        <p:spPr>
          <a:xfrm>
            <a:off x="5333760" y="5794200"/>
            <a:ext cx="1399320" cy="4708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18" name="AutoShape 147"/>
          <p:cNvCxnSpPr>
            <a:stCxn id="210" idx="3"/>
            <a:endCxn id="205" idx="7"/>
          </p:cNvCxnSpPr>
          <p:nvPr/>
        </p:nvCxnSpPr>
        <p:spPr>
          <a:xfrm flipH="1">
            <a:off x="2059920" y="4253040"/>
            <a:ext cx="1747080" cy="17056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19" name="AutoShape 148"/>
          <p:cNvCxnSpPr>
            <a:stCxn id="202" idx="4"/>
            <a:endCxn id="203" idx="0"/>
          </p:cNvCxnSpPr>
          <p:nvPr/>
        </p:nvCxnSpPr>
        <p:spPr>
          <a:xfrm>
            <a:off x="1294920" y="2062080"/>
            <a:ext cx="2520" cy="6804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20" name="AutoShape 149"/>
          <p:cNvCxnSpPr>
            <a:stCxn id="204" idx="4"/>
            <a:endCxn id="205" idx="0"/>
          </p:cNvCxnSpPr>
          <p:nvPr/>
        </p:nvCxnSpPr>
        <p:spPr>
          <a:xfrm>
            <a:off x="1296720" y="5151240"/>
            <a:ext cx="1080" cy="6800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21" name="AutoShape 150"/>
          <p:cNvCxnSpPr>
            <a:stCxn id="210" idx="4"/>
            <a:endCxn id="212" idx="0"/>
          </p:cNvCxnSpPr>
          <p:nvPr/>
        </p:nvCxnSpPr>
        <p:spPr>
          <a:xfrm flipH="1">
            <a:off x="4570200" y="4379400"/>
            <a:ext cx="2160" cy="67716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22" name="AutoShape 151"/>
          <p:cNvCxnSpPr>
            <a:stCxn id="211" idx="4"/>
            <a:endCxn id="210" idx="0"/>
          </p:cNvCxnSpPr>
          <p:nvPr/>
        </p:nvCxnSpPr>
        <p:spPr>
          <a:xfrm>
            <a:off x="4571640" y="2838600"/>
            <a:ext cx="1080" cy="6768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23" name="AutoShape 152"/>
          <p:cNvCxnSpPr>
            <a:stCxn id="208" idx="4"/>
            <a:endCxn id="209" idx="0"/>
          </p:cNvCxnSpPr>
          <p:nvPr/>
        </p:nvCxnSpPr>
        <p:spPr>
          <a:xfrm>
            <a:off x="7813440" y="5151240"/>
            <a:ext cx="1080" cy="6800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24" name="AutoShape 153"/>
          <p:cNvCxnSpPr>
            <a:stCxn id="208" idx="3"/>
            <a:endCxn id="212" idx="6"/>
          </p:cNvCxnSpPr>
          <p:nvPr/>
        </p:nvCxnSpPr>
        <p:spPr>
          <a:xfrm flipH="1">
            <a:off x="5649120" y="5024520"/>
            <a:ext cx="1399320" cy="4658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  <p:cxnSp>
        <p:nvCxnSpPr>
          <p:cNvPr id="225" name="AutoShape 154"/>
          <p:cNvCxnSpPr>
            <a:stCxn id="207" idx="4"/>
            <a:endCxn id="208" idx="0"/>
          </p:cNvCxnSpPr>
          <p:nvPr/>
        </p:nvCxnSpPr>
        <p:spPr>
          <a:xfrm>
            <a:off x="7813440" y="3606480"/>
            <a:ext cx="1080" cy="6800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lg" type="triangle" w="lg"/>
          </a:ln>
        </p:spPr>
      </p:cxn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8317080" cy="30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9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Алгебраические типы данных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Типы-синонимы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Tuples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зачем нужны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роль ошибки вызова — как лучше, в динамике или в статик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istanceL       :: [Float] -&gt; Flo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istanceL [x, y] = sqrt (x*x + y*y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istanceT       :: (Float, Float) -&gt; Flo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istanceT (x, y) = sqrt (x*x + y*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пределение новых типов данных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любом языке, предназначенном для моделирован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альных объектов, обязательно должна быть возможность определения новых алгебраических типов данн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ипы-синонимы не создают новых типов, лишь дают уже существующим типам удобные «говорящие» им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ype Position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(Float, Float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ype Angl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Floa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ype Distanc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Float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ove :: Distance -&gt; Angle -&gt; Position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&gt; Position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ove d a (x,y) = (x + d * cos a, y + d * sin 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граниченность типов-синонимо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-синоним сохраняет все свойства (и определение операций) исходного ти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имер,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==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ngl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то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==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инус: не плохо иметь для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ngl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равенство по модулю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el-GR" sz="3600" spc="-1" strike="noStrike">
                <a:solidFill>
                  <a:srgbClr val="000099"/>
                </a:solidFill>
                <a:latin typeface="Tahoma"/>
                <a:ea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невозможно сделать в рамках типа-синон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20.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азмеченное объединение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еречисляемые типы данных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еречисляемые тип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числяемые типы — самый примитивный случай размеченного объеди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.  В описании типа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Bool = False | Tru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вел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нструкто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здесь это нуль-местные функции):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alse, True :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B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вели новый тип (точнее нуль-местны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нструктор тип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B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ункции над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Boo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ot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Bool -&gt; Boo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ot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als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Tru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ot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ru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Fa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какие свойства не заданы.  Их надо определя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q Bo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rd Bo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num Bo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how Bo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ead Boo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т.д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это описано в прелюд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еречисляемые типы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vs.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дразумеваемые отрез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до работать с днями нед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ариант 1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-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день: число от 0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с.) до 6 (сб.)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ype DoW = In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ариант 2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DoW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Su | Mo | Tu | We | Th | Fr |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еречисляемые типы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vs.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дразумеваемые отрез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рактеристик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ype DoW = 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итателю/писателю надо по контексту соображать, где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где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сутств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атического контроля диапазона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[0..6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легко нарушить диапазон; динамический контроль — забота программи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наследуются все «полезности» 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teg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…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 правильным ли образом они определены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имер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how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еречисляемые типы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vs.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дразумеваемые отрез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рактеристик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DoW = </a:t>
            </a: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Su|...|S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итатель/писатель по контексту различает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томатический (не программист!) статический контроль типов гарантирует нерушимость диапаз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дется самим определять все «полезности»: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teg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то сделаем «как надо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асает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e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eriving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День недел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DoW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u | Mo | Tu | We | Th | Fr | Sa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eriving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Eq, Ord, Ix, Enum,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ad, Show, Bounded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main:&gt;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Mo .. Fr]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main:&gt;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succ We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main:&gt;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Tu ..]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main:&gt;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We &gt; F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 использова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Triangl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Failure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фиктивный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 Isosceles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равнобедренный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 Equilatera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равносторонний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 Scalen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общего вида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nalyze :: Float -&gt; Float -&gt; Floa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-&gt;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Tuples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зачем нужны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митация коар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plitAt     :: Int -&gt; [a] -&gt; ([a], [a]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plitAt n xs = (take n xs, drop n xs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ивнее (в два раза)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plitAt             :: Int -&gt; [a] -&gt; ([a], [a]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plitAt 0 xs         = ([], xs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plitAt n []         = ([], []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plitAt (n+1) (x:xs) = (x:ys, zs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where (ys, zs) = splitAt n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 использова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nalyze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 y z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a &lt;= 0                         = error “…”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a + b &lt;= c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Failu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a == c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Equilateral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(a == b) || (b == c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Isoscele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otherwise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Scalen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where [a, b, c] = sort [x, y, z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21.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азмеченное объединение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лиморфные типы данных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лиморфные типы данных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сто тип (тут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Т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тип)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br>
              <a:rPr sz="3200"/>
            </a:b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.</a:t>
            </a:r>
            <a:br>
              <a:rPr sz="3200"/>
            </a:b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труктор тип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овое выражение над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br>
              <a:rPr sz="3200"/>
            </a:b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.</a:t>
            </a:r>
            <a:br>
              <a:rPr sz="3200"/>
            </a:b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онструктор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3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нструкто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ют тип:</a:t>
            </a:r>
            <a:br>
              <a:rPr sz="3200"/>
            </a:br>
            <a:br>
              <a:rPr sz="14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:: 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&gt;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&gt;…-&gt;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&gt;  T</a:t>
            </a:r>
            <a:br>
              <a:rPr sz="3200"/>
            </a:b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10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:: 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&gt;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&gt;…-&gt; t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&gt; (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a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трукторы создают величин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C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… v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выражение в его простейшей форме, невозможно редуциров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ме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либо («функции») с большой буквы, либо («операторы») с «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втор: неупорядоченная пара целых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UOpair = Int :~ In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Eq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Opair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(x :~ y) == (x' :~ y') =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==x') &amp;&amp; (y==y') ||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==y') &amp;&amp; (y==x'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instance Or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Opair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 :~ y) &lt;= (x' :~ y'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f x y) &lt;= (f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'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'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wher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 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if a &lt; b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hen [a, b]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else  [b, 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втор: неупорядоченная пара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его угодно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UOpair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~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Eq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=&gt;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Eq 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Opair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(x :~ y) == (x' :~ y') =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==x') &amp;&amp; (y==y') ||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==y') &amp;&amp; (y==x'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instance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Ord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 =&gt;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Ord 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Opair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x :~ y) &lt;= (x' :~ y') 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f x y) &lt;= (f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'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'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wher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 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if a &lt; b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hen [a, b]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else  [b, 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лиморфные типы данных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Either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= Left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| Right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ef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igh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конструкторы для построения величин типа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ith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естрогие функции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ef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-&gt; Either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b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igh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b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-&gt; Either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b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трукторы создают величину.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eft 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выражение в его простейшей форме, невозможно редуциров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лиморфные типы данных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ithe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a -&gt; c) -&gt; (b -&gt; c) -&gt;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ither a b -&gt; c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ithe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Left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ithe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Righ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r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ymbol"/>
                <a:ea typeface="Symbol"/>
              </a:rPr>
              <a:t>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a -&gt; c)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99"/>
                </a:solidFill>
                <a:latin typeface="Symbol"/>
                <a:ea typeface="Symbol"/>
              </a:rPr>
              <a:t>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g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(b -&gt; c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олнено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ithe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f g) . Left  = f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ithe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f g) . Right = g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h .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ithe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f g) =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ithe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h.f h.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мер: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Eq   (Either a b) и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Ord (Either a b)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stance (Eq a , Eq b) =&gt; Eq (Either a b) wher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Left  x  == Left  y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(x == y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Left  x  == Right y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Fals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Right x == Left  y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Fals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Right x == Right y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(x == y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stance (Ord a, Ord b) =&gt; Ord (Either a b) wher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Left  x   &lt; Left  y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(x &lt; y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Left  x   &lt; Right y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Tru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Right x &lt; Left  y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Fals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Right x &lt; Right y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 (x &lt; 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а самом деле в прелюди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Either a b = Left a | Right b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deriving (Eq, Ord, Read, Sho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Типичное использование: таблицы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… (key, value) …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ookup :: Eq a =&gt; a -&gt; [(a,b)] -&gt; 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ookup k k’vs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nd (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hea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(filter ((k==).fst) k’vs)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ookup k k’vs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hea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 v | (k’,v) &lt;- k’vs, k’==k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zip :: [a] -&gt; [b] -&gt; [(a, b)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170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лава 22.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азмеченное объединение.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екурсивные типы данных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Деревь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екурсивные типы данных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[a] = [] | a :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труктор типа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•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тип, то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a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ти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трукторы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нульместный (константа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: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двуместны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: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:: a -&gt; [a] -&gt; 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екурсивные типы данных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69" name="Group 131"/>
          <p:cNvGrpSpPr/>
          <p:nvPr/>
        </p:nvGrpSpPr>
        <p:grpSpPr>
          <a:xfrm>
            <a:off x="106200" y="1413000"/>
            <a:ext cx="1729080" cy="5224680"/>
            <a:chOff x="106200" y="1413000"/>
            <a:chExt cx="1729080" cy="5224680"/>
          </a:xfrm>
        </p:grpSpPr>
        <p:sp>
          <p:nvSpPr>
            <p:cNvPr id="270" name="Text Box 26"/>
            <p:cNvSpPr/>
            <p:nvPr/>
          </p:nvSpPr>
          <p:spPr>
            <a:xfrm>
              <a:off x="106200" y="6056280"/>
              <a:ext cx="172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Список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1" name="Group 130"/>
            <p:cNvGrpSpPr/>
            <p:nvPr/>
          </p:nvGrpSpPr>
          <p:grpSpPr>
            <a:xfrm>
              <a:off x="395280" y="1413000"/>
              <a:ext cx="1152360" cy="4606920"/>
              <a:chOff x="395280" y="1413000"/>
              <a:chExt cx="1152360" cy="4606920"/>
            </a:xfrm>
          </p:grpSpPr>
          <p:grpSp>
            <p:nvGrpSpPr>
              <p:cNvPr id="272" name="Group 12"/>
              <p:cNvGrpSpPr/>
              <p:nvPr/>
            </p:nvGrpSpPr>
            <p:grpSpPr>
              <a:xfrm>
                <a:off x="395280" y="1413000"/>
                <a:ext cx="1152360" cy="1006200"/>
                <a:chOff x="395280" y="1413000"/>
                <a:chExt cx="1152360" cy="1006200"/>
              </a:xfrm>
            </p:grpSpPr>
            <p:sp>
              <p:nvSpPr>
                <p:cNvPr id="273" name="Rectangle 6"/>
                <p:cNvSpPr/>
                <p:nvPr/>
              </p:nvSpPr>
              <p:spPr>
                <a:xfrm>
                  <a:off x="395280" y="1413000"/>
                  <a:ext cx="1152360" cy="50328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Rectangle 8"/>
                <p:cNvSpPr/>
                <p:nvPr/>
              </p:nvSpPr>
              <p:spPr>
                <a:xfrm>
                  <a:off x="395280" y="1916280"/>
                  <a:ext cx="1152360" cy="5029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Rectangle 7"/>
                <p:cNvSpPr/>
                <p:nvPr/>
              </p:nvSpPr>
              <p:spPr>
                <a:xfrm>
                  <a:off x="755640" y="1700280"/>
                  <a:ext cx="431640" cy="43164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Text Box 9"/>
                <p:cNvSpPr/>
                <p:nvPr/>
              </p:nvSpPr>
              <p:spPr>
                <a:xfrm>
                  <a:off x="419040" y="14223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99"/>
                      </a:solidFill>
                      <a:latin typeface="Tahoma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Text Box 10"/>
                <p:cNvSpPr/>
                <p:nvPr/>
              </p:nvSpPr>
              <p:spPr>
                <a:xfrm>
                  <a:off x="817560" y="1592280"/>
                  <a:ext cx="296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99"/>
                      </a:solidFill>
                      <a:latin typeface="Tahoma"/>
                    </a:rPr>
                    <a:t>:</a:t>
                  </a:r>
                  <a:endParaRPr b="0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78" name="Group 13"/>
              <p:cNvGrpSpPr/>
              <p:nvPr/>
            </p:nvGrpSpPr>
            <p:grpSpPr>
              <a:xfrm>
                <a:off x="395280" y="2817720"/>
                <a:ext cx="1152360" cy="1006200"/>
                <a:chOff x="395280" y="2817720"/>
                <a:chExt cx="1152360" cy="1006200"/>
              </a:xfrm>
            </p:grpSpPr>
            <p:sp>
              <p:nvSpPr>
                <p:cNvPr id="279" name="Rectangle 14"/>
                <p:cNvSpPr/>
                <p:nvPr/>
              </p:nvSpPr>
              <p:spPr>
                <a:xfrm>
                  <a:off x="395280" y="2817720"/>
                  <a:ext cx="1152360" cy="50328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Rectangle 15"/>
                <p:cNvSpPr/>
                <p:nvPr/>
              </p:nvSpPr>
              <p:spPr>
                <a:xfrm>
                  <a:off x="395280" y="3321000"/>
                  <a:ext cx="1152360" cy="5029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Rectangle 16"/>
                <p:cNvSpPr/>
                <p:nvPr/>
              </p:nvSpPr>
              <p:spPr>
                <a:xfrm>
                  <a:off x="755640" y="3105000"/>
                  <a:ext cx="431640" cy="43164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Text Box 17"/>
                <p:cNvSpPr/>
                <p:nvPr/>
              </p:nvSpPr>
              <p:spPr>
                <a:xfrm>
                  <a:off x="419040" y="28270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99"/>
                      </a:solidFill>
                      <a:latin typeface="Tahoma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3" name="Text Box 18"/>
                <p:cNvSpPr/>
                <p:nvPr/>
              </p:nvSpPr>
              <p:spPr>
                <a:xfrm>
                  <a:off x="817560" y="2997000"/>
                  <a:ext cx="296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99"/>
                      </a:solidFill>
                      <a:latin typeface="Tahoma"/>
                    </a:rPr>
                    <a:t>:</a:t>
                  </a:r>
                  <a:endParaRPr b="0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4" name="Group 19"/>
              <p:cNvGrpSpPr/>
              <p:nvPr/>
            </p:nvGrpSpPr>
            <p:grpSpPr>
              <a:xfrm>
                <a:off x="395280" y="4149720"/>
                <a:ext cx="1152360" cy="1006200"/>
                <a:chOff x="395280" y="4149720"/>
                <a:chExt cx="1152360" cy="1006200"/>
              </a:xfrm>
            </p:grpSpPr>
            <p:sp>
              <p:nvSpPr>
                <p:cNvPr id="285" name="Rectangle 20"/>
                <p:cNvSpPr/>
                <p:nvPr/>
              </p:nvSpPr>
              <p:spPr>
                <a:xfrm>
                  <a:off x="395280" y="4149720"/>
                  <a:ext cx="1152360" cy="50328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" name="Rectangle 21"/>
                <p:cNvSpPr/>
                <p:nvPr/>
              </p:nvSpPr>
              <p:spPr>
                <a:xfrm>
                  <a:off x="395280" y="4653000"/>
                  <a:ext cx="1152360" cy="5029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" name="Rectangle 22"/>
                <p:cNvSpPr/>
                <p:nvPr/>
              </p:nvSpPr>
              <p:spPr>
                <a:xfrm>
                  <a:off x="755640" y="4437000"/>
                  <a:ext cx="431640" cy="43164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" name="Text Box 23"/>
                <p:cNvSpPr/>
                <p:nvPr/>
              </p:nvSpPr>
              <p:spPr>
                <a:xfrm>
                  <a:off x="419040" y="41590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99"/>
                      </a:solidFill>
                      <a:latin typeface="Tahoma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9" name="Text Box 24"/>
                <p:cNvSpPr/>
                <p:nvPr/>
              </p:nvSpPr>
              <p:spPr>
                <a:xfrm>
                  <a:off x="817560" y="4329000"/>
                  <a:ext cx="296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99"/>
                      </a:solidFill>
                      <a:latin typeface="Tahoma"/>
                    </a:rPr>
                    <a:t>:</a:t>
                  </a:r>
                  <a:endParaRPr b="0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0" name="Rectangle 25"/>
              <p:cNvSpPr/>
              <p:nvPr/>
            </p:nvSpPr>
            <p:spPr>
              <a:xfrm>
                <a:off x="720720" y="5514840"/>
                <a:ext cx="503280" cy="505080"/>
              </a:xfrm>
              <a:prstGeom prst="rect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ahoma"/>
                  </a:rPr>
                  <a:t>[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Line 27"/>
              <p:cNvSpPr/>
              <p:nvPr/>
            </p:nvSpPr>
            <p:spPr>
              <a:xfrm>
                <a:off x="971640" y="3645000"/>
                <a:ext cx="0" cy="504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Line 28"/>
              <p:cNvSpPr/>
              <p:nvPr/>
            </p:nvSpPr>
            <p:spPr>
              <a:xfrm>
                <a:off x="971640" y="2276640"/>
                <a:ext cx="0" cy="504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Line 29"/>
              <p:cNvSpPr/>
              <p:nvPr/>
            </p:nvSpPr>
            <p:spPr>
              <a:xfrm>
                <a:off x="971640" y="5011560"/>
                <a:ext cx="0" cy="505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94" name="Group 148"/>
          <p:cNvGrpSpPr/>
          <p:nvPr/>
        </p:nvGrpSpPr>
        <p:grpSpPr>
          <a:xfrm>
            <a:off x="1720800" y="981000"/>
            <a:ext cx="7387920" cy="5658480"/>
            <a:chOff x="1720800" y="981000"/>
            <a:chExt cx="7387920" cy="5658480"/>
          </a:xfrm>
        </p:grpSpPr>
        <p:grpSp>
          <p:nvGrpSpPr>
            <p:cNvPr id="295" name="Group 129"/>
            <p:cNvGrpSpPr/>
            <p:nvPr/>
          </p:nvGrpSpPr>
          <p:grpSpPr>
            <a:xfrm>
              <a:off x="1720800" y="1413000"/>
              <a:ext cx="7027560" cy="5226480"/>
              <a:chOff x="1720800" y="1413000"/>
              <a:chExt cx="7027560" cy="5226480"/>
            </a:xfrm>
          </p:grpSpPr>
          <p:grpSp>
            <p:nvGrpSpPr>
              <p:cNvPr id="296" name="Group 36"/>
              <p:cNvGrpSpPr/>
              <p:nvPr/>
            </p:nvGrpSpPr>
            <p:grpSpPr>
              <a:xfrm>
                <a:off x="2886120" y="2817720"/>
                <a:ext cx="1152360" cy="1006200"/>
                <a:chOff x="2886120" y="2817720"/>
                <a:chExt cx="1152360" cy="1006200"/>
              </a:xfrm>
            </p:grpSpPr>
            <p:sp>
              <p:nvSpPr>
                <p:cNvPr id="297" name="Rectangle 37"/>
                <p:cNvSpPr/>
                <p:nvPr/>
              </p:nvSpPr>
              <p:spPr>
                <a:xfrm>
                  <a:off x="2886120" y="2817720"/>
                  <a:ext cx="1152360" cy="50328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" name="Rectangle 38"/>
                <p:cNvSpPr/>
                <p:nvPr/>
              </p:nvSpPr>
              <p:spPr>
                <a:xfrm>
                  <a:off x="2886120" y="3321000"/>
                  <a:ext cx="1152360" cy="5029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" name="Rectangle 39"/>
                <p:cNvSpPr/>
                <p:nvPr/>
              </p:nvSpPr>
              <p:spPr>
                <a:xfrm>
                  <a:off x="3246480" y="3105000"/>
                  <a:ext cx="431640" cy="43164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0" name="Text Box 40"/>
                <p:cNvSpPr/>
                <p:nvPr/>
              </p:nvSpPr>
              <p:spPr>
                <a:xfrm>
                  <a:off x="2909880" y="28270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99"/>
                      </a:solidFill>
                      <a:latin typeface="Tahoma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Text Box 41"/>
                <p:cNvSpPr/>
                <p:nvPr/>
              </p:nvSpPr>
              <p:spPr>
                <a:xfrm>
                  <a:off x="3308400" y="2997000"/>
                  <a:ext cx="296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99"/>
                      </a:solidFill>
                      <a:latin typeface="Tahoma"/>
                    </a:rPr>
                    <a:t>:</a:t>
                  </a:r>
                  <a:endParaRPr b="0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2" name="Group 82"/>
              <p:cNvGrpSpPr/>
              <p:nvPr/>
            </p:nvGrpSpPr>
            <p:grpSpPr>
              <a:xfrm>
                <a:off x="4687920" y="1413000"/>
                <a:ext cx="1152360" cy="1008000"/>
                <a:chOff x="4687920" y="1413000"/>
                <a:chExt cx="1152360" cy="1008000"/>
              </a:xfrm>
            </p:grpSpPr>
            <p:grpSp>
              <p:nvGrpSpPr>
                <p:cNvPr id="303" name="Group 30"/>
                <p:cNvGrpSpPr/>
                <p:nvPr/>
              </p:nvGrpSpPr>
              <p:grpSpPr>
                <a:xfrm>
                  <a:off x="4687920" y="1413000"/>
                  <a:ext cx="1152360" cy="1006200"/>
                  <a:chOff x="4687920" y="1413000"/>
                  <a:chExt cx="1152360" cy="1006200"/>
                </a:xfrm>
              </p:grpSpPr>
              <p:sp>
                <p:nvSpPr>
                  <p:cNvPr id="304" name="Rectangle 31"/>
                  <p:cNvSpPr/>
                  <p:nvPr/>
                </p:nvSpPr>
                <p:spPr>
                  <a:xfrm>
                    <a:off x="4687920" y="1413000"/>
                    <a:ext cx="1152360" cy="50328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" name="Rectangle 32"/>
                  <p:cNvSpPr/>
                  <p:nvPr/>
                </p:nvSpPr>
                <p:spPr>
                  <a:xfrm>
                    <a:off x="4687920" y="1916280"/>
                    <a:ext cx="1152360" cy="50292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" name="Rectangle 33"/>
                  <p:cNvSpPr/>
                  <p:nvPr/>
                </p:nvSpPr>
                <p:spPr>
                  <a:xfrm>
                    <a:off x="5048280" y="1700280"/>
                    <a:ext cx="431640" cy="43164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" name="Text Box 34"/>
                  <p:cNvSpPr/>
                  <p:nvPr/>
                </p:nvSpPr>
                <p:spPr>
                  <a:xfrm>
                    <a:off x="4711680" y="142236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4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" name="Text Box 35"/>
                  <p:cNvSpPr/>
                  <p:nvPr/>
                </p:nvSpPr>
                <p:spPr>
                  <a:xfrm>
                    <a:off x="5110200" y="1592280"/>
                    <a:ext cx="296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: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09" name="Line 74"/>
                <p:cNvSpPr/>
                <p:nvPr/>
              </p:nvSpPr>
              <p:spPr>
                <a:xfrm>
                  <a:off x="5264280" y="2133720"/>
                  <a:ext cx="0" cy="28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0" name="Line 76"/>
              <p:cNvSpPr/>
              <p:nvPr/>
            </p:nvSpPr>
            <p:spPr>
              <a:xfrm>
                <a:off x="3463920" y="3535200"/>
                <a:ext cx="0" cy="28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1" name="Group 87"/>
              <p:cNvGrpSpPr/>
              <p:nvPr/>
            </p:nvGrpSpPr>
            <p:grpSpPr>
              <a:xfrm>
                <a:off x="1976400" y="4149720"/>
                <a:ext cx="1152360" cy="1006560"/>
                <a:chOff x="1976400" y="4149720"/>
                <a:chExt cx="1152360" cy="1006560"/>
              </a:xfrm>
            </p:grpSpPr>
            <p:grpSp>
              <p:nvGrpSpPr>
                <p:cNvPr id="312" name="Group 48"/>
                <p:cNvGrpSpPr/>
                <p:nvPr/>
              </p:nvGrpSpPr>
              <p:grpSpPr>
                <a:xfrm>
                  <a:off x="1976400" y="4149720"/>
                  <a:ext cx="1152360" cy="1006200"/>
                  <a:chOff x="1976400" y="4149720"/>
                  <a:chExt cx="1152360" cy="1006200"/>
                </a:xfrm>
              </p:grpSpPr>
              <p:sp>
                <p:nvSpPr>
                  <p:cNvPr id="313" name="Rectangle 49"/>
                  <p:cNvSpPr/>
                  <p:nvPr/>
                </p:nvSpPr>
                <p:spPr>
                  <a:xfrm>
                    <a:off x="1976400" y="4149720"/>
                    <a:ext cx="1152360" cy="50328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4" name="Rectangle 50"/>
                  <p:cNvSpPr/>
                  <p:nvPr/>
                </p:nvSpPr>
                <p:spPr>
                  <a:xfrm>
                    <a:off x="1976400" y="4653000"/>
                    <a:ext cx="1152360" cy="50292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5" name="Rectangle 51"/>
                  <p:cNvSpPr/>
                  <p:nvPr/>
                </p:nvSpPr>
                <p:spPr>
                  <a:xfrm>
                    <a:off x="2336760" y="4437000"/>
                    <a:ext cx="431640" cy="43164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6" name="Text Box 52"/>
                  <p:cNvSpPr/>
                  <p:nvPr/>
                </p:nvSpPr>
                <p:spPr>
                  <a:xfrm>
                    <a:off x="2000160" y="41590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7" name="Text Box 53"/>
                  <p:cNvSpPr/>
                  <p:nvPr/>
                </p:nvSpPr>
                <p:spPr>
                  <a:xfrm>
                    <a:off x="2398680" y="4329000"/>
                    <a:ext cx="296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: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8" name="Line 77"/>
                <p:cNvSpPr/>
                <p:nvPr/>
              </p:nvSpPr>
              <p:spPr>
                <a:xfrm>
                  <a:off x="2552760" y="4869000"/>
                  <a:ext cx="0" cy="28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9" name="Group 88"/>
              <p:cNvGrpSpPr/>
              <p:nvPr/>
            </p:nvGrpSpPr>
            <p:grpSpPr>
              <a:xfrm>
                <a:off x="3780000" y="4149720"/>
                <a:ext cx="1152360" cy="1006560"/>
                <a:chOff x="3780000" y="4149720"/>
                <a:chExt cx="1152360" cy="1006560"/>
              </a:xfrm>
            </p:grpSpPr>
            <p:grpSp>
              <p:nvGrpSpPr>
                <p:cNvPr id="320" name="Group 54"/>
                <p:cNvGrpSpPr/>
                <p:nvPr/>
              </p:nvGrpSpPr>
              <p:grpSpPr>
                <a:xfrm>
                  <a:off x="3780000" y="4149720"/>
                  <a:ext cx="1152360" cy="1006200"/>
                  <a:chOff x="3780000" y="4149720"/>
                  <a:chExt cx="1152360" cy="1006200"/>
                </a:xfrm>
              </p:grpSpPr>
              <p:sp>
                <p:nvSpPr>
                  <p:cNvPr id="321" name="Rectangle 55"/>
                  <p:cNvSpPr/>
                  <p:nvPr/>
                </p:nvSpPr>
                <p:spPr>
                  <a:xfrm>
                    <a:off x="3780000" y="4149720"/>
                    <a:ext cx="1152360" cy="50328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2" name="Rectangle 56"/>
                  <p:cNvSpPr/>
                  <p:nvPr/>
                </p:nvSpPr>
                <p:spPr>
                  <a:xfrm>
                    <a:off x="3780000" y="4653000"/>
                    <a:ext cx="1152360" cy="50292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3" name="Rectangle 57"/>
                  <p:cNvSpPr/>
                  <p:nvPr/>
                </p:nvSpPr>
                <p:spPr>
                  <a:xfrm>
                    <a:off x="4140360" y="4437000"/>
                    <a:ext cx="431640" cy="43164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4" name="Text Box 58"/>
                  <p:cNvSpPr/>
                  <p:nvPr/>
                </p:nvSpPr>
                <p:spPr>
                  <a:xfrm>
                    <a:off x="3803760" y="41590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3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5" name="Text Box 59"/>
                  <p:cNvSpPr/>
                  <p:nvPr/>
                </p:nvSpPr>
                <p:spPr>
                  <a:xfrm>
                    <a:off x="4202280" y="4329000"/>
                    <a:ext cx="296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: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26" name="Line 78"/>
                <p:cNvSpPr/>
                <p:nvPr/>
              </p:nvSpPr>
              <p:spPr>
                <a:xfrm>
                  <a:off x="4356000" y="4869000"/>
                  <a:ext cx="0" cy="28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7" name="Group 80"/>
              <p:cNvGrpSpPr/>
              <p:nvPr/>
            </p:nvGrpSpPr>
            <p:grpSpPr>
              <a:xfrm>
                <a:off x="6486480" y="2817720"/>
                <a:ext cx="1152360" cy="1006560"/>
                <a:chOff x="6486480" y="2817720"/>
                <a:chExt cx="1152360" cy="1006560"/>
              </a:xfrm>
            </p:grpSpPr>
            <p:grpSp>
              <p:nvGrpSpPr>
                <p:cNvPr id="328" name="Group 42"/>
                <p:cNvGrpSpPr/>
                <p:nvPr/>
              </p:nvGrpSpPr>
              <p:grpSpPr>
                <a:xfrm>
                  <a:off x="6486480" y="2817720"/>
                  <a:ext cx="1152360" cy="1006200"/>
                  <a:chOff x="6486480" y="2817720"/>
                  <a:chExt cx="1152360" cy="1006200"/>
                </a:xfrm>
              </p:grpSpPr>
              <p:sp>
                <p:nvSpPr>
                  <p:cNvPr id="329" name="Rectangle 43"/>
                  <p:cNvSpPr/>
                  <p:nvPr/>
                </p:nvSpPr>
                <p:spPr>
                  <a:xfrm>
                    <a:off x="6486480" y="2817720"/>
                    <a:ext cx="1152360" cy="50328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0" name="Rectangle 44"/>
                  <p:cNvSpPr/>
                  <p:nvPr/>
                </p:nvSpPr>
                <p:spPr>
                  <a:xfrm>
                    <a:off x="6486480" y="3321000"/>
                    <a:ext cx="1152360" cy="50292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1" name="Rectangle 45"/>
                  <p:cNvSpPr/>
                  <p:nvPr/>
                </p:nvSpPr>
                <p:spPr>
                  <a:xfrm>
                    <a:off x="6846840" y="3105000"/>
                    <a:ext cx="431640" cy="43164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2" name="Text Box 46"/>
                  <p:cNvSpPr/>
                  <p:nvPr/>
                </p:nvSpPr>
                <p:spPr>
                  <a:xfrm>
                    <a:off x="6510240" y="28270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6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3" name="Text Box 47"/>
                  <p:cNvSpPr/>
                  <p:nvPr/>
                </p:nvSpPr>
                <p:spPr>
                  <a:xfrm>
                    <a:off x="6908760" y="2997000"/>
                    <a:ext cx="296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: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34" name="Line 79"/>
                <p:cNvSpPr/>
                <p:nvPr/>
              </p:nvSpPr>
              <p:spPr>
                <a:xfrm>
                  <a:off x="7062840" y="3537000"/>
                  <a:ext cx="0" cy="28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85"/>
              <p:cNvGrpSpPr/>
              <p:nvPr/>
            </p:nvGrpSpPr>
            <p:grpSpPr>
              <a:xfrm>
                <a:off x="7380360" y="4149720"/>
                <a:ext cx="1152360" cy="1006560"/>
                <a:chOff x="7380360" y="4149720"/>
                <a:chExt cx="1152360" cy="1006560"/>
              </a:xfrm>
            </p:grpSpPr>
            <p:grpSp>
              <p:nvGrpSpPr>
                <p:cNvPr id="336" name="Group 66"/>
                <p:cNvGrpSpPr/>
                <p:nvPr/>
              </p:nvGrpSpPr>
              <p:grpSpPr>
                <a:xfrm>
                  <a:off x="7380360" y="4149720"/>
                  <a:ext cx="1152360" cy="1006200"/>
                  <a:chOff x="7380360" y="4149720"/>
                  <a:chExt cx="1152360" cy="1006200"/>
                </a:xfrm>
              </p:grpSpPr>
              <p:sp>
                <p:nvSpPr>
                  <p:cNvPr id="337" name="Rectangle 67"/>
                  <p:cNvSpPr/>
                  <p:nvPr/>
                </p:nvSpPr>
                <p:spPr>
                  <a:xfrm>
                    <a:off x="7380360" y="4149720"/>
                    <a:ext cx="1152360" cy="50328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8" name="Rectangle 68"/>
                  <p:cNvSpPr/>
                  <p:nvPr/>
                </p:nvSpPr>
                <p:spPr>
                  <a:xfrm>
                    <a:off x="7380360" y="4653000"/>
                    <a:ext cx="1152360" cy="50292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9" name="Rectangle 69"/>
                  <p:cNvSpPr/>
                  <p:nvPr/>
                </p:nvSpPr>
                <p:spPr>
                  <a:xfrm>
                    <a:off x="7740720" y="4437000"/>
                    <a:ext cx="431640" cy="43164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0" name="Text Box 70"/>
                  <p:cNvSpPr/>
                  <p:nvPr/>
                </p:nvSpPr>
                <p:spPr>
                  <a:xfrm>
                    <a:off x="7404120" y="41590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7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Text Box 71"/>
                  <p:cNvSpPr/>
                  <p:nvPr/>
                </p:nvSpPr>
                <p:spPr>
                  <a:xfrm>
                    <a:off x="7802640" y="4329000"/>
                    <a:ext cx="296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: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42" name="Line 81"/>
                <p:cNvSpPr/>
                <p:nvPr/>
              </p:nvSpPr>
              <p:spPr>
                <a:xfrm>
                  <a:off x="7956720" y="4869000"/>
                  <a:ext cx="0" cy="28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3" name="Group 86"/>
              <p:cNvGrpSpPr/>
              <p:nvPr/>
            </p:nvGrpSpPr>
            <p:grpSpPr>
              <a:xfrm>
                <a:off x="5580000" y="4149720"/>
                <a:ext cx="1152360" cy="1006560"/>
                <a:chOff x="5580000" y="4149720"/>
                <a:chExt cx="1152360" cy="1006560"/>
              </a:xfrm>
            </p:grpSpPr>
            <p:grpSp>
              <p:nvGrpSpPr>
                <p:cNvPr id="344" name="Group 60"/>
                <p:cNvGrpSpPr/>
                <p:nvPr/>
              </p:nvGrpSpPr>
              <p:grpSpPr>
                <a:xfrm>
                  <a:off x="5580000" y="4149720"/>
                  <a:ext cx="1152360" cy="1006200"/>
                  <a:chOff x="5580000" y="4149720"/>
                  <a:chExt cx="1152360" cy="1006200"/>
                </a:xfrm>
              </p:grpSpPr>
              <p:sp>
                <p:nvSpPr>
                  <p:cNvPr id="345" name="Rectangle 61"/>
                  <p:cNvSpPr/>
                  <p:nvPr/>
                </p:nvSpPr>
                <p:spPr>
                  <a:xfrm>
                    <a:off x="5580000" y="4149720"/>
                    <a:ext cx="1152360" cy="50328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6" name="Rectangle 62"/>
                  <p:cNvSpPr/>
                  <p:nvPr/>
                </p:nvSpPr>
                <p:spPr>
                  <a:xfrm>
                    <a:off x="5580000" y="4653000"/>
                    <a:ext cx="1152360" cy="50292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7" name="Rectangle 63"/>
                  <p:cNvSpPr/>
                  <p:nvPr/>
                </p:nvSpPr>
                <p:spPr>
                  <a:xfrm>
                    <a:off x="5940360" y="4437000"/>
                    <a:ext cx="431640" cy="431640"/>
                  </a:xfrm>
                  <a:prstGeom prst="rect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8" name="Text Box 64"/>
                  <p:cNvSpPr/>
                  <p:nvPr/>
                </p:nvSpPr>
                <p:spPr>
                  <a:xfrm>
                    <a:off x="5603760" y="41590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9" name="Text Box 65"/>
                  <p:cNvSpPr/>
                  <p:nvPr/>
                </p:nvSpPr>
                <p:spPr>
                  <a:xfrm>
                    <a:off x="6002280" y="4329000"/>
                    <a:ext cx="296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3200" spc="-1" strike="noStrike">
                        <a:solidFill>
                          <a:srgbClr val="000099"/>
                        </a:solidFill>
                        <a:latin typeface="Tahoma"/>
                      </a:rPr>
                      <a:t>: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50" name="Line 84"/>
                <p:cNvSpPr/>
                <p:nvPr/>
              </p:nvSpPr>
              <p:spPr>
                <a:xfrm>
                  <a:off x="6156360" y="4869000"/>
                  <a:ext cx="0" cy="28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1" name="Group 96"/>
              <p:cNvGrpSpPr/>
              <p:nvPr/>
            </p:nvGrpSpPr>
            <p:grpSpPr>
              <a:xfrm>
                <a:off x="1720800" y="5516640"/>
                <a:ext cx="1655280" cy="504720"/>
                <a:chOff x="1720800" y="5516640"/>
                <a:chExt cx="1655280" cy="504720"/>
              </a:xfrm>
            </p:grpSpPr>
            <p:sp>
              <p:nvSpPr>
                <p:cNvPr id="352" name="Rectangle 92"/>
                <p:cNvSpPr/>
                <p:nvPr/>
              </p:nvSpPr>
              <p:spPr>
                <a:xfrm>
                  <a:off x="2584080" y="5516640"/>
                  <a:ext cx="792000" cy="5047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ahoma"/>
                    </a:rPr>
                    <a:t>Leaf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3" name="Rectangle 93"/>
                <p:cNvSpPr/>
                <p:nvPr/>
              </p:nvSpPr>
              <p:spPr>
                <a:xfrm>
                  <a:off x="1720800" y="5516640"/>
                  <a:ext cx="792000" cy="5047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ahoma"/>
                    </a:rPr>
                    <a:t>Leaf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4" name="Group 97"/>
              <p:cNvGrpSpPr/>
              <p:nvPr/>
            </p:nvGrpSpPr>
            <p:grpSpPr>
              <a:xfrm>
                <a:off x="3516480" y="5516640"/>
                <a:ext cx="1655280" cy="504720"/>
                <a:chOff x="3516480" y="5516640"/>
                <a:chExt cx="1655280" cy="504720"/>
              </a:xfrm>
            </p:grpSpPr>
            <p:sp>
              <p:nvSpPr>
                <p:cNvPr id="355" name="Rectangle 98"/>
                <p:cNvSpPr/>
                <p:nvPr/>
              </p:nvSpPr>
              <p:spPr>
                <a:xfrm>
                  <a:off x="4379760" y="5516640"/>
                  <a:ext cx="792000" cy="5047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ahoma"/>
                    </a:rPr>
                    <a:t>Leaf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6" name="Rectangle 99"/>
                <p:cNvSpPr/>
                <p:nvPr/>
              </p:nvSpPr>
              <p:spPr>
                <a:xfrm>
                  <a:off x="3516480" y="5516640"/>
                  <a:ext cx="792000" cy="5047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ahoma"/>
                    </a:rPr>
                    <a:t>Leaf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7" name="Group 100"/>
              <p:cNvGrpSpPr/>
              <p:nvPr/>
            </p:nvGrpSpPr>
            <p:grpSpPr>
              <a:xfrm>
                <a:off x="5302080" y="5516640"/>
                <a:ext cx="1656000" cy="504720"/>
                <a:chOff x="5302080" y="5516640"/>
                <a:chExt cx="1656000" cy="504720"/>
              </a:xfrm>
            </p:grpSpPr>
            <p:sp>
              <p:nvSpPr>
                <p:cNvPr id="358" name="Rectangle 101"/>
                <p:cNvSpPr/>
                <p:nvPr/>
              </p:nvSpPr>
              <p:spPr>
                <a:xfrm>
                  <a:off x="6165720" y="5516640"/>
                  <a:ext cx="792360" cy="5047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ahoma"/>
                    </a:rPr>
                    <a:t>Leaf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" name="Rectangle 102"/>
                <p:cNvSpPr/>
                <p:nvPr/>
              </p:nvSpPr>
              <p:spPr>
                <a:xfrm>
                  <a:off x="5302080" y="5516640"/>
                  <a:ext cx="792360" cy="5047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ahoma"/>
                    </a:rPr>
                    <a:t>Leaf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0" name="Group 103"/>
              <p:cNvGrpSpPr/>
              <p:nvPr/>
            </p:nvGrpSpPr>
            <p:grpSpPr>
              <a:xfrm>
                <a:off x="7093080" y="5516640"/>
                <a:ext cx="1655280" cy="504720"/>
                <a:chOff x="7093080" y="5516640"/>
                <a:chExt cx="1655280" cy="504720"/>
              </a:xfrm>
            </p:grpSpPr>
            <p:sp>
              <p:nvSpPr>
                <p:cNvPr id="361" name="Rectangle 104"/>
                <p:cNvSpPr/>
                <p:nvPr/>
              </p:nvSpPr>
              <p:spPr>
                <a:xfrm>
                  <a:off x="7956360" y="5516640"/>
                  <a:ext cx="792000" cy="5047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ahoma"/>
                    </a:rPr>
                    <a:t>Leaf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2" name="Rectangle 105"/>
                <p:cNvSpPr/>
                <p:nvPr/>
              </p:nvSpPr>
              <p:spPr>
                <a:xfrm>
                  <a:off x="7093080" y="5516640"/>
                  <a:ext cx="792000" cy="504720"/>
                </a:xfrm>
                <a:prstGeom prst="rect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99"/>
                      </a:solidFill>
                      <a:latin typeface="Tahoma"/>
                    </a:rPr>
                    <a:t>Leaf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3" name="Group 107"/>
              <p:cNvGrpSpPr/>
              <p:nvPr/>
            </p:nvGrpSpPr>
            <p:grpSpPr>
              <a:xfrm>
                <a:off x="3463560" y="2224080"/>
                <a:ext cx="3605400" cy="604800"/>
                <a:chOff x="3463560" y="2224080"/>
                <a:chExt cx="3605400" cy="604800"/>
              </a:xfrm>
            </p:grpSpPr>
            <p:sp>
              <p:nvSpPr>
                <p:cNvPr id="364" name="Line 72"/>
                <p:cNvSpPr/>
                <p:nvPr/>
              </p:nvSpPr>
              <p:spPr>
                <a:xfrm flipH="1">
                  <a:off x="3463560" y="2224080"/>
                  <a:ext cx="1454040" cy="604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" name="Line 106"/>
                <p:cNvSpPr/>
                <p:nvPr/>
              </p:nvSpPr>
              <p:spPr>
                <a:xfrm>
                  <a:off x="5614920" y="2224080"/>
                  <a:ext cx="1454040" cy="604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6" name="Group 111"/>
              <p:cNvGrpSpPr/>
              <p:nvPr/>
            </p:nvGrpSpPr>
            <p:grpSpPr>
              <a:xfrm>
                <a:off x="2555640" y="3645000"/>
                <a:ext cx="1800360" cy="504720"/>
                <a:chOff x="2555640" y="3645000"/>
                <a:chExt cx="1800360" cy="504720"/>
              </a:xfrm>
            </p:grpSpPr>
            <p:sp>
              <p:nvSpPr>
                <p:cNvPr id="367" name="Line 109"/>
                <p:cNvSpPr/>
                <p:nvPr/>
              </p:nvSpPr>
              <p:spPr>
                <a:xfrm flipH="1">
                  <a:off x="2555640" y="3645000"/>
                  <a:ext cx="556920" cy="504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Line 110"/>
                <p:cNvSpPr/>
                <p:nvPr/>
              </p:nvSpPr>
              <p:spPr>
                <a:xfrm>
                  <a:off x="3809880" y="3645000"/>
                  <a:ext cx="546120" cy="504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9" name="Group 112"/>
              <p:cNvGrpSpPr/>
              <p:nvPr/>
            </p:nvGrpSpPr>
            <p:grpSpPr>
              <a:xfrm>
                <a:off x="6160680" y="3645000"/>
                <a:ext cx="1800360" cy="504720"/>
                <a:chOff x="6160680" y="3645000"/>
                <a:chExt cx="1800360" cy="504720"/>
              </a:xfrm>
            </p:grpSpPr>
            <p:sp>
              <p:nvSpPr>
                <p:cNvPr id="370" name="Line 113"/>
                <p:cNvSpPr/>
                <p:nvPr/>
              </p:nvSpPr>
              <p:spPr>
                <a:xfrm flipH="1">
                  <a:off x="6160680" y="3645000"/>
                  <a:ext cx="556920" cy="504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Line 114"/>
                <p:cNvSpPr/>
                <p:nvPr/>
              </p:nvSpPr>
              <p:spPr>
                <a:xfrm>
                  <a:off x="7414920" y="3645000"/>
                  <a:ext cx="546120" cy="504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2" name="Group 118"/>
              <p:cNvGrpSpPr/>
              <p:nvPr/>
            </p:nvGrpSpPr>
            <p:grpSpPr>
              <a:xfrm>
                <a:off x="2050920" y="5003640"/>
                <a:ext cx="1008360" cy="513000"/>
                <a:chOff x="2050920" y="5003640"/>
                <a:chExt cx="1008360" cy="513000"/>
              </a:xfrm>
            </p:grpSpPr>
            <p:sp>
              <p:nvSpPr>
                <p:cNvPr id="373" name="Line 116"/>
                <p:cNvSpPr/>
                <p:nvPr/>
              </p:nvSpPr>
              <p:spPr>
                <a:xfrm flipH="1">
                  <a:off x="2050920" y="5003640"/>
                  <a:ext cx="160560" cy="513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4" name="Line 117"/>
                <p:cNvSpPr/>
                <p:nvPr/>
              </p:nvSpPr>
              <p:spPr>
                <a:xfrm>
                  <a:off x="2908440" y="5003640"/>
                  <a:ext cx="150840" cy="513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5" name="Group 119"/>
              <p:cNvGrpSpPr/>
              <p:nvPr/>
            </p:nvGrpSpPr>
            <p:grpSpPr>
              <a:xfrm>
                <a:off x="3846240" y="5013360"/>
                <a:ext cx="1008000" cy="512640"/>
                <a:chOff x="3846240" y="5013360"/>
                <a:chExt cx="1008000" cy="512640"/>
              </a:xfrm>
            </p:grpSpPr>
            <p:sp>
              <p:nvSpPr>
                <p:cNvPr id="376" name="Line 120"/>
                <p:cNvSpPr/>
                <p:nvPr/>
              </p:nvSpPr>
              <p:spPr>
                <a:xfrm flipH="1">
                  <a:off x="3846240" y="5013360"/>
                  <a:ext cx="160200" cy="5126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7" name="Line 121"/>
                <p:cNvSpPr/>
                <p:nvPr/>
              </p:nvSpPr>
              <p:spPr>
                <a:xfrm>
                  <a:off x="4703760" y="5013360"/>
                  <a:ext cx="150480" cy="5126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8" name="Group 122"/>
              <p:cNvGrpSpPr/>
              <p:nvPr/>
            </p:nvGrpSpPr>
            <p:grpSpPr>
              <a:xfrm>
                <a:off x="5646600" y="5013360"/>
                <a:ext cx="1008360" cy="512640"/>
                <a:chOff x="5646600" y="5013360"/>
                <a:chExt cx="1008360" cy="512640"/>
              </a:xfrm>
            </p:grpSpPr>
            <p:sp>
              <p:nvSpPr>
                <p:cNvPr id="379" name="Line 123"/>
                <p:cNvSpPr/>
                <p:nvPr/>
              </p:nvSpPr>
              <p:spPr>
                <a:xfrm flipH="1">
                  <a:off x="5646600" y="5013360"/>
                  <a:ext cx="160560" cy="5126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0" name="Line 124"/>
                <p:cNvSpPr/>
                <p:nvPr/>
              </p:nvSpPr>
              <p:spPr>
                <a:xfrm>
                  <a:off x="6504120" y="5013360"/>
                  <a:ext cx="150840" cy="5126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1" name="Group 125"/>
              <p:cNvGrpSpPr/>
              <p:nvPr/>
            </p:nvGrpSpPr>
            <p:grpSpPr>
              <a:xfrm>
                <a:off x="7451280" y="5003640"/>
                <a:ext cx="1008000" cy="513000"/>
                <a:chOff x="7451280" y="5003640"/>
                <a:chExt cx="1008000" cy="513000"/>
              </a:xfrm>
            </p:grpSpPr>
            <p:sp>
              <p:nvSpPr>
                <p:cNvPr id="382" name="Line 126"/>
                <p:cNvSpPr/>
                <p:nvPr/>
              </p:nvSpPr>
              <p:spPr>
                <a:xfrm flipH="1">
                  <a:off x="7451280" y="5003640"/>
                  <a:ext cx="160200" cy="513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3" name="Line 127"/>
                <p:cNvSpPr/>
                <p:nvPr/>
              </p:nvSpPr>
              <p:spPr>
                <a:xfrm>
                  <a:off x="8308800" y="5003640"/>
                  <a:ext cx="150480" cy="513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4" name="Text Box 128"/>
              <p:cNvSpPr/>
              <p:nvPr/>
            </p:nvSpPr>
            <p:spPr>
              <a:xfrm>
                <a:off x="2570040" y="6058080"/>
                <a:ext cx="532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ahoma"/>
                  </a:rPr>
                  <a:t>Древовидная структура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85" name="Group 132"/>
            <p:cNvGrpSpPr/>
            <p:nvPr/>
          </p:nvGrpSpPr>
          <p:grpSpPr>
            <a:xfrm>
              <a:off x="7093080" y="981000"/>
              <a:ext cx="2015640" cy="1655280"/>
              <a:chOff x="7093080" y="981000"/>
              <a:chExt cx="2015640" cy="1655280"/>
            </a:xfrm>
          </p:grpSpPr>
          <p:grpSp>
            <p:nvGrpSpPr>
              <p:cNvPr id="386" name="Group 133"/>
              <p:cNvGrpSpPr/>
              <p:nvPr/>
            </p:nvGrpSpPr>
            <p:grpSpPr>
              <a:xfrm>
                <a:off x="7093080" y="1553400"/>
                <a:ext cx="2015640" cy="1082880"/>
                <a:chOff x="7093080" y="1553400"/>
                <a:chExt cx="2015640" cy="1082880"/>
              </a:xfrm>
            </p:grpSpPr>
            <p:grpSp>
              <p:nvGrpSpPr>
                <p:cNvPr id="387" name="Group 134"/>
                <p:cNvGrpSpPr/>
                <p:nvPr/>
              </p:nvGrpSpPr>
              <p:grpSpPr>
                <a:xfrm>
                  <a:off x="7093080" y="2190240"/>
                  <a:ext cx="948240" cy="446040"/>
                  <a:chOff x="7093080" y="2190240"/>
                  <a:chExt cx="948240" cy="446040"/>
                </a:xfrm>
              </p:grpSpPr>
              <p:sp>
                <p:nvSpPr>
                  <p:cNvPr id="388" name="Oval 135"/>
                  <p:cNvSpPr/>
                  <p:nvPr/>
                </p:nvSpPr>
                <p:spPr>
                  <a:xfrm>
                    <a:off x="7093080" y="2190240"/>
                    <a:ext cx="415440" cy="446040"/>
                  </a:xfrm>
                  <a:prstGeom prst="ellipse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3333cc"/>
                        </a:solidFill>
                        <a:latin typeface="Tahoma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9" name="Oval 136"/>
                  <p:cNvSpPr/>
                  <p:nvPr/>
                </p:nvSpPr>
                <p:spPr>
                  <a:xfrm>
                    <a:off x="7626240" y="2190240"/>
                    <a:ext cx="415080" cy="446040"/>
                  </a:xfrm>
                  <a:prstGeom prst="ellipse">
                    <a:avLst/>
                  </a:prstGeom>
                  <a:solidFill>
                    <a:srgbClr val="bfde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3333cc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90" name="Oval 137"/>
                <p:cNvSpPr/>
                <p:nvPr/>
              </p:nvSpPr>
              <p:spPr>
                <a:xfrm>
                  <a:off x="7359480" y="1553400"/>
                  <a:ext cx="415080" cy="446040"/>
                </a:xfrm>
                <a:prstGeom prst="ellipse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3333cc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cxnSp>
              <p:nvCxnSpPr>
                <p:cNvPr id="391" name="AutoShape 138"/>
                <p:cNvCxnSpPr>
                  <a:stCxn id="390" idx="5"/>
                  <a:endCxn id="389" idx="0"/>
                </p:cNvCxnSpPr>
                <p:nvPr/>
              </p:nvCxnSpPr>
              <p:spPr>
                <a:xfrm>
                  <a:off x="7713720" y="1933200"/>
                  <a:ext cx="120960" cy="257400"/>
                </a:xfrm>
                <a:prstGeom prst="straightConnector1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2" name="AutoShape 139"/>
                <p:cNvCxnSpPr>
                  <a:stCxn id="390" idx="3"/>
                  <a:endCxn id="388" idx="0"/>
                </p:cNvCxnSpPr>
                <p:nvPr/>
              </p:nvCxnSpPr>
              <p:spPr>
                <a:xfrm flipH="1">
                  <a:off x="7300080" y="1933200"/>
                  <a:ext cx="120600" cy="257400"/>
                </a:xfrm>
                <a:prstGeom prst="straightConnector1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</p:cxnSp>
            <p:sp>
              <p:nvSpPr>
                <p:cNvPr id="393" name="Oval 140"/>
                <p:cNvSpPr/>
                <p:nvPr/>
              </p:nvSpPr>
              <p:spPr>
                <a:xfrm>
                  <a:off x="8160480" y="2190240"/>
                  <a:ext cx="415440" cy="446040"/>
                </a:xfrm>
                <a:prstGeom prst="ellipse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3333cc"/>
                      </a:solidFill>
                      <a:latin typeface="Tahoma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Oval 141"/>
                <p:cNvSpPr/>
                <p:nvPr/>
              </p:nvSpPr>
              <p:spPr>
                <a:xfrm>
                  <a:off x="8693280" y="2190240"/>
                  <a:ext cx="415440" cy="446040"/>
                </a:xfrm>
                <a:prstGeom prst="ellipse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3333cc"/>
                      </a:solidFill>
                      <a:latin typeface="Tahoma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Oval 142"/>
                <p:cNvSpPr/>
                <p:nvPr/>
              </p:nvSpPr>
              <p:spPr>
                <a:xfrm>
                  <a:off x="8426880" y="1553400"/>
                  <a:ext cx="415080" cy="446040"/>
                </a:xfrm>
                <a:prstGeom prst="ellipse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3333cc"/>
                      </a:solidFill>
                      <a:latin typeface="Tahoma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cxnSp>
              <p:nvCxnSpPr>
                <p:cNvPr id="396" name="AutoShape 143"/>
                <p:cNvCxnSpPr>
                  <a:stCxn id="395" idx="5"/>
                  <a:endCxn id="394" idx="0"/>
                </p:cNvCxnSpPr>
                <p:nvPr/>
              </p:nvCxnSpPr>
              <p:spPr>
                <a:xfrm>
                  <a:off x="8781120" y="1933200"/>
                  <a:ext cx="120960" cy="257400"/>
                </a:xfrm>
                <a:prstGeom prst="straightConnector1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7" name="AutoShape 144"/>
                <p:cNvCxnSpPr>
                  <a:stCxn id="395" idx="3"/>
                  <a:endCxn id="393" idx="0"/>
                </p:cNvCxnSpPr>
                <p:nvPr/>
              </p:nvCxnSpPr>
              <p:spPr>
                <a:xfrm flipH="1">
                  <a:off x="8367480" y="1933200"/>
                  <a:ext cx="120960" cy="257400"/>
                </a:xfrm>
                <a:prstGeom prst="straightConnector1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98" name="Oval 145"/>
              <p:cNvSpPr/>
              <p:nvPr/>
            </p:nvSpPr>
            <p:spPr>
              <a:xfrm>
                <a:off x="7894080" y="981000"/>
                <a:ext cx="415080" cy="446040"/>
              </a:xfrm>
              <a:prstGeom prst="ellipse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cc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399" name="AutoShape 146"/>
              <p:cNvCxnSpPr>
                <a:stCxn id="398" idx="3"/>
                <a:endCxn id="390" idx="7"/>
              </p:cNvCxnSpPr>
              <p:nvPr/>
            </p:nvCxnSpPr>
            <p:spPr>
              <a:xfrm flipH="1">
                <a:off x="7713000" y="1360800"/>
                <a:ext cx="242280" cy="258480"/>
              </a:xfrm>
              <a:prstGeom prst="straightConnector1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00" name="AutoShape 147"/>
              <p:cNvCxnSpPr>
                <a:stCxn id="398" idx="5"/>
                <a:endCxn id="395" idx="1"/>
              </p:cNvCxnSpPr>
              <p:nvPr/>
            </p:nvCxnSpPr>
            <p:spPr>
              <a:xfrm>
                <a:off x="8247600" y="1360800"/>
                <a:ext cx="240840" cy="258480"/>
              </a:xfrm>
              <a:prstGeom prst="straightConnector1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</p:cxnSp>
        </p:grp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екурсивные типы данных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402" name="Group 30"/>
          <p:cNvGrpSpPr/>
          <p:nvPr/>
        </p:nvGrpSpPr>
        <p:grpSpPr>
          <a:xfrm>
            <a:off x="2886120" y="2817720"/>
            <a:ext cx="1152360" cy="1006200"/>
            <a:chOff x="2886120" y="2817720"/>
            <a:chExt cx="1152360" cy="1006200"/>
          </a:xfrm>
        </p:grpSpPr>
        <p:sp>
          <p:nvSpPr>
            <p:cNvPr id="403" name="Rectangle 31"/>
            <p:cNvSpPr/>
            <p:nvPr/>
          </p:nvSpPr>
          <p:spPr>
            <a:xfrm>
              <a:off x="2886120" y="2817720"/>
              <a:ext cx="1152360" cy="503280"/>
            </a:xfrm>
            <a:prstGeom prst="rect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32"/>
            <p:cNvSpPr/>
            <p:nvPr/>
          </p:nvSpPr>
          <p:spPr>
            <a:xfrm>
              <a:off x="2886120" y="3321000"/>
              <a:ext cx="1152360" cy="502920"/>
            </a:xfrm>
            <a:prstGeom prst="rect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33"/>
            <p:cNvSpPr/>
            <p:nvPr/>
          </p:nvSpPr>
          <p:spPr>
            <a:xfrm>
              <a:off x="3246480" y="3105000"/>
              <a:ext cx="431640" cy="431640"/>
            </a:xfrm>
            <a:prstGeom prst="rect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34"/>
            <p:cNvSpPr/>
            <p:nvPr/>
          </p:nvSpPr>
          <p:spPr>
            <a:xfrm>
              <a:off x="2909880" y="2827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35"/>
            <p:cNvSpPr/>
            <p:nvPr/>
          </p:nvSpPr>
          <p:spPr>
            <a:xfrm>
              <a:off x="3308400" y="2997000"/>
              <a:ext cx="29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Tahoma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8" name="Group 36"/>
          <p:cNvGrpSpPr/>
          <p:nvPr/>
        </p:nvGrpSpPr>
        <p:grpSpPr>
          <a:xfrm>
            <a:off x="4687920" y="1413000"/>
            <a:ext cx="1152360" cy="1008000"/>
            <a:chOff x="4687920" y="1413000"/>
            <a:chExt cx="1152360" cy="1008000"/>
          </a:xfrm>
        </p:grpSpPr>
        <p:grpSp>
          <p:nvGrpSpPr>
            <p:cNvPr id="409" name="Group 37"/>
            <p:cNvGrpSpPr/>
            <p:nvPr/>
          </p:nvGrpSpPr>
          <p:grpSpPr>
            <a:xfrm>
              <a:off x="4687920" y="1413000"/>
              <a:ext cx="1152360" cy="1006200"/>
              <a:chOff x="4687920" y="1413000"/>
              <a:chExt cx="1152360" cy="1006200"/>
            </a:xfrm>
          </p:grpSpPr>
          <p:sp>
            <p:nvSpPr>
              <p:cNvPr id="410" name="Rectangle 38"/>
              <p:cNvSpPr/>
              <p:nvPr/>
            </p:nvSpPr>
            <p:spPr>
              <a:xfrm>
                <a:off x="4687920" y="1413000"/>
                <a:ext cx="1152360" cy="503280"/>
              </a:xfrm>
              <a:prstGeom prst="rect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Rectangle 39"/>
              <p:cNvSpPr/>
              <p:nvPr/>
            </p:nvSpPr>
            <p:spPr>
              <a:xfrm>
                <a:off x="4687920" y="1916280"/>
                <a:ext cx="1152360" cy="502920"/>
              </a:xfrm>
              <a:prstGeom prst="rect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Rectangle 40"/>
              <p:cNvSpPr/>
              <p:nvPr/>
            </p:nvSpPr>
            <p:spPr>
              <a:xfrm>
                <a:off x="5048280" y="1700280"/>
                <a:ext cx="431640" cy="431640"/>
              </a:xfrm>
              <a:prstGeom prst="rect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Text Box 41"/>
              <p:cNvSpPr/>
              <p:nvPr/>
            </p:nvSpPr>
            <p:spPr>
              <a:xfrm>
                <a:off x="4711680" y="1422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99"/>
                    </a:solidFill>
                    <a:latin typeface="Tahoma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4" name="Text Box 42"/>
              <p:cNvSpPr/>
              <p:nvPr/>
            </p:nvSpPr>
            <p:spPr>
              <a:xfrm>
                <a:off x="5110200" y="1592280"/>
                <a:ext cx="296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5" name="Line 43"/>
            <p:cNvSpPr/>
            <p:nvPr/>
          </p:nvSpPr>
          <p:spPr>
            <a:xfrm>
              <a:off x="5264280" y="21337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6" name="Line 44"/>
          <p:cNvSpPr/>
          <p:nvPr/>
        </p:nvSpPr>
        <p:spPr>
          <a:xfrm>
            <a:off x="3463920" y="353520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53"/>
          <p:cNvGrpSpPr/>
          <p:nvPr/>
        </p:nvGrpSpPr>
        <p:grpSpPr>
          <a:xfrm>
            <a:off x="3780000" y="4149720"/>
            <a:ext cx="1152360" cy="1006560"/>
            <a:chOff x="3780000" y="4149720"/>
            <a:chExt cx="1152360" cy="1006560"/>
          </a:xfrm>
        </p:grpSpPr>
        <p:grpSp>
          <p:nvGrpSpPr>
            <p:cNvPr id="418" name="Group 54"/>
            <p:cNvGrpSpPr/>
            <p:nvPr/>
          </p:nvGrpSpPr>
          <p:grpSpPr>
            <a:xfrm>
              <a:off x="3780000" y="4149720"/>
              <a:ext cx="1152360" cy="1006200"/>
              <a:chOff x="3780000" y="4149720"/>
              <a:chExt cx="1152360" cy="1006200"/>
            </a:xfrm>
          </p:grpSpPr>
          <p:sp>
            <p:nvSpPr>
              <p:cNvPr id="419" name="Rectangle 55"/>
              <p:cNvSpPr/>
              <p:nvPr/>
            </p:nvSpPr>
            <p:spPr>
              <a:xfrm>
                <a:off x="3780000" y="4149720"/>
                <a:ext cx="1152360" cy="503280"/>
              </a:xfrm>
              <a:prstGeom prst="rect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56"/>
              <p:cNvSpPr/>
              <p:nvPr/>
            </p:nvSpPr>
            <p:spPr>
              <a:xfrm>
                <a:off x="3780000" y="4653000"/>
                <a:ext cx="1152360" cy="502920"/>
              </a:xfrm>
              <a:prstGeom prst="rect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57"/>
              <p:cNvSpPr/>
              <p:nvPr/>
            </p:nvSpPr>
            <p:spPr>
              <a:xfrm>
                <a:off x="4140360" y="4437000"/>
                <a:ext cx="431640" cy="431640"/>
              </a:xfrm>
              <a:prstGeom prst="rect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Text Box 58"/>
              <p:cNvSpPr/>
              <p:nvPr/>
            </p:nvSpPr>
            <p:spPr>
              <a:xfrm>
                <a:off x="3803760" y="41590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99"/>
                    </a:solidFill>
                    <a:latin typeface="Tahoma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Text Box 59"/>
              <p:cNvSpPr/>
              <p:nvPr/>
            </p:nvSpPr>
            <p:spPr>
              <a:xfrm>
                <a:off x="4202280" y="4329000"/>
                <a:ext cx="296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Line 60"/>
            <p:cNvSpPr/>
            <p:nvPr/>
          </p:nvSpPr>
          <p:spPr>
            <a:xfrm>
              <a:off x="4356000" y="48690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Rectangle 87"/>
          <p:cNvSpPr/>
          <p:nvPr/>
        </p:nvSpPr>
        <p:spPr>
          <a:xfrm>
            <a:off x="6588000" y="2852640"/>
            <a:ext cx="792360" cy="505080"/>
          </a:xfrm>
          <a:prstGeom prst="rect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" name="Group 88"/>
          <p:cNvGrpSpPr/>
          <p:nvPr/>
        </p:nvGrpSpPr>
        <p:grpSpPr>
          <a:xfrm>
            <a:off x="3516480" y="5516640"/>
            <a:ext cx="1655280" cy="504720"/>
            <a:chOff x="3516480" y="5516640"/>
            <a:chExt cx="1655280" cy="504720"/>
          </a:xfrm>
        </p:grpSpPr>
        <p:sp>
          <p:nvSpPr>
            <p:cNvPr id="427" name="Rectangle 89"/>
            <p:cNvSpPr/>
            <p:nvPr/>
          </p:nvSpPr>
          <p:spPr>
            <a:xfrm>
              <a:off x="4379760" y="5516640"/>
              <a:ext cx="792000" cy="504720"/>
            </a:xfrm>
            <a:prstGeom prst="rect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ahoma"/>
                </a:rPr>
                <a:t>Leaf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90"/>
            <p:cNvSpPr/>
            <p:nvPr/>
          </p:nvSpPr>
          <p:spPr>
            <a:xfrm>
              <a:off x="3516480" y="5516640"/>
              <a:ext cx="792000" cy="504720"/>
            </a:xfrm>
            <a:prstGeom prst="rect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ahoma"/>
                </a:rPr>
                <a:t>Leaf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97"/>
          <p:cNvGrpSpPr/>
          <p:nvPr/>
        </p:nvGrpSpPr>
        <p:grpSpPr>
          <a:xfrm>
            <a:off x="3463560" y="2224080"/>
            <a:ext cx="3605400" cy="604800"/>
            <a:chOff x="3463560" y="2224080"/>
            <a:chExt cx="3605400" cy="604800"/>
          </a:xfrm>
        </p:grpSpPr>
        <p:sp>
          <p:nvSpPr>
            <p:cNvPr id="430" name="Line 98"/>
            <p:cNvSpPr/>
            <p:nvPr/>
          </p:nvSpPr>
          <p:spPr>
            <a:xfrm flipH="1">
              <a:off x="3463560" y="2224080"/>
              <a:ext cx="1454040" cy="60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Line 99"/>
            <p:cNvSpPr/>
            <p:nvPr/>
          </p:nvSpPr>
          <p:spPr>
            <a:xfrm>
              <a:off x="5614920" y="2224080"/>
              <a:ext cx="1454040" cy="60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100"/>
          <p:cNvGrpSpPr/>
          <p:nvPr/>
        </p:nvGrpSpPr>
        <p:grpSpPr>
          <a:xfrm>
            <a:off x="2555640" y="3645000"/>
            <a:ext cx="1800360" cy="504720"/>
            <a:chOff x="2555640" y="3645000"/>
            <a:chExt cx="1800360" cy="504720"/>
          </a:xfrm>
        </p:grpSpPr>
        <p:sp>
          <p:nvSpPr>
            <p:cNvPr id="433" name="Line 101"/>
            <p:cNvSpPr/>
            <p:nvPr/>
          </p:nvSpPr>
          <p:spPr>
            <a:xfrm flipH="1">
              <a:off x="2555640" y="3645000"/>
              <a:ext cx="556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Line 102"/>
            <p:cNvSpPr/>
            <p:nvPr/>
          </p:nvSpPr>
          <p:spPr>
            <a:xfrm>
              <a:off x="3809880" y="3645000"/>
              <a:ext cx="5461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109"/>
          <p:cNvGrpSpPr/>
          <p:nvPr/>
        </p:nvGrpSpPr>
        <p:grpSpPr>
          <a:xfrm>
            <a:off x="3846240" y="5013360"/>
            <a:ext cx="1008000" cy="512640"/>
            <a:chOff x="3846240" y="5013360"/>
            <a:chExt cx="1008000" cy="512640"/>
          </a:xfrm>
        </p:grpSpPr>
        <p:sp>
          <p:nvSpPr>
            <p:cNvPr id="436" name="Line 110"/>
            <p:cNvSpPr/>
            <p:nvPr/>
          </p:nvSpPr>
          <p:spPr>
            <a:xfrm flipH="1">
              <a:off x="3846240" y="5013360"/>
              <a:ext cx="160200" cy="51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Line 111"/>
            <p:cNvSpPr/>
            <p:nvPr/>
          </p:nvSpPr>
          <p:spPr>
            <a:xfrm>
              <a:off x="4703760" y="5013360"/>
              <a:ext cx="150480" cy="51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8" name="Text Box 118"/>
          <p:cNvSpPr/>
          <p:nvPr/>
        </p:nvSpPr>
        <p:spPr>
          <a:xfrm>
            <a:off x="2570040" y="605808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евовидная струк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Oval 123"/>
          <p:cNvSpPr/>
          <p:nvPr/>
        </p:nvSpPr>
        <p:spPr>
          <a:xfrm>
            <a:off x="7661160" y="2478240"/>
            <a:ext cx="416160" cy="44604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Oval 124"/>
          <p:cNvSpPr/>
          <p:nvPr/>
        </p:nvSpPr>
        <p:spPr>
          <a:xfrm>
            <a:off x="7394400" y="1841400"/>
            <a:ext cx="416160" cy="44604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41" name="AutoShape 125"/>
          <p:cNvCxnSpPr>
            <a:stCxn id="440" idx="5"/>
            <a:endCxn id="439" idx="0"/>
          </p:cNvCxnSpPr>
          <p:nvPr/>
        </p:nvCxnSpPr>
        <p:spPr>
          <a:xfrm>
            <a:off x="7749720" y="2222640"/>
            <a:ext cx="119880" cy="25596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42" name="Oval 132"/>
          <p:cNvSpPr/>
          <p:nvPr/>
        </p:nvSpPr>
        <p:spPr>
          <a:xfrm>
            <a:off x="7929720" y="1268280"/>
            <a:ext cx="414360" cy="44640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43" name="AutoShape 133"/>
          <p:cNvCxnSpPr>
            <a:stCxn id="442" idx="3"/>
            <a:endCxn id="440" idx="7"/>
          </p:cNvCxnSpPr>
          <p:nvPr/>
        </p:nvCxnSpPr>
        <p:spPr>
          <a:xfrm flipH="1">
            <a:off x="7749720" y="1649520"/>
            <a:ext cx="240480" cy="25776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44" name="Rectangle 135"/>
          <p:cNvSpPr/>
          <p:nvPr/>
        </p:nvSpPr>
        <p:spPr>
          <a:xfrm>
            <a:off x="2195640" y="4149720"/>
            <a:ext cx="792000" cy="504720"/>
          </a:xfrm>
          <a:prstGeom prst="rect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Деревь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на примере бинарных деревьев с пометкой в узлах и без пометок на листь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рминолог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верш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развил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— ветв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лист (листовая вершина, терминальная вершин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Деревь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Tree 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Leaf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ode a (Tree a) (Tree a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ode  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 Node 2 ( Node 1 Leaf Leaf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 Node 3 Leaf Leaf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 Node 6 ( Node 5 Leaf Leaf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 Node 7 Leaf Leaf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-36360" y="486900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дсчет вершин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(Node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Leaf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ee  a -&gt; In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-считаем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Leaf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Node _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 + 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+ 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Tree  a -&gt; In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-считаем Le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Доброволец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Leaf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(Node _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+ s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азновидности пометок деревье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ta Tree 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Leaf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ode a (Tree a) (Tree 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ta Tre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Leaf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  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|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(Tre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a) (Tre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ta Tre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Leaf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  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|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 a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(Tre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a) (Tre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ta Tre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b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Leaf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  b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|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 a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(Tre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b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) (Tre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b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азновидности деревьев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Tre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4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Leaf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4 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4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Tre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4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 (Tre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4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 (Tre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4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Tre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Nod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re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Tre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Leaf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6 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Tre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a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b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ерево с разными вершин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Tree7 a 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ode7a Int (Tree7 a b)  (Tree7 a b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Node7b Char (Tree7 a b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Leaf7a 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Leaf7b 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6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Синонимы.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170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лава 23.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азмеченное объединение.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Деревья поис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иск в </a:t>
            </a:r>
            <a:r>
              <a:rPr b="1" lang="pt-BR" sz="44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elem    :: Eq a =&gt; a -&gt; [a] -&gt; Bool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elem e xs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= or (map (== e) xs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elem e []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= False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elem e (x:xs)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= x == e || elem e xs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в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удут просмотре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се элемен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иск в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Ord a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условии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rd 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ожно избежать просмотр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се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лементов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хранить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отсортированном виде: обрываем просмотр, когда «перелет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elem'   :: Ord a =&gt; a -&gt; [a] -&gt; Bool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elem' e []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= False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elem' e (x:xs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| e &lt;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= Fals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| e ==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= Tru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| e &gt; x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= elem' e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ьнейшее улучшен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ево поиска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дерев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типом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 Tree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Node a (Tree a) (Tree a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| Leaf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ое, чт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Symbol"/>
                <a:ea typeface="Symbol"/>
              </a:rPr>
              <a:t>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 x 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’’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ддерево из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Symbol"/>
                <a:ea typeface="Symbol"/>
              </a:rPr>
              <a:t>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з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Symbol"/>
                <a:ea typeface="Symbol"/>
              </a:rPr>
              <a:t>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’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’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’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≤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’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Деревья поис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465" name="Group 23"/>
          <p:cNvGrpSpPr/>
          <p:nvPr/>
        </p:nvGrpSpPr>
        <p:grpSpPr>
          <a:xfrm>
            <a:off x="6300720" y="2349360"/>
            <a:ext cx="2737080" cy="2563920"/>
            <a:chOff x="6300720" y="2349360"/>
            <a:chExt cx="2737080" cy="2563920"/>
          </a:xfrm>
        </p:grpSpPr>
        <p:sp>
          <p:nvSpPr>
            <p:cNvPr id="466" name="AutoShape 9"/>
            <p:cNvSpPr/>
            <p:nvPr/>
          </p:nvSpPr>
          <p:spPr>
            <a:xfrm>
              <a:off x="6300720" y="2349360"/>
              <a:ext cx="2737080" cy="2563920"/>
            </a:xfrm>
            <a:prstGeom prst="triangle">
              <a:avLst>
                <a:gd name="adj" fmla="val 50000"/>
              </a:avLst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Oval 4"/>
            <p:cNvSpPr/>
            <p:nvPr/>
          </p:nvSpPr>
          <p:spPr>
            <a:xfrm>
              <a:off x="7453440" y="3041640"/>
              <a:ext cx="431640" cy="43164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" name="Group 18"/>
            <p:cNvGrpSpPr/>
            <p:nvPr/>
          </p:nvGrpSpPr>
          <p:grpSpPr>
            <a:xfrm>
              <a:off x="6624720" y="3760920"/>
              <a:ext cx="2089080" cy="1081080"/>
              <a:chOff x="6624720" y="3760920"/>
              <a:chExt cx="2089080" cy="1081080"/>
            </a:xfrm>
          </p:grpSpPr>
          <p:grpSp>
            <p:nvGrpSpPr>
              <p:cNvPr id="469" name="Group 17"/>
              <p:cNvGrpSpPr/>
              <p:nvPr/>
            </p:nvGrpSpPr>
            <p:grpSpPr>
              <a:xfrm>
                <a:off x="6624720" y="3760920"/>
                <a:ext cx="2089080" cy="1081080"/>
                <a:chOff x="6624720" y="3760920"/>
                <a:chExt cx="2089080" cy="108108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6624720" y="3760920"/>
                  <a:ext cx="936720" cy="108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1" name="AutoShape 14"/>
                <p:cNvSpPr/>
                <p:nvPr/>
              </p:nvSpPr>
              <p:spPr>
                <a:xfrm>
                  <a:off x="7777440" y="3760920"/>
                  <a:ext cx="936360" cy="108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72" name="Oval 5"/>
              <p:cNvSpPr/>
              <p:nvPr/>
            </p:nvSpPr>
            <p:spPr>
              <a:xfrm>
                <a:off x="6877080" y="4337280"/>
                <a:ext cx="432000" cy="431640"/>
              </a:xfrm>
              <a:prstGeom prst="ellipse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Tahoma"/>
                  </a:rPr>
                  <a:t>x’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3" name="Oval 15"/>
            <p:cNvSpPr/>
            <p:nvPr/>
          </p:nvSpPr>
          <p:spPr>
            <a:xfrm>
              <a:off x="8043840" y="4335480"/>
              <a:ext cx="432000" cy="43164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ahoma"/>
                </a:rPr>
                <a:t>x’’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474" name="AutoShape 20"/>
            <p:cNvCxnSpPr>
              <a:stCxn id="467" idx="5"/>
              <a:endCxn id="471" idx="0"/>
            </p:cNvCxnSpPr>
            <p:nvPr/>
          </p:nvCxnSpPr>
          <p:spPr>
            <a:xfrm>
              <a:off x="7821360" y="3409560"/>
              <a:ext cx="424440" cy="35136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475" name="AutoShape 21"/>
            <p:cNvCxnSpPr>
              <a:stCxn id="467" idx="3"/>
              <a:endCxn id="470" idx="0"/>
            </p:cNvCxnSpPr>
            <p:nvPr/>
          </p:nvCxnSpPr>
          <p:spPr>
            <a:xfrm flipH="1">
              <a:off x="7092360" y="3409560"/>
              <a:ext cx="424440" cy="35136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</p:grp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иск в дерев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lemTreе :: Ord a =&gt; a-&gt;Tree a -&gt; Boo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lemTreе e Leaf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Fals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lemTreе e (Node x l r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e ==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Tru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e &lt;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elemTree e 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e &gt;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elemTree e r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жность поиска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дереве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ксимальное число редукций равно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.. высоте дерева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15"/>
          <p:cNvGrpSpPr/>
          <p:nvPr/>
        </p:nvGrpSpPr>
        <p:grpSpPr>
          <a:xfrm>
            <a:off x="6300720" y="4178160"/>
            <a:ext cx="2737080" cy="2563920"/>
            <a:chOff x="6300720" y="4178160"/>
            <a:chExt cx="2737080" cy="2563920"/>
          </a:xfrm>
        </p:grpSpPr>
        <p:sp>
          <p:nvSpPr>
            <p:cNvPr id="479" name="AutoShape 5"/>
            <p:cNvSpPr/>
            <p:nvPr/>
          </p:nvSpPr>
          <p:spPr>
            <a:xfrm>
              <a:off x="6300720" y="4178160"/>
              <a:ext cx="2737080" cy="2563920"/>
            </a:xfrm>
            <a:prstGeom prst="triangle">
              <a:avLst>
                <a:gd name="adj" fmla="val 50000"/>
              </a:avLst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6"/>
            <p:cNvSpPr/>
            <p:nvPr/>
          </p:nvSpPr>
          <p:spPr>
            <a:xfrm>
              <a:off x="7453440" y="4870440"/>
              <a:ext cx="431640" cy="43164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1" name="Group 8"/>
            <p:cNvGrpSpPr/>
            <p:nvPr/>
          </p:nvGrpSpPr>
          <p:grpSpPr>
            <a:xfrm>
              <a:off x="6624720" y="5589360"/>
              <a:ext cx="2089080" cy="1081080"/>
              <a:chOff x="6624720" y="5589360"/>
              <a:chExt cx="2089080" cy="1081080"/>
            </a:xfrm>
          </p:grpSpPr>
          <p:sp>
            <p:nvSpPr>
              <p:cNvPr id="482" name="AutoShape 9"/>
              <p:cNvSpPr/>
              <p:nvPr/>
            </p:nvSpPr>
            <p:spPr>
              <a:xfrm>
                <a:off x="6624720" y="5589360"/>
                <a:ext cx="936720" cy="108108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AutoShape 10"/>
              <p:cNvSpPr/>
              <p:nvPr/>
            </p:nvSpPr>
            <p:spPr>
              <a:xfrm>
                <a:off x="7777440" y="5589360"/>
                <a:ext cx="936360" cy="108108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484" name="AutoShape 13"/>
            <p:cNvCxnSpPr>
              <a:stCxn id="480" idx="5"/>
              <a:endCxn id="483" idx="0"/>
            </p:cNvCxnSpPr>
            <p:nvPr/>
          </p:nvCxnSpPr>
          <p:spPr>
            <a:xfrm>
              <a:off x="7821360" y="5238720"/>
              <a:ext cx="424440" cy="35136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485" name="AutoShape 14"/>
            <p:cNvCxnSpPr>
              <a:stCxn id="480" idx="3"/>
              <a:endCxn id="482" idx="0"/>
            </p:cNvCxnSpPr>
            <p:nvPr/>
          </p:nvCxnSpPr>
          <p:spPr>
            <a:xfrm flipH="1">
              <a:off x="7092360" y="5238720"/>
              <a:ext cx="424440" cy="35136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балансированность дерев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ая высота дерева с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лемента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верно для любого дерева с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лемента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альное понятие сбалансированности и высота сбалансированного дерева с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лемента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жность поиска в отсортированном списке с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,000,000,00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лементов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жность поиска в сбалансированном дереве с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,000,000,00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лементов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дура балансировк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строение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роение отсортированного списка для поиска?  Берем пустой список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затем добавляем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него элементы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сортированный список из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[a, b, c, d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а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`insert`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`insert`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`insert`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`insert`[]))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sor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:: Ord a =&gt; [a] -&gt; [a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sort  = foldr insert [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роение дерева поиска?  Берем пустое дерево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ea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и затем добавляем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sertT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него элементы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строение дерева поис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er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: Ord a =&gt;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 -&gt;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ree a -&gt; Tre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er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e Leaf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Node e Leaf Leaf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er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e (Node x l r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e &lt;=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Node x (inser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e l) r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e &gt;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Node x l (inser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e 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istToTree   :: Ord a =&gt; [a] -&gt; Tree 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?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istToTree = foldr insertNode Le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 работ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in&gt; listToTree [7,5,3,1,6,2,4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 4 (Node 2 (Node 1 Leaf Leaf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Node 3 Leaf Leaf)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Node 6 (Node 5 Leaf Leaf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(Node 7 Leaf Leaf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" name="Group 25"/>
          <p:cNvGrpSpPr/>
          <p:nvPr/>
        </p:nvGrpSpPr>
        <p:grpSpPr>
          <a:xfrm>
            <a:off x="3274920" y="4508640"/>
            <a:ext cx="2449080" cy="1872360"/>
            <a:chOff x="3274920" y="4508640"/>
            <a:chExt cx="2449080" cy="1872360"/>
          </a:xfrm>
        </p:grpSpPr>
        <p:grpSp>
          <p:nvGrpSpPr>
            <p:cNvPr id="495" name="Group 24"/>
            <p:cNvGrpSpPr/>
            <p:nvPr/>
          </p:nvGrpSpPr>
          <p:grpSpPr>
            <a:xfrm>
              <a:off x="3274920" y="5155920"/>
              <a:ext cx="2449080" cy="1225080"/>
              <a:chOff x="3274920" y="5155920"/>
              <a:chExt cx="2449080" cy="1225080"/>
            </a:xfrm>
          </p:grpSpPr>
          <p:grpSp>
            <p:nvGrpSpPr>
              <p:cNvPr id="496" name="Group 7"/>
              <p:cNvGrpSpPr/>
              <p:nvPr/>
            </p:nvGrpSpPr>
            <p:grpSpPr>
              <a:xfrm>
                <a:off x="3274920" y="5876280"/>
                <a:ext cx="1152000" cy="504720"/>
                <a:chOff x="3274920" y="5876280"/>
                <a:chExt cx="1152000" cy="504720"/>
              </a:xfrm>
            </p:grpSpPr>
            <p:sp>
              <p:nvSpPr>
                <p:cNvPr id="497" name="Oval 4"/>
                <p:cNvSpPr/>
                <p:nvPr/>
              </p:nvSpPr>
              <p:spPr>
                <a:xfrm>
                  <a:off x="3274920" y="5876280"/>
                  <a:ext cx="504720" cy="504720"/>
                </a:xfrm>
                <a:prstGeom prst="ellipse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3333cc"/>
                      </a:solidFill>
                      <a:latin typeface="Tahoma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8" name="Oval 5"/>
                <p:cNvSpPr/>
                <p:nvPr/>
              </p:nvSpPr>
              <p:spPr>
                <a:xfrm>
                  <a:off x="3922560" y="5876280"/>
                  <a:ext cx="504360" cy="504720"/>
                </a:xfrm>
                <a:prstGeom prst="ellipse">
                  <a:avLst/>
                </a:prstGeom>
                <a:solidFill>
                  <a:srgbClr val="bfde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3333cc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99" name="Oval 6"/>
              <p:cNvSpPr/>
              <p:nvPr/>
            </p:nvSpPr>
            <p:spPr>
              <a:xfrm>
                <a:off x="3598560" y="5155920"/>
                <a:ext cx="504360" cy="504720"/>
              </a:xfrm>
              <a:prstGeom prst="ellipse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cc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500" name="AutoShape 9"/>
              <p:cNvCxnSpPr>
                <a:stCxn id="499" idx="5"/>
                <a:endCxn id="498" idx="0"/>
              </p:cNvCxnSpPr>
              <p:nvPr/>
            </p:nvCxnSpPr>
            <p:spPr>
              <a:xfrm>
                <a:off x="4028400" y="5585760"/>
                <a:ext cx="146520" cy="290880"/>
              </a:xfrm>
              <a:prstGeom prst="straightConnector1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501" name="AutoShape 10"/>
              <p:cNvCxnSpPr>
                <a:stCxn id="499" idx="3"/>
                <a:endCxn id="497" idx="0"/>
              </p:cNvCxnSpPr>
              <p:nvPr/>
            </p:nvCxnSpPr>
            <p:spPr>
              <a:xfrm flipH="1">
                <a:off x="3526920" y="5585760"/>
                <a:ext cx="146160" cy="290880"/>
              </a:xfrm>
              <a:prstGeom prst="straightConnector1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</p:cxnSp>
          <p:sp>
            <p:nvSpPr>
              <p:cNvPr id="502" name="Oval 15"/>
              <p:cNvSpPr/>
              <p:nvPr/>
            </p:nvSpPr>
            <p:spPr>
              <a:xfrm>
                <a:off x="4571640" y="5876280"/>
                <a:ext cx="504720" cy="504720"/>
              </a:xfrm>
              <a:prstGeom prst="ellipse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cc"/>
                    </a:solidFill>
                    <a:latin typeface="Tahoma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Oval 16"/>
              <p:cNvSpPr/>
              <p:nvPr/>
            </p:nvSpPr>
            <p:spPr>
              <a:xfrm>
                <a:off x="5219280" y="5876280"/>
                <a:ext cx="504720" cy="504720"/>
              </a:xfrm>
              <a:prstGeom prst="ellipse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cc"/>
                    </a:solidFill>
                    <a:latin typeface="Tahoma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Oval 17"/>
              <p:cNvSpPr/>
              <p:nvPr/>
            </p:nvSpPr>
            <p:spPr>
              <a:xfrm>
                <a:off x="4895640" y="5155920"/>
                <a:ext cx="504360" cy="504720"/>
              </a:xfrm>
              <a:prstGeom prst="ellipse">
                <a:avLst/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cc"/>
                    </a:solidFill>
                    <a:latin typeface="Tahoma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505" name="AutoShape 18"/>
              <p:cNvCxnSpPr>
                <a:stCxn id="504" idx="5"/>
                <a:endCxn id="503" idx="0"/>
              </p:cNvCxnSpPr>
              <p:nvPr/>
            </p:nvCxnSpPr>
            <p:spPr>
              <a:xfrm>
                <a:off x="5325480" y="5585760"/>
                <a:ext cx="146520" cy="290880"/>
              </a:xfrm>
              <a:prstGeom prst="straightConnector1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506" name="AutoShape 19"/>
              <p:cNvCxnSpPr>
                <a:stCxn id="504" idx="3"/>
                <a:endCxn id="502" idx="0"/>
              </p:cNvCxnSpPr>
              <p:nvPr/>
            </p:nvCxnSpPr>
            <p:spPr>
              <a:xfrm flipH="1">
                <a:off x="4823280" y="5585760"/>
                <a:ext cx="146520" cy="290880"/>
              </a:xfrm>
              <a:prstGeom prst="straightConnector1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</p:cxnSp>
        </p:grpSp>
        <p:sp>
          <p:nvSpPr>
            <p:cNvPr id="507" name="Oval 21"/>
            <p:cNvSpPr/>
            <p:nvPr/>
          </p:nvSpPr>
          <p:spPr>
            <a:xfrm>
              <a:off x="4248000" y="4508640"/>
              <a:ext cx="504360" cy="50436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08" name="AutoShape 22"/>
            <p:cNvCxnSpPr>
              <a:stCxn id="507" idx="3"/>
              <a:endCxn id="499" idx="7"/>
            </p:cNvCxnSpPr>
            <p:nvPr/>
          </p:nvCxnSpPr>
          <p:spPr>
            <a:xfrm flipH="1">
              <a:off x="4028040" y="4938120"/>
              <a:ext cx="294120" cy="29268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09" name="AutoShape 23"/>
            <p:cNvCxnSpPr>
              <a:stCxn id="507" idx="5"/>
              <a:endCxn id="504" idx="1"/>
            </p:cNvCxnSpPr>
            <p:nvPr/>
          </p:nvCxnSpPr>
          <p:spPr>
            <a:xfrm>
              <a:off x="4678200" y="4938120"/>
              <a:ext cx="291960" cy="29268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едостаток: возможна плохая балансиров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in&gt; listToTree [1..7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 7 (Node 6 (Node 5 (Node 4 (Node 3 (Node 2 (Node 1 Leaf Leaf) Leaf) Leaf) Leaf) Leaf) Leaf) Le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21"/>
          <p:cNvGrpSpPr/>
          <p:nvPr/>
        </p:nvGrpSpPr>
        <p:grpSpPr>
          <a:xfrm>
            <a:off x="5435640" y="2781360"/>
            <a:ext cx="3529080" cy="3960720"/>
            <a:chOff x="5435640" y="2781360"/>
            <a:chExt cx="3529080" cy="3960720"/>
          </a:xfrm>
        </p:grpSpPr>
        <p:sp>
          <p:nvSpPr>
            <p:cNvPr id="513" name="Oval 7"/>
            <p:cNvSpPr/>
            <p:nvPr/>
          </p:nvSpPr>
          <p:spPr>
            <a:xfrm>
              <a:off x="5435640" y="6237360"/>
              <a:ext cx="50508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14" name="AutoShape 10"/>
            <p:cNvCxnSpPr>
              <a:stCxn id="515" idx="3"/>
              <a:endCxn id="513" idx="7"/>
            </p:cNvCxnSpPr>
            <p:nvPr/>
          </p:nvCxnSpPr>
          <p:spPr>
            <a:xfrm flipH="1">
              <a:off x="5865120" y="6090840"/>
              <a:ext cx="14868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16" name="Oval 8"/>
            <p:cNvSpPr/>
            <p:nvPr/>
          </p:nvSpPr>
          <p:spPr>
            <a:xfrm>
              <a:off x="6444000" y="508464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Oval 9"/>
            <p:cNvSpPr/>
            <p:nvPr/>
          </p:nvSpPr>
          <p:spPr>
            <a:xfrm>
              <a:off x="5938920" y="5661000"/>
              <a:ext cx="50508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17" name="AutoShape 11"/>
            <p:cNvCxnSpPr>
              <a:stCxn id="516" idx="3"/>
              <a:endCxn id="515" idx="7"/>
            </p:cNvCxnSpPr>
            <p:nvPr/>
          </p:nvCxnSpPr>
          <p:spPr>
            <a:xfrm flipH="1">
              <a:off x="6368400" y="5514480"/>
              <a:ext cx="15012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18" name="Oval 12"/>
            <p:cNvSpPr/>
            <p:nvPr/>
          </p:nvSpPr>
          <p:spPr>
            <a:xfrm>
              <a:off x="7452000" y="393228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Oval 13"/>
            <p:cNvSpPr/>
            <p:nvPr/>
          </p:nvSpPr>
          <p:spPr>
            <a:xfrm>
              <a:off x="8460000" y="278136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Oval 14"/>
            <p:cNvSpPr/>
            <p:nvPr/>
          </p:nvSpPr>
          <p:spPr>
            <a:xfrm>
              <a:off x="7955280" y="335592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21" name="AutoShape 15"/>
            <p:cNvCxnSpPr>
              <a:stCxn id="519" idx="3"/>
              <a:endCxn id="520" idx="7"/>
            </p:cNvCxnSpPr>
            <p:nvPr/>
          </p:nvCxnSpPr>
          <p:spPr>
            <a:xfrm flipH="1">
              <a:off x="8385120" y="3211560"/>
              <a:ext cx="149760" cy="2196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22" name="AutoShape 16"/>
            <p:cNvCxnSpPr>
              <a:stCxn id="518" idx="3"/>
              <a:endCxn id="523" idx="7"/>
            </p:cNvCxnSpPr>
            <p:nvPr/>
          </p:nvCxnSpPr>
          <p:spPr>
            <a:xfrm flipH="1">
              <a:off x="7377120" y="4362120"/>
              <a:ext cx="14976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23" name="Oval 17"/>
            <p:cNvSpPr/>
            <p:nvPr/>
          </p:nvSpPr>
          <p:spPr>
            <a:xfrm>
              <a:off x="6947280" y="4508280"/>
              <a:ext cx="504720" cy="50508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24" name="AutoShape 18"/>
            <p:cNvCxnSpPr>
              <a:stCxn id="523" idx="3"/>
              <a:endCxn id="516" idx="7"/>
            </p:cNvCxnSpPr>
            <p:nvPr/>
          </p:nvCxnSpPr>
          <p:spPr>
            <a:xfrm flipH="1">
              <a:off x="6873840" y="4938120"/>
              <a:ext cx="14832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25" name="AutoShape 19"/>
            <p:cNvCxnSpPr>
              <a:stCxn id="520" idx="3"/>
              <a:endCxn id="518" idx="7"/>
            </p:cNvCxnSpPr>
            <p:nvPr/>
          </p:nvCxnSpPr>
          <p:spPr>
            <a:xfrm flipH="1">
              <a:off x="7881840" y="3785760"/>
              <a:ext cx="14832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отив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в нескольких функциях используется один и тот же тип (кортеж, списки), утомительно дублировать описание этих типов в объявлениях функ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stanc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(Float, Float) -&gt; Floa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ifferenc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(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Float, Float) -&gt; (Float, Float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&gt; Floa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area_polygon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[(Float, Float)] -&gt; Floa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ransf_polygon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((Float, Float) -&gt; (Float, Float)) -&gt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[(Float, Float)] -&gt; [(Float, Float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едостаток: возможна плохая балансиров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in&gt; listToTree [7,6,5,4,3,2,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 1 Leaf (Node 2 Leaf (Node 3 Leaf (Node 4 Leaf (Node 5 Leaf (Node 6 Leaf (Node 7 Leaf Leaf))))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Group 18"/>
          <p:cNvGrpSpPr/>
          <p:nvPr/>
        </p:nvGrpSpPr>
        <p:grpSpPr>
          <a:xfrm>
            <a:off x="34920" y="2852640"/>
            <a:ext cx="3529080" cy="3960720"/>
            <a:chOff x="34920" y="2852640"/>
            <a:chExt cx="3529080" cy="3960720"/>
          </a:xfrm>
        </p:grpSpPr>
        <p:sp>
          <p:nvSpPr>
            <p:cNvPr id="529" name="Oval 5"/>
            <p:cNvSpPr/>
            <p:nvPr/>
          </p:nvSpPr>
          <p:spPr>
            <a:xfrm>
              <a:off x="34920" y="285264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30" name="AutoShape 6"/>
            <p:cNvCxnSpPr>
              <a:stCxn id="529" idx="5"/>
              <a:endCxn id="531" idx="1"/>
            </p:cNvCxnSpPr>
            <p:nvPr/>
          </p:nvCxnSpPr>
          <p:spPr>
            <a:xfrm>
              <a:off x="465120" y="3282480"/>
              <a:ext cx="14832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32" name="Oval 7"/>
            <p:cNvSpPr/>
            <p:nvPr/>
          </p:nvSpPr>
          <p:spPr>
            <a:xfrm>
              <a:off x="1042920" y="4005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538200" y="3428640"/>
              <a:ext cx="504720" cy="50508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33" name="AutoShape 9"/>
            <p:cNvCxnSpPr>
              <a:stCxn id="531" idx="5"/>
              <a:endCxn id="532" idx="1"/>
            </p:cNvCxnSpPr>
            <p:nvPr/>
          </p:nvCxnSpPr>
          <p:spPr>
            <a:xfrm>
              <a:off x="968400" y="3858480"/>
              <a:ext cx="14976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34" name="Oval 10"/>
            <p:cNvSpPr/>
            <p:nvPr/>
          </p:nvSpPr>
          <p:spPr>
            <a:xfrm>
              <a:off x="2050920" y="515772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11"/>
            <p:cNvSpPr/>
            <p:nvPr/>
          </p:nvSpPr>
          <p:spPr>
            <a:xfrm>
              <a:off x="3058920" y="6308640"/>
              <a:ext cx="50508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12"/>
            <p:cNvSpPr/>
            <p:nvPr/>
          </p:nvSpPr>
          <p:spPr>
            <a:xfrm>
              <a:off x="2555640" y="5732280"/>
              <a:ext cx="50508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37" name="AutoShape 13"/>
            <p:cNvCxnSpPr>
              <a:stCxn id="536" idx="5"/>
              <a:endCxn id="535" idx="1"/>
            </p:cNvCxnSpPr>
            <p:nvPr/>
          </p:nvCxnSpPr>
          <p:spPr>
            <a:xfrm>
              <a:off x="2985480" y="6162120"/>
              <a:ext cx="14868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38" name="AutoShape 14"/>
            <p:cNvCxnSpPr>
              <a:stCxn id="539" idx="5"/>
              <a:endCxn id="534" idx="1"/>
            </p:cNvCxnSpPr>
            <p:nvPr/>
          </p:nvCxnSpPr>
          <p:spPr>
            <a:xfrm>
              <a:off x="1977840" y="5011200"/>
              <a:ext cx="14832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39" name="Oval 15"/>
            <p:cNvSpPr/>
            <p:nvPr/>
          </p:nvSpPr>
          <p:spPr>
            <a:xfrm>
              <a:off x="1547640" y="458136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40" name="AutoShape 16"/>
            <p:cNvCxnSpPr>
              <a:stCxn id="532" idx="5"/>
              <a:endCxn id="539" idx="1"/>
            </p:cNvCxnSpPr>
            <p:nvPr/>
          </p:nvCxnSpPr>
          <p:spPr>
            <a:xfrm>
              <a:off x="1473120" y="4434840"/>
              <a:ext cx="14976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41" name="AutoShape 17"/>
            <p:cNvCxnSpPr>
              <a:stCxn id="534" idx="5"/>
              <a:endCxn id="536" idx="1"/>
            </p:cNvCxnSpPr>
            <p:nvPr/>
          </p:nvCxnSpPr>
          <p:spPr>
            <a:xfrm>
              <a:off x="2480760" y="5587920"/>
              <a:ext cx="150120" cy="2196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ртировка с помощью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а дерева поиска зависит от порядка поступления элемен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 при любом порядке «проекция меток» является отсортированным спис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ртировка с помощью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2700360" y="1413000"/>
            <a:ext cx="3529080" cy="3960720"/>
            <a:chOff x="2700360" y="1413000"/>
            <a:chExt cx="3529080" cy="3960720"/>
          </a:xfrm>
        </p:grpSpPr>
        <p:sp>
          <p:nvSpPr>
            <p:cNvPr id="546" name="Oval 4"/>
            <p:cNvSpPr/>
            <p:nvPr/>
          </p:nvSpPr>
          <p:spPr>
            <a:xfrm>
              <a:off x="2700360" y="4869000"/>
              <a:ext cx="50508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47" name="AutoShape 5"/>
            <p:cNvCxnSpPr>
              <a:stCxn id="548" idx="3"/>
              <a:endCxn id="546" idx="7"/>
            </p:cNvCxnSpPr>
            <p:nvPr/>
          </p:nvCxnSpPr>
          <p:spPr>
            <a:xfrm flipH="1">
              <a:off x="3129840" y="4722480"/>
              <a:ext cx="14868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49" name="Oval 6"/>
            <p:cNvSpPr/>
            <p:nvPr/>
          </p:nvSpPr>
          <p:spPr>
            <a:xfrm>
              <a:off x="3708720" y="371628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3203640" y="4292640"/>
              <a:ext cx="50508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50" name="AutoShape 8"/>
            <p:cNvCxnSpPr>
              <a:stCxn id="549" idx="3"/>
              <a:endCxn id="548" idx="7"/>
            </p:cNvCxnSpPr>
            <p:nvPr/>
          </p:nvCxnSpPr>
          <p:spPr>
            <a:xfrm flipH="1">
              <a:off x="3633120" y="4146120"/>
              <a:ext cx="15012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51" name="Oval 9"/>
            <p:cNvSpPr/>
            <p:nvPr/>
          </p:nvSpPr>
          <p:spPr>
            <a:xfrm>
              <a:off x="4716720" y="256392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10"/>
            <p:cNvSpPr/>
            <p:nvPr/>
          </p:nvSpPr>
          <p:spPr>
            <a:xfrm>
              <a:off x="5724720" y="1413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1"/>
            <p:cNvSpPr/>
            <p:nvPr/>
          </p:nvSpPr>
          <p:spPr>
            <a:xfrm>
              <a:off x="5220000" y="198756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54" name="AutoShape 12"/>
            <p:cNvCxnSpPr>
              <a:stCxn id="552" idx="3"/>
              <a:endCxn id="553" idx="7"/>
            </p:cNvCxnSpPr>
            <p:nvPr/>
          </p:nvCxnSpPr>
          <p:spPr>
            <a:xfrm flipH="1">
              <a:off x="5649840" y="1843200"/>
              <a:ext cx="149760" cy="2196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55" name="AutoShape 13"/>
            <p:cNvCxnSpPr>
              <a:stCxn id="551" idx="3"/>
              <a:endCxn id="556" idx="7"/>
            </p:cNvCxnSpPr>
            <p:nvPr/>
          </p:nvCxnSpPr>
          <p:spPr>
            <a:xfrm flipH="1">
              <a:off x="4641840" y="2993760"/>
              <a:ext cx="14976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56" name="Oval 14"/>
            <p:cNvSpPr/>
            <p:nvPr/>
          </p:nvSpPr>
          <p:spPr>
            <a:xfrm>
              <a:off x="4212000" y="3139920"/>
              <a:ext cx="504720" cy="50508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57" name="AutoShape 15"/>
            <p:cNvCxnSpPr>
              <a:stCxn id="556" idx="3"/>
              <a:endCxn id="549" idx="7"/>
            </p:cNvCxnSpPr>
            <p:nvPr/>
          </p:nvCxnSpPr>
          <p:spPr>
            <a:xfrm flipH="1">
              <a:off x="4138560" y="3569760"/>
              <a:ext cx="14832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58" name="AutoShape 16"/>
            <p:cNvCxnSpPr>
              <a:stCxn id="553" idx="3"/>
              <a:endCxn id="551" idx="7"/>
            </p:cNvCxnSpPr>
            <p:nvPr/>
          </p:nvCxnSpPr>
          <p:spPr>
            <a:xfrm flipH="1">
              <a:off x="5146560" y="2417400"/>
              <a:ext cx="14832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</p:grpSp>
      <p:grpSp>
        <p:nvGrpSpPr>
          <p:cNvPr id="559" name="Group 68"/>
          <p:cNvGrpSpPr/>
          <p:nvPr/>
        </p:nvGrpSpPr>
        <p:grpSpPr>
          <a:xfrm>
            <a:off x="2700360" y="1917720"/>
            <a:ext cx="3529080" cy="4680000"/>
            <a:chOff x="2700360" y="1917720"/>
            <a:chExt cx="3529080" cy="4680000"/>
          </a:xfrm>
        </p:grpSpPr>
        <p:sp>
          <p:nvSpPr>
            <p:cNvPr id="560" name="Oval 48"/>
            <p:cNvSpPr/>
            <p:nvPr/>
          </p:nvSpPr>
          <p:spPr>
            <a:xfrm>
              <a:off x="270036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50"/>
            <p:cNvSpPr/>
            <p:nvPr/>
          </p:nvSpPr>
          <p:spPr>
            <a:xfrm>
              <a:off x="370836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51"/>
            <p:cNvSpPr/>
            <p:nvPr/>
          </p:nvSpPr>
          <p:spPr>
            <a:xfrm>
              <a:off x="3203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53"/>
            <p:cNvSpPr/>
            <p:nvPr/>
          </p:nvSpPr>
          <p:spPr>
            <a:xfrm>
              <a:off x="4716360" y="6093000"/>
              <a:ext cx="50508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54"/>
            <p:cNvSpPr/>
            <p:nvPr/>
          </p:nvSpPr>
          <p:spPr>
            <a:xfrm>
              <a:off x="5724360" y="6093000"/>
              <a:ext cx="50508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55"/>
            <p:cNvSpPr/>
            <p:nvPr/>
          </p:nvSpPr>
          <p:spPr>
            <a:xfrm>
              <a:off x="5219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58"/>
            <p:cNvSpPr/>
            <p:nvPr/>
          </p:nvSpPr>
          <p:spPr>
            <a:xfrm>
              <a:off x="4211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67" name="AutoShape 61"/>
            <p:cNvCxnSpPr>
              <a:stCxn id="546" idx="4"/>
              <a:endCxn id="560" idx="0"/>
            </p:cNvCxnSpPr>
            <p:nvPr/>
          </p:nvCxnSpPr>
          <p:spPr>
            <a:xfrm>
              <a:off x="2952360" y="5373720"/>
              <a:ext cx="1080" cy="720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68" name="AutoShape 62"/>
            <p:cNvCxnSpPr>
              <a:stCxn id="548" idx="4"/>
              <a:endCxn id="562" idx="0"/>
            </p:cNvCxnSpPr>
            <p:nvPr/>
          </p:nvCxnSpPr>
          <p:spPr>
            <a:xfrm>
              <a:off x="3455640" y="4797000"/>
              <a:ext cx="1080" cy="129636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69" name="AutoShape 63"/>
            <p:cNvCxnSpPr>
              <a:stCxn id="549" idx="4"/>
              <a:endCxn id="561" idx="0"/>
            </p:cNvCxnSpPr>
            <p:nvPr/>
          </p:nvCxnSpPr>
          <p:spPr>
            <a:xfrm>
              <a:off x="3960360" y="4221000"/>
              <a:ext cx="1080" cy="187272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70" name="AutoShape 64"/>
            <p:cNvCxnSpPr>
              <a:stCxn id="556" idx="4"/>
              <a:endCxn id="566" idx="0"/>
            </p:cNvCxnSpPr>
            <p:nvPr/>
          </p:nvCxnSpPr>
          <p:spPr>
            <a:xfrm>
              <a:off x="4463640" y="3645000"/>
              <a:ext cx="1080" cy="244872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71" name="AutoShape 65"/>
            <p:cNvCxnSpPr>
              <a:stCxn id="551" idx="4"/>
              <a:endCxn id="563" idx="0"/>
            </p:cNvCxnSpPr>
            <p:nvPr/>
          </p:nvCxnSpPr>
          <p:spPr>
            <a:xfrm>
              <a:off x="4968360" y="3068280"/>
              <a:ext cx="1080" cy="302508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72" name="AutoShape 66"/>
            <p:cNvCxnSpPr>
              <a:stCxn id="553" idx="4"/>
              <a:endCxn id="565" idx="0"/>
            </p:cNvCxnSpPr>
            <p:nvPr/>
          </p:nvCxnSpPr>
          <p:spPr>
            <a:xfrm>
              <a:off x="5471640" y="2492280"/>
              <a:ext cx="1080" cy="360144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73" name="AutoShape 67"/>
            <p:cNvCxnSpPr>
              <a:stCxn id="552" idx="4"/>
              <a:endCxn id="564" idx="0"/>
            </p:cNvCxnSpPr>
            <p:nvPr/>
          </p:nvCxnSpPr>
          <p:spPr>
            <a:xfrm>
              <a:off x="5976720" y="1917720"/>
              <a:ext cx="1080" cy="417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ртировка с помощью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75" name="Group 17"/>
          <p:cNvGrpSpPr/>
          <p:nvPr/>
        </p:nvGrpSpPr>
        <p:grpSpPr>
          <a:xfrm>
            <a:off x="2698920" y="1413000"/>
            <a:ext cx="3528360" cy="3960720"/>
            <a:chOff x="2698920" y="1413000"/>
            <a:chExt cx="3528360" cy="3960720"/>
          </a:xfrm>
        </p:grpSpPr>
        <p:sp>
          <p:nvSpPr>
            <p:cNvPr id="576" name="Oval 18"/>
            <p:cNvSpPr/>
            <p:nvPr/>
          </p:nvSpPr>
          <p:spPr>
            <a:xfrm>
              <a:off x="2698920" y="1413000"/>
              <a:ext cx="50436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77" name="AutoShape 19"/>
            <p:cNvCxnSpPr>
              <a:stCxn id="576" idx="5"/>
              <a:endCxn id="578" idx="1"/>
            </p:cNvCxnSpPr>
            <p:nvPr/>
          </p:nvCxnSpPr>
          <p:spPr>
            <a:xfrm>
              <a:off x="3128400" y="1842840"/>
              <a:ext cx="14796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79" name="Oval 20"/>
            <p:cNvSpPr/>
            <p:nvPr/>
          </p:nvSpPr>
          <p:spPr>
            <a:xfrm>
              <a:off x="3706560" y="2565360"/>
              <a:ext cx="50436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Oval 21"/>
            <p:cNvSpPr/>
            <p:nvPr/>
          </p:nvSpPr>
          <p:spPr>
            <a:xfrm>
              <a:off x="3201840" y="1989000"/>
              <a:ext cx="504360" cy="50508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80" name="AutoShape 22"/>
            <p:cNvCxnSpPr>
              <a:stCxn id="578" idx="5"/>
              <a:endCxn id="579" idx="1"/>
            </p:cNvCxnSpPr>
            <p:nvPr/>
          </p:nvCxnSpPr>
          <p:spPr>
            <a:xfrm>
              <a:off x="3631680" y="2418840"/>
              <a:ext cx="14904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81" name="Oval 23"/>
            <p:cNvSpPr/>
            <p:nvPr/>
          </p:nvSpPr>
          <p:spPr>
            <a:xfrm>
              <a:off x="4714560" y="3718080"/>
              <a:ext cx="50436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Oval 24"/>
            <p:cNvSpPr/>
            <p:nvPr/>
          </p:nvSpPr>
          <p:spPr>
            <a:xfrm>
              <a:off x="5722560" y="4869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Oval 25"/>
            <p:cNvSpPr/>
            <p:nvPr/>
          </p:nvSpPr>
          <p:spPr>
            <a:xfrm>
              <a:off x="5219280" y="429264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84" name="AutoShape 26"/>
            <p:cNvCxnSpPr>
              <a:stCxn id="583" idx="5"/>
              <a:endCxn id="582" idx="1"/>
            </p:cNvCxnSpPr>
            <p:nvPr/>
          </p:nvCxnSpPr>
          <p:spPr>
            <a:xfrm>
              <a:off x="5649480" y="4722480"/>
              <a:ext cx="14832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85" name="AutoShape 27"/>
            <p:cNvCxnSpPr>
              <a:stCxn id="586" idx="5"/>
              <a:endCxn id="581" idx="1"/>
            </p:cNvCxnSpPr>
            <p:nvPr/>
          </p:nvCxnSpPr>
          <p:spPr>
            <a:xfrm>
              <a:off x="4641120" y="3571560"/>
              <a:ext cx="14796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86" name="Oval 28"/>
            <p:cNvSpPr/>
            <p:nvPr/>
          </p:nvSpPr>
          <p:spPr>
            <a:xfrm>
              <a:off x="4211280" y="3141720"/>
              <a:ext cx="50436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87" name="AutoShape 29"/>
            <p:cNvCxnSpPr>
              <a:stCxn id="579" idx="5"/>
              <a:endCxn id="586" idx="1"/>
            </p:cNvCxnSpPr>
            <p:nvPr/>
          </p:nvCxnSpPr>
          <p:spPr>
            <a:xfrm>
              <a:off x="4136400" y="2995200"/>
              <a:ext cx="149040" cy="2214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88" name="AutoShape 30"/>
            <p:cNvCxnSpPr>
              <a:stCxn id="581" idx="5"/>
              <a:endCxn id="583" idx="1"/>
            </p:cNvCxnSpPr>
            <p:nvPr/>
          </p:nvCxnSpPr>
          <p:spPr>
            <a:xfrm>
              <a:off x="5144760" y="4148280"/>
              <a:ext cx="149760" cy="21960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</p:grpSp>
      <p:grpSp>
        <p:nvGrpSpPr>
          <p:cNvPr id="589" name="Group 61"/>
          <p:cNvGrpSpPr/>
          <p:nvPr/>
        </p:nvGrpSpPr>
        <p:grpSpPr>
          <a:xfrm>
            <a:off x="2700360" y="1917720"/>
            <a:ext cx="3529080" cy="4680000"/>
            <a:chOff x="2700360" y="1917720"/>
            <a:chExt cx="3529080" cy="4680000"/>
          </a:xfrm>
        </p:grpSpPr>
        <p:sp>
          <p:nvSpPr>
            <p:cNvPr id="590" name="Oval 47"/>
            <p:cNvSpPr/>
            <p:nvPr/>
          </p:nvSpPr>
          <p:spPr>
            <a:xfrm>
              <a:off x="270036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Oval 48"/>
            <p:cNvSpPr/>
            <p:nvPr/>
          </p:nvSpPr>
          <p:spPr>
            <a:xfrm>
              <a:off x="370836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49"/>
            <p:cNvSpPr/>
            <p:nvPr/>
          </p:nvSpPr>
          <p:spPr>
            <a:xfrm>
              <a:off x="3203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50"/>
            <p:cNvSpPr/>
            <p:nvPr/>
          </p:nvSpPr>
          <p:spPr>
            <a:xfrm>
              <a:off x="4716360" y="6093000"/>
              <a:ext cx="50508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51"/>
            <p:cNvSpPr/>
            <p:nvPr/>
          </p:nvSpPr>
          <p:spPr>
            <a:xfrm>
              <a:off x="5724360" y="6093000"/>
              <a:ext cx="50508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Oval 52"/>
            <p:cNvSpPr/>
            <p:nvPr/>
          </p:nvSpPr>
          <p:spPr>
            <a:xfrm>
              <a:off x="5219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Oval 53"/>
            <p:cNvSpPr/>
            <p:nvPr/>
          </p:nvSpPr>
          <p:spPr>
            <a:xfrm>
              <a:off x="4211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97" name="AutoShape 54"/>
            <p:cNvCxnSpPr>
              <a:stCxn id="576" idx="4"/>
              <a:endCxn id="590" idx="0"/>
            </p:cNvCxnSpPr>
            <p:nvPr/>
          </p:nvCxnSpPr>
          <p:spPr>
            <a:xfrm>
              <a:off x="2951280" y="1917720"/>
              <a:ext cx="2160" cy="417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98" name="AutoShape 55"/>
            <p:cNvCxnSpPr>
              <a:stCxn id="578" idx="4"/>
              <a:endCxn id="592" idx="0"/>
            </p:cNvCxnSpPr>
            <p:nvPr/>
          </p:nvCxnSpPr>
          <p:spPr>
            <a:xfrm>
              <a:off x="3454560" y="2493720"/>
              <a:ext cx="2160" cy="359964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99" name="AutoShape 56"/>
            <p:cNvCxnSpPr>
              <a:stCxn id="579" idx="4"/>
              <a:endCxn id="591" idx="0"/>
            </p:cNvCxnSpPr>
            <p:nvPr/>
          </p:nvCxnSpPr>
          <p:spPr>
            <a:xfrm>
              <a:off x="3959280" y="3069720"/>
              <a:ext cx="2160" cy="302364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00" name="AutoShape 57"/>
            <p:cNvCxnSpPr>
              <a:stCxn id="586" idx="4"/>
              <a:endCxn id="596" idx="0"/>
            </p:cNvCxnSpPr>
            <p:nvPr/>
          </p:nvCxnSpPr>
          <p:spPr>
            <a:xfrm>
              <a:off x="4463640" y="3646440"/>
              <a:ext cx="1080" cy="244728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01" name="AutoShape 58"/>
            <p:cNvCxnSpPr>
              <a:stCxn id="581" idx="4"/>
              <a:endCxn id="593" idx="0"/>
            </p:cNvCxnSpPr>
            <p:nvPr/>
          </p:nvCxnSpPr>
          <p:spPr>
            <a:xfrm>
              <a:off x="4967280" y="4222440"/>
              <a:ext cx="2160" cy="187092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02" name="AutoShape 59"/>
            <p:cNvCxnSpPr>
              <a:stCxn id="583" idx="4"/>
              <a:endCxn id="595" idx="0"/>
            </p:cNvCxnSpPr>
            <p:nvPr/>
          </p:nvCxnSpPr>
          <p:spPr>
            <a:xfrm>
              <a:off x="5471640" y="4797000"/>
              <a:ext cx="1080" cy="129636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03" name="AutoShape 60"/>
            <p:cNvCxnSpPr>
              <a:stCxn id="582" idx="4"/>
              <a:endCxn id="594" idx="0"/>
            </p:cNvCxnSpPr>
            <p:nvPr/>
          </p:nvCxnSpPr>
          <p:spPr>
            <a:xfrm>
              <a:off x="5974920" y="5373720"/>
              <a:ext cx="2520" cy="720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ртировка с помощью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605" name="Group 48"/>
          <p:cNvGrpSpPr/>
          <p:nvPr/>
        </p:nvGrpSpPr>
        <p:grpSpPr>
          <a:xfrm>
            <a:off x="2700360" y="3681000"/>
            <a:ext cx="3529080" cy="2916720"/>
            <a:chOff x="2700360" y="3681000"/>
            <a:chExt cx="3529080" cy="2916720"/>
          </a:xfrm>
        </p:grpSpPr>
        <p:sp>
          <p:nvSpPr>
            <p:cNvPr id="606" name="Oval 33"/>
            <p:cNvSpPr/>
            <p:nvPr/>
          </p:nvSpPr>
          <p:spPr>
            <a:xfrm>
              <a:off x="270036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Oval 34"/>
            <p:cNvSpPr/>
            <p:nvPr/>
          </p:nvSpPr>
          <p:spPr>
            <a:xfrm>
              <a:off x="370836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Oval 35"/>
            <p:cNvSpPr/>
            <p:nvPr/>
          </p:nvSpPr>
          <p:spPr>
            <a:xfrm>
              <a:off x="3203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Oval 36"/>
            <p:cNvSpPr/>
            <p:nvPr/>
          </p:nvSpPr>
          <p:spPr>
            <a:xfrm>
              <a:off x="4716360" y="6093000"/>
              <a:ext cx="50508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Oval 37"/>
            <p:cNvSpPr/>
            <p:nvPr/>
          </p:nvSpPr>
          <p:spPr>
            <a:xfrm>
              <a:off x="5724360" y="6093000"/>
              <a:ext cx="50508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Oval 38"/>
            <p:cNvSpPr/>
            <p:nvPr/>
          </p:nvSpPr>
          <p:spPr>
            <a:xfrm>
              <a:off x="5219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Oval 39"/>
            <p:cNvSpPr/>
            <p:nvPr/>
          </p:nvSpPr>
          <p:spPr>
            <a:xfrm>
              <a:off x="422928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13" name="AutoShape 40"/>
            <p:cNvCxnSpPr>
              <a:stCxn id="614" idx="4"/>
              <a:endCxn id="606" idx="0"/>
            </p:cNvCxnSpPr>
            <p:nvPr/>
          </p:nvCxnSpPr>
          <p:spPr>
            <a:xfrm>
              <a:off x="2952360" y="5157720"/>
              <a:ext cx="1080" cy="93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15" name="AutoShape 41"/>
            <p:cNvCxnSpPr>
              <a:stCxn id="616" idx="4"/>
              <a:endCxn id="608" idx="0"/>
            </p:cNvCxnSpPr>
            <p:nvPr/>
          </p:nvCxnSpPr>
          <p:spPr>
            <a:xfrm>
              <a:off x="3455640" y="4437000"/>
              <a:ext cx="1080" cy="165672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17" name="AutoShape 42"/>
            <p:cNvCxnSpPr>
              <a:stCxn id="618" idx="4"/>
              <a:endCxn id="607" idx="0"/>
            </p:cNvCxnSpPr>
            <p:nvPr/>
          </p:nvCxnSpPr>
          <p:spPr>
            <a:xfrm>
              <a:off x="3959280" y="5157720"/>
              <a:ext cx="2160" cy="93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19" name="AutoShape 43"/>
            <p:cNvCxnSpPr>
              <a:stCxn id="620" idx="4"/>
              <a:endCxn id="612" idx="0"/>
            </p:cNvCxnSpPr>
            <p:nvPr/>
          </p:nvCxnSpPr>
          <p:spPr>
            <a:xfrm flipH="1">
              <a:off x="4481280" y="3681000"/>
              <a:ext cx="2160" cy="241236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21" name="AutoShape 44"/>
            <p:cNvCxnSpPr>
              <a:stCxn id="622" idx="4"/>
              <a:endCxn id="609" idx="0"/>
            </p:cNvCxnSpPr>
            <p:nvPr/>
          </p:nvCxnSpPr>
          <p:spPr>
            <a:xfrm>
              <a:off x="4967280" y="5157720"/>
              <a:ext cx="2160" cy="93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23" name="AutoShape 45"/>
            <p:cNvCxnSpPr>
              <a:stCxn id="624" idx="4"/>
              <a:endCxn id="611" idx="0"/>
            </p:cNvCxnSpPr>
            <p:nvPr/>
          </p:nvCxnSpPr>
          <p:spPr>
            <a:xfrm>
              <a:off x="5471640" y="4437000"/>
              <a:ext cx="1080" cy="165672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25" name="AutoShape 46"/>
            <p:cNvCxnSpPr>
              <a:stCxn id="626" idx="4"/>
              <a:endCxn id="610" idx="0"/>
            </p:cNvCxnSpPr>
            <p:nvPr/>
          </p:nvCxnSpPr>
          <p:spPr>
            <a:xfrm>
              <a:off x="5974920" y="5157720"/>
              <a:ext cx="2520" cy="93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627" name="Group 47"/>
          <p:cNvGrpSpPr/>
          <p:nvPr/>
        </p:nvGrpSpPr>
        <p:grpSpPr>
          <a:xfrm>
            <a:off x="2700360" y="3176640"/>
            <a:ext cx="3527280" cy="1981080"/>
            <a:chOff x="2700360" y="3176640"/>
            <a:chExt cx="3527280" cy="1981080"/>
          </a:xfrm>
        </p:grpSpPr>
        <p:sp>
          <p:nvSpPr>
            <p:cNvPr id="614" name="Oval 20"/>
            <p:cNvSpPr/>
            <p:nvPr/>
          </p:nvSpPr>
          <p:spPr>
            <a:xfrm>
              <a:off x="2700360" y="4653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Oval 21"/>
            <p:cNvSpPr/>
            <p:nvPr/>
          </p:nvSpPr>
          <p:spPr>
            <a:xfrm>
              <a:off x="3706920" y="4653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Oval 22"/>
            <p:cNvSpPr/>
            <p:nvPr/>
          </p:nvSpPr>
          <p:spPr>
            <a:xfrm>
              <a:off x="3203640" y="393228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28" name="AutoShape 23"/>
            <p:cNvCxnSpPr>
              <a:stCxn id="616" idx="5"/>
              <a:endCxn id="618" idx="0"/>
            </p:cNvCxnSpPr>
            <p:nvPr/>
          </p:nvCxnSpPr>
          <p:spPr>
            <a:xfrm>
              <a:off x="3633840" y="4362120"/>
              <a:ext cx="326160" cy="29124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29" name="AutoShape 24"/>
            <p:cNvCxnSpPr>
              <a:stCxn id="616" idx="3"/>
              <a:endCxn id="614" idx="0"/>
            </p:cNvCxnSpPr>
            <p:nvPr/>
          </p:nvCxnSpPr>
          <p:spPr>
            <a:xfrm flipH="1">
              <a:off x="2952360" y="4362120"/>
              <a:ext cx="326160" cy="29124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22" name="Oval 25"/>
            <p:cNvSpPr/>
            <p:nvPr/>
          </p:nvSpPr>
          <p:spPr>
            <a:xfrm>
              <a:off x="4714920" y="4653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Oval 26"/>
            <p:cNvSpPr/>
            <p:nvPr/>
          </p:nvSpPr>
          <p:spPr>
            <a:xfrm>
              <a:off x="5722920" y="4653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Oval 27"/>
            <p:cNvSpPr/>
            <p:nvPr/>
          </p:nvSpPr>
          <p:spPr>
            <a:xfrm>
              <a:off x="5219640" y="393228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30" name="AutoShape 28"/>
            <p:cNvCxnSpPr>
              <a:stCxn id="624" idx="5"/>
              <a:endCxn id="626" idx="0"/>
            </p:cNvCxnSpPr>
            <p:nvPr/>
          </p:nvCxnSpPr>
          <p:spPr>
            <a:xfrm>
              <a:off x="5649840" y="4362120"/>
              <a:ext cx="326160" cy="29124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31" name="AutoShape 29"/>
            <p:cNvCxnSpPr>
              <a:stCxn id="624" idx="3"/>
              <a:endCxn id="622" idx="0"/>
            </p:cNvCxnSpPr>
            <p:nvPr/>
          </p:nvCxnSpPr>
          <p:spPr>
            <a:xfrm flipH="1">
              <a:off x="4966920" y="4362120"/>
              <a:ext cx="327600" cy="29124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20" name="Oval 30"/>
            <p:cNvSpPr/>
            <p:nvPr/>
          </p:nvSpPr>
          <p:spPr>
            <a:xfrm>
              <a:off x="4230720" y="317664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32" name="AutoShape 31"/>
            <p:cNvCxnSpPr>
              <a:stCxn id="620" idx="3"/>
              <a:endCxn id="616" idx="7"/>
            </p:cNvCxnSpPr>
            <p:nvPr/>
          </p:nvCxnSpPr>
          <p:spPr>
            <a:xfrm flipH="1">
              <a:off x="3633120" y="3606480"/>
              <a:ext cx="672120" cy="40068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33" name="AutoShape 32"/>
            <p:cNvCxnSpPr>
              <a:stCxn id="620" idx="5"/>
              <a:endCxn id="624" idx="1"/>
            </p:cNvCxnSpPr>
            <p:nvPr/>
          </p:nvCxnSpPr>
          <p:spPr>
            <a:xfrm>
              <a:off x="4660560" y="3606480"/>
              <a:ext cx="633960" cy="40068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ртировка с помощью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а дерева поиска зависит от порядка поступления элемен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 при любом порядке «проекция меток» является отсортированным спис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чему это всегда так? Доказательств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строение списка меток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e a -&gt; 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 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af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Node x l r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 ++ [x] ++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8" name="Group 4"/>
          <p:cNvGrpSpPr/>
          <p:nvPr/>
        </p:nvGrpSpPr>
        <p:grpSpPr>
          <a:xfrm>
            <a:off x="2700360" y="3681000"/>
            <a:ext cx="3529080" cy="2916720"/>
            <a:chOff x="2700360" y="3681000"/>
            <a:chExt cx="3529080" cy="2916720"/>
          </a:xfrm>
        </p:grpSpPr>
        <p:sp>
          <p:nvSpPr>
            <p:cNvPr id="639" name="Oval 5"/>
            <p:cNvSpPr/>
            <p:nvPr/>
          </p:nvSpPr>
          <p:spPr>
            <a:xfrm>
              <a:off x="270036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6"/>
            <p:cNvSpPr/>
            <p:nvPr/>
          </p:nvSpPr>
          <p:spPr>
            <a:xfrm>
              <a:off x="370836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7"/>
            <p:cNvSpPr/>
            <p:nvPr/>
          </p:nvSpPr>
          <p:spPr>
            <a:xfrm>
              <a:off x="3203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8"/>
            <p:cNvSpPr/>
            <p:nvPr/>
          </p:nvSpPr>
          <p:spPr>
            <a:xfrm>
              <a:off x="4716360" y="6093000"/>
              <a:ext cx="50508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Oval 9"/>
            <p:cNvSpPr/>
            <p:nvPr/>
          </p:nvSpPr>
          <p:spPr>
            <a:xfrm>
              <a:off x="5724360" y="6093000"/>
              <a:ext cx="50508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Oval 10"/>
            <p:cNvSpPr/>
            <p:nvPr/>
          </p:nvSpPr>
          <p:spPr>
            <a:xfrm>
              <a:off x="521964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11"/>
            <p:cNvSpPr/>
            <p:nvPr/>
          </p:nvSpPr>
          <p:spPr>
            <a:xfrm>
              <a:off x="4229280" y="6093000"/>
              <a:ext cx="504720" cy="5047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46" name="AutoShape 12"/>
            <p:cNvCxnSpPr>
              <a:stCxn id="647" idx="4"/>
              <a:endCxn id="639" idx="0"/>
            </p:cNvCxnSpPr>
            <p:nvPr/>
          </p:nvCxnSpPr>
          <p:spPr>
            <a:xfrm>
              <a:off x="2952360" y="5157720"/>
              <a:ext cx="1080" cy="93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48" name="AutoShape 13"/>
            <p:cNvCxnSpPr>
              <a:stCxn id="649" idx="4"/>
              <a:endCxn id="641" idx="0"/>
            </p:cNvCxnSpPr>
            <p:nvPr/>
          </p:nvCxnSpPr>
          <p:spPr>
            <a:xfrm>
              <a:off x="3455640" y="4437000"/>
              <a:ext cx="1080" cy="165672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50" name="AutoShape 14"/>
            <p:cNvCxnSpPr>
              <a:stCxn id="651" idx="4"/>
              <a:endCxn id="640" idx="0"/>
            </p:cNvCxnSpPr>
            <p:nvPr/>
          </p:nvCxnSpPr>
          <p:spPr>
            <a:xfrm>
              <a:off x="3959280" y="5157720"/>
              <a:ext cx="2160" cy="93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52" name="AutoShape 15"/>
            <p:cNvCxnSpPr>
              <a:stCxn id="653" idx="4"/>
              <a:endCxn id="645" idx="0"/>
            </p:cNvCxnSpPr>
            <p:nvPr/>
          </p:nvCxnSpPr>
          <p:spPr>
            <a:xfrm flipH="1">
              <a:off x="4481280" y="3681000"/>
              <a:ext cx="2160" cy="241236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54" name="AutoShape 16"/>
            <p:cNvCxnSpPr>
              <a:stCxn id="655" idx="4"/>
              <a:endCxn id="642" idx="0"/>
            </p:cNvCxnSpPr>
            <p:nvPr/>
          </p:nvCxnSpPr>
          <p:spPr>
            <a:xfrm>
              <a:off x="4967280" y="5157720"/>
              <a:ext cx="2160" cy="93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56" name="AutoShape 17"/>
            <p:cNvCxnSpPr>
              <a:stCxn id="657" idx="4"/>
              <a:endCxn id="644" idx="0"/>
            </p:cNvCxnSpPr>
            <p:nvPr/>
          </p:nvCxnSpPr>
          <p:spPr>
            <a:xfrm>
              <a:off x="5471640" y="4437000"/>
              <a:ext cx="1080" cy="165672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58" name="AutoShape 18"/>
            <p:cNvCxnSpPr>
              <a:stCxn id="659" idx="4"/>
              <a:endCxn id="643" idx="0"/>
            </p:cNvCxnSpPr>
            <p:nvPr/>
          </p:nvCxnSpPr>
          <p:spPr>
            <a:xfrm>
              <a:off x="5974920" y="5157720"/>
              <a:ext cx="2520" cy="936000"/>
            </a:xfrm>
            <a:prstGeom prst="straightConnector1">
              <a:avLst/>
            </a:prstGeom>
            <a:ln w="7632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660" name="Group 19"/>
          <p:cNvGrpSpPr/>
          <p:nvPr/>
        </p:nvGrpSpPr>
        <p:grpSpPr>
          <a:xfrm>
            <a:off x="2700360" y="3176640"/>
            <a:ext cx="3527280" cy="1981080"/>
            <a:chOff x="2700360" y="3176640"/>
            <a:chExt cx="3527280" cy="1981080"/>
          </a:xfrm>
        </p:grpSpPr>
        <p:sp>
          <p:nvSpPr>
            <p:cNvPr id="647" name="Oval 20"/>
            <p:cNvSpPr/>
            <p:nvPr/>
          </p:nvSpPr>
          <p:spPr>
            <a:xfrm>
              <a:off x="2700360" y="4653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Oval 21"/>
            <p:cNvSpPr/>
            <p:nvPr/>
          </p:nvSpPr>
          <p:spPr>
            <a:xfrm>
              <a:off x="3706920" y="4653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Oval 22"/>
            <p:cNvSpPr/>
            <p:nvPr/>
          </p:nvSpPr>
          <p:spPr>
            <a:xfrm>
              <a:off x="3203640" y="393228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61" name="AutoShape 23"/>
            <p:cNvCxnSpPr>
              <a:stCxn id="649" idx="5"/>
              <a:endCxn id="651" idx="0"/>
            </p:cNvCxnSpPr>
            <p:nvPr/>
          </p:nvCxnSpPr>
          <p:spPr>
            <a:xfrm>
              <a:off x="3633840" y="4362120"/>
              <a:ext cx="326160" cy="29124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62" name="AutoShape 24"/>
            <p:cNvCxnSpPr>
              <a:stCxn id="649" idx="3"/>
              <a:endCxn id="647" idx="0"/>
            </p:cNvCxnSpPr>
            <p:nvPr/>
          </p:nvCxnSpPr>
          <p:spPr>
            <a:xfrm flipH="1">
              <a:off x="2952360" y="4362120"/>
              <a:ext cx="326160" cy="29124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55" name="Oval 25"/>
            <p:cNvSpPr/>
            <p:nvPr/>
          </p:nvSpPr>
          <p:spPr>
            <a:xfrm>
              <a:off x="4714920" y="4653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26"/>
            <p:cNvSpPr/>
            <p:nvPr/>
          </p:nvSpPr>
          <p:spPr>
            <a:xfrm>
              <a:off x="5722920" y="465300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Oval 27"/>
            <p:cNvSpPr/>
            <p:nvPr/>
          </p:nvSpPr>
          <p:spPr>
            <a:xfrm>
              <a:off x="5219640" y="393228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63" name="AutoShape 28"/>
            <p:cNvCxnSpPr>
              <a:stCxn id="657" idx="5"/>
              <a:endCxn id="659" idx="0"/>
            </p:cNvCxnSpPr>
            <p:nvPr/>
          </p:nvCxnSpPr>
          <p:spPr>
            <a:xfrm>
              <a:off x="5649840" y="4362120"/>
              <a:ext cx="326160" cy="29124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64" name="AutoShape 29"/>
            <p:cNvCxnSpPr>
              <a:stCxn id="657" idx="3"/>
              <a:endCxn id="655" idx="0"/>
            </p:cNvCxnSpPr>
            <p:nvPr/>
          </p:nvCxnSpPr>
          <p:spPr>
            <a:xfrm flipH="1">
              <a:off x="4966920" y="4362120"/>
              <a:ext cx="327600" cy="29124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53" name="Oval 30"/>
            <p:cNvSpPr/>
            <p:nvPr/>
          </p:nvSpPr>
          <p:spPr>
            <a:xfrm>
              <a:off x="4230720" y="3176640"/>
              <a:ext cx="504720" cy="504720"/>
            </a:xfrm>
            <a:prstGeom prst="ellipse">
              <a:avLst/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65" name="AutoShape 31"/>
            <p:cNvCxnSpPr>
              <a:stCxn id="653" idx="3"/>
              <a:endCxn id="649" idx="7"/>
            </p:cNvCxnSpPr>
            <p:nvPr/>
          </p:nvCxnSpPr>
          <p:spPr>
            <a:xfrm flipH="1">
              <a:off x="3633120" y="3606480"/>
              <a:ext cx="672120" cy="40068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66" name="AutoShape 32"/>
            <p:cNvCxnSpPr>
              <a:stCxn id="653" idx="5"/>
              <a:endCxn id="657" idx="1"/>
            </p:cNvCxnSpPr>
            <p:nvPr/>
          </p:nvCxnSpPr>
          <p:spPr>
            <a:xfrm>
              <a:off x="4660560" y="3606480"/>
              <a:ext cx="633960" cy="400680"/>
            </a:xfrm>
            <a:prstGeom prst="straightConnector1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2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ртировка с помощью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ort :: Ord a =&gt; [a] -&gt; 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ort 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. listTo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AutoShape 50"/>
          <p:cNvSpPr/>
          <p:nvPr/>
        </p:nvSpPr>
        <p:spPr>
          <a:xfrm>
            <a:off x="-36360" y="437040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даление вершины из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1" name="Oval 5"/>
          <p:cNvSpPr/>
          <p:nvPr/>
        </p:nvSpPr>
        <p:spPr>
          <a:xfrm>
            <a:off x="1187280" y="3968640"/>
            <a:ext cx="505080" cy="50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Oval 6"/>
          <p:cNvSpPr/>
          <p:nvPr/>
        </p:nvSpPr>
        <p:spPr>
          <a:xfrm>
            <a:off x="2193840" y="3968640"/>
            <a:ext cx="505080" cy="50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Oval 7"/>
          <p:cNvSpPr/>
          <p:nvPr/>
        </p:nvSpPr>
        <p:spPr>
          <a:xfrm>
            <a:off x="1690560" y="3247920"/>
            <a:ext cx="505080" cy="50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74" name="AutoShape 8"/>
          <p:cNvCxnSpPr>
            <a:stCxn id="673" idx="5"/>
            <a:endCxn id="672" idx="0"/>
          </p:cNvCxnSpPr>
          <p:nvPr/>
        </p:nvCxnSpPr>
        <p:spPr>
          <a:xfrm>
            <a:off x="2120760" y="3677760"/>
            <a:ext cx="326160" cy="2912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5" name="AutoShape 9"/>
          <p:cNvCxnSpPr>
            <a:stCxn id="673" idx="3"/>
            <a:endCxn id="671" idx="0"/>
          </p:cNvCxnSpPr>
          <p:nvPr/>
        </p:nvCxnSpPr>
        <p:spPr>
          <a:xfrm flipH="1">
            <a:off x="1439640" y="3677760"/>
            <a:ext cx="326160" cy="2912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76" name="Oval 10"/>
          <p:cNvSpPr/>
          <p:nvPr/>
        </p:nvSpPr>
        <p:spPr>
          <a:xfrm>
            <a:off x="3708360" y="3968640"/>
            <a:ext cx="504720" cy="50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Oval 11"/>
          <p:cNvSpPr/>
          <p:nvPr/>
        </p:nvSpPr>
        <p:spPr>
          <a:xfrm>
            <a:off x="7234200" y="3968640"/>
            <a:ext cx="504720" cy="50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Oval 12"/>
          <p:cNvSpPr/>
          <p:nvPr/>
        </p:nvSpPr>
        <p:spPr>
          <a:xfrm>
            <a:off x="6226200" y="3247920"/>
            <a:ext cx="504720" cy="50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79" name="AutoShape 13"/>
          <p:cNvCxnSpPr>
            <a:stCxn id="678" idx="5"/>
            <a:endCxn id="677" idx="1"/>
          </p:cNvCxnSpPr>
          <p:nvPr/>
        </p:nvCxnSpPr>
        <p:spPr>
          <a:xfrm>
            <a:off x="6656400" y="3677760"/>
            <a:ext cx="653040" cy="3661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0" name="AutoShape 14"/>
          <p:cNvCxnSpPr>
            <a:stCxn id="678" idx="3"/>
            <a:endCxn id="676" idx="7"/>
          </p:cNvCxnSpPr>
          <p:nvPr/>
        </p:nvCxnSpPr>
        <p:spPr>
          <a:xfrm flipH="1">
            <a:off x="4138200" y="3677760"/>
            <a:ext cx="2162880" cy="3661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1" name="Oval 15"/>
          <p:cNvSpPr/>
          <p:nvPr/>
        </p:nvSpPr>
        <p:spPr>
          <a:xfrm>
            <a:off x="2700360" y="2492280"/>
            <a:ext cx="504720" cy="50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82" name="AutoShape 16"/>
          <p:cNvCxnSpPr>
            <a:stCxn id="681" idx="3"/>
            <a:endCxn id="673" idx="7"/>
          </p:cNvCxnSpPr>
          <p:nvPr/>
        </p:nvCxnSpPr>
        <p:spPr>
          <a:xfrm flipH="1">
            <a:off x="2120040" y="2922480"/>
            <a:ext cx="654840" cy="4010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3" name="AutoShape 17"/>
          <p:cNvCxnSpPr>
            <a:stCxn id="681" idx="5"/>
            <a:endCxn id="678" idx="1"/>
          </p:cNvCxnSpPr>
          <p:nvPr/>
        </p:nvCxnSpPr>
        <p:spPr>
          <a:xfrm>
            <a:off x="3130560" y="2922480"/>
            <a:ext cx="3170880" cy="4010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4" name="Oval 18"/>
          <p:cNvSpPr/>
          <p:nvPr/>
        </p:nvSpPr>
        <p:spPr>
          <a:xfrm>
            <a:off x="8244000" y="4761000"/>
            <a:ext cx="504720" cy="50472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Oval 19"/>
          <p:cNvSpPr/>
          <p:nvPr/>
        </p:nvSpPr>
        <p:spPr>
          <a:xfrm>
            <a:off x="6730920" y="4761000"/>
            <a:ext cx="505080" cy="50472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Oval 20"/>
          <p:cNvSpPr/>
          <p:nvPr/>
        </p:nvSpPr>
        <p:spPr>
          <a:xfrm>
            <a:off x="5722920" y="4761000"/>
            <a:ext cx="504720" cy="50472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Oval 21"/>
          <p:cNvSpPr/>
          <p:nvPr/>
        </p:nvSpPr>
        <p:spPr>
          <a:xfrm>
            <a:off x="3203640" y="4761000"/>
            <a:ext cx="504720" cy="50472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Oval 22"/>
          <p:cNvSpPr/>
          <p:nvPr/>
        </p:nvSpPr>
        <p:spPr>
          <a:xfrm>
            <a:off x="7738920" y="5481720"/>
            <a:ext cx="505080" cy="50472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Oval 23"/>
          <p:cNvSpPr/>
          <p:nvPr/>
        </p:nvSpPr>
        <p:spPr>
          <a:xfrm>
            <a:off x="4714920" y="5481720"/>
            <a:ext cx="504720" cy="50472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Oval 24"/>
          <p:cNvSpPr/>
          <p:nvPr/>
        </p:nvSpPr>
        <p:spPr>
          <a:xfrm>
            <a:off x="5219640" y="6202440"/>
            <a:ext cx="504720" cy="50472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91" name="AutoShape 25"/>
          <p:cNvCxnSpPr>
            <a:stCxn id="676" idx="3"/>
            <a:endCxn id="687" idx="0"/>
          </p:cNvCxnSpPr>
          <p:nvPr/>
        </p:nvCxnSpPr>
        <p:spPr>
          <a:xfrm flipH="1">
            <a:off x="3455640" y="4398840"/>
            <a:ext cx="327600" cy="3625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2" name="AutoShape 26"/>
          <p:cNvCxnSpPr>
            <a:stCxn id="676" idx="5"/>
            <a:endCxn id="686" idx="0"/>
          </p:cNvCxnSpPr>
          <p:nvPr/>
        </p:nvCxnSpPr>
        <p:spPr>
          <a:xfrm>
            <a:off x="4138560" y="4398840"/>
            <a:ext cx="1837440" cy="3625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3" name="AutoShape 27"/>
          <p:cNvCxnSpPr>
            <a:stCxn id="689" idx="5"/>
            <a:endCxn id="690" idx="0"/>
          </p:cNvCxnSpPr>
          <p:nvPr/>
        </p:nvCxnSpPr>
        <p:spPr>
          <a:xfrm>
            <a:off x="5145120" y="5911560"/>
            <a:ext cx="327600" cy="2912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4" name="AutoShape 28"/>
          <p:cNvCxnSpPr>
            <a:stCxn id="686" idx="3"/>
            <a:endCxn id="689" idx="0"/>
          </p:cNvCxnSpPr>
          <p:nvPr/>
        </p:nvCxnSpPr>
        <p:spPr>
          <a:xfrm flipH="1">
            <a:off x="4966920" y="5190840"/>
            <a:ext cx="830880" cy="2912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5" name="AutoShape 29"/>
          <p:cNvCxnSpPr>
            <a:stCxn id="677" idx="5"/>
            <a:endCxn id="684" idx="0"/>
          </p:cNvCxnSpPr>
          <p:nvPr/>
        </p:nvCxnSpPr>
        <p:spPr>
          <a:xfrm>
            <a:off x="7664040" y="4398840"/>
            <a:ext cx="832680" cy="3625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6" name="AutoShape 30"/>
          <p:cNvCxnSpPr>
            <a:stCxn id="677" idx="3"/>
            <a:endCxn id="685" idx="0"/>
          </p:cNvCxnSpPr>
          <p:nvPr/>
        </p:nvCxnSpPr>
        <p:spPr>
          <a:xfrm flipH="1">
            <a:off x="6982920" y="4398840"/>
            <a:ext cx="326160" cy="3625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7" name="AutoShape 31"/>
          <p:cNvCxnSpPr>
            <a:stCxn id="684" idx="3"/>
            <a:endCxn id="688" idx="7"/>
          </p:cNvCxnSpPr>
          <p:nvPr/>
        </p:nvCxnSpPr>
        <p:spPr>
          <a:xfrm flipH="1">
            <a:off x="8168400" y="5191200"/>
            <a:ext cx="150120" cy="36576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98" name="Oval 32"/>
          <p:cNvSpPr/>
          <p:nvPr/>
        </p:nvSpPr>
        <p:spPr>
          <a:xfrm>
            <a:off x="4211640" y="6202440"/>
            <a:ext cx="504720" cy="50472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99" name="AutoShape 33"/>
          <p:cNvCxnSpPr>
            <a:stCxn id="689" idx="3"/>
            <a:endCxn id="698" idx="0"/>
          </p:cNvCxnSpPr>
          <p:nvPr/>
        </p:nvCxnSpPr>
        <p:spPr>
          <a:xfrm flipH="1">
            <a:off x="4463640" y="5911560"/>
            <a:ext cx="326160" cy="2912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00" name="Oval 36"/>
          <p:cNvSpPr/>
          <p:nvPr/>
        </p:nvSpPr>
        <p:spPr>
          <a:xfrm>
            <a:off x="611280" y="2529000"/>
            <a:ext cx="504720" cy="5047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37"/>
          <p:cNvSpPr/>
          <p:nvPr/>
        </p:nvSpPr>
        <p:spPr>
          <a:xfrm>
            <a:off x="2700360" y="1916280"/>
            <a:ext cx="576360" cy="576000"/>
          </a:xfrm>
          <a:prstGeom prst="downArrow">
            <a:avLst>
              <a:gd name="adj1" fmla="val 49861"/>
              <a:gd name="adj2" fmla="val 3636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38"/>
          <p:cNvSpPr/>
          <p:nvPr/>
        </p:nvSpPr>
        <p:spPr>
          <a:xfrm>
            <a:off x="3635280" y="3213000"/>
            <a:ext cx="647640" cy="720720"/>
          </a:xfrm>
          <a:prstGeom prst="downArrow">
            <a:avLst>
              <a:gd name="adj1" fmla="val 50000"/>
              <a:gd name="adj2" fmla="val 4044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03" name="AutoShape 39"/>
          <p:cNvCxnSpPr>
            <a:stCxn id="676" idx="5"/>
            <a:endCxn id="689" idx="0"/>
          </p:cNvCxnSpPr>
          <p:nvPr/>
        </p:nvCxnSpPr>
        <p:spPr>
          <a:xfrm>
            <a:off x="4138560" y="4398840"/>
            <a:ext cx="829440" cy="10832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04" name="Oval 40"/>
          <p:cNvSpPr/>
          <p:nvPr/>
        </p:nvSpPr>
        <p:spPr>
          <a:xfrm>
            <a:off x="4788000" y="4003560"/>
            <a:ext cx="504720" cy="505080"/>
          </a:xfrm>
          <a:prstGeom prst="ellipse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AutoShape 41"/>
          <p:cNvSpPr/>
          <p:nvPr/>
        </p:nvSpPr>
        <p:spPr>
          <a:xfrm>
            <a:off x="5867280" y="3429000"/>
            <a:ext cx="1152720" cy="649440"/>
          </a:xfrm>
          <a:prstGeom prst="roundRect">
            <a:avLst>
              <a:gd name="adj" fmla="val 16667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joi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7 L 0.38593 0.10509 E">
                                      <p:cBhvr>
                                        <p:cTn id="285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2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L 0.2283 0.11528 E">
                                      <p:cBhvr>
                                        <p:cTn id="306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0.10625 -0.11551 E">
                                      <p:cBhvr>
                                        <p:cTn id="319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0.15747 -0.10509 E">
                                      <p:cBhvr>
                                        <p:cTn id="334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даление вершины из дерева по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elet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: Ord a =&gt;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a -&gt; Tree a -&gt; Tre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elet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e Leaf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Leaf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elet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e (Node x l r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e &lt;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Node x (delet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e l) r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e ==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join l r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| e &gt;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Node x l (delet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d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e 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Abramov Sergei</cp:lastModifiedBy>
  <dcterms:modified xsi:type="dcterms:W3CDTF">2013-05-16T05:50:45Z</dcterms:modified>
  <cp:revision>1093</cp:revision>
  <dc:subject/>
  <dc:title>Selling an Idea or a Product</dc:title>
</cp:coreProperties>
</file>