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DF2-0F73-44B0-B4E8-080988D9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C98-C982-46B7-8826-B079C2E8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A81-2DEC-4275-9B20-1B286631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845-20E4-4CBC-8531-1402AC8D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58FD-839D-48CC-8501-B1857930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0685-BD50-4463-9FBF-89E3D07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56D4-2CE2-487C-AEE7-F9C527C2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971A-18FC-4468-877C-D41F2A0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CE82-1466-4A38-8A7B-6A2D3D63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70A1-B307-4B98-A85C-AA612E3E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8AC9-DBC2-4347-9D3F-83F5E0E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3DC-A03F-479D-96D9-3B3F9899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26F5-6D70-4CEE-BE26-7822CF6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498-70A1-4F8A-AB62-E757E8C2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DBF5-0FBF-4275-A8AF-2159E463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AE5F-8C94-4A54-BB34-58A36E8B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69F0-A20B-4F69-81CA-A9F0A1D2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118-5869-4F91-B499-61C18339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48D-8742-41DD-8D9E-76F8DFE8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933-4A9F-4446-A18F-C3B682A4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371-FAD4-4E13-A219-2BDC58DA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494-14D6-428C-9E06-B2B7740C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587-BB8C-467B-9607-CEB583F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2D0-2932-44C4-8C20-696502B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102B-012A-4B6E-BDDE-6D690CAA5B2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rcRect l="73278" t="0" r="0" b="0"/>
          <a:stretch/>
        </p:blipFill>
        <p:spPr>
          <a:xfrm>
            <a:off x="34920" y="44280"/>
            <a:ext cx="86508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5F36-BB8A-4512-91FF-CDC9291F939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93600"/>
            <a:ext cx="4716360" cy="1679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к первый язык программирования»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ь 4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Юмагужи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ГП им. А.К. 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я: сведение к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num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romEnum 0 = Sun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fromEnum 1 = Mon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fromEnum 2 = Tu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fromEnum 3 = Wed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fromEnum 4 = Thu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fromEnum 5 = Fri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fromEnum 6 = S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я: сведение к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num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я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oEnu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можем определить методы других класс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Eq  Day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x == y = toEnum x == toEnum y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Ord Day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x &lt; y = toEnum x &lt; toEnum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пасительно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eriving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это можно получить при помощи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erivin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Day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Sun | Mon | Tue | Wed | Thu | Fri | S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deriving (Eq, Ord, Enum, Sho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пасительно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eriving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перь легко пиш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workday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Day -&gt; Boo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workday 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(Mon &lt;= d) &amp;&amp; (d &lt;=  Fri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stday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Day -&gt; Boo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stday 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(d == Sat) || (d == Sun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yAfter  :: Day -&gt; Day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yAfter d =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fromEnum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toEnum d + 1) `mod` 7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сключения из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eriving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eriving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ет быть не совсем таким, как хочется. Например, может быть особое требование о виде печати данных типа, выведенного из класса Show, другое видимое представление элементов, отличное от наследуем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добных ситуациях придется дать явно объявление 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декларацию) типа как экземпляра клас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17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лава 26.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ы структурированных типов данных.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ектора и Матриц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Vector = Vec [Floa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Matrix = Mat [[Float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Length ::  Vector -&gt; Fl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Length (Vec xs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sqrt (sum (map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\ x -&gt; x*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 xs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Inprod :: Vector -&gt; Vector -&gt; Fl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Inprod (Vec xs)  (Vec ys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          sum (zipWith (*) xs ys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Angle  :: Vector -&gt; Vector -&gt; Fl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Angle v w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acos (vecInprod v w /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(vecLength v * vecLength w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Perpendicular :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tor -&gt; Vector -&gt; B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Perpendicular v w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                 vecInprod v w == 0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Scale ::  Float -&gt; Vector -&gt; V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Scale k (Vec xs) = Vec (map (k*) x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Plus  ::  Vector -&gt; Vector -&gt; V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Plus (Vec xs) (Vec ys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          Vec (zipWith (+) xs ys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pl  :: (a -&gt; b) -&gt; [[a]] -&gt; [[b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pl  = map . m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17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лава 24.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ы структурированных типов данных. Тип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Angl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ziplWith   :: (a -&gt; b -&gt; c) -&gt;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            [[a]] -&gt; [[b]] -&gt; [[c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ziplWith = zipWith . zipWith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Scale   :: Float -&gt; Matrix -&gt;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Scale k (Mat xss) 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                 Mat (mapl (k*) x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Plus  :: Matrix -&gt; Matrix -&gt;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Plus (Mat xss) (Mat yss)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 (ziplWith (+) xss y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Transp  :: Matrix -&gt;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Transp (Mat xss) =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               Mat (transpose x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ranspose :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[a]] -&gt; [[a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ranspose  = foldr f 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      wher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= zipWith (: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 = repeat 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ranspose 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oldr (zipWith (:)) (repeat [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Apply ::  Matrix -&gt; Vector -&gt; V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Apply (Mat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ows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 v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 (map f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ows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where f row = vecInprod (Vec row) 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Apply (Mat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ows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 v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 (map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vecInprod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v) . Vec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ows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tIdent :: Matrix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-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беск. единич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tIdent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t (iterate (0:) (1: repeat 0)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tId ::  Int -&gt; Matrix    -- единич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tId n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t (map (take n) (take n xss)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 (Mat xss) = matI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ltsum [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…] =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   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– 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+ 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– 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…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ltsum :: [Float] -&gt; Flo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ltsum xs =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um (zipWith (*) xs pmOne)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where pmOne = 1 : -1 : pmOne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altsum1 []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= 0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altsum1 (x:xs) = x - altsum1 xs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altsum2 = foldr (-) 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gaps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 ]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gaps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: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a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[a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gaps [ 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[ 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gaps (x:xs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xs : map (x:) (gaps x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перации с векторами и матриц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et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Matrix -&gt; Fl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et (Mat [[x]])      = x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et (Mat (row:rows)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(altsum . zipWith (*) row . map det .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map Mat . gaps . transpose) 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Вспомним...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водили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тип-синоним... Плохо, скверное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==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риан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ew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ариант 1: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Angle = MkAngle Flo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stance Eq Angle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kAngle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=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kAngle 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rmalise x == normalise y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rmalise ::  Float -&gt; Floa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rmalise x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| x &lt; 0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normalise (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+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ot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| x &gt;= ro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normalise (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ot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| otherwise = x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 rot = 2*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ариант 1: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бились правильных операц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ак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шние действия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/ unwra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шняя память (обертк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ариант 2: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newtyp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ewtype Angle = MkAngle Flo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stance Eq Angle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kAngle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=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kAngle 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rmalise x == normalise y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rmalise ::  Float -&gt; Floa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rmalise x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| x &lt; 0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normalise (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+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ot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| x &gt;= ro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normalise (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ot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| otherwise = x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 rot = 2*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ариант 2: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newtyp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бились правильных операц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бавились о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шних действий (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time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маютс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/ unwra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шней памяти (обертки не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о: один конструктор в размеченом объедин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17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лава 25.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ы структурированных типов данных. Тип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ay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я: сведение к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num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Day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un | Mon | Tue | Wed | Thu | Fri | Sa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stance Enum Day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toEnum Su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0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toEnum Mo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1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toEnum Tu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2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toEnum We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3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toEnum Thu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4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toEnum Fri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5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toEnum Sa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Abramov Sergei</cp:lastModifiedBy>
  <dcterms:modified xsi:type="dcterms:W3CDTF">2013-09-12T03:07:21Z</dcterms:modified>
  <cp:revision>1143</cp:revision>
  <dc:subject/>
  <dc:title>Selling an Idea or a Product</dc:title>
</cp:coreProperties>
</file>