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362-4763-4E63-9D95-440481FD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000" y="382464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321F-BF52-4836-8D1E-249B9E0C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1456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F2AE-2D48-4BE4-8B4C-A22D7F01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6988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7140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800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6988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7140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6C46-98F0-47F5-872F-AE965378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BB30-07BC-43E8-8B53-94D462CD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C003-C1C4-4764-8853-7B40AA79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B161-7D90-4FED-AD74-27C82017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5A1D-53EE-448C-9B75-BF905BC8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AF9D-B3C0-47E7-A8F5-D2C99628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971640" y="-360"/>
            <a:ext cx="797544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BC49-0223-450E-8A57-6DB7232E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C695-A8A6-4259-8C50-214A165B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F6A1-DA58-461B-A8ED-0F233115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1456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95E3-2CDF-4542-9C1A-15DCD9DE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F3E3-D62E-405B-A8F6-A81BAEC0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" y="382464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F5BF-A3C5-48CC-B35C-16C0940A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71456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212F-FD02-44E3-9C54-9A9B275F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6988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71400" y="134100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00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6988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71400" y="3824640"/>
            <a:ext cx="26679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9F19-04B6-4DCA-B049-024C6469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8846-8C47-40EC-8456-61E20393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8E1-0659-4271-8E9B-3D44ABEF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B45-1714-4707-A9B3-92AA91BF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971640" y="-360"/>
            <a:ext cx="797544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AA6-0A5B-4A63-9E04-9F340949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69E8-B8A1-4CED-BAF0-D619988B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14560" y="382464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F2F-DCEE-4D89-91F5-76282E3E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4560" y="1341000"/>
            <a:ext cx="4043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000" y="3824640"/>
            <a:ext cx="828684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11A-1DA3-472C-85C4-11C10632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C12A-8976-47EA-AF2E-99C2640238D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" name="" descr=""/>
          <p:cNvPicPr/>
          <p:nvPr/>
        </p:nvPicPr>
        <p:blipFill>
          <a:blip r:embed="rId2"/>
          <a:srcRect l="73278" t="0" r="0" b="0"/>
          <a:stretch/>
        </p:blipFill>
        <p:spPr>
          <a:xfrm>
            <a:off x="34920" y="44280"/>
            <a:ext cx="865080" cy="115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F1B8-AF92-4DAA-B8F5-04255149403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95640" y="93600"/>
            <a:ext cx="4716360" cy="16797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8317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Слайды к курсу лекций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«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Haskell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как первый язык программирования»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Часть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34560" y="4508280"/>
            <a:ext cx="8209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брамов С. М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Юмагужин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. 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ГП им. А.К. Айламазяна, Переславль-Залес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Декларации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кларации импорт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олжны быть «первыми»: размещаться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разу после декларации модул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с точностью до комментариев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альные деклараци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newtyp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yp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clas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nstanc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сигнатуры типов, определения функций) могут размещаться в произвольном поряд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дуль является одной большой декларацией (начинается с ключевого слова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odul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Экспорт и импорт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мпорт в модули (имеют ключевое слово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modu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в «просто скрипты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т списка экспортируемых имен? — Экспортируем все, определенное на верхнем уров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т списка импортируемых имен? — Импортируем весь экспор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руглые скобки </a:t>
            </a: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Tree(Leaf,Branch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за именем конструктора типа (за именем класса) уточняют, какие члены данного типа (класса) подлежат импорту/экспорту.  Если все, то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(.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Экспорт и импорт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которые сущности могут быть исключены из импорта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hiding (name1, name2, ...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одуль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relu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по умолчанию импортируется во все программ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сокрытия части из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relu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можно  использовать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Контроль пространства имен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облема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ва импортируемых модуля содержат отличные друг от друга определения с одним и тем же имене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валификатор имен, объявление импорта может содержать ключевое слово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qualifie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квалифицированные имена:  </a:t>
            </a: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имяМодуля</a:t>
            </a:r>
            <a:r>
              <a:rPr b="1" lang="ru-RU" sz="3200" spc="-1" strike="noStrike">
                <a:solidFill>
                  <a:srgbClr val="990000"/>
                </a:solidFill>
                <a:latin typeface="Tahoma"/>
              </a:rPr>
              <a:t>.</a:t>
            </a: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имяМето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Пример на «qualified»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693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odule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oy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) wher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mport Tree(Tree(..))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:: Tree a -&gt; [a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-- другое определение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(Leaf x) = [x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(Branch x y) =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odule Main wher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mport Tree ( Tree(Leaf,Branch),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mport qualified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oy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)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l1 =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(Branch (Leaf 1) (Leaf 2)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l2 =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oy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(Branch (Leaf 1) (Leaf 2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00536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Синонимы имен модулей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mport qualified Complex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as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ожно квалифицировать члены модуля как полным именем, так и синоним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Модуль как способ реализации АТД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роший АТД отражает важнейшие свойства объектов и скрывает особенности реализаци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мер: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сокрытия способа представления деревьев модуль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г бы экспортировать тип (без конструкторов!) и функ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Модуль как способ реализации АТД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исок экспорта: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 Tree a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-- только имя типа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leaf     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a -&gt; Tree a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branch 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Tree a -&gt; Tree a -&gt; Tree a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cell       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Tree a -&gt; a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left, right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Tree a -&gt; Tree a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sLeaf  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Tree a -&gt; B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Реализация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Tree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как АТД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module Tree (Tree, leaf, branch, cell, left,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               right, isLeaf) where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data Tree a = Leaf a | Branch (Tree a) (Tree a)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leaf = Leaf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branch = Branch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cell (Leaf a) = a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left (Branch l r) = l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right (Branch l r) = r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isLeaf (Leaf _) = True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isLeaf _        = Fa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Использование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Tree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как АТД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module Main () where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mport Tre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Tree a -&gt; [a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x =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f isLeaf x then [cell x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else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(left x) ++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(right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2133360"/>
            <a:ext cx="83170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Глава 27.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Инкапсуляция данных в модулях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Стек (LIFO) как АТД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пецификация (что экспортируем)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data Stack a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-- только имя типа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emptyStack:: Stack a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ush   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a -&gt; Stack a -&gt; Stack a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op   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Stack a -&gt; Stack a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op      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Stack a -&gt; a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sEmpty 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Stack a -&gt; Bool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howStack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: (a-&gt;[Char]) -&gt;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Stack a -&gt; [Char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Реализация стека на списке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6756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module Stack (Stack,  emptyStack, push,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pop,  top, isEmpty) where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-- реализация на базе списков—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type Stack a =  [a]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-----------------------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isEmpty    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 Stack a -&gt; Bool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emptyStack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 Stack a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push       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 a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-&gt; Stack a -&gt; Stack a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top        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 Stack a -&gt; a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pop        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 Stack a -&gt; Stack a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----------------------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--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Доброволец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Реализация стека на списке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6756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isEmpty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ull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emptyStack= []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ush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(:)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top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(a:_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op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[]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error "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op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empty stack “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op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(_:s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op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[]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= error "pop: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empty stack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Реализация стека на списке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ар (значение, количество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module Stack (Stack,  emptyStack, push,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pop,  top, isEmpty) where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-- реализация на базе списков—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type Stack a =  [(a, </a:t>
            </a: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Int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]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-----------------------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isEmpty    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 Stack a -&gt; Bool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emptyStack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 Stack a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push       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 </a:t>
            </a: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Eq a =&gt;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-&gt; Stack a -&gt; Stack a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top        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 Stack a -&gt; a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pop        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: Stack a -&gt; Stack a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----------------------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-- </a:t>
            </a:r>
            <a:r>
              <a:rPr b="1" lang="ru-RU" sz="2800" spc="-1" strike="noStrike">
                <a:solidFill>
                  <a:srgbClr val="990000"/>
                </a:solidFill>
                <a:latin typeface="Tahoma"/>
              </a:rPr>
              <a:t>Доброволец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Реализация стека на списке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пар (значение, количество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isEmpty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null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emptyStack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[]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push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a ((b,i):s’) | a==b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(b,i+1):s’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push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a s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(a,1):s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top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((a,_):_)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a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op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[]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error "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top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: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empty stack “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op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((a,1):s)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s</a:t>
            </a:r>
            <a:br>
              <a:rPr sz="2800"/>
            </a:b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op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((a,n):s)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((a,n-1):s)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pop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[] 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= error "pop: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empty stack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Сильные и слабые стороны подхода «АТД»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ысокий уровень абстракции, детали реализации скрыты — значит их легко менять (например, с целью оптимизации или введения дополнительного сервис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видны низкоуровневые детали реализации — невозможно использовать низкоуровневые оптимизации (как труда программиста, так и времени исполнени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Инкапсуляция — сокрытие деталей (encapsulate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6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кции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ere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определенное здесь сокрыты от «воздействия» других определ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дули, как средство инкапсуляци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</a:t>
            </a: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ublic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сущности — доступ разрешен изв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priva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доступные только внутри моду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Модули: экспорт и импорт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kell-программа: коллекция модуле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сновное назначение модулей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нкапсуляция данны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онтроль над пространством име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оздание абстрактных типов данны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одуль: скрипт, определяет некоторые сущности для использования (экспорта) в других скриптах, скрывает все определения внутри себ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мпортирующий модуль может использовать эти сущности, но не имеет доступа к их определения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Имена модулей и файлов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мена модулей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алфавитные символы, первый символ — заглавная бук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идерживаются соглашения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каждый модуль размещают в отдельном файле, причем имя файла совпадает с именем модуля с точностью до расширения (добавляется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.h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либо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.lh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динственное исключение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если это главный модуль программы (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Main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, то имя файла обычно отражает назначение данной программы (иначе имелось бы огромное число файлов с названием </a:t>
            </a:r>
            <a:r>
              <a:rPr b="1" lang="ru-RU" sz="2800" spc="-1" strike="noStrike">
                <a:solidFill>
                  <a:srgbClr val="000099"/>
                </a:solidFill>
                <a:latin typeface="Tahoma"/>
              </a:rPr>
              <a:t>Main.h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ahoma"/>
              </a:rPr>
              <a:t>Обзор имен в </a:t>
            </a: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Haskell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еличины и типы не смешиваются в  Hask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Haskell шесть родов имен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ена переменных 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ена конструкторов, обозначающих величины (конструкторов данных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ена типовых переменн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ена конструкторов тип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ена классов тип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ена моду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Обзор имен в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Haskell</a:t>
            </a:r>
            <a:r>
              <a:rPr b="1" lang="ru-RU" sz="4000" spc="-1" strike="noStrike">
                <a:solidFill>
                  <a:srgbClr val="000099"/>
                </a:solidFill>
                <a:latin typeface="Tahoma"/>
              </a:rPr>
              <a:t>: синтаксические правила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мена переменных (величин) и типовых переменных начинаются с маленькой латинской буквы или подчеркив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ругие четыре вида имен (конструкторов, конструкторов типа, классов типов, модулей) начинаются с заглавной букв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мена операторов-конструкторов должны начинаться с символа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двоеточие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мена других операторов должны начинаться не с двоеточ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Пример модуля (экспортера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module Tree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(Tree (Leaf, Branch), flatten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whe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ata Tree a = Leaf a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                 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| Branch (Tree a) (Tree a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 :: Tree a -&gt; [a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 (Leaf x)            = [x]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flatten (Branch left right) =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  flatten left ++ flatten r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975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Пример модуля (импортера)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module Main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(main)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whe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{-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8000"/>
                </a:solidFill>
                <a:latin typeface="Tahoma"/>
              </a:rPr>
              <a:t>Импортируем модуль </a:t>
            </a: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Tree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Tahoma"/>
              </a:rPr>
              <a:t>-}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mport Tree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( Tree(Leaf,Branch), flatten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main = print (flatten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                     (Branch (Leaf 1) (Leaf 2)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6:49:14Z</dcterms:created>
  <dc:creator>Sergei M. Abramov</dc:creator>
  <dc:description/>
  <dc:language>en-US</dc:language>
  <cp:lastModifiedBy>Sergei Abramov</cp:lastModifiedBy>
  <dcterms:modified xsi:type="dcterms:W3CDTF">2006-10-29T22:19:14Z</dcterms:modified>
  <cp:revision>1167</cp:revision>
  <dc:subject/>
  <dc:title>Selling an Idea or a Product</dc:title>
</cp:coreProperties>
</file>