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696C-0E1E-49E6-ACEB-777D0B039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4931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EEE9-FF29-490F-9653-CE1989160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4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09240" y="1599840"/>
            <a:ext cx="414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14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09240" y="4346280"/>
            <a:ext cx="414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4B3C-90AD-49FE-A93A-900CE7685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73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8920" y="1599840"/>
            <a:ext cx="273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00640" y="1599840"/>
            <a:ext cx="273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73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8920" y="4346280"/>
            <a:ext cx="273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00640" y="4346280"/>
            <a:ext cx="273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5915-241C-43ED-8756-CB8E61256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FA305-F0C8-4C81-A937-A36965FF5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1C4E9-9C36-4422-BCFB-0CA987360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9C36B-3333-4B12-BA9A-3D5EE7B35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44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09240" y="1599840"/>
            <a:ext cx="4144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37BA7-5174-43F8-9CB1-134F77C71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6C004-4EB9-466A-904D-7025F1FA5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7760" y="258480"/>
            <a:ext cx="8343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C1729-EF47-4FC0-8942-DDEA1AD51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4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09240" y="1599840"/>
            <a:ext cx="4144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14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5D48F-153A-4172-8A8C-A99838955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2B2B-ADED-4D1E-B3C5-35A27B336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44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09240" y="1599840"/>
            <a:ext cx="414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09240" y="4346280"/>
            <a:ext cx="414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9AE4C-FFEF-4E87-901D-1090D7F57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4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09240" y="1599840"/>
            <a:ext cx="414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4931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06EA5-E098-49C5-9967-6B43D24F5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4931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31094-2665-41DE-95FA-1EE17B5F1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4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09240" y="1599840"/>
            <a:ext cx="414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14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09240" y="4346280"/>
            <a:ext cx="414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89945-83CB-4A6F-A3B0-D3956D786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73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8920" y="1599840"/>
            <a:ext cx="273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00640" y="1599840"/>
            <a:ext cx="273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73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8920" y="4346280"/>
            <a:ext cx="273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00640" y="4346280"/>
            <a:ext cx="273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AA290-867F-4AD7-98CF-B82B37EB4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BFFF-77A1-40E8-9E8B-88AB07C99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44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09240" y="1599840"/>
            <a:ext cx="4144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D566-D229-4373-8A0A-645A58152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DA1A-F774-48CE-9B56-E92D128AD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07760" y="258480"/>
            <a:ext cx="8343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3892-8C51-4C4F-A908-9988A75CA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4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09240" y="1599840"/>
            <a:ext cx="4144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14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D60D-BDC0-4F00-BBFA-A567DFBA3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44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09240" y="1599840"/>
            <a:ext cx="414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09240" y="4346280"/>
            <a:ext cx="414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B00F-4D24-4B4B-A2E6-BBFECC5FD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4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09240" y="1599840"/>
            <a:ext cx="414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4931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D09D-8467-4408-943F-B6E557B39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33480" y="34920"/>
            <a:ext cx="704880" cy="1420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8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777C3-888D-4182-9F94-332A5595D27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250920" y="225360"/>
            <a:ext cx="3214440" cy="6481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579480" y="1279440"/>
            <a:ext cx="5265720" cy="285912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cc66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8BA06-3E1B-4263-83FA-912FD491371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1706400" y="4835520"/>
          <a:ext cx="4064040" cy="4064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06400" y="4835520"/>
                    <a:ext cx="406404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8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8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8000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579480" y="1279440"/>
            <a:ext cx="5265720" cy="285912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cc66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Tahoma"/>
              </a:rPr>
              <a:t>Глава 2. Представление множеств </a:t>
            </a:r>
            <a:br>
              <a:rPr sz="4400"/>
            </a:b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614400" y="4300560"/>
            <a:ext cx="52340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Tahoma"/>
              </a:rPr>
              <a:t>Конфигурационные переменные, с-выражения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950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ahoma"/>
              </a:rPr>
              <a:t>ca-var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::= (CVA </a:t>
            </a:r>
            <a:r>
              <a:rPr b="1" i="1" lang="ru-RU" sz="3200" spc="-1" strike="noStrike">
                <a:solidFill>
                  <a:srgbClr val="000000"/>
                </a:solidFill>
                <a:latin typeface="Tahoma"/>
              </a:rPr>
              <a:t>c-var-name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ahoma"/>
              </a:rPr>
              <a:t>ce-var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::= (CVE </a:t>
            </a:r>
            <a:r>
              <a:rPr b="1" i="1" lang="ru-RU" sz="3200" spc="-1" strike="noStrike">
                <a:solidFill>
                  <a:srgbClr val="000000"/>
                </a:solidFill>
                <a:latin typeface="Tahoma"/>
              </a:rPr>
              <a:t>c-var-name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ahoma"/>
              </a:rPr>
              <a:t>c-var-name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::= </a:t>
            </a:r>
            <a:r>
              <a:rPr b="1" i="1" lang="ru-RU" sz="3200" spc="-1" strike="noStrike">
                <a:solidFill>
                  <a:srgbClr val="800000"/>
                </a:solidFill>
                <a:latin typeface="Tahoma"/>
              </a:rPr>
              <a:t>integer</a:t>
            </a:r>
            <a:r>
              <a:rPr b="1" i="1" lang="ru-RU" sz="3200" spc="-1" strike="noStrike">
                <a:solidFill>
                  <a:srgbClr val="8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— пояснить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ahoma"/>
              </a:rPr>
              <a:t>ca-expr</a:t>
            </a:r>
            <a:r>
              <a:rPr b="1" i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::= </a:t>
            </a:r>
            <a:r>
              <a:rPr b="1" i="1" lang="ru-RU" sz="3200" spc="-1" strike="noStrike">
                <a:solidFill>
                  <a:srgbClr val="000000"/>
                </a:solidFill>
                <a:latin typeface="Tahoma"/>
              </a:rPr>
              <a:t>a-val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  | </a:t>
            </a:r>
            <a:r>
              <a:rPr b="1" i="1" lang="ru-RU" sz="3200" spc="-1" strike="noStrike">
                <a:solidFill>
                  <a:srgbClr val="000000"/>
                </a:solidFill>
                <a:latin typeface="Tahoma"/>
              </a:rPr>
              <a:t>ca-v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ahoma"/>
              </a:rPr>
              <a:t>ce-expr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::= </a:t>
            </a:r>
            <a:r>
              <a:rPr b="1" i="1" lang="ru-RU" sz="3200" spc="-1" strike="noStrike">
                <a:solidFill>
                  <a:srgbClr val="000000"/>
                </a:solidFill>
                <a:latin typeface="Tahoma"/>
              </a:rPr>
              <a:t>ca-expr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  | </a:t>
            </a:r>
            <a:r>
              <a:rPr b="1" i="1" lang="ru-RU" sz="3200" spc="-1" strike="noStrike">
                <a:solidFill>
                  <a:srgbClr val="000000"/>
                </a:solidFill>
                <a:latin typeface="Tahoma"/>
              </a:rPr>
              <a:t>ce-var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  | (CONS </a:t>
            </a:r>
            <a:r>
              <a:rPr b="1" i="1" lang="ru-RU" sz="3200" spc="-1" strike="noStrike">
                <a:solidFill>
                  <a:srgbClr val="000000"/>
                </a:solidFill>
                <a:latin typeface="Tahoma"/>
              </a:rPr>
              <a:t>ce-expr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Tahoma"/>
              </a:rPr>
              <a:t>ce-expr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 rot="5400000">
            <a:off x="1037160" y="-110520"/>
            <a:ext cx="887400" cy="2962440"/>
          </a:xfrm>
          <a:prstGeom prst="upArrow">
            <a:avLst>
              <a:gd name="adj1" fmla="val 50000"/>
              <a:gd name="adj2" fmla="val 83458"/>
            </a:avLst>
          </a:prstGeom>
          <a:solidFill>
            <a:srgbClr val="ff000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Tahoma"/>
              </a:rPr>
              <a:t>2.1 Конфигурационные переменные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Tahoma"/>
              </a:rPr>
              <a:t>A.</a:t>
            </a:r>
            <a:r>
              <a:rPr b="1" i="1" lang="ru-RU" sz="3200" spc="-1" strike="noStrike">
                <a:solidFill>
                  <a:srgbClr val="000000"/>
                </a:solidFill>
                <a:latin typeface="Tahoma"/>
              </a:rPr>
              <a:t>index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— сокращение для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(CVA </a:t>
            </a:r>
            <a:r>
              <a:rPr b="1" i="1" lang="ru-RU" sz="3200" spc="-1" strike="noStrike">
                <a:solidFill>
                  <a:srgbClr val="000000"/>
                </a:solidFill>
                <a:latin typeface="Tahoma"/>
              </a:rPr>
              <a:t>index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Tahoma"/>
              </a:rPr>
              <a:t>E.</a:t>
            </a:r>
            <a:r>
              <a:rPr b="1" i="1" lang="ru-RU" sz="3200" spc="-1" strike="noStrike">
                <a:solidFill>
                  <a:srgbClr val="000000"/>
                </a:solidFill>
                <a:latin typeface="Tahoma"/>
              </a:rPr>
              <a:t>index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— сокращение для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(CVE </a:t>
            </a:r>
            <a:r>
              <a:rPr b="1" i="1" lang="ru-RU" sz="3200" spc="-1" strike="noStrike">
                <a:solidFill>
                  <a:srgbClr val="000000"/>
                </a:solidFill>
                <a:latin typeface="Tahoma"/>
              </a:rPr>
              <a:t>index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бласти значений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-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ce-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еременных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бласти значений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-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ce-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ыражени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2.2 С-связи, с-среды,</a:t>
            </a:r>
            <a:br>
              <a:rPr sz="4000"/>
            </a:b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с-состояния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950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остояние: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(t, [var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1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:= val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1     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,...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var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n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:= val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]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бобщенное состояние: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(t, [var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1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:=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ahoma"/>
              </a:rPr>
              <a:t>cexp</a:t>
            </a:r>
            <a:r>
              <a:rPr b="1" lang="ru-RU" sz="3200" spc="-1" strike="noStrike" u="sng" baseline="-25000">
                <a:solidFill>
                  <a:srgbClr val="000000"/>
                </a:solidFill>
                <a:uFillTx/>
                <a:latin typeface="Tahoma"/>
              </a:rPr>
              <a:t>1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,...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var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n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:=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ahoma"/>
              </a:rPr>
              <a:t>cexp</a:t>
            </a:r>
            <a:r>
              <a:rPr b="1" lang="ru-RU" sz="3200" spc="-1" strike="noStrike" u="sng" baseline="-25000">
                <a:solidFill>
                  <a:srgbClr val="000000"/>
                </a:solidFill>
                <a:uFillTx/>
                <a:latin typeface="Tahoma"/>
              </a:rPr>
              <a:t>n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]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Tahoma"/>
              </a:rPr>
              <a:t>2.3 Неравенства,</a:t>
            </a:r>
            <a:br>
              <a:rPr sz="4000"/>
            </a:br>
            <a:r>
              <a:rPr b="1" lang="en-US" sz="4000" spc="-1" strike="noStrike">
                <a:solidFill>
                  <a:srgbClr val="800000"/>
                </a:solidFill>
                <a:latin typeface="Tahoma"/>
              </a:rPr>
              <a:t>рестрикции с-переменных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5680" y="1599840"/>
            <a:ext cx="8774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ahoma"/>
              </a:rPr>
              <a:t>restr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::= INCONSISTENT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  | RESTR [</a:t>
            </a:r>
            <a:r>
              <a:rPr b="1" i="1" lang="ru-RU" sz="3200" spc="-1" strike="noStrike">
                <a:solidFill>
                  <a:srgbClr val="000000"/>
                </a:solidFill>
                <a:latin typeface="Tahoma"/>
              </a:rPr>
              <a:t>ineq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,... </a:t>
            </a:r>
            <a:r>
              <a:rPr b="1" i="1" lang="ru-RU" sz="3200" spc="-1" strike="noStrike">
                <a:solidFill>
                  <a:srgbClr val="000000"/>
                </a:solidFill>
                <a:latin typeface="Tahoma"/>
              </a:rPr>
              <a:t>ineq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] — </a:t>
            </a: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0≤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ahoma"/>
              </a:rPr>
              <a:t>ineq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::= </a:t>
            </a:r>
            <a:r>
              <a:rPr b="1" i="1" lang="ru-RU" sz="3200" spc="-1" strike="noStrike">
                <a:solidFill>
                  <a:srgbClr val="000000"/>
                </a:solidFill>
                <a:latin typeface="Tahoma"/>
              </a:rPr>
              <a:t>ca-expr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 :≠: </a:t>
            </a:r>
            <a:r>
              <a:rPr b="1" i="1" lang="ru-RU" sz="3200" spc="-1" strike="noStrike">
                <a:solidFill>
                  <a:srgbClr val="000000"/>
                </a:solidFill>
                <a:latin typeface="Tahoma"/>
              </a:rPr>
              <a:t>ca-exp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се виды неравенств: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ru-RU" sz="3200" spc="-1" strike="noStrike">
                <a:solidFill>
                  <a:srgbClr val="cc0000"/>
                </a:solidFill>
                <a:latin typeface="Tahoma"/>
              </a:rPr>
              <a:t>А.1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:≠: ’А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cc0000"/>
                </a:solidFill>
                <a:latin typeface="Tahoma"/>
              </a:rPr>
              <a:t>А.1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:≠: </a:t>
            </a:r>
            <a:r>
              <a:rPr b="1" lang="ru-RU" sz="3200" spc="-1" strike="noStrike">
                <a:solidFill>
                  <a:srgbClr val="cc0000"/>
                </a:solidFill>
                <a:latin typeface="Tahoma"/>
              </a:rPr>
              <a:t>А.2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cc0000"/>
                </a:solidFill>
                <a:latin typeface="Tahoma"/>
              </a:rPr>
              <a:t>А.1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:≠: </a:t>
            </a:r>
            <a:r>
              <a:rPr b="1" lang="ru-RU" sz="3200" spc="-1" strike="noStrike">
                <a:solidFill>
                  <a:srgbClr val="cc0000"/>
                </a:solidFill>
                <a:latin typeface="Tahoma"/>
              </a:rPr>
              <a:t>А.1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’А :≠: ’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:≠: </a:t>
            </a:r>
            <a:r>
              <a:rPr b="1" lang="ru-RU" sz="3200" spc="-1" strike="noStrike">
                <a:solidFill>
                  <a:srgbClr val="cc0000"/>
                </a:solidFill>
                <a:latin typeface="Tahoma"/>
              </a:rPr>
              <a:t>А.1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’А :≠: ’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Частные случаи неравенств: противоречие, тавтолог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тметить противоречия и тавтологи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 flipH="1" rot="5400000">
            <a:off x="7097400" y="4406400"/>
            <a:ext cx="2349720" cy="1743120"/>
          </a:xfrm>
          <a:custGeom>
            <a:avLst/>
            <a:gdLst>
              <a:gd name="textAreaLeft" fmla="*/ -360 w 2349720"/>
              <a:gd name="textAreaRight" fmla="*/ 2349720 w 2349720"/>
              <a:gd name="textAreaTop" fmla="*/ 0 h 1743120"/>
              <a:gd name="textAreaBottom" fmla="*/ 1743480 h 174312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717885"/>
                <a:lnTo>
                  <a:pt x="3" y="10542"/>
                </a:lnTo>
                <a:arcTo wR="10800" hR="10800" stAng="-10717885" swAng="10717885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ffb9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Tahoma"/>
              </a:rPr>
              <a:t>2.3 Неравенства,</a:t>
            </a:r>
            <a:br>
              <a:rPr sz="4000"/>
            </a:br>
            <a:r>
              <a:rPr b="1" lang="en-US" sz="4000" spc="-1" strike="noStrike">
                <a:solidFill>
                  <a:srgbClr val="800000"/>
                </a:solidFill>
                <a:latin typeface="Tahoma"/>
              </a:rPr>
              <a:t>рестрикции с-переменных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isContradiction, isTautology :: InEq -&gt; Bo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isContradiction (left :=/=: right) = (left == righ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isTautology (ATOM a :=/=: ATOM b)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= (a /= b)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isTautology (left :=/=: right)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= Fa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еравенство — неупорядоченная пара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instance Eq InEq where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(l1:=/=:r1) == (l2:=/=:r2)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| (l1==l2) &amp;&amp; (r1==r2)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= True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| (l1==r2) &amp;&amp; (r1==l2)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= True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| otherwise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= Fa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Tahoma"/>
              </a:rPr>
              <a:t>2.3 Неравенства,</a:t>
            </a:r>
            <a:br>
              <a:rPr sz="4000"/>
            </a:br>
            <a:r>
              <a:rPr b="1" lang="en-US" sz="4000" spc="-1" strike="noStrike">
                <a:solidFill>
                  <a:srgbClr val="800000"/>
                </a:solidFill>
                <a:latin typeface="Tahoma"/>
              </a:rPr>
              <a:t>рестрикции с-переменных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cleanRestr :: Restr -&gt; Restr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cleanRestr INCONSISTENT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= INCONSISTENT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cleanRestr (RESTR ineqs)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= INCONSISTENT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if any isContradiction ineqs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cleanRestr (RESTR ineqs)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=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RESTR (nub(filter (not.isTautology) ineqs)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ahoma"/>
              </a:rPr>
              <a:t>Gofer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иалект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skell-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я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Tahoma"/>
              </a:rPr>
              <a:t>2.3 Неравенства,</a:t>
            </a:r>
            <a:br>
              <a:rPr sz="4000"/>
            </a:br>
            <a:r>
              <a:rPr b="1" lang="en-US" sz="4000" spc="-1" strike="noStrike">
                <a:solidFill>
                  <a:srgbClr val="800000"/>
                </a:solidFill>
                <a:latin typeface="Tahoma"/>
              </a:rPr>
              <a:t>рестрикции с-переменных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cleanRestr :: Restr -&gt; Restr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cleanRestr INCONSISTENT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= INCONSISTENT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cleanRestr (RESTR ineqs)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|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any isContradiction ineqs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= INCONSISTENT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| otherwise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=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RESTR (nub(filter (not.isTautology) ineqs)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stance UPDATE Restr where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INCONSISTENT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+.    _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=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INCONSISTENT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_    +.   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INCONSISTENT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=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INCONSISTENT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(RESTR r1) +. (RESTR r2)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=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cleanRestr (RESTR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r1 ++ r2)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Tahoma"/>
              </a:rPr>
              <a:t>2.4 C-конструкции</a:t>
            </a: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-360" y="1527120"/>
            <a:ext cx="3311640" cy="53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at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cv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(CONS ce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ce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[ce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,... ce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pvar:=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[cbind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,... cbind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(term, cenv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ce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1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:≠: ce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[ineq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,... ineq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RESTR ineq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INCONSIS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(cx, r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7062840" y="420840"/>
            <a:ext cx="1906560" cy="8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SR-ба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c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3559320" y="1527120"/>
            <a:ext cx="4652640" cy="5167440"/>
            <a:chOff x="3559320" y="1527120"/>
            <a:chExt cx="4652640" cy="5167440"/>
          </a:xfrm>
        </p:grpSpPr>
        <p:sp>
          <p:nvSpPr>
            <p:cNvPr id="142" name=""/>
            <p:cNvSpPr/>
            <p:nvPr/>
          </p:nvSpPr>
          <p:spPr>
            <a:xfrm>
              <a:off x="3559320" y="1527120"/>
              <a:ext cx="4652640" cy="404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c-выражение </a:t>
              </a:r>
              <a:r>
                <a:rPr b="1" lang="ru-RU" sz="2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c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список c-выражений </a:t>
              </a:r>
              <a:r>
                <a:rPr b="1" lang="ru-RU" sz="2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c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c-связь </a:t>
              </a:r>
              <a:r>
                <a:rPr b="1" lang="ru-RU" sz="2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cbind</a:t>
              </a:r>
              <a:r>
                <a:rPr b="0" lang="ru-RU" sz="2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c-среда </a:t>
              </a:r>
              <a:r>
                <a:rPr b="1" lang="ru-RU" sz="2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cenv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c-состояние </a:t>
              </a:r>
              <a:r>
                <a:rPr b="1" lang="ru-RU" sz="2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cst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неравенство </a:t>
              </a:r>
              <a:r>
                <a:rPr b="1" lang="ru-RU" sz="2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ineq</a:t>
              </a:r>
              <a:r>
                <a:rPr b="0" lang="ru-RU" sz="2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список неравенств </a:t>
              </a:r>
              <a:r>
                <a:rPr b="1" lang="ru-RU" sz="2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ineq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82720" y="5456160"/>
              <a:ext cx="267480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рестрикция </a:t>
              </a:r>
              <a:r>
                <a:rPr b="1" lang="ru-RU" sz="2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r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581280" y="6153120"/>
              <a:ext cx="298080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SR-выражени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7677000" y="1467000"/>
            <a:ext cx="290520" cy="3017520"/>
          </a:xfrm>
          <a:custGeom>
            <a:avLst/>
            <a:gdLst>
              <a:gd name="textAreaLeft" fmla="*/ 0 w 290520"/>
              <a:gd name="textAreaRight" fmla="*/ 104760 w 290520"/>
              <a:gd name="textAreaTop" fmla="*/ 78480 h 3017520"/>
              <a:gd name="textAreaBottom" fmla="*/ 2939040 h 3017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0" y="4533840"/>
            <a:ext cx="8156520" cy="1440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0" y="6224400"/>
            <a:ext cx="8156520" cy="1404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"/>
          <p:cNvCxnSpPr>
            <a:endCxn id="145" idx="1"/>
          </p:cNvCxnSpPr>
          <p:nvPr/>
        </p:nvCxnSpPr>
        <p:spPr>
          <a:xfrm rot="5400000">
            <a:off x="7383240" y="1645200"/>
            <a:ext cx="1929600" cy="734040"/>
          </a:xfrm>
          <a:prstGeom prst="bentConnector2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grpSp>
        <p:nvGrpSpPr>
          <p:cNvPr id="149" name=""/>
          <p:cNvGrpSpPr/>
          <p:nvPr/>
        </p:nvGrpSpPr>
        <p:grpSpPr>
          <a:xfrm>
            <a:off x="3295800" y="1611360"/>
            <a:ext cx="318960" cy="4840200"/>
            <a:chOff x="3295800" y="1611360"/>
            <a:chExt cx="318960" cy="4840200"/>
          </a:xfrm>
        </p:grpSpPr>
        <p:sp>
          <p:nvSpPr>
            <p:cNvPr id="150" name=""/>
            <p:cNvSpPr/>
            <p:nvPr/>
          </p:nvSpPr>
          <p:spPr>
            <a:xfrm>
              <a:off x="3295800" y="1611360"/>
              <a:ext cx="318960" cy="1131840"/>
            </a:xfrm>
            <a:custGeom>
              <a:avLst/>
              <a:gdLst>
                <a:gd name="textAreaLeft" fmla="*/ 0 w 318960"/>
                <a:gd name="textAreaRight" fmla="*/ 115200 w 318960"/>
                <a:gd name="textAreaTop" fmla="*/ 29520 h 1131840"/>
                <a:gd name="textAreaBottom" fmla="*/ 1102320 h 1131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295800" y="5429160"/>
              <a:ext cx="276120" cy="696960"/>
            </a:xfrm>
            <a:custGeom>
              <a:avLst/>
              <a:gdLst>
                <a:gd name="textAreaLeft" fmla="*/ 0 w 276120"/>
                <a:gd name="textAreaRight" fmla="*/ 99720 w 276120"/>
                <a:gd name="textAreaTop" fmla="*/ 18000 h 696960"/>
                <a:gd name="textAreaBottom" fmla="*/ 678960 h 696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295800" y="3048120"/>
              <a:ext cx="3045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295800" y="3429000"/>
              <a:ext cx="3045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295800" y="3892680"/>
              <a:ext cx="3045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295800" y="4317840"/>
              <a:ext cx="3045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295800" y="4737240"/>
              <a:ext cx="3045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295800" y="5181480"/>
              <a:ext cx="3045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295800" y="6451560"/>
              <a:ext cx="3045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Tahoma"/>
              </a:rPr>
              <a:t>2.5 cvars</a:t>
            </a: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ля любой c-конструкции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cx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список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c-переменных, входящих в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cx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мы будем обозначать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cvars c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епосредственно из определения   синтаксиса SR-баз следует, что если в SR-базе нет ни одной c-переменной, то она является соответствующим объектом языка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TS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Tahoma"/>
              </a:rPr>
              <a:t>2.5 cvars</a:t>
            </a: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28680" y="1599840"/>
            <a:ext cx="8732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class CVARS a where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cvars :: a -&gt; [CExp]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instance CVARS CExp where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cvars (ATOM _ )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= [ ]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cvars cvar@(CVA _)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= [cvar]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cvars cvar@(CVE _)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= [cvar]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cvars (CONS h t)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=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nub ((cvars h)++(cvars t))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instance CVARS CBind where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cvars (pvar := cx) = cvars 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-3240" y="557280"/>
            <a:ext cx="9190080" cy="6287760"/>
            <a:chOff x="-3240" y="557280"/>
            <a:chExt cx="9190080" cy="6287760"/>
          </a:xfrm>
        </p:grpSpPr>
        <p:pic>
          <p:nvPicPr>
            <p:cNvPr id="89" name="" descr=""/>
            <p:cNvPicPr/>
            <p:nvPr/>
          </p:nvPicPr>
          <p:blipFill>
            <a:blip r:embed="rId1"/>
            <a:stretch/>
          </p:blipFill>
          <p:spPr>
            <a:xfrm>
              <a:off x="-3240" y="557280"/>
              <a:ext cx="9147240" cy="62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5000760" y="1693440"/>
              <a:ext cx="2771640" cy="7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Супер-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компиляция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cc3300"/>
                  </a:solidFill>
                  <a:latin typeface="Arial"/>
                </a:rPr>
                <a:t>sc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894360" y="2774520"/>
              <a:ext cx="202104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Специализация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программ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80120" y="1834920"/>
              <a:ext cx="2089440" cy="7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Приложения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суперкомпиляции,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в том числе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209760" y="1145880"/>
              <a:ext cx="2772000" cy="10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Базовые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понятия и методы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метавычислений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cc3300"/>
                  </a:solidFill>
                  <a:latin typeface="Arial"/>
                </a:rPr>
                <a:t>int, SR, ptr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189320" y="3051000"/>
              <a:ext cx="2772000" cy="7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Инверсное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вычисление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cc3300"/>
                  </a:solidFill>
                  <a:latin typeface="Arial"/>
                </a:rPr>
                <a:t>ura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227320" y="3065040"/>
              <a:ext cx="2771640" cy="7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Окрестностный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анализ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cc3300"/>
                  </a:solidFill>
                  <a:latin typeface="Arial"/>
                </a:rPr>
                <a:t>na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262640" y="1077480"/>
              <a:ext cx="192420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6600"/>
                  </a:solidFill>
                  <a:latin typeface="Arial"/>
                </a:rPr>
                <a:t>Приложения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6600"/>
                  </a:solidFill>
                  <a:latin typeface="Arial"/>
                </a:rPr>
                <a:t>метавычислений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173320" y="1707840"/>
              <a:ext cx="128412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Иные методы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2440" y="2252520"/>
              <a:ext cx="148896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Иные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приложения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42800" y="6522840"/>
              <a:ext cx="803916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cc3300"/>
                  </a:solidFill>
                  <a:latin typeface="Arial"/>
                </a:rPr>
                <a:t>[2] Л.В.Парменова  «Метавычисления и их применения. Суперкомпиляция»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938240" y="6233760"/>
              <a:ext cx="55562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cc3300"/>
                  </a:solidFill>
                  <a:latin typeface="Arial"/>
                </a:rPr>
                <a:t>[1] С.М.Абрамов «Метавычисления и их применения»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69800" y="711000"/>
              <a:ext cx="277200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cc3300"/>
                  </a:solidFill>
                  <a:latin typeface="Arial"/>
                </a:rPr>
                <a:t>Область возможных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cc3300"/>
                  </a:solidFill>
                  <a:latin typeface="Arial"/>
                </a:rPr>
                <a:t>новых исследований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673280" y="4481280"/>
              <a:ext cx="277164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Окрестностное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тестирование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265560" y="5133600"/>
              <a:ext cx="2771640" cy="7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Реализация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нестандартных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семантик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280120" y="4322520"/>
              <a:ext cx="1844640" cy="7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Инверсное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программиро-вание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497560" y="1077480"/>
              <a:ext cx="185580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6600"/>
                  </a:solidFill>
                  <a:latin typeface="Arial"/>
                </a:rPr>
                <a:t>Методы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6600"/>
                  </a:solidFill>
                  <a:latin typeface="Arial"/>
                </a:rPr>
                <a:t>метавычислений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671400" y="-82440"/>
            <a:ext cx="776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Структура кур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127400" y="2111400"/>
            <a:ext cx="887400" cy="2962080"/>
          </a:xfrm>
          <a:prstGeom prst="upArrow">
            <a:avLst>
              <a:gd name="adj1" fmla="val 50000"/>
              <a:gd name="adj2" fmla="val 83448"/>
            </a:avLst>
          </a:prstGeom>
          <a:solidFill>
            <a:srgbClr val="ff000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Tahoma"/>
              </a:rPr>
              <a:t>2.5 cvars</a:t>
            </a: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99960" y="1599840"/>
            <a:ext cx="86169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instance CVARS InEq where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cvars (ax :=/=: bx) =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nub ((cvars ax)++(cvars bx)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instance CVARS Restr where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cvars INCONSISTENT = []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cvars (RESTR ineqs) = cvars ineqs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instance (CVARS a, CVARS b) =&gt; CVARS (a, b) where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cvars (ax, bx) = nub ((cvars ax)++(cvars bx))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instance CVARS c =&gt; CVARS [c] where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cvars cxs = nub (concat (map (cvars) cxs)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Tahoma"/>
              </a:rPr>
              <a:t>2.6. Подстановки</a:t>
            </a: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одстановки и представление множеств в математике.  </a:t>
            </a:r>
            <a:r>
              <a:rPr b="1" lang="en-US" sz="2800" spc="-1" strike="noStrike">
                <a:solidFill>
                  <a:srgbClr val="800000"/>
                </a:solidFill>
                <a:latin typeface="Tahoma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{ 2n+1 | n≥1 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одстановка, как средство построения сужений и разбиений множества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= { 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→ 2k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}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= { 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→ 2k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+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ahoma"/>
              </a:rPr>
              <a:t>C</a:t>
            </a:r>
            <a:r>
              <a:rPr b="1" lang="ru-RU" sz="2800" spc="-1" strike="noStrike" baseline="-25000">
                <a:solidFill>
                  <a:srgbClr val="800000"/>
                </a:solidFill>
                <a:latin typeface="Tahoma"/>
              </a:rPr>
              <a:t>1</a:t>
            </a:r>
            <a:r>
              <a:rPr b="1" lang="en-US" sz="2800" spc="-1" strike="noStrike">
                <a:solidFill>
                  <a:srgbClr val="8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800000"/>
                </a:solidFill>
                <a:latin typeface="Tahoma"/>
              </a:rPr>
              <a:t>C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. 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=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{ 4k+1 | k≥1 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ahoma"/>
              </a:rPr>
              <a:t>C</a:t>
            </a:r>
            <a:r>
              <a:rPr b="1" lang="en-US" sz="2800" spc="-1" strike="noStrike" baseline="-25000">
                <a:solidFill>
                  <a:srgbClr val="800000"/>
                </a:solidFill>
                <a:latin typeface="Tahoma"/>
              </a:rPr>
              <a:t>2</a:t>
            </a:r>
            <a:r>
              <a:rPr b="1" lang="en-US" sz="2800" spc="-1" strike="noStrike">
                <a:solidFill>
                  <a:srgbClr val="8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800000"/>
                </a:solidFill>
                <a:latin typeface="Tahoma"/>
              </a:rPr>
              <a:t>C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. 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=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{ 4k+3 | k≥0 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одстановка, как средство получения элемента множества: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= { 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→ 2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2n+1) /. 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 5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— элемент множеств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[n≥1] /. 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 [2≥1]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—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тавтолог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Tahoma"/>
              </a:rPr>
              <a:t>2.6. Подстановки</a:t>
            </a: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subst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::= [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c-sbind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,... 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sbind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]        — </a:t>
            </a: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0≤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c-sbind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::= 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ca-var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:-&gt; 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ca-expr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  | 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ce-var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:-&gt; 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ce-exp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Дополнительно потребуем — все левые части различн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писок всех c-переменных, которым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subst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ставит в соответствие некоторое значение: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dom sub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dom :: Subst -&gt; [CExp]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dom subst = [ cvar | (cvar :-&gt; _ ) &lt;- subst ]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"/>
          <p:cNvSpPr/>
          <p:nvPr/>
        </p:nvSpPr>
        <p:spPr>
          <a:xfrm rot="5400000">
            <a:off x="1037160" y="4918680"/>
            <a:ext cx="887400" cy="2962440"/>
          </a:xfrm>
          <a:prstGeom prst="upArrow">
            <a:avLst>
              <a:gd name="adj1" fmla="val 50000"/>
              <a:gd name="adj2" fmla="val 83458"/>
            </a:avLst>
          </a:prstGeom>
          <a:solidFill>
            <a:srgbClr val="ff000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Tahoma"/>
              </a:rPr>
              <a:t>2.7.Применение подстановки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instance APPLY CExp Subst where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(ATOM a) /.s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= ATOM a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(CONS h t)/.s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= CONS (h/.s) (t/.s)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cvar /.s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= cvar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if cvar ‘notElem‘ dom s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cvar /.s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= head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[ cexp | (cv:-&gt;cexp)&lt;-s, cv==cvar]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То есть, подстановка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применении к выражению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тавляет неизменными атомы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структоры и переменные, которые не входят в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dom 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еменные, входящие в (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dom 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, заменяются на их значения из подстановк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Tahoma"/>
              </a:rPr>
              <a:t>2.7. Применение подстановки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instance APPLY InEq Subst where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(l:=/=:r) /. subst =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       (l/.subst) :=/=: (r/.subst)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instance APPLY CBind Subst where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(pvar := cexpr) /. subst =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pvar := (cexpr/.subst)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instance APPLY a subst =&gt; APPLY [a] subst where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cxs /. subst = map (/.subst) cxs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Tahoma"/>
              </a:rPr>
              <a:t>2.7. Применение подстановки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950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instance (APPLY a subst, APPLY b subst) =&gt; APPLY (a,b) subst where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(ax,bx) /. subst =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( (ax/.subst) , (bx/.subst) 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instance APPLY Restr Subst where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INCONSISTENT /. subst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= INCONSISTENT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(RESTR ineqs)   /. subst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=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cleanRestr(RESTR(ineqs/.subst)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Tahoma"/>
              </a:rPr>
              <a:t>Пример 2</a:t>
            </a: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42800" y="1599840"/>
            <a:ext cx="857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eqs = [</a:t>
            </a:r>
            <a:r>
              <a:rPr b="1" lang="en-US" sz="2800" spc="-1" strike="noStrike">
                <a:solidFill>
                  <a:srgbClr val="cc0000"/>
                </a:solidFill>
                <a:latin typeface="Tahoma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.2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:≠:</a:t>
            </a:r>
            <a:r>
              <a:rPr b="1" lang="en-US" sz="2800" spc="-1" strike="noStrike">
                <a:solidFill>
                  <a:srgbClr val="cc0000"/>
                </a:solidFill>
                <a:latin typeface="Tahoma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.1, </a:t>
            </a:r>
            <a:r>
              <a:rPr b="1" lang="en-US" sz="2800" spc="-1" strike="noStrike">
                <a:solidFill>
                  <a:srgbClr val="cc0000"/>
                </a:solidFill>
                <a:latin typeface="Tahoma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.2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:≠: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'C, </a:t>
            </a:r>
            <a:r>
              <a:rPr b="1" lang="en-US" sz="2800" spc="-1" strike="noStrike">
                <a:solidFill>
                  <a:srgbClr val="cc0000"/>
                </a:solidFill>
                <a:latin typeface="Tahoma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.3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:≠: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'A]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s = RESTR ineq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= [</a:t>
            </a:r>
            <a:r>
              <a:rPr b="1" lang="en-US" sz="2800" spc="-1" strike="noStrike">
                <a:solidFill>
                  <a:srgbClr val="cc0000"/>
                </a:solidFill>
                <a:latin typeface="Tahoma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.1:-&gt;'A, </a:t>
            </a:r>
            <a:r>
              <a:rPr b="1" lang="en-US" sz="2800" spc="-1" strike="noStrike">
                <a:solidFill>
                  <a:srgbClr val="cc0000"/>
                </a:solidFill>
                <a:latin typeface="Tahoma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.2:-&gt;</a:t>
            </a:r>
            <a:r>
              <a:rPr b="1" lang="en-US" sz="2800" spc="-1" strike="noStrike">
                <a:solidFill>
                  <a:srgbClr val="cc0000"/>
                </a:solidFill>
                <a:latin typeface="Tahoma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.3]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= [</a:t>
            </a:r>
            <a:r>
              <a:rPr b="1" lang="en-US" sz="2800" spc="-1" strike="noStrike">
                <a:solidFill>
                  <a:srgbClr val="cc0000"/>
                </a:solidFill>
                <a:latin typeface="Tahoma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.1:-&gt;'B, </a:t>
            </a:r>
            <a:r>
              <a:rPr b="1" lang="en-US" sz="2800" spc="-1" strike="noStrike">
                <a:solidFill>
                  <a:srgbClr val="cc0000"/>
                </a:solidFill>
                <a:latin typeface="Tahoma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.3:-&gt; 'B]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= [</a:t>
            </a:r>
            <a:r>
              <a:rPr b="1" lang="en-US" sz="2800" spc="-1" strike="noStrike">
                <a:solidFill>
                  <a:srgbClr val="cc0000"/>
                </a:solidFill>
                <a:latin typeface="Tahoma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.2:-&gt;</a:t>
            </a:r>
            <a:r>
              <a:rPr b="1" lang="en-US" sz="2800" spc="-1" strike="noStrike">
                <a:solidFill>
                  <a:srgbClr val="cc0000"/>
                </a:solidFill>
                <a:latin typeface="Tahoma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.1, </a:t>
            </a:r>
            <a:r>
              <a:rPr b="1" lang="en-US" sz="2800" spc="-1" strike="noStrike">
                <a:solidFill>
                  <a:srgbClr val="cc0000"/>
                </a:solidFill>
                <a:latin typeface="Tahoma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.3:-&gt;'A]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ahoma"/>
              </a:rPr>
              <a:t>Работа в классе:</a:t>
            </a:r>
            <a:r>
              <a:rPr b="1" lang="ru-RU" sz="2800" spc="-1" strike="noStrike">
                <a:solidFill>
                  <a:srgbClr val="8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eq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/.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.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и т.д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eq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/.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= [</a:t>
            </a:r>
            <a:r>
              <a:rPr b="1" lang="en-US" sz="2800" spc="-1" strike="noStrike">
                <a:solidFill>
                  <a:srgbClr val="cc0000"/>
                </a:solidFill>
                <a:latin typeface="Tahoma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.3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:≠: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'A, </a:t>
            </a:r>
            <a:r>
              <a:rPr b="1" lang="en-US" sz="2800" spc="-1" strike="noStrike">
                <a:solidFill>
                  <a:srgbClr val="cc0000"/>
                </a:solidFill>
                <a:latin typeface="Tahoma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.3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:≠: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'C, </a:t>
            </a:r>
            <a:r>
              <a:rPr b="1" lang="en-US" sz="2800" spc="-1" strike="noStrike">
                <a:solidFill>
                  <a:srgbClr val="cc0000"/>
                </a:solidFill>
                <a:latin typeface="Tahoma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.3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:≠: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'A]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.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= RESTR [</a:t>
            </a:r>
            <a:r>
              <a:rPr b="1" lang="en-US" sz="2800" spc="-1" strike="noStrike">
                <a:solidFill>
                  <a:srgbClr val="cc0000"/>
                </a:solidFill>
                <a:latin typeface="Tahoma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.3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:≠: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'A, </a:t>
            </a:r>
            <a:r>
              <a:rPr b="1" lang="en-US" sz="2800" spc="-1" strike="noStrike">
                <a:solidFill>
                  <a:srgbClr val="cc0000"/>
                </a:solidFill>
                <a:latin typeface="Tahoma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.3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:≠: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'C]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eq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/.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= [</a:t>
            </a:r>
            <a:r>
              <a:rPr b="1" lang="en-US" sz="2800" spc="-1" strike="noStrike">
                <a:solidFill>
                  <a:srgbClr val="cc0000"/>
                </a:solidFill>
                <a:latin typeface="Tahoma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.2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:≠: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'B, </a:t>
            </a:r>
            <a:r>
              <a:rPr b="1" lang="en-US" sz="2800" spc="-1" strike="noStrike">
                <a:solidFill>
                  <a:srgbClr val="cc0000"/>
                </a:solidFill>
                <a:latin typeface="Tahoma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.2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:≠: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'C, 'B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:≠: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'A]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.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= RESTR[</a:t>
            </a:r>
            <a:r>
              <a:rPr b="1" lang="en-US" sz="2800" spc="-1" strike="noStrike">
                <a:solidFill>
                  <a:srgbClr val="cc0000"/>
                </a:solidFill>
                <a:latin typeface="Tahoma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.2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:≠: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'B, </a:t>
            </a:r>
            <a:r>
              <a:rPr b="1" lang="en-US" sz="2800" spc="-1" strike="noStrike">
                <a:solidFill>
                  <a:srgbClr val="cc0000"/>
                </a:solidFill>
                <a:latin typeface="Tahoma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.2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:≠: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'C]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eq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/.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= [</a:t>
            </a:r>
            <a:r>
              <a:rPr b="1" lang="en-US" sz="2800" spc="-1" strike="noStrike">
                <a:solidFill>
                  <a:srgbClr val="cc0000"/>
                </a:solidFill>
                <a:latin typeface="Tahoma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.1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:≠:</a:t>
            </a:r>
            <a:r>
              <a:rPr b="1" lang="en-US" sz="2800" spc="-1" strike="noStrike">
                <a:solidFill>
                  <a:srgbClr val="cc0000"/>
                </a:solidFill>
                <a:latin typeface="Tahoma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.1, </a:t>
            </a:r>
            <a:r>
              <a:rPr b="1" lang="en-US" sz="2800" spc="-1" strike="noStrike">
                <a:solidFill>
                  <a:srgbClr val="cc0000"/>
                </a:solidFill>
                <a:latin typeface="Tahoma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.1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:≠: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'C, 'A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:≠: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'A]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.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= INCONSIS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Tahoma"/>
              </a:rPr>
              <a:t>2.8. Свойства подстановок</a:t>
            </a: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одстановка сохраняет «a-» и «e-» тип с-выражен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одстановка сохраняет вид c-конструкции (ca-выражение, ce-выражение, список c-выражений длины n, c-связь, c-среда, c-состояние, неравенство, противоречие, тавтология, список неравенств длины n, рестрикция, SR-выражение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Tahoma"/>
              </a:rPr>
              <a:t>2.8. Свойства подстановок</a:t>
            </a: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Жесткий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стный конструктор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(C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…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) == (C y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… y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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ar-SA" sz="3200" spc="-1" strike="noStrike">
                <a:solidFill>
                  <a:srgbClr val="000000"/>
                </a:solidFill>
                <a:latin typeface="Tahoma"/>
              </a:rPr>
              <a:t>۸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k=1..n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(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==y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 силу жесткости конструкторов, при помощи которых из атомов и c-переменных конструируются SR-базы, выполнено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Tahoma"/>
              </a:rPr>
              <a:t>2.8. Свойства подстановок</a:t>
            </a: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Утверждение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5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Если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cx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— SR-база;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— подстановки, то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cx/.s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1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== cx/.s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тогда и только тогда, когда для любой c-переменной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cv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из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cx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выполнено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cv/.s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==cv/.s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(cx/.s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==cx/.s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)</a:t>
            </a:r>
            <a:br>
              <a:rPr sz="3200"/>
            </a:br>
            <a:br>
              <a:rPr sz="3200"/>
            </a:br>
            <a:r>
              <a:rPr b="1" lang="ru-RU" sz="40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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1" lang="ar-SA" sz="4000" spc="-1" strike="noStrike">
                <a:solidFill>
                  <a:srgbClr val="000000"/>
                </a:solidFill>
                <a:latin typeface="Tahoma"/>
              </a:rPr>
              <a:t>۸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(cv/.s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==cv/.s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)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cv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cvars 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Tahoma"/>
              </a:rPr>
              <a:t>Представление множеств</a:t>
            </a: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10840" y="1599840"/>
            <a:ext cx="8396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роблема 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подбора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выбора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) способов представления множеств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Подход, традиционный для математик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{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2n + 1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|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n ≥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{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(5 cos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l-GR" sz="2800" spc="-1" strike="noStrike">
                <a:solidFill>
                  <a:srgbClr val="000000"/>
                </a:solidFill>
                <a:latin typeface="Tahoma"/>
              </a:rPr>
              <a:t>φ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, 5 sin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l-GR" sz="2800" spc="-1" strike="noStrike">
                <a:solidFill>
                  <a:srgbClr val="000000"/>
                </a:solidFill>
                <a:latin typeface="Tahoma"/>
              </a:rPr>
              <a:t>φ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|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0 ≤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l-GR" sz="2800" spc="-1" strike="noStrike">
                <a:solidFill>
                  <a:srgbClr val="000000"/>
                </a:solidFill>
                <a:latin typeface="Tahoma"/>
              </a:rPr>
              <a:t>φ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≤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l-GR" sz="2800" spc="-1" strike="noStrike">
                <a:solidFill>
                  <a:srgbClr val="000000"/>
                </a:solidFill>
                <a:latin typeface="Tahoma"/>
              </a:rPr>
              <a:t>π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/2 }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Для языка TS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((CONS </a:t>
            </a:r>
            <a:r>
              <a:rPr b="1" lang="ru-RU" sz="2800" spc="-1" strike="noStrike">
                <a:solidFill>
                  <a:srgbClr val="cc0000"/>
                </a:solidFill>
                <a:latin typeface="Tahoma"/>
              </a:rPr>
              <a:t>A.1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cc0000"/>
                </a:solidFill>
                <a:latin typeface="Tahoma"/>
              </a:rPr>
              <a:t>E.2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), RESTR[</a:t>
            </a:r>
            <a:r>
              <a:rPr b="1" lang="ru-RU" sz="2800" spc="-1" strike="noStrike">
                <a:solidFill>
                  <a:srgbClr val="cc0000"/>
                </a:solidFill>
                <a:latin typeface="Tahoma"/>
              </a:rPr>
              <a:t>A.1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/=: ’A]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((CONS </a:t>
            </a:r>
            <a:r>
              <a:rPr b="1" lang="ru-RU" sz="2800" spc="-1" strike="noStrike">
                <a:solidFill>
                  <a:srgbClr val="cc0000"/>
                </a:solidFill>
                <a:latin typeface="Tahoma"/>
              </a:rPr>
              <a:t>A.1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cc0000"/>
                </a:solidFill>
                <a:latin typeface="Tahoma"/>
              </a:rPr>
              <a:t>A.2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), RESTR[</a:t>
            </a:r>
            <a:r>
              <a:rPr b="1" lang="ru-RU" sz="2800" spc="-1" strike="noStrike">
                <a:solidFill>
                  <a:srgbClr val="cc0000"/>
                </a:solidFill>
                <a:latin typeface="Tahoma"/>
              </a:rPr>
              <a:t>A.1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:=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/=: </a:t>
            </a:r>
            <a:r>
              <a:rPr b="1" lang="ru-RU" sz="2800" spc="-1" strike="noStrike">
                <a:solidFill>
                  <a:srgbClr val="cc0000"/>
                </a:solidFill>
                <a:latin typeface="Tahoma"/>
              </a:rPr>
              <a:t>A.2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]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Tahoma"/>
              </a:rPr>
              <a:t>Доказательство</a:t>
            </a: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труктурная индукция: любая SR-база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cx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—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это либо атом, либо с-переменная, либо жесткий конструктор: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cx =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C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c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…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c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 Докажем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(cx/.s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==cx/.s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)</a:t>
            </a:r>
            <a:br>
              <a:rPr sz="3200"/>
            </a:br>
            <a:r>
              <a:rPr b="1" lang="ru-RU" sz="40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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1" lang="ar-SA" sz="4000" spc="-1" strike="noStrike">
                <a:solidFill>
                  <a:srgbClr val="000000"/>
                </a:solidFill>
                <a:latin typeface="Tahoma"/>
              </a:rPr>
              <a:t>۸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(cv/.s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==cv/.s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)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cv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cvars 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Если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cx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атом, то ... ч.т.д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Если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cx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-переменная, то ... ч.т.д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усть для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c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…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c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утверждение выполнено, докажем его для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cx =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C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c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…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c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Tahoma"/>
              </a:rPr>
              <a:t>Доказательство</a:t>
            </a: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-225360" y="1599840"/>
            <a:ext cx="936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1184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cx/.s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==cx/.s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1" lang="ru-RU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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1184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C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c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…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c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/.s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==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C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c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…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c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/.s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2 </a:t>
            </a:r>
            <a:r>
              <a:rPr b="1" lang="ru-RU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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1184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C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c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/.s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…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c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n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/.s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==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C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c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/.s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…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c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/.s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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1184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</a:rPr>
              <a:t>۸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k=1..n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c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/.s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==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c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/.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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1184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</a:rPr>
              <a:t>۸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k=1..n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1" lang="ar-SA" sz="2800" spc="-1" strike="noStrike">
                <a:solidFill>
                  <a:srgbClr val="000000"/>
                </a:solidFill>
                <a:latin typeface="Tahoma"/>
              </a:rPr>
              <a:t>۸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c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cvars c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_k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(cv/.s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==cv/.s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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1184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</a:rPr>
              <a:t>۸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c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(cvars c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_1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)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++…++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(cvars c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_n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(cv/.s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==cv/.s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1" lang="ru-RU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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1184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</a:rPr>
              <a:t>۸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c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nub(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(cvars cx_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)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++…++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(cvars c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_n)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)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(cv/.s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==cv/.s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1" lang="ru-RU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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1184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</a:rPr>
              <a:t>۸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c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cvar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 (C 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c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_1 … 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c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_n)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(cv/.s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==cv/.s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1" lang="ru-RU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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1184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</a:rPr>
              <a:t>۸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c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cvar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cx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(cv/.s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==cv/.s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1184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чтд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Tahoma"/>
              </a:rPr>
              <a:t>2.9. Отождествление </a:t>
            </a:r>
            <a:br>
              <a:rPr sz="4000"/>
            </a:br>
            <a:r>
              <a:rPr b="1" lang="en-US" sz="4000" spc="-1" strike="noStrike">
                <a:solidFill>
                  <a:srgbClr val="800000"/>
                </a:solidFill>
                <a:latin typeface="Tahoma"/>
              </a:rPr>
              <a:t>c-выражений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2520" indent="-45252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Aлгоритм отождествления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unify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по двум спискам c-выражений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ces1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и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ces2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строит следующий результат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2520" indent="-45252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(False, [])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—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если не существует подстановки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такой, что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ces1/.s=ces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2520" indent="-45252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(True, s)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— если существует такая подстановка. При этом,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— подстановка, такая, что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ces1/.s=ces2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и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dom s = cvars ces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Tahoma"/>
              </a:rPr>
              <a:t>Идея алгоритма</a:t>
            </a: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Уравнение 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h)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 решение уравнения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e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`unify` ce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ahoma"/>
              </a:rPr>
              <a:t>Доброволец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1" lang="en-US" sz="2800" spc="-1" strike="noStrike">
                <a:solidFill>
                  <a:srgbClr val="cc0000"/>
                </a:solidFill>
                <a:latin typeface="Tahoma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.1, (CONS </a:t>
            </a:r>
            <a:r>
              <a:rPr b="1" lang="en-US" sz="2800" spc="-1" strike="noStrike">
                <a:solidFill>
                  <a:srgbClr val="cc0000"/>
                </a:solidFill>
                <a:latin typeface="Tahoma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.2 'A), </a:t>
            </a:r>
            <a:r>
              <a:rPr b="1" lang="en-US" sz="2800" spc="-1" strike="noStrike">
                <a:solidFill>
                  <a:srgbClr val="cc0000"/>
                </a:solidFill>
                <a:latin typeface="Tahoma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.3, </a:t>
            </a:r>
            <a:r>
              <a:rPr b="1" lang="en-US" sz="2800" spc="-1" strike="noStrike">
                <a:solidFill>
                  <a:srgbClr val="cc0000"/>
                </a:solidFill>
                <a:latin typeface="Tahoma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.2] `unify`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['B, (CONS </a:t>
            </a:r>
            <a:r>
              <a:rPr b="1" lang="en-US" sz="2800" spc="-1" strike="noStrike">
                <a:solidFill>
                  <a:srgbClr val="cc0000"/>
                </a:solidFill>
                <a:latin typeface="Tahoma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.4 'A), (CONS 'A 'C)]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1" lang="en-US" sz="2800" spc="-1" strike="noStrike">
                <a:solidFill>
                  <a:srgbClr val="cc0000"/>
                </a:solidFill>
                <a:latin typeface="Tahoma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.1, (CONS </a:t>
            </a:r>
            <a:r>
              <a:rPr b="1" lang="en-US" sz="2800" spc="-1" strike="noStrike">
                <a:solidFill>
                  <a:srgbClr val="cc0000"/>
                </a:solidFill>
                <a:latin typeface="Tahoma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.2 'A), </a:t>
            </a:r>
            <a:r>
              <a:rPr b="1" lang="en-US" sz="2800" spc="-1" strike="noStrike">
                <a:solidFill>
                  <a:srgbClr val="cc0000"/>
                </a:solidFill>
                <a:latin typeface="Tahoma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.3, </a:t>
            </a:r>
            <a:r>
              <a:rPr b="1" lang="en-US" sz="2800" spc="-1" strike="noStrike">
                <a:solidFill>
                  <a:srgbClr val="cc0000"/>
                </a:solidFill>
                <a:latin typeface="Tahoma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.2] `unify`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['B, (CONS </a:t>
            </a:r>
            <a:r>
              <a:rPr b="1" lang="en-US" sz="2800" spc="-1" strike="noStrike">
                <a:solidFill>
                  <a:srgbClr val="cc0000"/>
                </a:solidFill>
                <a:latin typeface="Tahoma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.4 'A), (CONS 'A 'C), </a:t>
            </a:r>
            <a:r>
              <a:rPr b="1" lang="en-US" sz="2800" spc="-1" strike="noStrike">
                <a:solidFill>
                  <a:srgbClr val="cc0000"/>
                </a:solidFill>
                <a:latin typeface="Tahoma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.4]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1" lang="en-US" sz="2800" spc="-1" strike="noStrike">
                <a:solidFill>
                  <a:srgbClr val="cc0000"/>
                </a:solidFill>
                <a:latin typeface="Tahoma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.1, (CONS </a:t>
            </a:r>
            <a:r>
              <a:rPr b="1" lang="en-US" sz="2800" spc="-1" strike="noStrike">
                <a:solidFill>
                  <a:srgbClr val="cc0000"/>
                </a:solidFill>
                <a:latin typeface="Tahoma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.2 'A), </a:t>
            </a:r>
            <a:r>
              <a:rPr b="1" lang="en-US" sz="2800" spc="-1" strike="noStrike">
                <a:solidFill>
                  <a:srgbClr val="cc0000"/>
                </a:solidFill>
                <a:latin typeface="Tahoma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.3, </a:t>
            </a:r>
            <a:r>
              <a:rPr b="1" lang="en-US" sz="2800" spc="-1" strike="noStrike">
                <a:solidFill>
                  <a:srgbClr val="cc0000"/>
                </a:solidFill>
                <a:latin typeface="Tahoma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.2] `unify`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['B, </a:t>
            </a:r>
            <a:r>
              <a:rPr b="1" lang="en-US" sz="2800" spc="-1" strike="noStrike">
                <a:solidFill>
                  <a:srgbClr val="cc0000"/>
                </a:solidFill>
                <a:latin typeface="Tahoma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.4, (CONS 'A 'C), </a:t>
            </a:r>
            <a:r>
              <a:rPr b="1" lang="en-US" sz="2800" spc="-1" strike="noStrike">
                <a:solidFill>
                  <a:srgbClr val="cc0000"/>
                </a:solidFill>
                <a:latin typeface="Tahoma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.4]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1" lang="en-US" sz="2800" spc="-1" strike="noStrike">
                <a:solidFill>
                  <a:srgbClr val="cc0000"/>
                </a:solidFill>
                <a:latin typeface="Tahoma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.1, (CONS </a:t>
            </a:r>
            <a:r>
              <a:rPr b="1" lang="en-US" sz="2800" spc="-1" strike="noStrike">
                <a:solidFill>
                  <a:srgbClr val="cc0000"/>
                </a:solidFill>
                <a:latin typeface="Tahoma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.2 'A), </a:t>
            </a:r>
            <a:r>
              <a:rPr b="1" lang="en-US" sz="2800" spc="-1" strike="noStrike">
                <a:solidFill>
                  <a:srgbClr val="cc0000"/>
                </a:solidFill>
                <a:latin typeface="Tahoma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.3, </a:t>
            </a:r>
            <a:r>
              <a:rPr b="1" lang="en-US" sz="2800" spc="-1" strike="noStrike">
                <a:solidFill>
                  <a:srgbClr val="cc0000"/>
                </a:solidFill>
                <a:latin typeface="Tahoma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.2] `unify`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['B, (CONS </a:t>
            </a:r>
            <a:r>
              <a:rPr b="1" lang="en-US" sz="2800" spc="-1" strike="noStrike">
                <a:solidFill>
                  <a:srgbClr val="cc0000"/>
                </a:solidFill>
                <a:latin typeface="Tahoma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.4 'A), (CONS 'A 'C), </a:t>
            </a:r>
            <a:r>
              <a:rPr b="1" lang="en-US" sz="2800" spc="-1" strike="noStrike">
                <a:solidFill>
                  <a:srgbClr val="cc0000"/>
                </a:solidFill>
                <a:latin typeface="Tahoma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.5]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Tahoma"/>
              </a:rPr>
              <a:t>2.9. Отождествление </a:t>
            </a:r>
            <a:br>
              <a:rPr sz="4000"/>
            </a:br>
            <a:r>
              <a:rPr b="1" lang="en-US" sz="4000" spc="-1" strike="noStrike">
                <a:solidFill>
                  <a:srgbClr val="800000"/>
                </a:solidFill>
                <a:latin typeface="Tahoma"/>
              </a:rPr>
              <a:t>c-выражений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ahoma"/>
              </a:rPr>
              <a:t>type UnifRes = (Bool, Subst)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ahoma"/>
              </a:rPr>
              <a:t>fail = (False, []) :: UnifRes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Clashe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= CExp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:=: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CExp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— уравнение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ype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Clashes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= [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Clashe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]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unify :: CExps -&gt; CExps -&gt; Unif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unify ces1 ces2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   | (length ces1)/=(length ces2) = fail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   | otherwise                                  = unify’ [] chs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   where chs = zipWith (:=:) ces1 ces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"/>
          <p:cNvSpPr/>
          <p:nvPr/>
        </p:nvSpPr>
        <p:spPr>
          <a:xfrm rot="5400000">
            <a:off x="1037160" y="4918680"/>
            <a:ext cx="887400" cy="2962440"/>
          </a:xfrm>
          <a:prstGeom prst="upArrow">
            <a:avLst>
              <a:gd name="adj1" fmla="val 50000"/>
              <a:gd name="adj2" fmla="val 83458"/>
            </a:avLst>
          </a:prstGeom>
          <a:solidFill>
            <a:srgbClr val="ff000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Tahoma"/>
              </a:rPr>
              <a:t>2.9. Отождествление </a:t>
            </a:r>
            <a:br>
              <a:rPr sz="4000"/>
            </a:br>
            <a:r>
              <a:rPr b="1" lang="en-US" sz="4000" spc="-1" strike="noStrike">
                <a:solidFill>
                  <a:srgbClr val="800000"/>
                </a:solidFill>
                <a:latin typeface="Tahoma"/>
              </a:rPr>
              <a:t>c-выражений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unify’ :: Clashes -&gt; Clashes -&gt; Unif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ервый и второй аргументы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unify’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— их смыс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unify’ rchs [] = (True, subst)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    where subst = map (\(a:=:b)-&gt;(a:-&gt;b)) rc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торое уравнение разбирает все случаи для первого неразрешенного уравнен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Таблица варианто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Таблица вариантов</a:t>
            </a:r>
            <a:r>
              <a:rPr b="1" lang="en-US" sz="4000" spc="-1" strike="noStrike">
                <a:solidFill>
                  <a:srgbClr val="800000"/>
                </a:solidFill>
                <a:latin typeface="Tahoma"/>
              </a:rPr>
              <a:t>: </a:t>
            </a: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заполним?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0" y="1600200"/>
          <a:ext cx="9144000" cy="5257800"/>
        </p:xfrm>
        <a:graphic>
          <a:graphicData uri="http://schemas.openxmlformats.org/drawingml/2006/table">
            <a:tbl>
              <a:tblPr/>
              <a:tblGrid>
                <a:gridCol w="2324160"/>
                <a:gridCol w="1589040"/>
                <a:gridCol w="1450800"/>
                <a:gridCol w="1576440"/>
                <a:gridCol w="2203560"/>
              </a:tblGrid>
              <a:tr h="1047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SymbolProp BT"/>
                          <a:ea typeface="SymbolProp BT"/>
                        </a:rPr>
                        <a:t>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:=: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SymbolProp BT"/>
                          <a:ea typeface="SymbolProp BT"/>
                        </a:rPr>
                        <a:t>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'A</a:t>
                      </a:r>
                      <a:r>
                        <a:rPr b="1" lang="ru-RU" sz="2800" spc="-1" strike="noStrike" baseline="-25000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0000"/>
                          </a:solidFill>
                          <a:latin typeface="Tahoma"/>
                          <a:ea typeface="Tahoma"/>
                        </a:rPr>
                        <a:t>А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0000"/>
                          </a:solidFill>
                          <a:latin typeface="Tahoma"/>
                          <a:ea typeface="Tahoma"/>
                        </a:rPr>
                        <a:t>Е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ONS a</a:t>
                      </a: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b</a:t>
                      </a: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9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'A</a:t>
                      </a: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'A</a:t>
                      </a:r>
                      <a:r>
                        <a:rPr b="1" lang="ru-RU" sz="2400" spc="-1" strike="noStrike" baseline="-25000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=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'A</a:t>
                      </a:r>
                      <a:r>
                        <a:rPr b="1" lang="ru-RU" sz="2400" spc="-1" strike="noStrike" baseline="-25000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9900"/>
                          </a:solidFill>
                          <a:latin typeface="Tahoma"/>
                          <a:ea typeface="Tahoma"/>
                        </a:rPr>
                        <a:t>●</a:t>
                      </a:r>
                      <a:br>
                        <a:rPr sz="2400"/>
                      </a:b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'A</a:t>
                      </a:r>
                      <a:r>
                        <a:rPr b="1" lang="ru-RU" sz="2400" spc="-1" strike="noStrike" baseline="-25000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≠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'A</a:t>
                      </a:r>
                      <a:r>
                        <a:rPr b="1" lang="ru-RU" sz="2400" spc="-1" strike="noStrike" baseline="-25000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●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fail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fail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fail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7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0000"/>
                          </a:solidFill>
                          <a:latin typeface="Tahoma"/>
                          <a:ea typeface="Tahoma"/>
                        </a:rPr>
                        <a:t>А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Tahoma"/>
                          <a:ea typeface="Tahoma"/>
                        </a:rPr>
                        <a:t>MoveC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Tahoma"/>
                          <a:ea typeface="Tahoma"/>
                        </a:rPr>
                        <a:t>MoveC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fail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fail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9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0000"/>
                          </a:solidFill>
                          <a:latin typeface="Tahoma"/>
                          <a:ea typeface="Tahoma"/>
                        </a:rPr>
                        <a:t>Е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Tahoma"/>
                          <a:ea typeface="Tahoma"/>
                        </a:rPr>
                        <a:t>MoveC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Tahoma"/>
                          <a:ea typeface="Tahoma"/>
                        </a:rPr>
                        <a:t>MoveC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Tahoma"/>
                          <a:ea typeface="Tahoma"/>
                        </a:rPr>
                        <a:t>MoveC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Tahoma"/>
                          <a:ea typeface="Tahoma"/>
                        </a:rPr>
                        <a:t>MoveC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5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ONS a</a:t>
                      </a:r>
                      <a:r>
                        <a:rPr b="1" lang="ru-RU" sz="2800" spc="-1" strike="noStrike" baseline="-25000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b</a:t>
                      </a:r>
                      <a:r>
                        <a:rPr b="1" lang="ru-RU" sz="2800" spc="-1" strike="noStrike" baseline="-25000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fail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fail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fail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</a:t>
                      </a:r>
                      <a:r>
                        <a:rPr b="1" lang="ru-RU" sz="2800" spc="-1" strike="noStrike" baseline="-25000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:=:a</a:t>
                      </a: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br>
                        <a:rPr sz="2800"/>
                      </a:b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b</a:t>
                      </a:r>
                      <a:r>
                        <a:rPr b="1" lang="ru-RU" sz="2800" spc="-1" strike="noStrike" baseline="-25000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:=:b</a:t>
                      </a: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9" name=""/>
          <p:cNvSpPr/>
          <p:nvPr/>
        </p:nvSpPr>
        <p:spPr>
          <a:xfrm>
            <a:off x="2398680" y="2712960"/>
            <a:ext cx="1424160" cy="914400"/>
          </a:xfrm>
          <a:prstGeom prst="rect">
            <a:avLst/>
          </a:prstGeom>
          <a:solidFill>
            <a:srgbClr val="ffb9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413080" y="3778200"/>
            <a:ext cx="1423800" cy="914400"/>
          </a:xfrm>
          <a:prstGeom prst="rect">
            <a:avLst/>
          </a:prstGeom>
          <a:solidFill>
            <a:srgbClr val="ffb9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398680" y="4811760"/>
            <a:ext cx="1424160" cy="914400"/>
          </a:xfrm>
          <a:prstGeom prst="rect">
            <a:avLst/>
          </a:prstGeom>
          <a:solidFill>
            <a:srgbClr val="ffb9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398680" y="5872320"/>
            <a:ext cx="1424160" cy="914400"/>
          </a:xfrm>
          <a:prstGeom prst="rect">
            <a:avLst/>
          </a:prstGeom>
          <a:solidFill>
            <a:srgbClr val="ffb9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973680" y="2712960"/>
            <a:ext cx="1304640" cy="914400"/>
          </a:xfrm>
          <a:prstGeom prst="rect">
            <a:avLst/>
          </a:prstGeom>
          <a:solidFill>
            <a:srgbClr val="ffb9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86280" y="3778200"/>
            <a:ext cx="1305000" cy="914400"/>
          </a:xfrm>
          <a:prstGeom prst="rect">
            <a:avLst/>
          </a:prstGeom>
          <a:solidFill>
            <a:srgbClr val="ffb9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973680" y="4811760"/>
            <a:ext cx="1304640" cy="914400"/>
          </a:xfrm>
          <a:prstGeom prst="rect">
            <a:avLst/>
          </a:prstGeom>
          <a:solidFill>
            <a:srgbClr val="ffb9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973680" y="5872320"/>
            <a:ext cx="1304640" cy="914400"/>
          </a:xfrm>
          <a:prstGeom prst="rect">
            <a:avLst/>
          </a:prstGeom>
          <a:solidFill>
            <a:srgbClr val="ffb9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457960" y="2714760"/>
            <a:ext cx="1304640" cy="914400"/>
          </a:xfrm>
          <a:prstGeom prst="rect">
            <a:avLst/>
          </a:prstGeom>
          <a:solidFill>
            <a:srgbClr val="ffb9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470560" y="3780000"/>
            <a:ext cx="1305000" cy="914400"/>
          </a:xfrm>
          <a:prstGeom prst="rect">
            <a:avLst/>
          </a:prstGeom>
          <a:solidFill>
            <a:srgbClr val="ffb9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457960" y="4813200"/>
            <a:ext cx="1304640" cy="914400"/>
          </a:xfrm>
          <a:prstGeom prst="rect">
            <a:avLst/>
          </a:prstGeom>
          <a:solidFill>
            <a:srgbClr val="ffb9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457960" y="5873760"/>
            <a:ext cx="1304640" cy="914400"/>
          </a:xfrm>
          <a:prstGeom prst="rect">
            <a:avLst/>
          </a:prstGeom>
          <a:solidFill>
            <a:srgbClr val="ffb9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391520" y="2712960"/>
            <a:ext cx="1304640" cy="914400"/>
          </a:xfrm>
          <a:prstGeom prst="rect">
            <a:avLst/>
          </a:prstGeom>
          <a:solidFill>
            <a:srgbClr val="ffb9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404120" y="3778200"/>
            <a:ext cx="1305000" cy="914400"/>
          </a:xfrm>
          <a:prstGeom prst="rect">
            <a:avLst/>
          </a:prstGeom>
          <a:solidFill>
            <a:srgbClr val="ffb9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391520" y="4811760"/>
            <a:ext cx="1304640" cy="914400"/>
          </a:xfrm>
          <a:prstGeom prst="rect">
            <a:avLst/>
          </a:prstGeom>
          <a:solidFill>
            <a:srgbClr val="ffb9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391520" y="5872320"/>
            <a:ext cx="1304640" cy="914400"/>
          </a:xfrm>
          <a:prstGeom prst="rect">
            <a:avLst/>
          </a:prstGeom>
          <a:solidFill>
            <a:srgbClr val="ffb9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Tahoma"/>
              </a:rPr>
              <a:t>2.9. Отождествление </a:t>
            </a:r>
            <a:br>
              <a:rPr sz="4000"/>
            </a:br>
            <a:r>
              <a:rPr b="1" lang="en-US" sz="4000" spc="-1" strike="noStrike">
                <a:solidFill>
                  <a:srgbClr val="800000"/>
                </a:solidFill>
                <a:latin typeface="Tahoma"/>
              </a:rPr>
              <a:t>c-выражений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932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unify’ rchs chs@(ch:chs’) = case ch o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932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ATOM a :=: ATOM b | a==b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-&gt; unify’ rchs chs’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932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ATOM a          :=: cex   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-&gt; fai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932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cvar@(CVA _):=: (ATOM _)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-&gt; moveCl rchs ch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932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cvar@(CVA _):=: (CVA _)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-&gt; moveCl rchs ch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932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cvar@(CVA _):=: cex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-&gt; fai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932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cvar@(CVE _):=: cex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-&gt; moveCl rchs ch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932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CONS a1 b1   :=: CONS a2 b2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-&gt; unify’ rchs (p++chs’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932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where p=[a1:=:a2,b1:=:b2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932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CONS a1 b1   :=:cex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-&gt; fai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932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Tahoma"/>
              </a:rPr>
              <a:t>2.9. Отождествление </a:t>
            </a:r>
            <a:br>
              <a:rPr sz="4000"/>
            </a:br>
            <a:r>
              <a:rPr b="1" lang="en-US" sz="4000" spc="-1" strike="noStrike">
                <a:solidFill>
                  <a:srgbClr val="800000"/>
                </a:solidFill>
                <a:latin typeface="Tahoma"/>
              </a:rPr>
              <a:t>c-выражений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93680" y="2112480"/>
            <a:ext cx="8950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moveCl:: Clashes -&gt; Clashes -&gt; Unif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moveCl rchs chs@(ch@(cvar:=:cexp):chs’) =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case [ y | (x:=:y)&lt;-rchs, x==cvar ] o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[ ]                       -&gt; unify’ (ch:rchs) chs’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[y] | y==cexp  -&gt; unify’ rchs chs’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[y] | otherwise -&gt; f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Tahoma"/>
              </a:rPr>
              <a:t>2.9. Отождествление </a:t>
            </a:r>
            <a:br>
              <a:rPr sz="4000"/>
            </a:br>
            <a:r>
              <a:rPr b="1" lang="en-US" sz="4000" spc="-1" strike="noStrike">
                <a:solidFill>
                  <a:srgbClr val="800000"/>
                </a:solidFill>
                <a:latin typeface="Tahoma"/>
              </a:rPr>
              <a:t>c-выражений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Теорема.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Для любых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писков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-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ыражений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ces1, ces2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ычисление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unify ces1 ces2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завершается за конечное число шагов с правильным результато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(False, [])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—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если не существует подстановки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такой, что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ces1/.s=ces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(True, s)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— если существует такая подстановка. При этом,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— подстановка, такая, что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ces1/.s=ces2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и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dom s = cvars ces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Tahoma"/>
              </a:rPr>
              <a:t>Обзор главы</a:t>
            </a: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водятся средства конструктивного представления множеств для языка TSG, исследуются и обосновываются их свойств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онфигурационные переменные (c-переменные), двух типов (для языка TSG): </a:t>
            </a:r>
            <a:r>
              <a:rPr b="1" lang="ru-RU" sz="3200" spc="-1" strike="noStrike">
                <a:solidFill>
                  <a:srgbClr val="cc0000"/>
                </a:solidFill>
                <a:latin typeface="Tahoma"/>
              </a:rPr>
              <a:t>A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1" i="1" lang="ru-RU" sz="3200" spc="-1" strike="noStrike">
                <a:solidFill>
                  <a:srgbClr val="000000"/>
                </a:solidFill>
                <a:latin typeface="Tahoma"/>
              </a:rPr>
              <a:t>index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ru-RU" sz="3200" spc="-1" strike="noStrike">
                <a:solidFill>
                  <a:srgbClr val="cc0000"/>
                </a:solidFill>
                <a:latin typeface="Tahoma"/>
              </a:rPr>
              <a:t>E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1" i="1" lang="ru-RU" sz="3200" spc="-1" strike="noStrike">
                <a:solidFill>
                  <a:srgbClr val="000000"/>
                </a:solidFill>
                <a:latin typeface="Tahoma"/>
              </a:rPr>
              <a:t>inde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естрикции: системы неравенств, задающих дополнительные ограничения на допустимые значения ca-переменных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Tahoma"/>
              </a:rPr>
              <a:t>2.10 Представляемое множество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пределение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11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Подстановка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лная для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-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онструкции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x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если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на связывает все с-переменные из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x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vars cx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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dom 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о значениями: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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cv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vars cx: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(cv/.s) </a:t>
            </a:r>
            <a:r>
              <a:rPr b="1" lang="en-US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Ev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усть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x=(cb, rs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—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R-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ыражение; п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дстановка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опустимая для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-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онструкции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x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если ее применение к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rs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е приводит к противоречиям: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rs/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 /= IN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Tahoma"/>
              </a:rPr>
              <a:t>2.10 Представляемое множество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усть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—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-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конструкции и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олная для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  Тогда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если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vars y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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vars x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то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олная для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если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x = …y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то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олная для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олная подстановка приводит SR-базу (ca-выражение, ce-выражение, список c-выражений длины n, c-связь, c-среда, c-состояние) к значению соответствующего вида (a-значение, e-значение, список значений длины n, связь, среда, состояние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Tahoma"/>
              </a:rPr>
              <a:t>2.10 Представляемое множество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Утверждение 9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Пусть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x, rs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—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R-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ыражение,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— полная подстановка для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x, rs)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усть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x, rs)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/.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 =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x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/.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, rs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/.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) = (x,rs')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Тогд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— является синтаксической конструкцией языка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G,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оответствующей виду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— недопустимая для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x, rs)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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s'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CONSIS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— допустимая для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x, rs)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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s'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STR [ ]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Tahoma"/>
              </a:rPr>
              <a:t>2.10 Представляемое множество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Определение 1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.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усть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se=(cx,rs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—  SR-выражение. Множество полных допустимых для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se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подстановок обозначим через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FVS(se)=FVS(cx,rs)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 Будем использовать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se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для представления множества синтаксических объектов языка TSG. Это множество будем обозначать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&lt;se&gt;=&lt;cx,rs&gt;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 Oпределим это множество так: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&lt;se&gt;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= &lt;cx,rs&gt;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= { cx/.s | s </a:t>
            </a:r>
            <a:r>
              <a:rPr b="1" lang="ar-SA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FVS(cx,rs) 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Tahoma"/>
              </a:rPr>
              <a:t>2.10 Представляемое множество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римеры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ru-RU" sz="2800" spc="-1" strike="noStrike">
                <a:solidFill>
                  <a:srgbClr val="cc0000"/>
                </a:solidFill>
                <a:latin typeface="Tahoma"/>
              </a:rPr>
              <a:t>E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.1, RESTR[]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ru-RU" sz="2800" spc="-1" strike="noStrike">
                <a:solidFill>
                  <a:srgbClr val="cc0000"/>
                </a:solidFill>
                <a:latin typeface="Tahoma"/>
              </a:rPr>
              <a:t>A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.1, RESTR[]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&lt;(CONS ’A </a:t>
            </a:r>
            <a:r>
              <a:rPr b="1" lang="ru-RU" sz="2800" spc="-1" strike="noStrike">
                <a:solidFill>
                  <a:srgbClr val="cc0000"/>
                </a:solidFill>
                <a:latin typeface="Tahoma"/>
              </a:rPr>
              <a:t>E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.1), RESTR[])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&lt;(CONS </a:t>
            </a:r>
            <a:r>
              <a:rPr b="1" lang="ru-RU" sz="2800" spc="-1" strike="noStrike">
                <a:solidFill>
                  <a:srgbClr val="cc0000"/>
                </a:solidFill>
                <a:latin typeface="Tahoma"/>
              </a:rPr>
              <a:t>A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.1 </a:t>
            </a:r>
            <a:r>
              <a:rPr b="1" lang="ru-RU" sz="2800" spc="-1" strike="noStrike">
                <a:solidFill>
                  <a:srgbClr val="cc0000"/>
                </a:solidFill>
                <a:latin typeface="Tahoma"/>
              </a:rPr>
              <a:t>E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.2), RESTR [</a:t>
            </a:r>
            <a:r>
              <a:rPr b="1" lang="ru-RU" sz="2800" spc="-1" strike="noStrike">
                <a:solidFill>
                  <a:srgbClr val="cc0000"/>
                </a:solidFill>
                <a:latin typeface="Tahoma"/>
              </a:rPr>
              <a:t>A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.1:≠: ’A]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усть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1" lang="ar-SA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EVal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sngl(e) = (e, RESTR []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Тогда,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&lt;e, RESTR[]&gt;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— одноэлементное множество: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&lt;e, RESTR []&gt; = {e}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усть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ce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— любая SR-база. Тогда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&lt;ce, INCONSISTENT&gt;=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Ø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Tahoma"/>
              </a:rPr>
              <a:t>2.11 Классы и L-классы</a:t>
            </a: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0360" indent="-34596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Определение 13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Пусть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cx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— SR-база. Будем называть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cx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линейной, если в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cx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нет ce -переменных, имеющих повторные вхождения в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cx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 Линейные c-выражения будем называть Lc-выражениями, линейные списки c-выражений будем называть L-списками c-выражений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Tahoma"/>
              </a:rPr>
              <a:t>2.11 Классы и L-классы</a:t>
            </a: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3600" indent="-36360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Определение 14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усть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ces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— список c-выражений,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rs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— рестрикция. Тогда </a:t>
            </a:r>
            <a:r>
              <a:rPr b="1" lang="ru-RU" sz="3200" spc="-1" strike="noStrike">
                <a:solidFill>
                  <a:srgbClr val="cc0000"/>
                </a:solidFill>
                <a:latin typeface="Tahoma"/>
              </a:rPr>
              <a:t>C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=(ces,rs)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будем называть классом. Если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ces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— L-список c-выражений, то класс </a:t>
            </a:r>
            <a:r>
              <a:rPr b="1" lang="ru-RU" sz="3200" spc="-1" strike="noStrike">
                <a:solidFill>
                  <a:srgbClr val="cc0000"/>
                </a:solidFill>
                <a:latin typeface="Tahoma"/>
              </a:rPr>
              <a:t>C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=(ces,rs)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будем называть L-классом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лассы используются для изображения множеств входных данных TSG-программ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"/>
          <p:cNvSpPr/>
          <p:nvPr/>
        </p:nvSpPr>
        <p:spPr>
          <a:xfrm rot="5400000">
            <a:off x="1037160" y="4941000"/>
            <a:ext cx="887400" cy="2962440"/>
          </a:xfrm>
          <a:prstGeom prst="upArrow">
            <a:avLst>
              <a:gd name="adj1" fmla="val 50000"/>
              <a:gd name="adj2" fmla="val 83458"/>
            </a:avLst>
          </a:prstGeom>
          <a:solidFill>
            <a:srgbClr val="ff000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0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Tahoma"/>
              </a:rPr>
              <a:t>2.11 Классы и L-классы</a:t>
            </a: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65120" y="1599840"/>
            <a:ext cx="867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3600" indent="-36360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Пример 4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Рассмотрим класс:</a:t>
            </a:r>
            <a:br>
              <a:rPr sz="3200"/>
            </a:br>
            <a:r>
              <a:rPr b="1" lang="en-US" sz="3200" spc="-1" strike="noStrike">
                <a:solidFill>
                  <a:srgbClr val="cc0000"/>
                </a:solidFill>
                <a:latin typeface="Tahoma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=([</a:t>
            </a:r>
            <a:r>
              <a:rPr b="1" lang="en-US" sz="3200" spc="-1" strike="noStrike">
                <a:solidFill>
                  <a:srgbClr val="cc0000"/>
                </a:solidFill>
                <a:latin typeface="Tahoma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.1, (CONS </a:t>
            </a:r>
            <a:r>
              <a:rPr b="1" lang="en-US" sz="3200" spc="-1" strike="noStrike">
                <a:solidFill>
                  <a:srgbClr val="cc0000"/>
                </a:solidFill>
                <a:latin typeface="Tahoma"/>
              </a:rPr>
              <a:t>E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.2 </a:t>
            </a:r>
            <a:r>
              <a:rPr b="1" lang="en-US" sz="3200" spc="-1" strike="noStrike">
                <a:solidFill>
                  <a:srgbClr val="cc0000"/>
                </a:solidFill>
                <a:latin typeface="Tahoma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.3)],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        RESTR [</a:t>
            </a:r>
            <a:r>
              <a:rPr b="1" lang="en-US" sz="3200" spc="-1" strike="noStrike">
                <a:solidFill>
                  <a:srgbClr val="cc0000"/>
                </a:solidFill>
                <a:latin typeface="Tahoma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.1: ≠ : </a:t>
            </a:r>
            <a:r>
              <a:rPr b="1" lang="en-US" sz="3200" spc="-1" strike="noStrike">
                <a:solidFill>
                  <a:srgbClr val="cc0000"/>
                </a:solidFill>
                <a:latin typeface="Tahoma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.3]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Тогда </a:t>
            </a:r>
            <a:r>
              <a:rPr b="1" lang="en-US" sz="3200" spc="-1" strike="noStrike">
                <a:solidFill>
                  <a:srgbClr val="cc0000"/>
                </a:solidFill>
                <a:latin typeface="Tahoma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представляет множество всех данных, имеющих вид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[a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 (CONS e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)]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где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— произвольное e-значение,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и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— два несовпадающих a-значен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Tahoma"/>
              </a:rPr>
              <a:t>2.12 Конфигурации</a:t>
            </a: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715680" y="1599840"/>
            <a:ext cx="8234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0360" indent="-36036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Определение 16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Будем называть конфигурацией SR-выражение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conf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имеющее вид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conf=((t, cenv), rs)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гд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25480" indent="-28584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(t, cenv)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— c-состояни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25480" indent="-28584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rs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— рестрикц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25480" indent="-28584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— программный тер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25480" indent="-28584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cenv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— c-сред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60360" indent="-36036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Конфигурации представляют множества состояний вычислени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60360" indent="-36036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Далее будет видно, что введенных средств достаточно для представления всех множеств, которые возникают при метавычислениях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Tahoma"/>
              </a:rPr>
              <a:t>2.13 Суперпозиция подстановок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93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80000"/>
              </a:lnSpc>
              <a:spcBef>
                <a:spcPts val="64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ahoma"/>
              </a:rPr>
              <a:t>(.*.) :: Subst -&gt; Subst -&gt; Subst</a:t>
            </a:r>
            <a:br>
              <a:rPr sz="2600"/>
            </a:br>
            <a:r>
              <a:rPr b="1" lang="ru-RU" sz="2600" spc="-1" strike="noStrike">
                <a:solidFill>
                  <a:srgbClr val="000000"/>
                </a:solidFill>
                <a:latin typeface="Tahoma"/>
              </a:rPr>
              <a:t>sa .*. sb =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2600" spc="-1" strike="noStrike">
                <a:solidFill>
                  <a:srgbClr val="000000"/>
                </a:solidFill>
                <a:latin typeface="Tahoma"/>
              </a:rPr>
              <a:t>[ cvar:-&gt;((cvar/.sa)/.sb)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Tahoma"/>
              </a:rPr>
              <a:t>| cvar&lt;-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ru-RU" sz="2600" spc="-1" strike="noStrike">
                <a:solidFill>
                  <a:srgbClr val="000000"/>
                </a:solidFill>
                <a:latin typeface="Tahoma"/>
              </a:rPr>
              <a:t>om_sa_sb]</a:t>
            </a:r>
            <a:br>
              <a:rPr sz="2600"/>
            </a:br>
            <a:r>
              <a:rPr b="1" lang="ru-RU" sz="2600" spc="-1" strike="noStrike">
                <a:solidFill>
                  <a:srgbClr val="000000"/>
                </a:solidFill>
                <a:latin typeface="Tahoma"/>
              </a:rPr>
              <a:t>   where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Tahoma"/>
              </a:rPr>
              <a:t>dom_sa_sb= nub ((dom sa)++(dom sb)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449280" indent="-4492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Утверждение 15, 16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усть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sa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sb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— подстановки. Тогда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28584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s=sa.*.sb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— подстановк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28584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для произвольной c-конструкции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cx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выполнено: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cx/.s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(cx/.sa)/.s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49280" indent="-4492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Определение 18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усть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sa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sb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— подстановки. Тогда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s=sa.*.sb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будем называть суперпозицией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sa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и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s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Tahoma"/>
              </a:rPr>
              <a:t>Обзор главы</a:t>
            </a: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SR-выражение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(cx,rs)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представляет множество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&lt;cx,rs&gt;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: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&lt;cx,rs&gt; = { cx/.s | s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FVS(cx,rs) }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где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— подстановка,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(/.)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— операция применения подстановки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к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cx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FVS(cx,rs)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—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множество полных допустимых для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(cx,rs)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подстановок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Tahoma"/>
              </a:rPr>
              <a:t>2.14 Сужения</a:t>
            </a: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contr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::= S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subst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           | R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rest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instance APPLY c Subst =&gt;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 APPLY (c,Restr) Contr where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   (cx,rs) /. (S s)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(cx/.s,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rs/.s)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(cx,rs) /. (R rs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'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= (cx,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rs+.rs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'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)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Утверждение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17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Пусть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(cx,rs)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— SR-выражение,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— сужение,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(cx’,rs’)=(cx,rs)/.c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Тогда,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&lt;cx’ ,rs’&gt; </a:t>
            </a:r>
            <a:r>
              <a:rPr b="1" lang="ar-SA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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&lt;cx,rs&gt;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Tahoma"/>
              </a:rPr>
              <a:t>2.14 Сужения</a:t>
            </a: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0360" indent="-360360"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Определение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0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усть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cx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cx’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— SR-выражения. Будем использовать обозначения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cx’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cc0000"/>
                </a:solidFill>
                <a:latin typeface="Tahoma"/>
              </a:rPr>
              <a:t>≤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cx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cx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Tahoma"/>
              </a:rPr>
              <a:t>≥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cx’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eсли существуют такие сужения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ru-RU" sz="2800" spc="-1" strike="noStrike" baseline="-18000">
                <a:solidFill>
                  <a:srgbClr val="000000"/>
                </a:solidFill>
                <a:latin typeface="Tahoma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..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ru-RU" sz="2800" spc="-1" strike="noStrike" baseline="-18000">
                <a:solidFill>
                  <a:srgbClr val="000000"/>
                </a:solidFill>
                <a:latin typeface="Tahoma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n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&gt;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0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что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cx’=cx/.c</a:t>
            </a:r>
            <a:r>
              <a:rPr b="1" lang="ru-RU" sz="2800" spc="-1" strike="noStrike" baseline="-18000">
                <a:solidFill>
                  <a:srgbClr val="000000"/>
                </a:solidFill>
                <a:latin typeface="Tahoma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/.c</a:t>
            </a:r>
            <a:r>
              <a:rPr b="1" lang="ru-RU" sz="2800" spc="-1" strike="noStrike" baseline="-18000">
                <a:solidFill>
                  <a:srgbClr val="000000"/>
                </a:solidFill>
                <a:latin typeface="Tahoma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.../.c</a:t>
            </a:r>
            <a:r>
              <a:rPr b="1" lang="ru-RU" sz="2800" spc="-1" strike="noStrike" baseline="-18000">
                <a:solidFill>
                  <a:srgbClr val="000000"/>
                </a:solidFill>
                <a:latin typeface="Tahoma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60360" indent="-360360"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Утверждение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8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25480" indent="-285840">
              <a:spcBef>
                <a:spcPts val="700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cx’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’ </a:t>
            </a:r>
            <a:r>
              <a:rPr b="1" lang="ru-RU" sz="2800" spc="-1" strike="noStrike">
                <a:solidFill>
                  <a:srgbClr val="cc0000"/>
                </a:solidFill>
                <a:latin typeface="Tahoma"/>
              </a:rPr>
              <a:t>≤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cx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’,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cx’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cc0000"/>
                </a:solidFill>
                <a:latin typeface="Tahoma"/>
              </a:rPr>
              <a:t>≤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cx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cx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cc0000"/>
                </a:solidFill>
                <a:latin typeface="Tahoma"/>
              </a:rPr>
              <a:t>≤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25480" indent="-285840">
              <a:spcBef>
                <a:spcPts val="700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cx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cc0000"/>
                </a:solidFill>
                <a:latin typeface="Tahoma"/>
              </a:rPr>
              <a:t>≤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60360" indent="-360360"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Утверждение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9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усть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cx, cx’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— SR-выражения и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cx’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cc0000"/>
                </a:solidFill>
                <a:latin typeface="Tahoma"/>
              </a:rPr>
              <a:t>≤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cx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тогда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&lt;cx’&gt;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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&lt;cx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Tahoma"/>
              </a:rPr>
              <a:t>2.14 Сужения</a:t>
            </a: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0360" indent="-36036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1798560"/>
                <a:tab algn="l" pos="6280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Утверждение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20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анное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d </a:t>
            </a:r>
            <a:r>
              <a:rPr b="1" lang="ar-SA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D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принадлежит множеству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&lt;</a:t>
            </a:r>
            <a:r>
              <a:rPr b="1" lang="ru-RU" sz="3200" spc="-1" strike="noStrike">
                <a:solidFill>
                  <a:srgbClr val="cc0000"/>
                </a:solidFill>
                <a:latin typeface="Tahoma"/>
              </a:rPr>
              <a:t>C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&gt;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представленному классом </a:t>
            </a:r>
            <a:r>
              <a:rPr b="1" lang="ru-RU" sz="3200" spc="-1" strike="noStrike">
                <a:solidFill>
                  <a:srgbClr val="cc0000"/>
                </a:solidFill>
                <a:latin typeface="Tahoma"/>
              </a:rPr>
              <a:t>C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тогда, и только тогда, когда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sngl(d)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cc0000"/>
                </a:solidFill>
                <a:latin typeface="Tahoma"/>
              </a:rPr>
              <a:t>≤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0360" indent="-36036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1798560"/>
                <a:tab algn="l" pos="6280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Определение 21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idC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= S   [ ]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:: Contr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emptC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= R   INCONSISTENT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:: Cont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Tahoma"/>
              </a:rPr>
              <a:t>2.14 Сужения</a:t>
            </a: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01600" y="1599840"/>
            <a:ext cx="894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6840" indent="-36684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143028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Утверждение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усть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(cx,rs)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— SR-выражение.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Тогда, выполнено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33400" indent="-285840">
              <a:spcBef>
                <a:spcPts val="799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143028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(cx,rs)/.idC = (cx,r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33400" indent="-285840">
              <a:spcBef>
                <a:spcPts val="799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143028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&lt;(cx,rs)/.idC&gt;=&lt;cx,rs&gt;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33400" indent="-285840">
              <a:spcBef>
                <a:spcPts val="799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143028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(cx,rs)/.emptC = (cx, INCONSISTEN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33400" indent="-285840">
              <a:spcBef>
                <a:spcPts val="799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143028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&lt;(cx,rs)/.emptC&gt; =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Tahoma"/>
              </a:rPr>
              <a:t>2.14 Сужения</a:t>
            </a: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93200" y="1599840"/>
            <a:ext cx="8302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6840" indent="-36684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Утверждение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2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Если </a:t>
            </a: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 и </a:t>
            </a: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x’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—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 SR-выражения, то </a:t>
            </a: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x’ </a:t>
            </a:r>
            <a:r>
              <a:rPr b="1" lang="ru-RU" sz="3200" spc="-1" strike="noStrike">
                <a:solidFill>
                  <a:srgbClr val="cc0000"/>
                </a:solidFill>
                <a:latin typeface="Tahoma"/>
              </a:rPr>
              <a:t>≤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, тогда и только тогда, когда существуют два сужения: </a:t>
            </a: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c1 = (S s)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 и </a:t>
            </a: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c2 = (R r)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, такие, что</a:t>
            </a:r>
            <a:br>
              <a:rPr sz="3200"/>
            </a:br>
            <a:br>
              <a:rPr sz="3200"/>
            </a:b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x’=x/.c1/.c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Tahoma"/>
              </a:rPr>
              <a:t>2.14 Сужения</a:t>
            </a: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6840" indent="-366840"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2060640"/>
                <a:tab algn="l" pos="2960640"/>
                <a:tab algn="l" pos="5195880"/>
                <a:tab algn="l" pos="68216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дея доказательства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33400" indent="-285840">
              <a:spcBef>
                <a:spcPts val="601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2060640"/>
                <a:tab algn="l" pos="2960640"/>
                <a:tab algn="l" pos="5195880"/>
                <a:tab algn="l" pos="68216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x’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cc0000"/>
                </a:solidFill>
                <a:latin typeface="Tahoma"/>
              </a:rPr>
              <a:t>≤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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x’ = x/.c</a:t>
            </a:r>
            <a:r>
              <a:rPr b="1" lang="pt-BR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/.c</a:t>
            </a:r>
            <a:r>
              <a:rPr b="1" lang="pt-BR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. </a:t>
            </a: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/.c</a:t>
            </a:r>
            <a:r>
              <a:rPr b="1" lang="pt-BR" sz="28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=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 x/.(S [])/.c</a:t>
            </a:r>
            <a:r>
              <a:rPr b="1" lang="pt-BR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/.c</a:t>
            </a:r>
            <a:r>
              <a:rPr b="1" lang="pt-BR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. </a:t>
            </a: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/.c</a:t>
            </a:r>
            <a:r>
              <a:rPr b="1" lang="pt-BR" sz="2800" spc="-1" strike="noStrike" baseline="-25000">
                <a:solidFill>
                  <a:srgbClr val="000000"/>
                </a:solidFill>
                <a:latin typeface="Tahoma"/>
              </a:rPr>
              <a:t>n </a:t>
            </a: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/.(R (RESTR[]))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66840" indent="-366840"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2060640"/>
                <a:tab algn="l" pos="2960640"/>
                <a:tab algn="l" pos="5195880"/>
                <a:tab algn="l" pos="68216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Далее преобразуем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33400" indent="-285840">
              <a:spcBef>
                <a:spcPts val="700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2060640"/>
                <a:tab algn="l" pos="2960640"/>
                <a:tab algn="l" pos="5195880"/>
                <a:tab algn="l" pos="68216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SS </a:t>
            </a:r>
            <a:r>
              <a:rPr b="1" lang="ru-RU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</a:t>
            </a: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 S: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/.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(S s1)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/.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(S s2)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=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/.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(S s1.*.s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33400" indent="-285840">
              <a:spcBef>
                <a:spcPts val="700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2060640"/>
                <a:tab algn="l" pos="2960640"/>
                <a:tab algn="l" pos="5195880"/>
                <a:tab algn="l" pos="68216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RR </a:t>
            </a:r>
            <a:r>
              <a:rPr b="1" lang="ru-RU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</a:t>
            </a: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 R: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/.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(R r1)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/.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(R r2)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=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/.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(R r1+.r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33400" indent="-285840">
              <a:spcBef>
                <a:spcPts val="700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2060640"/>
                <a:tab algn="l" pos="2960640"/>
                <a:tab algn="l" pos="5195880"/>
                <a:tab algn="l" pos="68216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RS </a:t>
            </a:r>
            <a:r>
              <a:rPr b="1" lang="ru-RU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</a:t>
            </a: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 SR: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/.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(R r)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/.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(S s)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=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/.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(S s)/.(R (r/.s)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Tahoma"/>
              </a:rPr>
              <a:t>2.15 Каноническая форма класса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2060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еоднозначность представления классом множества данных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2060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ричины неоднозначности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1081080" indent="-533520">
              <a:spcBef>
                <a:spcPts val="799"/>
              </a:spcBef>
              <a:buClr>
                <a:srgbClr val="800000"/>
              </a:buClr>
              <a:buSzPct val="75000"/>
              <a:buFont typeface="Tahoma"/>
              <a:buAutoNum type="arabicPeriod"/>
              <a:tabLst>
                <a:tab algn="l" pos="2060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-переменные, входящие в класс, являются свободными параметрами; согласованное переименование c-переменных по сути не изменяет класс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Tahoma"/>
              </a:rPr>
              <a:t>2.15 Каноническая форма класса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11920" indent="-51192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2060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ричины неоднозначности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64440" indent="-43884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Tahoma"/>
              <a:buAutoNum type="arabicPeriod" startAt="2"/>
              <a:tabLst>
                <a:tab algn="l" pos="2060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естрикция класса — система неравенств; каждое неравенство — неупорядоченная пара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левая часть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:≠: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правая часть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ерестановка левой и правой части неравенства и переупорядочивание неравенств в рестрикции по сути не изменяет класс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64440" indent="-43884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Tahoma"/>
              <a:buAutoNum type="arabicPeriod" startAt="2"/>
              <a:tabLst>
                <a:tab algn="l" pos="2060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 рестрикции неравенства могут входить многократно, могут быть тавтологии и противоречия. Преобразования рестрикций, выполняемые функцией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cleanRestr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по сути не изменяет класс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Tahoma"/>
              </a:rPr>
              <a:t>2.15 Каноническая форма класса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3600" indent="-363600"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143028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Борьба с причиной «3»: будем рассматривать классы с упрощенными рестрикциями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&lt;</a:t>
            </a:r>
            <a:r>
              <a:rPr b="1" lang="en-US" sz="2800" spc="-1" strike="noStrike">
                <a:solidFill>
                  <a:srgbClr val="cc0000"/>
                </a:solidFill>
                <a:latin typeface="Tahoma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&gt; = &lt;</a:t>
            </a:r>
            <a:r>
              <a:rPr b="1" lang="en-US" sz="2800" spc="-1" strike="noStrike">
                <a:solidFill>
                  <a:srgbClr val="cc0000"/>
                </a:solidFill>
                <a:latin typeface="Tahoma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/.(S [])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143028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Определение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Перестановка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является переименовкой — </a:t>
            </a:r>
            <a:r>
              <a:rPr b="1" i="1" lang="ru-RU" sz="2800" spc="-1" strike="noStrike">
                <a:solidFill>
                  <a:srgbClr val="ff0000"/>
                </a:solidFill>
                <a:latin typeface="Tahoma"/>
              </a:rPr>
              <a:t>мнение аудитории?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33400" indent="-285840">
              <a:spcBef>
                <a:spcPts val="799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143028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се правые части — с-переменны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33400" indent="-285840">
              <a:spcBef>
                <a:spcPts val="799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143028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типы правых частей совпадают с типами левых часте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33400" indent="-285840">
              <a:spcBef>
                <a:spcPts val="799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143028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се правые части различн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Tahoma"/>
              </a:rPr>
              <a:t>2.15 Каноническая форма класса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31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3600" indent="-363600"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143028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Утверждение 23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Пусть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С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С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— классы,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С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получен из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С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(1) переупорядочиванием левых и правых частей и неравенств в рестрикции и/или (2) переименовкой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-переменных в 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С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vars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С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om 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Тогда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&lt;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С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&gt;=&lt;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С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&gt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3700440" y="5378400"/>
            <a:ext cx="411120" cy="3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Tahoma"/>
              </a:rPr>
              <a:t>Обзор главы</a:t>
            </a: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Частные случаи SR-выражений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классы и L-классы — представляют множества данных языка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S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конфигурации — представляют множества состояний вычисления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SG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программ над данным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и т.п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Tahoma"/>
              </a:rPr>
              <a:t>2.15 Каноническая форма класса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31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143028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аведем порядок в рестрикциях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1004760" indent="-457200">
              <a:spcBef>
                <a:spcPts val="700"/>
              </a:spcBef>
              <a:buClr>
                <a:srgbClr val="800000"/>
              </a:buClr>
              <a:buSzPct val="75000"/>
              <a:buFont typeface="Tahoma"/>
              <a:buAutoNum type="arabicPeriod"/>
              <a:tabLst>
                <a:tab algn="l" pos="143028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пределим отношение (&lt;) на множестве c-выражений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1004760" indent="-457200">
              <a:spcBef>
                <a:spcPts val="700"/>
              </a:spcBef>
              <a:buClr>
                <a:srgbClr val="800000"/>
              </a:buClr>
              <a:buSzPct val="75000"/>
              <a:buFont typeface="Tahoma"/>
              <a:buAutoNum type="arabicPeriod"/>
              <a:tabLst>
                <a:tab algn="l" pos="143028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еравенства будем сравнивать по лексикографическому порядку: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((x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:≠: y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)&lt;(x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:≠: y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))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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(x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&lt;x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) || ((x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==x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)&amp;&amp;(y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&lt;y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)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Tahoma"/>
              </a:rPr>
              <a:t>2.15 Каноническая форма класса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457200" y="1600200"/>
          <a:ext cx="8510760" cy="3995640"/>
        </p:xfrm>
        <a:graphic>
          <a:graphicData uri="http://schemas.openxmlformats.org/drawingml/2006/table">
            <a:tbl>
              <a:tblPr/>
              <a:tblGrid>
                <a:gridCol w="3952800"/>
                <a:gridCol w="45579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Вид x               Вид 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Определение (&lt;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8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(ATOM a)      (ATOM b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(ATOM a)      (CVA j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(ATOM a)      (CVE j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(ATOM a)      (CONS p q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(x&lt;y)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SymbolProp BT"/>
                          <a:ea typeface="SymbolProp BT"/>
                        </a:rPr>
                        <a:t>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(a&lt;b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y&lt;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y&lt;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x&lt;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8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(CVA i)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        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(ATOM b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(CVA i)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        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(CVA j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(CVA i)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         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(CVE j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(CVA i)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        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(CONS p q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x&lt;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(x&lt;y)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SymbolProp BT"/>
                          <a:ea typeface="SymbolProp BT"/>
                        </a:rPr>
                        <a:t>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(i&lt;j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(x&lt;y)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SymbolProp BT"/>
                          <a:ea typeface="SymbolProp BT"/>
                        </a:rPr>
                        <a:t>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(i&lt;j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x&lt;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Tahoma"/>
              </a:rPr>
              <a:t>2.15 Каноническая форма класса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457200" y="1600200"/>
          <a:ext cx="8156520" cy="4827600"/>
        </p:xfrm>
        <a:graphic>
          <a:graphicData uri="http://schemas.openxmlformats.org/drawingml/2006/table">
            <a:tbl>
              <a:tblPr/>
              <a:tblGrid>
                <a:gridCol w="3952800"/>
                <a:gridCol w="42037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Вид x          Вид 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Определение (&lt;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(CVE i)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      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(ATOM b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(CVE i)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      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(CVA j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(CVE i)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      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(CVE j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(CVE i)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      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(CONS p q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(x&lt;y) (a&lt;b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y&lt;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y&lt;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x&lt;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1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(CONS r s)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(ATOM b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(CONS r s)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(CVA j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(CONS r s)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(CVE j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(CONS r s)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(CONS p q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y &lt; 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y &lt; 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y &lt; 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(x&lt;y) 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SymbolProp BT"/>
                          <a:ea typeface="SymbolProp BT"/>
                        </a:rPr>
                        <a:t>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(r&lt;p) ||</a:t>
                      </a:r>
                      <a:br>
                        <a:rPr sz="2400"/>
                      </a:b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((r==p) &amp;&amp; (s&lt;q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Tahoma"/>
              </a:rPr>
              <a:t>2.15 Каноническая форма класса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177840" y="1665360"/>
            <a:ext cx="8756640" cy="48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Определение 6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Класс </a:t>
            </a:r>
            <a:r>
              <a:rPr b="1" lang="ru-RU" sz="2800" spc="-1" strike="noStrike">
                <a:solidFill>
                  <a:srgbClr val="cc0000"/>
                </a:solidFill>
                <a:latin typeface="Tahoma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*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будем называть канонической формой класса </a:t>
            </a:r>
            <a:r>
              <a:rPr b="1" lang="ru-RU" sz="2800" spc="-1" strike="noStrike">
                <a:solidFill>
                  <a:srgbClr val="cc0000"/>
                </a:solidFill>
                <a:latin typeface="Tahoma"/>
              </a:rPr>
              <a:t>C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если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34920" indent="-380880">
              <a:spcBef>
                <a:spcPts val="700"/>
              </a:spcBef>
              <a:buClr>
                <a:srgbClr val="800000"/>
              </a:buClr>
              <a:buSzPct val="7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ahoma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*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может быть получен из класса </a:t>
            </a:r>
            <a:r>
              <a:rPr b="1" lang="ru-RU" sz="2800" spc="-1" strike="noStrike">
                <a:solidFill>
                  <a:srgbClr val="cc0000"/>
                </a:solidFill>
                <a:latin typeface="Tahoma"/>
              </a:rPr>
              <a:t>C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путем переименования c-переменных и переупорядочивания (п.ч./л.ч. и неравенств) в рестрикции (в соответствии с порядком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&lt;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Tahoma"/>
              </a:rPr>
              <a:t>2.15 Каноническая форма класса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177840" y="1665360"/>
            <a:ext cx="8756640" cy="48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Определение 6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Класс </a:t>
            </a:r>
            <a:r>
              <a:rPr b="1" lang="ru-RU" sz="2800" spc="-1" strike="noStrike">
                <a:solidFill>
                  <a:srgbClr val="cc0000"/>
                </a:solidFill>
                <a:latin typeface="Tahoma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*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будем называть канонической формой класса </a:t>
            </a:r>
            <a:r>
              <a:rPr b="1" lang="ru-RU" sz="2800" spc="-1" strike="noStrike">
                <a:solidFill>
                  <a:srgbClr val="cc0000"/>
                </a:solidFill>
                <a:latin typeface="Tahoma"/>
              </a:rPr>
              <a:t>C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если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6200" indent="-372960">
              <a:spcBef>
                <a:spcPts val="700"/>
              </a:spcBef>
              <a:buClr>
                <a:srgbClr val="800000"/>
              </a:buClr>
              <a:buSzPct val="75000"/>
              <a:buFont typeface="Tahoma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cvars </a:t>
            </a:r>
            <a:r>
              <a:rPr b="1" lang="ru-RU" sz="2800" spc="-1" strike="noStrike">
                <a:solidFill>
                  <a:srgbClr val="cc0000"/>
                </a:solidFill>
                <a:latin typeface="Tahoma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*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имеет вид: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[vt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1, vt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2, ..., vt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n]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где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{CVA, CVE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} — конструкторы c-переменных. Т.е., для c-переменных в </a:t>
            </a:r>
            <a:r>
              <a:rPr b="1" lang="ru-RU" sz="2800" spc="-1" strike="noStrike">
                <a:solidFill>
                  <a:srgbClr val="cc0000"/>
                </a:solidFill>
                <a:latin typeface="Tahoma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*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используются в качестве индексов все числа от 1 до n, где n — число различных c-переменных. И если первое вхождение c-переменной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встречается в </a:t>
            </a:r>
            <a:r>
              <a:rPr b="1" lang="ru-RU" sz="2800" spc="-1" strike="noStrike">
                <a:solidFill>
                  <a:srgbClr val="cc0000"/>
                </a:solidFill>
                <a:latin typeface="Tahoma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*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раньше (левее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ервого вхождения c-переменной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v’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то должно выполняться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v&lt;v’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Tahoma"/>
              </a:rPr>
              <a:t>2.15 Каноническая форма класса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177840" y="1665360"/>
            <a:ext cx="8756640" cy="48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Определение 6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Класс </a:t>
            </a:r>
            <a:r>
              <a:rPr b="1" lang="ru-RU" sz="2800" spc="-1" strike="noStrike">
                <a:solidFill>
                  <a:srgbClr val="cc0000"/>
                </a:solidFill>
                <a:latin typeface="Tahoma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*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будем называть канонической формой класса </a:t>
            </a:r>
            <a:r>
              <a:rPr b="1" lang="ru-RU" sz="2800" spc="-1" strike="noStrike">
                <a:solidFill>
                  <a:srgbClr val="cc0000"/>
                </a:solidFill>
                <a:latin typeface="Tahoma"/>
              </a:rPr>
              <a:t>C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если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34920" indent="-380880">
              <a:spcBef>
                <a:spcPts val="700"/>
              </a:spcBef>
              <a:buClr>
                <a:srgbClr val="800000"/>
              </a:buClr>
              <a:buSzPct val="75000"/>
              <a:buFont typeface="Tahoma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Для любого неравенства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x :≠: y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в </a:t>
            </a:r>
            <a:r>
              <a:rPr b="1" lang="ru-RU" sz="2800" spc="-1" strike="noStrike">
                <a:solidFill>
                  <a:srgbClr val="cc0000"/>
                </a:solidFill>
                <a:latin typeface="Tahoma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*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выполнено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x&lt;y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и все неравенства в рестрикции отсортированы по отношению (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&lt;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"/>
          <p:cNvSpPr/>
          <p:nvPr/>
        </p:nvSpPr>
        <p:spPr>
          <a:xfrm rot="5400000">
            <a:off x="1037160" y="4918680"/>
            <a:ext cx="887400" cy="2962440"/>
          </a:xfrm>
          <a:prstGeom prst="upArrow">
            <a:avLst>
              <a:gd name="adj1" fmla="val 50000"/>
              <a:gd name="adj2" fmla="val 83458"/>
            </a:avLst>
          </a:prstGeom>
          <a:solidFill>
            <a:srgbClr val="ff000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0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Tahoma"/>
              </a:rPr>
              <a:t>2.15 Каноническая форма класса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Утверждение 9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99"/>
              </a:spcBef>
              <a:buClr>
                <a:srgbClr val="800000"/>
              </a:buClr>
              <a:buSzPct val="7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Если </a:t>
            </a:r>
            <a:r>
              <a:rPr b="1" lang="ru-RU" sz="3200" spc="-1" strike="noStrike">
                <a:solidFill>
                  <a:srgbClr val="cc0000"/>
                </a:solidFill>
                <a:latin typeface="Tahoma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*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является канонической формой </a:t>
            </a:r>
            <a:r>
              <a:rPr b="1" lang="ru-RU" sz="3200" spc="-1" strike="noStrike">
                <a:solidFill>
                  <a:srgbClr val="cc0000"/>
                </a:solidFill>
                <a:latin typeface="Tahoma"/>
              </a:rPr>
              <a:t>C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то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&lt;</a:t>
            </a:r>
            <a:r>
              <a:rPr b="1" lang="ru-RU" sz="3200" spc="-1" strike="noStrike">
                <a:solidFill>
                  <a:srgbClr val="cc0000"/>
                </a:solidFill>
                <a:latin typeface="Tahoma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*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&gt;=&lt;</a:t>
            </a:r>
            <a:r>
              <a:rPr b="1" lang="ru-RU" sz="3200" spc="-1" strike="noStrike">
                <a:solidFill>
                  <a:srgbClr val="cc0000"/>
                </a:solidFill>
                <a:latin typeface="Tahoma"/>
              </a:rPr>
              <a:t>C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99"/>
              </a:spcBef>
              <a:buClr>
                <a:srgbClr val="800000"/>
              </a:buClr>
              <a:buSzPct val="7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уществует алгоритм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canon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который для любого класса </a:t>
            </a:r>
            <a:r>
              <a:rPr b="1" lang="ru-RU" sz="3200" spc="-1" strike="noStrike">
                <a:solidFill>
                  <a:srgbClr val="cc0000"/>
                </a:solidFill>
                <a:latin typeface="Tahoma"/>
              </a:rPr>
              <a:t>C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за конечное число шагов строит класс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(canon </a:t>
            </a:r>
            <a:r>
              <a:rPr b="1" lang="ru-RU" sz="3200" spc="-1" strike="noStrike">
                <a:solidFill>
                  <a:srgbClr val="cc0000"/>
                </a:solidFill>
                <a:latin typeface="Tahoma"/>
              </a:rPr>
              <a:t>C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являющийся канонической формой </a:t>
            </a:r>
            <a:r>
              <a:rPr b="1" lang="ru-RU" sz="3200" spc="-1" strike="noStrike">
                <a:solidFill>
                  <a:srgbClr val="cc0000"/>
                </a:solidFill>
                <a:latin typeface="Tahoma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"/>
          <p:cNvSpPr/>
          <p:nvPr/>
        </p:nvSpPr>
        <p:spPr>
          <a:xfrm rot="5400000">
            <a:off x="1037160" y="4313880"/>
            <a:ext cx="887400" cy="2962440"/>
          </a:xfrm>
          <a:prstGeom prst="upArrow">
            <a:avLst>
              <a:gd name="adj1" fmla="val 50000"/>
              <a:gd name="adj2" fmla="val 83458"/>
            </a:avLst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0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Tahoma"/>
              </a:rPr>
              <a:t>2.16 Подклассы и надклассы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Определение 23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Пусть </a:t>
            </a:r>
            <a:r>
              <a:rPr b="1" lang="en-US" sz="2800" spc="-1" strike="noStrike">
                <a:solidFill>
                  <a:srgbClr val="cc0000"/>
                </a:solidFill>
                <a:latin typeface="Tahoma"/>
              </a:rPr>
              <a:t>C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2800" spc="-1" strike="noStrike">
                <a:solidFill>
                  <a:srgbClr val="cc0000"/>
                </a:solidFill>
                <a:latin typeface="Tahoma"/>
              </a:rPr>
              <a:t>C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— классы. Тогда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класс </a:t>
            </a:r>
            <a:r>
              <a:rPr b="1" lang="en-US" sz="2800" spc="-1" strike="noStrike">
                <a:solidFill>
                  <a:srgbClr val="cc0000"/>
                </a:solidFill>
                <a:latin typeface="Tahoma"/>
              </a:rPr>
              <a:t>C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будем называть подклассом класса </a:t>
            </a:r>
            <a:r>
              <a:rPr b="1" lang="en-US" sz="2800" spc="-1" strike="noStrike">
                <a:solidFill>
                  <a:srgbClr val="cc0000"/>
                </a:solidFill>
                <a:latin typeface="Tahoma"/>
              </a:rPr>
              <a:t>C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а класс </a:t>
            </a:r>
            <a:r>
              <a:rPr b="1" lang="en-US" sz="2800" spc="-1" strike="noStrike">
                <a:solidFill>
                  <a:srgbClr val="cc0000"/>
                </a:solidFill>
                <a:latin typeface="Tahoma"/>
              </a:rPr>
              <a:t>C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будем называть надклассом класса </a:t>
            </a:r>
            <a:r>
              <a:rPr b="1" lang="en-US" sz="2800" spc="-1" strike="noStrike">
                <a:solidFill>
                  <a:srgbClr val="cc0000"/>
                </a:solidFill>
                <a:latin typeface="Tahoma"/>
              </a:rPr>
              <a:t>C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если </a:t>
            </a:r>
            <a:r>
              <a:rPr b="1" lang="en-US" sz="2800" spc="-1" strike="noStrike">
                <a:solidFill>
                  <a:srgbClr val="cc0000"/>
                </a:solidFill>
                <a:latin typeface="Tahoma"/>
              </a:rPr>
              <a:t>C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2800" spc="-1" strike="noStrike">
                <a:solidFill>
                  <a:srgbClr val="cc0000"/>
                </a:solidFill>
                <a:latin typeface="Tahoma"/>
              </a:rPr>
              <a:t>≤C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класс </a:t>
            </a:r>
            <a:r>
              <a:rPr b="1" lang="en-US" sz="2800" spc="-1" strike="noStrike">
                <a:solidFill>
                  <a:srgbClr val="cc0000"/>
                </a:solidFill>
                <a:latin typeface="Tahoma"/>
              </a:rPr>
              <a:t>C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будем называть собственным подклассом класса </a:t>
            </a:r>
            <a:r>
              <a:rPr b="1" lang="en-US" sz="2800" spc="-1" strike="noStrike">
                <a:solidFill>
                  <a:srgbClr val="cc0000"/>
                </a:solidFill>
                <a:latin typeface="Tahoma"/>
              </a:rPr>
              <a:t>C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а класс </a:t>
            </a:r>
            <a:r>
              <a:rPr b="1" lang="en-US" sz="2800" spc="-1" strike="noStrike">
                <a:solidFill>
                  <a:srgbClr val="cc0000"/>
                </a:solidFill>
                <a:latin typeface="Tahoma"/>
              </a:rPr>
              <a:t>C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будем называть собственным надклассом класса </a:t>
            </a:r>
            <a:r>
              <a:rPr b="1" lang="en-US" sz="2800" spc="-1" strike="noStrike">
                <a:solidFill>
                  <a:srgbClr val="cc0000"/>
                </a:solidFill>
                <a:latin typeface="Tahoma"/>
              </a:rPr>
              <a:t>C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и будем обозначать </a:t>
            </a:r>
            <a:r>
              <a:rPr b="1" lang="en-US" sz="2800" spc="-1" strike="noStrike">
                <a:solidFill>
                  <a:srgbClr val="cc0000"/>
                </a:solidFill>
                <a:latin typeface="Tahoma"/>
              </a:rPr>
              <a:t>C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Tahoma"/>
              </a:rPr>
              <a:t>&lt;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Tahoma"/>
              </a:rPr>
              <a:t>C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если </a:t>
            </a:r>
            <a:r>
              <a:rPr b="1" lang="en-US" sz="2800" spc="-1" strike="noStrike">
                <a:solidFill>
                  <a:srgbClr val="cc0000"/>
                </a:solidFill>
                <a:latin typeface="Tahoma"/>
              </a:rPr>
              <a:t>C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Tahoma"/>
              </a:rPr>
              <a:t>≤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Tahoma"/>
              </a:rPr>
              <a:t>C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и канонические формы для классов </a:t>
            </a:r>
            <a:r>
              <a:rPr b="1" lang="en-US" sz="2800" spc="-1" strike="noStrike">
                <a:solidFill>
                  <a:srgbClr val="cc0000"/>
                </a:solidFill>
                <a:latin typeface="Tahoma"/>
              </a:rPr>
              <a:t>C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и </a:t>
            </a:r>
            <a:r>
              <a:rPr b="1" lang="en-US" sz="2800" spc="-1" strike="noStrike">
                <a:solidFill>
                  <a:srgbClr val="cc0000"/>
                </a:solidFill>
                <a:latin typeface="Tahoma"/>
              </a:rPr>
              <a:t>C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не совпадают: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anon </a:t>
            </a:r>
            <a:r>
              <a:rPr b="1" lang="en-US" sz="2800" spc="-1" strike="noStrike">
                <a:solidFill>
                  <a:srgbClr val="cc0000"/>
                </a:solidFill>
                <a:latin typeface="Tahoma"/>
              </a:rPr>
              <a:t>C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≠ canon </a:t>
            </a:r>
            <a:r>
              <a:rPr b="1" lang="en-US" sz="2800" spc="-1" strike="noStrike">
                <a:solidFill>
                  <a:srgbClr val="cc0000"/>
                </a:solidFill>
                <a:latin typeface="Tahoma"/>
              </a:rPr>
              <a:t>C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Tahoma"/>
              </a:rPr>
              <a:t>2.16 Подклассы и надклассы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Теорема 10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Если множество атомов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AVal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конечно, то множество канонических форм надклассов класса </a:t>
            </a:r>
            <a:r>
              <a:rPr b="1" lang="ru-RU" sz="3200" spc="-1" strike="noStrike">
                <a:solidFill>
                  <a:srgbClr val="cc0000"/>
                </a:solidFill>
                <a:latin typeface="Tahoma"/>
              </a:rPr>
              <a:t>C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{ canon </a:t>
            </a:r>
            <a:r>
              <a:rPr b="1" lang="ru-RU" sz="3200" spc="-1" strike="noStrike">
                <a:solidFill>
                  <a:srgbClr val="cc0000"/>
                </a:solidFill>
                <a:latin typeface="Tahoma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*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| </a:t>
            </a:r>
            <a:r>
              <a:rPr b="1" lang="ru-RU" sz="3200" spc="-1" strike="noStrike">
                <a:solidFill>
                  <a:srgbClr val="cc0000"/>
                </a:solidFill>
                <a:latin typeface="Tahoma"/>
              </a:rPr>
              <a:t>C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cc0000"/>
                </a:solidFill>
                <a:latin typeface="Tahoma"/>
              </a:rPr>
              <a:t>≤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cc0000"/>
                </a:solidFill>
                <a:latin typeface="Tahoma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*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}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онечно для любого класса </a:t>
            </a:r>
            <a:r>
              <a:rPr b="1" lang="ru-RU" sz="3200" spc="-1" strike="noStrike">
                <a:solidFill>
                  <a:srgbClr val="cc0000"/>
                </a:solidFill>
                <a:latin typeface="Tahoma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Tahoma"/>
              </a:rPr>
              <a:t>Доказательство</a:t>
            </a: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усть </a:t>
            </a:r>
            <a:r>
              <a:rPr b="1" lang="ru-RU" sz="2800" spc="-1" strike="noStrike">
                <a:solidFill>
                  <a:srgbClr val="cc0000"/>
                </a:solidFill>
                <a:latin typeface="Tahoma"/>
              </a:rPr>
              <a:t>C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cc0000"/>
                </a:solidFill>
                <a:latin typeface="Tahoma"/>
              </a:rPr>
              <a:t>≤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cc0000"/>
                </a:solidFill>
                <a:latin typeface="Tahoma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*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тогда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длина»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R-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азы у </a:t>
            </a:r>
            <a:r>
              <a:rPr b="1" lang="ru-RU" sz="2800" spc="-1" strike="noStrike">
                <a:solidFill>
                  <a:srgbClr val="cc0000"/>
                </a:solidFill>
                <a:latin typeface="Tahoma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*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меньше, чем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длина»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R-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азы у </a:t>
            </a:r>
            <a:r>
              <a:rPr b="1" lang="ru-RU" sz="2800" spc="-1" strike="noStrike">
                <a:solidFill>
                  <a:srgbClr val="cc0000"/>
                </a:solidFill>
                <a:latin typeface="Tahoma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десь «длина» — число переменных, атомов и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«длина»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R-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базы у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canon </a:t>
            </a:r>
            <a:r>
              <a:rPr b="1" lang="ru-RU" sz="2800" spc="-1" strike="noStrike">
                <a:solidFill>
                  <a:srgbClr val="cc0000"/>
                </a:solidFill>
                <a:latin typeface="Tahoma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*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е больше,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чем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R-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аза состоит из атомов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CONS … …  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-, ce-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еменных, индексы которых от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до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аких различных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R-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баз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— конечное число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стрикции: конечное множество (без повторов) из пар, слева/справа: атомы или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-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еменные, индексы которых от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до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аких различных рестрикций — конечное число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Tahoma"/>
              </a:rPr>
              <a:t>Обзор главы</a:t>
            </a: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Подстановки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— для получения элементов представленного множества и для сужения множеств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Сужения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— либо подстановка, либо рестрикция (дополнение к имеющимся ограничениям на значения c-переменных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Суперпозиция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для подстановок (сужений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Tahoma"/>
              </a:rPr>
              <a:t>2.17 Разбиения</a:t>
            </a: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Определение 24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Пусть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(cx, rs)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— SR-выражение.   Тогда пару сужений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sp = (c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, c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назовем разбиением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ля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(cx, rs)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а сами сужения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и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назовем элементарными сужениями для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(cx, rs)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если пара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(c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, c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или пара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(c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, c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имеет один из следующих видов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Tahoma"/>
              </a:rPr>
              <a:t>2.17 Разбиения</a:t>
            </a: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3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(idC,                     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emptC 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63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(S [</a:t>
            </a:r>
            <a:r>
              <a:rPr b="1" lang="ru-RU" sz="2800" spc="-1" strike="noStrike">
                <a:solidFill>
                  <a:srgbClr val="800000"/>
                </a:solidFill>
                <a:latin typeface="Tahoma"/>
              </a:rPr>
              <a:t>E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.i:-&gt;(CONS </a:t>
            </a:r>
            <a:r>
              <a:rPr b="1" lang="ru-RU" sz="2800" spc="-1" strike="noStrike">
                <a:solidFill>
                  <a:srgbClr val="800000"/>
                </a:solidFill>
                <a:latin typeface="Tahoma"/>
              </a:rPr>
              <a:t>E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.m </a:t>
            </a:r>
            <a:r>
              <a:rPr b="1" lang="ru-RU" sz="2800" spc="-1" strike="noStrike">
                <a:solidFill>
                  <a:srgbClr val="800000"/>
                </a:solidFill>
                <a:latin typeface="Tahoma"/>
              </a:rPr>
              <a:t>E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.n)],            S [</a:t>
            </a:r>
            <a:r>
              <a:rPr b="1" lang="ru-RU" sz="2800" spc="-1" strike="noStrike">
                <a:solidFill>
                  <a:srgbClr val="800000"/>
                </a:solidFill>
                <a:latin typeface="Tahoma"/>
              </a:rPr>
              <a:t>E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.i:-&gt;</a:t>
            </a:r>
            <a:r>
              <a:rPr b="1" lang="ru-RU" sz="2800" spc="-1" strike="noStrike">
                <a:solidFill>
                  <a:srgbClr val="800000"/>
                </a:solidFill>
                <a:latin typeface="Tahoma"/>
              </a:rPr>
              <a:t>A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.p]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63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3.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(S [</a:t>
            </a:r>
            <a:r>
              <a:rPr b="1" lang="ru-RU" sz="2800" spc="-1" strike="noStrike">
                <a:solidFill>
                  <a:srgbClr val="800000"/>
                </a:solidFill>
                <a:latin typeface="Tahoma"/>
              </a:rPr>
              <a:t>A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.j:-&gt;</a:t>
            </a:r>
            <a:r>
              <a:rPr b="1" lang="ru-RU" sz="2800" spc="-1" strike="noStrike">
                <a:solidFill>
                  <a:srgbClr val="800000"/>
                </a:solidFill>
                <a:latin typeface="Tahoma"/>
              </a:rPr>
              <a:t>A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.k],                     R RESTR[</a:t>
            </a:r>
            <a:r>
              <a:rPr b="1" lang="ru-RU" sz="2800" spc="-1" strike="noStrike">
                <a:solidFill>
                  <a:srgbClr val="800000"/>
                </a:solidFill>
                <a:latin typeface="Tahoma"/>
              </a:rPr>
              <a:t>A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.j:≠:</a:t>
            </a:r>
            <a:r>
              <a:rPr b="1" lang="ru-RU" sz="2800" spc="-1" strike="noStrike">
                <a:solidFill>
                  <a:srgbClr val="800000"/>
                </a:solidFill>
                <a:latin typeface="Tahoma"/>
              </a:rPr>
              <a:t>A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.k]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63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(S [</a:t>
            </a:r>
            <a:r>
              <a:rPr b="1" lang="ru-RU" sz="2800" spc="-1" strike="noStrike">
                <a:solidFill>
                  <a:srgbClr val="800000"/>
                </a:solidFill>
                <a:latin typeface="Tahoma"/>
              </a:rPr>
              <a:t>A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.j:-&gt;’a],                         R RESTR[</a:t>
            </a:r>
            <a:r>
              <a:rPr b="1" lang="ru-RU" sz="2800" spc="-1" strike="noStrike">
                <a:solidFill>
                  <a:srgbClr val="800000"/>
                </a:solidFill>
                <a:latin typeface="Tahoma"/>
              </a:rPr>
              <a:t>A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.j:≠: ’a]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63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63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гд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39880" indent="-28584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ahoma"/>
              </a:rPr>
              <a:t>E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.i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ru-RU" sz="2800" spc="-1" strike="noStrike">
                <a:solidFill>
                  <a:srgbClr val="800000"/>
                </a:solidFill>
                <a:latin typeface="Tahoma"/>
              </a:rPr>
              <a:t>A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.j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ru-RU" sz="2800" spc="-1" strike="noStrike">
                <a:solidFill>
                  <a:srgbClr val="800000"/>
                </a:solidFill>
                <a:latin typeface="Tahoma"/>
              </a:rPr>
              <a:t>A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.k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— переменные из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cx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то есть они входят в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cvars 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39880" indent="-28584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ahoma"/>
              </a:rPr>
              <a:t>E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.m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ru-RU" sz="2800" spc="-1" strike="noStrike">
                <a:solidFill>
                  <a:srgbClr val="800000"/>
                </a:solidFill>
                <a:latin typeface="Tahoma"/>
              </a:rPr>
              <a:t>E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.n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ru-RU" sz="2800" spc="-1" strike="noStrike">
                <a:solidFill>
                  <a:srgbClr val="800000"/>
                </a:solidFill>
                <a:latin typeface="Tahoma"/>
              </a:rPr>
              <a:t>A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.p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—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овые c-переменные для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cx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то есть индексы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не используются в качестве индексов c-переменных в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39880" indent="-28584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— некоторый ато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Tahoma"/>
              </a:rPr>
              <a:t>2.17 Разбиения</a:t>
            </a: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2440" indent="-35244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войство.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лементарные сужения сохраняют линейность; р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езультат элементарного сужения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-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ласса есть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-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лас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52440" indent="-35244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Теорема 29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усть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sp=(c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, c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— разбиение для SR-выражения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=x/.c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=x/.c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 Тогда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&lt;x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&gt;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&lt;x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&gt;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— разбиение множества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&lt;x&gt;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: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&lt;x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&gt;</a:t>
            </a:r>
            <a:r>
              <a:rPr b="1" lang="ru-RU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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&lt;x&gt;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&lt;x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&gt;</a:t>
            </a:r>
            <a:r>
              <a:rPr b="1" lang="ru-RU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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&lt;x&gt;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&lt;x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&gt;</a:t>
            </a:r>
            <a:r>
              <a:rPr b="1" lang="ru-RU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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&lt;x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&gt;=&lt;x&gt;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&lt;x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&gt;</a:t>
            </a:r>
            <a:r>
              <a:rPr b="1" lang="ru-RU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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&lt;x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&gt;=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Tahoma"/>
              </a:rPr>
              <a:t>2.17 Разбиения</a:t>
            </a: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174600" y="1911240"/>
            <a:ext cx="8732880" cy="460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Tahoma"/>
              </a:rPr>
              <a:t>Обзор главы</a:t>
            </a: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10840" y="1599840"/>
            <a:ext cx="8396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роблема 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подбора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выбора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) способов представления множеств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Подход, традиционный для математик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{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2n + 1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|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n ≥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{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(5 cos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l-GR" sz="2800" spc="-1" strike="noStrike">
                <a:solidFill>
                  <a:srgbClr val="000000"/>
                </a:solidFill>
                <a:latin typeface="Tahoma"/>
              </a:rPr>
              <a:t>φ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, 5 sin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l-GR" sz="2800" spc="-1" strike="noStrike">
                <a:solidFill>
                  <a:srgbClr val="000000"/>
                </a:solidFill>
                <a:latin typeface="Tahoma"/>
              </a:rPr>
              <a:t>φ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|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0 ≤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l-GR" sz="2800" spc="-1" strike="noStrike">
                <a:solidFill>
                  <a:srgbClr val="000000"/>
                </a:solidFill>
                <a:latin typeface="Tahoma"/>
              </a:rPr>
              <a:t>φ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≤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l-GR" sz="2800" spc="-1" strike="noStrike">
                <a:solidFill>
                  <a:srgbClr val="000000"/>
                </a:solidFill>
                <a:latin typeface="Tahoma"/>
              </a:rPr>
              <a:t>π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/2 }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Для языка TS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((CONS </a:t>
            </a:r>
            <a:r>
              <a:rPr b="1" lang="ru-RU" sz="2800" spc="-1" strike="noStrike">
                <a:solidFill>
                  <a:srgbClr val="cc0000"/>
                </a:solidFill>
                <a:latin typeface="Tahoma"/>
              </a:rPr>
              <a:t>A.1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cc0000"/>
                </a:solidFill>
                <a:latin typeface="Tahoma"/>
              </a:rPr>
              <a:t>E.2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), RESTR[</a:t>
            </a:r>
            <a:r>
              <a:rPr b="1" lang="ru-RU" sz="2800" spc="-1" strike="noStrike">
                <a:solidFill>
                  <a:srgbClr val="cc0000"/>
                </a:solidFill>
                <a:latin typeface="Tahoma"/>
              </a:rPr>
              <a:t>A.1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/=: ’A]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((CONS </a:t>
            </a:r>
            <a:r>
              <a:rPr b="1" lang="ru-RU" sz="2800" spc="-1" strike="noStrike">
                <a:solidFill>
                  <a:srgbClr val="cc0000"/>
                </a:solidFill>
                <a:latin typeface="Tahoma"/>
              </a:rPr>
              <a:t>A.1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cc0000"/>
                </a:solidFill>
                <a:latin typeface="Tahoma"/>
              </a:rPr>
              <a:t>A.2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), RESTR[</a:t>
            </a:r>
            <a:r>
              <a:rPr b="1" lang="ru-RU" sz="2800" spc="-1" strike="noStrike">
                <a:solidFill>
                  <a:srgbClr val="cc0000"/>
                </a:solidFill>
                <a:latin typeface="Tahoma"/>
              </a:rPr>
              <a:t>A.1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:=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/=: </a:t>
            </a:r>
            <a:r>
              <a:rPr b="1" lang="ru-RU" sz="2800" spc="-1" strike="noStrike">
                <a:solidFill>
                  <a:srgbClr val="cc0000"/>
                </a:solidFill>
                <a:latin typeface="Tahoma"/>
              </a:rPr>
              <a:t>A.2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]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Tahoma"/>
              </a:rPr>
              <a:t>Обзор главы</a:t>
            </a: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вели средства конструктивного представления множеств для языка TSG, исследуются и обосновываются их свойств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онфигурационные переменные (c-переменные), двух типов (для языка TSG): </a:t>
            </a:r>
            <a:r>
              <a:rPr b="1" lang="ru-RU" sz="3200" spc="-1" strike="noStrike">
                <a:solidFill>
                  <a:srgbClr val="cc0000"/>
                </a:solidFill>
                <a:latin typeface="Tahoma"/>
              </a:rPr>
              <a:t>A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1" i="1" lang="ru-RU" sz="3200" spc="-1" strike="noStrike">
                <a:solidFill>
                  <a:srgbClr val="000000"/>
                </a:solidFill>
                <a:latin typeface="Tahoma"/>
              </a:rPr>
              <a:t>index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ru-RU" sz="3200" spc="-1" strike="noStrike">
                <a:solidFill>
                  <a:srgbClr val="cc0000"/>
                </a:solidFill>
                <a:latin typeface="Tahoma"/>
              </a:rPr>
              <a:t>E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1" i="1" lang="ru-RU" sz="3200" spc="-1" strike="noStrike">
                <a:solidFill>
                  <a:srgbClr val="000000"/>
                </a:solidFill>
                <a:latin typeface="Tahoma"/>
              </a:rPr>
              <a:t>inde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естрикции: системы неравенств, задающих дополнительные ограничения на допустимые значения ca-переменных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Tahoma"/>
              </a:rPr>
              <a:t>Обзор главы</a:t>
            </a: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SR-выражение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(cx,rs)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представляет множество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&lt;cx,rs&gt;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: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&lt;cx,rs&gt; = { cx/.s | s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FVS(cx,rs) }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где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— подстановка,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(/.)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— операция применения подстановки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к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cx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FVS(cx,rs)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—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множество полных допустимых для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(cx,rs)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подстановок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Tahoma"/>
              </a:rPr>
              <a:t>Обзор главы</a:t>
            </a: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Частные случаи SR-выражений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классы и L-классы — представляют множества данных языка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S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конфигурации — представляют множества состояний вычисления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SG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программ над данным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и т.п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Tahoma"/>
              </a:rPr>
              <a:t>Обзор главы</a:t>
            </a: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Подстановки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— для получения элементов представленного множества и для сужения множеств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Сужения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— либо подстановка, либо рестрикция (дополнение к имеющимся ограничениям на значения c-переменных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Суперпозиция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для подстановок (сужений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Tahoma"/>
              </a:rPr>
              <a:t>Обзор главы</a:t>
            </a: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тношение (</a:t>
            </a:r>
            <a:r>
              <a:rPr b="1" lang="ru-RU" sz="3200" spc="-1" strike="noStrike">
                <a:solidFill>
                  <a:srgbClr val="cc0000"/>
                </a:solidFill>
                <a:latin typeface="Tahoma"/>
              </a:rPr>
              <a:t>≤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) частичного порядка на множестве SR-выражений: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sr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cc0000"/>
                </a:solidFill>
                <a:latin typeface="Tahoma"/>
              </a:rPr>
              <a:t>≤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sr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если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sr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является результатом выполнения некоторого числа сужений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sr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войство: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sr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cc0000"/>
                </a:solidFill>
                <a:latin typeface="Tahoma"/>
              </a:rPr>
              <a:t>≤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sr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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&lt;sr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&gt; </a:t>
            </a:r>
            <a:r>
              <a:rPr b="1" lang="ru-RU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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&lt;sr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аноническая форма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(canon </a:t>
            </a:r>
            <a:r>
              <a:rPr b="1" lang="ru-RU" sz="3200" spc="-1" strike="noStrike">
                <a:solidFill>
                  <a:srgbClr val="cc0000"/>
                </a:solidFill>
                <a:latin typeface="Tahoma"/>
              </a:rPr>
              <a:t>C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записи класса </a:t>
            </a:r>
            <a:r>
              <a:rPr b="1" lang="ru-RU" sz="3200" spc="-1" strike="noStrike">
                <a:solidFill>
                  <a:srgbClr val="cc0000"/>
                </a:solidFill>
                <a:latin typeface="Tahoma"/>
              </a:rPr>
              <a:t>C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и его свойства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&lt;canon C&gt;=&lt;C&gt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множество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{ canon C* | C </a:t>
            </a:r>
            <a:r>
              <a:rPr b="1" lang="ru-RU" sz="3200" spc="-1" strike="noStrike">
                <a:solidFill>
                  <a:srgbClr val="cc0000"/>
                </a:solidFill>
                <a:latin typeface="Tahoma"/>
              </a:rPr>
              <a:t>≤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C* }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канонических форм надклассов класса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конечно для любого класса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Tahoma"/>
              </a:rPr>
              <a:t>Обзор главы</a:t>
            </a: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ahoma"/>
              </a:rPr>
              <a:t>Разбиение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— пара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(c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, c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элементарных сужений: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&lt;sr/.c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&gt; </a:t>
            </a:r>
            <a:r>
              <a:rPr b="1" lang="ru-RU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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&lt;sr&gt;,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&lt;sr/.c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&gt; </a:t>
            </a:r>
            <a:r>
              <a:rPr b="1" lang="ru-RU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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&lt;sr/.c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&gt; = &lt;sr&gt;,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&lt;sr/.c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&gt; </a:t>
            </a:r>
            <a:r>
              <a:rPr b="1" lang="ru-RU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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&lt;sr/.c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&gt; =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перация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unify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отождествления двух списков c-выражени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Tahoma"/>
              </a:rPr>
              <a:t>Обзор главы</a:t>
            </a: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ahoma"/>
              </a:rPr>
              <a:t>Разбиение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— пара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(c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, c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элементарных сужений: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&lt;sr/.c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&gt; </a:t>
            </a:r>
            <a:r>
              <a:rPr b="1" lang="ru-RU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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&lt;sr&gt;,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&lt;sr/.c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&gt; </a:t>
            </a:r>
            <a:r>
              <a:rPr b="1" lang="ru-RU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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&lt;sr&gt;,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&lt;sr/.c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&gt; </a:t>
            </a:r>
            <a:r>
              <a:rPr b="1" lang="ru-RU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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&lt;sr/.c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&gt; = &lt;sr&gt;,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&lt;sr/.c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&gt; </a:t>
            </a:r>
            <a:r>
              <a:rPr b="1" lang="ru-RU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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&lt;sr/.c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&gt; =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перация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unify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отождествления двух списков c-выражени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c5"/>
            </a:gs>
            <a:gs pos="100000">
              <a:srgbClr val="ffb96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Tahoma"/>
              </a:rPr>
              <a:t>Обзор главы</a:t>
            </a: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тношение (</a:t>
            </a:r>
            <a:r>
              <a:rPr b="1" lang="ru-RU" sz="3200" spc="-1" strike="noStrike">
                <a:solidFill>
                  <a:srgbClr val="cc0000"/>
                </a:solidFill>
                <a:latin typeface="Tahoma"/>
              </a:rPr>
              <a:t>≤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) частичного порядка на множестве SR-выражений: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sr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cc0000"/>
                </a:solidFill>
                <a:latin typeface="Tahoma"/>
              </a:rPr>
              <a:t>≤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sr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если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sr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является результатом выполнения некоторого числа сужений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sr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войство: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sr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cc0000"/>
                </a:solidFill>
                <a:latin typeface="Tahoma"/>
              </a:rPr>
              <a:t>≤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sr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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&lt;sr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&gt; </a:t>
            </a:r>
            <a:r>
              <a:rPr b="1" lang="ru-RU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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&lt;sr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аноническая форма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(canon </a:t>
            </a:r>
            <a:r>
              <a:rPr b="1" lang="ru-RU" sz="3200" spc="-1" strike="noStrike">
                <a:solidFill>
                  <a:srgbClr val="cc0000"/>
                </a:solidFill>
                <a:latin typeface="Tahoma"/>
              </a:rPr>
              <a:t>C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записи класса </a:t>
            </a:r>
            <a:r>
              <a:rPr b="1" lang="ru-RU" sz="3200" spc="-1" strike="noStrike">
                <a:solidFill>
                  <a:srgbClr val="cc0000"/>
                </a:solidFill>
                <a:latin typeface="Tahoma"/>
              </a:rPr>
              <a:t>C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и его свойства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&lt;canon C&gt;=&lt;C&gt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множество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{ canon C* | C </a:t>
            </a:r>
            <a:r>
              <a:rPr b="1" lang="ru-RU" sz="3200" spc="-1" strike="noStrike">
                <a:solidFill>
                  <a:srgbClr val="cc0000"/>
                </a:solidFill>
                <a:latin typeface="Tahoma"/>
              </a:rPr>
              <a:t>≤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C* }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канонических форм надклассов класса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конечно для любого класса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9T10:02:47Z</dcterms:created>
  <dc:creator>Sergei Abramov</dc:creator>
  <dc:description/>
  <dc:language>en-US</dc:language>
  <cp:lastModifiedBy>Sergei M. Abramov</cp:lastModifiedBy>
  <dcterms:modified xsi:type="dcterms:W3CDTF">2007-10-02T07:05:24Z</dcterms:modified>
  <cp:revision>472</cp:revision>
  <dc:subject/>
  <dc:title>Slide 1</dc:title>
</cp:coreProperties>
</file>