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DBD-57C2-480D-832A-63F28ADA9B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53E5-FD37-44C8-8751-6003EC387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5AA-6324-4BA5-B120-B05007E72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2D3-F500-4B8D-9D7B-30B09E93B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6CF-FF34-4174-A0AE-FA8237FB8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125B-0143-48D3-9B42-71B00B01C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24C5-24D7-4FF6-99EF-DE819CB41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7D3-BA08-45FA-AD1F-CD9F66297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166C-53A5-47EA-B7A1-DCC6203C3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1823-EFA4-44EB-A88A-B33999FA8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5C0-05ED-408C-A67D-B0BFB4AE6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5A7-2AA7-4674-95F9-283D99C0A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B3C8-9A64-4A24-A862-DA0F1D846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D5A-5AB4-4FDE-BCB7-A896D52BF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6469-4F6B-420B-A741-9E128861B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3C2-A658-4212-93E9-B455FB91B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373-F975-4733-A4D7-7FBA00AEB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169A-E2FC-4E7A-988B-BBE9519A3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2FA-C37A-4686-B265-9F8356E3B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66F-EF57-4818-A1B9-D94213912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75E-616C-4113-A65D-D4E8303BA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1816-03F8-4EA4-BB81-45CD13452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6F2-53D1-4E9F-847A-5EF0D9D64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605-71B9-4DBB-B618-FDFC91F10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F13-B126-45A6-92F7-FDD6264E1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EB5-E082-4D87-A254-2D65C2DEF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12E-6F8B-4C5B-B5D7-029E4463C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493-B150-4261-8DBB-195606E13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4D7-D5FE-4561-86B5-8C32C08D9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045-99C5-4CE1-B2BD-B3C8DCF9D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01C-CA49-4EF4-B54A-F142CC40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5F8-0DF5-4BF4-8224-E61565D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BD2-8AEB-46F3-B492-91675864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220-5606-43CF-BAFF-A67DE336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A73F-D3B9-4A6A-AEA5-4FDB4CFB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DB6D-08A1-49BA-BF56-7446201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AF0-4862-45BB-A715-D0F4DE0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E66-128F-482B-A113-D394D3F3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C29D-D132-46E9-97E3-28C54D55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3B8-5996-4AA9-8A00-0C1FBF5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1998-A93E-40BC-9E8C-8C247CE7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42F-A06E-45A4-B8D7-1748C77E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6BB-F8DE-41F9-BC4A-A40BC97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316F-DD84-4BC3-8E17-8452792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3FE3-BDBB-483C-9ACD-050702DE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DC87-1AF7-4C89-AC0C-BFA1762D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560-CCFB-4A74-AE3E-577B3400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210-0DB7-416B-BAAB-4872CF6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D6C-7508-4F92-A982-D4EC03A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647-8B27-4E14-A52D-6FC17B6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DD9-BFA4-4F08-8254-02F669E0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8B1-7186-484C-B9C8-2E406CE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5A3-093C-4E0C-A3B4-278C923A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AA7-A8AB-43C8-889B-BEEACC9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ECC8-86DF-4404-8FFB-CE7FDF615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075-4275-4EE3-BB06-3C754AC5D0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40160" y="495360"/>
            <a:ext cx="5703840" cy="5632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12. Примеры суперкомпиля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648240"/>
            <a:ext cx="849312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define "F21"[A19, E14]= --*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1=’A:A19:E1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alt (eqa? A19 ’A)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(alt (cons? E14 E23 E24 A25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(alt (cons? E23 E27 E28 A29)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’FAILURE --E1=’A:’A:(_:_):E24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(call "F31"[ A29, E24])) --E1=’A:’A:A29:E24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’FAILURE) --E1=’A:’A:A25 ***EOL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(call "F2"[ E14]))) --E1=’A:A19:E14, A19=/=’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19"/>
          <p:cNvGrpSpPr/>
          <p:nvPr/>
        </p:nvGrpSpPr>
        <p:grpSpPr>
          <a:xfrm>
            <a:off x="798480" y="343080"/>
            <a:ext cx="8237520" cy="2960640"/>
            <a:chOff x="798480" y="343080"/>
            <a:chExt cx="8237520" cy="2960640"/>
          </a:xfrm>
        </p:grpSpPr>
        <p:sp>
          <p:nvSpPr>
            <p:cNvPr id="139" name="Oval 5"/>
            <p:cNvSpPr/>
            <p:nvPr/>
          </p:nvSpPr>
          <p:spPr>
            <a:xfrm>
              <a:off x="2276280" y="254016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4871880" y="123696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3957480" y="343080"/>
              <a:ext cx="259416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a19:e14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42" name="AutoShape 9"/>
            <p:cNvCxnSpPr>
              <a:stCxn id="141" idx="2"/>
              <a:endCxn id="140" idx="0"/>
            </p:cNvCxnSpPr>
            <p:nvPr/>
          </p:nvCxnSpPr>
          <p:spPr>
            <a:xfrm>
              <a:off x="5254200" y="822600"/>
              <a:ext cx="1080" cy="3960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3" name="AutoShape 10"/>
            <p:cNvSpPr/>
            <p:nvPr/>
          </p:nvSpPr>
          <p:spPr>
            <a:xfrm>
              <a:off x="798480" y="1379880"/>
              <a:ext cx="371808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a19:e4, a19≠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44" name="AutoShape 11"/>
            <p:cNvCxnSpPr>
              <a:stCxn id="140" idx="2"/>
              <a:endCxn id="143" idx="3"/>
            </p:cNvCxnSpPr>
            <p:nvPr/>
          </p:nvCxnSpPr>
          <p:spPr>
            <a:xfrm flipH="1" flipV="1">
              <a:off x="4516560" y="1618920"/>
              <a:ext cx="33660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5" name="AutoShape 12"/>
            <p:cNvCxnSpPr>
              <a:stCxn id="143" idx="2"/>
              <a:endCxn id="139" idx="0"/>
            </p:cNvCxnSpPr>
            <p:nvPr/>
          </p:nvCxnSpPr>
          <p:spPr>
            <a:xfrm flipH="1" rot="16200000">
              <a:off x="2327400" y="2189160"/>
              <a:ext cx="662400" cy="2160"/>
            </a:xfrm>
            <a:prstGeom prst="bentConnector3">
              <a:avLst>
                <a:gd name="adj1" fmla="val 51277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6" name="Oval 13"/>
            <p:cNvSpPr/>
            <p:nvPr/>
          </p:nvSpPr>
          <p:spPr>
            <a:xfrm>
              <a:off x="7154640" y="2540160"/>
              <a:ext cx="76392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3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47" name="AutoShape 14"/>
            <p:cNvSpPr/>
            <p:nvPr/>
          </p:nvSpPr>
          <p:spPr>
            <a:xfrm>
              <a:off x="6037200" y="1378080"/>
              <a:ext cx="299880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a29:e24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48" name="AutoShape 15"/>
            <p:cNvCxnSpPr>
              <a:stCxn id="147" idx="2"/>
              <a:endCxn id="146" idx="0"/>
            </p:cNvCxnSpPr>
            <p:nvPr/>
          </p:nvCxnSpPr>
          <p:spPr>
            <a:xfrm>
              <a:off x="7536960" y="1857240"/>
              <a:ext cx="1080" cy="6642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AutoShape 16"/>
            <p:cNvCxnSpPr>
              <a:stCxn id="140" idx="6"/>
              <a:endCxn id="147" idx="1"/>
            </p:cNvCxnSpPr>
            <p:nvPr/>
          </p:nvCxnSpPr>
          <p:spPr>
            <a:xfrm flipV="1">
              <a:off x="5654160" y="1617120"/>
              <a:ext cx="383400" cy="25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0"/>
          <p:cNvGrpSpPr/>
          <p:nvPr/>
        </p:nvGrpSpPr>
        <p:grpSpPr>
          <a:xfrm>
            <a:off x="0" y="85680"/>
            <a:ext cx="9016920" cy="5516640"/>
            <a:chOff x="0" y="85680"/>
            <a:chExt cx="9016920" cy="5516640"/>
          </a:xfrm>
        </p:grpSpPr>
        <p:sp>
          <p:nvSpPr>
            <p:cNvPr id="151" name="Oval 6"/>
            <p:cNvSpPr/>
            <p:nvPr/>
          </p:nvSpPr>
          <p:spPr>
            <a:xfrm>
              <a:off x="76320" y="342900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1528920" y="483876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>
              <a:off x="4422600" y="5087880"/>
              <a:ext cx="433080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'B:'A:'A:'C:e54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54" name="AutoShape 11"/>
            <p:cNvCxnSpPr>
              <a:stCxn id="155" idx="1"/>
              <a:endCxn id="156" idx="3"/>
            </p:cNvCxnSpPr>
            <p:nvPr/>
          </p:nvCxnSpPr>
          <p:spPr>
            <a:xfrm flipV="1" rot="16200000">
              <a:off x="6108120" y="200880"/>
              <a:ext cx="591120" cy="168660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2"/>
            <p:cNvCxnSpPr>
              <a:stCxn id="158" idx="1"/>
              <a:endCxn id="151" idx="0"/>
            </p:cNvCxnSpPr>
            <p:nvPr/>
          </p:nvCxnSpPr>
          <p:spPr>
            <a:xfrm flipV="1" rot="10800000">
              <a:off x="457920" y="2057760"/>
              <a:ext cx="658080" cy="135180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55" name="Oval 13"/>
            <p:cNvSpPr/>
            <p:nvPr/>
          </p:nvSpPr>
          <p:spPr>
            <a:xfrm>
              <a:off x="7135920" y="124776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3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>
              <a:off x="6018120" y="85680"/>
              <a:ext cx="299880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a29:e24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60" name="AutoShape 15"/>
            <p:cNvCxnSpPr>
              <a:stCxn id="159" idx="2"/>
              <a:endCxn id="155" idx="0"/>
            </p:cNvCxnSpPr>
            <p:nvPr/>
          </p:nvCxnSpPr>
          <p:spPr>
            <a:xfrm>
              <a:off x="7517880" y="564840"/>
              <a:ext cx="1080" cy="6642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56" name="AutoShape 17"/>
            <p:cNvSpPr/>
            <p:nvPr/>
          </p:nvSpPr>
          <p:spPr>
            <a:xfrm>
              <a:off x="0" y="479520"/>
              <a:ext cx="556092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'B:'A:'A:a59:e54 a59≠'C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61" name="AutoShape 19"/>
            <p:cNvCxnSpPr>
              <a:stCxn id="156" idx="2"/>
              <a:endCxn id="155" idx="2"/>
            </p:cNvCxnSpPr>
            <p:nvPr/>
          </p:nvCxnSpPr>
          <p:spPr>
            <a:xfrm flipH="1" rot="16200000">
              <a:off x="4642560" y="-843120"/>
              <a:ext cx="612000" cy="433620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58" name="AutoShape 20"/>
            <p:cNvSpPr/>
            <p:nvPr/>
          </p:nvSpPr>
          <p:spPr>
            <a:xfrm>
              <a:off x="1116000" y="1789200"/>
              <a:ext cx="50068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'B:'A:a49:e44 a49≠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62" name="AutoShape 22"/>
            <p:cNvCxnSpPr>
              <a:stCxn id="155" idx="3"/>
              <a:endCxn id="158" idx="3"/>
            </p:cNvCxnSpPr>
            <p:nvPr/>
          </p:nvCxnSpPr>
          <p:spPr>
            <a:xfrm rot="5400000">
              <a:off x="6614280" y="1427040"/>
              <a:ext cx="140400" cy="11246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3" name="AutoShape 23"/>
            <p:cNvCxnSpPr>
              <a:stCxn id="155" idx="6"/>
              <a:endCxn id="153" idx="3"/>
            </p:cNvCxnSpPr>
            <p:nvPr/>
          </p:nvCxnSpPr>
          <p:spPr>
            <a:xfrm>
              <a:off x="7918200" y="1630440"/>
              <a:ext cx="835560" cy="3697920"/>
            </a:xfrm>
            <a:prstGeom prst="bentConnector3">
              <a:avLst>
                <a:gd name="adj1" fmla="val 12737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4" name="AutoShape 24"/>
            <p:cNvSpPr/>
            <p:nvPr/>
          </p:nvSpPr>
          <p:spPr>
            <a:xfrm>
              <a:off x="1116000" y="2583000"/>
              <a:ext cx="50068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'B:a39:e34 a39≠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65" name="AutoShape 25"/>
            <p:cNvCxnSpPr>
              <a:stCxn id="155" idx="4"/>
              <a:endCxn id="164" idx="3"/>
            </p:cNvCxnSpPr>
            <p:nvPr/>
          </p:nvCxnSpPr>
          <p:spPr>
            <a:xfrm rot="5400000">
              <a:off x="6409080" y="1743840"/>
              <a:ext cx="822960" cy="139572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6" name="AutoShape 26"/>
            <p:cNvCxnSpPr>
              <a:stCxn id="164" idx="1"/>
              <a:endCxn id="151" idx="7"/>
            </p:cNvCxnSpPr>
            <p:nvPr/>
          </p:nvCxnSpPr>
          <p:spPr>
            <a:xfrm flipV="1" rot="10800000">
              <a:off x="727920" y="2851560"/>
              <a:ext cx="388080" cy="6692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7" name="AutoShape 27"/>
            <p:cNvSpPr/>
            <p:nvPr/>
          </p:nvSpPr>
          <p:spPr>
            <a:xfrm>
              <a:off x="3454560" y="3660840"/>
              <a:ext cx="50068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'A:a29:e24 a29≠'B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68" name="AutoShape 28"/>
            <p:cNvCxnSpPr>
              <a:stCxn id="155" idx="5"/>
              <a:endCxn id="167" idx="3"/>
            </p:cNvCxnSpPr>
            <p:nvPr/>
          </p:nvCxnSpPr>
          <p:spPr>
            <a:xfrm flipH="1" rot="16200000">
              <a:off x="7119000" y="2587680"/>
              <a:ext cx="2012040" cy="673920"/>
            </a:xfrm>
            <a:prstGeom prst="bentConnector4">
              <a:avLst>
                <a:gd name="adj1" fmla="val 45526"/>
                <a:gd name="adj2" fmla="val 13393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29"/>
            <p:cNvCxnSpPr>
              <a:stCxn id="167" idx="1"/>
              <a:endCxn id="152" idx="0"/>
            </p:cNvCxnSpPr>
            <p:nvPr/>
          </p:nvCxnSpPr>
          <p:spPr>
            <a:xfrm flipV="1" rot="10800000">
              <a:off x="1910520" y="3930120"/>
              <a:ext cx="1544040" cy="88992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7240" y="1213920"/>
            <a:ext cx="8950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define "F31"[ A29, E24]= --**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E1 = ’A:’A:A29:E2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alt (eqa? A29 ’B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alt (cons? E24 E33 E34 A35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(alt (cons? E33 E37 E38 A39)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’FAILURE --E1=’A:’A:’B:(_:_):E34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(alt (eqa? A39 ’A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alt (cons? E34 E43 E44 A45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(alt (cons? E43 E47 E48 A49)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’FAILUR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(alt (eqa? A49 ’A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alt (cons? E44 E53 E54 A55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(alt (cons? E53 E57 E58 A59)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’FAILUR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(alt (eqa? A59 ’C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’SUCCESS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call"F31"[A59,E54])))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’FAILURE)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call "F2"[E44])))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’FAILURE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call "F2"[E34]))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’FAILURE)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(call "F21"[ A29, E24])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5"/>
          <p:cNvSpPr/>
          <p:nvPr/>
        </p:nvSpPr>
        <p:spPr>
          <a:xfrm>
            <a:off x="7205760" y="398520"/>
            <a:ext cx="763560" cy="763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6291360" y="1374840"/>
            <a:ext cx="2593800" cy="47952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a19:e14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3" name="AutoShape 8"/>
          <p:cNvCxnSpPr>
            <a:stCxn id="171" idx="4"/>
            <a:endCxn id="172" idx="0"/>
          </p:cNvCxnSpPr>
          <p:nvPr/>
        </p:nvCxnSpPr>
        <p:spPr>
          <a:xfrm>
            <a:off x="7587720" y="1181160"/>
            <a:ext cx="1080" cy="194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74" name="AutoShape 10"/>
          <p:cNvSpPr/>
          <p:nvPr/>
        </p:nvSpPr>
        <p:spPr>
          <a:xfrm>
            <a:off x="3735360" y="539640"/>
            <a:ext cx="2757600" cy="47952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a9:e4, a9≠'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5" name="AutoShape 11"/>
          <p:cNvCxnSpPr>
            <a:stCxn id="171" idx="2"/>
            <a:endCxn id="174" idx="3"/>
          </p:cNvCxnSpPr>
          <p:nvPr/>
        </p:nvCxnSpPr>
        <p:spPr>
          <a:xfrm rot="10800000">
            <a:off x="6492240" y="778680"/>
            <a:ext cx="694440" cy="2520"/>
          </a:xfrm>
          <a:prstGeom prst="bentConnector3">
            <a:avLst>
              <a:gd name="adj1" fmla="val 4870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76" name="AutoShape 12"/>
          <p:cNvCxnSpPr>
            <a:stCxn id="174" idx="0"/>
            <a:endCxn id="171" idx="0"/>
          </p:cNvCxnSpPr>
          <p:nvPr/>
        </p:nvCxnSpPr>
        <p:spPr>
          <a:xfrm flipH="1" flipV="1" rot="5400000">
            <a:off x="6271200" y="-777600"/>
            <a:ext cx="160920" cy="2473920"/>
          </a:xfrm>
          <a:prstGeom prst="bentConnector3">
            <a:avLst>
              <a:gd name="adj1" fmla="val 23049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77" name="Oval 15"/>
          <p:cNvSpPr/>
          <p:nvPr/>
        </p:nvSpPr>
        <p:spPr>
          <a:xfrm>
            <a:off x="7205760" y="2017800"/>
            <a:ext cx="763560" cy="763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2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AutoShape 18"/>
          <p:cNvSpPr/>
          <p:nvPr/>
        </p:nvSpPr>
        <p:spPr>
          <a:xfrm>
            <a:off x="933480" y="2160720"/>
            <a:ext cx="3717720" cy="47916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a19:e4, a19≠'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9" name="AutoShape 19"/>
          <p:cNvCxnSpPr>
            <a:stCxn id="177" idx="2"/>
            <a:endCxn id="178" idx="3"/>
          </p:cNvCxnSpPr>
          <p:nvPr/>
        </p:nvCxnSpPr>
        <p:spPr>
          <a:xfrm flipH="1" flipV="1">
            <a:off x="4650480" y="2399760"/>
            <a:ext cx="253620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8" idx="0"/>
            <a:endCxn id="171" idx="0"/>
          </p:cNvCxnSpPr>
          <p:nvPr/>
        </p:nvCxnSpPr>
        <p:spPr>
          <a:xfrm flipH="1" flipV="1" rot="5400000">
            <a:off x="4299120" y="-1128240"/>
            <a:ext cx="1782000" cy="4796280"/>
          </a:xfrm>
          <a:prstGeom prst="bentConnector3">
            <a:avLst>
              <a:gd name="adj1" fmla="val 11175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1" name="AutoShape 22"/>
          <p:cNvSpPr/>
          <p:nvPr/>
        </p:nvSpPr>
        <p:spPr>
          <a:xfrm>
            <a:off x="6087960" y="2949480"/>
            <a:ext cx="2998800" cy="47952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a29:e24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82" name="AutoShape 23"/>
          <p:cNvCxnSpPr>
            <a:stCxn id="181" idx="2"/>
            <a:endCxn id="183" idx="0"/>
          </p:cNvCxnSpPr>
          <p:nvPr/>
        </p:nvCxnSpPr>
        <p:spPr>
          <a:xfrm>
            <a:off x="7587720" y="3429000"/>
            <a:ext cx="1080" cy="504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4" name="AutoShape 24"/>
          <p:cNvCxnSpPr>
            <a:stCxn id="177" idx="4"/>
            <a:endCxn id="181" idx="0"/>
          </p:cNvCxnSpPr>
          <p:nvPr/>
        </p:nvCxnSpPr>
        <p:spPr>
          <a:xfrm>
            <a:off x="7587720" y="2800440"/>
            <a:ext cx="1080" cy="1497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5" name="AutoShape 25"/>
          <p:cNvCxnSpPr>
            <a:stCxn id="172" idx="2"/>
            <a:endCxn id="177" idx="0"/>
          </p:cNvCxnSpPr>
          <p:nvPr/>
        </p:nvCxnSpPr>
        <p:spPr>
          <a:xfrm flipH="1">
            <a:off x="7587360" y="1854000"/>
            <a:ext cx="1080" cy="144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6" name="AutoShape 29"/>
          <p:cNvSpPr/>
          <p:nvPr/>
        </p:nvSpPr>
        <p:spPr>
          <a:xfrm>
            <a:off x="450720" y="5619600"/>
            <a:ext cx="4330800" cy="47952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'B:'A:'A:'C:e54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87" name="AutoShape 30"/>
          <p:cNvCxnSpPr>
            <a:stCxn id="183" idx="1"/>
            <a:endCxn id="188" idx="3"/>
          </p:cNvCxnSpPr>
          <p:nvPr/>
        </p:nvCxnSpPr>
        <p:spPr>
          <a:xfrm flipV="1" rot="16200000">
            <a:off x="6442200" y="3169080"/>
            <a:ext cx="486720" cy="126252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9" name="AutoShape 31"/>
          <p:cNvCxnSpPr>
            <a:stCxn id="190" idx="1"/>
            <a:endCxn id="171" idx="0"/>
          </p:cNvCxnSpPr>
          <p:nvPr/>
        </p:nvCxnSpPr>
        <p:spPr>
          <a:xfrm flipH="1" rot="10800000">
            <a:off x="450360" y="378720"/>
            <a:ext cx="7138080" cy="4336200"/>
          </a:xfrm>
          <a:prstGeom prst="bentConnector4">
            <a:avLst>
              <a:gd name="adj1" fmla="val -3202"/>
              <a:gd name="adj2" fmla="val 104832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3" name="Oval 32"/>
          <p:cNvSpPr/>
          <p:nvPr/>
        </p:nvSpPr>
        <p:spPr>
          <a:xfrm>
            <a:off x="7205760" y="3951360"/>
            <a:ext cx="763560" cy="763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3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AutoShape 35"/>
          <p:cNvSpPr/>
          <p:nvPr/>
        </p:nvSpPr>
        <p:spPr>
          <a:xfrm>
            <a:off x="493560" y="3287880"/>
            <a:ext cx="5561280" cy="5396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'B:'A:'A:a59:e54 a59≠'C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1" name="AutoShape 36"/>
          <p:cNvCxnSpPr>
            <a:stCxn id="188" idx="2"/>
            <a:endCxn id="183" idx="2"/>
          </p:cNvCxnSpPr>
          <p:nvPr/>
        </p:nvCxnSpPr>
        <p:spPr>
          <a:xfrm flipH="1" rot="16200000">
            <a:off x="4977720" y="2124000"/>
            <a:ext cx="506880" cy="39124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90" name="AutoShape 37"/>
          <p:cNvSpPr/>
          <p:nvPr/>
        </p:nvSpPr>
        <p:spPr>
          <a:xfrm>
            <a:off x="450720" y="4444920"/>
            <a:ext cx="5007240" cy="54000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'B:'A:a49:e44 a49≠'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2" name="AutoShape 38"/>
          <p:cNvCxnSpPr>
            <a:stCxn id="183" idx="3"/>
            <a:endCxn id="190" idx="3"/>
          </p:cNvCxnSpPr>
          <p:nvPr/>
        </p:nvCxnSpPr>
        <p:spPr>
          <a:xfrm rot="5400000">
            <a:off x="6340320" y="3739320"/>
            <a:ext cx="92880" cy="185940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3" name="AutoShape 39"/>
          <p:cNvCxnSpPr>
            <a:stCxn id="183" idx="5"/>
            <a:endCxn id="186" idx="3"/>
          </p:cNvCxnSpPr>
          <p:nvPr/>
        </p:nvCxnSpPr>
        <p:spPr>
          <a:xfrm rot="5400000">
            <a:off x="5700960" y="3702240"/>
            <a:ext cx="1236960" cy="30772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94" name="AutoShape 40"/>
          <p:cNvSpPr/>
          <p:nvPr/>
        </p:nvSpPr>
        <p:spPr>
          <a:xfrm>
            <a:off x="450720" y="4981680"/>
            <a:ext cx="5007240" cy="5396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'B:a39:e34 a39≠'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5" name="AutoShape 41"/>
          <p:cNvCxnSpPr>
            <a:stCxn id="183" idx="4"/>
            <a:endCxn id="194" idx="3"/>
          </p:cNvCxnSpPr>
          <p:nvPr/>
        </p:nvCxnSpPr>
        <p:spPr>
          <a:xfrm rot="5400000">
            <a:off x="6263640" y="3927240"/>
            <a:ext cx="518040" cy="21308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6" name="AutoShape 42"/>
          <p:cNvCxnSpPr>
            <a:stCxn id="194" idx="1"/>
            <a:endCxn id="171" idx="0"/>
          </p:cNvCxnSpPr>
          <p:nvPr/>
        </p:nvCxnSpPr>
        <p:spPr>
          <a:xfrm flipH="1" rot="10800000">
            <a:off x="450360" y="378720"/>
            <a:ext cx="7138080" cy="4872600"/>
          </a:xfrm>
          <a:prstGeom prst="bentConnector4">
            <a:avLst>
              <a:gd name="adj1" fmla="val -3202"/>
              <a:gd name="adj2" fmla="val 1043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97" name="AutoShape 43"/>
          <p:cNvSpPr/>
          <p:nvPr/>
        </p:nvSpPr>
        <p:spPr>
          <a:xfrm>
            <a:off x="3817800" y="6318360"/>
            <a:ext cx="5007240" cy="5396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1='A:'A:a29:e24 a29≠'B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8" name="AutoShape 44"/>
          <p:cNvCxnSpPr>
            <a:stCxn id="183" idx="6"/>
            <a:endCxn id="197" idx="0"/>
          </p:cNvCxnSpPr>
          <p:nvPr/>
        </p:nvCxnSpPr>
        <p:spPr>
          <a:xfrm flipH="1">
            <a:off x="6321240" y="4334040"/>
            <a:ext cx="1667520" cy="1985040"/>
          </a:xfrm>
          <a:prstGeom prst="bentConnector4">
            <a:avLst>
              <a:gd name="adj1" fmla="val -12459"/>
              <a:gd name="adj2" fmla="val 88717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9" name="AutoShape 45"/>
          <p:cNvCxnSpPr>
            <a:stCxn id="197" idx="3"/>
            <a:endCxn id="177" idx="6"/>
          </p:cNvCxnSpPr>
          <p:nvPr/>
        </p:nvCxnSpPr>
        <p:spPr>
          <a:xfrm flipH="1" flipV="1">
            <a:off x="7988040" y="2400120"/>
            <a:ext cx="837360" cy="4188240"/>
          </a:xfrm>
          <a:prstGeom prst="bentConnector3">
            <a:avLst>
              <a:gd name="adj1" fmla="val -27311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7"/>
          <p:cNvGrpSpPr/>
          <p:nvPr/>
        </p:nvGrpSpPr>
        <p:grpSpPr>
          <a:xfrm>
            <a:off x="961920" y="740520"/>
            <a:ext cx="7266960" cy="5847480"/>
            <a:chOff x="961920" y="740520"/>
            <a:chExt cx="7266960" cy="5847480"/>
          </a:xfrm>
        </p:grpSpPr>
        <p:sp>
          <p:nvSpPr>
            <p:cNvPr id="201" name="Oval 2"/>
            <p:cNvSpPr/>
            <p:nvPr/>
          </p:nvSpPr>
          <p:spPr>
            <a:xfrm>
              <a:off x="6134040" y="96984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2" name="AutoShape 3"/>
            <p:cNvSpPr/>
            <p:nvPr/>
          </p:nvSpPr>
          <p:spPr>
            <a:xfrm>
              <a:off x="6156360" y="194616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03" name="AutoShape 4"/>
            <p:cNvCxnSpPr>
              <a:stCxn id="201" idx="4"/>
              <a:endCxn id="202" idx="0"/>
            </p:cNvCxnSpPr>
            <p:nvPr/>
          </p:nvCxnSpPr>
          <p:spPr>
            <a:xfrm>
              <a:off x="6516360" y="1752480"/>
              <a:ext cx="1080" cy="1944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4" name="AutoShape 5"/>
            <p:cNvSpPr/>
            <p:nvPr/>
          </p:nvSpPr>
          <p:spPr>
            <a:xfrm>
              <a:off x="7283520" y="1082520"/>
              <a:ext cx="71892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05" name="AutoShape 6"/>
            <p:cNvCxnSpPr>
              <a:stCxn id="201" idx="6"/>
              <a:endCxn id="204" idx="1"/>
            </p:cNvCxnSpPr>
            <p:nvPr/>
          </p:nvCxnSpPr>
          <p:spPr>
            <a:xfrm>
              <a:off x="6916320" y="1352160"/>
              <a:ext cx="36756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6" name="AutoShape 7"/>
            <p:cNvCxnSpPr>
              <a:stCxn id="204" idx="3"/>
              <a:endCxn id="201" idx="0"/>
            </p:cNvCxnSpPr>
            <p:nvPr/>
          </p:nvCxnSpPr>
          <p:spPr>
            <a:xfrm flipH="1" flipV="1">
              <a:off x="6516000" y="950400"/>
              <a:ext cx="1486440" cy="402480"/>
            </a:xfrm>
            <a:prstGeom prst="bentConnector4">
              <a:avLst>
                <a:gd name="adj1" fmla="val -15261"/>
                <a:gd name="adj2" fmla="val 152103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7" name="Oval 8"/>
            <p:cNvSpPr/>
            <p:nvPr/>
          </p:nvSpPr>
          <p:spPr>
            <a:xfrm>
              <a:off x="6134040" y="258912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8" name="AutoShape 9"/>
            <p:cNvSpPr/>
            <p:nvPr/>
          </p:nvSpPr>
          <p:spPr>
            <a:xfrm>
              <a:off x="5014800" y="270036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09" name="AutoShape 10"/>
            <p:cNvCxnSpPr>
              <a:stCxn id="207" idx="2"/>
              <a:endCxn id="208" idx="3"/>
            </p:cNvCxnSpPr>
            <p:nvPr/>
          </p:nvCxnSpPr>
          <p:spPr>
            <a:xfrm rot="10800000">
              <a:off x="5733360" y="2969280"/>
              <a:ext cx="381600" cy="2520"/>
            </a:xfrm>
            <a:prstGeom prst="bentConnector3">
              <a:avLst>
                <a:gd name="adj1" fmla="val 47497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11"/>
            <p:cNvCxnSpPr>
              <a:stCxn id="208" idx="0"/>
              <a:endCxn id="201" idx="0"/>
            </p:cNvCxnSpPr>
            <p:nvPr/>
          </p:nvCxnSpPr>
          <p:spPr>
            <a:xfrm flipH="1" flipV="1" rot="5400000">
              <a:off x="5070600" y="1254240"/>
              <a:ext cx="1750320" cy="1142280"/>
            </a:xfrm>
            <a:prstGeom prst="bentConnector3">
              <a:avLst>
                <a:gd name="adj1" fmla="val 111972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11" name="AutoShape 12"/>
            <p:cNvSpPr/>
            <p:nvPr/>
          </p:nvSpPr>
          <p:spPr>
            <a:xfrm>
              <a:off x="6156360" y="363060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12" name="AutoShape 13"/>
            <p:cNvCxnSpPr>
              <a:stCxn id="211" idx="2"/>
              <a:endCxn id="213" idx="0"/>
            </p:cNvCxnSpPr>
            <p:nvPr/>
          </p:nvCxnSpPr>
          <p:spPr>
            <a:xfrm>
              <a:off x="6516360" y="4169880"/>
              <a:ext cx="1080" cy="7009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4" name="AutoShape 14"/>
            <p:cNvCxnSpPr>
              <a:stCxn id="207" idx="4"/>
              <a:endCxn id="211" idx="0"/>
            </p:cNvCxnSpPr>
            <p:nvPr/>
          </p:nvCxnSpPr>
          <p:spPr>
            <a:xfrm>
              <a:off x="6516360" y="3371400"/>
              <a:ext cx="1080" cy="2595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5" name="AutoShape 15"/>
            <p:cNvCxnSpPr>
              <a:stCxn id="202" idx="2"/>
              <a:endCxn id="207" idx="0"/>
            </p:cNvCxnSpPr>
            <p:nvPr/>
          </p:nvCxnSpPr>
          <p:spPr>
            <a:xfrm flipH="1">
              <a:off x="6516000" y="2485800"/>
              <a:ext cx="1080" cy="849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16" name="AutoShape 16"/>
            <p:cNvSpPr/>
            <p:nvPr/>
          </p:nvSpPr>
          <p:spPr>
            <a:xfrm>
              <a:off x="961920" y="604836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C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17" name="AutoShape 17"/>
            <p:cNvCxnSpPr>
              <a:stCxn id="218" idx="2"/>
              <a:endCxn id="219" idx="1"/>
            </p:cNvCxnSpPr>
            <p:nvPr/>
          </p:nvCxnSpPr>
          <p:spPr>
            <a:xfrm flipH="1" rot="16200000">
              <a:off x="3909960" y="4070880"/>
              <a:ext cx="775440" cy="371700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0" name="AutoShape 18"/>
            <p:cNvCxnSpPr>
              <a:stCxn id="221" idx="1"/>
              <a:endCxn id="201" idx="0"/>
            </p:cNvCxnSpPr>
            <p:nvPr/>
          </p:nvCxnSpPr>
          <p:spPr>
            <a:xfrm flipH="1" rot="10800000">
              <a:off x="2062800" y="950040"/>
              <a:ext cx="4453560" cy="3552120"/>
            </a:xfrm>
            <a:prstGeom prst="bentConnector4">
              <a:avLst>
                <a:gd name="adj1" fmla="val -5133"/>
                <a:gd name="adj2" fmla="val 10589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13" name="Oval 19"/>
            <p:cNvSpPr/>
            <p:nvPr/>
          </p:nvSpPr>
          <p:spPr>
            <a:xfrm>
              <a:off x="6134040" y="488952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3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9" name="AutoShape 20"/>
            <p:cNvSpPr/>
            <p:nvPr/>
          </p:nvSpPr>
          <p:spPr>
            <a:xfrm>
              <a:off x="6156360" y="6046560"/>
              <a:ext cx="719280" cy="54000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C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22" name="AutoShape 21"/>
            <p:cNvCxnSpPr>
              <a:stCxn id="219" idx="0"/>
              <a:endCxn id="213" idx="4"/>
            </p:cNvCxnSpPr>
            <p:nvPr/>
          </p:nvCxnSpPr>
          <p:spPr>
            <a:xfrm flipV="1">
              <a:off x="6516360" y="5671800"/>
              <a:ext cx="1080" cy="3751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1" name="AutoShape 22"/>
            <p:cNvSpPr/>
            <p:nvPr/>
          </p:nvSpPr>
          <p:spPr>
            <a:xfrm>
              <a:off x="2063880" y="4232160"/>
              <a:ext cx="71892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23" name="AutoShape 23"/>
            <p:cNvCxnSpPr>
              <a:stCxn id="224" idx="0"/>
              <a:endCxn id="221" idx="3"/>
            </p:cNvCxnSpPr>
            <p:nvPr/>
          </p:nvCxnSpPr>
          <p:spPr>
            <a:xfrm flipV="1" rot="16200000">
              <a:off x="3223440" y="4060080"/>
              <a:ext cx="500760" cy="138348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24"/>
            <p:cNvCxnSpPr>
              <a:stCxn id="218" idx="1"/>
              <a:endCxn id="216" idx="0"/>
            </p:cNvCxnSpPr>
            <p:nvPr/>
          </p:nvCxnSpPr>
          <p:spPr>
            <a:xfrm flipV="1" rot="10800000">
              <a:off x="1321560" y="5270760"/>
              <a:ext cx="758160" cy="7772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6" name="AutoShape 25"/>
            <p:cNvSpPr/>
            <p:nvPr/>
          </p:nvSpPr>
          <p:spPr>
            <a:xfrm>
              <a:off x="3805200" y="363060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27" name="AutoShape 26"/>
            <p:cNvCxnSpPr>
              <a:stCxn id="228" idx="0"/>
              <a:endCxn id="226" idx="3"/>
            </p:cNvCxnSpPr>
            <p:nvPr/>
          </p:nvCxnSpPr>
          <p:spPr>
            <a:xfrm flipV="1" rot="16200000">
              <a:off x="4397400" y="4025880"/>
              <a:ext cx="1102680" cy="849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9" name="AutoShape 27"/>
            <p:cNvCxnSpPr>
              <a:stCxn id="226" idx="1"/>
              <a:endCxn id="201" idx="0"/>
            </p:cNvCxnSpPr>
            <p:nvPr/>
          </p:nvCxnSpPr>
          <p:spPr>
            <a:xfrm flipH="1" rot="10800000">
              <a:off x="3804840" y="950040"/>
              <a:ext cx="2712240" cy="2950200"/>
            </a:xfrm>
            <a:prstGeom prst="bentConnector4">
              <a:avLst>
                <a:gd name="adj1" fmla="val -8429"/>
                <a:gd name="adj2" fmla="val 107102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0" name="AutoShape 28"/>
            <p:cNvSpPr/>
            <p:nvPr/>
          </p:nvSpPr>
          <p:spPr>
            <a:xfrm>
              <a:off x="7284960" y="363060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'B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31" name="AutoShape 29"/>
            <p:cNvCxnSpPr>
              <a:stCxn id="213" idx="6"/>
              <a:endCxn id="230" idx="2"/>
            </p:cNvCxnSpPr>
            <p:nvPr/>
          </p:nvCxnSpPr>
          <p:spPr>
            <a:xfrm flipV="1">
              <a:off x="6916680" y="4169880"/>
              <a:ext cx="729360" cy="110232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2" name="AutoShape 30"/>
            <p:cNvCxnSpPr>
              <a:stCxn id="230" idx="0"/>
              <a:endCxn id="207" idx="6"/>
            </p:cNvCxnSpPr>
            <p:nvPr/>
          </p:nvCxnSpPr>
          <p:spPr>
            <a:xfrm flipV="1" rot="16200000">
              <a:off x="6951240" y="2936160"/>
              <a:ext cx="659520" cy="7293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AutoShape 31"/>
            <p:cNvSpPr/>
            <p:nvPr/>
          </p:nvSpPr>
          <p:spPr>
            <a:xfrm>
              <a:off x="5013360" y="500220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B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33" name="AutoShape 32"/>
            <p:cNvCxnSpPr>
              <a:stCxn id="213" idx="2"/>
              <a:endCxn id="228" idx="3"/>
            </p:cNvCxnSpPr>
            <p:nvPr/>
          </p:nvCxnSpPr>
          <p:spPr>
            <a:xfrm flipH="1" flipV="1">
              <a:off x="5732280" y="5271120"/>
              <a:ext cx="38304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4" name="AutoShape 33"/>
            <p:cNvSpPr/>
            <p:nvPr/>
          </p:nvSpPr>
          <p:spPr>
            <a:xfrm>
              <a:off x="3805200" y="5002200"/>
              <a:ext cx="71928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34" name="AutoShape 34"/>
            <p:cNvCxnSpPr>
              <a:stCxn id="228" idx="1"/>
              <a:endCxn id="224" idx="3"/>
            </p:cNvCxnSpPr>
            <p:nvPr/>
          </p:nvCxnSpPr>
          <p:spPr>
            <a:xfrm flipH="1" flipV="1">
              <a:off x="4524120" y="5271120"/>
              <a:ext cx="48960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18" name="AutoShape 35"/>
            <p:cNvSpPr/>
            <p:nvPr/>
          </p:nvSpPr>
          <p:spPr>
            <a:xfrm>
              <a:off x="2079720" y="5002200"/>
              <a:ext cx="718920" cy="53964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35" name="AutoShape 36"/>
            <p:cNvCxnSpPr>
              <a:stCxn id="224" idx="1"/>
              <a:endCxn id="218" idx="3"/>
            </p:cNvCxnSpPr>
            <p:nvPr/>
          </p:nvCxnSpPr>
          <p:spPr>
            <a:xfrm flipH="1" flipV="1">
              <a:off x="2798280" y="5271120"/>
              <a:ext cx="100728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343720" cy="135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2.3 Компиляция без компилятор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1440"/>
            <a:ext cx="84931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 = (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D,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/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пециализ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жно применя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самому себе, что позволяет выполнять цепочку специализаций (метасистемных переходов) и автоматически строить по заданным программам новые, реализующие весьма нетривиальные фун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ем SD-нотаци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1 SD-нотация, проекции Футамуры-Турчина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A] = p[A,_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[A,_][y] = p[A,y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A] = p[_,A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[_,A][x] = p[x,A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ми словами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сновное свойство специализатор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x] [y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y] [x] = p[x,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2.3.1 Проекции Футамуры-Турчин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 = (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D,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L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атор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L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L[d] *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re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полнено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екции Футамуры-Турчи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s = intL[pL,d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sp[int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pL] [d] = sp[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int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pL] [d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int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[pL] [d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int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pL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pR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int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comp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[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sp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SD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genco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9800" y="159984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automat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NI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 (CONS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tate-def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automato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tate-de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(CONS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tate-name de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’NI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har-def de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har-de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har state-nam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state-nam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atom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Auto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"auto"[auto,x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ALT (CONS’ auto st_def tauto 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LL "loop"[st_def, x, auto]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error_in_auto auto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"loop"[st_def, x, auto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’ st_def st def a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ALT (CONS’ x hx tx ax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ALT (CONS’ hx e1 e2 ax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error_in_data x)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CALL "NewState“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[ax,def,tx,auto])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st)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error_in_auto st_def))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5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 rot="20619000">
            <a:off x="7937640" y="3185640"/>
            <a:ext cx="887400" cy="3089520"/>
          </a:xfrm>
          <a:prstGeom prst="upArrow">
            <a:avLst>
              <a:gd name="adj1" fmla="val 50000"/>
              <a:gd name="adj2" fmla="val 87039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1920" y="1689120"/>
            <a:ext cx="8812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"NewState"[ax,def,x,auto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’ def chardef tdef a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ALT (CONS’ chardef char st_name a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ALT (CONS’ char e1 e2 achar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error_in_auto chardef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ALT (EQA’ ax achar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’ st_name e1 e2 ast_name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error_in_auto st_name)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CALL "NewStateDef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ast_name,auto,x,auto])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ALL "NewState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ax,tdef,x,auto]))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error_in_auto chardef)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error_in_data ax))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NewStateDef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ast_name,defs,x,auto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’ defs st_def tdefs a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ALT (CONS’ st_def st_ def a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ALT (CONS’ st_ e1 e2 ast_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error_in_auto st_def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ALT (EQA’ ast_ ast_nam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ALL "loop"[st_def, x, auto]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ALL "NewStateDef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ast_name,tdefs,x,auto]))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error_in_auto st_def)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error_in_auto auto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uto1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0 ’E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5626080" y="4445640"/>
            <a:ext cx="1584360" cy="1277280"/>
            <a:chOff x="5626080" y="4445640"/>
            <a:chExt cx="1584360" cy="1277280"/>
          </a:xfrm>
        </p:grpSpPr>
        <p:sp>
          <p:nvSpPr>
            <p:cNvPr id="255" name="Oval 4"/>
            <p:cNvSpPr/>
            <p:nvPr/>
          </p:nvSpPr>
          <p:spPr>
            <a:xfrm>
              <a:off x="5626080" y="4702320"/>
              <a:ext cx="719280" cy="7189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E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6" name="Oval 5"/>
            <p:cNvSpPr/>
            <p:nvPr/>
          </p:nvSpPr>
          <p:spPr>
            <a:xfrm>
              <a:off x="6491160" y="4702320"/>
              <a:ext cx="719280" cy="718920"/>
            </a:xfrm>
            <a:prstGeom prst="ellipse">
              <a:avLst/>
            </a:prstGeom>
            <a:solidFill>
              <a:srgbClr val="ee82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0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57" name="AutoShape 6"/>
            <p:cNvCxnSpPr>
              <a:stCxn id="255" idx="4"/>
              <a:endCxn id="256" idx="4"/>
            </p:cNvCxnSpPr>
            <p:nvPr/>
          </p:nvCxnSpPr>
          <p:spPr>
            <a:xfrm flipH="1" rot="16200000">
              <a:off x="6417000" y="5008320"/>
              <a:ext cx="2520" cy="865800"/>
            </a:xfrm>
            <a:prstGeom prst="curvedConnector5">
              <a:avLst>
                <a:gd name="adj1" fmla="val 13100000"/>
                <a:gd name="adj2" fmla="val 50000"/>
                <a:gd name="adj3" fmla="val 131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8" name="AutoShape 7"/>
            <p:cNvCxnSpPr>
              <a:stCxn id="256" idx="0"/>
              <a:endCxn id="255" idx="0"/>
            </p:cNvCxnSpPr>
            <p:nvPr/>
          </p:nvCxnSpPr>
          <p:spPr>
            <a:xfrm rot="5400000">
              <a:off x="6417360" y="4251240"/>
              <a:ext cx="2160" cy="865800"/>
            </a:xfrm>
            <a:prstGeom prst="curvedConnector5">
              <a:avLst>
                <a:gd name="adj1" fmla="val -13200000"/>
                <a:gd name="adj2" fmla="val 50000"/>
                <a:gd name="adj3" fmla="val -13200000"/>
              </a:avLst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uto2 =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(CONS ’0 ’E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(CONS ’1 ’O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’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(CONS ’0 ’O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ONS (CONS ’1 ’E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NIL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0" y="2084400"/>
            <a:ext cx="3192480" cy="4773600"/>
            <a:chOff x="0" y="2084400"/>
            <a:chExt cx="3192480" cy="4773600"/>
          </a:xfrm>
        </p:grpSpPr>
        <p:sp>
          <p:nvSpPr>
            <p:cNvPr id="262" name="Rectangle 19"/>
            <p:cNvSpPr/>
            <p:nvPr/>
          </p:nvSpPr>
          <p:spPr>
            <a:xfrm>
              <a:off x="0" y="2084400"/>
              <a:ext cx="3192480" cy="4773600"/>
            </a:xfrm>
            <a:prstGeom prst="rect">
              <a:avLst/>
            </a:prstGeom>
            <a:solidFill>
              <a:srgbClr val="ff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3" name="Oval 5"/>
            <p:cNvSpPr/>
            <p:nvPr/>
          </p:nvSpPr>
          <p:spPr>
            <a:xfrm>
              <a:off x="1236600" y="3170160"/>
              <a:ext cx="719280" cy="7192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E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4" name="Oval 6"/>
            <p:cNvSpPr/>
            <p:nvPr/>
          </p:nvSpPr>
          <p:spPr>
            <a:xfrm>
              <a:off x="1236600" y="2282760"/>
              <a:ext cx="719280" cy="719280"/>
            </a:xfrm>
            <a:prstGeom prst="ellipse">
              <a:avLst/>
            </a:prstGeom>
            <a:solidFill>
              <a:srgbClr val="ee82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0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65" name="AutoShape 7"/>
            <p:cNvCxnSpPr>
              <a:stCxn id="263" idx="6"/>
              <a:endCxn id="264" idx="6"/>
            </p:cNvCxnSpPr>
            <p:nvPr/>
          </p:nvCxnSpPr>
          <p:spPr>
            <a:xfrm flipV="1">
              <a:off x="1974960" y="2642400"/>
              <a:ext cx="2160" cy="888120"/>
            </a:xfrm>
            <a:prstGeom prst="curvedConnector5">
              <a:avLst>
                <a:gd name="adj1" fmla="val 13100000"/>
                <a:gd name="adj2" fmla="val 50000"/>
                <a:gd name="adj3" fmla="val 131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6" name="AutoShape 8"/>
            <p:cNvCxnSpPr>
              <a:stCxn id="264" idx="2"/>
              <a:endCxn id="263" idx="2"/>
            </p:cNvCxnSpPr>
            <p:nvPr/>
          </p:nvCxnSpPr>
          <p:spPr>
            <a:xfrm flipH="1" flipV="1" rot="10800000">
              <a:off x="1216440" y="2642040"/>
              <a:ext cx="2520" cy="888120"/>
            </a:xfrm>
            <a:prstGeom prst="curvedConnector5">
              <a:avLst>
                <a:gd name="adj1" fmla="val -13200000"/>
                <a:gd name="adj2" fmla="val 50000"/>
                <a:gd name="adj3" fmla="val -13200000"/>
              </a:avLst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267" name="Oval 10"/>
            <p:cNvSpPr/>
            <p:nvPr/>
          </p:nvSpPr>
          <p:spPr>
            <a:xfrm>
              <a:off x="1235160" y="5127480"/>
              <a:ext cx="718920" cy="7192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O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1235160" y="5997600"/>
              <a:ext cx="718920" cy="719280"/>
            </a:xfrm>
            <a:prstGeom prst="ellipse">
              <a:avLst/>
            </a:prstGeom>
            <a:solidFill>
              <a:srgbClr val="ee82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0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69" name="AutoShape 12"/>
            <p:cNvCxnSpPr>
              <a:stCxn id="267" idx="2"/>
              <a:endCxn id="268" idx="2"/>
            </p:cNvCxnSpPr>
            <p:nvPr/>
          </p:nvCxnSpPr>
          <p:spPr>
            <a:xfrm flipH="1" flipV="1" rot="10800000">
              <a:off x="1215720" y="5486760"/>
              <a:ext cx="2160" cy="870840"/>
            </a:xfrm>
            <a:prstGeom prst="curvedConnector5">
              <a:avLst>
                <a:gd name="adj1" fmla="val -13200000"/>
                <a:gd name="adj2" fmla="val 50000"/>
                <a:gd name="adj3" fmla="val -132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0" name="AutoShape 13"/>
            <p:cNvCxnSpPr>
              <a:stCxn id="268" idx="6"/>
              <a:endCxn id="267" idx="6"/>
            </p:cNvCxnSpPr>
            <p:nvPr/>
          </p:nvCxnSpPr>
          <p:spPr>
            <a:xfrm flipV="1">
              <a:off x="1972800" y="5487120"/>
              <a:ext cx="2520" cy="870840"/>
            </a:xfrm>
            <a:prstGeom prst="curvedConnector5">
              <a:avLst>
                <a:gd name="adj1" fmla="val 13100000"/>
                <a:gd name="adj2" fmla="val 50000"/>
                <a:gd name="adj3" fmla="val 13100000"/>
              </a:avLst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271" name="Oval 14"/>
            <p:cNvSpPr/>
            <p:nvPr/>
          </p:nvSpPr>
          <p:spPr>
            <a:xfrm>
              <a:off x="2095560" y="4111560"/>
              <a:ext cx="718920" cy="719280"/>
            </a:xfrm>
            <a:prstGeom prst="ellipse">
              <a:avLst/>
            </a:prstGeom>
            <a:solidFill>
              <a:srgbClr val="ee82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1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349200" y="4111560"/>
              <a:ext cx="719280" cy="719280"/>
            </a:xfrm>
            <a:prstGeom prst="ellipse">
              <a:avLst/>
            </a:prstGeom>
            <a:solidFill>
              <a:srgbClr val="ee82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'1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273" name="AutoShape 20"/>
            <p:cNvCxnSpPr>
              <a:stCxn id="263" idx="2"/>
              <a:endCxn id="272" idx="0"/>
            </p:cNvCxnSpPr>
            <p:nvPr/>
          </p:nvCxnSpPr>
          <p:spPr>
            <a:xfrm flipV="1" rot="10800000">
              <a:off x="708840" y="3529440"/>
              <a:ext cx="508680" cy="56268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4" name="AutoShape 21"/>
            <p:cNvCxnSpPr>
              <a:stCxn id="272" idx="4"/>
              <a:endCxn id="267" idx="2"/>
            </p:cNvCxnSpPr>
            <p:nvPr/>
          </p:nvCxnSpPr>
          <p:spPr>
            <a:xfrm flipH="1" rot="16200000">
              <a:off x="642600" y="4915440"/>
              <a:ext cx="638280" cy="506880"/>
            </a:xfrm>
            <a:prstGeom prst="curvedConnector2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275" name="AutoShape 22"/>
            <p:cNvCxnSpPr>
              <a:stCxn id="267" idx="6"/>
              <a:endCxn id="271" idx="4"/>
            </p:cNvCxnSpPr>
            <p:nvPr/>
          </p:nvCxnSpPr>
          <p:spPr>
            <a:xfrm flipV="1">
              <a:off x="1972800" y="4849920"/>
              <a:ext cx="483480" cy="63828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6" name="AutoShape 23"/>
            <p:cNvCxnSpPr>
              <a:stCxn id="271" idx="0"/>
              <a:endCxn id="263" idx="6"/>
            </p:cNvCxnSpPr>
            <p:nvPr/>
          </p:nvCxnSpPr>
          <p:spPr>
            <a:xfrm flipV="1" rot="16200000">
              <a:off x="1933920" y="3570120"/>
              <a:ext cx="562680" cy="481680"/>
            </a:xfrm>
            <a:prstGeom prst="curvedConnector2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мпиля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втомата auto1 в TSG. Компиляция выполнена вычислением первой проекции Футамуры-Турчин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cp intAuto ([auto1,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1], RESTR[]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tAuto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интерпретатор конечных автоматов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uto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пределение конечного автомата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азбор примера самостоятельно по литературе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иляция автомат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uto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TSG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cp intAuto ([auto2, E.1], RESTR[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омпиляция автомата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"F2"[E1]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? E1 E3 E4 A5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ALT (CONS? E3 E7 E8 A9)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CONS ’error_in_data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CONS(CONS E7 E8)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E4)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ALT (EQA? A9 ’0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CALL "F2"[E4]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ALT (EQA? A9 ’1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CALL "F18"[E4]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CONS ’error_in_data A9)))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’E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3.2 Компиляция конечных автоматов auto1 и auto2 в TSG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"F18"[E4]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? E4 E19 E20 A21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ALT (CONS? E19 E23 E24 A25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CONS ’error_in_data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CONS(CONS E23 E24) E20)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(ALT (EQA? A25 ’0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CALL "F18"[E20]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(ALT (EQA? A25 ’1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CALL "F2"[E20]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(CONS ’error_in_data A25))))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’O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2. Примеры суперкомпиляции.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ывод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Главе 12 разобраны несколько примеров суперкомпи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MP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тест» для программы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mat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ервая проекция Футамуры-Турчина — компиляция языка описаний конечных автоматов в язык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S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лава 12. Примеры суперкомпиляции.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ыводы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обранные примеры успешные: демонстрируют эффективную работу суперкомпилятор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пакете демонстрационных программ имеются и другие примеры суперкомпиляц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а рамками рассмотрения: обобщения за счет отсечения вложенных функций (потому, что плоский язык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1 Специализац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[x,y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рограмма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 двух аргументов. Зафиксируем один аргумент, например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оложив его равны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олученную функци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[A,_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дного аргумент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[A,_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y]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p[A,y]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дем называть проекци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A,_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1 Специализац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алогичным образом определяется проек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[_,B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случая фиксации второго аргумента функци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[_,B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x]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p[x,B]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роекции по нескольким аргументам программы с произвольной арност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1 Специализация программ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 10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пециализатором для язы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рограмм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pe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ая по тексту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о некоторому описанию проекции (что включает определение позиций в списке аргумент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одлежащих фиксации, и задание значений фиксируемых аргументов) выполняет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пециализац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троит эффективную программ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еализующую соответствующую проекцию фун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560" y="43920"/>
            <a:ext cx="83440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2.1.1 Суперкомпиляция как метод специ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помощи суперкомпиляции можно выполнит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любую классическую специализаци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x,y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грамма на язык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двух аргументов, которую надо специализировать: вычислить проекцию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A,_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ыполним суперкомпиляцию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cp p cls = 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ls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ls = ([A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i], RESTR[]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Тог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: 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cl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x] = p[A,x] = 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[A,_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x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3920"/>
            <a:ext cx="83440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2.1.1 Суперкомпиляция как метод специализ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мощи суперкомпиляции выполнена классическая специализация: построена программ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еализующая функци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[A,_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Данный пример легко обобщается на любой случай классической специ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343720" cy="1434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2.2 От pmatch к KMP-алгоритму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49312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алгоритма наивного поиска подстроки в строк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лина строки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лина подстроки, сложность KMP-алгоритма 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ример 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иск подстро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"AB"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произвольной строке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cp pmatch ([sAB, (CVE 1)], RESTR[]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pmatchAB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самостоятельного разбора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2.2.2 Пример 2. Поиск подстроки “AABAAC” в произвольной строк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4931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scp pmatch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[sAABAAC, (CVE 1)], RESTR[]) </a:t>
            </a:r>
            <a:r>
              <a:rPr b="1" lang="ru-RU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pmatchAABA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define "F2"[E1]= --*********** E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(alt (cons? E1 E3 E4 A5)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     (alt (cons? E3 E7 E8 A9)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    ’FAILUR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--E1=(_:_):E4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    (alt (eqa? A9 ’A)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            (alt (cons? E4 E13 E14 A15)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               (alt (cons? E13 E17 E18 A19)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              ’FAILUR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--E1=’A:E17:E18:E14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              (call "F21"[A19,E14])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-E1=’A:A19:E14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               ’FAILURE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--E1=’A:A15 ***EOL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            (call "F2"[ E4]) ) 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--E1=A9:E4, A9=/=’A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     ’FAILURE)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--E1=A5 ***E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Group 15"/>
          <p:cNvGrpSpPr/>
          <p:nvPr/>
        </p:nvGrpSpPr>
        <p:grpSpPr>
          <a:xfrm>
            <a:off x="3735360" y="169200"/>
            <a:ext cx="5308560" cy="3259800"/>
            <a:chOff x="3735360" y="169200"/>
            <a:chExt cx="5308560" cy="3259800"/>
          </a:xfrm>
        </p:grpSpPr>
        <p:sp>
          <p:nvSpPr>
            <p:cNvPr id="129" name="Oval 6"/>
            <p:cNvSpPr/>
            <p:nvPr/>
          </p:nvSpPr>
          <p:spPr>
            <a:xfrm>
              <a:off x="7364520" y="39852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7364520" y="2665440"/>
              <a:ext cx="763560" cy="7635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2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>
              <a:off x="6450120" y="1657440"/>
              <a:ext cx="2593800" cy="47916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'A:a19:e14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32" name="AutoShape 9"/>
            <p:cNvCxnSpPr>
              <a:stCxn id="129" idx="4"/>
              <a:endCxn id="131" idx="0"/>
            </p:cNvCxnSpPr>
            <p:nvPr/>
          </p:nvCxnSpPr>
          <p:spPr>
            <a:xfrm>
              <a:off x="7746480" y="1180800"/>
              <a:ext cx="1080" cy="4770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3" name="AutoShape 10"/>
            <p:cNvCxnSpPr>
              <a:stCxn id="131" idx="2"/>
              <a:endCxn id="130" idx="0"/>
            </p:cNvCxnSpPr>
            <p:nvPr/>
          </p:nvCxnSpPr>
          <p:spPr>
            <a:xfrm>
              <a:off x="7746480" y="2136600"/>
              <a:ext cx="1080" cy="5104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34" name="AutoShape 11"/>
            <p:cNvSpPr/>
            <p:nvPr/>
          </p:nvSpPr>
          <p:spPr>
            <a:xfrm>
              <a:off x="3735360" y="539640"/>
              <a:ext cx="2757600" cy="479520"/>
            </a:xfrm>
            <a:prstGeom prst="roundRect">
              <a:avLst>
                <a:gd name="adj" fmla="val 16667"/>
              </a:avLst>
            </a:prstGeom>
            <a:solidFill>
              <a:srgbClr val="ffe5c5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1=a9:e4, a9≠'A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135" name="AutoShape 12"/>
            <p:cNvCxnSpPr>
              <a:stCxn id="129" idx="2"/>
              <a:endCxn id="134" idx="3"/>
            </p:cNvCxnSpPr>
            <p:nvPr/>
          </p:nvCxnSpPr>
          <p:spPr>
            <a:xfrm rot="10800000">
              <a:off x="6492240" y="778680"/>
              <a:ext cx="853200" cy="2520"/>
            </a:xfrm>
            <a:prstGeom prst="bentConnector3">
              <a:avLst>
                <a:gd name="adj1" fmla="val 48965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6" name="AutoShape 13"/>
            <p:cNvCxnSpPr>
              <a:stCxn id="134" idx="0"/>
              <a:endCxn id="129" idx="0"/>
            </p:cNvCxnSpPr>
            <p:nvPr/>
          </p:nvCxnSpPr>
          <p:spPr>
            <a:xfrm flipH="1" flipV="1" rot="5400000">
              <a:off x="6350040" y="-856800"/>
              <a:ext cx="160920" cy="2632320"/>
            </a:xfrm>
            <a:prstGeom prst="bentConnector3">
              <a:avLst>
                <a:gd name="adj1" fmla="val 230493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4-04T09:06:40Z</dcterms:modified>
  <cp:revision>998</cp:revision>
  <dc:subject/>
  <dc:title>Slide 1</dc:title>
</cp:coreProperties>
</file>