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6333-6A00-4042-B944-15FF7053EA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9181-5550-44CE-8AC5-01790B1BF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5D4D-56EC-45E3-9281-F2A0A02E4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7ED1-F059-4102-80A8-5338CE393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9F6C-3008-4D9C-89B0-B1F5429F25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D232-B2DC-4CEF-B32B-610C580C2A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C737-FA31-4F37-A8C1-A516B370FD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21D4-B8AA-44CF-B2C6-44DFE8C31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AC47-2AE1-42A0-AE66-1FA844199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25A2-F333-4C22-B18E-42CEE113F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01BD-EC1D-41BB-B85B-9AB08236D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C1D8-8AAF-4638-A4F1-4278ED29F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0289-6672-4021-9AB9-9588FAE24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924F-32EB-4004-9651-17789B2E6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610B-D5C7-43C2-9F58-DBA702AD6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5D79-31FD-4DC9-AEE5-22FFCF9F5E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91D3-DAC2-4C57-BB51-339DF90641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1764-CAD5-466B-89AA-9E7854CF76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E742-1349-4546-A7A3-94F133AEA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CF46-B8F6-4AB3-9BE5-DF000928E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E053-A970-4E90-9CC5-137950DC2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8C4F-AC84-4CB6-A3CA-093633F10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A56B-F432-467C-8ACD-9968F5DEF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DC7-5D49-4E14-A08C-254FF9FB6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1732-CF1A-4C43-AD57-53CDF3BE9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EE22-8FEC-427A-86DB-ADA3C8355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AF2C-E89B-442F-9056-3D4A4823F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C9FE-0CC4-443C-8CF5-8D4DA3B24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6EEB-BC0D-48A4-A3E8-5EC2DF645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7814-3921-41DA-AAEE-81DFC1EA4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011A-864D-439C-8EAA-80A23A20C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48B3-433E-4BD1-94DF-37AABD5DD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C275-A04F-4865-BB7F-EEB365ED5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DEA3-EC4A-4852-A91B-C973FAE59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7FB6-508B-4D26-9F67-B0C6474A0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F5A5-80E3-476E-BBC8-6B908B6D6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44E2-6B50-4FE8-A13E-CF0864CC8C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B734-DD1B-48E3-9674-6CCF2B4F6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59A5-01FB-413C-9D56-17FEB772E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7AF4-B7AE-4639-BA99-CE3C33CDD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2D87-B5B3-497A-B229-A338D63DB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D6BC-2DA5-423E-B94C-15C5BEE8BA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C02E-AD4B-43B5-95D9-2262C68AD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6D18-164F-4CB0-8E3C-2424EC131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6903-830B-48AF-8722-3C6311CE1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552F-08AB-4CED-9533-DD0B43234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080D-59C0-487A-A838-0D438138EA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8BDB-0C49-47FE-ADE8-CBFDDFD21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3642-C622-4B2C-A560-70EE48068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B1BA-9CF6-442A-A825-3D4F37DF3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AFBD-6BA3-4ACA-8954-6935C5041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5A90-B76B-4E92-90CB-F1D9BD8D7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E32E-08B7-41F5-9891-37B1AB3A4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D0A4-E916-4165-9195-E11B67F11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F832-A575-4D08-9688-DFE21D61D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3F54-FB19-410B-A408-BA88672D0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260E-8426-4C22-8F56-4AA196643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E93C-08CE-4E00-A885-EB766E804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767E-65C0-44F2-96E4-473DDCABA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FCC9-BD92-4ECA-851A-369472457D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2FAD-50B9-4960-B20E-F608876908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CC60-4547-4B79-B977-06B21E43C6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CF1-9343-41A5-B841-27D988D4E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E43B-C0E0-4CBE-8F4E-1F6E619BC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6214-8046-4F6F-A4C1-BD01B0E36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2563-FA83-4579-BA24-A63951491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0C65-4F08-45B1-AEBE-2A9E698D14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364B-954F-4E39-A7E8-D061A3C2F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DCD3-E020-4948-9AD7-8875771E2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3765-C404-495E-BE4B-B8BD3F40E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7D86-B909-4B63-B174-09EE8EE35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A158-B644-41A1-A975-C3BD6AFB5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563-E266-4848-89C8-47CE0F475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175D-41E7-441B-90D8-AA897BC05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78DE-3D52-4340-AB1C-488C94B4D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5557-8F9C-4753-8A5F-3D249FE3A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0361-49AD-4725-A306-D4B9FF218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2D70-96A2-46C8-8AF0-719F8A5F7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F850-8521-4B47-AE50-971FD6F97D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4C4-7648-4DA5-A610-0DB38E65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33C-7141-4CCA-A111-A06C0E0A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C0E-F953-474A-A605-D0964A30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873-6393-4F81-B8EE-486012BF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AC05-69E1-4EF0-A86D-A21720B6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14A1-4F24-447A-988D-CD744455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9788-4C8B-4EFD-B87A-16178B45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1FA2-0846-4682-AEA8-540244A2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70EF-E163-42C2-900E-95746574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22FA-C5C5-470A-8F9E-501D4526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5396-9AAA-464F-A537-FD30F16F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80B-32E5-4827-95F9-58BAD7F1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3C40-1229-4891-B383-DDCA4BF5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4FA1-E136-4334-B653-A9768517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07F3-2765-44BB-9CCD-AFF4DB33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B437-D132-405A-B49A-844EA6B3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4D38-E6BB-465A-9F27-9D87B4FF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37D-924B-4947-A6A8-98DEB9ED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25E-5C65-41DA-85E9-89FAE4E4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FEA-47C9-49A7-8CA9-B155D623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231-83C7-49DD-9F73-B98B328E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8D4-C391-4598-B457-6F68835B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DC7-380A-48ED-B1D1-C4DF8DF5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016-B5F6-4E5E-90B5-844E7927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4AC6-56B8-4A53-9C86-88ADD0C6B4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0FF6-C998-4BF9-9F47-03BA6BD136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7. Окрестностное тестирование программ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2 Процесс тестирования программ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[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набор тестов. Используют терминолог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с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йден программ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успешно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успешный тест для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крывает ошибку 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, если . . . . (Аналогично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с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йден программ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пешно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пешный тест для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, если . . . . (Аналогично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2 Процесс тестирования программ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ритерий выбор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ест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ределяет, когда конечный набор тест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ожно считать достаточны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тестирова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 ограничимся рассмотрением критерие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акого класса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r :: P -&gt; TS -&gt; Boo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S = [D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2" descr="Testing"/>
          <p:cNvPicPr/>
          <p:nvPr/>
        </p:nvPicPr>
        <p:blipFill>
          <a:blip r:embed="rId1"/>
          <a:stretch/>
        </p:blipFill>
        <p:spPr>
          <a:xfrm>
            <a:off x="1546200" y="66600"/>
            <a:ext cx="7566120" cy="6724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14560"/>
            <a:ext cx="2147760" cy="347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7.2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Процесс тестиро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вания програм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мы</a:t>
            </a: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881360" y="29052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я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429080" y="128520"/>
            <a:ext cx="1841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чередного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а 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432320" y="1711440"/>
            <a:ext cx="1884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условия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098960" y="4441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046240" y="2451240"/>
            <a:ext cx="1814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ение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 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1" lang="ru-RU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res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087640" y="507996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946160" y="5737320"/>
            <a:ext cx="20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грамме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ЛАДКА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878520" y="3989520"/>
            <a:ext cx="1827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ерия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r p T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933560" y="3948120"/>
            <a:ext cx="2046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условия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res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878520" y="1249200"/>
            <a:ext cx="20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ершено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268960" y="27734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3311640" y="17701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6805440" y="5880240"/>
            <a:ext cx="20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ершено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3 Структурные критерии выбора тест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еди критериев выбора тестов, использующих только информацию о наборе тест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тестируемой программе, наиболее известными являются структурные критер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3 Структурные критерии выбора тест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стирование команд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Набор тестов считается достаточным для тестирования программы, если в процессе тестовых прогонов на данном наборе в совокупности был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ено прохождение каждой достижимой команды данной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3 Структурные критерии выбора тест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стирование ветв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Набор тестов считается достаточным для тестирования программы, если в процессе тестовых прогонов на данном наборе в совокупности было обеспечено прохождение каждого реализуемого варианта ветвления для каждой команды ветвления в данной программ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3 Структурные критерии выбора тест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стирование путей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тестов считается достаточным для тестирования программы, если в процессе тестовых прогонов на данном наборе в совокупности был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ено прохождение каждого реализуемого пути в графе управляющей структуры — блок-схеме — данной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числом итераций циклов 0, 1 и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3 Структурные критерии выбора тест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илу неразрешимости проблемы распознания достижимости команды в программе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структурные критер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невычислим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r p [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4 Свойства критериев выбора тест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теории тестирования изучают следующие три свойства критериев выбора тес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Полно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ошибко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T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 p 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скрывает в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шибку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Надежность (непротиворечивость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 p 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 p 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)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пешны дл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)||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 успешны дл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Вычисли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 p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4 Свойства критериев выбора тестов. Полнот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олно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 Критерий называют полным, если в случае наличия ошибки в программе существует набор тестов, удовлетворяющий данному критерию и раскрывающий ошиб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96" name="Picture 3" descr="slides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4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13" name="Text Box 20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 rot="3798000">
            <a:off x="1100520" y="4160160"/>
            <a:ext cx="887400" cy="3089160"/>
          </a:xfrm>
          <a:prstGeom prst="upArrow">
            <a:avLst>
              <a:gd name="adj1" fmla="val 50000"/>
              <a:gd name="adj2" fmla="val 8702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4 Свойства критериев выбора тестов. Надежность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противоречивость (надежность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бые два набора тестов, удовлетворяющие критерию, должны быть одновременно успешными или неуспешными для данной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7.4 Свойства критериев выбора тестов. Вычислимость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стот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овер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критерий должен «легко» проверяться, например, он должен быть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ычислимы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4 Свойства критериев: недостижимы на практик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уктурные критерии не являются ни надежными, ни вычислимы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вестно, что не существует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олного непротиворечиво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ритерия, зависящего от набора тестов и программ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r p [d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надо учитывать спецификацию задачи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вестно, что не существует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числимо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олного непротиворечиво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ритерия, зависящего от набора тестов, программы и спецификац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Умный, честный и партий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любые два свойства (или одно) из трех, но не все три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7.4 Подмена свойств критериев «разрешимыми приближениями»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следование полноты и надежности критериев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 ограниченном классе программ и/или ограниченном классе ошиб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правило, такому исследованию поддаются очень узкие классы программ и/или ошибок, которые трудно признать имеющими отношение к реальной практике программир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7.4 Статистическая оценка «реальной» полноты/надежности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тистические исследовани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реальной» полноты и надеж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ритерие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ример, на выбранных из практики реальных программах с реальными ошибк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4 Числовая эвристическая оценка полноты  тестирования 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ведени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числовой эвристической оценки полноты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естирования вместо проверки невычислимого критер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ример, в системах тестирования, основанных на структурных критериях, оператору может выдаваться числовой коэффициент — «процент проверенной части»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5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Критика структурных критериев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493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дея структурных критериев: изучение лабиринта — побывать во всех комнатах, пройти все варианты ветвлений и все пути, чтобы получить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олную информаци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 лабирин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563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5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Критика структурных критериев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0560"/>
            <a:ext cx="849312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735948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предположить, что структурные критерии есть различные формализаци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формальн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ритерия выбора тес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735948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тестов считается достаточным для тестирования программы, если в процессе тестовых прогонов на данном набор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совокуп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ыла использована вся информация о графе управляющей структуры (блок-схеме) данной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7.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563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5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Критика структурных критериев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050560"/>
            <a:ext cx="849312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личные подходы к формализации фразы — «использована вся информация о графе...»  — приводят к различным структурным критерия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достат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вно ориентированы на классические императивные язы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563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5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Критика структурных критериев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050560"/>
            <a:ext cx="849312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ь тестирования — проверк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функции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совпадение с желаемой функцией, а полнота проверки определяется по полноте использования информации об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управляющей структур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граммы. Но разве функция программы полностью определяется только управляющей структурой программы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Tahoma"/>
              </a:rPr>
              <a:t>Мысленный эксперимент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7. Окрестностное тестирование програм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ные понятия: расхождение реальной и желаемой функции программы, спецификация, верификация, тестирование, корректность и частичная коррект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аг и процесс тестирования, тест (набор) успешный (вскрывает ошибку), критерий выбора тестов, свойства критериев (полнота, непротиворечивость, вычислимость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уктурные критерии тестирования и их крит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дея улучшения ситуации и шаги формализации идеи (метасистемные уровн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9920" y="0"/>
            <a:ext cx="8343720" cy="162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7.5 Критика структурных критериев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49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уктурные критерии будут особенно ненадежны для программ, функция которых «в малой степени» определяется управляющей структурой програм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0" y="957240"/>
            <a:ext cx="8783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(x: string): string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state = (q0, q1,. . . ); {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ножество состояний автом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}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NewState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state, char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state = (...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constan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..)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utputChar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state, char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ar = (...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constan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..)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i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ring; {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}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q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ate;  {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ек.состояние автом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q := q0;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:= ’’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устая ст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i:=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length(x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o begi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:= y + OutputChar[q,x[i]];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q :=          NewState[q,x[i]];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 := y;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9920" y="14400"/>
            <a:ext cx="8343720" cy="782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Конечный автомат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grpSp>
        <p:nvGrpSpPr>
          <p:cNvPr id="186" name="Group 21"/>
          <p:cNvGrpSpPr/>
          <p:nvPr/>
        </p:nvGrpSpPr>
        <p:grpSpPr>
          <a:xfrm>
            <a:off x="5186520" y="2529000"/>
            <a:ext cx="3359520" cy="3979440"/>
            <a:chOff x="5186520" y="2529000"/>
            <a:chExt cx="3359520" cy="3979440"/>
          </a:xfrm>
        </p:grpSpPr>
        <p:sp>
          <p:nvSpPr>
            <p:cNvPr id="187" name="AutoShape 11"/>
            <p:cNvSpPr/>
            <p:nvPr/>
          </p:nvSpPr>
          <p:spPr>
            <a:xfrm>
              <a:off x="6880320" y="2529000"/>
              <a:ext cx="1439640" cy="900000"/>
            </a:xfrm>
            <a:prstGeom prst="flowChartPreparation">
              <a:avLst/>
            </a:prstGeom>
            <a:solidFill>
              <a:srgbClr val="bbe0e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8" name="AutoShape 12"/>
            <p:cNvSpPr/>
            <p:nvPr/>
          </p:nvSpPr>
          <p:spPr>
            <a:xfrm>
              <a:off x="6880320" y="3968640"/>
              <a:ext cx="1439640" cy="900360"/>
            </a:xfrm>
            <a:prstGeom prst="flowChartDecision">
              <a:avLst/>
            </a:prstGeom>
            <a:solidFill>
              <a:srgbClr val="99ff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9" name="AutoShape 13"/>
            <p:cNvSpPr/>
            <p:nvPr/>
          </p:nvSpPr>
          <p:spPr>
            <a:xfrm>
              <a:off x="6880320" y="5381640"/>
              <a:ext cx="1439640" cy="900000"/>
            </a:xfrm>
            <a:prstGeom prst="flowChartProcess">
              <a:avLst/>
            </a:prstGeom>
            <a:solidFill>
              <a:srgbClr val="99ff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1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90" name="AutoShape 14"/>
            <p:cNvSpPr/>
            <p:nvPr/>
          </p:nvSpPr>
          <p:spPr>
            <a:xfrm>
              <a:off x="5186520" y="5381640"/>
              <a:ext cx="1439640" cy="900000"/>
            </a:xfrm>
            <a:prstGeom prst="flowChartPreparation">
              <a:avLst/>
            </a:prstGeom>
            <a:solidFill>
              <a:srgbClr val="bbe0e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91" name="AutoShape 17"/>
            <p:cNvCxnSpPr>
              <a:stCxn id="188" idx="1"/>
              <a:endCxn id="190" idx="0"/>
            </p:cNvCxnSpPr>
            <p:nvPr/>
          </p:nvCxnSpPr>
          <p:spPr>
            <a:xfrm flipV="1" rot="10800000">
              <a:off x="5906520" y="4419360"/>
              <a:ext cx="973800" cy="962640"/>
            </a:xfrm>
            <a:prstGeom prst="bentConnector2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18"/>
            <p:cNvCxnSpPr>
              <a:stCxn id="187" idx="2"/>
              <a:endCxn id="188" idx="0"/>
            </p:cNvCxnSpPr>
            <p:nvPr/>
          </p:nvCxnSpPr>
          <p:spPr>
            <a:xfrm flipH="1">
              <a:off x="7600320" y="3428640"/>
              <a:ext cx="1080" cy="540360"/>
            </a:xfrm>
            <a:prstGeom prst="straightConnector1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19"/>
            <p:cNvCxnSpPr>
              <a:stCxn id="189" idx="2"/>
              <a:endCxn id="187" idx="3"/>
            </p:cNvCxnSpPr>
            <p:nvPr/>
          </p:nvCxnSpPr>
          <p:spPr>
            <a:xfrm flipH="1" flipV="1" rot="5400000">
              <a:off x="6308280" y="4270680"/>
              <a:ext cx="3302640" cy="719640"/>
            </a:xfrm>
            <a:prstGeom prst="bentConnector4">
              <a:avLst>
                <a:gd name="adj1" fmla="val -6867"/>
                <a:gd name="adj2" fmla="val 131531"/>
              </a:avLst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4" name="AutoShape 20"/>
            <p:cNvCxnSpPr>
              <a:stCxn id="188" idx="2"/>
              <a:endCxn id="189" idx="0"/>
            </p:cNvCxnSpPr>
            <p:nvPr/>
          </p:nvCxnSpPr>
          <p:spPr>
            <a:xfrm flipH="1">
              <a:off x="7600320" y="4869000"/>
              <a:ext cx="1080" cy="513360"/>
            </a:xfrm>
            <a:prstGeom prst="straightConnector1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2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6 Критика структурных критерие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49312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нализ только управляющей структуры программы — одна из возможных причин ненадежности структурных критерие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ппеляция к понятию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управляющая структур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граничивает область применен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итериев (только классические императивные язык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608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7.6 Постановка проблемы. Неформальный предельный критер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22560"/>
            <a:ext cx="849312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исправи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достатк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оценки полноты тестирования надо анализировать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то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, 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лностью определяет функцию програм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кст программы целиком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5514840" y="1363680"/>
            <a:ext cx="3283200" cy="2065320"/>
          </a:xfrm>
          <a:prstGeom prst="cloudCallout">
            <a:avLst>
              <a:gd name="adj1" fmla="val -91634"/>
              <a:gd name="adj2" fmla="val 46004"/>
            </a:avLst>
          </a:prstGeom>
          <a:solidFill>
            <a:srgbClr val="bbe0e3">
              <a:alpha val="67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то? что?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8493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735948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ыло (надо поправить!)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735948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тестов считается достаточным для тестирования программы, если в процессе тестовых прогонов на данном набор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совокуп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ыла использована вся информация о графе управляющей структуры (блок-схеме) данной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7.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07760" y="0"/>
            <a:ext cx="8343720" cy="2122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7.6 Постановка проблемы. Неформальный предельный критер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6 Постановка проблемы. Неформальный предельный критери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4120" y="1992240"/>
            <a:ext cx="84931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тестов считается достаточным для тестирования программы, если в процессе тестовых прогонов на данном набор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совокупности было обеспечено использование всей информации о полном текст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нной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7.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формализации критерия 7.2 будет использован окрестностный анали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7 Метасистемные уровни в окрестностном тестировании</a:t>
            </a:r>
            <a:br>
              <a:rPr sz="4000"/>
            </a:b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Что» использует информацию о тексте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p в процессе тестовых прогонов? — Переход 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7 Метасистемные уровни в окрестностном тестировании</a:t>
            </a:r>
            <a:br>
              <a:rPr sz="4000"/>
            </a:b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Что» использует информацию о тексте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p в процессе тестовых прогонов? — Переход 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7 Метасистемные уровни в окрестностном тестировании</a:t>
            </a:r>
            <a:br>
              <a:rPr sz="4000"/>
            </a:b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едующий шаг формализации — определение понятия «использована информация», введение метасистемы, наблюдающей, как интерпретатор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полняет вычисле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при этом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отребляе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нформацию 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Это окрестностный анализат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 intL (p: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:di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7 Метасистемные уровни в окрестностном тестирован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системные уров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44720" indent="-41760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:d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объекты, данные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44720" indent="-41760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истема, выполняет вычисле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44720" indent="-41760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метасистема, наблюдает, как работает систем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дан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:d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пределяет, какая информация о дан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:d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и этом используется систем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7. Окрестностное тестирование програм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аги и процесс окрестностного тест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йства окрестностного тестирования (полнота, применимость к разным языкам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ение в рамках окрестностного тестирования традиционных зада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следующего тес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окализация ошибки при отлад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ход от отладки к тестировани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ние текстов спецификаций при тестирова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противоречив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вычислим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8 Шаг окрестностного тестирования</a:t>
            </a:r>
            <a:br>
              <a:rPr sz="4000"/>
            </a:b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крестностное тестир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следовательность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=1,2,..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вычислений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 intL (p: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: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ecompose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: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[p]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*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*...*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 следующими результатами на каждом шаг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8 Шаг окрестностного тестирова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 следующими результатами на каждом шаг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54080" indent="-42552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результат R-вычисле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tL (p: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или L-вычисле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54080" indent="-42552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2800" spc="-1" strike="noStrike" baseline="-2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окрестно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— </a:t>
            </a:r>
            <a:r>
              <a:rPr b="0" i="1" lang="ru-RU" sz="2800" spc="-1" strike="noStrike">
                <a:solidFill>
                  <a:srgbClr val="800000"/>
                </a:solidFill>
                <a:latin typeface="Tahoma"/>
              </a:rPr>
              <a:t>информа-ционная интерпретация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54080" indent="-42552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окрестност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— </a:t>
            </a:r>
            <a:r>
              <a:rPr b="0" i="1" lang="ru-RU" sz="2800" spc="-1" strike="noStrike">
                <a:solidFill>
                  <a:srgbClr val="800000"/>
                </a:solidFill>
                <a:latin typeface="Tahoma"/>
              </a:rPr>
              <a:t>информа-ционная интерпретация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54080" indent="-42552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окрестно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i="1" lang="ru-RU" sz="2800" spc="-1" strike="noStrike">
                <a:solidFill>
                  <a:srgbClr val="800000"/>
                </a:solidFill>
                <a:latin typeface="Tahoma"/>
              </a:rPr>
              <a:t>информационная интерпретация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8 Шаг окрестностного тестирова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640" y="1599840"/>
            <a:ext cx="8383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5364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метим, что по определению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полнено:</a:t>
            </a:r>
            <a:br>
              <a:rPr sz="3200"/>
            </a:br>
            <a:br>
              <a:rPr sz="1800"/>
            </a:b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k=1,2,..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данной последовательности окрестностей не может быть бесконечного числа отношений (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9 Окрестностный критерий выбора тест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Окрестность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подвиж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сли независимо от выбора тест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полнено: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нтерпретация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Если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неподвижная, то для любог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икакая новая информация 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 может быть использована в процессе вычислений p на тест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9 Окрестностный критерий выбора тест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угими словами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и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неподвижная, т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ся информация 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оторая необходима для проведения вычисления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 любых данных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ла использована в тестовых прогонах программ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теста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9 Окрестностный критерий выбора тест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угими словами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и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неподвижная, т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тестовых прогон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 теста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ыла использована вся доступ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крестностный критерий тестировани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бор (конечный список) тест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[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удем считать достаточным для тестирования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является неподвижной окрестностью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0 Свойства окрестностного тестирова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19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любой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уществует конечный набор тест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удовлетворяющий окрестностному критерию тестиров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дея доказательства: рассмотрим любое перечисление множе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om(p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анных,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 которых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рминируется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0 Свойства окрестностного тестирова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крестностный критерий тестирования программ — полный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случае наличия ошибки в программ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уществует конечный набор тест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аскрывающий ошибку и удовлетворяющий окрестностному критер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вестно: не существует полного надежного (непротиворечивого) критерия, зависящего от набора тестов и програм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0 Свойства окрестностного тестирова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ее будет показано, что критерий окрестностного тестирования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данной спецификаци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 только полный, но и непротиворечивы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едовательно,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ритерий окрестностного тестирования алгоритмически неразреши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бщем случае окрестностный критерий тестирования должен проверяться экспер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0 Свойства окрестностного тестирова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екоторых случаях неподвижность 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ожет быть очевид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остальных случаях полагаемся на то, что предлагаемые экспертам окрестности 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еют достаточно наглядную фор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ще возможно ввести эвристическую числовую оценку близости окрестности 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 неподвижной окрестности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а следующем слайд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ще одно свойство: для окрестностного тестирования несущественны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характеристики язы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 Tестированиe. Основные понят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128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язык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(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ределяет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функцию программ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:: D -&gt; 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λ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 -&gt; 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p, d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 расхождение между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желаем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реальн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функцией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Специфик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описывает требования на допустимые входные данные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желаемые соотношения между входными данными и результато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Расстояние межд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&gt;</a:t>
            </a:r>
            <a:r>
              <a:rPr b="1" lang="ru-RU" sz="4000" spc="-1" strike="noStrike" baseline="-25000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33" name="Picture 5" descr="RO-NBH-color"/>
          <p:cNvPicPr/>
          <p:nvPr/>
        </p:nvPicPr>
        <p:blipFill>
          <a:blip r:embed="rId1"/>
          <a:stretch/>
        </p:blipFill>
        <p:spPr>
          <a:xfrm>
            <a:off x="111240" y="2419200"/>
            <a:ext cx="8885160" cy="3978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691680" y="4121280"/>
            <a:ext cx="104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880600" y="3621240"/>
            <a:ext cx="77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310040" y="4181400"/>
            <a:ext cx="104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98960" y="3681360"/>
            <a:ext cx="77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284200" y="5295960"/>
            <a:ext cx="3400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=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разбиений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Числовая оценка близости окрестности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4000" spc="-1" strike="noStrike" baseline="30000">
                <a:solidFill>
                  <a:srgbClr val="800000"/>
                </a:solidFill>
                <a:latin typeface="Tahoma"/>
              </a:rPr>
              <a:t>p</a:t>
            </a:r>
            <a:r>
              <a:rPr b="1" lang="en-US" sz="4000" spc="-1" strike="noStrike" baseline="-25000">
                <a:solidFill>
                  <a:srgbClr val="800000"/>
                </a:solidFill>
                <a:latin typeface="Tahoma"/>
              </a:rPr>
              <a:t>n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к неподвижно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40" name="Picture 5" descr="euristic-estimation"/>
          <p:cNvPicPr/>
          <p:nvPr/>
        </p:nvPicPr>
        <p:blipFill>
          <a:blip r:embed="rId1"/>
          <a:stretch/>
        </p:blipFill>
        <p:spPr>
          <a:xfrm>
            <a:off x="216000" y="2973240"/>
            <a:ext cx="8699400" cy="322740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15"/>
          <p:cNvGrpSpPr/>
          <p:nvPr/>
        </p:nvGrpSpPr>
        <p:grpSpPr>
          <a:xfrm>
            <a:off x="207720" y="3486240"/>
            <a:ext cx="8640360" cy="579600"/>
            <a:chOff x="207720" y="3486240"/>
            <a:chExt cx="8640360" cy="579600"/>
          </a:xfrm>
        </p:grpSpPr>
        <p:sp>
          <p:nvSpPr>
            <p:cNvPr id="242" name="Text Box 7"/>
            <p:cNvSpPr/>
            <p:nvPr/>
          </p:nvSpPr>
          <p:spPr>
            <a:xfrm>
              <a:off x="207720" y="3486240"/>
              <a:ext cx="69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Ō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3" name="Text Box 8"/>
            <p:cNvSpPr/>
            <p:nvPr/>
          </p:nvSpPr>
          <p:spPr>
            <a:xfrm>
              <a:off x="1374480" y="3486240"/>
              <a:ext cx="69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Ō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4" name="Text Box 9"/>
            <p:cNvSpPr/>
            <p:nvPr/>
          </p:nvSpPr>
          <p:spPr>
            <a:xfrm>
              <a:off x="4804560" y="3486240"/>
              <a:ext cx="70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Ō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5" name="Text Box 10"/>
            <p:cNvSpPr/>
            <p:nvPr/>
          </p:nvSpPr>
          <p:spPr>
            <a:xfrm>
              <a:off x="2476080" y="3486240"/>
              <a:ext cx="69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Ō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8266680" y="3486240"/>
              <a:ext cx="58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Õ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7131600" y="3486240"/>
              <a:ext cx="72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Ō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Arial"/>
                </a:rPr>
                <a:t>∞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248" name="Text Box 16"/>
          <p:cNvSpPr/>
          <p:nvPr/>
        </p:nvSpPr>
        <p:spPr>
          <a:xfrm>
            <a:off x="2938320" y="1846440"/>
            <a:ext cx="324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,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,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≈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,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,~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49" name="Group 23"/>
          <p:cNvGrpSpPr/>
          <p:nvPr/>
        </p:nvGrpSpPr>
        <p:grpSpPr>
          <a:xfrm>
            <a:off x="706680" y="2517840"/>
            <a:ext cx="5958720" cy="648720"/>
            <a:chOff x="706680" y="2517840"/>
            <a:chExt cx="5958720" cy="648720"/>
          </a:xfrm>
        </p:grpSpPr>
        <p:sp>
          <p:nvSpPr>
            <p:cNvPr id="250" name="Text Box 6"/>
            <p:cNvSpPr/>
            <p:nvPr/>
          </p:nvSpPr>
          <p:spPr>
            <a:xfrm>
              <a:off x="706680" y="2517840"/>
              <a:ext cx="759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000000"/>
                  </a:solidFill>
                  <a:latin typeface="Arial"/>
                </a:rPr>
                <a:t>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0,1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1855800" y="2517840"/>
              <a:ext cx="759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000000"/>
                  </a:solidFill>
                  <a:latin typeface="Arial"/>
                </a:rPr>
                <a:t>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,2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2" name="Text Box 18"/>
            <p:cNvSpPr/>
            <p:nvPr/>
          </p:nvSpPr>
          <p:spPr>
            <a:xfrm>
              <a:off x="5856480" y="2517840"/>
              <a:ext cx="80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000000"/>
                  </a:solidFill>
                  <a:latin typeface="Arial"/>
                </a:rPr>
                <a:t>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n,∞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253" name="Text Box 19"/>
          <p:cNvSpPr/>
          <p:nvPr/>
        </p:nvSpPr>
        <p:spPr>
          <a:xfrm>
            <a:off x="2451600" y="4195800"/>
            <a:ext cx="78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o,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3741840" y="5059440"/>
            <a:ext cx="796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,∞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4623840" y="5915160"/>
            <a:ext cx="76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,~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3714480" y="2646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7760" y="11556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7.11 Традиционные проблемы тестирова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8080" y="1555920"/>
            <a:ext cx="847404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успешно выполнено тестирован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набор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[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,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 критерий дл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 выполнен. Как выбрать следующий тес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тественно, желаем продвижения в сторону выполнения критерия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структурных критериев — проблема алгоритмически неразреши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взя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гд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1..n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получим текстуальное равенство результатов, трасс, окрестност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7760" y="12996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7.11 Выбор очередного теста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49312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(in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 = tr(in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 p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 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n+1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вычислен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 будет использовано никакой новой информации 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07760" y="727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7.11 Выбор очередного теста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7520"/>
            <a:ext cx="84931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вод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обходимо выбирать из следующего множеств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\(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gt;)=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Q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де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Q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\[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...+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] =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800000"/>
                </a:solidFill>
                <a:latin typeface="Tahoma"/>
              </a:rPr>
              <a:t>Q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...+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800000"/>
                </a:solidFill>
                <a:latin typeface="Tahoma"/>
              </a:rPr>
              <a:t>Q</a:t>
            </a:r>
            <a:r>
              <a:rPr b="1" lang="ru-RU" sz="3200" spc="-1" strike="noStrike" baseline="-6000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умно взя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овых тестов, по одному из каждого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800000"/>
                </a:solidFill>
                <a:latin typeface="Tahoma"/>
              </a:rPr>
              <a:t>Q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=1,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k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тверждение 2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Ес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Q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Ø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неподвижная окрест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7.11 Выбор очередного теста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64" name="Picture 4" descr="next-test-selection"/>
          <p:cNvPicPr/>
          <p:nvPr/>
        </p:nvPicPr>
        <p:blipFill>
          <a:blip r:embed="rId1"/>
          <a:stretch/>
        </p:blipFill>
        <p:spPr>
          <a:xfrm>
            <a:off x="206280" y="2727360"/>
            <a:ext cx="8701200" cy="35416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1407960" y="401940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66" name="Group 15"/>
          <p:cNvGrpSpPr/>
          <p:nvPr/>
        </p:nvGrpSpPr>
        <p:grpSpPr>
          <a:xfrm>
            <a:off x="3595680" y="3166920"/>
            <a:ext cx="2117880" cy="2703240"/>
            <a:chOff x="3595680" y="3166920"/>
            <a:chExt cx="2117880" cy="2703240"/>
          </a:xfrm>
        </p:grpSpPr>
        <p:sp>
          <p:nvSpPr>
            <p:cNvPr id="267" name="Text Box 6"/>
            <p:cNvSpPr/>
            <p:nvPr/>
          </p:nvSpPr>
          <p:spPr>
            <a:xfrm>
              <a:off x="4400640" y="3990960"/>
              <a:ext cx="585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4229280" y="3166920"/>
              <a:ext cx="585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9" name="Text Box 12"/>
            <p:cNvSpPr/>
            <p:nvPr/>
          </p:nvSpPr>
          <p:spPr>
            <a:xfrm>
              <a:off x="3595680" y="5221440"/>
              <a:ext cx="585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0" name="Text Box 14"/>
            <p:cNvSpPr/>
            <p:nvPr/>
          </p:nvSpPr>
          <p:spPr>
            <a:xfrm>
              <a:off x="5127480" y="501984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6654960" y="3157560"/>
            <a:ext cx="2117160" cy="2703240"/>
            <a:chOff x="6654960" y="3157560"/>
            <a:chExt cx="2117160" cy="2703240"/>
          </a:xfrm>
        </p:grpSpPr>
        <p:sp>
          <p:nvSpPr>
            <p:cNvPr id="272" name="Text Box 17"/>
            <p:cNvSpPr/>
            <p:nvPr/>
          </p:nvSpPr>
          <p:spPr>
            <a:xfrm>
              <a:off x="7459560" y="3981600"/>
              <a:ext cx="585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3" name="Text Box 18"/>
            <p:cNvSpPr/>
            <p:nvPr/>
          </p:nvSpPr>
          <p:spPr>
            <a:xfrm>
              <a:off x="7288200" y="3157560"/>
              <a:ext cx="585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4" name="Text Box 19"/>
            <p:cNvSpPr/>
            <p:nvPr/>
          </p:nvSpPr>
          <p:spPr>
            <a:xfrm>
              <a:off x="6654960" y="5212080"/>
              <a:ext cx="585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5" name="Text Box 20"/>
            <p:cNvSpPr/>
            <p:nvPr/>
          </p:nvSpPr>
          <p:spPr>
            <a:xfrm>
              <a:off x="8186400" y="5010480"/>
              <a:ext cx="585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276" name="Text Box 21"/>
          <p:cNvSpPr/>
          <p:nvPr/>
        </p:nvSpPr>
        <p:spPr>
          <a:xfrm>
            <a:off x="1156680" y="1898640"/>
            <a:ext cx="655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.                2.                3.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7760" y="-360"/>
            <a:ext cx="8343720" cy="1792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7.12 Традиционные проблемы тестирования. Тестирование и отладка. Локализация ошибки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52160"/>
            <a:ext cx="84931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положим, что успешно пройден набор тест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неуспешно — тес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ограмм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держит ошибку. Где прежде всего следует ее и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едположи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чт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ы хотим сохранить не только результаты вычисл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о и трасс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(int,(p: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успешных тестовых прогонов на дан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В таком  предположен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7760" y="87480"/>
            <a:ext cx="8343720" cy="120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2 Тестирование и отладка. Локализация ошиб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49312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равленная 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олжна удовлетворять требованию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’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 означает, что исправления должны вноситься в надчеркнутые фрагменты в эксплицированной записи 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другой стороны, результа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’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олжен отличаться от неверного результат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им образом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.е.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\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Это еще больше локализует места возможных исправле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99920" y="0"/>
            <a:ext cx="8343720" cy="1868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2 Тестирование и отладка. Локализация ошиб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49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лучае, если нет уверенности в необходимости сохранения трасс успешных прогонов на набор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до данную рекомендацию о местах внесения исправлений рассматривать как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эвристик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начинать поиск ошибки именно с этих ме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4760" y="56880"/>
            <a:ext cx="8327880" cy="133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7.13 Продолжение тестирования после исправления ошибки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5440" y="1542960"/>
            <a:ext cx="849312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положим, что ошибка найдена, программ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справлена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новый текст программы. Нужно ли повторять все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всех теста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 Или можно гарантировать, что на части тестов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грамм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удет успешно работать? Как отобрать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тес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 Tестированиe. Основные понят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Пример специфик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s=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: D -&gt; Bool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предуслови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: D -&gt; D -&gt; Boo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стуслови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ичная корректнос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частично коррект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ельно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терминируется p d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 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58800"/>
            <a:ext cx="849312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выполнено услов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1..n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т необходимости выполнять вычисле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тест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Действитель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p’: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(intL,(p’: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(intL,(p: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’: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: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’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им образом, необходимо только пересчитать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ecompose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’: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[p’]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’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734760" y="56880"/>
            <a:ext cx="8327880" cy="133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7.13 Продолжение тестирования после исправления ошибки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552320"/>
            <a:ext cx="849312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тех случаях, когда программ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статочно сложная, указанная проверк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пересчет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ймет значительно меньшее время, чем выполнение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тест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734760" y="56880"/>
            <a:ext cx="8327880" cy="133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7.13 Продолжение тестирования после исправления ошибки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42680" y="73080"/>
            <a:ext cx="8343720" cy="1272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4 Использование в тестировании специфика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2880" y="1388880"/>
            <a:ext cx="849312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гда задана формальная спецификация программы, желаем основывать выбор тестов не только на анализе текста программы, но и на анализе текста спецификац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елось бы достичь формализации следующего критерия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 наборе тест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при проверке предусловий, тестовых прогонах и проверке постусловий должна быть использована вся информация о тексте программы и тексте спецификац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420560"/>
            <a:ext cx="849312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язык высокого уровня для написания спецификаций программ,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предусловие, и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постусловие дл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el-GR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одно и двухместный предикаты н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d])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Tru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False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d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])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Tru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False}</a:t>
            </a:r>
            <a:br>
              <a:rPr sz="3200"/>
            </a:br>
            <a:br>
              <a:rPr sz="1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два различных значения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S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интерпретатор язык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писанный на язык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742680" y="73080"/>
            <a:ext cx="8343720" cy="1272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4 Использование в тестировании специфика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28480" y="1555920"/>
            <a:ext cx="849312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цесс тестирова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заданной спецификаци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s=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ожно рассматрива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процесс тестирования составной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orr 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унктирная границ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 следующем слайде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с ожидаемой функцией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всей област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742680" y="73080"/>
            <a:ext cx="8343720" cy="1272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4 Использование в тестировании специфика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Testing"/>
          <p:cNvPicPr/>
          <p:nvPr/>
        </p:nvPicPr>
        <p:blipFill>
          <a:blip r:embed="rId1"/>
          <a:stretch/>
        </p:blipFill>
        <p:spPr>
          <a:xfrm>
            <a:off x="1546200" y="66600"/>
            <a:ext cx="7566120" cy="67248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114560"/>
            <a:ext cx="2147760" cy="347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7.2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Процесс тестиро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вания програм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мы</a:t>
            </a: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881360" y="29052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я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4429080" y="128520"/>
            <a:ext cx="1841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чередного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а 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4432320" y="1711440"/>
            <a:ext cx="1884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условия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4098960" y="4441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046240" y="2451240"/>
            <a:ext cx="1814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ение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 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1" lang="ru-RU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res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2087640" y="507996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1946160" y="5737320"/>
            <a:ext cx="20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грамме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ЛАДКА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6878520" y="3989520"/>
            <a:ext cx="1827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ерия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r p T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1933560" y="3948120"/>
            <a:ext cx="2046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условия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res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878520" y="1249200"/>
            <a:ext cx="20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ершено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5268960" y="27734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3311640" y="17701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6805440" y="5880240"/>
            <a:ext cx="20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ершено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509840"/>
            <a:ext cx="849312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удет удобно рассмотреть данную составную программу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orr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p,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вно, как программу, написанную на некотором язык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JobS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являющемс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дстройкой, языком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зада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д языкам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742680" y="73080"/>
            <a:ext cx="8343720" cy="1272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4 Использование в тестировании специфика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рограмма corr(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φ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,p,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ψ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) на языке JobSL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57280" y="148572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orr:: (S,L,S) -&gt; JobSL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orr(phi,p,psi)=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JOB [ Var"d" 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ExecS phi [Var"d"] {--&gt;-} (Var"phi d"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IF (Var "phi d"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-- TH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ExecL p [Var"d"] {--&gt;-} (Var"res"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(ExecS psi [Var"d",Var"res"] {--&gt;-}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Var"psi d res"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IF (Var "psi d res"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-- THE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(EXIT (Const "True")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-- ELS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(EXIT (Const "False")) -- Error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))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-- ELS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(EXIT (Const "True")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))) -- End of J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интаксис конструкций языка JobSL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o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JOB [jva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jva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 jterm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ter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ExecS progS [ jexp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,jex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var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term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|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ExecL progL  [ jex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,jex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var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term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|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IF jexp jter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jter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|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EXI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xp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var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Var name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ex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var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|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onst d 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bind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jvar := d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env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jbin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jbin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— 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0   progS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   progL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   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спомогательные функции интерпретатора языка JobSL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stance Eq JBind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((Var n1):=_) == ((Var n2):=_)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n1==n2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JEnv :: [JVar] -&gt; [D] -&gt; JEnv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JEnv jvs ds = zipWith (:=) jvs ds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+.) :: JEnv -&gt; JEnv -&gt; JEnv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e1 +. je2 = nub (je2++je1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lcJExp :: JExp -&gt; JEnv -&gt; D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lcJExp (Const d)    je=d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lcJExp (Var name) je=head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[ d | ((Var n):=d)&lt;-je, n==nam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 Tестированиe. Основные понят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Пример специфик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s=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: D -&gt; Bool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предуслови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: D -&gt; D -&gt; Boo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стуслови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рректнос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оррект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ельно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терминируется p d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&amp;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 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нтерпретатор языка JobSL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lcJExps :: [JExp] -&gt; JEnv -&gt; [D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lcJExps jexs je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ap (\ jex -&gt; calcJExp jex je) jexs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tJobSL :: JobSL-&gt;[D]-&gt;D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tJobSL job@(JOB jvs jt0) d = evalJ jt0 je0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 je0 = mkJEnv jvs d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J :: JTerm -&gt; JEnv -&gt; D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J (ExecS p jexs jv jt’) je = evalJ jt’ je’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wher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rg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calcJExps jexs j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intS p args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e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je +. [jv := res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нтерпретатор языка JobSL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J (ExecL p jexs jv jt’) je = evalJ jt’ je’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where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rgs = calcJExps jexs j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es = intL p args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e’ = je +. [jv := res]</a:t>
            </a:r>
            <a:br>
              <a:rPr sz="28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J (IF jex jt1 jt2) je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f ((calcJExp jex je) =="True"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hen evalJ jt1 j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lse evalJ jt2 je</a:t>
            </a:r>
            <a:br>
              <a:rPr sz="28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J (EXIT jex) je = calcJExp jex je</a:t>
            </a:r>
            <a:br>
              <a:rPr sz="28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tL :: L-&gt;[D]-&gt;D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- ... описание интерпретатора языка L</a:t>
            </a:r>
            <a:br>
              <a:rPr sz="24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tS :: S-&gt;[D]-&gt;D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- ... описание интерпретатора языка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7760" y="0"/>
            <a:ext cx="8343720" cy="1401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крестностное тестирование corr(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φ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,p,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ψ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) (1/2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an intJobSL (corr(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: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re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(corr(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):d</a:t>
            </a:r>
            <a:r>
              <a:rPr b="1" lang="ru-RU" sz="28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ecompose 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(corr(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):d</a:t>
            </a:r>
            <a:r>
              <a:rPr b="1" lang="ru-RU" sz="28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[corr(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]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corr(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10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Ō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corr(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corr(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*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corr(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*...*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corr(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=1,2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динственным допустимым результатом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тестированию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orr(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менимы все предыдущиe результа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крестностное тестирование corr(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φ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,p,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ψ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) (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кс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orr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ключает в себя полный текст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s=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числени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orr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бщем случае включает в себя проверку предусловия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числение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проверку постусловия 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крестностное тестирование corr(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φ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,p,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ψ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) (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бор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[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,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удет считаться достаточным для тестир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p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 заданной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пецификацией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s=(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если на данных тестах в совокупности в процессах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оверок предуслов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ычисления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оверок постуслов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ыла использована вся доступная информация о текстe программ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и о тексте специфик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s=(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крестностное тестирование corr(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φ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,p,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ψ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) (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еорема 2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Окрестностный критерий тестирования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 заданной спецификацие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s=(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является надежны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усть выполнено окрестностное тестирование программ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orr(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p,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конечном наборе тесто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результаты всех тестовых прогоно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=1,... 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выполнен критерий окрестностного тестирования для набора тесто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, 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частично корректна по отношению к предусловию 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постусловию 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крестностное тестирование corr(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φ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,p,</a:t>
            </a:r>
            <a:r>
              <a:rPr b="1" i="1" lang="el-GR" sz="4000" spc="-1" strike="noStrike">
                <a:solidFill>
                  <a:srgbClr val="800000"/>
                </a:solidFill>
                <a:latin typeface="Tahoma"/>
              </a:rPr>
              <a:t>ψ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) (2/2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ледствие 23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разрешимость окрестностного критерия тестирова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Не существует алгоритма, который определяет, является ли окрестность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Ō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подвижн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Обзор: Глава 7. Окрестностное тестирование программ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ные понятия: расхождение реальной и желаемой функции программы, спецификация, верификация, тестирование, корректность и частичная коррект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аг и процесс тестирования, тест (набор) успешный (вскрывает ошибку), критерий выбора тестов, свойства критериев (полнота, непротиворечивость, вычислимость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уктурные критерии тестирования и их крит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дея улучшения ситуации и шаги формализации идеи (метасистемные уровн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Обзор: Глава 7. Окрестностное тестирование программ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аги и процесс окрестностного тест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йства окрестностного тестирования (полнота, применимость к разным языкам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ение в рамках окрестностного тестирования традиционных зада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следующего тес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окализация ошибки при отлад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ход от отладки к тестировани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ние текстов спецификаций при тестирова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противоречив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вычислим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1 Tестированиe. Основные понят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правило в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ории тестирова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ссматривают частичную корректность программ, в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ории верификации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а вида коррект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гда спецификация задана формально, можно попытатьс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ерифицирова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казать корректно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формальную теор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практике доказывать программы бывает трудно, в этом случае прибегают к тестирован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7.2 Процесс тестирования программ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стирование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сери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стов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огонов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д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ст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удовлетворяющими предуслови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 каждог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стов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огона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ряют истинность постуслов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abram</cp:lastModifiedBy>
  <dcterms:modified xsi:type="dcterms:W3CDTF">2009-03-07T08:24:27Z</dcterms:modified>
  <cp:revision>810</cp:revision>
  <dc:subject/>
  <dc:title>Slide 1</dc:title>
</cp:coreProperties>
</file>