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8DD7-6FA8-4580-B411-EE1D243E56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8571-D201-4A71-B856-7947450F80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8B37-34F7-4576-9C58-255F97C690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E881-A837-4241-A8FD-5C16BE16EC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F8A7-DDB1-43CA-B43C-9D7DD4C083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C447-2A8D-4E83-9D8A-5966B01BA8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8370-2EDB-4772-8DB9-1102F4DA50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44AA-459B-4155-B447-6387DB9ADE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FF7B-DD04-4F82-BA96-ED831667F8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9C46-93A1-4CCD-9BE2-F0E798B979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8CF2-1571-43FB-821B-C27341D838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4788-9604-4387-9CA0-4972437DEB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71CE-19DC-4E57-9068-65A83FEF3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4FC3-6880-4D01-9397-30B81F2D3E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C12A-1681-4E44-992A-BF0A3A01C3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9B1F-090D-45E6-9CC1-CDCAC80E7E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5181-F4D1-4726-A6A6-6D51E5E68D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90FC-C432-43B0-8350-B034B5B745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9F21-58E8-49E0-ABE8-A710E3BEED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7B1A-841C-4837-9CE1-FF5A2C8849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7D50-B999-4F38-9EEF-D43FACF773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07F1-0074-4A1B-A228-DB28FB9380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BC73-E8EF-41D9-8B9B-FE0A86802D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4DF3-4BDA-4BA2-9175-83D97863B1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213A-5C07-44FE-9DDD-4BD61846F8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41F-4000-4A73-ACC0-EB6CD009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1F3F-1FBE-4EE2-8CC4-4161A25E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1CEE-16F7-477A-AFBF-AEB447F1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F357-85F4-4297-B2FC-5C787BB1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0139-3AA5-4BC7-B2DA-6FEBD9CE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EC72-3CBC-4965-BB8F-685C0B9E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84B4-BE50-4F13-A229-5546E80A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42E7-C0A0-4ACF-9644-4A537FD7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0C70-CBFD-46B4-B6C7-D9A35279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004E-8F17-4943-8B02-7B5313A2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21F9-609D-43AA-875A-578E78A4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271-DA75-439B-BD15-B3EEAACD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C3CF-40D1-4B40-B845-86729F7F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9427-F065-4048-AB40-FCABB674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1D71-152A-483D-A3B0-CA04E208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DD41-49F5-4604-B7DC-FE9A932B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4B0D-43AD-48F9-91FA-401B7BE1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D94-DEC2-4790-AD19-76E627A3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D8D-ADF2-47A8-B036-21BA4E86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05F-285A-438E-B1CA-013D1FAB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7760" y="258480"/>
            <a:ext cx="83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4BD-5EAC-4D59-AEC1-3E92E72C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D0C-09F5-4FA9-8057-A1D09AAB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827-87F4-4753-8C45-BF9995C5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8A2-511A-4265-95EC-DDAC0828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33480" y="34920"/>
            <a:ext cx="704880" cy="142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B592-2912-48FA-A21B-6F9A28A028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64"/>
            </a:gs>
            <a:gs pos="100000">
              <a:srgbClr val="ffe5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метасистемная лестница"/>
          <p:cNvPicPr/>
          <p:nvPr/>
        </p:nvPicPr>
        <p:blipFill>
          <a:blip r:embed="rId2"/>
          <a:stretch/>
        </p:blipFill>
        <p:spPr>
          <a:xfrm>
            <a:off x="250920" y="225360"/>
            <a:ext cx="3214440" cy="648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7"/>
          <p:cNvGraphicFramePr/>
          <p:nvPr/>
        </p:nvGraphicFramePr>
        <p:xfrm>
          <a:off x="1706400" y="4835520"/>
          <a:ext cx="406404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6400" y="4835520"/>
                    <a:ext cx="4064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F1D6-458B-409A-BDCF-BA8DDC5926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ffline.computerra.ru/2001/402/10913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tik.ru/~abram/mca/" TargetMode="External"/><Relationship Id="rId2" Type="http://schemas.openxmlformats.org/officeDocument/2006/relationships/hyperlink" Target="http://www.botik.ru/~xsg/tsg_book" TargetMode="External"/><Relationship Id="rId3" Type="http://schemas.openxmlformats.org/officeDocument/2006/relationships/hyperlink" Target="ftp://ftp.botik.ru/rented/xsg/www/tsg_book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Метавычисления и их применение</a:t>
            </a:r>
            <a:br>
              <a:rPr sz="4400"/>
            </a:br>
            <a:br>
              <a:rPr sz="1000"/>
            </a:b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(слайды к циклу лекций)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614400" y="4300560"/>
            <a:ext cx="523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Абрамов С.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арменова Л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602160" y="262080"/>
            <a:ext cx="5234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587760" y="160200"/>
            <a:ext cx="523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ниверситет города Переславля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м. А. К. Айламазяна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Теория метасистемных переходов (MST)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9780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щая теория эволюции» В.Ф.Турчи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нт эволюции — метасистемный перех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волюция — цепочка метасистемных пере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е черты метасистем и метасистемных пере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метасистем объектами (анализа, преобразования, управления...) являются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о метасистемы работают с множествами (объектов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я для метасистемного пере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сыл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граниченной э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ы с неограниченными возможностями разви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ы, обреченные жить без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Метавычисления: применение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MST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к программированию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 ид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обеспечить эволюцию в мире программ, используе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граммирован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ю эволюции В. Ф. Турч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 этого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авычис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программы — конструктивные метасистемы над програм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Метавычисления: применение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MST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к программированию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5496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черты метапрограмм заимствованы и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повторяют общие черты метасист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апрограммы работают над программами: анализ, преобразование, (нестандартные) вычисления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апрограммы работают с множествами (с их представления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реализовать условие «неограниченной цепочки метавычислений»: возможность совершения метасистемного перехода над метапрограммой — применение метапрограммы к метапрогра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остейшие примеры метасистемных переходов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3232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язык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данны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ет результат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 d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cc3300"/>
                </a:solidFill>
                <a:latin typeface="SymbolProp BT"/>
                <a:ea typeface="SymbolProp BT"/>
              </a:rPr>
              <a:t>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/R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-интерпретат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ык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аписанный на язык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(p, d)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cc3300"/>
                </a:solidFill>
                <a:latin typeface="SymbolProp BT"/>
                <a:ea typeface="SymbolProp BT"/>
              </a:rPr>
              <a:t>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  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 d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cc3300"/>
                </a:solidFill>
                <a:latin typeface="SymbolProp BT"/>
                <a:ea typeface="SymbolProp BT"/>
              </a:rPr>
              <a:t>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1→L2/R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компиля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язык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язы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нный на язык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L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comp p1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cc3300"/>
                </a:solidFill>
                <a:latin typeface="SymbolProp BT"/>
                <a:ea typeface="SymbolProp BT"/>
              </a:rPr>
              <a:t>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2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L2</a:t>
            </a:r>
            <a:br>
              <a:rPr sz="2800"/>
            </a:b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 p1 d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cc3300"/>
                </a:solidFill>
                <a:latin typeface="SymbolProp BT"/>
                <a:ea typeface="SymbolProp BT"/>
              </a:rPr>
              <a:t>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Arial"/>
              </a:rPr>
              <a:t>L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  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2 d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cc3300"/>
                </a:solidFill>
                <a:latin typeface="SymbolProp BT"/>
                <a:ea typeface="SymbolProp BT"/>
              </a:rPr>
              <a:t>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Arial"/>
              </a:rPr>
              <a:t>L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Простейшие примеры метасистемных переходов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же простейшие метапрограммы позволяют достичь серьезных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ем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→R/R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специализатором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 s(p, 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cc3300"/>
                </a:solidFill>
                <a:latin typeface="SymbolProp BT"/>
                <a:ea typeface="SymbolProp BT"/>
              </a:rPr>
              <a:t>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 p (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cc3300"/>
                </a:solidFill>
                <a:latin typeface="SymbolProp BT"/>
                <a:ea typeface="SymbolProp BT"/>
              </a:rPr>
              <a:t>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  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cc3300"/>
                </a:solidFill>
                <a:latin typeface="SymbolProp BT"/>
                <a:ea typeface="SymbolProp BT"/>
              </a:rPr>
              <a:t>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о (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сновное свойство специализато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 (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(p, d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виальный и нетривиальный специализатор: как отличить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ch ston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ет на следующем слай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1"/>
          <p:cNvGrpSpPr/>
          <p:nvPr/>
        </p:nvGrpSpPr>
        <p:grpSpPr>
          <a:xfrm>
            <a:off x="3106800" y="1644480"/>
            <a:ext cx="5834160" cy="1513080"/>
            <a:chOff x="3106800" y="1644480"/>
            <a:chExt cx="5834160" cy="1513080"/>
          </a:xfrm>
        </p:grpSpPr>
        <p:sp>
          <p:nvSpPr>
            <p:cNvPr id="127" name="Rectangle 4"/>
            <p:cNvSpPr/>
            <p:nvPr/>
          </p:nvSpPr>
          <p:spPr>
            <a:xfrm>
              <a:off x="3106800" y="2692440"/>
              <a:ext cx="1654200" cy="465120"/>
            </a:xfrm>
            <a:prstGeom prst="rect">
              <a:avLst/>
            </a:prstGeom>
            <a:solidFill>
              <a:srgbClr val="e7f4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28" name="AutoShape 5"/>
            <p:cNvSpPr/>
            <p:nvPr/>
          </p:nvSpPr>
          <p:spPr>
            <a:xfrm>
              <a:off x="5195880" y="1644480"/>
              <a:ext cx="3745080" cy="784440"/>
            </a:xfrm>
            <a:prstGeom prst="wedgeRectCallout">
              <a:avLst>
                <a:gd name="adj1" fmla="val -61740"/>
                <a:gd name="adj2" fmla="val 872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зультат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→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-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пиляци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1" lang="en-US" sz="24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129" name="Group 19"/>
          <p:cNvGrpSpPr/>
          <p:nvPr/>
        </p:nvGrpSpPr>
        <p:grpSpPr>
          <a:xfrm>
            <a:off x="3106800" y="2484360"/>
            <a:ext cx="5834160" cy="1181160"/>
            <a:chOff x="3106800" y="2484360"/>
            <a:chExt cx="5834160" cy="1181160"/>
          </a:xfrm>
        </p:grpSpPr>
        <p:sp>
          <p:nvSpPr>
            <p:cNvPr id="130" name="Rectangle 10"/>
            <p:cNvSpPr/>
            <p:nvPr/>
          </p:nvSpPr>
          <p:spPr>
            <a:xfrm>
              <a:off x="3106800" y="3200400"/>
              <a:ext cx="1465200" cy="465120"/>
            </a:xfrm>
            <a:prstGeom prst="rect">
              <a:avLst/>
            </a:prstGeom>
            <a:solidFill>
              <a:srgbClr val="e7f4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31" name="AutoShape 11"/>
            <p:cNvSpPr/>
            <p:nvPr/>
          </p:nvSpPr>
          <p:spPr>
            <a:xfrm>
              <a:off x="6573960" y="2484360"/>
              <a:ext cx="2367000" cy="766800"/>
            </a:xfrm>
            <a:prstGeom prst="wedgeRectCallout">
              <a:avLst>
                <a:gd name="adj1" fmla="val -135041"/>
                <a:gd name="adj2" fmla="val 522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→R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-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пилятор</a:t>
              </a:r>
              <a:endParaRPr b="1" lang="en-US" sz="24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132" name="Group 20"/>
          <p:cNvGrpSpPr/>
          <p:nvPr/>
        </p:nvGrpSpPr>
        <p:grpSpPr>
          <a:xfrm>
            <a:off x="612720" y="2814480"/>
            <a:ext cx="3757680" cy="1355760"/>
            <a:chOff x="612720" y="2814480"/>
            <a:chExt cx="3757680" cy="1355760"/>
          </a:xfrm>
        </p:grpSpPr>
        <p:sp>
          <p:nvSpPr>
            <p:cNvPr id="133" name="Rectangle 14"/>
            <p:cNvSpPr/>
            <p:nvPr/>
          </p:nvSpPr>
          <p:spPr>
            <a:xfrm>
              <a:off x="3110040" y="3705120"/>
              <a:ext cx="1260360" cy="465120"/>
            </a:xfrm>
            <a:prstGeom prst="rect">
              <a:avLst/>
            </a:prstGeom>
            <a:solidFill>
              <a:srgbClr val="e7f4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34" name="AutoShape 15"/>
            <p:cNvSpPr/>
            <p:nvPr/>
          </p:nvSpPr>
          <p:spPr>
            <a:xfrm>
              <a:off x="612720" y="2814480"/>
              <a:ext cx="2336760" cy="784440"/>
            </a:xfrm>
            <a:prstGeom prst="wedgeRectCallout">
              <a:avLst>
                <a:gd name="adj1" fmla="val 55976"/>
                <a:gd name="adj2" fmla="val 9271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енератор компиляторов</a:t>
              </a:r>
              <a:endParaRPr b="1" lang="en-US" sz="24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Простейшие примеры метасистемных переходов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23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 (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(p, d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cc3300"/>
                </a:solidFill>
                <a:latin typeface="SymbolProp BT"/>
                <a:ea typeface="SymbolProp BT"/>
              </a:rPr>
              <a:t>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cc3300"/>
                </a:solidFill>
                <a:latin typeface="SymbolProp BT"/>
                <a:ea typeface="SymbolProp BT"/>
              </a:rPr>
              <a:t>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d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s(int, p</a:t>
            </a:r>
            <a:r>
              <a:rPr b="1" lang="en-US" sz="2800" spc="-1" strike="noStrike" u="sng" baseline="-25000">
                <a:solidFill>
                  <a:srgbClr val="006600"/>
                </a:solidFill>
                <a:uFillTx/>
                <a:latin typeface="Arial"/>
              </a:rPr>
              <a:t>L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s(s, int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s(s, s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Проекции Футамуры-Турч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танция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ет между «это теоретически возмож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97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и «это сделано на практи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98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uch ston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специализа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История проекций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Футамуры-Турчина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4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тамура открыл первые  две про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utamura: Partial Evaluation of Computation Process — An approach to a Compiler-Compiler, 19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рчин независимо от Футамуры открыл (1972...) все три проекции, опубликовать не м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сообщение об этом: в работе академика Ерш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«неразборчивая» реализация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l D. Jones, DIKU, 19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совершенная реализация: С.А.Романенко, 1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ра «Турчин и другие.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ffline.computerra.ru/2001/402/10913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5"/>
          <p:cNvGrpSpPr/>
          <p:nvPr/>
        </p:nvGrpSpPr>
        <p:grpSpPr>
          <a:xfrm>
            <a:off x="7120080" y="152280"/>
            <a:ext cx="1871640" cy="6543720"/>
            <a:chOff x="7120080" y="152280"/>
            <a:chExt cx="1871640" cy="6543720"/>
          </a:xfrm>
        </p:grpSpPr>
        <p:pic>
          <p:nvPicPr>
            <p:cNvPr id="140" name="Picture 12" descr="YoshiS"/>
            <p:cNvPicPr/>
            <p:nvPr/>
          </p:nvPicPr>
          <p:blipFill>
            <a:blip r:embed="rId2"/>
            <a:stretch/>
          </p:blipFill>
          <p:spPr>
            <a:xfrm>
              <a:off x="7120080" y="152280"/>
              <a:ext cx="1871640" cy="19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3" descr="Neil1"/>
            <p:cNvPicPr/>
            <p:nvPr/>
          </p:nvPicPr>
          <p:blipFill>
            <a:blip r:embed="rId3"/>
            <a:stretch/>
          </p:blipFill>
          <p:spPr>
            <a:xfrm>
              <a:off x="7120080" y="2286000"/>
              <a:ext cx="1871640" cy="17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4" descr="image"/>
            <p:cNvPicPr/>
            <p:nvPr/>
          </p:nvPicPr>
          <p:blipFill>
            <a:blip r:embed="rId4"/>
            <a:stretch/>
          </p:blipFill>
          <p:spPr>
            <a:xfrm>
              <a:off x="7120080" y="4241520"/>
              <a:ext cx="1871640" cy="245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AutoShape 16"/>
          <p:cNvSpPr/>
          <p:nvPr/>
        </p:nvSpPr>
        <p:spPr>
          <a:xfrm rot="5400000">
            <a:off x="1037160" y="4933080"/>
            <a:ext cx="887400" cy="2962440"/>
          </a:xfrm>
          <a:prstGeom prst="upArrow">
            <a:avLst>
              <a:gd name="adj1" fmla="val 50000"/>
              <a:gd name="adj2" fmla="val 83458"/>
            </a:avLst>
          </a:pr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Другие примеры метасистемных переходов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232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шем курсе мы рассмотрим более сложные метасистемы (многоуровневые метасистемы), боле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ые примеры метасистемных переходов, более сложные проекции (например, для нестандарт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анти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nk 4"/>
          <p:cNvSpPr/>
          <p:nvPr/>
        </p:nvSpPr>
        <p:spPr>
          <a:xfrm>
            <a:off x="5743440" y="1917720"/>
            <a:ext cx="47880" cy="77760"/>
          </a:xfrm>
          <a:custGeom>
            <a:avLst/>
            <a:gdLst/>
            <a:ahLst/>
            <a:rect l="l" t="t" r="r" b="b"/>
            <a:pathLst>
              <a:path w="134" h="215">
                <a:moveTo>
                  <a:pt x="15954" y="5542"/>
                </a:moveTo>
                <a:cubicBezTo>
                  <a:pt x="15961" y="5509"/>
                  <a:pt x="15963" y="5475"/>
                  <a:pt x="15977" y="5444"/>
                </a:cubicBezTo>
                <a:cubicBezTo>
                  <a:pt x="15994" y="5407"/>
                  <a:pt x="16018" y="5368"/>
                  <a:pt x="16048" y="5341"/>
                </a:cubicBezTo>
                <a:cubicBezTo>
                  <a:pt x="16078" y="5314"/>
                  <a:pt x="16079" y="5340"/>
                  <a:pt x="16087" y="5363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Метавычисления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Метавычислени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дел программирования, посвященн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е методов анализа и преобразования программ за сч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ации конструктивных метасистем (метапрограмм) над программ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аммы в метавычислениях рассматриваются как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объек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нали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/или пре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Базовые идеи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именение теории метасистем и метасистемных переход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 програм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оцесс-ориентированный под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 построению методов анализа и преобразования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метапрограм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«наблюдают» за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роцесс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числения исходной программ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на одиночных данны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 классах данных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управляю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ми процес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ксация языка реализа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ем должны быть написаны все программы p, к которым будут применяться мета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екоторая метапрограмма M написана на R, то к ней применима она сама (самоприменимость) или другие метапрограммы (метасистемная лестн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Литература и ссылки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3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otik.ru/~abram/mca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otik.ru/~xsg/tsg_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tp://ftp.botik.ru/rented/xsg/www/tsg_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брамов С.М. ``Метавычисления и их применение''//M., Наука-Физматлит, 1995, с. 1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левич Л.В., Федосова М.А. ``Метавычисления и их применение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перкомпиляция''//Выпускная работа на соискание степени бакалавра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лиал Российского университета дружбы народов, Переславль--Залесский, с. 6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Цель исследований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ация средств анализа программ и средств выполнения преобразований про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вивалентных преобразований (например, оптимизаций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ения новых программ, функции которых сложным образом определяются через функции исходных 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Мотивация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Ф.Турчи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номен нау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«Метод современной науки по своему существу есть не что иное, как построение формальных лингвистических моделей изучаемых явлений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«Очередной шаг развития лингвистического моделирования, то есть очередной метасистемный переход в эволюции науки — использование компьютеров в процессе построения формальных лингвистических моделей»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«И это может быть сделано при помощи использования методов метавычисл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шние результаты убеждают, что данная роль метавычислений действительно может быть осуществлена на практике при условии дальнейшего развития методов метавычислений и методов их приме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Мотивация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ласти программирования речь идет о создании мощных средств автоматического анализа и преобразований программ и методов применения этих сред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Автоматизация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Обеспечение надежности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Мотивация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ление к скорейшему завершению создания теории суперкомпиляции и практической реализации суперкомпилятора привело к тому, что некоторые понятия и методы метавычислений, некоторые вопросы применения метавычислений в программировании были недостаточно полно развиты, исследованы, обоснованы и излож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До сих пор актуальная задача — закрыть данный проб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Мотивация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зкие технологии (частичные вычисления, дефорестация, расширенная дефорестация, обобщенные частичные вычисления и т.д.) упрощения суперкомпиляции и метавычис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Исследователи, ранее занимающиеся данными направлениями, проявляют все больший интерес к метавычисле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2"/>
          <p:cNvGrpSpPr/>
          <p:nvPr/>
        </p:nvGrpSpPr>
        <p:grpSpPr>
          <a:xfrm>
            <a:off x="-3240" y="557280"/>
            <a:ext cx="9190080" cy="6287760"/>
            <a:chOff x="-3240" y="557280"/>
            <a:chExt cx="9190080" cy="6287760"/>
          </a:xfrm>
        </p:grpSpPr>
        <p:pic>
          <p:nvPicPr>
            <p:cNvPr id="162" name="Picture 12" descr="slides"/>
            <p:cNvPicPr/>
            <p:nvPr/>
          </p:nvPicPr>
          <p:blipFill>
            <a:blip r:embed="rId1"/>
            <a:stretch/>
          </p:blipFill>
          <p:spPr>
            <a:xfrm>
              <a:off x="-3240" y="557280"/>
              <a:ext cx="9147240" cy="62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5"/>
            <p:cNvSpPr/>
            <p:nvPr/>
          </p:nvSpPr>
          <p:spPr>
            <a:xfrm>
              <a:off x="5000760" y="16934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-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компиля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scp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6894360" y="2774520"/>
              <a:ext cx="2021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пеци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7080120" y="1834920"/>
              <a:ext cx="20894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уперкомпиляции,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 том числ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209760" y="1145880"/>
              <a:ext cx="2772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Базов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онятия и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int, SR, ptr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189320" y="3051000"/>
              <a:ext cx="27720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ычисле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ura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227320" y="306504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ы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анализ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nan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7262640" y="1077480"/>
              <a:ext cx="1924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2173320" y="1707840"/>
              <a:ext cx="1284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 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352440" y="2252520"/>
              <a:ext cx="1488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ы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442800" y="6522840"/>
              <a:ext cx="8039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2] Л.В. Парменова  «Метавычисления и их применения. Суперкомпиляц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73" name="Text Box 16"/>
            <p:cNvSpPr/>
            <p:nvPr/>
          </p:nvSpPr>
          <p:spPr>
            <a:xfrm>
              <a:off x="1938240" y="6233760"/>
              <a:ext cx="5556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[1] С.М.Абрамов «Метавычисления и их применения»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74" name="Text Box 17"/>
            <p:cNvSpPr/>
            <p:nvPr/>
          </p:nvSpPr>
          <p:spPr>
            <a:xfrm>
              <a:off x="469800" y="711000"/>
              <a:ext cx="2772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Область возмож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c3300"/>
                  </a:solidFill>
                  <a:latin typeface="Arial"/>
                </a:rPr>
                <a:t>новых исследова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75" name="Text Box 18"/>
            <p:cNvSpPr/>
            <p:nvPr/>
          </p:nvSpPr>
          <p:spPr>
            <a:xfrm>
              <a:off x="1673280" y="4481280"/>
              <a:ext cx="2771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крестност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тестиро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76" name="Text Box 19"/>
            <p:cNvSpPr/>
            <p:nvPr/>
          </p:nvSpPr>
          <p:spPr>
            <a:xfrm>
              <a:off x="3265560" y="5133600"/>
              <a:ext cx="2771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Реализация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нестандартных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емантик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77" name="Text Box 20"/>
            <p:cNvSpPr/>
            <p:nvPr/>
          </p:nvSpPr>
          <p:spPr>
            <a:xfrm>
              <a:off x="5280120" y="4322520"/>
              <a:ext cx="1844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нверсно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раммиро-вание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78" name="Text Box 21"/>
            <p:cNvSpPr/>
            <p:nvPr/>
          </p:nvSpPr>
          <p:spPr>
            <a:xfrm>
              <a:off x="5497560" y="1077480"/>
              <a:ext cx="18558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оды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6600"/>
                  </a:solidFill>
                  <a:latin typeface="Arial"/>
                </a:rPr>
                <a:t>метавычислений</a:t>
              </a:r>
              <a:endParaRPr b="1" lang="en-US" sz="15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179" name="Text Box 23"/>
          <p:cNvSpPr/>
          <p:nvPr/>
        </p:nvSpPr>
        <p:spPr>
          <a:xfrm>
            <a:off x="671400" y="-8244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Структура курса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Литература и ссылки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3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рамов С.М. Метавычисления и их применение//Диссертация на соискание степени доктора физико-математических наук, ИПС РАН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кабрь 1995. с. 28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ERGEI ABRAMOV, ROBERT GLUECK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``SEMANTICS MODIFIERS: AN APPROACH TO NON-STANDARD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EMANTICS OF PROGRAMMING LANGUAGES''//FLOPS98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://ftp.botik.ru/pub/local/Sergei.Abramov/FLOPS98.zi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Контрольные мероприятия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бежный конт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бежный конт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за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79480" y="1279440"/>
            <a:ext cx="5265720" cy="2859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cc66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Глава 1. Введение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614400" y="4300560"/>
            <a:ext cx="5234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В. Ф. Турчин — основатель метавычислений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6" name="Picture 4" descr="Валентин Федорович Турчин-меньше"/>
          <p:cNvPicPr/>
          <p:nvPr/>
        </p:nvPicPr>
        <p:blipFill>
          <a:blip r:embed="rId1"/>
          <a:stretch/>
        </p:blipFill>
        <p:spPr>
          <a:xfrm>
            <a:off x="755640" y="1531800"/>
            <a:ext cx="75963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В.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Ф.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Турчин. Краткая биографическая справка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50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к-ядерщ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лософ: «Феномен науки» — общая теория эволюции (обсуждается дале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ик в области теоретических основ информатики, основатель метавычислений, создатель языка реф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Валентин Федорович Турчин-меньше"/>
          <p:cNvPicPr/>
          <p:nvPr/>
        </p:nvPicPr>
        <p:blipFill>
          <a:blip r:embed="rId1"/>
          <a:srcRect l="22262" t="0" r="22255" b="0"/>
          <a:stretch/>
        </p:blipFill>
        <p:spPr>
          <a:xfrm>
            <a:off x="4929120" y="1504800"/>
            <a:ext cx="421488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В.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Ф.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Турчин. Краткая биографическая справка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50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авник молодых: Колмогоровский интернат, рефал-мальчики, рефал-семин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уляризатор науки (журнал «Зн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ahoma"/>
              </a:rPr>
              <a:t>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ила», сборники «Физики шутят» и «Физики продолжают шутить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Валентин Федорович Турчин-меньше"/>
          <p:cNvPicPr/>
          <p:nvPr/>
        </p:nvPicPr>
        <p:blipFill>
          <a:blip r:embed="rId1"/>
          <a:srcRect l="22262" t="0" r="22255" b="0"/>
          <a:stretch/>
        </p:blipFill>
        <p:spPr>
          <a:xfrm>
            <a:off x="4929120" y="1504800"/>
            <a:ext cx="421488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7760" y="258480"/>
            <a:ext cx="8343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В.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Ф.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Турчин. Краткая биографическая справка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50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высокой совести, граждан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сидент, правозащитник, лидер хельсинской группы в Моск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ига В.Ф.Турчина «Инерция стр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ворение из СССР (19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tars1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сональная «железная занаве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Валентин Федорович Турчин-меньше"/>
          <p:cNvPicPr/>
          <p:nvPr/>
        </p:nvPicPr>
        <p:blipFill>
          <a:blip r:embed="rId1"/>
          <a:srcRect l="22262" t="0" r="22255" b="0"/>
          <a:stretch/>
        </p:blipFill>
        <p:spPr>
          <a:xfrm>
            <a:off x="4929120" y="1504800"/>
            <a:ext cx="421488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0:02:47Z</dcterms:created>
  <dc:creator>Sergei Abramov</dc:creator>
  <dc:description/>
  <dc:language>en-US</dc:language>
  <cp:lastModifiedBy>Sergei M. Abramov</cp:lastModifiedBy>
  <dcterms:modified xsi:type="dcterms:W3CDTF">2009-09-03T07:20:50Z</dcterms:modified>
  <cp:revision>186</cp:revision>
  <dc:subject/>
  <dc:title>Slide 1</dc:title>
</cp:coreProperties>
</file>