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F956-BDFD-4121-BD4E-D01A9245C0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DF1E-3FFC-4761-924B-853FD47348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3A0F-9A49-40AF-9EB6-335E9569F4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63AA-8A90-4E7E-BD34-E4C3101FC9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73A0-E726-4BD5-B585-653FAD3EC1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9979-649B-4882-945B-06B79E2C23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ABF2-CD9E-4BD8-99AC-C9CE55687F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B76F-FB96-4D45-B3CF-4D624F4A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37C0-2148-4D40-9DE5-D0237EA2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9844-E9AE-4029-A03B-FE976F24F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892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064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892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064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E16D-5B96-4D10-AB40-52222F060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9CD9-6AE5-41E5-9E9A-037251B18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585D-7401-4C30-AA76-AD49658F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79D3-A8AF-423C-9C30-C22ACBAB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59C5-D516-4224-A07B-5865888C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D46E-CF2B-4CBB-8884-4C50EDF0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7760" y="258480"/>
            <a:ext cx="83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B21C-4FDB-4AE0-BB89-2025C0FF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A7ED-33C5-45BC-9D2E-E854CAF4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9C8F-FC82-4852-A591-71A91A28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7AF9-809E-4D97-989D-D729E3DD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9FB4-5FFF-48D9-AB8F-0FAD09DF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57D1-051B-4AB3-AEEF-3BD3676B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65CA-F0CA-4473-A155-AB08D5EA3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892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0064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892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0064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1A36-CBE0-4F96-8D34-1510584A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BE22-F77E-4A7C-B3C5-BE603336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51D5-002C-407B-B643-FDDE660C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F157-DE53-40E1-B444-DBB74EC8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7760" y="258480"/>
            <a:ext cx="83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2384-2D64-4CE4-A68C-699DA7D4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B962-15CA-49C1-8761-39E584C5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7E83-AF94-4167-A02E-C6F3851F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953B-4ED1-420A-85CD-4E84E3AF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964"/>
            </a:gs>
            <a:gs pos="100000">
              <a:srgbClr val="ffe5c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метасистемная лестница"/>
          <p:cNvPicPr/>
          <p:nvPr/>
        </p:nvPicPr>
        <p:blipFill>
          <a:blip r:embed="rId2"/>
          <a:stretch/>
        </p:blipFill>
        <p:spPr>
          <a:xfrm>
            <a:off x="33480" y="34920"/>
            <a:ext cx="704880" cy="1420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22C0-2186-42D9-8E82-77BC7F9911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964"/>
            </a:gs>
            <a:gs pos="100000">
              <a:srgbClr val="ffe5c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метасистемная лестница"/>
          <p:cNvPicPr/>
          <p:nvPr/>
        </p:nvPicPr>
        <p:blipFill>
          <a:blip r:embed="rId2"/>
          <a:stretch/>
        </p:blipFill>
        <p:spPr>
          <a:xfrm>
            <a:off x="250920" y="225360"/>
            <a:ext cx="3214440" cy="648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Object 7"/>
          <p:cNvGraphicFramePr/>
          <p:nvPr/>
        </p:nvGraphicFramePr>
        <p:xfrm>
          <a:off x="1706400" y="4835520"/>
          <a:ext cx="4064040" cy="406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06400" y="4835520"/>
                    <a:ext cx="40640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70C8-829A-4BE8-8F71-07AA2E9FE6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52320" y="1279440"/>
            <a:ext cx="5791320" cy="28591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cc66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Глава </a:t>
            </a: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8</a:t>
            </a: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. Суперкомпиляция. Введение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614400" y="4300560"/>
            <a:ext cx="5234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-3240" y="557280"/>
            <a:ext cx="9190080" cy="6287760"/>
            <a:chOff x="-3240" y="557280"/>
            <a:chExt cx="9190080" cy="6287760"/>
          </a:xfrm>
        </p:grpSpPr>
        <p:pic>
          <p:nvPicPr>
            <p:cNvPr id="96" name="Picture 3" descr="slides"/>
            <p:cNvPicPr/>
            <p:nvPr/>
          </p:nvPicPr>
          <p:blipFill>
            <a:blip r:embed="rId1"/>
            <a:stretch/>
          </p:blipFill>
          <p:spPr>
            <a:xfrm>
              <a:off x="-3240" y="557280"/>
              <a:ext cx="9147240" cy="62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4"/>
            <p:cNvSpPr/>
            <p:nvPr/>
          </p:nvSpPr>
          <p:spPr>
            <a:xfrm>
              <a:off x="5000760" y="1693440"/>
              <a:ext cx="2771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Супер-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компиляц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scp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8" name="Text Box 5"/>
            <p:cNvSpPr/>
            <p:nvPr/>
          </p:nvSpPr>
          <p:spPr>
            <a:xfrm>
              <a:off x="6894360" y="2774520"/>
              <a:ext cx="20210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Специализац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ограмм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9" name="Text Box 6"/>
            <p:cNvSpPr/>
            <p:nvPr/>
          </p:nvSpPr>
          <p:spPr>
            <a:xfrm>
              <a:off x="7080120" y="1834920"/>
              <a:ext cx="20894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иложен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суперкомпиляции,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в том числ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0" name="Text Box 7"/>
            <p:cNvSpPr/>
            <p:nvPr/>
          </p:nvSpPr>
          <p:spPr>
            <a:xfrm>
              <a:off x="3209760" y="1145880"/>
              <a:ext cx="277200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Базовы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онятия и методы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метавычислений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int, SR, ptr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1" name="Text Box 8"/>
            <p:cNvSpPr/>
            <p:nvPr/>
          </p:nvSpPr>
          <p:spPr>
            <a:xfrm>
              <a:off x="4189320" y="3051000"/>
              <a:ext cx="277200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нверсно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вычислени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ura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2" name="Text Box 9"/>
            <p:cNvSpPr/>
            <p:nvPr/>
          </p:nvSpPr>
          <p:spPr>
            <a:xfrm>
              <a:off x="2227320" y="3065040"/>
              <a:ext cx="2771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Окрестностный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анализ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nan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3" name="Text Box 10"/>
            <p:cNvSpPr/>
            <p:nvPr/>
          </p:nvSpPr>
          <p:spPr>
            <a:xfrm>
              <a:off x="7262640" y="1077480"/>
              <a:ext cx="19242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6600"/>
                  </a:solidFill>
                  <a:latin typeface="Arial"/>
                </a:rPr>
                <a:t>Приложен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6600"/>
                  </a:solidFill>
                  <a:latin typeface="Arial"/>
                </a:rPr>
                <a:t>метавычислений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4" name="Text Box 11"/>
            <p:cNvSpPr/>
            <p:nvPr/>
          </p:nvSpPr>
          <p:spPr>
            <a:xfrm>
              <a:off x="2173320" y="1707840"/>
              <a:ext cx="12841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ные методы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5" name="Text Box 12"/>
            <p:cNvSpPr/>
            <p:nvPr/>
          </p:nvSpPr>
          <p:spPr>
            <a:xfrm>
              <a:off x="352440" y="2252520"/>
              <a:ext cx="14889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ны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иложен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442800" y="6522840"/>
              <a:ext cx="8039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[2] Л.В.Парменова  «Метавычисления и их применения. Суперкомпиляция»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7" name="Text Box 14"/>
            <p:cNvSpPr/>
            <p:nvPr/>
          </p:nvSpPr>
          <p:spPr>
            <a:xfrm>
              <a:off x="1938240" y="6233760"/>
              <a:ext cx="55562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[1] С.М.Абрамов «Метавычисления и их применения»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8" name="Text Box 15"/>
            <p:cNvSpPr/>
            <p:nvPr/>
          </p:nvSpPr>
          <p:spPr>
            <a:xfrm>
              <a:off x="469800" y="711000"/>
              <a:ext cx="27720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Область возможных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новых исследований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9" name="Text Box 16"/>
            <p:cNvSpPr/>
            <p:nvPr/>
          </p:nvSpPr>
          <p:spPr>
            <a:xfrm>
              <a:off x="1673280" y="4481280"/>
              <a:ext cx="27716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Окрестностно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тестировани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10" name="Text Box 17"/>
            <p:cNvSpPr/>
            <p:nvPr/>
          </p:nvSpPr>
          <p:spPr>
            <a:xfrm>
              <a:off x="3265560" y="5133600"/>
              <a:ext cx="2771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Реализац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нестандартных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семантик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11" name="Text Box 18"/>
            <p:cNvSpPr/>
            <p:nvPr/>
          </p:nvSpPr>
          <p:spPr>
            <a:xfrm>
              <a:off x="5280120" y="4322520"/>
              <a:ext cx="1844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нверсно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ограммиро-вани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12" name="Text Box 19"/>
            <p:cNvSpPr/>
            <p:nvPr/>
          </p:nvSpPr>
          <p:spPr>
            <a:xfrm>
              <a:off x="5497560" y="1077480"/>
              <a:ext cx="18558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6600"/>
                  </a:solidFill>
                  <a:latin typeface="Arial"/>
                </a:rPr>
                <a:t>Методы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6600"/>
                  </a:solidFill>
                  <a:latin typeface="Arial"/>
                </a:rPr>
                <a:t>метавычислений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113" name="Text Box 20"/>
          <p:cNvSpPr/>
          <p:nvPr/>
        </p:nvSpPr>
        <p:spPr>
          <a:xfrm>
            <a:off x="671400" y="-82440"/>
            <a:ext cx="77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Структура курса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5929200" y="2432160"/>
            <a:ext cx="887400" cy="3089160"/>
          </a:xfrm>
          <a:prstGeom prst="upArrow">
            <a:avLst>
              <a:gd name="adj1" fmla="val 50000"/>
              <a:gd name="adj2" fmla="val 87028"/>
            </a:avLst>
          </a:prstGeom>
          <a:solidFill>
            <a:srgbClr val="ff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Глава 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8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. Суперкомпиляция. Постановка задачи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: для заданных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роить максимально эффективную реализацию (специализацию) программ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случая, когда аргумен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аем из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фектное дерев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цессов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xpt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яетс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ой максимально эффективной реализацией (программой)!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ть маленький недостат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 этой программ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..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Какой недостаток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ограмма (п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рфектное дерев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цессов) может быть бесконечной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Глава 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8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. Суперкомпиляция. Основная идея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Какие иде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ешения проблемы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ая идея: представление бесконечного дерева конечным граф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ашем случае такое заведомо возможн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ahoma"/>
              </a:rPr>
              <a:t>Глава </a:t>
            </a:r>
            <a:r>
              <a:rPr b="1" lang="en-US" sz="3600" spc="-1" strike="noStrike">
                <a:solidFill>
                  <a:srgbClr val="800000"/>
                </a:solidFill>
                <a:latin typeface="Tahoma"/>
              </a:rPr>
              <a:t>8</a:t>
            </a:r>
            <a:r>
              <a:rPr b="1" lang="ru-RU" sz="3600" spc="-1" strike="noStrike">
                <a:solidFill>
                  <a:srgbClr val="800000"/>
                </a:solidFill>
                <a:latin typeface="Tahoma"/>
              </a:rPr>
              <a:t>. Суперкомпиляция. Какие технологии понадобятся?</a:t>
            </a:r>
            <a:endParaRPr b="1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ворачивание перфектного дерева процессо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же имеем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p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прогонка,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riving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 отсечением сухих вето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спознание возможных бесконечных ветвей в перфектном дерев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познание возможного зацикливания, опасно похожих  вершин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работка двух опасно похожих вершин 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cWh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ибо определение возможности зацикливания и оформление цикла в граф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cWh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ибо обобщение вершин — приближение возможности зацикливания 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Глава 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8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. Суперкомпиляция. Введение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последующих главах будут описа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е указанные «технологии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уперкомпилятор для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SG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цел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ы применения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уперкомпилятора для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S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0:02:47Z</dcterms:created>
  <dc:creator>Sergei Abramov</dc:creator>
  <dc:description/>
  <dc:language>en-US</dc:language>
  <cp:lastModifiedBy>abram</cp:lastModifiedBy>
  <dcterms:modified xsi:type="dcterms:W3CDTF">2009-03-12T05:46:37Z</dcterms:modified>
  <cp:revision>821</cp:revision>
  <dc:subject/>
  <dc:title>Slide 1</dc:title>
</cp:coreProperties>
</file>