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1D1-4408-4B9D-9111-6A34A300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86E-344A-4EFC-8A7B-0188F4FE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FC8-3315-400D-9586-2B5A958A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246-35A7-45BF-9F9B-D4906863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5028-6FD1-4230-990C-5305B152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B846-C5A9-4495-9C26-6BDCAC7F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5C5A-94B3-466B-8D1E-CDC6F3D5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B586-1174-4517-920F-F5BED4E1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0B4D-8256-4E31-8C09-CA42CE60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F040-342E-4349-B836-D4AA9A3B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7B3F-B977-4539-B3B5-422769E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B3F-B489-48E7-B743-1606C3AB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862C-A00A-4757-91F0-2B3D98D9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8978-822A-46D0-B717-EA9F46FE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E3F2-BD77-41DB-9E99-F72C5A8B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3B97-4CEF-4958-AF05-63EEDC87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154C-F68A-4079-8835-013DA005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EA7-F730-4515-9A92-E5E59ACB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3F5-A93F-452D-9C7B-0B1D0851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925-8AE0-45B1-9246-875818E9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BAC-B68A-4C35-A01A-62BA1681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BEF-0496-4650-903F-564DEF17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555-416E-4066-8832-C191B6CE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6FB-2860-4C98-B4F3-F6F64EF9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DBF3-CD02-4E54-A90A-7741AAA5B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2E3F-8C79-4CFB-A96E-9080337BA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1 Приведение программы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к табличной форм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ab’ :: TLevel -&gt; TLevel -&gt; Tab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ab’ ((xi, LEAF c):lv1)  lv2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xi,cex):(tab’ lv1 lv2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exp,ce),_) = c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 = exp/.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ab’ ((xi, NODE _ bs):lv1) lv2 = tab’ lv1 lv2’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 lv2’ = tabB xi bs lv2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ab’ [ ]                                 [ ] = [ 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ab’ [ ]                                lv2 = tab’ lv2 [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1 Приведение программы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к табличной форм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49440"/>
            <a:ext cx="898056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abB :: Cla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Branch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Lev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TLeve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abB xi ((cnt,tree):bs) lv =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abB xi bs ((xi/.cnt,tree):lv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abB xi [ ]                     lv = l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1 Приведение программы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к табличной форм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2160" y="1599840"/>
            <a:ext cx="876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12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оизвольная программа на языке TSG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класс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данно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 Тогда 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a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заданны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троит перечислениe — то есть списо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=[(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ce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(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ce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озможно бесконечной длины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ab p x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класс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c-выражение над переменными из класс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этом выполнено следующе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1 Приведение программы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к табличной форм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асс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парно непересекающиеся подклассы класс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люб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люб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пределена 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любого данн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 котором 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пределена —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уществуе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ой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 если подстановк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ая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=(d, RESTR[]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выполнен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es=ce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Кроме того, в данном случае, префикс дли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писк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удет построен алгоритмом tab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2 Алгоритм инверсного вычисления програм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’ :: ProgR -&gt; Class -&gt; EVal -&gt; Classes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’ p x y = urac (tab p x) y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c :: Tab -&gt; EVal -&gt; Classes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c ((xi, cex):ptab’) y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case (unify [cex] [y]) of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False,_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                                          tail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rue, s)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 case xi’ of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(_, INCONSISTENT) -&gt; tail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_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-&gt; xi’:tail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       where xi’ = xi/.s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where tail = urac ptab’ y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c [ ]                        y = [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2 Алгоритм инверсного вычисления програм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13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оизвольная программа на языке TSG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класс, c-данно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e-значение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 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заданны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троит перечислениe — то есть списо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’=[x’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x’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озможно бесконечной длин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’ p x y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L’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этом выполнено следующе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2 Алгоритм инверсного вычисления програм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асс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парно непересекающиеся подклассы класс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люб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любого данн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’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пределена 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=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любого данн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 котором 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пределена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= 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уществует номер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ой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’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Кроме того, в данном случае, префикс дли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иска будет построен алгоритмо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а конечное число шаг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Теорема 13 кратко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оизвольная программа на языке TSG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класс, c-данно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e-значение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’ p x y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[x’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x’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y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d | 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, p 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435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4.3 Альтернативное представление результатов инверсного вычисления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95040"/>
            <a:ext cx="91440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 :: ProgR -&gt; Class -&gt; EVal -&gt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Subst,Restr)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 p x y = map altRepr (ura’ p x y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where altRepr:: Class -&gt; (Subst,Restr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altRepr xi = subClassCntr x 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435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4.3 Альтернативное представление результатов инверсного вычисления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895040"/>
            <a:ext cx="91440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ubClassCntr :: Class -&gt; Class -&gt; (Subst,Restr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ubClassCntr x@(cesx,rx) x’@(cesx’,rx’) = (s, r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(True,s) = unify cesx cesx’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RESTR ineqs = rx/.s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r = case rx’ of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INCONSISTENT -&gt; INCONSISTENT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RESTR ineqs’     -&gt; RESTR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[ ineq |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eq&lt;-ineqs’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ot(ineq‘elem‘ineqs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29280" y="3705120"/>
            <a:ext cx="887400" cy="2962440"/>
          </a:xfrm>
          <a:prstGeom prst="upArrow">
            <a:avLst>
              <a:gd name="adj1" fmla="val 50000"/>
              <a:gd name="adj2" fmla="val 8345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Корректность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ura (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кратко)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оизвольная программа на языке TSG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класс, c-данно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e-значение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 p x y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[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y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d | d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, p 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}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.(S s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4 Универсальный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решающий алгоритм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574640"/>
            <a:ext cx="86454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t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CONS ’A(CONS ’B(CONS ’C ’NIL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( [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,str], RESTR[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a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CONS ’A(CONS ’A(CONS ’A ’NIL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( [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,aaa], RESTR[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’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’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4 Универсальный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решающий алгоритм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 prog x true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 :-&gt;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4],RESTR[]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 :-&gt; CONS ’A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0],RESTR[]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 :-&gt; CONS ’A (CONS ’B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6)],RESTR[]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 :-&gt; CONS ’B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0],RESTR[]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 :-&gt; CONS ’A (CONS ’B (CONS ’C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22))]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RESTR[]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 :-&gt; CONS ’B (CONS ’C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6)],RESTR[]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 :-&gt; CONS ’C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0],RESTR[]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4 Универсальный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решающий алгоритм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 prog x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true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 :-&gt;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4],[])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 :-&gt; CONS ’A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0],[])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 :-&gt; CONS ’A (CONS ’A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6)],[])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 :-&gt; CONS ’A (CONS ’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A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22))],[]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 prog x false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…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класс, какой результат? 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4 Универсальный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решающий алгоритм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455840"/>
            <a:ext cx="91440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ura prog x false =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3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4)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1],[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A (CONS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9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0)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7)],[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A (CONS ’B (CONS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5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6)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3))],[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B (CONS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9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0)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7)],[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A (CONS ’B (CONS ’C (CONS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31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32)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9)))],[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A (CONS ’B (CONS ’C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33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9)))],[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B (CONS ’C (CONS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5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6)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3))],[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B (CONS ’C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7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3))],[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C (CONS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9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0)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7)],[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C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1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7)],[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5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1], 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5:≠:’A,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5:≠:’B,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5:≠:’C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A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1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7)], 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1:≠:’B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B (CONS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1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7)], 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1:≠:’C]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1:-&gt;CONS ’A (CONS ’B (CONS A.27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3))], [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27:≠:’C]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4.4 Универсальный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решающий алгоритм. 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0760" y="4165560"/>
            <a:ext cx="8305560" cy="2292480"/>
            <a:chOff x="320760" y="4165560"/>
            <a:chExt cx="8305560" cy="2292480"/>
          </a:xfrm>
        </p:grpSpPr>
        <p:sp>
          <p:nvSpPr>
            <p:cNvPr id="177" name=""/>
            <p:cNvSpPr/>
            <p:nvPr/>
          </p:nvSpPr>
          <p:spPr>
            <a:xfrm>
              <a:off x="320760" y="4165560"/>
              <a:ext cx="6689520" cy="9144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6040" y="4343400"/>
              <a:ext cx="45576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85960" y="4343400"/>
              <a:ext cx="45576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46880" y="4343400"/>
              <a:ext cx="4554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82" idx="1"/>
            </p:cNvCxnSpPr>
            <p:nvPr/>
          </p:nvCxnSpPr>
          <p:spPr>
            <a:xfrm flipH="1" rot="16200000">
              <a:off x="187200" y="5418360"/>
              <a:ext cx="1230840" cy="258120"/>
            </a:xfrm>
            <a:prstGeom prst="bentConnector2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79" idx="2"/>
              <a:endCxn id="182" idx="0"/>
            </p:cNvCxnSpPr>
            <p:nvPr/>
          </p:nvCxnSpPr>
          <p:spPr>
            <a:xfrm rot="5400000">
              <a:off x="1706760" y="4659840"/>
              <a:ext cx="935640" cy="1480320"/>
            </a:xfrm>
            <a:prstGeom prst="bentConnector3">
              <a:avLst>
                <a:gd name="adj1" fmla="val 49884"/>
              </a:avLst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</p:cxnSp>
        <p:sp>
          <p:nvSpPr>
            <p:cNvPr id="184" name=""/>
            <p:cNvSpPr/>
            <p:nvPr/>
          </p:nvSpPr>
          <p:spPr>
            <a:xfrm>
              <a:off x="2335320" y="5864040"/>
              <a:ext cx="1158840" cy="594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re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" name=""/>
            <p:cNvCxnSpPr>
              <a:stCxn id="182" idx="3"/>
              <a:endCxn id="184" idx="1"/>
            </p:cNvCxnSpPr>
            <p:nvPr/>
          </p:nvCxnSpPr>
          <p:spPr>
            <a:xfrm flipV="1">
              <a:off x="1937880" y="6160680"/>
              <a:ext cx="397800" cy="21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4" idx="3"/>
              <a:endCxn id="187" idx="1"/>
            </p:cNvCxnSpPr>
            <p:nvPr/>
          </p:nvCxnSpPr>
          <p:spPr>
            <a:xfrm>
              <a:off x="3493800" y="6160680"/>
              <a:ext cx="369000" cy="1080"/>
            </a:xfrm>
            <a:prstGeom prst="bentConnector2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932040" y="5867280"/>
              <a:ext cx="100620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p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62440" y="5865840"/>
              <a:ext cx="103500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ab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"/>
            <p:cNvCxnSpPr>
              <a:stCxn id="179" idx="2"/>
              <a:endCxn id="187" idx="0"/>
            </p:cNvCxnSpPr>
            <p:nvPr/>
          </p:nvCxnSpPr>
          <p:spPr>
            <a:xfrm flipH="1" rot="16200000">
              <a:off x="3180240" y="4665960"/>
              <a:ext cx="934200" cy="1465920"/>
            </a:xfrm>
            <a:prstGeom prst="bentConnector3">
              <a:avLst>
                <a:gd name="adj1" fmla="val 49807"/>
              </a:avLst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</p:cxnSp>
        <p:sp>
          <p:nvSpPr>
            <p:cNvPr id="189" name=""/>
            <p:cNvSpPr/>
            <p:nvPr/>
          </p:nvSpPr>
          <p:spPr>
            <a:xfrm>
              <a:off x="5249880" y="5864040"/>
              <a:ext cx="442800" cy="594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"/>
            <p:cNvCxnSpPr>
              <a:stCxn id="187" idx="3"/>
              <a:endCxn id="189" idx="1"/>
            </p:cNvCxnSpPr>
            <p:nvPr/>
          </p:nvCxnSpPr>
          <p:spPr>
            <a:xfrm>
              <a:off x="4897080" y="6160680"/>
              <a:ext cx="353160" cy="1080"/>
            </a:xfrm>
            <a:prstGeom prst="bentConnector2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6058080" y="5865840"/>
              <a:ext cx="123336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r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"/>
            <p:cNvCxnSpPr>
              <a:stCxn id="189" idx="3"/>
              <a:endCxn id="191" idx="1"/>
            </p:cNvCxnSpPr>
            <p:nvPr/>
          </p:nvCxnSpPr>
          <p:spPr>
            <a:xfrm>
              <a:off x="5692320" y="6160680"/>
              <a:ext cx="366120" cy="1080"/>
            </a:xfrm>
            <a:prstGeom prst="bentConnector2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91" idx="3"/>
              <a:endCxn id="194" idx="1"/>
            </p:cNvCxnSpPr>
            <p:nvPr/>
          </p:nvCxnSpPr>
          <p:spPr>
            <a:xfrm>
              <a:off x="7291440" y="6160680"/>
              <a:ext cx="389520" cy="1080"/>
            </a:xfrm>
            <a:prstGeom prst="bentConnector2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7680240" y="5864040"/>
              <a:ext cx="946080" cy="594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"/>
            <p:cNvCxnSpPr>
              <a:stCxn id="180" idx="2"/>
              <a:endCxn id="191" idx="0"/>
            </p:cNvCxnSpPr>
            <p:nvPr/>
          </p:nvCxnSpPr>
          <p:spPr>
            <a:xfrm flipV="1" rot="10800000">
              <a:off x="6674760" y="4932000"/>
              <a:ext cx="1080" cy="934200"/>
            </a:xfrm>
            <a:prstGeom prst="bentConnector2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</p:cxnSp>
      </p:grp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гд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итерий!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вершает свою работу за конечное число шагов?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(Аудитория отвечает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Критер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оизвольная программа на языке TSG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класс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данно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e-значение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 следующие условия равноси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4928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ra p x y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миниру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4928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ptr p 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конечное дере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4928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ptr p 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ет конечную глубину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492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ени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 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ршается не более чем за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Различные подходы к инверсному вычислению и инверсии программ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рочтение в обратном порядке» программы (или графа программ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всегда это возмож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ible program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нсформационный подход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rstall, Darlingt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Анализ грамматики» — терминируемость, полнота, но нет непротиворечив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РА — не единственный подход к проблеме,— доказательство существования решения полного и непротиворечивого (без терминированности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9600" y="159984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У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дин из методов метавычислений, позволяющий выполнять инверсное вычисление програм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бле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версного вычисления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строение представления множеств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2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{ d | d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, p d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 }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p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G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грамма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класс (обобщенное данное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EV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е-знач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9600" y="159984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ктуальность проблемы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числение функции, обратной к функции заданной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ение множества истинности программы-предика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ботка сложных запросов к баз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ение уравнений, без разработки специальных методов и алгоритмов их реш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9600" y="159984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У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дин из методов метавычислений, позволяющий выполнять инверсное вычисление програм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бле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версного вычисления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строение представления множеств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2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{ d | 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, p d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 }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p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G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грамма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класс (обобщенное данное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EV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е-знач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0760" y="2514600"/>
            <a:ext cx="6689520" cy="9144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Структура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URA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46040" y="2692440"/>
            <a:ext cx="4557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85960" y="2692440"/>
            <a:ext cx="4557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46880" y="2692440"/>
            <a:ext cx="4554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2"/>
            <a:endCxn id="211" idx="1"/>
          </p:cNvCxnSpPr>
          <p:nvPr/>
        </p:nvCxnSpPr>
        <p:spPr>
          <a:xfrm flipH="1" rot="16200000">
            <a:off x="187200" y="3767400"/>
            <a:ext cx="1230840" cy="25812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8" idx="2"/>
            <a:endCxn id="211" idx="0"/>
          </p:cNvCxnSpPr>
          <p:nvPr/>
        </p:nvCxnSpPr>
        <p:spPr>
          <a:xfrm rot="5400000">
            <a:off x="1706760" y="3008880"/>
            <a:ext cx="935640" cy="1480320"/>
          </a:xfrm>
          <a:prstGeom prst="bentConnector3">
            <a:avLst>
              <a:gd name="adj1" fmla="val 49884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2335320" y="4213080"/>
            <a:ext cx="115884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1" idx="3"/>
            <a:endCxn id="213" idx="1"/>
          </p:cNvCxnSpPr>
          <p:nvPr/>
        </p:nvCxnSpPr>
        <p:spPr>
          <a:xfrm flipV="1">
            <a:off x="1937880" y="4509720"/>
            <a:ext cx="39780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3" idx="3"/>
            <a:endCxn id="216" idx="1"/>
          </p:cNvCxnSpPr>
          <p:nvPr/>
        </p:nvCxnSpPr>
        <p:spPr>
          <a:xfrm>
            <a:off x="3493800" y="4509720"/>
            <a:ext cx="36900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932040" y="4216320"/>
            <a:ext cx="10062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62440" y="4214880"/>
            <a:ext cx="10350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a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08" idx="2"/>
            <a:endCxn id="216" idx="0"/>
          </p:cNvCxnSpPr>
          <p:nvPr/>
        </p:nvCxnSpPr>
        <p:spPr>
          <a:xfrm flipH="1" rot="16200000">
            <a:off x="3180240" y="3015000"/>
            <a:ext cx="934200" cy="1465920"/>
          </a:xfrm>
          <a:prstGeom prst="bentConnector3">
            <a:avLst>
              <a:gd name="adj1" fmla="val 49807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249880" y="4213080"/>
            <a:ext cx="44280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6" idx="3"/>
            <a:endCxn id="218" idx="1"/>
          </p:cNvCxnSpPr>
          <p:nvPr/>
        </p:nvCxnSpPr>
        <p:spPr>
          <a:xfrm>
            <a:off x="4897080" y="4509720"/>
            <a:ext cx="35316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6058080" y="4214880"/>
            <a:ext cx="1233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u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5692320" y="4509720"/>
            <a:ext cx="36612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20" idx="3"/>
            <a:endCxn id="223" idx="1"/>
          </p:cNvCxnSpPr>
          <p:nvPr/>
        </p:nvCxnSpPr>
        <p:spPr>
          <a:xfrm>
            <a:off x="7291440" y="4509720"/>
            <a:ext cx="38952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7680240" y="4213080"/>
            <a:ext cx="94608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09" idx="2"/>
            <a:endCxn id="220" idx="0"/>
          </p:cNvCxnSpPr>
          <p:nvPr/>
        </p:nvCxnSpPr>
        <p:spPr>
          <a:xfrm flipV="1" rot="10800000">
            <a:off x="6674760" y="3281040"/>
            <a:ext cx="1080" cy="93420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4981680" y="1508040"/>
            <a:ext cx="3855960" cy="854280"/>
          </a:xfrm>
          <a:prstGeom prst="wedgeRectCallout">
            <a:avLst>
              <a:gd name="adj1" fmla="val -92199"/>
              <a:gd name="adj2" fmla="val 71375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ос на инверсное выч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40" y="5024520"/>
            <a:ext cx="2500200" cy="1727280"/>
          </a:xfrm>
          <a:prstGeom prst="wedgeRectCallout">
            <a:avLst>
              <a:gd name="adj1" fmla="val 62125"/>
              <a:gd name="adj2" fmla="val -62995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фектное дерево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90720" y="5040360"/>
            <a:ext cx="2880000" cy="1727280"/>
          </a:xfrm>
          <a:prstGeom prst="wedgeRectCallout">
            <a:avLst>
              <a:gd name="adj1" fmla="val 42393"/>
              <a:gd name="adj2" fmla="val -64064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чное представление функции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18320" y="5040360"/>
            <a:ext cx="2879640" cy="1727280"/>
          </a:xfrm>
          <a:prstGeom prst="wedgeRectCallout">
            <a:avLst>
              <a:gd name="adj1" fmla="val 32523"/>
              <a:gd name="adj2" fmla="val -62222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запрос инверсного вы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a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едения функции программы к табличной фор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ab p x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 = [(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ce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ce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непересекающиеся подкласс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</a:t>
            </a:r>
            <a:r>
              <a:rPr b="1" lang="en-US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люб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полнен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дста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новка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 = (d,RESTR[]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defin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если не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ого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1400040" y="4624560"/>
            <a:ext cx="290520" cy="1295280"/>
          </a:xfrm>
          <a:custGeom>
            <a:avLst/>
            <a:gdLst>
              <a:gd name="textAreaLeft" fmla="*/ 185760 w 290520"/>
              <a:gd name="textAreaRight" fmla="*/ 290880 w 290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69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ве модификаци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ниверсального решающего алгоритм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’ p x y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’ = [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 p x y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 = [(s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 (s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еречисляет подкласс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ласс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 которых вычисле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одит 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&lt;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 = {y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еречисляет значения c-переменных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при которых вычисле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оди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результат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&lt;x/.(S s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&gt;={y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Естественность» перечис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некоторых случаях ura’ позволяет построи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онечн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представление множеств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12000">
                <a:solidFill>
                  <a:srgbClr val="000000"/>
                </a:solidFill>
                <a:latin typeface="Tahoma"/>
              </a:rPr>
              <a:t>-1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списо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может быть пустым или конечны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меры инверсного вычисления для языка TS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зор иных подходов к инверсии програм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9600" y="159984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ктуальность проблемы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числение функции, обратной к функции заданной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ение множества истинности программы-предика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ботка сложных запросов к баз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ение уравнений, без разработки специальных методов и алгоритмов их реш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0760" y="2514600"/>
            <a:ext cx="6689520" cy="9144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Структура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URA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46040" y="2692440"/>
            <a:ext cx="4557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5960" y="2692440"/>
            <a:ext cx="4557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6880" y="2692440"/>
            <a:ext cx="4554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4" idx="2"/>
            <a:endCxn id="118" idx="1"/>
          </p:cNvCxnSpPr>
          <p:nvPr/>
        </p:nvCxnSpPr>
        <p:spPr>
          <a:xfrm flipH="1" rot="16200000">
            <a:off x="187200" y="3767400"/>
            <a:ext cx="1230840" cy="25812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5" idx="2"/>
            <a:endCxn id="118" idx="0"/>
          </p:cNvCxnSpPr>
          <p:nvPr/>
        </p:nvCxnSpPr>
        <p:spPr>
          <a:xfrm rot="5400000">
            <a:off x="1706760" y="3008880"/>
            <a:ext cx="935640" cy="1480320"/>
          </a:xfrm>
          <a:prstGeom prst="bentConnector3">
            <a:avLst>
              <a:gd name="adj1" fmla="val 49884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2335320" y="4213080"/>
            <a:ext cx="115884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8" idx="3"/>
            <a:endCxn id="120" idx="1"/>
          </p:cNvCxnSpPr>
          <p:nvPr/>
        </p:nvCxnSpPr>
        <p:spPr>
          <a:xfrm flipV="1">
            <a:off x="1937880" y="4509720"/>
            <a:ext cx="39780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20" idx="3"/>
            <a:endCxn id="123" idx="1"/>
          </p:cNvCxnSpPr>
          <p:nvPr/>
        </p:nvCxnSpPr>
        <p:spPr>
          <a:xfrm>
            <a:off x="3493800" y="4509720"/>
            <a:ext cx="36900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932040" y="4216320"/>
            <a:ext cx="10062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62440" y="4214880"/>
            <a:ext cx="10350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a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5" idx="2"/>
            <a:endCxn id="123" idx="0"/>
          </p:cNvCxnSpPr>
          <p:nvPr/>
        </p:nvCxnSpPr>
        <p:spPr>
          <a:xfrm flipH="1" rot="16200000">
            <a:off x="3180240" y="3015000"/>
            <a:ext cx="934200" cy="1465920"/>
          </a:xfrm>
          <a:prstGeom prst="bentConnector3">
            <a:avLst>
              <a:gd name="adj1" fmla="val 49807"/>
            </a:avLst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249880" y="4213080"/>
            <a:ext cx="44280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3" idx="3"/>
            <a:endCxn id="125" idx="1"/>
          </p:cNvCxnSpPr>
          <p:nvPr/>
        </p:nvCxnSpPr>
        <p:spPr>
          <a:xfrm>
            <a:off x="4897080" y="4509720"/>
            <a:ext cx="35316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058080" y="4214880"/>
            <a:ext cx="1233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u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5" idx="3"/>
            <a:endCxn id="127" idx="1"/>
          </p:cNvCxnSpPr>
          <p:nvPr/>
        </p:nvCxnSpPr>
        <p:spPr>
          <a:xfrm>
            <a:off x="5692320" y="4509720"/>
            <a:ext cx="36612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7" idx="3"/>
            <a:endCxn id="130" idx="1"/>
          </p:cNvCxnSpPr>
          <p:nvPr/>
        </p:nvCxnSpPr>
        <p:spPr>
          <a:xfrm>
            <a:off x="7291440" y="4509720"/>
            <a:ext cx="389520" cy="108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7680240" y="4213080"/>
            <a:ext cx="946080" cy="594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16" idx="2"/>
            <a:endCxn id="127" idx="0"/>
          </p:cNvCxnSpPr>
          <p:nvPr/>
        </p:nvCxnSpPr>
        <p:spPr>
          <a:xfrm flipV="1" rot="10800000">
            <a:off x="6674760" y="3281040"/>
            <a:ext cx="1080" cy="934200"/>
          </a:xfrm>
          <a:prstGeom prst="bentConnector2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981680" y="1508040"/>
            <a:ext cx="3855960" cy="854280"/>
          </a:xfrm>
          <a:prstGeom prst="wedgeRectCallout">
            <a:avLst>
              <a:gd name="adj1" fmla="val -92199"/>
              <a:gd name="adj2" fmla="val 71375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ос на инверсное выч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240" y="5024520"/>
            <a:ext cx="2500200" cy="1727280"/>
          </a:xfrm>
          <a:prstGeom prst="wedgeRectCallout">
            <a:avLst>
              <a:gd name="adj1" fmla="val 62125"/>
              <a:gd name="adj2" fmla="val -62995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фектное дерево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90720" y="5040360"/>
            <a:ext cx="2880000" cy="1727280"/>
          </a:xfrm>
          <a:prstGeom prst="wedgeRectCallout">
            <a:avLst>
              <a:gd name="adj1" fmla="val 42393"/>
              <a:gd name="adj2" fmla="val -64064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чное представление функции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18320" y="5040360"/>
            <a:ext cx="2879640" cy="1727280"/>
          </a:xfrm>
          <a:prstGeom prst="wedgeRectCallout">
            <a:avLst>
              <a:gd name="adj1" fmla="val 32523"/>
              <a:gd name="adj2" fmla="val -62222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запрос инверсного вы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a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едения функции программы к табличной фор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ab p x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 = [(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ce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ce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непересекающиеся подкласс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</a:t>
            </a:r>
            <a:r>
              <a:rPr b="1" lang="en-US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люб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полнен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дста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новка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 = (d,RESTR[]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defin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если не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ого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400040" y="4624560"/>
            <a:ext cx="290520" cy="1295280"/>
          </a:xfrm>
          <a:custGeom>
            <a:avLst/>
            <a:gdLst>
              <a:gd name="textAreaLeft" fmla="*/ 185760 w 290520"/>
              <a:gd name="textAreaRight" fmla="*/ 290880 w 290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69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ве модификаци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ниверсального решающего алгоритм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’ p x y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’ = [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 p x y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 = [(s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 (s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еречисляет подкласс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ласс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 которых вычисле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одит 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&lt;x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 = {y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r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еречисляет значения c-переменных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при которых вычисле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оди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результат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&lt;x/.(S s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/.(R r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&gt;={y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Глава 4. Универсальный решающий алгорит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Естественность» перечис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некоторых случаях ura’ позволяет построи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онечн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представление множеств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12000">
                <a:solidFill>
                  <a:srgbClr val="000000"/>
                </a:solidFill>
                <a:latin typeface="Tahoma"/>
              </a:rPr>
              <a:t>-1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списо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может быть пустым или конечны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меры инверсного вычисления для языка TS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зор иных подходов к инверсии програм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4.1 Приведение программы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к табличной форме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55120" y="1568160"/>
            <a:ext cx="85186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ype TLevel = [(Class,Tree)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ype Tab = [(Class, CExp)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ab :: ProgR -&gt; Class -&gt; Tab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ab p x = tab’ [ (x,tree) ] [ 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where tree = xptr p x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Sergei M. Abramov</cp:lastModifiedBy>
  <dcterms:modified xsi:type="dcterms:W3CDTF">2007-10-02T18:06:14Z</dcterms:modified>
  <cp:revision>601</cp:revision>
  <dc:subject/>
  <dc:title>Slide 1</dc:title>
</cp:coreProperties>
</file>