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B14B-898E-464C-9BDB-0AA0AC866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A457-C884-4B24-B9FD-FB7F1CBB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05AA-C212-4C34-AB66-7998E946D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410E-996C-4AD5-A02E-AB3D5250D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6462-5E96-4728-A52E-621EC4127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5545-2D10-4F98-AA34-9AC0F5FD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C5A66-B33E-47C7-B4D0-9C3D9DC9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DA4D-8BBE-4BB0-B866-CEC19367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0EE6-98C4-4C53-B814-174CDD57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07760" y="258480"/>
            <a:ext cx="83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1B55-A907-456F-9D4F-E308275E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F7F3-57A0-42D3-8028-4E9A7884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3172-32D1-4E42-8E66-059F22BA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0489-5163-4BBC-9D1D-30CAB8DF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D17D-BB2F-465A-B2CC-82ADDC73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1D5D-5A3C-4E74-97A3-06DB5559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984C-03FA-4BE3-9767-F17114ABA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0FFD-EE89-4EA1-8BFD-E3B81E2FA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943E-5B4C-4FD9-825A-2B588C0B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42CB-926C-4684-96E8-8F28290B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6CC4-DC21-4153-BAEF-828A3652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7760" y="258480"/>
            <a:ext cx="83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4034-B054-4CA8-AE5D-462E98E7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35CA-CAB8-4C7F-909D-1A32BD3E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F9A1-F2C4-471F-B3B4-EF4647AF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0C5C-1894-4008-ACE1-25765D26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3480" y="34920"/>
            <a:ext cx="704880" cy="1420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A123-4702-49CC-9286-11D7DC509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0920" y="225360"/>
            <a:ext cx="3214440" cy="6481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79480" y="1279440"/>
            <a:ext cx="5265720" cy="28591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cc66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2FB0-9F23-4100-967B-0E14DE36C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706400" y="4835520"/>
          <a:ext cx="4064040" cy="406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06400" y="4835520"/>
                    <a:ext cx="40640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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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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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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≤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≥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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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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=/=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ZapfEllipt BT"/>
              </a:rPr>
              <a:t>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10:02:47Z</dcterms:created>
  <dc:creator>Sergei Abramov</dc:creator>
  <dc:description/>
  <dc:language>en-US</dc:language>
  <cp:lastModifiedBy>Sergei Abramov</cp:lastModifiedBy>
  <dcterms:modified xsi:type="dcterms:W3CDTF">2006-12-18T05:38:39Z</dcterms:modified>
  <cp:revision>193</cp:revision>
  <dc:subject/>
  <dc:title>Slide 1</dc:title>
</cp:coreProperties>
</file>