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CBB-DD40-4813-B8FA-22AF8E119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27CF-3E4C-450D-8CD9-79A21847C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86D6-D90F-43DE-8DD2-58F52EDAA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FCAC-4051-4599-B325-6D14CC46D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031-5F34-48EA-A9BA-35CDF7B49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33D6-CAC0-4524-940A-1F4D1DF5A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80C-AED6-4DA4-A071-646CF80FD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0DA0-EC54-4666-869D-E8DE811D2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1B8-667B-4409-8D75-2EBA57043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D0D-BAA5-487A-ACCA-78E332277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68A-FCE3-47B3-81D1-A842C4A0A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27A1-F50F-483D-873E-BA6B43F06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B44-829F-4E52-9E70-AE07AA954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F166-52A0-4CDF-A428-9E072CBFF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DB9E-19CA-40BC-91EE-17809E527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CF0-3A0D-4C9D-B290-4961BB1FE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1C84-AFDD-4D3A-AFCF-2F9060617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7B8-F266-4777-8920-20CC7E7E5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2308-4F54-4AB2-92BD-E9897BF1B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B4C-5150-4757-8545-3C8BBAF67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0907-7B53-42A6-8F51-EC838A905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B47-426D-42DA-912D-79DD8BDB6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C5C0-FE44-4E21-95E5-3D35C8E85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0CBA-DB31-4CC9-8BC9-D83E207D6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4F2-6C56-400B-A898-D2B8E47A2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FB8-4975-4BBE-9C9A-0E5BA4AB2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DFC-63A1-4917-838C-5F0085757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E74-0528-4C6E-B377-3E54A4D7E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71F5-1D33-4C70-9490-B39FE772A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E18-26B8-4C50-84FC-2EDD7EAB2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C27-64FD-4246-9ECA-66E76EFD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EBF-2867-40AC-A802-57AF2F5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56B-FEAF-455B-B20A-C47DEBEC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639-A53F-4E37-9EF8-88CCBFFE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ACC-15E4-4958-9AAA-9C3098E9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0089-0BBD-4668-9693-46A6E59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33D-965C-4654-92DA-FB016A3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6E1-57B8-4225-A6BB-BA57AD5E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1D8-4B22-4544-9370-D44A5676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8FE-2F6C-47A1-8E9A-FC13EB3E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5E72-FC62-4918-BF3D-2FA18BF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409-9FB3-456E-AD96-73FB535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FD9-5B91-4247-A771-1E1DCD3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7B7B-AAA7-4E0C-9789-ED9CDCA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2D06-4695-4600-AAFB-7674646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E32-A763-44CC-96EE-A317B194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3D6-8747-4672-997D-80DF2EB6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147-6299-4049-B5D9-D23D31AD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9C0-4937-4385-B434-56A83CBA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6C7-2729-4E3E-9C75-8B5835A4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60A-D7B8-46D3-A696-F0BA0135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800-1A46-4875-9A58-20E54D0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5B7-9FA0-4F10-A841-354DCE66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F95-C347-4138-BA02-7CD24B0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BDE7-3A9C-4E94-AC7D-8B899E58A5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989-19C1-492C-A917-4AA77A785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95160" y="610920"/>
            <a:ext cx="5697720" cy="56322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11. Суперкомпилятор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для языка TS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2 Вспомогательные функ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Passive :: Term -&gt; Boo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Passive (CALL’ f args _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Passive (ALT’ cnd t1 t2 _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Passive exp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2 Вспомогательные функ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Wh::Conf -&gt; History -&gt; [(Int, Conf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бо [ ], либо [(kUp, cUp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Wh _ [ 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[ 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Wh c ((i, h):t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if (whConf c h) the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[(i,h)] else isWh c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7760" y="583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3 Входные данные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cp,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ачальная вершин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4480"/>
            <a:ext cx="84931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cp :: ProgR -&gt; Class -&gt; SGraph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cp p cl@(ces, r) = g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n = numprog 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f prms _) : p’ = p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 = mkEnv prms 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 = ((CALL’ f prms 0, ce), r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 = freeindx 1 c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gr, i’) = evalG (i,c,[]) pn (i+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4 Развитие вершины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4.1 Функция evalG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G ::Nodeinfo-&gt;ProgR-&gt;FreeInd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 (SGraph, FreeIndx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G ni@(k, c@((t, ce),r), h) p 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Passive 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PASSIVE k c (t/.ce)),i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valG ni@(k, c@((t, ce),r), h) p i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rocDR ni dbrs p i’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e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brs, i’) = drive ni p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4.2 drive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огонка непассивной вершины на шаг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840" y="1599840"/>
            <a:ext cx="88455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rive ::Nodeinfo-&gt;ProgR-&gt;FreeIndx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DBranch], FreeIndx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rive ni@(k, c@(( CALL’ f args _, ce), r), h)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[(idC, c’)] , i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EFINE _ prms t’ = getDef f 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mkEnv prms (args/.ce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((t’,ce’),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00160" y="1628640"/>
            <a:ext cx="89503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rive ni@(k, c@((ALT’ cnd t1 t2 _, ce), r), h)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delEmptyDBr [(cnt1, c1), (cnt2, c2)])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nt1,cnt2), uce1, uce2, i’)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ccond cnd ce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_,ce1),r1) = c/.cnt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1 = ((t1, ce1+.uce1), r1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_,ce2),r2) = c/.cnt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2 = ((t2, ce2+.uce2), r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4.2 drive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огонка непассивной вершины на шаг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452240"/>
            <a:ext cx="8493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lEmptyDBr :: [DBranch] -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[DBranch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lEmptyDBr [ ] = [ ]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lEmptyDBr (dbr:dbrs)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ase dbr of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_,(_,INCONSISTENT)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elEmptyDBr dbrs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_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&gt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br:(delEmptyDBr db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4.2 drive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рогонка непассивной вершины на шаг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7760" y="583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4.3 procDR: анализ результатов прогонк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1560" y="1514160"/>
            <a:ext cx="874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::Nodeinfo-&gt;[DBranch]-&gt;ProgR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reeIndx -&gt; (SGraph, FreeIndx)</a:t>
            </a:r>
            <a:br>
              <a:rPr sz="2800"/>
            </a:b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@[ ] p i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ALLC "Z" k c 0 [] []),i)</a:t>
            </a:r>
            <a:br>
              <a:rPr sz="2800"/>
            </a:b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@[(cn,c’)]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G (k,c’,h) p i</a:t>
            </a:r>
            <a:br>
              <a:rPr sz="2800"/>
            </a:b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(isWh c h)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[ 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mkDbr ni dbrs 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[(kUp,cUp)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((WHISTLE k kUp gr)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(gr, i’) = procWh ni kUp cUp p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070680" y="4272120"/>
            <a:ext cx="2728800" cy="884160"/>
          </a:xfrm>
          <a:prstGeom prst="wedgeRectCallout">
            <a:avLst>
              <a:gd name="adj1" fmla="val -74490"/>
              <a:gd name="adj2" fmla="val -8195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зитный переход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7760" y="583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4.4 mkDbr: построение ветвей продолжен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373040"/>
            <a:ext cx="84931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Dbr :: Nodeinfo-&gt;[DBranch]-&gt;ProgR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FreeIndx -&gt; (SGraph, FreeIndx)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Dbr ni@(k,c,h) dbrs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(DRIVE k c brs)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h’= (k,c):h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brs,i’) = mkBrs dbrs i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Brs :: [DBranch]-&gt;FreeIndx -&gt;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SBranches,FreeIndx)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Brs [ ] i = ([ ],i)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Brs ((cn,c’):dbrs) i = ((cn,gr):brs, i2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gr, i1) = evalG (i,c’,h’) p (i+1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brs,i2) = mkBrs dbrs i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4.4 Различные стратегии обработки транзитных вершин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1600" y="1415520"/>
            <a:ext cx="87487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стратегии обработки транзитных вершин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IsSpecCas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True -- или Fals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InPlace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True -- или False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::Nodeinfo-&gt;[DBranch]-&gt;ProgR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reeIndx -&gt; (SGraph, FreeIndx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5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5943600" y="250668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6235560" y="1258920"/>
            <a:ext cx="2729160" cy="884160"/>
          </a:xfrm>
          <a:prstGeom prst="wedgeRectCallout">
            <a:avLst>
              <a:gd name="adj1" fmla="val -90490"/>
              <a:gd name="adj2" fmla="val 13689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зитный переход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7760" y="871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4.4 Различные стратегии обработки транзитных вершин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1600" y="1836720"/>
            <a:ext cx="874872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@[ ]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CALLC "Z" k c 0 [] []),i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@[(cn,c’)] 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| trIsSpecCase 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f trInPlac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valG  (k,c’,h) 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Dbr ni dbrs p i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DR ni@(k,c,h) dbrs p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(isWh c h) of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[ 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mkDbr ni dbrs 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[(kUp,cUp)]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((WHISTLE k kUp gr)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 (gr, i’) = procWh ni kUp cUp p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7760" y="583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4.5 procWh: обработка возможного зацикливания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680" y="1429920"/>
            <a:ext cx="84931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procWh::Nodeinfo-&gt;Int-&gt;Conf-&gt;ProgR-&gt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FreeIndx -&gt;(SGraph, FreeIndx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procWh ni@(kDn,cDn,hDn) kUp cUp p i 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if  isEqCUpCGen cUp cGen sGenU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-- вкладывается cDn в cUp 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then ( (CALLC "Up" kDn cDn kU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mkParms cUp sUpDn) [ ]), i1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else  ( (CALLC "Dn" kDn cDn i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mkParms cGen sGenDn) [grGen]), i’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wher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gTab, cGen, i1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= genConf cDn cUp i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sGenDn, sGenUp) = genTabToSubsts gTab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sUpD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mkSubstUpDn sGenUp sGenD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hGe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((kDn, cDn):hDn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grGen,i’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evalG (i1, cGen, hGen) p (i1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5 Функции вывода результата суперкомпиля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xtrProg :: SGraph -&gt; Prog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преобразует граф конфигураций в программу на языке TS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образование написано по принципу: каждая вершина определяет функ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этому, в получаемой (при помощ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xtrPro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программе очень много функций, причем большинство из них вызываются по одному разу в тексте программы (функции, соответствующ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базисным конфигурация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extrProg :: SGraph -&gt; Prog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ASSIVE k c cexp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=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Fk (vars c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x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ISTLE kDn kUp s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ph ==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extrPro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ALLC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k c kY cexp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_ ==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Fk (vars c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L FkY cexps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extrProg :: SGraph -&gt; Prog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RIVE k c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 (cnt1, gr(k1 c1)) ] ==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Fk (vars c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L Fk1 (vars c1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RIVE k c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 (cnt1, gr(k1 c1)), (cnt2, gr(k2 c2)),] ==&gt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Fk (vars c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ALT …..cnt1…cnt2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L Fk1 (vars c1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L Fk2 (vars c2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5 Функции вывода результата суперкомпиля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ptimize :: ProgR -&gt; Prog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стое преобразование программы: если функция вызывается в программе один раз, то ее можно удалить из программы, подставив вместо вызова этой функции ее тело (с заменой аргументов на параметры вызо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ом применения функци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optimiz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TSG-программе, получаемой при помощи функци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xtrPro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является программа, в которой каждая функция соответствует базисной конфигур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5 Функции вывода результата суперкомпиля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римеры суперкомпиляции, рассматриваемые в главе 12, посчитаны по следующей схем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 = optimize (extrProg (scp p cl))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остаточная программа, результат суперкомпи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6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главе 11 введен синтаксис представления графа конфигураций (S-графа) для TSG, рассмотрена операция сведения двух конфигураций в S-графе, определены вспомогательные синтаксические конструкции и функции для суперкомпилят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6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тем определен и обсужден собственно суперкомпилятор для языка TSG, основанный на идее выполнения обобщения конфигураций в нижней конфигурации (в ситуации возможное зацикливание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6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ый суперкомпилятор использует алгорит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W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er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определенные в главах 9 и 10) и алгоритмы, функции и операции из основного учебника кур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ершении главы 11 упомянуты  вспомогательные функции, предназначенные для вывода результата суперкомпиляции (графа конфигураций) в «читабельном виде» (в виде TSG-программ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1.1 S-граф: граф конфигура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аф конфигураций (S-граф) — расширение понятия дерево конфигураций: введена возможность сводить одну конфигурацию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к другой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Три роли у конфигурации в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S-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раф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игурация, как данны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term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асная похожесть и т.п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игурация,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игурация определяет функцию (в математическом смысле и в программистском смысл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1.1.1 Сведение конфигураций в S-графе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732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≤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для функций выполнено: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vars cX) =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(vars cY)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→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→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а, сводяща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можно вершин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ести к вершин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 функци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vars cX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ределить так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vars c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LL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(vars cY)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→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 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1.1 Сведение конфигураций в S-граф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можно вершин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ести к вершин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 функци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vars cX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ределить так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vars cX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LL F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(vars cY)/.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cY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→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 c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1.1 Сведение конфигураций в S-граф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Args :: Conf -&gt; [CVar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Args c = (cvars c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Parms :: Conf -&gt; Subst -&gt; [CExp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Parms c s = (mkArgs c)/.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1.2 Синтаксис графа конфигурац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raph ::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PASSIVE k c cexp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 WHISTLE kDn kUp sgraph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 CALLC "UP" kX cX kY cexps [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 CALLC "DN" kX cX kY cexps [sgraph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| DRIVE k c sbranche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branches ::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sgrap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 (cn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sgrap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br>
              <a:rPr sz="2800"/>
            </a:br>
            <a:br>
              <a:rPr sz="2800"/>
            </a:br>
            <a:r>
              <a:rPr b="1" lang="ru-RU" sz="28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 = ((exp,cenv),r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 = exp/.cen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1.1.3 Nodeinfo — информация о вершине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ni = (k, c, h) :: Node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омер вершины (номер конфигураци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онфигурация в данной вершин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h = [(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 (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история вершины — список всех номеро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конфигурац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едшествующих рассматриваемой вершине (номера и конфигурации из вершин-предков, начиная с ближайших предко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4-04T06:30:22Z</dcterms:modified>
  <cp:revision>947</cp:revision>
  <dc:subject/>
  <dc:title>Slide 1</dc:title>
</cp:coreProperties>
</file>