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C91C-66A2-4923-8039-04E525036D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53E4-3D0D-4462-B23C-D3FE94E20A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8A5E-42CC-4D44-A1B7-EEF3F461B3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78C6-76C6-49A2-BF54-F7C3FF1D18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B071-F79C-4D16-8A14-7CDAD5423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72A8-2FAF-4AD5-B693-BC04BBF86C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6748-3466-4C31-9D76-1A8FB4E4E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3D98-5027-416F-9B6B-2DBC7DB75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9264-7650-4369-AC2D-6802BE82E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B3D4-8513-4A66-AD78-A71EC2BD12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CC97-1558-4B05-A66A-088085CC5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7C99-6DA3-454C-9D2E-F90C4122C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5E6B-E8DD-49E9-A78A-555C649976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4BD7-BFE0-4679-9AA1-BBD0FAB69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4701-8C30-4263-B6BA-1BBD47114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4F90-4BA5-4BFE-B40B-DB20FB6DF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7748-F7D7-4D61-A999-73E000F00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7C6A-EDC9-49A5-8B26-85F99C5453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387E-57EF-4FA4-B532-03B6B8E044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561A-0FA2-4B5E-BCED-8FB7F0978A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40E0-58E1-458B-B440-65D8DFECA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C54F-7121-4386-90F0-E4B63040BA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61B-72B1-40A4-842B-DE1D929A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99F-7939-4171-9307-2C01266F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324-94A6-492F-B5D7-9D9A1575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6AC-9B13-4009-9E30-4AB3FE31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1022-F1A6-4D81-9671-E0F21274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8670-63E7-498A-AEE2-4174EE92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2831-3B90-4410-8E22-AEA9F635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2ED9-4B52-4818-8C98-F4111A95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0025-38C0-43B9-A37B-9EB87498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562D-A4DD-4998-A7FF-8B270829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7171-EEE7-4C3A-9DD0-FB28977B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750-3B22-4B1D-B70F-E5286B38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3D7F-4E2F-44A6-8448-07115AC0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12CA-B40E-45C9-9C45-1E9B216F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846B-7F07-40A8-A837-A243813E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026B-76D9-4EF7-848A-5BD5F67D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37F3-F0FF-4605-A790-77652E99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664-C0EF-45B4-9FAE-A6D19060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8CA-3D2B-4B71-BC92-0C380B19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26B-6D82-4123-83EA-0B827424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DFE-890B-4C43-A21E-56009159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28A-9795-4183-B16A-CF13D1DB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B42-2E02-4572-A13E-B6B72BED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A26-1303-4B75-B38D-175950E1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2A47-1083-44CD-8B5E-C7B937D092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7832-C5DC-4743-A39F-AAC8C4AD07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Глава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. Язык реализации: TSG </a:t>
            </a:r>
            <a:br>
              <a:rPr sz="4400"/>
            </a:b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Синтаксис TSG-программ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400" y="1599840"/>
            <a:ext cx="8715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местимость а/е-типов при вызове програм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=[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DEFINE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mai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prm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prm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rm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…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:                  p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*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ины списков параметров у </a:t>
            </a:r>
            <a:r>
              <a:rPr b="1" i="1" lang="en-US" sz="3200" spc="-1" strike="noStrike">
                <a:solidFill>
                  <a:srgbClr val="800000"/>
                </a:solidFill>
                <a:latin typeface="Tahoma"/>
              </a:rPr>
              <a:t>mai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входных данных должны быть рав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pr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менная, то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ение (если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pr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менная, то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ение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оверка вхождения одной строки в другую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match = [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(DEFINE "Match"[e.subs, e.str]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(CALL "CheckPos"[e.subs, e.str, e.subs, e.str])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(DEFINE "CheckPos"[e.subs, e.str, e.sub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, e.st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]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(ALT (CONS’ e.subs e.subs-head e.subs-tail a._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(ALT (CONS’ e.subs-head e._ e._ a.subs-head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’FAILURE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(ALT (CONS’ e.str e.str-head e.str-tail a._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(ALT (CONS’ e.str-head e._ e._ a.str-head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    ’FAILURE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    (ALT (EQA’ a.subs-head a.str-head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        (CALL "CheckPos"[e.subs-tail, e.str-tail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e.sub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, e.st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]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        (CALL "NextPos"[e.sub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, e.st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]))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’FAILURE)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’SUCCESS)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(DEFINE "NextPos"[e.subs, e.str]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(ALT (CONS’ e.str e._ e.str-tail a._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(CALL "Match"[e.subs, e.str-tail]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’FAILURE))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Определение семантики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TSG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::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×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→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семант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функция (частичная и вычислимая), которая определяет, выдает ли какой-либо результа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или не выдает) программ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входных данны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 d *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r 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p,d) =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ход: </a:t>
            </a: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определение семантики через определение интерпретато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Определение семантики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TSG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Сред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писок па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v = […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:=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 …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Состояние вычис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ар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 = (term, en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Процес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rocess(p,d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вычис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ограмм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д данным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последовательность переходов от одного состояния вычисления программ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 другом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              r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rocess(p,d)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481120" y="5210280"/>
            <a:ext cx="217800" cy="1234800"/>
          </a:xfrm>
          <a:custGeom>
            <a:avLst/>
            <a:gdLst>
              <a:gd name="textAreaLeft" fmla="*/ 139320 w 217800"/>
              <a:gd name="textAreaRight" fmla="*/ 218160 w 217800"/>
              <a:gd name="textAreaTop" fmla="*/ 32040 h 1234800"/>
              <a:gd name="textAreaBottom" fmla="*/ 1202760 h 123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Вспомогательные функции в описании интерпретатора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getDef fname pro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в программ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ro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ходит определение функции с имене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f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tDef fn p =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d[ d | d@(DEFINE fn' _)&lt;-p, fn' == fn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mkEnv vars val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остроение среды по списку переменных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var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списку значени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mkEnv vars val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zipWith (:=)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vars 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mkEnv [a.x, a.y, e.z, e.u] 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A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B, (CO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E)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F ]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[a.x: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A, a.y: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B, e.z:=(CO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E), e.u: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F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Вспомогательные функции в описании интерпретатора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 /. env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замена 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хождений переменных на их значения и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n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посчитать значение выражения на среде». Пример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CONS (CONS a.x e.z) a.y)/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[a.x: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a.y: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B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e.z: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] =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CONS (CONS ’A ’C) ’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nv+.env'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обновление сред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nv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редо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nv'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ример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[a.x:='A,a.y:='B,e.z:='C]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[e.z:=(CONS 'D 'E),e.u:='F] =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[e.z:=(CONS 'D 'E),e.u:='F,a.x:='A,a.y:='B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Интерпретатор языка TSG (1/2)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nt :: ProgR -&gt; [EVal] -&gt; EVal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nt   p 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= eval s p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where (DEFINE f prms _) : p' = p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e = mkEnv prms 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s = ((CALL f prms), e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eval :: State -&gt; ProgR -&gt; EVal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eval  s@((CALL f args), e) p = eval s' p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where DEFINE _ prms t' = getDef f p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e' = mkEnv prms (args/.e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s' = (t',e'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eval  s@((ALT c t1 t2), e) p = case cond c e of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TRUE   ue -&gt; eval (t1,e+.ue) p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FALSE ue -&gt; eval (t2,e+.ue) p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eval  s@(exp,e)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p = exp/.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Интерпретатор языка TSG (2/2)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(функция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d)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55920"/>
            <a:ext cx="868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data CondRes = TRUE Env | FALSE En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ond :: Cond -&gt; Env -&gt; CondRes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ond (EQA? x y)               e = let x' = x/.e; y' = y/.e 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case (x', y') of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(ATOM a, ATOM b) | a==b -&gt; TRUE [ ]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(ATOM a, ATOM b)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 FALSE[ ]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cond (CONS? x vh vt va) e = let x' = x/.e 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case x' of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CONS h t          -&gt;TRUE [vh:=h,vt:=t]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ATOM a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&gt;FALSE[va:=x'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Глава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— обзор и выводы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9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метная обла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 = (ATOM Atoms) | (CONS D 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нтаксис TS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оский функциональный полный язык, типизированные программные переменные, два вида условий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EQA? a-ex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a-ex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CONS? e-exp 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j 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мер программы: проверка вхождения одной строки в другу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мантика TSG: предъявлен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текст интерпретатор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ян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числения программ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д данным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term, en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Глава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— обзор и выводы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цес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rocess(p,d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числения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д данным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последовательность переходов от одного состояния вычисления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другом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               r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 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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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process(p,d)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2567160" y="4122720"/>
            <a:ext cx="231480" cy="1379520"/>
          </a:xfrm>
          <a:custGeom>
            <a:avLst/>
            <a:gdLst>
              <a:gd name="textAreaLeft" fmla="*/ 147960 w 231480"/>
              <a:gd name="textAreaRight" fmla="*/ 231840 w 231480"/>
              <a:gd name="textAreaTop" fmla="*/ 35640 h 1379520"/>
              <a:gd name="textAreaBottom" fmla="*/ 1343880 h 137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2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96" name="Picture 12" descr="slides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3" name="Text Box 11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2] Л.В.Парменова «Метавычисления и их применения. Суперкомпиляц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0" name="Text Box 19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1" name="Text Box 20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13" name="Text Box 23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AutoShape 24"/>
          <p:cNvSpPr/>
          <p:nvPr/>
        </p:nvSpPr>
        <p:spPr>
          <a:xfrm>
            <a:off x="3800520" y="2097000"/>
            <a:ext cx="887400" cy="2962440"/>
          </a:xfrm>
          <a:prstGeom prst="upArrow">
            <a:avLst>
              <a:gd name="adj1" fmla="val 50000"/>
              <a:gd name="adj2" fmla="val 8345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Глава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— обзор и выводы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Трас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(p,d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ычисления программы p над данным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оследовательность значений (для TSG это логические значен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 описывающих, какие варианты продолжения (какие ветви в конструкциях ветвления) избирались в процессе вычислен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д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те моменты вычисления, когда в принципе были возможны различные варианты продолжения вычислен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tr(p,d) = [ 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... 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 гд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{TRUE, FAL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Глава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— Заключение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иксация языка реализации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ля конкретности изложения, точности построений и обоснова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 Все построения и рассуждени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могут быть повторе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дл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юбого другого языка реализ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о свойствами: алгоритмическая полнота и предметная область языка построена при помощи некоторого алфавита атомов и конечного набора жестких конструктор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Язык программирования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. Ершо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зык программирова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= 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1" i="1" lang="ru-RU" sz="2400" spc="-1" strike="noStrike">
                <a:solidFill>
                  <a:srgbClr val="000099"/>
                </a:solidFill>
                <a:latin typeface="Tahoma"/>
              </a:rPr>
              <a:t>синтаксис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множество синтаксически правильных программ (строк), обычно заданное грамматик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1" i="1" lang="ru-RU" sz="2400" spc="-1" strike="noStrike">
                <a:solidFill>
                  <a:srgbClr val="000099"/>
                </a:solidFill>
                <a:latin typeface="Tahoma"/>
              </a:rPr>
              <a:t>предметная обла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ru-RU" sz="2400" spc="-1" strike="noStrike">
                <a:solidFill>
                  <a:srgbClr val="000099"/>
                </a:solidFill>
                <a:latin typeface="Tahoma"/>
              </a:rPr>
              <a:t>множ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огда определяют еще входны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ыходны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ou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промежуточны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нны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ru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×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i="1" lang="ru-RU" sz="2400" spc="-1" strike="noStrike">
                <a:solidFill>
                  <a:srgbClr val="000099"/>
                </a:solidFill>
                <a:latin typeface="Tahoma"/>
              </a:rPr>
              <a:t>семанти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функция (частичная и вычислимая), которая определяет, выдает ли какой-либо результат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ли не выдает) программ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входных данных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d *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 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p,d) =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Предметная область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метная облас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D = (ATOM Atoms) | (CONS D 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o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конечное множество атомов (будем использовать строк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ражения — заимствованы из Лисп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ндартное представление строк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"ABBA"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CONS (ATOM "A") (CONS (ATOM "B"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CONS (ATOM "B") (CONS (ATOM “A"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ATOM "Nil")))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Предметная область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5680" y="1599840"/>
            <a:ext cx="878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кращенная запись атомов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OM "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"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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"ABBA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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CONS 'A (CONS 'B (CONS 'B (CONS 'A 'Nil))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ниверсальнос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их структур достаточно для представления любых данны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-зна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атом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ATOM 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-значение — любое знач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бо атом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O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бо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р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значений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CONS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 е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Синтаксис TSG-программ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1520" y="1456920"/>
            <a:ext cx="867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prog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:= [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de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..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de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1≤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def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::= (DEFINE </a:t>
            </a: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fnam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parm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parm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0≤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::= (ALT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cond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)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| (CALL </a:t>
            </a: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fnam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arg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..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arg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]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0≤n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| e-ex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cond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:= (EQA?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a-ex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a-ex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| (CONS?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e-exp e-va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e-var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a-va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a-exp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:=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a-va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a-v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e-ex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::=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a-va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|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a-var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|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e-va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| (CONS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e-ex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e-ex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parm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::=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a-va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|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e-v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arg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::=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a-exp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e-ex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a-va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::= (PVA </a:t>
            </a: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nam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e-va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::= (PVE </a:t>
            </a: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nam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Синтаксис TSG-программ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400" y="1599840"/>
            <a:ext cx="8715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е имена функций в определениях различ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ждая вызываемая функция должна быть определ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ждая переменная, используемая в выражен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олжна быть определена в окружающем контекст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DEFINE </a:t>
            </a:r>
            <a:r>
              <a:rPr b="1" i="1" lang="ru-RU" sz="2800" spc="-1" strike="noStrike">
                <a:solidFill>
                  <a:srgbClr val="800000"/>
                </a:solidFill>
                <a:latin typeface="Tahoma"/>
              </a:rPr>
              <a:t>fnam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но использовать в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ALT (CONS?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exp e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e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av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e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e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но использовать в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но использовать в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Синтаксис TSG-программ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8400" y="1599840"/>
            <a:ext cx="8258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VA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менна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VA "name"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nam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ет принимать только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VE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менна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VE "name"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.nam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ет принимать любые 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ледств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чение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ражения может быть только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ч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чением 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ражения может быть только 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ч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Синтаксис TSG-программ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400" y="1599840"/>
            <a:ext cx="8715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местимость а/е-типов при вызове функций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DEFINE </a:t>
            </a: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fnam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prm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prm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term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CALL    </a:t>
            </a: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fname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[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ar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...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ar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</a:rPr>
              <a:t>n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ины списков параметров и аргументов должны быть рав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pr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менная, то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ar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ражение (если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pr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менная, то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ar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— 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ражение 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Sergei M. Abramov</cp:lastModifiedBy>
  <dcterms:modified xsi:type="dcterms:W3CDTF">2009-09-17T07:21:00Z</dcterms:modified>
  <cp:revision>181</cp:revision>
  <dc:subject/>
  <dc:title>Slide 1</dc:title>
</cp:coreProperties>
</file>