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877-4542-4ACC-90FB-17191670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93A-22B9-42AE-AF5E-602678E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E58-75A8-420C-BE47-27E1B832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F8C-8D43-4FC7-B391-68664FFB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4CE4-F665-4A89-8E81-8894252A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B1FB-4668-4F98-8A7D-FCCBDFD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2EB3-30B7-4E95-865A-BBD73E3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7D1-5141-402E-B144-BF7A2E8C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3421-410A-4E6B-A0E1-2E71569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C820-04D3-4E1F-A891-74393A08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9F1-343C-41B8-80FE-DEFF0D7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498-BEED-4478-ADED-7C711E43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8929-CF5A-4AEE-96DC-9F64226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924-79DC-41A7-917A-4510E3CB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2FE6-6F90-49DD-AABC-66DFC9D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37B3-8C71-462E-A988-38F08438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A2A1-FF0B-4DBF-918C-008FF93D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8D8-C357-485D-B0BA-8C4E6A1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F6C-C3E7-4294-BD70-5788594A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2B9-4081-4A64-9BE2-BE925138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5B0-7BF8-41ED-9CA5-0F8E058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427-314F-445E-B65C-5444FDF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FFE-2ED4-4092-BB46-E9AE101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724-9D02-4F2A-BFB1-E533FAF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FF37-04A3-4DAA-B881-00082F7D4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1E0-EFB2-44B4-BE0A-237D5B836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5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SURA 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  XURA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ересечение классо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32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.^.) :: Class -&gt; Class -&gt; [(Subst, Restr)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cs1,r1).^.(cs’,rs’)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let (cs2,r2) = rename (cs’,rs’) (cs1,r1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in case mgu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ipWith (:=:) cs1 cs2)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Nothin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&gt;[ 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Just 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case (r1.+r2)/.s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CONSISTEN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&gt;[ 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_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&gt;[(s,r2/.s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5+.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 SURA: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имметричный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Р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URA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имметричный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УР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599840"/>
            <a:ext cx="87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метрия входа-выхода в задаче инверсного программир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:: A → 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= { …(x, y) … }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×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акое, чт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x,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amp;  (x,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бозначение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x, y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(x)=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братное отноше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(-1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 (y, x) | (x, y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 }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{ (y, x) | f(x) = y 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520" y="-360"/>
            <a:ext cx="8373960" cy="16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Инверсное вычисление: 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пересечение графика с множеством поиска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4040" y="5845320"/>
            <a:ext cx="6026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958680" y="1859040"/>
            <a:ext cx="0" cy="4736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70000" y="2689200"/>
            <a:ext cx="4376880" cy="2870280"/>
          </a:xfrm>
          <a:custGeom>
            <a:avLst/>
            <a:gdLst/>
            <a:ahLst/>
            <a:rect l="l" t="t" r="r" b="b"/>
            <a:pathLst>
              <a:path w="4749" h="2299">
                <a:moveTo>
                  <a:pt x="0" y="2244"/>
                </a:moveTo>
                <a:cubicBezTo>
                  <a:pt x="93" y="1368"/>
                  <a:pt x="187" y="492"/>
                  <a:pt x="292" y="478"/>
                </a:cubicBezTo>
                <a:cubicBezTo>
                  <a:pt x="397" y="464"/>
                  <a:pt x="492" y="2019"/>
                  <a:pt x="632" y="2159"/>
                </a:cubicBezTo>
                <a:cubicBezTo>
                  <a:pt x="772" y="2299"/>
                  <a:pt x="998" y="1378"/>
                  <a:pt x="1133" y="1318"/>
                </a:cubicBezTo>
                <a:cubicBezTo>
                  <a:pt x="1268" y="1258"/>
                  <a:pt x="1269" y="2019"/>
                  <a:pt x="1444" y="1800"/>
                </a:cubicBezTo>
                <a:cubicBezTo>
                  <a:pt x="1619" y="1581"/>
                  <a:pt x="1904" y="0"/>
                  <a:pt x="2181" y="6"/>
                </a:cubicBezTo>
                <a:cubicBezTo>
                  <a:pt x="2458" y="12"/>
                  <a:pt x="2810" y="1815"/>
                  <a:pt x="3106" y="1838"/>
                </a:cubicBezTo>
                <a:cubicBezTo>
                  <a:pt x="3402" y="1861"/>
                  <a:pt x="3721" y="243"/>
                  <a:pt x="3956" y="147"/>
                </a:cubicBezTo>
                <a:cubicBezTo>
                  <a:pt x="4191" y="51"/>
                  <a:pt x="4381" y="1101"/>
                  <a:pt x="4513" y="1262"/>
                </a:cubicBezTo>
                <a:cubicBezTo>
                  <a:pt x="4645" y="1423"/>
                  <a:pt x="4697" y="1266"/>
                  <a:pt x="4749" y="111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958680" y="3657600"/>
            <a:ext cx="5158080" cy="14400"/>
          </a:xfrm>
          <a:prstGeom prst="line">
            <a:avLst/>
          </a:prstGeom>
          <a:ln w="1522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54480" y="6175440"/>
            <a:ext cx="4737240" cy="585720"/>
          </a:xfrm>
          <a:prstGeom prst="wedgeRectCallout">
            <a:avLst>
              <a:gd name="adj1" fmla="val -58009"/>
              <a:gd name="adj2" fmla="val -110976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данные дл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18280" y="4900680"/>
            <a:ext cx="2698560" cy="585720"/>
          </a:xfrm>
          <a:prstGeom prst="wedgeRectCallout">
            <a:avLst>
              <a:gd name="adj1" fmla="val -119000"/>
              <a:gd name="adj2" fmla="val -129134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76560" y="1779480"/>
            <a:ext cx="5246640" cy="585720"/>
          </a:xfrm>
          <a:prstGeom prst="wedgeRectCallout">
            <a:avLst>
              <a:gd name="adj1" fmla="val -9578"/>
              <a:gd name="adj2" fmla="val 267884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([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], y), RESTR[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31920" y="3579840"/>
            <a:ext cx="4008240" cy="168120"/>
            <a:chOff x="1231920" y="3579840"/>
            <a:chExt cx="4008240" cy="168120"/>
          </a:xfrm>
        </p:grpSpPr>
        <p:sp>
          <p:nvSpPr>
            <p:cNvPr id="147" name=""/>
            <p:cNvSpPr/>
            <p:nvPr/>
          </p:nvSpPr>
          <p:spPr>
            <a:xfrm>
              <a:off x="1231920" y="3579840"/>
              <a:ext cx="168120" cy="1681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8840" y="3579840"/>
              <a:ext cx="168120" cy="1681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3579840"/>
              <a:ext cx="168120" cy="1681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63920" y="3579840"/>
              <a:ext cx="168120" cy="1681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4920" y="3579840"/>
              <a:ext cx="168480" cy="1681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72040" y="3579840"/>
              <a:ext cx="168120" cy="1681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7520" y="-360"/>
            <a:ext cx="8373960" cy="16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Инверсное вычисление: 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пересечение графика с множеством поиска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4040" y="5845320"/>
            <a:ext cx="6026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58680" y="1859040"/>
            <a:ext cx="0" cy="4736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70000" y="2689200"/>
            <a:ext cx="4376880" cy="2870280"/>
          </a:xfrm>
          <a:custGeom>
            <a:avLst/>
            <a:gdLst/>
            <a:ahLst/>
            <a:rect l="l" t="t" r="r" b="b"/>
            <a:pathLst>
              <a:path w="4749" h="2299">
                <a:moveTo>
                  <a:pt x="0" y="2244"/>
                </a:moveTo>
                <a:cubicBezTo>
                  <a:pt x="93" y="1368"/>
                  <a:pt x="187" y="492"/>
                  <a:pt x="292" y="478"/>
                </a:cubicBezTo>
                <a:cubicBezTo>
                  <a:pt x="397" y="464"/>
                  <a:pt x="492" y="2019"/>
                  <a:pt x="632" y="2159"/>
                </a:cubicBezTo>
                <a:cubicBezTo>
                  <a:pt x="772" y="2299"/>
                  <a:pt x="998" y="1378"/>
                  <a:pt x="1133" y="1318"/>
                </a:cubicBezTo>
                <a:cubicBezTo>
                  <a:pt x="1268" y="1258"/>
                  <a:pt x="1269" y="2019"/>
                  <a:pt x="1444" y="1800"/>
                </a:cubicBezTo>
                <a:cubicBezTo>
                  <a:pt x="1619" y="1581"/>
                  <a:pt x="1904" y="0"/>
                  <a:pt x="2181" y="6"/>
                </a:cubicBezTo>
                <a:cubicBezTo>
                  <a:pt x="2458" y="12"/>
                  <a:pt x="2810" y="1815"/>
                  <a:pt x="3106" y="1838"/>
                </a:cubicBezTo>
                <a:cubicBezTo>
                  <a:pt x="3402" y="1861"/>
                  <a:pt x="3721" y="243"/>
                  <a:pt x="3956" y="147"/>
                </a:cubicBezTo>
                <a:cubicBezTo>
                  <a:pt x="4191" y="51"/>
                  <a:pt x="4381" y="1101"/>
                  <a:pt x="4513" y="1262"/>
                </a:cubicBezTo>
                <a:cubicBezTo>
                  <a:pt x="4645" y="1423"/>
                  <a:pt x="4697" y="1266"/>
                  <a:pt x="4749" y="1110"/>
                </a:cubicBezTo>
              </a:path>
            </a:pathLst>
          </a:custGeom>
          <a:noFill/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3440" y="3657600"/>
            <a:ext cx="2563920" cy="14400"/>
          </a:xfrm>
          <a:custGeom>
            <a:avLst/>
            <a:gdLst/>
            <a:ahLst/>
            <a:rect l="l" t="t" r="r" b="b"/>
            <a:pathLst>
              <a:path w="1615" h="9">
                <a:moveTo>
                  <a:pt x="0" y="0"/>
                </a:moveTo>
                <a:lnTo>
                  <a:pt x="1615" y="9"/>
                </a:ln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9400" y="2705040"/>
            <a:ext cx="2598840" cy="2509920"/>
          </a:xfrm>
          <a:custGeom>
            <a:avLst/>
            <a:gdLst/>
            <a:ahLst/>
            <a:rect l="l" t="t" r="r" b="b"/>
            <a:pathLst>
              <a:path w="1637" h="1581">
                <a:moveTo>
                  <a:pt x="0" y="997"/>
                </a:moveTo>
                <a:cubicBezTo>
                  <a:pt x="113" y="1054"/>
                  <a:pt x="77" y="1581"/>
                  <a:pt x="178" y="1416"/>
                </a:cubicBezTo>
                <a:cubicBezTo>
                  <a:pt x="279" y="1251"/>
                  <a:pt x="445" y="0"/>
                  <a:pt x="606" y="5"/>
                </a:cubicBezTo>
                <a:cubicBezTo>
                  <a:pt x="767" y="9"/>
                  <a:pt x="971" y="1427"/>
                  <a:pt x="1143" y="1445"/>
                </a:cubicBezTo>
                <a:cubicBezTo>
                  <a:pt x="1315" y="1464"/>
                  <a:pt x="1444" y="317"/>
                  <a:pt x="1637" y="116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76640" y="5845320"/>
            <a:ext cx="2563560" cy="14040"/>
          </a:xfrm>
          <a:custGeom>
            <a:avLst/>
            <a:gdLst/>
            <a:ahLst/>
            <a:rect l="l" t="t" r="r" b="b"/>
            <a:pathLst>
              <a:path w="1615" h="9">
                <a:moveTo>
                  <a:pt x="0" y="0"/>
                </a:moveTo>
                <a:lnTo>
                  <a:pt x="1615" y="9"/>
                </a:ln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680" bIns="-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76880" y="6229440"/>
            <a:ext cx="4767120" cy="585720"/>
          </a:xfrm>
          <a:prstGeom prst="wedgeRectCallout">
            <a:avLst>
              <a:gd name="adj1" fmla="val -30787"/>
              <a:gd name="adj2" fmla="val -118833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данные дл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7240" y="4672080"/>
            <a:ext cx="3317760" cy="930240"/>
          </a:xfrm>
          <a:prstGeom prst="wedgeRectCallout">
            <a:avLst>
              <a:gd name="adj1" fmla="val -89759"/>
              <a:gd name="adj2" fmla="val -82254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3320" y="1833480"/>
            <a:ext cx="7178760" cy="585720"/>
          </a:xfrm>
          <a:prstGeom prst="wedgeRectCallout">
            <a:avLst>
              <a:gd name="adj1" fmla="val -19194"/>
              <a:gd name="adj2" fmla="val 257861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= &lt; (cxs, y), r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280" y="6240600"/>
            <a:ext cx="3372120" cy="585720"/>
          </a:xfrm>
          <a:prstGeom prst="wedgeRectCallout">
            <a:avLst>
              <a:gd name="adj1" fmla="val 58189"/>
              <a:gd name="adj2" fmla="val -110976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&lt;cxs, r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30600" y="357984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63920" y="357984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44920" y="3579840"/>
            <a:ext cx="16848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V="1">
            <a:off x="284040" y="5845320"/>
            <a:ext cx="6026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58680" y="1859040"/>
            <a:ext cx="0" cy="4736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70000" y="2689200"/>
            <a:ext cx="4376880" cy="2870280"/>
          </a:xfrm>
          <a:custGeom>
            <a:avLst/>
            <a:gdLst/>
            <a:ahLst/>
            <a:rect l="l" t="t" r="r" b="b"/>
            <a:pathLst>
              <a:path w="4749" h="2299">
                <a:moveTo>
                  <a:pt x="0" y="2244"/>
                </a:moveTo>
                <a:cubicBezTo>
                  <a:pt x="93" y="1368"/>
                  <a:pt x="187" y="492"/>
                  <a:pt x="292" y="478"/>
                </a:cubicBezTo>
                <a:cubicBezTo>
                  <a:pt x="397" y="464"/>
                  <a:pt x="492" y="2019"/>
                  <a:pt x="632" y="2159"/>
                </a:cubicBezTo>
                <a:cubicBezTo>
                  <a:pt x="772" y="2299"/>
                  <a:pt x="998" y="1378"/>
                  <a:pt x="1133" y="1318"/>
                </a:cubicBezTo>
                <a:cubicBezTo>
                  <a:pt x="1268" y="1258"/>
                  <a:pt x="1269" y="2019"/>
                  <a:pt x="1444" y="1800"/>
                </a:cubicBezTo>
                <a:cubicBezTo>
                  <a:pt x="1619" y="1581"/>
                  <a:pt x="1904" y="0"/>
                  <a:pt x="2181" y="6"/>
                </a:cubicBezTo>
                <a:cubicBezTo>
                  <a:pt x="2458" y="12"/>
                  <a:pt x="2810" y="1815"/>
                  <a:pt x="3106" y="1838"/>
                </a:cubicBezTo>
                <a:cubicBezTo>
                  <a:pt x="3402" y="1861"/>
                  <a:pt x="3721" y="243"/>
                  <a:pt x="3956" y="147"/>
                </a:cubicBezTo>
                <a:cubicBezTo>
                  <a:pt x="4191" y="51"/>
                  <a:pt x="4381" y="1101"/>
                  <a:pt x="4513" y="1262"/>
                </a:cubicBezTo>
                <a:cubicBezTo>
                  <a:pt x="4645" y="1423"/>
                  <a:pt x="4697" y="1266"/>
                  <a:pt x="4749" y="111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14400" y="1752120"/>
            <a:ext cx="3943440" cy="4092840"/>
          </a:xfrm>
          <a:prstGeom prst="line">
            <a:avLst/>
          </a:prstGeom>
          <a:ln w="1522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54480" y="6175440"/>
            <a:ext cx="4737240" cy="585720"/>
          </a:xfrm>
          <a:prstGeom prst="wedgeRectCallout">
            <a:avLst>
              <a:gd name="adj1" fmla="val -58009"/>
              <a:gd name="adj2" fmla="val -110976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данные дл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18280" y="4900680"/>
            <a:ext cx="2698560" cy="585720"/>
          </a:xfrm>
          <a:prstGeom prst="wedgeRectCallout">
            <a:avLst>
              <a:gd name="adj1" fmla="val -119000"/>
              <a:gd name="adj2" fmla="val -129134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37000" y="2093760"/>
            <a:ext cx="5543640" cy="465120"/>
          </a:xfrm>
          <a:prstGeom prst="wedgeRectCallout">
            <a:avLst>
              <a:gd name="adj1" fmla="val -43157"/>
              <a:gd name="adj2" fmla="val 115189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= &lt;([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],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), RESTR[ ]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77880" y="4987800"/>
            <a:ext cx="16848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13120" y="4538520"/>
            <a:ext cx="16812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6800" y="433080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84520" y="383544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65640" y="3127320"/>
            <a:ext cx="16812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вычисление: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перед к симметрии!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284040" y="5845320"/>
            <a:ext cx="6026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58680" y="1859040"/>
            <a:ext cx="0" cy="4736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70000" y="2689200"/>
            <a:ext cx="4376880" cy="2870280"/>
          </a:xfrm>
          <a:custGeom>
            <a:avLst/>
            <a:gdLst/>
            <a:ahLst/>
            <a:rect l="l" t="t" r="r" b="b"/>
            <a:pathLst>
              <a:path w="4749" h="2299">
                <a:moveTo>
                  <a:pt x="0" y="2244"/>
                </a:moveTo>
                <a:cubicBezTo>
                  <a:pt x="93" y="1368"/>
                  <a:pt x="187" y="492"/>
                  <a:pt x="292" y="478"/>
                </a:cubicBezTo>
                <a:cubicBezTo>
                  <a:pt x="397" y="464"/>
                  <a:pt x="492" y="2019"/>
                  <a:pt x="632" y="2159"/>
                </a:cubicBezTo>
                <a:cubicBezTo>
                  <a:pt x="772" y="2299"/>
                  <a:pt x="998" y="1378"/>
                  <a:pt x="1133" y="1318"/>
                </a:cubicBezTo>
                <a:cubicBezTo>
                  <a:pt x="1268" y="1258"/>
                  <a:pt x="1269" y="2019"/>
                  <a:pt x="1444" y="1800"/>
                </a:cubicBezTo>
                <a:cubicBezTo>
                  <a:pt x="1619" y="1581"/>
                  <a:pt x="1904" y="0"/>
                  <a:pt x="2181" y="6"/>
                </a:cubicBezTo>
                <a:cubicBezTo>
                  <a:pt x="2458" y="12"/>
                  <a:pt x="2810" y="1815"/>
                  <a:pt x="3106" y="1838"/>
                </a:cubicBezTo>
                <a:cubicBezTo>
                  <a:pt x="3402" y="1861"/>
                  <a:pt x="3721" y="243"/>
                  <a:pt x="3956" y="147"/>
                </a:cubicBezTo>
                <a:cubicBezTo>
                  <a:pt x="4191" y="51"/>
                  <a:pt x="4381" y="1101"/>
                  <a:pt x="4513" y="1262"/>
                </a:cubicBezTo>
                <a:cubicBezTo>
                  <a:pt x="4645" y="1423"/>
                  <a:pt x="4697" y="1266"/>
                  <a:pt x="4749" y="1110"/>
                </a:cubicBezTo>
              </a:path>
            </a:pathLst>
          </a:custGeom>
          <a:noFill/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19400" y="2705040"/>
            <a:ext cx="2598840" cy="2509920"/>
          </a:xfrm>
          <a:custGeom>
            <a:avLst/>
            <a:gdLst/>
            <a:ahLst/>
            <a:rect l="l" t="t" r="r" b="b"/>
            <a:pathLst>
              <a:path w="1637" h="1581">
                <a:moveTo>
                  <a:pt x="0" y="997"/>
                </a:moveTo>
                <a:cubicBezTo>
                  <a:pt x="113" y="1054"/>
                  <a:pt x="77" y="1581"/>
                  <a:pt x="178" y="1416"/>
                </a:cubicBezTo>
                <a:cubicBezTo>
                  <a:pt x="279" y="1251"/>
                  <a:pt x="445" y="0"/>
                  <a:pt x="606" y="5"/>
                </a:cubicBezTo>
                <a:cubicBezTo>
                  <a:pt x="767" y="9"/>
                  <a:pt x="971" y="1427"/>
                  <a:pt x="1143" y="1445"/>
                </a:cubicBezTo>
                <a:cubicBezTo>
                  <a:pt x="1315" y="1464"/>
                  <a:pt x="1444" y="317"/>
                  <a:pt x="1637" y="116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76640" y="5845320"/>
            <a:ext cx="2563560" cy="14040"/>
          </a:xfrm>
          <a:custGeom>
            <a:avLst/>
            <a:gdLst/>
            <a:ahLst/>
            <a:rect l="l" t="t" r="r" b="b"/>
            <a:pathLst>
              <a:path w="1615" h="9">
                <a:moveTo>
                  <a:pt x="0" y="0"/>
                </a:moveTo>
                <a:lnTo>
                  <a:pt x="1615" y="9"/>
                </a:ln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680" bIns="-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92640" y="6229440"/>
            <a:ext cx="4737240" cy="585720"/>
          </a:xfrm>
          <a:prstGeom prst="wedgeRectCallout">
            <a:avLst>
              <a:gd name="adj1" fmla="val -28888"/>
              <a:gd name="adj2" fmla="val -118833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данные дл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7240" y="4672080"/>
            <a:ext cx="3317760" cy="930240"/>
          </a:xfrm>
          <a:prstGeom prst="wedgeRectCallout">
            <a:avLst>
              <a:gd name="adj1" fmla="val -89759"/>
              <a:gd name="adj2" fmla="val -82254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0" y="6240600"/>
            <a:ext cx="3432240" cy="585720"/>
          </a:xfrm>
          <a:prstGeom prst="wedgeRectCallout">
            <a:avLst>
              <a:gd name="adj1" fmla="val 56291"/>
              <a:gd name="adj2" fmla="val -110976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&lt;ce, r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9400" y="1738440"/>
            <a:ext cx="2666880" cy="2759040"/>
          </a:xfrm>
          <a:custGeom>
            <a:avLst/>
            <a:gdLst/>
            <a:ahLst/>
            <a:rect l="l" t="t" r="r" b="b"/>
            <a:pathLst>
              <a:path w="1680" h="1738">
                <a:moveTo>
                  <a:pt x="0" y="1738"/>
                </a:moveTo>
                <a:lnTo>
                  <a:pt x="1680" y="0"/>
                </a:ln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2093760"/>
            <a:ext cx="3932280" cy="465120"/>
          </a:xfrm>
          <a:prstGeom prst="wedgeRectCallout">
            <a:avLst>
              <a:gd name="adj1" fmla="val -81328"/>
              <a:gd name="adj2" fmla="val 115189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= &lt;([ce],ce), r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6800" y="433080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84520" y="383544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65640" y="3127320"/>
            <a:ext cx="16812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7760" y="2440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вычисление: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перед к симметрии!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284040" y="5845320"/>
            <a:ext cx="6026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958680" y="1859040"/>
            <a:ext cx="0" cy="4736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70000" y="2689200"/>
            <a:ext cx="4376880" cy="2870280"/>
          </a:xfrm>
          <a:custGeom>
            <a:avLst/>
            <a:gdLst/>
            <a:ahLst/>
            <a:rect l="l" t="t" r="r" b="b"/>
            <a:pathLst>
              <a:path w="4749" h="2299">
                <a:moveTo>
                  <a:pt x="0" y="2244"/>
                </a:moveTo>
                <a:cubicBezTo>
                  <a:pt x="93" y="1368"/>
                  <a:pt x="187" y="492"/>
                  <a:pt x="292" y="478"/>
                </a:cubicBezTo>
                <a:cubicBezTo>
                  <a:pt x="397" y="464"/>
                  <a:pt x="492" y="2019"/>
                  <a:pt x="632" y="2159"/>
                </a:cubicBezTo>
                <a:cubicBezTo>
                  <a:pt x="772" y="2299"/>
                  <a:pt x="998" y="1378"/>
                  <a:pt x="1133" y="1318"/>
                </a:cubicBezTo>
                <a:cubicBezTo>
                  <a:pt x="1268" y="1258"/>
                  <a:pt x="1269" y="2019"/>
                  <a:pt x="1444" y="1800"/>
                </a:cubicBezTo>
                <a:cubicBezTo>
                  <a:pt x="1619" y="1581"/>
                  <a:pt x="1904" y="0"/>
                  <a:pt x="2181" y="6"/>
                </a:cubicBezTo>
                <a:cubicBezTo>
                  <a:pt x="2458" y="12"/>
                  <a:pt x="2810" y="1815"/>
                  <a:pt x="3106" y="1838"/>
                </a:cubicBezTo>
                <a:cubicBezTo>
                  <a:pt x="3402" y="1861"/>
                  <a:pt x="3721" y="243"/>
                  <a:pt x="3956" y="147"/>
                </a:cubicBezTo>
                <a:cubicBezTo>
                  <a:pt x="4191" y="51"/>
                  <a:pt x="4381" y="1101"/>
                  <a:pt x="4513" y="1262"/>
                </a:cubicBezTo>
                <a:cubicBezTo>
                  <a:pt x="4645" y="1423"/>
                  <a:pt x="4697" y="1266"/>
                  <a:pt x="4749" y="1110"/>
                </a:cubicBezTo>
              </a:path>
            </a:pathLst>
          </a:custGeom>
          <a:noFill/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9400" y="2705040"/>
            <a:ext cx="2598840" cy="2509920"/>
          </a:xfrm>
          <a:custGeom>
            <a:avLst/>
            <a:gdLst/>
            <a:ahLst/>
            <a:rect l="l" t="t" r="r" b="b"/>
            <a:pathLst>
              <a:path w="1637" h="1581">
                <a:moveTo>
                  <a:pt x="0" y="997"/>
                </a:moveTo>
                <a:cubicBezTo>
                  <a:pt x="113" y="1054"/>
                  <a:pt x="77" y="1581"/>
                  <a:pt x="178" y="1416"/>
                </a:cubicBezTo>
                <a:cubicBezTo>
                  <a:pt x="279" y="1251"/>
                  <a:pt x="445" y="0"/>
                  <a:pt x="606" y="5"/>
                </a:cubicBezTo>
                <a:cubicBezTo>
                  <a:pt x="767" y="9"/>
                  <a:pt x="971" y="1427"/>
                  <a:pt x="1143" y="1445"/>
                </a:cubicBezTo>
                <a:cubicBezTo>
                  <a:pt x="1315" y="1464"/>
                  <a:pt x="1444" y="317"/>
                  <a:pt x="1637" y="116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76640" y="5845320"/>
            <a:ext cx="2563560" cy="14040"/>
          </a:xfrm>
          <a:custGeom>
            <a:avLst/>
            <a:gdLst/>
            <a:ahLst/>
            <a:rect l="l" t="t" r="r" b="b"/>
            <a:pathLst>
              <a:path w="1615" h="9">
                <a:moveTo>
                  <a:pt x="0" y="0"/>
                </a:moveTo>
                <a:lnTo>
                  <a:pt x="1615" y="9"/>
                </a:ln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680" bIns="-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92640" y="6229440"/>
            <a:ext cx="4737240" cy="585720"/>
          </a:xfrm>
          <a:prstGeom prst="wedgeRectCallout">
            <a:avLst>
              <a:gd name="adj1" fmla="val -28888"/>
              <a:gd name="adj2" fmla="val -118833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данные дл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37240" y="4672080"/>
            <a:ext cx="3317760" cy="930240"/>
          </a:xfrm>
          <a:prstGeom prst="wedgeRectCallout">
            <a:avLst>
              <a:gd name="adj1" fmla="val -92009"/>
              <a:gd name="adj2" fmla="val -40273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40600"/>
            <a:ext cx="4181400" cy="585720"/>
          </a:xfrm>
          <a:prstGeom prst="wedgeRectCallout">
            <a:avLst>
              <a:gd name="adj1" fmla="val 37245"/>
              <a:gd name="adj2" fmla="val -110976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&lt;cxs, r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0560" y="2093760"/>
            <a:ext cx="3880080" cy="465120"/>
          </a:xfrm>
          <a:prstGeom prst="wedgeRectCallout">
            <a:avLst>
              <a:gd name="adj1" fmla="val -80810"/>
              <a:gd name="adj2" fmla="val 73208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= &lt;(cxs,cy), r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7760" y="2440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вычисление: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бщий случа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1994040"/>
            <a:ext cx="2619360" cy="3492360"/>
          </a:xfrm>
          <a:custGeom>
            <a:avLst/>
            <a:gdLst/>
            <a:ahLst/>
            <a:rect l="l" t="t" r="r" b="b"/>
            <a:pathLst>
              <a:path w="1650" h="2200">
                <a:moveTo>
                  <a:pt x="37" y="2200"/>
                </a:moveTo>
                <a:cubicBezTo>
                  <a:pt x="155" y="2164"/>
                  <a:pt x="729" y="2161"/>
                  <a:pt x="735" y="1983"/>
                </a:cubicBezTo>
                <a:cubicBezTo>
                  <a:pt x="741" y="1805"/>
                  <a:pt x="0" y="1228"/>
                  <a:pt x="74" y="1133"/>
                </a:cubicBezTo>
                <a:cubicBezTo>
                  <a:pt x="148" y="1038"/>
                  <a:pt x="1042" y="1477"/>
                  <a:pt x="1179" y="1416"/>
                </a:cubicBezTo>
                <a:cubicBezTo>
                  <a:pt x="1316" y="1355"/>
                  <a:pt x="973" y="735"/>
                  <a:pt x="896" y="765"/>
                </a:cubicBezTo>
                <a:cubicBezTo>
                  <a:pt x="819" y="795"/>
                  <a:pt x="597" y="1505"/>
                  <a:pt x="717" y="1596"/>
                </a:cubicBezTo>
                <a:cubicBezTo>
                  <a:pt x="837" y="1687"/>
                  <a:pt x="1578" y="1542"/>
                  <a:pt x="1614" y="1312"/>
                </a:cubicBezTo>
                <a:cubicBezTo>
                  <a:pt x="1650" y="1082"/>
                  <a:pt x="1016" y="434"/>
                  <a:pt x="934" y="217"/>
                </a:cubicBezTo>
                <a:cubicBezTo>
                  <a:pt x="852" y="0"/>
                  <a:pt x="987" y="4"/>
                  <a:pt x="1123" y="9"/>
                </a:cubicBez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1440" y="421020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14760" y="3770280"/>
            <a:ext cx="16812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1360" y="3397320"/>
            <a:ext cx="16848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4520" y="4059360"/>
            <a:ext cx="16848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10160" y="4476600"/>
            <a:ext cx="16812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33960" y="435456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3720" y="3438360"/>
            <a:ext cx="168120" cy="168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284040" y="5845320"/>
            <a:ext cx="6026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58680" y="1859040"/>
            <a:ext cx="0" cy="4736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2689200"/>
            <a:ext cx="4376880" cy="2870280"/>
          </a:xfrm>
          <a:custGeom>
            <a:avLst/>
            <a:gdLst/>
            <a:ahLst/>
            <a:rect l="l" t="t" r="r" b="b"/>
            <a:pathLst>
              <a:path w="4749" h="2299">
                <a:moveTo>
                  <a:pt x="0" y="2244"/>
                </a:moveTo>
                <a:cubicBezTo>
                  <a:pt x="93" y="1368"/>
                  <a:pt x="187" y="492"/>
                  <a:pt x="292" y="478"/>
                </a:cubicBezTo>
                <a:cubicBezTo>
                  <a:pt x="397" y="464"/>
                  <a:pt x="492" y="2019"/>
                  <a:pt x="632" y="2159"/>
                </a:cubicBezTo>
                <a:cubicBezTo>
                  <a:pt x="772" y="2299"/>
                  <a:pt x="998" y="1378"/>
                  <a:pt x="1133" y="1318"/>
                </a:cubicBezTo>
                <a:cubicBezTo>
                  <a:pt x="1268" y="1258"/>
                  <a:pt x="1269" y="2019"/>
                  <a:pt x="1444" y="1800"/>
                </a:cubicBezTo>
                <a:cubicBezTo>
                  <a:pt x="1619" y="1581"/>
                  <a:pt x="1904" y="0"/>
                  <a:pt x="2181" y="6"/>
                </a:cubicBezTo>
                <a:cubicBezTo>
                  <a:pt x="2458" y="12"/>
                  <a:pt x="2810" y="1815"/>
                  <a:pt x="3106" y="1838"/>
                </a:cubicBezTo>
                <a:cubicBezTo>
                  <a:pt x="3402" y="1861"/>
                  <a:pt x="3721" y="243"/>
                  <a:pt x="3956" y="147"/>
                </a:cubicBezTo>
                <a:cubicBezTo>
                  <a:pt x="4191" y="51"/>
                  <a:pt x="4381" y="1101"/>
                  <a:pt x="4513" y="1262"/>
                </a:cubicBezTo>
                <a:cubicBezTo>
                  <a:pt x="4645" y="1423"/>
                  <a:pt x="4697" y="1266"/>
                  <a:pt x="4749" y="1110"/>
                </a:cubicBezTo>
              </a:path>
            </a:pathLst>
          </a:custGeom>
          <a:noFill/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88120" y="6229440"/>
            <a:ext cx="3641760" cy="585720"/>
          </a:xfrm>
          <a:prstGeom prst="wedgeRectCallout">
            <a:avLst>
              <a:gd name="adj1" fmla="val -52615"/>
              <a:gd name="adj2" fmla="val -118833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устимы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37240" y="4672080"/>
            <a:ext cx="3317760" cy="930240"/>
          </a:xfrm>
          <a:prstGeom prst="wedgeRectCallout">
            <a:avLst>
              <a:gd name="adj1" fmla="val -127226"/>
              <a:gd name="adj2" fmla="val -248125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 (ds, p ds)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240600"/>
            <a:ext cx="5157720" cy="585720"/>
          </a:xfrm>
          <a:prstGeom prst="wedgeRectCallout">
            <a:avLst>
              <a:gd name="adj1" fmla="val 11124"/>
              <a:gd name="adj2" fmla="val -105828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&lt;ds,RESTR[ ]&gt; = {d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7480" y="1738440"/>
            <a:ext cx="14400" cy="4108320"/>
          </a:xfrm>
          <a:custGeom>
            <a:avLst/>
            <a:gdLst/>
            <a:ahLst/>
            <a:rect l="l" t="t" r="r" b="b"/>
            <a:pathLst>
              <a:path w="9" h="2588">
                <a:moveTo>
                  <a:pt x="0" y="2588"/>
                </a:moveTo>
                <a:lnTo>
                  <a:pt x="9" y="0"/>
                </a:lnTo>
              </a:path>
            </a:pathLst>
          </a:custGeom>
          <a:noFill/>
          <a:ln w="1522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51160" y="2093760"/>
            <a:ext cx="4929480" cy="465120"/>
          </a:xfrm>
          <a:prstGeom prst="wedgeRectCallout">
            <a:avLst>
              <a:gd name="adj1" fmla="val -72416"/>
              <a:gd name="adj2" fmla="val 112115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= &lt;(ds,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), RESTR[ ]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75040" y="2738520"/>
            <a:ext cx="168120" cy="1681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7760" y="2440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вычисление: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частный случай — вычислени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933640" y="5721480"/>
            <a:ext cx="238320" cy="2379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остановка задач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A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 представления множе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2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, 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 }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p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y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G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а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класс (обобщенное данное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е-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RA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 представления множе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d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 }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(d,y)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G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а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cxs,cy), r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xs, r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обобщенное данное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24600" y="379728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Структура решения задач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RA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G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а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cxs,cy), r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xs, r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обобщенное данное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ует построение представления множе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d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 }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(d,y)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(d,y) | d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}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b p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0760" y="1328760"/>
            <a:ext cx="6689520" cy="914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RA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46040" y="150660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85960" y="150660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46880" y="1506600"/>
            <a:ext cx="4554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3" idx="1"/>
          </p:cNvCxnSpPr>
          <p:nvPr/>
        </p:nvCxnSpPr>
        <p:spPr>
          <a:xfrm flipH="1" rot="16200000">
            <a:off x="-405720" y="3174480"/>
            <a:ext cx="2416680" cy="25812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2"/>
            <a:endCxn id="233" idx="0"/>
          </p:cNvCxnSpPr>
          <p:nvPr/>
        </p:nvCxnSpPr>
        <p:spPr>
          <a:xfrm rot="5400000">
            <a:off x="1113840" y="2415960"/>
            <a:ext cx="2121480" cy="1480320"/>
          </a:xfrm>
          <a:prstGeom prst="bentConnector3">
            <a:avLst>
              <a:gd name="adj1" fmla="val 49915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335320" y="4213080"/>
            <a:ext cx="115884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3" idx="3"/>
            <a:endCxn id="235" idx="1"/>
          </p:cNvCxnSpPr>
          <p:nvPr/>
        </p:nvCxnSpPr>
        <p:spPr>
          <a:xfrm flipV="1">
            <a:off x="1937880" y="4509720"/>
            <a:ext cx="39780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3"/>
            <a:endCxn id="238" idx="1"/>
          </p:cNvCxnSpPr>
          <p:nvPr/>
        </p:nvCxnSpPr>
        <p:spPr>
          <a:xfrm>
            <a:off x="3493800" y="4509720"/>
            <a:ext cx="36900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932040" y="4216320"/>
            <a:ext cx="10062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62440" y="4214880"/>
            <a:ext cx="1035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a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0" idx="2"/>
            <a:endCxn id="238" idx="0"/>
          </p:cNvCxnSpPr>
          <p:nvPr/>
        </p:nvCxnSpPr>
        <p:spPr>
          <a:xfrm flipH="1" rot="16200000">
            <a:off x="2587320" y="2422080"/>
            <a:ext cx="2120040" cy="1465920"/>
          </a:xfrm>
          <a:prstGeom prst="bentConnector3">
            <a:avLst>
              <a:gd name="adj1" fmla="val 49949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249880" y="4213080"/>
            <a:ext cx="44280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8" idx="3"/>
            <a:endCxn id="240" idx="1"/>
          </p:cNvCxnSpPr>
          <p:nvPr/>
        </p:nvCxnSpPr>
        <p:spPr>
          <a:xfrm>
            <a:off x="4897080" y="4509720"/>
            <a:ext cx="35316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58080" y="4214880"/>
            <a:ext cx="1233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u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3"/>
            <a:endCxn id="242" idx="1"/>
          </p:cNvCxnSpPr>
          <p:nvPr/>
        </p:nvCxnSpPr>
        <p:spPr>
          <a:xfrm>
            <a:off x="5692320" y="4509720"/>
            <a:ext cx="3661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2" idx="3"/>
            <a:endCxn id="245" idx="1"/>
          </p:cNvCxnSpPr>
          <p:nvPr/>
        </p:nvCxnSpPr>
        <p:spPr>
          <a:xfrm>
            <a:off x="7291440" y="4509720"/>
            <a:ext cx="3895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680240" y="4213080"/>
            <a:ext cx="94608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31" idx="2"/>
            <a:endCxn id="242" idx="0"/>
          </p:cNvCxnSpPr>
          <p:nvPr/>
        </p:nvCxnSpPr>
        <p:spPr>
          <a:xfrm flipV="1" rot="10800000">
            <a:off x="6674760" y="2095200"/>
            <a:ext cx="1080" cy="212004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5216400" y="142920"/>
            <a:ext cx="3856320" cy="853920"/>
          </a:xfrm>
          <a:prstGeom prst="wedgeRectCallout">
            <a:avLst>
              <a:gd name="adj1" fmla="val -34810"/>
              <a:gd name="adj2" fmla="val 8661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ос на инверсное вы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240" y="5024520"/>
            <a:ext cx="2500200" cy="1727280"/>
          </a:xfrm>
          <a:prstGeom prst="wedgeRectCallout">
            <a:avLst>
              <a:gd name="adj1" fmla="val 62125"/>
              <a:gd name="adj2" fmla="val -6299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фектное дерево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90720" y="5040360"/>
            <a:ext cx="2880000" cy="1727280"/>
          </a:xfrm>
          <a:prstGeom prst="wedgeRectCallout">
            <a:avLst>
              <a:gd name="adj1" fmla="val 42393"/>
              <a:gd name="adj2" fmla="val -64064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чное представление функци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18320" y="5040360"/>
            <a:ext cx="2879640" cy="1727280"/>
          </a:xfrm>
          <a:prstGeom prst="wedgeRectCallout">
            <a:avLst>
              <a:gd name="adj1" fmla="val 32523"/>
              <a:gd name="adj2" fmla="val -62222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запрос инверсного 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0760" y="1328760"/>
            <a:ext cx="3090600" cy="914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SURA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46040" y="150660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44760" y="1506600"/>
            <a:ext cx="8161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Tahoma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53" idx="2"/>
            <a:endCxn id="256" idx="1"/>
          </p:cNvCxnSpPr>
          <p:nvPr/>
        </p:nvCxnSpPr>
        <p:spPr>
          <a:xfrm flipH="1" rot="16200000">
            <a:off x="-405720" y="3174480"/>
            <a:ext cx="2416680" cy="25812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8" idx="2"/>
            <a:endCxn id="256" idx="0"/>
          </p:cNvCxnSpPr>
          <p:nvPr/>
        </p:nvCxnSpPr>
        <p:spPr>
          <a:xfrm rot="5400000">
            <a:off x="1692360" y="3056760"/>
            <a:ext cx="902160" cy="1418400"/>
          </a:xfrm>
          <a:prstGeom prst="bentConnector3">
            <a:avLst>
              <a:gd name="adj1" fmla="val 49820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2335320" y="4213080"/>
            <a:ext cx="115884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6" idx="3"/>
            <a:endCxn id="259" idx="1"/>
          </p:cNvCxnSpPr>
          <p:nvPr/>
        </p:nvCxnSpPr>
        <p:spPr>
          <a:xfrm flipV="1">
            <a:off x="1937880" y="4509720"/>
            <a:ext cx="39780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9" idx="3"/>
            <a:endCxn id="262" idx="1"/>
          </p:cNvCxnSpPr>
          <p:nvPr/>
        </p:nvCxnSpPr>
        <p:spPr>
          <a:xfrm>
            <a:off x="3493800" y="4509720"/>
            <a:ext cx="36900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932040" y="4216320"/>
            <a:ext cx="10062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62440" y="4214880"/>
            <a:ext cx="1035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a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8" idx="2"/>
            <a:endCxn id="262" idx="0"/>
          </p:cNvCxnSpPr>
          <p:nvPr/>
        </p:nvCxnSpPr>
        <p:spPr>
          <a:xfrm flipH="1" rot="16200000">
            <a:off x="3166200" y="3000960"/>
            <a:ext cx="900720" cy="1527840"/>
          </a:xfrm>
          <a:prstGeom prst="bentConnector3">
            <a:avLst>
              <a:gd name="adj1" fmla="val 49900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5249880" y="4213080"/>
            <a:ext cx="44280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64" idx="1"/>
          </p:cNvCxnSpPr>
          <p:nvPr/>
        </p:nvCxnSpPr>
        <p:spPr>
          <a:xfrm>
            <a:off x="4897080" y="4509720"/>
            <a:ext cx="35316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6058080" y="4214880"/>
            <a:ext cx="1233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ur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4" idx="3"/>
            <a:endCxn id="266" idx="1"/>
          </p:cNvCxnSpPr>
          <p:nvPr/>
        </p:nvCxnSpPr>
        <p:spPr>
          <a:xfrm>
            <a:off x="5692320" y="4509720"/>
            <a:ext cx="3661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6" idx="3"/>
            <a:endCxn id="269" idx="1"/>
          </p:cNvCxnSpPr>
          <p:nvPr/>
        </p:nvCxnSpPr>
        <p:spPr>
          <a:xfrm>
            <a:off x="7291440" y="4509720"/>
            <a:ext cx="3895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7680240" y="4213080"/>
            <a:ext cx="94608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54" idx="3"/>
            <a:endCxn id="266" idx="0"/>
          </p:cNvCxnSpPr>
          <p:nvPr/>
        </p:nvCxnSpPr>
        <p:spPr>
          <a:xfrm>
            <a:off x="3260520" y="1801440"/>
            <a:ext cx="3415320" cy="241380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5216400" y="142920"/>
            <a:ext cx="3856320" cy="853920"/>
          </a:xfrm>
          <a:prstGeom prst="wedgeRectCallout">
            <a:avLst>
              <a:gd name="adj1" fmla="val -99319"/>
              <a:gd name="adj2" fmla="val 91819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ос на инверсное вы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240" y="5024520"/>
            <a:ext cx="2500200" cy="1727280"/>
          </a:xfrm>
          <a:prstGeom prst="wedgeRectCallout">
            <a:avLst>
              <a:gd name="adj1" fmla="val 62125"/>
              <a:gd name="adj2" fmla="val -6299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фектное дерево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90720" y="5040360"/>
            <a:ext cx="2880000" cy="1727280"/>
          </a:xfrm>
          <a:prstGeom prst="wedgeRectCallout">
            <a:avLst>
              <a:gd name="adj1" fmla="val 42393"/>
              <a:gd name="adj2" fmla="val -64064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исл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18320" y="5040360"/>
            <a:ext cx="2879640" cy="1727280"/>
          </a:xfrm>
          <a:prstGeom prst="wedgeRectCallout">
            <a:avLst>
              <a:gd name="adj1" fmla="val 32523"/>
              <a:gd name="adj2" fmla="val -62222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чение графика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…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44760" y="2725560"/>
            <a:ext cx="8161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Tahoma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54" idx="2"/>
            <a:endCxn id="258" idx="0"/>
          </p:cNvCxnSpPr>
          <p:nvPr/>
        </p:nvCxnSpPr>
        <p:spPr>
          <a:xfrm flipV="1" rot="10800000">
            <a:off x="2851920" y="2095200"/>
            <a:ext cx="1080" cy="63072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SURA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:: ProgR -&gt;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lass -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ubst,Restr)]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p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o@((cxs, cy), rs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cat (map f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ab p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n = (cxs, r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 ((cxs’,rs’),cy’)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cy:cxs, rs).^.(cy’:cxs’, rs’)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5+.3 XURA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имметричный УРА для случая неплоских язык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  <a:ea typeface="Tahoma"/>
              </a:rPr>
              <a:t>NTSG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  <a:ea typeface="Tahoma"/>
              </a:rPr>
              <a:t>— неплоский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  <a:ea typeface="Tahoma"/>
              </a:rPr>
              <a:t>TS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a2b [x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if (cons? x h t 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if (equ? h ’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B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(call a2b [t]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(call a2b [t])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 ]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f [x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x, (call a2b [x])]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  <a:ea typeface="Tahoma"/>
              </a:rPr>
              <a:t>Выполнение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  <a:ea typeface="Tahoma"/>
              </a:rPr>
              <a:t>NTSG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  <a:ea typeface="Tahoma"/>
              </a:rPr>
              <a:t>-программ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'A, 'B, 'B, 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'B, 'B, 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B: 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'B, 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B: 'B: 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B: 'B: 'B: 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B: 'B: 'B: 'B: 'C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B: 'B: 'B: 'B: 'C: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'B, 'B, 'B, 'B, '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81240" y="3191040"/>
            <a:ext cx="6551640" cy="350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●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●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'B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●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'B: 'C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●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'B: 'C: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XURA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: симметричный УРА для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неплоского язык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лоский язык </a:t>
            </a: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завершения вычисления может быть частично известен результ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озможность серьезно уменьш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spac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УРА и даже изменить свойства терминируе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им полноту и непротиворечив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иобретем, но улучшим терминиру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281240" y="3189240"/>
            <a:ext cx="6551640" cy="350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['A, 'B, 'B, 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['B, 'B, 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['B, 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['A, 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'B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['C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'B: 'C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(a2b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  <a:ea typeface="Tahoma"/>
              </a:rPr>
              <a:t>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ahoma"/>
              </a:rPr>
              <a:t>]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'B: 'B: 'B: 'B: 'C: 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648240" y="2567520"/>
            <a:ext cx="5292720" cy="2266560"/>
            <a:chOff x="3648240" y="2567520"/>
            <a:chExt cx="5292720" cy="2266560"/>
          </a:xfrm>
        </p:grpSpPr>
        <p:cxnSp>
          <p:nvCxnSpPr>
            <p:cNvPr id="289" name=""/>
            <p:cNvCxnSpPr>
              <a:stCxn id="290" idx="1"/>
              <a:endCxn id="291" idx="0"/>
            </p:cNvCxnSpPr>
            <p:nvPr/>
          </p:nvCxnSpPr>
          <p:spPr>
            <a:xfrm flipH="1" flipV="1" rot="10800000">
              <a:off x="4916880" y="2567520"/>
              <a:ext cx="191160" cy="832680"/>
            </a:xfrm>
            <a:prstGeom prst="curvedConnector5">
              <a:avLst>
                <a:gd name="adj1" fmla="val -120000"/>
                <a:gd name="adj2" fmla="val 32309"/>
                <a:gd name="adj3" fmla="val -120000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5013360" y="2752560"/>
              <a:ext cx="123660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95960" y="2728800"/>
              <a:ext cx="181476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0" idx="3"/>
              <a:endCxn id="295" idx="0"/>
            </p:cNvCxnSpPr>
            <p:nvPr/>
          </p:nvCxnSpPr>
          <p:spPr>
            <a:xfrm flipH="1">
              <a:off x="6821280" y="2568240"/>
              <a:ext cx="1891440" cy="1834200"/>
            </a:xfrm>
            <a:prstGeom prst="curvedConnector5">
              <a:avLst>
                <a:gd name="adj1" fmla="val -12088"/>
                <a:gd name="adj2" fmla="val 27915"/>
                <a:gd name="adj3" fmla="val -12088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3648240" y="3429000"/>
              <a:ext cx="2920680" cy="4316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[ ], restr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≠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35440" y="4402080"/>
              <a:ext cx="417060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restr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≠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14480" y="2588040"/>
            <a:ext cx="4081320" cy="2231640"/>
            <a:chOff x="114480" y="2588040"/>
            <a:chExt cx="4081320" cy="2231640"/>
          </a:xfrm>
        </p:grpSpPr>
        <p:cxnSp>
          <p:nvCxnSpPr>
            <p:cNvPr id="297" name=""/>
            <p:cNvCxnSpPr>
              <a:stCxn id="298" idx="1"/>
              <a:endCxn id="299" idx="0"/>
            </p:cNvCxnSpPr>
            <p:nvPr/>
          </p:nvCxnSpPr>
          <p:spPr>
            <a:xfrm flipH="1" flipV="1" rot="10800000">
              <a:off x="392760" y="2588040"/>
              <a:ext cx="719640" cy="1096200"/>
            </a:xfrm>
            <a:prstGeom prst="curvedConnector5">
              <a:avLst>
                <a:gd name="adj1" fmla="val -31781"/>
                <a:gd name="adj2" fmla="val 30551"/>
                <a:gd name="adj3" fmla="val -31781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00" name=""/>
            <p:cNvSpPr/>
            <p:nvPr/>
          </p:nvSpPr>
          <p:spPr>
            <a:xfrm>
              <a:off x="271440" y="2749680"/>
              <a:ext cx="1236600" cy="431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33560" y="2736720"/>
              <a:ext cx="181440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298" idx="3"/>
              <a:endCxn id="303" idx="0"/>
            </p:cNvCxnSpPr>
            <p:nvPr/>
          </p:nvCxnSpPr>
          <p:spPr>
            <a:xfrm flipH="1">
              <a:off x="2364840" y="2589120"/>
              <a:ext cx="1169280" cy="1799280"/>
            </a:xfrm>
            <a:prstGeom prst="curvedConnector5">
              <a:avLst>
                <a:gd name="adj1" fmla="val -19556"/>
                <a:gd name="adj2" fmla="val 27976"/>
                <a:gd name="adj3" fmla="val -19556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14480" y="3713040"/>
              <a:ext cx="1996920" cy="432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'B:[ ], restr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520" y="4387680"/>
              <a:ext cx="366228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'B: 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restr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1280" y="4603680"/>
            <a:ext cx="5115240" cy="2183040"/>
            <a:chOff x="71280" y="4603680"/>
            <a:chExt cx="5115240" cy="2183040"/>
          </a:xfrm>
        </p:grpSpPr>
        <p:cxnSp>
          <p:nvCxnSpPr>
            <p:cNvPr id="305" name=""/>
            <p:cNvCxnSpPr>
              <a:stCxn id="303" idx="3"/>
              <a:endCxn id="306" idx="0"/>
            </p:cNvCxnSpPr>
            <p:nvPr/>
          </p:nvCxnSpPr>
          <p:spPr>
            <a:xfrm flipH="1">
              <a:off x="3463200" y="4603680"/>
              <a:ext cx="732600" cy="1132560"/>
            </a:xfrm>
            <a:prstGeom prst="curvedConnector5">
              <a:avLst>
                <a:gd name="adj1" fmla="val -30973"/>
                <a:gd name="adj2" fmla="val 29729"/>
                <a:gd name="adj3" fmla="val -30973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303" idx="1"/>
              <a:endCxn id="308" idx="0"/>
            </p:cNvCxnSpPr>
            <p:nvPr/>
          </p:nvCxnSpPr>
          <p:spPr>
            <a:xfrm flipH="1" flipV="1" rot="10800000">
              <a:off x="533160" y="4603320"/>
              <a:ext cx="1156320" cy="1751760"/>
            </a:xfrm>
            <a:prstGeom prst="curvedConnector5">
              <a:avLst>
                <a:gd name="adj1" fmla="val -19775"/>
                <a:gd name="adj2" fmla="val 28098"/>
                <a:gd name="adj3" fmla="val -19775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09" name=""/>
            <p:cNvSpPr/>
            <p:nvPr/>
          </p:nvSpPr>
          <p:spPr>
            <a:xfrm>
              <a:off x="236520" y="4849920"/>
              <a:ext cx="2016000" cy="431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55920" y="4849920"/>
              <a:ext cx="779400" cy="431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280" y="6354720"/>
              <a:ext cx="323388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'B:'B: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restr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41320" y="5735520"/>
              <a:ext cx="344520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'B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19240" y="3083040"/>
            <a:ext cx="8704080" cy="1466640"/>
          </a:xfrm>
          <a:prstGeom prst="wedgeRectCallout">
            <a:avLst>
              <a:gd name="adj1" fmla="val -30504"/>
              <a:gd name="adj2" fmla="val 131708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~= (([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(a2b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 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ересечение пус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95480" y="776160"/>
            <a:ext cx="316692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2b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35120" y="563400"/>
            <a:ext cx="6253200" cy="1324080"/>
            <a:chOff x="735120" y="563400"/>
            <a:chExt cx="6253200" cy="1324080"/>
          </a:xfrm>
        </p:grpSpPr>
        <p:sp>
          <p:nvSpPr>
            <p:cNvPr id="314" name=""/>
            <p:cNvSpPr/>
            <p:nvPr/>
          </p:nvSpPr>
          <p:spPr>
            <a:xfrm>
              <a:off x="757080" y="1441440"/>
              <a:ext cx="1521000" cy="431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, restr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5120" y="563400"/>
              <a:ext cx="119196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13440" y="565200"/>
              <a:ext cx="1874880" cy="431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4480" y="1455840"/>
              <a:ext cx="3254400" cy="431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tr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8" name=""/>
            <p:cNvCxnSpPr>
              <a:stCxn id="312" idx="1"/>
              <a:endCxn id="314" idx="0"/>
            </p:cNvCxnSpPr>
            <p:nvPr/>
          </p:nvCxnSpPr>
          <p:spPr>
            <a:xfrm flipV="1" rot="10800000">
              <a:off x="1517040" y="991080"/>
              <a:ext cx="478440" cy="4215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2" idx="3"/>
              <a:endCxn id="317" idx="0"/>
            </p:cNvCxnSpPr>
            <p:nvPr/>
          </p:nvCxnSpPr>
          <p:spPr>
            <a:xfrm flipH="1">
              <a:off x="4981320" y="992160"/>
              <a:ext cx="181440" cy="464400"/>
            </a:xfrm>
            <a:prstGeom prst="curvedConnector5">
              <a:avLst>
                <a:gd name="adj1" fmla="val -125248"/>
                <a:gd name="adj2" fmla="val 36617"/>
                <a:gd name="adj3" fmla="val -125248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grpSp>
        <p:nvGrpSpPr>
          <p:cNvPr id="320" name=""/>
          <p:cNvGrpSpPr/>
          <p:nvPr/>
        </p:nvGrpSpPr>
        <p:grpSpPr>
          <a:xfrm>
            <a:off x="393840" y="1671480"/>
            <a:ext cx="8318520" cy="1133640"/>
            <a:chOff x="393840" y="1671480"/>
            <a:chExt cx="8318520" cy="1133640"/>
          </a:xfrm>
        </p:grpSpPr>
        <p:cxnSp>
          <p:nvCxnSpPr>
            <p:cNvPr id="321" name=""/>
            <p:cNvCxnSpPr>
              <a:stCxn id="317" idx="1"/>
              <a:endCxn id="298" idx="0"/>
            </p:cNvCxnSpPr>
            <p:nvPr/>
          </p:nvCxnSpPr>
          <p:spPr>
            <a:xfrm flipV="1" rot="10800000">
              <a:off x="1963080" y="1671120"/>
              <a:ext cx="1391040" cy="70272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22" name=""/>
            <p:cNvSpPr/>
            <p:nvPr/>
          </p:nvSpPr>
          <p:spPr>
            <a:xfrm>
              <a:off x="2363760" y="1916280"/>
              <a:ext cx="1763640" cy="431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35680" y="1868400"/>
              <a:ext cx="77940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"/>
            <p:cNvCxnSpPr>
              <a:stCxn id="317" idx="3"/>
              <a:endCxn id="290" idx="0"/>
            </p:cNvCxnSpPr>
            <p:nvPr/>
          </p:nvCxnSpPr>
          <p:spPr>
            <a:xfrm>
              <a:off x="6608520" y="1671480"/>
              <a:ext cx="207000" cy="68184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298" name=""/>
            <p:cNvSpPr/>
            <p:nvPr/>
          </p:nvSpPr>
          <p:spPr>
            <a:xfrm>
              <a:off x="393840" y="2373480"/>
              <a:ext cx="3139920" cy="431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'B: 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restr[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17960" y="2352600"/>
              <a:ext cx="379440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restr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≠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082520" y="0"/>
            <a:ext cx="852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1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 a2b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[ ]), restr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807000" y="722304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125960" y="4618080"/>
            <a:ext cx="5006880" cy="2182680"/>
            <a:chOff x="4125960" y="4618080"/>
            <a:chExt cx="5006880" cy="2182680"/>
          </a:xfrm>
        </p:grpSpPr>
        <p:cxnSp>
          <p:nvCxnSpPr>
            <p:cNvPr id="328" name=""/>
            <p:cNvCxnSpPr>
              <a:stCxn id="295" idx="3"/>
              <a:endCxn id="329" idx="0"/>
            </p:cNvCxnSpPr>
            <p:nvPr/>
          </p:nvCxnSpPr>
          <p:spPr>
            <a:xfrm flipH="1">
              <a:off x="7343280" y="4618080"/>
              <a:ext cx="1563120" cy="1132560"/>
            </a:xfrm>
            <a:prstGeom prst="curvedConnector5">
              <a:avLst>
                <a:gd name="adj1" fmla="val -14512"/>
                <a:gd name="adj2" fmla="val 29729"/>
                <a:gd name="adj3" fmla="val -14512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295" idx="1"/>
              <a:endCxn id="331" idx="0"/>
            </p:cNvCxnSpPr>
            <p:nvPr/>
          </p:nvCxnSpPr>
          <p:spPr>
            <a:xfrm flipH="1" flipV="1" rot="10800000">
              <a:off x="4734360" y="4617720"/>
              <a:ext cx="864360" cy="1751760"/>
            </a:xfrm>
            <a:prstGeom prst="curvedConnector5">
              <a:avLst>
                <a:gd name="adj1" fmla="val -26458"/>
                <a:gd name="adj2" fmla="val 28098"/>
                <a:gd name="adj3" fmla="val -26458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32" name=""/>
            <p:cNvSpPr/>
            <p:nvPr/>
          </p:nvSpPr>
          <p:spPr>
            <a:xfrm>
              <a:off x="4824360" y="4913280"/>
              <a:ext cx="201600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10600" y="4851360"/>
              <a:ext cx="77940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5960" y="6369120"/>
              <a:ext cx="2946240" cy="431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'B: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40280" y="5749920"/>
              <a:ext cx="3006720" cy="431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(a2b 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)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443320" y="4962600"/>
            <a:ext cx="6535440" cy="923760"/>
          </a:xfrm>
          <a:prstGeom prst="borderCallout2">
            <a:avLst>
              <a:gd name="adj1" fmla="val 18750"/>
              <a:gd name="adj2" fmla="val -8333"/>
              <a:gd name="adj3" fmla="val 12370"/>
              <a:gd name="adj4" fmla="val -10907"/>
              <a:gd name="adj5" fmla="val -88662"/>
              <a:gd name="adj6" fmla="val -2115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[ ])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[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760" y="511200"/>
            <a:ext cx="6050160" cy="923760"/>
          </a:xfrm>
          <a:prstGeom prst="borderCallout2">
            <a:avLst>
              <a:gd name="adj1" fmla="val 18750"/>
              <a:gd name="adj2" fmla="val -8333"/>
              <a:gd name="adj3" fmla="val 12370"/>
              <a:gd name="adj4" fmla="val 101388"/>
              <a:gd name="adj5" fmla="val 315120"/>
              <a:gd name="adj6" fmla="val 105851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[ ]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B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14480" y="6311880"/>
            <a:ext cx="3139920" cy="501840"/>
            <a:chOff x="114480" y="6311880"/>
            <a:chExt cx="3139920" cy="501840"/>
          </a:xfrm>
        </p:grpSpPr>
        <p:sp>
          <p:nvSpPr>
            <p:cNvPr id="337" name=""/>
            <p:cNvSpPr/>
            <p:nvPr/>
          </p:nvSpPr>
          <p:spPr>
            <a:xfrm>
              <a:off x="114480" y="6311880"/>
              <a:ext cx="3138480" cy="501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15920" y="6311880"/>
              <a:ext cx="3138480" cy="501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751040" y="5680080"/>
            <a:ext cx="3376080" cy="501480"/>
            <a:chOff x="1751040" y="5680080"/>
            <a:chExt cx="3376080" cy="501480"/>
          </a:xfrm>
        </p:grpSpPr>
        <p:sp>
          <p:nvSpPr>
            <p:cNvPr id="340" name=""/>
            <p:cNvSpPr/>
            <p:nvPr/>
          </p:nvSpPr>
          <p:spPr>
            <a:xfrm>
              <a:off x="1751040" y="5680080"/>
              <a:ext cx="3374640" cy="501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752480" y="5680080"/>
              <a:ext cx="3374640" cy="501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67560" y="5713560"/>
            <a:ext cx="3115800" cy="501480"/>
            <a:chOff x="5767560" y="5713560"/>
            <a:chExt cx="3115800" cy="501480"/>
          </a:xfrm>
        </p:grpSpPr>
        <p:sp>
          <p:nvSpPr>
            <p:cNvPr id="343" name=""/>
            <p:cNvSpPr/>
            <p:nvPr/>
          </p:nvSpPr>
          <p:spPr>
            <a:xfrm>
              <a:off x="5767560" y="5713560"/>
              <a:ext cx="3114720" cy="501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768640" y="5713560"/>
              <a:ext cx="3114720" cy="501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075200" y="6311880"/>
            <a:ext cx="3060360" cy="501840"/>
            <a:chOff x="4075200" y="6311880"/>
            <a:chExt cx="3060360" cy="501840"/>
          </a:xfrm>
        </p:grpSpPr>
        <p:sp>
          <p:nvSpPr>
            <p:cNvPr id="346" name=""/>
            <p:cNvSpPr/>
            <p:nvPr/>
          </p:nvSpPr>
          <p:spPr>
            <a:xfrm>
              <a:off x="4075200" y="6311880"/>
              <a:ext cx="3059280" cy="501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076280" y="6311880"/>
              <a:ext cx="3059280" cy="501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980400" y="1004760"/>
            <a:ext cx="2158920" cy="507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: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r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2240" y="3895560"/>
            <a:ext cx="8704080" cy="1467000"/>
          </a:xfrm>
          <a:prstGeom prst="wedgeRectCallout">
            <a:avLst>
              <a:gd name="adj1" fmla="val -41666"/>
              <a:gd name="adj2" fmla="val 11861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~= ((['A: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'B:(a2b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), restr[ 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'A: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'B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), restr[ 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 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ересечение пус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2828880"/>
            <a:ext cx="6535800" cy="924120"/>
          </a:xfrm>
          <a:prstGeom prst="borderCallout2">
            <a:avLst>
              <a:gd name="adj1" fmla="val 18750"/>
              <a:gd name="adj2" fmla="val -8333"/>
              <a:gd name="adj3" fmla="val 12370"/>
              <a:gd name="adj4" fmla="val -10736"/>
              <a:gd name="adj5" fmla="val -105842"/>
              <a:gd name="adj6" fmla="val -2081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[ ])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[ 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ересечение пус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8760" y="3540240"/>
            <a:ext cx="8331120" cy="1466640"/>
          </a:xfrm>
          <a:prstGeom prst="wedgeRectCallout">
            <a:avLst>
              <a:gd name="adj1" fmla="val 16444"/>
              <a:gd name="adj2" fmla="val 14177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~= (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'B:(a2b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'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 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ересечение пус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9560" y="2948040"/>
            <a:ext cx="8331480" cy="1466640"/>
          </a:xfrm>
          <a:prstGeom prst="wedgeRectCallout">
            <a:avLst>
              <a:gd name="adj1" fmla="val 16444"/>
              <a:gd name="adj2" fmla="val 14177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~= (([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(a2b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(['A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'B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restr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≠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 ]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ересечение пус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1840" y="528480"/>
            <a:ext cx="2158920" cy="50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(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A: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r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Отсечение бесперспективных поддеревье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1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заказ на инверсное вычислен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(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у текущей верш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 достижим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ац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ппроксимац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o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skel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, если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^.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[ 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текущую вершину можно удалить из дерева (с соответствующим поддерев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937200" y="1770120"/>
            <a:ext cx="2055960" cy="1603440"/>
            <a:chOff x="6937200" y="1770120"/>
            <a:chExt cx="2055960" cy="1603440"/>
          </a:xfrm>
        </p:grpSpPr>
        <p:sp>
          <p:nvSpPr>
            <p:cNvPr id="357" name=""/>
            <p:cNvSpPr/>
            <p:nvPr/>
          </p:nvSpPr>
          <p:spPr>
            <a:xfrm>
              <a:off x="7448400" y="1770120"/>
              <a:ext cx="103356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16480" y="2941920"/>
              <a:ext cx="169560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(c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r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>
              <a:stCxn id="357" idx="2"/>
              <a:endCxn id="358" idx="0"/>
            </p:cNvCxnSpPr>
            <p:nvPr/>
          </p:nvCxnSpPr>
          <p:spPr>
            <a:xfrm rot="5400000">
              <a:off x="7608600" y="2585520"/>
              <a:ext cx="712080" cy="2160"/>
            </a:xfrm>
            <a:prstGeom prst="curvedConnector5">
              <a:avLst>
                <a:gd name="adj1" fmla="val 47951"/>
                <a:gd name="adj2" fmla="val 40000"/>
                <a:gd name="adj3" fmla="val 47951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360" name=""/>
            <p:cNvGrpSpPr/>
            <p:nvPr/>
          </p:nvGrpSpPr>
          <p:grpSpPr>
            <a:xfrm>
              <a:off x="6937200" y="2352960"/>
              <a:ext cx="2055960" cy="433440"/>
              <a:chOff x="6937200" y="2352960"/>
              <a:chExt cx="2055960" cy="433440"/>
            </a:xfrm>
          </p:grpSpPr>
          <p:sp>
            <p:nvSpPr>
              <p:cNvPr id="361" name=""/>
              <p:cNvSpPr/>
              <p:nvPr/>
            </p:nvSpPr>
            <p:spPr>
              <a:xfrm>
                <a:off x="6937200" y="2352960"/>
                <a:ext cx="6462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46960" y="2354400"/>
                <a:ext cx="64620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63" name=""/>
            <p:cNvCxnSpPr>
              <a:stCxn id="357" idx="3"/>
              <a:endCxn id="362" idx="0"/>
            </p:cNvCxnSpPr>
            <p:nvPr/>
          </p:nvCxnSpPr>
          <p:spPr>
            <a:xfrm>
              <a:off x="8510040" y="1985760"/>
              <a:ext cx="160920" cy="36900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7" idx="1"/>
              <a:endCxn id="361" idx="0"/>
            </p:cNvCxnSpPr>
            <p:nvPr/>
          </p:nvCxnSpPr>
          <p:spPr>
            <a:xfrm flipV="1" rot="10800000">
              <a:off x="7260480" y="1985040"/>
              <a:ext cx="159120" cy="3675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365" name=""/>
          <p:cNvSpPr/>
          <p:nvPr/>
        </p:nvSpPr>
        <p:spPr>
          <a:xfrm>
            <a:off x="7448400" y="4998960"/>
            <a:ext cx="103356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16840" y="6170760"/>
            <a:ext cx="169524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65" idx="2"/>
            <a:endCxn id="366" idx="0"/>
          </p:cNvCxnSpPr>
          <p:nvPr/>
        </p:nvCxnSpPr>
        <p:spPr>
          <a:xfrm rot="5400000">
            <a:off x="7608960" y="5814360"/>
            <a:ext cx="712080" cy="2160"/>
          </a:xfrm>
          <a:prstGeom prst="curvedConnector5">
            <a:avLst>
              <a:gd name="adj1" fmla="val 47951"/>
              <a:gd name="adj2" fmla="val 40000"/>
              <a:gd name="adj3" fmla="val 47951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grpSp>
        <p:nvGrpSpPr>
          <p:cNvPr id="368" name=""/>
          <p:cNvGrpSpPr/>
          <p:nvPr/>
        </p:nvGrpSpPr>
        <p:grpSpPr>
          <a:xfrm>
            <a:off x="6937200" y="5581800"/>
            <a:ext cx="2055960" cy="432720"/>
            <a:chOff x="6937200" y="5581800"/>
            <a:chExt cx="2055960" cy="432720"/>
          </a:xfrm>
        </p:grpSpPr>
        <p:sp>
          <p:nvSpPr>
            <p:cNvPr id="369" name=""/>
            <p:cNvSpPr/>
            <p:nvPr/>
          </p:nvSpPr>
          <p:spPr>
            <a:xfrm>
              <a:off x="6937200" y="5581800"/>
              <a:ext cx="646200" cy="43128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46960" y="5582880"/>
              <a:ext cx="64620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1" name=""/>
          <p:cNvCxnSpPr>
            <a:stCxn id="365" idx="3"/>
            <a:endCxn id="370" idx="0"/>
          </p:cNvCxnSpPr>
          <p:nvPr/>
        </p:nvCxnSpPr>
        <p:spPr>
          <a:xfrm>
            <a:off x="8510400" y="5214600"/>
            <a:ext cx="160920" cy="36900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65" idx="1"/>
            <a:endCxn id="369" idx="0"/>
          </p:cNvCxnSpPr>
          <p:nvPr/>
        </p:nvCxnSpPr>
        <p:spPr>
          <a:xfrm flipV="1" rot="10800000">
            <a:off x="7260480" y="5213880"/>
            <a:ext cx="159480" cy="36756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7642080" y="3429000"/>
            <a:ext cx="644760" cy="1436760"/>
          </a:xfrm>
          <a:prstGeom prst="downArrow">
            <a:avLst>
              <a:gd name="adj1" fmla="val 50000"/>
              <a:gd name="adj2" fmla="val 55709"/>
            </a:avLst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056360" y="6130800"/>
            <a:ext cx="1852560" cy="501840"/>
            <a:chOff x="7056360" y="6130800"/>
            <a:chExt cx="1852560" cy="501840"/>
          </a:xfrm>
        </p:grpSpPr>
        <p:sp>
          <p:nvSpPr>
            <p:cNvPr id="375" name=""/>
            <p:cNvSpPr/>
            <p:nvPr/>
          </p:nvSpPr>
          <p:spPr>
            <a:xfrm>
              <a:off x="7056360" y="6130800"/>
              <a:ext cx="1851840" cy="501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057080" y="6130800"/>
              <a:ext cx="1851840" cy="5018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4600" y="455400"/>
            <a:ext cx="5430960" cy="6111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5+.1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MGU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и пересечение классов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Небольшое дополнение к средствам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S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638600" y="5661000"/>
            <a:ext cx="32385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3433"/>
                </a:moveTo>
                <a:lnTo>
                  <a:pt x="27424" y="3433"/>
                </a:lnTo>
                <a:lnTo>
                  <a:pt x="27424" y="-27656"/>
                </a:lnTo>
                <a:lnTo>
                  <a:pt x="24258" y="-58792"/>
                </a:lnTo>
              </a:path>
            </a:pathLst>
          </a:custGeom>
          <a:solidFill>
            <a:srgbClr val="ffff99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(a2b [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)]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38600" y="4797360"/>
            <a:ext cx="32385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3433"/>
                </a:moveTo>
                <a:lnTo>
                  <a:pt x="24639" y="3433"/>
                </a:lnTo>
                <a:lnTo>
                  <a:pt x="24639" y="-14972"/>
                </a:lnTo>
                <a:lnTo>
                  <a:pt x="11986" y="-33425"/>
                </a:lnTo>
              </a:path>
            </a:pathLst>
          </a:custGeom>
          <a:solidFill>
            <a:srgbClr val="ffff99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A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'B:(a2b [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)]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4797360"/>
            <a:ext cx="32385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3433"/>
                </a:moveTo>
                <a:lnTo>
                  <a:pt x="26079" y="3433"/>
                </a:lnTo>
                <a:lnTo>
                  <a:pt x="26079" y="-14925"/>
                </a:lnTo>
                <a:lnTo>
                  <a:pt x="16751" y="-33330"/>
                </a:lnTo>
              </a:path>
            </a:pathLst>
          </a:custGeom>
          <a:solidFill>
            <a:srgbClr val="ffff99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['A,'A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'B:'B:(a2b [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)]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320" y="5661000"/>
            <a:ext cx="32385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3433"/>
                </a:moveTo>
                <a:lnTo>
                  <a:pt x="29838" y="3433"/>
                </a:lnTo>
                <a:lnTo>
                  <a:pt x="29838" y="-15306"/>
                </a:lnTo>
                <a:lnTo>
                  <a:pt x="28959" y="-56694"/>
                </a:lnTo>
              </a:path>
            </a:pathLst>
          </a:custGeom>
          <a:solidFill>
            <a:srgbClr val="ffff99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['A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'B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(a2b [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)]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320" y="4794120"/>
            <a:ext cx="4165560" cy="1730520"/>
          </a:xfrm>
          <a:prstGeom prst="wedgeRectCallout">
            <a:avLst>
              <a:gd name="adj1" fmla="val 86166"/>
              <a:gd name="adj2" fmla="val -69083"/>
            </a:avLst>
          </a:prstGeom>
          <a:solidFill>
            <a:srgbClr val="ff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A,'A],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B,'B]]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реш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920" y="4797360"/>
            <a:ext cx="4165560" cy="1730520"/>
          </a:xfrm>
          <a:prstGeom prst="wedgeRectCallout">
            <a:avLst>
              <a:gd name="adj1" fmla="val 109490"/>
              <a:gd name="adj2" fmla="val -68439"/>
            </a:avLst>
          </a:prstGeom>
          <a:solidFill>
            <a:srgbClr val="ff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A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B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реш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920" y="4797360"/>
            <a:ext cx="4165560" cy="1730520"/>
          </a:xfrm>
          <a:prstGeom prst="wedgeRectCallout">
            <a:avLst>
              <a:gd name="adj1" fmla="val 133611"/>
              <a:gd name="adj2" fmla="val -68439"/>
            </a:avLst>
          </a:prstGeom>
          <a:solidFill>
            <a:srgbClr val="ff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A],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B]]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реш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920" y="4797360"/>
            <a:ext cx="4165560" cy="1730520"/>
          </a:xfrm>
          <a:prstGeom prst="wedgeRectCallout">
            <a:avLst>
              <a:gd name="adj1" fmla="val 157736"/>
              <a:gd name="adj2" fmla="val -66421"/>
            </a:avLst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41880" y="4794120"/>
            <a:ext cx="4746600" cy="1730520"/>
          </a:xfrm>
          <a:prstGeom prst="wedgeRectCallout">
            <a:avLst>
              <a:gd name="adj1" fmla="val -94148"/>
              <a:gd name="adj2" fmla="val -69726"/>
            </a:avLst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'A,'A,'A],['B,'B,'B]],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4797360"/>
            <a:ext cx="4746600" cy="1730520"/>
          </a:xfrm>
          <a:prstGeom prst="wedgeRectCallout">
            <a:avLst>
              <a:gd name="adj1" fmla="val -72976"/>
              <a:gd name="adj2" fmla="val -69726"/>
            </a:avLst>
          </a:prstGeom>
          <a:solidFill>
            <a:srgbClr val="ff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'A,'A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['B,'B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,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реш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08400" y="4797360"/>
            <a:ext cx="4746600" cy="1730520"/>
          </a:xfrm>
          <a:prstGeom prst="wedgeRectCallout">
            <a:avLst>
              <a:gd name="adj1" fmla="val -53712"/>
              <a:gd name="adj2" fmla="val -69083"/>
            </a:avLst>
          </a:prstGeom>
          <a:solidFill>
            <a:srgbClr val="ff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'A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A],['B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'B]],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реш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1640" y="4797360"/>
            <a:ext cx="4746600" cy="1730520"/>
          </a:xfrm>
          <a:prstGeom prst="wedgeRectCallout">
            <a:avLst>
              <a:gd name="adj1" fmla="val -33513"/>
              <a:gd name="adj2" fmla="val -68439"/>
            </a:avLst>
          </a:prstGeom>
          <a:solidFill>
            <a:srgbClr val="ff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'A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['B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реш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38600" y="3930480"/>
            <a:ext cx="32385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3433"/>
                </a:moveTo>
                <a:lnTo>
                  <a:pt x="22754" y="3433"/>
                </a:lnTo>
                <a:lnTo>
                  <a:pt x="22754" y="-12779"/>
                </a:lnTo>
                <a:lnTo>
                  <a:pt x="18752" y="-28991"/>
                </a:lnTo>
              </a:path>
            </a:pathLst>
          </a:custGeom>
          <a:solidFill>
            <a:srgbClr val="ffff99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(a2b [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)]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320" y="3930480"/>
            <a:ext cx="32385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3433"/>
                </a:moveTo>
                <a:lnTo>
                  <a:pt x="26079" y="3433"/>
                </a:lnTo>
                <a:lnTo>
                  <a:pt x="26079" y="-12540"/>
                </a:lnTo>
                <a:lnTo>
                  <a:pt x="23008" y="-28562"/>
                </a:lnTo>
              </a:path>
            </a:pathLst>
          </a:custGeom>
          <a:solidFill>
            <a:srgbClr val="ffff99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['A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'B:(a2b [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)]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79880" y="965160"/>
            <a:ext cx="341460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44600" y="1774800"/>
            <a:ext cx="528660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(a2b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92" idx="1"/>
            <a:endCxn id="394" idx="0"/>
          </p:cNvCxnSpPr>
          <p:nvPr/>
        </p:nvCxnSpPr>
        <p:spPr>
          <a:xfrm flipH="1" flipV="1" rot="10800000">
            <a:off x="2243520" y="1989720"/>
            <a:ext cx="1283400" cy="585000"/>
          </a:xfrm>
          <a:prstGeom prst="curvedConnector5">
            <a:avLst>
              <a:gd name="adj1" fmla="val -17817"/>
              <a:gd name="adj2" fmla="val 34236"/>
              <a:gd name="adj3" fmla="val -17817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91" idx="2"/>
            <a:endCxn id="392" idx="0"/>
          </p:cNvCxnSpPr>
          <p:nvPr/>
        </p:nvCxnSpPr>
        <p:spPr>
          <a:xfrm flipV="1" rot="10800000">
            <a:off x="4887360" y="1396800"/>
            <a:ext cx="1080" cy="37836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314280" y="1774800"/>
            <a:ext cx="16747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12000" y="1774800"/>
            <a:ext cx="5875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2" idx="3"/>
            <a:endCxn id="399" idx="0"/>
          </p:cNvCxnSpPr>
          <p:nvPr/>
        </p:nvCxnSpPr>
        <p:spPr>
          <a:xfrm flipH="1">
            <a:off x="7309800" y="1990440"/>
            <a:ext cx="221400" cy="585000"/>
          </a:xfrm>
          <a:prstGeom prst="curvedConnector5">
            <a:avLst>
              <a:gd name="adj1" fmla="val -103583"/>
              <a:gd name="adj2" fmla="val 34236"/>
              <a:gd name="adj3" fmla="val -103583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043000" y="0"/>
            <a:ext cx="704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 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,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['B,'B,'B]]), restr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3807000" y="722304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394" idx="1"/>
            <a:endCxn id="403" idx="0"/>
          </p:cNvCxnSpPr>
          <p:nvPr/>
        </p:nvCxnSpPr>
        <p:spPr>
          <a:xfrm flipV="1" rot="10800000">
            <a:off x="2496240" y="2789640"/>
            <a:ext cx="810360" cy="5374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endCxn id="405" idx="0"/>
          </p:cNvCxnSpPr>
          <p:nvPr/>
        </p:nvCxnSpPr>
        <p:spPr>
          <a:xfrm>
            <a:off x="3747600" y="2762280"/>
            <a:ext cx="715320" cy="5659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14280" y="2575080"/>
            <a:ext cx="16747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41880" y="2575080"/>
            <a:ext cx="5871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94200" y="2575080"/>
            <a:ext cx="5875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28160" y="2575080"/>
            <a:ext cx="5871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480520" y="407664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3120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188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3256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8324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07664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76640" y="3327480"/>
            <a:ext cx="44100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41880" y="33274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73920" y="33274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972560" y="33274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306600" y="25750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9840" y="25750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399" idx="1"/>
            <a:endCxn id="418" idx="0"/>
          </p:cNvCxnSpPr>
          <p:nvPr/>
        </p:nvCxnSpPr>
        <p:spPr>
          <a:xfrm flipV="1" rot="10800000">
            <a:off x="6293880" y="2789640"/>
            <a:ext cx="795960" cy="5374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399" idx="3"/>
            <a:endCxn id="419" idx="0"/>
          </p:cNvCxnSpPr>
          <p:nvPr/>
        </p:nvCxnSpPr>
        <p:spPr>
          <a:xfrm>
            <a:off x="7530840" y="2790360"/>
            <a:ext cx="662760" cy="5374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03" idx="1"/>
            <a:endCxn id="417" idx="0"/>
          </p:cNvCxnSpPr>
          <p:nvPr/>
        </p:nvCxnSpPr>
        <p:spPr>
          <a:xfrm flipV="1" rot="10800000">
            <a:off x="2055240" y="354312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5" idx="1"/>
            <a:endCxn id="415" idx="0"/>
          </p:cNvCxnSpPr>
          <p:nvPr/>
        </p:nvCxnSpPr>
        <p:spPr>
          <a:xfrm flipV="1" rot="10800000">
            <a:off x="3953880" y="3543120"/>
            <a:ext cx="2880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8" idx="1"/>
            <a:endCxn id="413" idx="0"/>
          </p:cNvCxnSpPr>
          <p:nvPr/>
        </p:nvCxnSpPr>
        <p:spPr>
          <a:xfrm flipV="1" rot="10800000">
            <a:off x="5852520" y="354312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19" idx="1"/>
            <a:endCxn id="411" idx="0"/>
          </p:cNvCxnSpPr>
          <p:nvPr/>
        </p:nvCxnSpPr>
        <p:spPr>
          <a:xfrm flipV="1" rot="10800000">
            <a:off x="7751160" y="354312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03" idx="3"/>
            <a:endCxn id="416" idx="0"/>
          </p:cNvCxnSpPr>
          <p:nvPr/>
        </p:nvCxnSpPr>
        <p:spPr>
          <a:xfrm>
            <a:off x="2717280" y="3543120"/>
            <a:ext cx="288360" cy="5338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05" idx="3"/>
            <a:endCxn id="414" idx="0"/>
          </p:cNvCxnSpPr>
          <p:nvPr/>
        </p:nvCxnSpPr>
        <p:spPr>
          <a:xfrm>
            <a:off x="4682880" y="354348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8" idx="3"/>
            <a:endCxn id="412" idx="0"/>
          </p:cNvCxnSpPr>
          <p:nvPr/>
        </p:nvCxnSpPr>
        <p:spPr>
          <a:xfrm>
            <a:off x="6515280" y="3543480"/>
            <a:ext cx="2880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19" idx="3"/>
            <a:endCxn id="410" idx="0"/>
          </p:cNvCxnSpPr>
          <p:nvPr/>
        </p:nvCxnSpPr>
        <p:spPr>
          <a:xfrm>
            <a:off x="8413920" y="3543120"/>
            <a:ext cx="288000" cy="5338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314280" y="3325680"/>
            <a:ext cx="16747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08360" y="3325680"/>
            <a:ext cx="5871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64240" y="3325680"/>
            <a:ext cx="5871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73440" y="3325680"/>
            <a:ext cx="4413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46880" y="3325680"/>
            <a:ext cx="44100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13560" y="3325680"/>
            <a:ext cx="5875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35800" y="3325680"/>
            <a:ext cx="4413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515440" y="3325680"/>
            <a:ext cx="5871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932360" y="4941720"/>
            <a:ext cx="4138560" cy="1800360"/>
          </a:xfrm>
          <a:prstGeom prst="wedgeRectCallout">
            <a:avLst>
              <a:gd name="adj1" fmla="val 41944"/>
              <a:gd name="adj2" fmla="val -74162"/>
            </a:avLst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6160" y="4941720"/>
            <a:ext cx="4138560" cy="1800360"/>
          </a:xfrm>
          <a:prstGeom prst="wedgeRectCallout">
            <a:avLst>
              <a:gd name="adj1" fmla="val -4888"/>
              <a:gd name="adj2" fmla="val -75046"/>
            </a:avLst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['A,'A,'A],['B,'B,'B]],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79880" y="965160"/>
            <a:ext cx="341460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244600" y="1774800"/>
            <a:ext cx="528660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(a2b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"/>
          <p:cNvCxnSpPr>
            <a:stCxn id="441" idx="1"/>
            <a:endCxn id="443" idx="0"/>
          </p:cNvCxnSpPr>
          <p:nvPr/>
        </p:nvCxnSpPr>
        <p:spPr>
          <a:xfrm flipH="1" flipV="1" rot="10800000">
            <a:off x="2243520" y="1989720"/>
            <a:ext cx="1283400" cy="585000"/>
          </a:xfrm>
          <a:prstGeom prst="curvedConnector5">
            <a:avLst>
              <a:gd name="adj1" fmla="val -17817"/>
              <a:gd name="adj2" fmla="val 34236"/>
              <a:gd name="adj3" fmla="val -17817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0" idx="2"/>
            <a:endCxn id="441" idx="0"/>
          </p:cNvCxnSpPr>
          <p:nvPr/>
        </p:nvCxnSpPr>
        <p:spPr>
          <a:xfrm flipV="1" rot="10800000">
            <a:off x="4887360" y="1396800"/>
            <a:ext cx="1080" cy="37836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314280" y="1774800"/>
            <a:ext cx="16747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12000" y="1774800"/>
            <a:ext cx="5875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"/>
          <p:cNvCxnSpPr>
            <a:stCxn id="441" idx="3"/>
            <a:endCxn id="448" idx="0"/>
          </p:cNvCxnSpPr>
          <p:nvPr/>
        </p:nvCxnSpPr>
        <p:spPr>
          <a:xfrm flipH="1">
            <a:off x="7309800" y="1990440"/>
            <a:ext cx="221400" cy="585000"/>
          </a:xfrm>
          <a:prstGeom prst="curvedConnector5">
            <a:avLst>
              <a:gd name="adj1" fmla="val -103583"/>
              <a:gd name="adj2" fmla="val 34236"/>
              <a:gd name="adj3" fmla="val -103583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043000" y="0"/>
            <a:ext cx="704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 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,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['B,'B,'B]]), restr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807000" y="722304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3" idx="1"/>
            <a:endCxn id="452" idx="0"/>
          </p:cNvCxnSpPr>
          <p:nvPr/>
        </p:nvCxnSpPr>
        <p:spPr>
          <a:xfrm flipV="1" rot="10800000">
            <a:off x="2496240" y="2789640"/>
            <a:ext cx="810360" cy="5374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endCxn id="454" idx="0"/>
          </p:cNvCxnSpPr>
          <p:nvPr/>
        </p:nvCxnSpPr>
        <p:spPr>
          <a:xfrm>
            <a:off x="3747600" y="2762280"/>
            <a:ext cx="715320" cy="5659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314280" y="2575080"/>
            <a:ext cx="16747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241880" y="2575080"/>
            <a:ext cx="5871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94200" y="2575080"/>
            <a:ext cx="5875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8160" y="2575080"/>
            <a:ext cx="5871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480520" y="407664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3120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8188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256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324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3392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84600" y="407664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35280" y="4065480"/>
            <a:ext cx="441360" cy="43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76640" y="3327480"/>
            <a:ext cx="44100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41880" y="33274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73920" y="33274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72560" y="33274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06600" y="25750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89840" y="2575080"/>
            <a:ext cx="441360" cy="43164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48" idx="1"/>
            <a:endCxn id="467" idx="0"/>
          </p:cNvCxnSpPr>
          <p:nvPr/>
        </p:nvCxnSpPr>
        <p:spPr>
          <a:xfrm flipV="1" rot="10800000">
            <a:off x="6293880" y="2789640"/>
            <a:ext cx="795960" cy="5374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48" idx="3"/>
            <a:endCxn id="468" idx="0"/>
          </p:cNvCxnSpPr>
          <p:nvPr/>
        </p:nvCxnSpPr>
        <p:spPr>
          <a:xfrm>
            <a:off x="7530840" y="2790360"/>
            <a:ext cx="662760" cy="5374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52" idx="1"/>
            <a:endCxn id="466" idx="0"/>
          </p:cNvCxnSpPr>
          <p:nvPr/>
        </p:nvCxnSpPr>
        <p:spPr>
          <a:xfrm flipV="1" rot="10800000">
            <a:off x="2055240" y="354312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54" idx="1"/>
            <a:endCxn id="464" idx="0"/>
          </p:cNvCxnSpPr>
          <p:nvPr/>
        </p:nvCxnSpPr>
        <p:spPr>
          <a:xfrm flipV="1" rot="10800000">
            <a:off x="3953880" y="3543120"/>
            <a:ext cx="2880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7" idx="1"/>
            <a:endCxn id="462" idx="0"/>
          </p:cNvCxnSpPr>
          <p:nvPr/>
        </p:nvCxnSpPr>
        <p:spPr>
          <a:xfrm flipV="1" rot="10800000">
            <a:off x="5852520" y="354312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68" idx="1"/>
            <a:endCxn id="460" idx="0"/>
          </p:cNvCxnSpPr>
          <p:nvPr/>
        </p:nvCxnSpPr>
        <p:spPr>
          <a:xfrm flipV="1" rot="10800000">
            <a:off x="7751160" y="354312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52" idx="3"/>
            <a:endCxn id="465" idx="0"/>
          </p:cNvCxnSpPr>
          <p:nvPr/>
        </p:nvCxnSpPr>
        <p:spPr>
          <a:xfrm>
            <a:off x="2717280" y="3543120"/>
            <a:ext cx="288360" cy="5338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54" idx="3"/>
            <a:endCxn id="463" idx="0"/>
          </p:cNvCxnSpPr>
          <p:nvPr/>
        </p:nvCxnSpPr>
        <p:spPr>
          <a:xfrm>
            <a:off x="4682880" y="3543480"/>
            <a:ext cx="2214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67" idx="3"/>
            <a:endCxn id="461" idx="0"/>
          </p:cNvCxnSpPr>
          <p:nvPr/>
        </p:nvCxnSpPr>
        <p:spPr>
          <a:xfrm>
            <a:off x="6515280" y="3543480"/>
            <a:ext cx="288000" cy="52272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68" idx="3"/>
            <a:endCxn id="459" idx="0"/>
          </p:cNvCxnSpPr>
          <p:nvPr/>
        </p:nvCxnSpPr>
        <p:spPr>
          <a:xfrm>
            <a:off x="8413920" y="3543120"/>
            <a:ext cx="288000" cy="53388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314280" y="3325680"/>
            <a:ext cx="16747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08360" y="3325680"/>
            <a:ext cx="5871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64240" y="3325680"/>
            <a:ext cx="5871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73440" y="3325680"/>
            <a:ext cx="4413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46880" y="3325680"/>
            <a:ext cx="44100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13560" y="3325680"/>
            <a:ext cx="58752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435800" y="3325680"/>
            <a:ext cx="4413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515440" y="3325680"/>
            <a:ext cx="5871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6840" y="4797360"/>
            <a:ext cx="8939160" cy="1944720"/>
          </a:xfrm>
          <a:prstGeom prst="wedgeRectCallout">
            <a:avLst>
              <a:gd name="adj1" fmla="val -22597"/>
              <a:gd name="adj2" fmla="val -183222"/>
            </a:avLst>
          </a:prstGeom>
          <a:solidFill>
            <a:srgbClr val="cc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(a2b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[])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,restr[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,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restr[]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,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['B,'B,'B]]), restr[])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^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[(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['B,'B,'B]],restr[]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70280" y="965160"/>
            <a:ext cx="341460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, 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35000" y="1774800"/>
            <a:ext cx="528660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(a2b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]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"/>
          <p:cNvCxnSpPr>
            <a:stCxn id="488" idx="2"/>
            <a:endCxn id="489" idx="0"/>
          </p:cNvCxnSpPr>
          <p:nvPr/>
        </p:nvCxnSpPr>
        <p:spPr>
          <a:xfrm flipV="1" rot="10800000">
            <a:off x="4577760" y="1396800"/>
            <a:ext cx="1080" cy="378360"/>
          </a:xfrm>
          <a:prstGeom prst="curvedConnector2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043000" y="0"/>
            <a:ext cx="704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 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,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['B,'B,'B]]), restr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-3807000" y="722304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'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19160" y="2565360"/>
            <a:ext cx="5316840" cy="4320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,(a2b [[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)]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89" idx="2"/>
            <a:endCxn id="493" idx="0"/>
          </p:cNvCxnSpPr>
          <p:nvPr/>
        </p:nvCxnSpPr>
        <p:spPr>
          <a:xfrm flipV="1" rot="10800000">
            <a:off x="4577760" y="2206800"/>
            <a:ext cx="1080" cy="358920"/>
          </a:xfrm>
          <a:prstGeom prst="curvedConnector2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4559400" y="2168640"/>
            <a:ext cx="418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([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restr[]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4920" y="2565360"/>
            <a:ext cx="9074160" cy="1079640"/>
            <a:chOff x="34920" y="2565360"/>
            <a:chExt cx="9074160" cy="1079640"/>
          </a:xfrm>
        </p:grpSpPr>
        <p:cxnSp>
          <p:nvCxnSpPr>
            <p:cNvPr id="497" name=""/>
            <p:cNvCxnSpPr>
              <a:stCxn id="493" idx="1"/>
              <a:endCxn id="498" idx="0"/>
            </p:cNvCxnSpPr>
            <p:nvPr/>
          </p:nvCxnSpPr>
          <p:spPr>
            <a:xfrm flipH="1" flipV="1" rot="10800000">
              <a:off x="1918080" y="2780280"/>
              <a:ext cx="296280" cy="432360"/>
            </a:xfrm>
            <a:prstGeom prst="curvedConnector5">
              <a:avLst>
                <a:gd name="adj1" fmla="val -77372"/>
                <a:gd name="adj2" fmla="val 37500"/>
                <a:gd name="adj3" fmla="val -77372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499" name=""/>
            <p:cNvSpPr/>
            <p:nvPr/>
          </p:nvSpPr>
          <p:spPr>
            <a:xfrm>
              <a:off x="34920" y="2565360"/>
              <a:ext cx="167472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[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→'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93" idx="3"/>
              <a:endCxn id="501" idx="0"/>
            </p:cNvCxnSpPr>
            <p:nvPr/>
          </p:nvCxnSpPr>
          <p:spPr>
            <a:xfrm flipH="1">
              <a:off x="6839640" y="2781000"/>
              <a:ext cx="396360" cy="432360"/>
            </a:xfrm>
            <a:prstGeom prst="curvedConnector5">
              <a:avLst>
                <a:gd name="adj1" fmla="val -57363"/>
                <a:gd name="adj2" fmla="val 37500"/>
                <a:gd name="adj3" fmla="val -57363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7451640" y="2565360"/>
              <a:ext cx="587520" cy="432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280" y="3213000"/>
              <a:ext cx="428472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'A,'A,'A],(a2b [['A,'A,'A]])]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tr[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0" y="3213000"/>
              <a:ext cx="453708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,(a2b 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])],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‘A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1280" y="3644640"/>
            <a:ext cx="4284720" cy="2592720"/>
            <a:chOff x="71280" y="3644640"/>
            <a:chExt cx="4284720" cy="2592720"/>
          </a:xfrm>
        </p:grpSpPr>
        <p:sp>
          <p:nvSpPr>
            <p:cNvPr id="504" name=""/>
            <p:cNvSpPr/>
            <p:nvPr/>
          </p:nvSpPr>
          <p:spPr>
            <a:xfrm>
              <a:off x="71280" y="5157720"/>
              <a:ext cx="428472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'A,'A,'A],'B:'B:'B:(a2b [[]])]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tr[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280" y="5805360"/>
              <a:ext cx="4284720" cy="4320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'A,'A,'A], ['B:'B:'B:]]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tr[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6" name=""/>
            <p:cNvCxnSpPr>
              <a:stCxn id="507" idx="2"/>
              <a:endCxn id="508" idx="0"/>
            </p:cNvCxnSpPr>
            <p:nvPr/>
          </p:nvCxnSpPr>
          <p:spPr>
            <a:xfrm flipV="1" rot="10800000">
              <a:off x="2214000" y="4292280"/>
              <a:ext cx="1080" cy="21672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508" idx="2"/>
              <a:endCxn id="504" idx="0"/>
            </p:cNvCxnSpPr>
            <p:nvPr/>
          </p:nvCxnSpPr>
          <p:spPr>
            <a:xfrm flipV="1" rot="10800000">
              <a:off x="2214000" y="4939920"/>
              <a:ext cx="1080" cy="2181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4" idx="2"/>
              <a:endCxn id="505" idx="0"/>
            </p:cNvCxnSpPr>
            <p:nvPr/>
          </p:nvCxnSpPr>
          <p:spPr>
            <a:xfrm flipV="1" rot="10800000">
              <a:off x="2214000" y="5589360"/>
              <a:ext cx="1080" cy="2163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08" name=""/>
            <p:cNvSpPr/>
            <p:nvPr/>
          </p:nvSpPr>
          <p:spPr>
            <a:xfrm>
              <a:off x="71280" y="4508640"/>
              <a:ext cx="428472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'A,'A,'A],'B:'B:(a2b [['A]])]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tr[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280" y="3860640"/>
              <a:ext cx="428472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'A,'A,'A],'B:(a2b [['A,'A]])]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tr[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"/>
            <p:cNvCxnSpPr>
              <a:stCxn id="498" idx="2"/>
              <a:endCxn id="507" idx="0"/>
            </p:cNvCxnSpPr>
            <p:nvPr/>
          </p:nvCxnSpPr>
          <p:spPr>
            <a:xfrm flipV="1" rot="10800000">
              <a:off x="2214000" y="3644640"/>
              <a:ext cx="1080" cy="2163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4572000" y="3644640"/>
            <a:ext cx="4537080" cy="2592720"/>
            <a:chOff x="4572000" y="3644640"/>
            <a:chExt cx="4537080" cy="2592720"/>
          </a:xfrm>
        </p:grpSpPr>
        <p:sp>
          <p:nvSpPr>
            <p:cNvPr id="513" name=""/>
            <p:cNvSpPr/>
            <p:nvPr/>
          </p:nvSpPr>
          <p:spPr>
            <a:xfrm>
              <a:off x="4572000" y="5157720"/>
              <a:ext cx="453708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(a2b [[]])],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‘A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72000" y="5805360"/>
              <a:ext cx="4537080" cy="4320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,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],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‘A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0" y="4508640"/>
              <a:ext cx="453708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,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(a2b 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])],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‘A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2000" y="3860640"/>
              <a:ext cx="453708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,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(a2b [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])],[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‘A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"/>
            <p:cNvCxnSpPr>
              <a:stCxn id="501" idx="2"/>
              <a:endCxn id="516" idx="0"/>
            </p:cNvCxnSpPr>
            <p:nvPr/>
          </p:nvCxnSpPr>
          <p:spPr>
            <a:xfrm flipV="1" rot="10800000">
              <a:off x="6839640" y="3644640"/>
              <a:ext cx="1080" cy="2163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6" idx="2"/>
              <a:endCxn id="515" idx="0"/>
            </p:cNvCxnSpPr>
            <p:nvPr/>
          </p:nvCxnSpPr>
          <p:spPr>
            <a:xfrm flipV="1" rot="10800000">
              <a:off x="6839640" y="4292280"/>
              <a:ext cx="1080" cy="21672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15" idx="2"/>
              <a:endCxn id="513" idx="0"/>
            </p:cNvCxnSpPr>
            <p:nvPr/>
          </p:nvCxnSpPr>
          <p:spPr>
            <a:xfrm flipV="1" rot="10800000">
              <a:off x="6839640" y="4939920"/>
              <a:ext cx="1080" cy="2181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13" idx="2"/>
              <a:endCxn id="514" idx="0"/>
            </p:cNvCxnSpPr>
            <p:nvPr/>
          </p:nvCxnSpPr>
          <p:spPr>
            <a:xfrm flipV="1" rot="10800000">
              <a:off x="6839640" y="5589360"/>
              <a:ext cx="1080" cy="2163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Backpropagatio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1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заказ на инверсное вычислен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(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у текущей верш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 достижим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ац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ппроксимац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o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skel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, есл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^.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[(s,rs)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к текущей вершине можно применить сужен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s,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996240" y="888840"/>
            <a:ext cx="2055240" cy="1603440"/>
            <a:chOff x="6996240" y="888840"/>
            <a:chExt cx="2055240" cy="1603440"/>
          </a:xfrm>
        </p:grpSpPr>
        <p:sp>
          <p:nvSpPr>
            <p:cNvPr id="524" name=""/>
            <p:cNvSpPr/>
            <p:nvPr/>
          </p:nvSpPr>
          <p:spPr>
            <a:xfrm>
              <a:off x="7507080" y="888840"/>
              <a:ext cx="103320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5160" y="2060640"/>
              <a:ext cx="169524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(c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r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6" name=""/>
            <p:cNvCxnSpPr>
              <a:stCxn id="524" idx="2"/>
              <a:endCxn id="525" idx="0"/>
            </p:cNvCxnSpPr>
            <p:nvPr/>
          </p:nvCxnSpPr>
          <p:spPr>
            <a:xfrm rot="5400000">
              <a:off x="7666920" y="1704240"/>
              <a:ext cx="712080" cy="1800"/>
            </a:xfrm>
            <a:prstGeom prst="curvedConnector5">
              <a:avLst>
                <a:gd name="adj1" fmla="val 47951"/>
                <a:gd name="adj2" fmla="val 50000"/>
                <a:gd name="adj3" fmla="val 47951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527" name=""/>
            <p:cNvGrpSpPr/>
            <p:nvPr/>
          </p:nvGrpSpPr>
          <p:grpSpPr>
            <a:xfrm>
              <a:off x="6996240" y="1471680"/>
              <a:ext cx="2055240" cy="433440"/>
              <a:chOff x="6996240" y="1471680"/>
              <a:chExt cx="2055240" cy="433440"/>
            </a:xfrm>
          </p:grpSpPr>
          <p:sp>
            <p:nvSpPr>
              <p:cNvPr id="528" name=""/>
              <p:cNvSpPr/>
              <p:nvPr/>
            </p:nvSpPr>
            <p:spPr>
              <a:xfrm>
                <a:off x="6996240" y="1471680"/>
                <a:ext cx="64584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405640" y="1473120"/>
                <a:ext cx="64584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30" name=""/>
            <p:cNvCxnSpPr>
              <a:stCxn id="524" idx="3"/>
              <a:endCxn id="529" idx="0"/>
            </p:cNvCxnSpPr>
            <p:nvPr/>
          </p:nvCxnSpPr>
          <p:spPr>
            <a:xfrm>
              <a:off x="8569080" y="1104480"/>
              <a:ext cx="160200" cy="36900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31" name=""/>
            <p:cNvCxnSpPr>
              <a:stCxn id="524" idx="1"/>
              <a:endCxn id="528" idx="0"/>
            </p:cNvCxnSpPr>
            <p:nvPr/>
          </p:nvCxnSpPr>
          <p:spPr>
            <a:xfrm flipV="1" rot="10800000">
              <a:off x="7319160" y="1103760"/>
              <a:ext cx="158760" cy="3675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6967440" y="3611520"/>
            <a:ext cx="2055960" cy="1603440"/>
            <a:chOff x="6967440" y="3611520"/>
            <a:chExt cx="2055960" cy="1603440"/>
          </a:xfrm>
        </p:grpSpPr>
        <p:sp>
          <p:nvSpPr>
            <p:cNvPr id="533" name=""/>
            <p:cNvSpPr/>
            <p:nvPr/>
          </p:nvSpPr>
          <p:spPr>
            <a:xfrm>
              <a:off x="7478640" y="3611520"/>
              <a:ext cx="103356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47080" y="4782960"/>
              <a:ext cx="169524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(c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r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5" name=""/>
            <p:cNvCxnSpPr>
              <a:stCxn id="533" idx="2"/>
              <a:endCxn id="534" idx="0"/>
            </p:cNvCxnSpPr>
            <p:nvPr/>
          </p:nvCxnSpPr>
          <p:spPr>
            <a:xfrm rot="5400000">
              <a:off x="7639200" y="4426200"/>
              <a:ext cx="711720" cy="2520"/>
            </a:xfrm>
            <a:prstGeom prst="curvedConnector5">
              <a:avLst>
                <a:gd name="adj1" fmla="val 47975"/>
                <a:gd name="adj2" fmla="val 50000"/>
                <a:gd name="adj3" fmla="val 47975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536" name=""/>
            <p:cNvGrpSpPr/>
            <p:nvPr/>
          </p:nvGrpSpPr>
          <p:grpSpPr>
            <a:xfrm>
              <a:off x="6967440" y="4194000"/>
              <a:ext cx="2055960" cy="433440"/>
              <a:chOff x="6967440" y="4194000"/>
              <a:chExt cx="2055960" cy="433440"/>
            </a:xfrm>
          </p:grpSpPr>
          <p:sp>
            <p:nvSpPr>
              <p:cNvPr id="537" name=""/>
              <p:cNvSpPr/>
              <p:nvPr/>
            </p:nvSpPr>
            <p:spPr>
              <a:xfrm>
                <a:off x="6967440" y="4194000"/>
                <a:ext cx="6462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377200" y="4195440"/>
                <a:ext cx="64620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39" name=""/>
            <p:cNvCxnSpPr>
              <a:stCxn id="533" idx="3"/>
              <a:endCxn id="538" idx="0"/>
            </p:cNvCxnSpPr>
            <p:nvPr/>
          </p:nvCxnSpPr>
          <p:spPr>
            <a:xfrm>
              <a:off x="8540640" y="3827160"/>
              <a:ext cx="161280" cy="36900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40" name=""/>
            <p:cNvCxnSpPr>
              <a:stCxn id="533" idx="1"/>
              <a:endCxn id="537" idx="0"/>
            </p:cNvCxnSpPr>
            <p:nvPr/>
          </p:nvCxnSpPr>
          <p:spPr>
            <a:xfrm flipV="1" rot="10800000">
              <a:off x="7290720" y="3827160"/>
              <a:ext cx="159480" cy="36720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541" name=""/>
          <p:cNvSpPr/>
          <p:nvPr/>
        </p:nvSpPr>
        <p:spPr>
          <a:xfrm>
            <a:off x="7740720" y="2565360"/>
            <a:ext cx="644400" cy="863640"/>
          </a:xfrm>
          <a:prstGeom prst="downArrow">
            <a:avLst>
              <a:gd name="adj1" fmla="val 50000"/>
              <a:gd name="adj2" fmla="val 33506"/>
            </a:avLst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147080" y="5214960"/>
            <a:ext cx="1739880" cy="1166760"/>
            <a:chOff x="7147080" y="5214960"/>
            <a:chExt cx="1739880" cy="1166760"/>
          </a:xfrm>
        </p:grpSpPr>
        <p:sp>
          <p:nvSpPr>
            <p:cNvPr id="543" name=""/>
            <p:cNvSpPr/>
            <p:nvPr/>
          </p:nvSpPr>
          <p:spPr>
            <a:xfrm>
              <a:off x="7147080" y="5950080"/>
              <a:ext cx="169524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.s/.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4" name=""/>
            <p:cNvCxnSpPr>
              <a:stCxn id="534" idx="2"/>
              <a:endCxn id="543" idx="0"/>
            </p:cNvCxnSpPr>
            <p:nvPr/>
          </p:nvCxnSpPr>
          <p:spPr>
            <a:xfrm flipV="1" rot="10800000">
              <a:off x="7993800" y="5214600"/>
              <a:ext cx="1080" cy="735840"/>
            </a:xfrm>
            <a:prstGeom prst="curvedConnector2">
              <a:avLst/>
            </a:prstGeom>
            <a:ln w="28440">
              <a:solidFill>
                <a:srgbClr val="000099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45" name=""/>
            <p:cNvSpPr/>
            <p:nvPr/>
          </p:nvSpPr>
          <p:spPr>
            <a:xfrm>
              <a:off x="7956720" y="5373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,r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Отсечение бесперспективных поддеревьев и 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Backpropagation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3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заказ на инверсное вычислен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(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у текущей верш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 достижимости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ация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ппроксимац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o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x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skel(c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матриваем результат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выполняе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ветствующую операцию над текущей вершин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238640" y="2041560"/>
            <a:ext cx="2055960" cy="1603440"/>
            <a:chOff x="4238640" y="2041560"/>
            <a:chExt cx="2055960" cy="1603440"/>
          </a:xfrm>
        </p:grpSpPr>
        <p:sp>
          <p:nvSpPr>
            <p:cNvPr id="549" name=""/>
            <p:cNvSpPr/>
            <p:nvPr/>
          </p:nvSpPr>
          <p:spPr>
            <a:xfrm>
              <a:off x="4749840" y="2041560"/>
              <a:ext cx="103356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7920" y="3213360"/>
              <a:ext cx="169560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(c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r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"/>
            <p:cNvCxnSpPr>
              <a:stCxn id="549" idx="2"/>
              <a:endCxn id="550" idx="0"/>
            </p:cNvCxnSpPr>
            <p:nvPr/>
          </p:nvCxnSpPr>
          <p:spPr>
            <a:xfrm rot="5400000">
              <a:off x="4910040" y="2856960"/>
              <a:ext cx="712080" cy="2160"/>
            </a:xfrm>
            <a:prstGeom prst="curvedConnector5">
              <a:avLst>
                <a:gd name="adj1" fmla="val 47951"/>
                <a:gd name="adj2" fmla="val 40000"/>
                <a:gd name="adj3" fmla="val 47951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552" name=""/>
            <p:cNvGrpSpPr/>
            <p:nvPr/>
          </p:nvGrpSpPr>
          <p:grpSpPr>
            <a:xfrm>
              <a:off x="4238640" y="2624400"/>
              <a:ext cx="2055960" cy="433440"/>
              <a:chOff x="4238640" y="2624400"/>
              <a:chExt cx="2055960" cy="433440"/>
            </a:xfrm>
          </p:grpSpPr>
          <p:sp>
            <p:nvSpPr>
              <p:cNvPr id="553" name=""/>
              <p:cNvSpPr/>
              <p:nvPr/>
            </p:nvSpPr>
            <p:spPr>
              <a:xfrm>
                <a:off x="4238640" y="2624400"/>
                <a:ext cx="6462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8400" y="2625840"/>
                <a:ext cx="64620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55" name=""/>
            <p:cNvCxnSpPr>
              <a:stCxn id="549" idx="3"/>
              <a:endCxn id="554" idx="0"/>
            </p:cNvCxnSpPr>
            <p:nvPr/>
          </p:nvCxnSpPr>
          <p:spPr>
            <a:xfrm>
              <a:off x="5811480" y="2257200"/>
              <a:ext cx="160920" cy="36900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56" name=""/>
            <p:cNvCxnSpPr>
              <a:stCxn id="549" idx="1"/>
              <a:endCxn id="553" idx="0"/>
            </p:cNvCxnSpPr>
            <p:nvPr/>
          </p:nvCxnSpPr>
          <p:spPr>
            <a:xfrm flipV="1" rot="10800000">
              <a:off x="4561920" y="2256480"/>
              <a:ext cx="159120" cy="3675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557" name=""/>
          <p:cNvSpPr/>
          <p:nvPr/>
        </p:nvSpPr>
        <p:spPr>
          <a:xfrm>
            <a:off x="4944960" y="3749760"/>
            <a:ext cx="644760" cy="507960"/>
          </a:xfrm>
          <a:prstGeom prst="downArrow">
            <a:avLst>
              <a:gd name="adj1" fmla="val 46306"/>
              <a:gd name="adj2" fmla="val 47185"/>
            </a:avLst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238640" y="4365720"/>
            <a:ext cx="2055960" cy="1632960"/>
            <a:chOff x="4238640" y="4365720"/>
            <a:chExt cx="2055960" cy="1632960"/>
          </a:xfrm>
        </p:grpSpPr>
        <p:sp>
          <p:nvSpPr>
            <p:cNvPr id="559" name=""/>
            <p:cNvSpPr/>
            <p:nvPr/>
          </p:nvSpPr>
          <p:spPr>
            <a:xfrm>
              <a:off x="4749840" y="4365720"/>
              <a:ext cx="103356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17920" y="5536800"/>
              <a:ext cx="169560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(c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r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1" name=""/>
            <p:cNvCxnSpPr>
              <a:stCxn id="559" idx="2"/>
              <a:endCxn id="560" idx="0"/>
            </p:cNvCxnSpPr>
            <p:nvPr/>
          </p:nvCxnSpPr>
          <p:spPr>
            <a:xfrm rot="5400000">
              <a:off x="4910400" y="5180040"/>
              <a:ext cx="711360" cy="2520"/>
            </a:xfrm>
            <a:prstGeom prst="curvedConnector5">
              <a:avLst>
                <a:gd name="adj1" fmla="val 47949"/>
                <a:gd name="adj2" fmla="val 50000"/>
                <a:gd name="adj3" fmla="val 47949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562" name=""/>
            <p:cNvGrpSpPr/>
            <p:nvPr/>
          </p:nvGrpSpPr>
          <p:grpSpPr>
            <a:xfrm>
              <a:off x="4238640" y="4947840"/>
              <a:ext cx="2055960" cy="432720"/>
              <a:chOff x="4238640" y="4947840"/>
              <a:chExt cx="2055960" cy="432720"/>
            </a:xfrm>
          </p:grpSpPr>
          <p:sp>
            <p:nvSpPr>
              <p:cNvPr id="563" name=""/>
              <p:cNvSpPr/>
              <p:nvPr/>
            </p:nvSpPr>
            <p:spPr>
              <a:xfrm>
                <a:off x="4238640" y="4947840"/>
                <a:ext cx="646200" cy="43128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648400" y="4948920"/>
                <a:ext cx="6462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65" name=""/>
            <p:cNvCxnSpPr>
              <a:stCxn id="559" idx="3"/>
              <a:endCxn id="564" idx="0"/>
            </p:cNvCxnSpPr>
            <p:nvPr/>
          </p:nvCxnSpPr>
          <p:spPr>
            <a:xfrm>
              <a:off x="5811480" y="4581360"/>
              <a:ext cx="160920" cy="36864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6" name=""/>
            <p:cNvCxnSpPr>
              <a:stCxn id="559" idx="1"/>
              <a:endCxn id="563" idx="0"/>
            </p:cNvCxnSpPr>
            <p:nvPr/>
          </p:nvCxnSpPr>
          <p:spPr>
            <a:xfrm flipV="1" rot="10800000">
              <a:off x="4561920" y="4580280"/>
              <a:ext cx="159480" cy="36684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4357800" y="5497200"/>
              <a:ext cx="1852560" cy="501480"/>
              <a:chOff x="4357800" y="5497200"/>
              <a:chExt cx="1852560" cy="501480"/>
            </a:xfrm>
          </p:grpSpPr>
          <p:sp>
            <p:nvSpPr>
              <p:cNvPr id="568" name=""/>
              <p:cNvSpPr/>
              <p:nvPr/>
            </p:nvSpPr>
            <p:spPr>
              <a:xfrm>
                <a:off x="4357800" y="5497200"/>
                <a:ext cx="1851840" cy="5014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4358520" y="5497200"/>
                <a:ext cx="1851840" cy="5014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"/>
          <p:cNvSpPr/>
          <p:nvPr/>
        </p:nvSpPr>
        <p:spPr>
          <a:xfrm>
            <a:off x="4327560" y="1471680"/>
            <a:ext cx="2116080" cy="510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97560" y="1471680"/>
            <a:ext cx="27464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^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(s,rs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659640" y="4365720"/>
            <a:ext cx="2055240" cy="2409840"/>
            <a:chOff x="6659640" y="4365720"/>
            <a:chExt cx="2055240" cy="2409840"/>
          </a:xfrm>
        </p:grpSpPr>
        <p:grpSp>
          <p:nvGrpSpPr>
            <p:cNvPr id="573" name=""/>
            <p:cNvGrpSpPr/>
            <p:nvPr/>
          </p:nvGrpSpPr>
          <p:grpSpPr>
            <a:xfrm>
              <a:off x="6659640" y="4365720"/>
              <a:ext cx="2055240" cy="1602720"/>
              <a:chOff x="6659640" y="4365720"/>
              <a:chExt cx="2055240" cy="1602720"/>
            </a:xfrm>
          </p:grpSpPr>
          <p:sp>
            <p:nvSpPr>
              <p:cNvPr id="574" name=""/>
              <p:cNvSpPr/>
              <p:nvPr/>
            </p:nvSpPr>
            <p:spPr>
              <a:xfrm>
                <a:off x="7170480" y="4365720"/>
                <a:ext cx="10332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pre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38920" y="5536800"/>
                <a:ext cx="169488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=(cs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rs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6" name=""/>
              <p:cNvCxnSpPr>
                <a:stCxn id="574" idx="2"/>
                <a:endCxn id="575" idx="0"/>
              </p:cNvCxnSpPr>
              <p:nvPr/>
            </p:nvCxnSpPr>
            <p:spPr>
              <a:xfrm rot="5400000">
                <a:off x="7331040" y="5180400"/>
                <a:ext cx="711360" cy="2160"/>
              </a:xfrm>
              <a:prstGeom prst="curvedConnector5">
                <a:avLst>
                  <a:gd name="adj1" fmla="val 47949"/>
                  <a:gd name="adj2" fmla="val 40000"/>
                  <a:gd name="adj3" fmla="val 47949"/>
                </a:avLst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grpSp>
            <p:nvGrpSpPr>
              <p:cNvPr id="577" name=""/>
              <p:cNvGrpSpPr/>
              <p:nvPr/>
            </p:nvGrpSpPr>
            <p:grpSpPr>
              <a:xfrm>
                <a:off x="6659640" y="4947840"/>
                <a:ext cx="2055240" cy="432720"/>
                <a:chOff x="6659640" y="4947840"/>
                <a:chExt cx="2055240" cy="4327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659640" y="4947840"/>
                  <a:ext cx="645840" cy="431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069040" y="4948920"/>
                  <a:ext cx="645840" cy="431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80" name=""/>
              <p:cNvCxnSpPr>
                <a:stCxn id="574" idx="3"/>
                <a:endCxn id="579" idx="0"/>
              </p:cNvCxnSpPr>
              <p:nvPr/>
            </p:nvCxnSpPr>
            <p:spPr>
              <a:xfrm>
                <a:off x="8232120" y="4581360"/>
                <a:ext cx="160920" cy="368640"/>
              </a:xfrm>
              <a:prstGeom prst="curvedConnector2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581" name=""/>
              <p:cNvCxnSpPr>
                <a:stCxn id="574" idx="1"/>
                <a:endCxn id="578" idx="0"/>
              </p:cNvCxnSpPr>
              <p:nvPr/>
            </p:nvCxnSpPr>
            <p:spPr>
              <a:xfrm flipV="1" rot="10800000">
                <a:off x="6982560" y="4580280"/>
                <a:ext cx="159120" cy="366840"/>
              </a:xfrm>
              <a:prstGeom prst="curvedConnector2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</p:grpSp>
        <p:sp>
          <p:nvSpPr>
            <p:cNvPr id="582" name=""/>
            <p:cNvSpPr/>
            <p:nvPr/>
          </p:nvSpPr>
          <p:spPr>
            <a:xfrm>
              <a:off x="6838920" y="6343560"/>
              <a:ext cx="169488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.s/.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3" name=""/>
            <p:cNvCxnSpPr>
              <a:stCxn id="575" idx="2"/>
              <a:endCxn id="582" idx="0"/>
            </p:cNvCxnSpPr>
            <p:nvPr/>
          </p:nvCxnSpPr>
          <p:spPr>
            <a:xfrm flipV="1" rot="10800000">
              <a:off x="7685640" y="5968440"/>
              <a:ext cx="1080" cy="375480"/>
            </a:xfrm>
            <a:prstGeom prst="curvedConnector2">
              <a:avLst/>
            </a:prstGeom>
            <a:ln w="28440">
              <a:solidFill>
                <a:srgbClr val="000099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84" name=""/>
            <p:cNvSpPr/>
            <p:nvPr/>
          </p:nvSpPr>
          <p:spPr>
            <a:xfrm>
              <a:off x="7648560" y="5886360"/>
              <a:ext cx="92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,r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364520" y="3749760"/>
            <a:ext cx="644400" cy="507960"/>
          </a:xfrm>
          <a:prstGeom prst="downArrow">
            <a:avLst>
              <a:gd name="adj1" fmla="val 46306"/>
              <a:gd name="adj2" fmla="val 47185"/>
            </a:avLst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659640" y="2041560"/>
            <a:ext cx="2055240" cy="1603440"/>
            <a:chOff x="6659640" y="2041560"/>
            <a:chExt cx="2055240" cy="1603440"/>
          </a:xfrm>
        </p:grpSpPr>
        <p:sp>
          <p:nvSpPr>
            <p:cNvPr id="587" name=""/>
            <p:cNvSpPr/>
            <p:nvPr/>
          </p:nvSpPr>
          <p:spPr>
            <a:xfrm>
              <a:off x="7170480" y="2041560"/>
              <a:ext cx="1033200" cy="43200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38560" y="3213360"/>
              <a:ext cx="1695240" cy="431640"/>
            </a:xfrm>
            <a:prstGeom prst="roundRect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(c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r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7" idx="2"/>
              <a:endCxn id="588" idx="0"/>
            </p:cNvCxnSpPr>
            <p:nvPr/>
          </p:nvCxnSpPr>
          <p:spPr>
            <a:xfrm rot="5400000">
              <a:off x="7330320" y="2856960"/>
              <a:ext cx="712080" cy="1800"/>
            </a:xfrm>
            <a:prstGeom prst="curvedConnector5">
              <a:avLst>
                <a:gd name="adj1" fmla="val 47951"/>
                <a:gd name="adj2" fmla="val 50000"/>
                <a:gd name="adj3" fmla="val 47951"/>
              </a:avLst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590" name=""/>
            <p:cNvGrpSpPr/>
            <p:nvPr/>
          </p:nvGrpSpPr>
          <p:grpSpPr>
            <a:xfrm>
              <a:off x="6659640" y="2624400"/>
              <a:ext cx="2055240" cy="433440"/>
              <a:chOff x="6659640" y="2624400"/>
              <a:chExt cx="2055240" cy="433440"/>
            </a:xfrm>
          </p:grpSpPr>
          <p:sp>
            <p:nvSpPr>
              <p:cNvPr id="591" name=""/>
              <p:cNvSpPr/>
              <p:nvPr/>
            </p:nvSpPr>
            <p:spPr>
              <a:xfrm>
                <a:off x="6659640" y="2624400"/>
                <a:ext cx="64584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069040" y="2625840"/>
                <a:ext cx="64584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93" name=""/>
            <p:cNvCxnSpPr>
              <a:stCxn id="587" idx="3"/>
              <a:endCxn id="592" idx="0"/>
            </p:cNvCxnSpPr>
            <p:nvPr/>
          </p:nvCxnSpPr>
          <p:spPr>
            <a:xfrm>
              <a:off x="8232480" y="2257200"/>
              <a:ext cx="160200" cy="36900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94" name=""/>
            <p:cNvCxnSpPr>
              <a:stCxn id="587" idx="1"/>
              <a:endCxn id="591" idx="0"/>
            </p:cNvCxnSpPr>
            <p:nvPr/>
          </p:nvCxnSpPr>
          <p:spPr>
            <a:xfrm flipV="1" rot="10800000">
              <a:off x="6982560" y="2256480"/>
              <a:ext cx="158760" cy="367560"/>
            </a:xfrm>
            <a:prstGeom prst="curvedConnector2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595" name=""/>
          <p:cNvSpPr/>
          <p:nvPr/>
        </p:nvSpPr>
        <p:spPr>
          <a:xfrm>
            <a:off x="6372360" y="1471680"/>
            <a:ext cx="0" cy="53038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еплоском языке до завершения вычисления может быть частично известен результ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но серьезно уменьши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space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УРА и даже изменить свойства терминируемости — за счет отсечения бесперспективных поддеревьев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результат: сохраняем полноту и непротиворечивость УРА, не приобретаем, но улучшаем терминируемость У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сная идея (по сравнению 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ам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не программы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BTI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место «прямой реализации»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«в лоб» реализовать отсечение бесперспективных поддеревьев 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использовать идею 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T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язы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SG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которого реализуетс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a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держив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gu-b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ацию равенст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qu?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...  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ленив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справедлив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еманти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2349360"/>
            <a:ext cx="4321080" cy="1079640"/>
          </a:xfrm>
          <a:prstGeom prst="rightArrow">
            <a:avLst>
              <a:gd name="adj1" fmla="val 50000"/>
              <a:gd name="adj2" fmla="val 100058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не программы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BTI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место «прямой реализации»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v(p,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= Inv(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o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o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(([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...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, 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)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[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...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, 'Tru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main[i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i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out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all te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all 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mainfct(p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[i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... i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)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ut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test [res, out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if (equ? res out) ’True ’Fals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 ++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XSG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XURA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остояние и перспектив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S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не вполне осмысленный проект, с большой перспектив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деланы сравнения 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ами, эксперименты на проверку чистоты реализации тех или иных технических решен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gu-base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ю равенств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qu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... 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нивую и справедливую семанти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ечение бесперспективных поддеревь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SG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SG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хорошие и перспективные темы дл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следований и разработ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Most General Unifie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пределение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нификато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ес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 = c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бозначи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множество всех унификато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войство 1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ub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*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s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войство 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Ес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ubst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=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*.s’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Термин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иболее общий унификатор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General Unifi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GU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*.s’ | s’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ubst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Таблица решен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(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роме случая «л.ч.==п.ч.»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7080" y="1727280"/>
          <a:ext cx="8950320" cy="521172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  <a:gridCol w="1790640"/>
                <a:gridCol w="1789200"/>
                <a:gridCol w="1790640"/>
              </a:tblGrid>
              <a:tr h="100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c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c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-&gt;п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-&gt;пч</a:t>
                      </a:r>
                      <a:br>
                        <a:rPr sz="28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cc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j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:-&gt;л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j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-&gt;л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occ. 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cy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cy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-&gt;пч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cc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y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=:c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y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=:c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428840" y="1936800"/>
            <a:ext cx="1204920" cy="581040"/>
          </a:xfrm>
          <a:prstGeom prst="rightArrow">
            <a:avLst>
              <a:gd name="adj1" fmla="val 49722"/>
              <a:gd name="adj2" fmla="val 844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00" y="2200320"/>
            <a:ext cx="885960" cy="812880"/>
          </a:xfrm>
          <a:prstGeom prst="downArrow">
            <a:avLst>
              <a:gd name="adj1" fmla="val 62722"/>
              <a:gd name="adj2" fmla="val 6182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17720" y="2717640"/>
            <a:ext cx="17892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7720" y="3708360"/>
            <a:ext cx="357984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7720" y="4699080"/>
            <a:ext cx="7134120" cy="99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7720" y="5689440"/>
            <a:ext cx="3579840" cy="1168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2717640"/>
            <a:ext cx="1791000" cy="198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5689440"/>
            <a:ext cx="1791000" cy="1168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86760" y="2717640"/>
            <a:ext cx="1765080" cy="198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86760" y="5689440"/>
            <a:ext cx="1765080" cy="1168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6920" y="2717640"/>
            <a:ext cx="179064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963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Алгоритм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MGU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4280" y="1090080"/>
            <a:ext cx="895032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gu :: Clashes -&gt; Maybe Subst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gu 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Just [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gu (eq:eqs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case eq of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:=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2 | cx1==cx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gu eqs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@(CVE _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=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gu' [v:-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`when` (v `notOccursIn`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1:=:v@(CVE _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gu' [v:-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`when` (v `notOccursIn`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ONS cy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y2):=:(CONS c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x2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g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[cy1:=:cx1, cy2:=:cx2,]++eq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ONS _ _):=:_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&gt; Not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_ :=: (CONS _ _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&gt; Not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(ATOM_):=:(ATOM_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&gt; Not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v@(CVA _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=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gu' [v:-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cx1:=:v@(CVA _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gu' [v:-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x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whe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gu' 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fmap (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*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 (mgu (eqs/.s)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x `when` 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if p then x else Nothing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v `notOccursIn`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v `notElem`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vars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ересечение классо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ож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vars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vars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= 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d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RESTR[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d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RESTR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+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 = d = c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/. s = RESTR[]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RESTR[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.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 s = RESTR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ересечение классо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 = d = c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/. s = RESTR[]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RESTR[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.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 s = RESTR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unf(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: 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 = d = c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.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 s = RESTR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’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: 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’=d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’=RESTR[]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.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ересечение классо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(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ож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var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ar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= [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+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.+(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≤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(S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(S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 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^.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gu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7-10-02T18:20:44Z</dcterms:modified>
  <cp:revision>759</cp:revision>
  <dc:subject/>
  <dc:title>Slide 1</dc:title>
</cp:coreProperties>
</file>