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8BCB-5A2C-4F12-9D47-6C3B5E8D59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60BF-B604-4843-B134-2C27202B96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C769-6D97-4969-A1B3-E2EF5242F6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31BC-AD8D-4899-B7E0-9AEA3D5723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5794-60BD-4A6B-822C-82B69FB32F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F44F-8290-4533-AE92-A331A11319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9560-DE94-416A-9208-5BD5A5483D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19F9-BA8B-4D6F-977F-AB28A668AC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817F-F3D8-47D1-BC90-15E9DF1A9E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06F1-4F29-463E-BB17-26A730307A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71A8-082E-43F2-8BC7-43184ACC51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4664-4B18-4AF4-8DA7-167431FF8C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A478-4473-4435-BD20-C4BC61A87D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5F28-1C37-4000-99D0-8F7E6AF79C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0526-2A2A-41BE-AC84-89EDA58512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E552-DE19-4129-8AF1-1B348839F8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1585-6C51-43B7-876E-DEA7233E55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52C2-1A9F-4D3D-88E4-C5771EE1CF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BA8D-55EC-49A0-BCE9-0904254337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DF3F-206E-4492-89D2-F618545778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2FE6-6A79-4FA7-AFA3-D74A318807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1A42-8660-45EC-AACC-9847C25EFD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55C5-B420-4D56-8CB5-F510A48ADA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2DB8-9C18-42B2-97B1-E1F38D15F4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8EA0-39BC-4285-84FF-C348507162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3CE0-520A-45E1-B687-5891D8BD7A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E8F4-0757-43AF-9999-3B3F0D6BBA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4AD8-A345-4183-9E13-769DFF6A63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6124-18C3-4BD1-BBB9-E74D3D86E6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9190-4532-4E92-943A-70698FC5ED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F803-A95D-46F3-B7B3-BE3A2E6765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266F-778E-4891-AA5C-B0CD616F96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D6BE-92F0-4796-8A79-EAB1A3BC7B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5AB9-861C-474D-9337-E2D383190D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D0F0-B621-4CA8-A617-47981D0445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72EE-D61F-4F5D-9825-0EC395F82A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8973-D328-42C4-82AE-5ACC306AAC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C208-327D-4C81-9D06-8A910040BD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F7A2-3A0A-4AAB-8192-0990DDEE98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B517-2144-4BF4-97C7-B229BF5CAB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7750-8163-4D94-895F-2249837A8D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E99F-8715-4813-A5BE-0D1C946561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B7D8-08D0-475C-ADE4-676A5F1D97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212D-AF5F-4CC7-A8F1-F3A4C6CDF5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5A2B-9D0F-4B13-B343-6E28ED9020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49AD-514C-4C8D-9B1D-E686FC0078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EA8D-CCDF-4C10-88CE-03E9EA03A6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E6BB-D0F3-4457-B639-33180919C2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6FD2-65D4-4FF1-BA41-18AEC5F0D6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ерминистиче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4C21-2AD9-4DA0-8F0D-94BBEB4B01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ерминистиче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D92F-C905-4591-ABCA-5F58464A6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447F-C80C-419A-BE5C-A2D6A0E0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6DC3-7D30-4A84-A505-EC2957979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892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064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892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064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8497-D921-4A75-A565-47BBCBA1B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5A9A-B70D-44CD-8274-2841F495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CF48-F4F6-4FD5-AEE9-27579311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CBF1-5849-464E-80DE-B00FAE97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F2BC-CE1C-48E6-85DF-139213CD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D232-3A26-42AF-8CD9-9043E88E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7760" y="258480"/>
            <a:ext cx="83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8DCF-FE03-43AE-B00F-D417D300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0D7F-2EC0-4482-888E-62DE51DA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2DCA-780B-4199-B39F-DAF20250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C7C1-D5AD-4AB2-805C-2C2A962C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579A-B685-49D1-B95C-85FDDE2F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BF29-A097-4ADA-9AE8-84B0DE37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D079-80A5-4E26-B60A-E006050C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892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0064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892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0064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8D2A-0834-43C2-9316-6524356A6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2C3A-8FC7-4570-B3CE-100F1CED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10B7-5AF8-408D-BCCC-61CF2F04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E573-15E5-4C13-A595-8DD11487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7760" y="258480"/>
            <a:ext cx="83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648D-3606-4277-BE0E-0E35BDDA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6E37-6B1B-4848-8E47-516DFDC3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0BCA-D102-4C31-976D-A7D6BF3A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C6AE-66BB-499A-8F56-674F676C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964"/>
            </a:gs>
            <a:gs pos="100000">
              <a:srgbClr val="ffe5c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метасистемная лестница"/>
          <p:cNvPicPr/>
          <p:nvPr/>
        </p:nvPicPr>
        <p:blipFill>
          <a:blip r:embed="rId2"/>
          <a:stretch/>
        </p:blipFill>
        <p:spPr>
          <a:xfrm>
            <a:off x="33480" y="34920"/>
            <a:ext cx="704880" cy="1420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9548-CC50-4109-AF95-B510C73D69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964"/>
            </a:gs>
            <a:gs pos="100000">
              <a:srgbClr val="ffe5c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метасистемная лестница"/>
          <p:cNvPicPr/>
          <p:nvPr/>
        </p:nvPicPr>
        <p:blipFill>
          <a:blip r:embed="rId2"/>
          <a:stretch/>
        </p:blipFill>
        <p:spPr>
          <a:xfrm>
            <a:off x="250920" y="225360"/>
            <a:ext cx="3214440" cy="648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Object 7"/>
          <p:cNvGraphicFramePr/>
          <p:nvPr/>
        </p:nvGraphicFramePr>
        <p:xfrm>
          <a:off x="1706400" y="4835520"/>
          <a:ext cx="4064040" cy="406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6400" y="4835520"/>
                    <a:ext cx="40640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656B-3760-4149-B8D7-34646E7E08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15840" y="347400"/>
            <a:ext cx="5527800" cy="5135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cc66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Глава 1</a:t>
            </a: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4</a:t>
            </a: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. Нестандартные интерпретаторы. </a:t>
            </a:r>
            <a:r>
              <a:rPr b="1" lang="ru-RU" sz="3600" spc="-1" strike="noStrike">
                <a:solidFill>
                  <a:srgbClr val="800000"/>
                </a:solidFill>
                <a:latin typeface="Tahoma"/>
              </a:rPr>
              <a:t>Подход к реализации нестандартных семантик</a:t>
            </a:r>
            <a:endParaRPr b="1" lang="en-US" sz="36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Основания: языки и семантик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 = (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[[ ]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p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d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пределение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gram semantics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[ ]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p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семантика программы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кращени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[p]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= [[ ]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p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пределение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)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[ ]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p.d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зультат применения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 данным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кращени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[p]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d = [[p]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d = [[ ]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p.d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D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[p]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d =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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о говори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программа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 определена на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Основания: языки и семантик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пределение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unctional equivalence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у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 = 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 D, [[ ]]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 D,[[ ]]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q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огда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ункционально эквивалентны, если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[[p]]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= [[q]]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Свойство (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S)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, нестандартная семантика 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предел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perty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семейство языков.  Свойство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</a:t>
            </a: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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cript MT Bold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{L}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данное свойство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яет нестандартные семантики для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.L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иболее обща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емантика для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|L = (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D, S.L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иболее общи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иалект для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Примеры свойств для </a:t>
            </a:r>
            <a:r>
              <a:rPr b="1" lang="en-US" sz="4400" spc="-1" strike="noStrike">
                <a:solidFill>
                  <a:srgbClr val="800000"/>
                </a:solidFill>
                <a:latin typeface="Script MT Bold"/>
              </a:rPr>
              <a:t>L</a:t>
            </a: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{ (L, p, r, a) | L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 p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,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[[p]]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r }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V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{ (L, p, a, r) | L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 p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,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[[p]]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r }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R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{ (L, p, r, r) | L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 p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 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граммы просто копируют вход в вых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Примеры свойств для </a:t>
            </a:r>
            <a:r>
              <a:rPr b="1" lang="en-US" sz="4400" spc="-1" strike="noStrike">
                <a:solidFill>
                  <a:srgbClr val="800000"/>
                </a:solidFill>
                <a:latin typeface="Script MT Bold"/>
              </a:rPr>
              <a:t>L</a:t>
            </a: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{ (L, p, r, p) | L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p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граммы просто выдают себя как результат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RAN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= { (L, p, r, p’) | L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p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’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 [[p]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= [[p’]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Q, R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N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QR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= { (L, p, q, r) | L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p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r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[q]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= [[r]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Нестандартные диалекты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пределе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rving definedness for languages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у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= 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 D, [[ ]]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= 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 D, [[ ]]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языки.  Говорят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храняет определенность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пишут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[[ ]]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</a:t>
            </a: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●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[[ ]]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[[ ]]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[[ ]]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2)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[[ ]]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p.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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+</a:t>
            </a: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[[ ]]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p.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Нестандартные диалекты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пределе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-semi-dialect of a language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-dialect of a language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у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свойство для 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 = 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 D, [[ ]]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cript MT Bold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= 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 D, [[ ]]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лудиалект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[[ ]]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S.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иалект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[[ ]]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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●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S.L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.е.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[[ ]]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S.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2)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[[ ]]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p.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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.L.p.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Пояснения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[[ ]]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.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значает корректность результатов по отношению к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   [[ ]]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p.d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S.L.p.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[[ ]]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</a:t>
            </a: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●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.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значает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уществует хоть один результат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стандартного вычисления для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о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иалект определен для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должен вернуть хотя бы один результа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Различные 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S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-полудиалекты и 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S-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диалекты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144" name="Picture 4" descr="2"/>
          <p:cNvPicPr/>
          <p:nvPr/>
        </p:nvPicPr>
        <p:blipFill>
          <a:blip r:embed="rId1"/>
          <a:stretch/>
        </p:blipFill>
        <p:spPr>
          <a:xfrm>
            <a:off x="20520" y="2692440"/>
            <a:ext cx="912348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Примеры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R.L = { (p, r, r) | p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r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D }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R|L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олько один диалект (детерминистический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.L = { (p, r, p) | p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r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D }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|L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олько один диалект (детерминистический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V.L = { (p,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, r) | p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r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D, a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[[p]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r }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ного диалектов, много детерминистических диалектов (свобода: «как» и «как много»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бирать для заданного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D|L = L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то только один диалект (детерминистический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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то много диалектов, много детерминистических диалек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"/>
          <p:cNvGrpSpPr/>
          <p:nvPr/>
        </p:nvGrpSpPr>
        <p:grpSpPr>
          <a:xfrm>
            <a:off x="-3240" y="557280"/>
            <a:ext cx="9190080" cy="6287760"/>
            <a:chOff x="-3240" y="557280"/>
            <a:chExt cx="9190080" cy="6287760"/>
          </a:xfrm>
        </p:grpSpPr>
        <p:pic>
          <p:nvPicPr>
            <p:cNvPr id="95" name="Picture 3" descr="slides"/>
            <p:cNvPicPr/>
            <p:nvPr/>
          </p:nvPicPr>
          <p:blipFill>
            <a:blip r:embed="rId1"/>
            <a:stretch/>
          </p:blipFill>
          <p:spPr>
            <a:xfrm>
              <a:off x="-3240" y="557280"/>
              <a:ext cx="9147240" cy="62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4"/>
            <p:cNvSpPr/>
            <p:nvPr/>
          </p:nvSpPr>
          <p:spPr>
            <a:xfrm>
              <a:off x="5000760" y="169344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упер-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компиляц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scp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7" name="Text Box 5"/>
            <p:cNvSpPr/>
            <p:nvPr/>
          </p:nvSpPr>
          <p:spPr>
            <a:xfrm>
              <a:off x="6894360" y="2774520"/>
              <a:ext cx="20210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пециализац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ограмм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8" name="Text Box 6"/>
            <p:cNvSpPr/>
            <p:nvPr/>
          </p:nvSpPr>
          <p:spPr>
            <a:xfrm>
              <a:off x="7080120" y="1834920"/>
              <a:ext cx="20894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иложен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уперкомпиляции,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в том числ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9" name="Text Box 7"/>
            <p:cNvSpPr/>
            <p:nvPr/>
          </p:nvSpPr>
          <p:spPr>
            <a:xfrm>
              <a:off x="3209760" y="1145880"/>
              <a:ext cx="277200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Базовы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онятия и методы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метавычислени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int, SR, ptr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0" name="Text Box 8"/>
            <p:cNvSpPr/>
            <p:nvPr/>
          </p:nvSpPr>
          <p:spPr>
            <a:xfrm>
              <a:off x="4189320" y="3051000"/>
              <a:ext cx="277200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версно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вычислени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ura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1" name="Text Box 9"/>
            <p:cNvSpPr/>
            <p:nvPr/>
          </p:nvSpPr>
          <p:spPr>
            <a:xfrm>
              <a:off x="2227320" y="306504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Окрестностны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анализ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nan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2" name="Text Box 10"/>
            <p:cNvSpPr/>
            <p:nvPr/>
          </p:nvSpPr>
          <p:spPr>
            <a:xfrm>
              <a:off x="7262640" y="1077480"/>
              <a:ext cx="19242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6600"/>
                  </a:solidFill>
                  <a:latin typeface="Arial"/>
                </a:rPr>
                <a:t>Приложен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6600"/>
                  </a:solidFill>
                  <a:latin typeface="Arial"/>
                </a:rPr>
                <a:t>метавычислени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3" name="Text Box 11"/>
            <p:cNvSpPr/>
            <p:nvPr/>
          </p:nvSpPr>
          <p:spPr>
            <a:xfrm>
              <a:off x="2173320" y="1707840"/>
              <a:ext cx="12841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ые методы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4" name="Text Box 12"/>
            <p:cNvSpPr/>
            <p:nvPr/>
          </p:nvSpPr>
          <p:spPr>
            <a:xfrm>
              <a:off x="352440" y="2252520"/>
              <a:ext cx="14889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ы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иложен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5" name="Text Box 13"/>
            <p:cNvSpPr/>
            <p:nvPr/>
          </p:nvSpPr>
          <p:spPr>
            <a:xfrm>
              <a:off x="442800" y="6522840"/>
              <a:ext cx="8039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[2] Л.В.Парменова  «Метавычисления и их применения. Суперкомпиляция»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6" name="Text Box 14"/>
            <p:cNvSpPr/>
            <p:nvPr/>
          </p:nvSpPr>
          <p:spPr>
            <a:xfrm>
              <a:off x="1938240" y="6233760"/>
              <a:ext cx="55562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[1] С.М.Абрамов «Метавычисления и их применения»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7" name="Text Box 15"/>
            <p:cNvSpPr/>
            <p:nvPr/>
          </p:nvSpPr>
          <p:spPr>
            <a:xfrm>
              <a:off x="469800" y="711000"/>
              <a:ext cx="27720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Область возможных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новых исследовани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8" name="Text Box 16"/>
            <p:cNvSpPr/>
            <p:nvPr/>
          </p:nvSpPr>
          <p:spPr>
            <a:xfrm>
              <a:off x="1673280" y="4481280"/>
              <a:ext cx="27716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Окрестностно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тестировани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9" name="Text Box 17"/>
            <p:cNvSpPr/>
            <p:nvPr/>
          </p:nvSpPr>
          <p:spPr>
            <a:xfrm>
              <a:off x="3265560" y="513360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Реализац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нестандартных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емантик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10" name="Text Box 18"/>
            <p:cNvSpPr/>
            <p:nvPr/>
          </p:nvSpPr>
          <p:spPr>
            <a:xfrm>
              <a:off x="5280120" y="4322520"/>
              <a:ext cx="1844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версно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ограммиро-вани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11" name="Text Box 19"/>
            <p:cNvSpPr/>
            <p:nvPr/>
          </p:nvSpPr>
          <p:spPr>
            <a:xfrm>
              <a:off x="5497560" y="1077480"/>
              <a:ext cx="18558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6600"/>
                  </a:solidFill>
                  <a:latin typeface="Arial"/>
                </a:rPr>
                <a:t>Методы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6600"/>
                  </a:solidFill>
                  <a:latin typeface="Arial"/>
                </a:rPr>
                <a:t>метавычислени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112" name="Text Box 20"/>
          <p:cNvSpPr/>
          <p:nvPr/>
        </p:nvSpPr>
        <p:spPr>
          <a:xfrm>
            <a:off x="671400" y="-82440"/>
            <a:ext cx="77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Структура курса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3" name="AutoShape 21"/>
          <p:cNvSpPr/>
          <p:nvPr/>
        </p:nvSpPr>
        <p:spPr>
          <a:xfrm rot="5400000">
            <a:off x="1735560" y="4101480"/>
            <a:ext cx="887400" cy="3089160"/>
          </a:xfrm>
          <a:prstGeom prst="upArrow">
            <a:avLst>
              <a:gd name="adj1" fmla="val 50000"/>
              <a:gd name="adj2" fmla="val 87028"/>
            </a:avLst>
          </a:prstGeom>
          <a:solidFill>
            <a:srgbClr val="ff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Сильные свойства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пределение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obust Property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семейство языков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свойство для 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сильное свойство, если функционально эквивалентные программы остаются функционально эквивалентными под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стандартными семантиками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L’, L’’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’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p’’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’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[[p’]]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= [[p’’]]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’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[[p’]]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S|L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= [[p’’]]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S|L’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Сильные свойства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. 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Примеры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V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RAN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RAN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Q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ильные свойства: две функционально эквивалентные программы невозможно различить под этими семантиками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сильное свойство: две различные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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ункционально эквивалентные программы возвращают разные результаты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Комбинация свойств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пределе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bination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усть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’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свойства для 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ределим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 = S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o S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’ 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{ (L, p, r, a) |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cript MT Bold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 p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 r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D, a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D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’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 D, [[ ]]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’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cript MT Bold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[[ ]]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’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</a:t>
            </a: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●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L, a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L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p.r }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ерация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”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аво-ассоциативн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o 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o ... o 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o (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o (.... o 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)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Примеры комбинаций: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INV o INV = ID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 o INV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{ (L, p, r, a) |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cript MT Bold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p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r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D, a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D 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D, [[ ]]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cript MT Bold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[[ ]]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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●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.L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[[p]]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ahoma"/>
              </a:rPr>
              <a:t>’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} =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терируя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учим вс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r,a): r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INV.L.p.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{ (L, p, r, a) |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cript MT Bold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p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r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D, a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D 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INV.L.p.a } = (i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{ (L, p, r, a) |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cript MT Bold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p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r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D, a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D 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’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[[p]]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r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’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 a }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{ (L, p, r, a) |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cript MT Bold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p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r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D, a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[[p]]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r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(i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.L.p.a = { r | r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D, a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[[p]]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r : a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 a}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Примеры комбинаций: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STRANS</a:t>
            </a:r>
            <a:r>
              <a:rPr b="1" lang="en-US" sz="4000" spc="-1" strike="noStrike" baseline="-25000">
                <a:solidFill>
                  <a:srgbClr val="800000"/>
                </a:solidFill>
                <a:latin typeface="Tahoma"/>
              </a:rPr>
              <a:t>R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 o S = S-STR</a:t>
            </a:r>
            <a:r>
              <a:rPr b="1" lang="en-US" sz="4000" spc="-1" strike="noStrike" baseline="-25000">
                <a:solidFill>
                  <a:srgbClr val="800000"/>
                </a:solidFill>
                <a:latin typeface="Tahoma"/>
              </a:rPr>
              <a:t>R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RAN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o 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{ (L,p,r,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 | L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p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r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,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’=(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D,[[ ]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 [[ ]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’ </a:t>
            </a:r>
            <a:r>
              <a:rPr b="1" lang="en-US" sz="28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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●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.L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 [[p]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= [[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-ST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-ST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стандартная само-трансляция в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частност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RAN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o INV = INV-ST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,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V-ST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.p.r 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 [[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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V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.p.d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Примеры комбинаций: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INV o STRANS</a:t>
            </a:r>
            <a:r>
              <a:rPr b="1" lang="en-US" sz="4000" spc="-1" strike="noStrike" baseline="-25000">
                <a:solidFill>
                  <a:srgbClr val="800000"/>
                </a:solidFill>
                <a:latin typeface="Tahoma"/>
              </a:rPr>
              <a:t>T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 = CERT</a:t>
            </a:r>
            <a:r>
              <a:rPr b="1" lang="en-US" sz="4000" spc="-1" strike="noStrike" baseline="-25000">
                <a:solidFill>
                  <a:srgbClr val="800000"/>
                </a:solidFill>
                <a:latin typeface="Tahoma"/>
              </a:rPr>
              <a:t>T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 o STRAN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{ (L, p, p’, a) | L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Script MT Bold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p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p’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, a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’=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D, [[ ]]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’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cript MT Bold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[[ ]]L’ </a:t>
            </a:r>
            <a:r>
              <a:rPr b="1" lang="en-US" sz="24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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●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AN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L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INV.L’.p.p’ } =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{ (L, p, p’, a) | L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Script MT Bold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p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p’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, a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’=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D, [[ ]]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’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cript MT Bold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[[ ]]L’ </a:t>
            </a:r>
            <a:r>
              <a:rPr b="1" lang="en-US" sz="24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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●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AN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L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’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[[p]]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’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a </a:t>
            </a:r>
            <a:r>
              <a:rPr b="1" lang="en-US" sz="24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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AN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L.p.a }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терация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дает все пар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p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a): p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ANST.L.p.a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{ (L, p, p’, a) | L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Script MT Bold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p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p’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, a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’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RAN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L.p.a } =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i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{ (L, p, p’, a) | L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Script MT Bold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p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p’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, a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’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[[p]]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 [[p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]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} =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ER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i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ANST.L.p.a = { p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’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| p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[[p]]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 [[p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]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Примеры комбинаций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D o S =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 o ID = 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V o INV = 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V o STRAN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=CER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V o TRAN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QR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=TRAN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RQ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RAN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o S=S-ST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RAN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o INV = INV-ST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Примеры комбинаций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42920" y="1544760"/>
          <a:ext cx="8869320" cy="5051160"/>
        </p:xfrm>
        <a:graphic>
          <a:graphicData uri="http://schemas.openxmlformats.org/drawingml/2006/table">
            <a:tbl>
              <a:tblPr/>
              <a:tblGrid>
                <a:gridCol w="1333440"/>
                <a:gridCol w="1200240"/>
                <a:gridCol w="1214280"/>
                <a:gridCol w="1325520"/>
                <a:gridCol w="1398600"/>
                <a:gridCol w="1233720"/>
                <a:gridCol w="1163520"/>
              </a:tblGrid>
              <a:tr h="6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</a:t>
                      </a:r>
                      <a:endParaRPr b="1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V</a:t>
                      </a:r>
                      <a:endParaRPr b="1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ANS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1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R</a:t>
                      </a:r>
                      <a:endParaRPr b="1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</a:t>
                      </a:r>
                      <a:endParaRPr b="1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</a:t>
                      </a:r>
                      <a:endParaRPr b="1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</a:t>
                      </a:r>
                      <a:endParaRPr b="1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</a:t>
                      </a:r>
                      <a:endParaRPr b="1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V</a:t>
                      </a:r>
                      <a:endParaRPr b="1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ANS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1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R</a:t>
                      </a:r>
                      <a:endParaRPr b="1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</a:t>
                      </a:r>
                      <a:endParaRPr b="1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</a:t>
                      </a:r>
                      <a:endParaRPr b="1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V</a:t>
                      </a:r>
                      <a:endParaRPr b="1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V</a:t>
                      </a:r>
                      <a:endParaRPr b="1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</a:t>
                      </a:r>
                      <a:endParaRPr b="1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RT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rtifier</a:t>
                      </a:r>
                      <a:endParaRPr b="1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Q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ompiler</a:t>
                      </a:r>
                      <a:endParaRPr b="1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</a:t>
                      </a:r>
                      <a:endParaRPr b="1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ECOG</a:t>
                      </a:r>
                      <a:br>
                        <a:rPr sz="18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lf-recognizer</a:t>
                      </a:r>
                      <a:endParaRPr b="1" lang="en-US" sz="16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ANS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</a:t>
                      </a:r>
                      <a:endParaRPr b="1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ANS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</a:t>
                      </a:r>
                      <a:endParaRPr b="1" lang="en-US" sz="16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V-STR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</a:t>
                      </a:r>
                      <a:endParaRPr b="1" lang="en-US" sz="16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/R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</a:t>
                      </a:r>
                      <a:endParaRPr b="1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S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R/R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</a:t>
                      </a:r>
                      <a:endParaRPr b="1" lang="en-US" sz="16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-STR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</a:t>
                      </a:r>
                      <a:endParaRPr b="1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-STR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</a:t>
                      </a:r>
                      <a:endParaRPr b="1" lang="en-US" sz="16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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</a:t>
                      </a:r>
                      <a:endParaRPr b="1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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</a:t>
                      </a:r>
                      <a:endParaRPr b="1" lang="en-US" sz="16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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</a:t>
                      </a:r>
                      <a:endParaRPr b="1" lang="en-US" sz="16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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</a:t>
                      </a:r>
                      <a:endParaRPr b="1" lang="en-US" sz="16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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</a:t>
                      </a:r>
                      <a:endParaRPr b="1" lang="en-US" sz="16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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</a:t>
                      </a:r>
                      <a:endParaRPr b="1" lang="en-US" sz="16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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</a:t>
                      </a:r>
                      <a:endParaRPr b="1" lang="en-US" sz="16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</a:t>
                      </a:r>
                      <a:endParaRPr b="1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</a:t>
                      </a:r>
                      <a:endParaRPr b="1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</a:t>
                      </a:r>
                      <a:endParaRPr b="1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</a:t>
                      </a:r>
                      <a:endParaRPr b="1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</a:t>
                      </a:r>
                      <a:endParaRPr b="1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</a:t>
                      </a:r>
                      <a:endParaRPr b="1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</a:t>
                      </a:r>
                      <a:endParaRPr b="1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</a:t>
                      </a:r>
                      <a:endParaRPr b="1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</a:t>
                      </a:r>
                      <a:endParaRPr b="1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</a:t>
                      </a:r>
                      <a:endParaRPr b="1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</a:t>
                      </a:r>
                      <a:endParaRPr b="1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</a:t>
                      </a:r>
                      <a:endParaRPr b="1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</a:t>
                      </a:r>
                      <a:endParaRPr b="1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</a:t>
                      </a:r>
                      <a:endParaRPr b="1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90960" y="634680"/>
            <a:ext cx="6053040" cy="48927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cc66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Языки</a:t>
            </a: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программирования</a:t>
            </a:r>
            <a:br>
              <a:rPr sz="4400"/>
            </a:br>
            <a:br>
              <a:rPr sz="4400"/>
            </a:br>
            <a:r>
              <a:rPr b="1" lang="ru-RU" sz="3600" spc="-1" strike="noStrike">
                <a:solidFill>
                  <a:srgbClr val="800000"/>
                </a:solidFill>
                <a:latin typeface="Tahoma"/>
              </a:rPr>
              <a:t>Конструктивный мир</a:t>
            </a:r>
            <a:endParaRPr b="1" lang="en-US" sz="36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Языки программирования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пределение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gramming Language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зык программирования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 = (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[[ ]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гд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ножество програм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= 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метная облас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[ ]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ычислима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емантик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едполагае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курсивно перечислимые множества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конструктивные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мкнуто относительно «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pling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.. 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 : [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...,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Глава 14. Нестандартные интерпретаторы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71680"/>
            <a:ext cx="849312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сновные пон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зык, стандартная семанти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войство, нестандартная семантика, диалек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ильные свойства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properties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, комбинация свойст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Языки программиров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андартный интерпретатор, башня интерпретатор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Языки программирования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бозначи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ножество всех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детерминистических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языков программир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ус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=(P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D, [[ ]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’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’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=(P’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D, [[ ]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’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’’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’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огда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числительно эквивалентны если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[p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= [[p’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’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раткая запись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[p]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d = {d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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[p]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d = d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[p]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d =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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[p]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ен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L/M-</a:t>
            </a: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интерпретатор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пределение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/M-interpreter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 = 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D, [[ ]]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 = 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D, [[ ]]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Тогда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грамма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интерпретатор для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если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 : [[intL]]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[p, d] = [[p]]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ашня интерпретаторов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terpreter tower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юбой язык программирования может быть реализован двумя и более уровнями интерпретаци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уст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, L, N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/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нтерпретатор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/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нтерпретатор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гда: 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[[intL]]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[intN, [p, d]] = [[p]]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Нестандартные вычисления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предел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-dialect of a programming language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en-US" sz="24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en-US" sz="24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свойство для </a:t>
            </a:r>
            <a:r>
              <a:rPr b="1" lang="en-US" sz="24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=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D,[[ ]]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Тогд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D, [[ ]]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иалект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есл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[[ ]]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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●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.L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у-диалект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есл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[[ ]]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.L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предел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|L/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interpreter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en-US" sz="24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en-US" sz="24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свойство для </a:t>
            </a:r>
            <a:r>
              <a:rPr b="1" lang="en-US" sz="24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гда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грамма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int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нтерпретатор для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если существует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иалект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акой, что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int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нтерпретатор для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тверждение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Interpreter is ID-interpreter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/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нтерпретатор, тогда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является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нтерпретатором для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Частично фиксированный аргумент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’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акая, что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D : [[p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]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 [[p]]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[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сли такая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уществует, мы обозначим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ерез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[p, [d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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]]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Выполнено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D 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[[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[p, [d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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]]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]]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[[p]]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[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бсуждение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Мы можем предполагать, что если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 всегда возможно написать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[p, [d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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]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Замечание: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любого универсального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сегда возможно написать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[p, [d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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]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 частности, если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держивает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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абстракцию, то можно написат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[p, [d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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]]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. p [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8680" y="147240"/>
            <a:ext cx="8429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ahoma"/>
              </a:rPr>
              <a:t>Нестандартные башни: комбинируя нестандартные интерпретаторы</a:t>
            </a:r>
            <a:endParaRPr b="1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пределение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on-Standard Tower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усть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свойства для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сильное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int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|N/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терпретатор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intL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|L/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терпретатор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d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огда нестандартную башню определим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[nintL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[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[nintN</a:t>
            </a: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’’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, [p, </a:t>
            </a:r>
            <a:r>
              <a:rPr b="1" lang="en-US" sz="28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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]]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 d]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8680" y="147240"/>
            <a:ext cx="8429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ahoma"/>
              </a:rPr>
              <a:t>Нестандартные башни: комбинируя нестандартные интерпретаторы</a:t>
            </a:r>
            <a:endParaRPr b="1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Теорема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Correctness of non-standard tower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усть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свойства для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сильное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int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|N/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терпретатор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intL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|L/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терпретатор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огда нестандартная башня н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зыке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ализуе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S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o S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лу-диалек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[nintL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[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[nintN</a:t>
            </a: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’’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, [p, </a:t>
            </a:r>
            <a:r>
              <a:rPr b="1" lang="en-US" sz="28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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]]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 d]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(S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o S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.N.p.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Комбинации, сохраняющие определенность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пределение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mbination Preserves the Definedness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Пуст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свойств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для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сильное.  Тогда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мбинируются безопасно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мбинация сохраняет определенност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N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: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иалекты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,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S’.N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p.d =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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(S’.N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p.d =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Комбинации, сохраняющие определенность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Теорема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Implementation non-standard dialect by non-standard tower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усть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свойства для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сильное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мбинируются безопасно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int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|N/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терпретатор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intL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|L/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терпретатор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огда нестандартная башня н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зыке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ализуе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S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o S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иалек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[nintL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[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[nintN</a:t>
            </a: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’’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, [p, </a:t>
            </a:r>
            <a:r>
              <a:rPr b="1" lang="en-US" sz="28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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]]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 d]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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(S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o S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.N.p.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Какие 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S’ 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и 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S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’’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комбинируются безопасно?  Случай с 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ID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юбое свойство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мбинируются безопасно (потому, что только один детерминистический диалект у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любым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мбинируется безопасн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ак как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ильное 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ево/право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езопасно комбинируется с любым свойство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мы можем использовать стандартные интерпретаторы для переноса любых нестандартных семантик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любых исходных языков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— обобщенная теорема о перенос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 любые языки исполнения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language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Переносим нестандартные семантик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Утверждение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Porting for different source language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усть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свойства для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сильное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/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терпретатор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int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|L/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терпретатор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огда нестандартная башня реализуе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иалек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зыке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[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int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[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[intN, [p, </a:t>
            </a:r>
            <a:r>
              <a:rPr b="1" lang="en-US" sz="28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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]]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 d]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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S.N.p.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Глава 14. Нестандартные интерпретаторы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71680"/>
            <a:ext cx="849312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естандартные вычисл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стандартные диалекты языков программир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стандартный интерпретато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мбинация нестандартных интерпретаторов — нестандартная башн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нос нестандартных семанти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дтверждено вычисление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ключение и возможные планы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ture work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Переносим нестандартные семантик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Утверждение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Porting to different implementation language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усть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свойства для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int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|N/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терпретатор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/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терпретатор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огда нестандартная башня реализуе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иалек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зыке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[intL]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[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[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nintN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, [p, </a:t>
            </a:r>
            <a:r>
              <a:rPr b="1" lang="en-US" sz="28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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]]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 d]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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S.N.p.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Какие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 S’ 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и 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S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’’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комбинируются безопасно?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76040" y="1600200"/>
          <a:ext cx="8780760" cy="5065560"/>
        </p:xfrm>
        <a:graphic>
          <a:graphicData uri="http://schemas.openxmlformats.org/drawingml/2006/table">
            <a:tbl>
              <a:tblPr/>
              <a:tblGrid>
                <a:gridCol w="1698840"/>
                <a:gridCol w="901800"/>
                <a:gridCol w="925200"/>
                <a:gridCol w="1706760"/>
                <a:gridCol w="1620720"/>
                <a:gridCol w="1035000"/>
                <a:gridCol w="892440"/>
              </a:tblGrid>
              <a:tr h="108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</a:t>
                      </a:r>
                      <a:endParaRPr b="1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V</a:t>
                      </a:r>
                      <a:endParaRPr b="1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ANS</a:t>
                      </a:r>
                      <a:r>
                        <a:rPr b="1" lang="en-US" sz="2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1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</a:t>
                      </a:r>
                      <a:r>
                        <a:rPr b="1" lang="en-US" sz="2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R</a:t>
                      </a:r>
                      <a:endParaRPr b="1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</a:t>
                      </a:r>
                      <a:endParaRPr b="1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</a:t>
                      </a:r>
                      <a:endParaRPr b="1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</a:t>
                      </a:r>
                      <a:endParaRPr b="1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V</a:t>
                      </a:r>
                      <a:endParaRPr b="1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ANS</a:t>
                      </a:r>
                      <a:r>
                        <a:rPr b="1" lang="en-US" sz="2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’</a:t>
                      </a:r>
                      <a:endParaRPr b="1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en-US" sz="2400" spc="-1" strike="noStrike" baseline="30000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*)</a:t>
                      </a:r>
                      <a:endParaRPr b="1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en-US" sz="2400" spc="-1" strike="noStrike" baseline="30000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*)</a:t>
                      </a:r>
                      <a:endParaRPr b="1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en-US" sz="2400" spc="-1" strike="noStrike" baseline="30000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*)</a:t>
                      </a:r>
                      <a:endParaRPr b="1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</a:t>
                      </a:r>
                      <a:r>
                        <a:rPr b="1" lang="en-US" sz="2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’R’</a:t>
                      </a:r>
                      <a:endParaRPr b="1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</a:t>
                      </a:r>
                      <a:endParaRPr b="1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07760" y="1360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Многоуровневая нестандартная башня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Теорема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(Multilevel Non-Standard Tower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усть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’ </a:t>
            </a:r>
            <a:r>
              <a:rPr b="1" lang="en-US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&gt;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=1…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— свойства для 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..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— сильные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 =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o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o … o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intL</a:t>
            </a:r>
            <a:r>
              <a:rPr b="1" lang="en-US" sz="2000" spc="-1" strike="noStrike" u="sng" baseline="-25000">
                <a:solidFill>
                  <a:srgbClr val="000000"/>
                </a:solidFill>
                <a:uFillTx/>
                <a:latin typeface="Tahoma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|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k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терпретатор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огд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нестандартная башня реализует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лу-диалект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языке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p </a:t>
            </a:r>
            <a:r>
              <a:rPr b="1" lang="en-US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1" lang="en-US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[nint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]]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[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[nintL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, [nintL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ahoma"/>
              </a:rPr>
              <a:t>3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, ... [nintL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ahoma"/>
              </a:rPr>
              <a:t>n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[p, </a:t>
            </a:r>
            <a:r>
              <a:rPr b="1" lang="en-US" sz="20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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]] ...]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, d ]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S).Ln.p.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1" lang="en-US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…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-1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i+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o ... o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мбинируют безопасно, то  нестандартная башня реализует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иалект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языке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p </a:t>
            </a:r>
            <a:r>
              <a:rPr b="1" lang="en-US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1" lang="en-US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[nint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]]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[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[nintL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, [nintL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ahoma"/>
              </a:rPr>
              <a:t>3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, ... [nintL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ahoma"/>
              </a:rPr>
              <a:t>n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[p, </a:t>
            </a:r>
            <a:r>
              <a:rPr b="1" lang="en-US" sz="20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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]] ...]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, d ]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</a:t>
            </a: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S).Ln.p.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07760" y="4716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Многоуровневая нестандартная башня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193" name="Picture 5" descr="1"/>
          <p:cNvPicPr/>
          <p:nvPr/>
        </p:nvPicPr>
        <p:blipFill>
          <a:blip r:embed="rId1"/>
          <a:stretch/>
        </p:blipFill>
        <p:spPr>
          <a:xfrm>
            <a:off x="1092240" y="1249200"/>
            <a:ext cx="720396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07760" y="69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ID-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слои в многоуровневой нестандартной башне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266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ддержка различных входных язы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пряжение нескольких нестандарт-ных интер-претатор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нос на различные языки исполн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4" descr="2"/>
          <p:cNvPicPr/>
          <p:nvPr/>
        </p:nvPicPr>
        <p:blipFill>
          <a:blip r:embed="rId1"/>
          <a:stretch/>
        </p:blipFill>
        <p:spPr>
          <a:xfrm>
            <a:off x="2863800" y="1197000"/>
            <a:ext cx="62802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Проверка практикой</a:t>
            </a: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	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стандартные башни, реализованные на практик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ns-mod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y PE, SCP, ... [Futamura, Jones et al.] — F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c-mod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y PE, SCP, ... [Glück, Jørgensen, Thiemann] — SP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v-mod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y URA, Ross, … [Abramov&amp;Glück, Ross, Nemytykh&amp;Turchin] — INV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d-mod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assical in 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Заключение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овые понятия, ориентированные на семантику— свойства,— можно определят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омбинируя существующие свой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ложные (ориентированные на семантику) понятия (свойства) можно декомпозировать на менее слож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ила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)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войств обеспечивает корректность комбинации, вне зависимости от того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ак те или иные нестандартные интерпретаторы реализован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общили старую добрую идею (башня интерпретаторов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ногоуровневые башн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подход к реализации новых нестандартных интерпретаторов — как комбинации существующих нестандартных интерпретатор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учен единый подход для описания множества хорошо известных предыдущих исследовани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MP, SPP, INVP, etc.)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и будущих рабо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Направления возможных исследований (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Future Work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)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 разложить сложное свойство в несколько более простых свойств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es: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уществуют ли некие, в некотором смысле элементарные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atomic”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войств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 уменьшать уровень недетерминизма некоторых свойств за счет средств конструктивного представления множест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uch stone: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ведение на практике многоуровневых нестандартных башен к эффективным программам при помощи специализации (суперкомпиляции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5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Заключение (всего курса)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03000"/>
            <a:ext cx="849312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 счастью, совершенствовать методы метавычислений можно беспредель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очно так же не видно ограничений в создании все новых и новых методов применения метавычислений в практическом программирован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аким образом, метавычисления всегда останутся необъятным и благодатным полем для новых исследова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579480" y="1279440"/>
            <a:ext cx="5265720" cy="28591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cc66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600" spc="-1" strike="noStrike">
                <a:solidFill>
                  <a:srgbClr val="800000"/>
                </a:solidFill>
                <a:latin typeface="Tahoma"/>
              </a:rPr>
              <a:t>КОНЕЦ</a:t>
            </a:r>
            <a:endParaRPr b="1" lang="en-US" sz="106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Зачем добавлена эта глава?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1280" y="1535040"/>
            <a:ext cx="880272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ется прочный математический фундамент теории нестандартных семанти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оится ответ на открытые вопросы, поднятые в других работах по модификаторам семантик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бр95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rGlü98]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 комбинировать нестандартные семантики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 реализовывать комбинации нестандартных семантик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32160" y="634680"/>
            <a:ext cx="5811840" cy="48927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cc66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Языки, свойства, нестандартные диалекты,</a:t>
            </a:r>
            <a:br>
              <a:rPr sz="4000"/>
            </a:b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комбинация свойств</a:t>
            </a: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800000"/>
                </a:solidFill>
                <a:latin typeface="Tahoma"/>
              </a:rPr>
              <a:t>Абстрактная математика</a:t>
            </a:r>
            <a:endParaRPr b="1" lang="en-US" sz="36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Предварительные замечания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пределе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ion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.)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B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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 Тогда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.b = { c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| (b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 c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= b }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тверждени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B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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B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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огда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b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 : 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b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пределение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rving definedness relation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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хранение определенности: пуст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, 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множества. Тогда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32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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+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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(A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B) &amp; (B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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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Основания: языки и семантик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55680" y="1599840"/>
            <a:ext cx="8756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пределение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anguage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Язык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 = 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 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 [[ ]]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порядоченная тройка, где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ножество програм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= 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метная облас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[ ]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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емантика язы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универсальная предметная облас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ножество всех языко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= powerset(D)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{D}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powerset(D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Основания: языки и семантик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пределение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terministic language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Язык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 = 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 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 [[ ]]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детерминистический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(p,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,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[[ ]]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(p,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,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[[ ]]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= 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’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означим: </a:t>
            </a:r>
            <a:r>
              <a:rPr b="1" lang="en-US" sz="3200" spc="-1" strike="noStrike">
                <a:solidFill>
                  <a:srgbClr val="000000"/>
                </a:solidFill>
                <a:latin typeface="Script MT Bold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множество всех детерминистических язык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0:02:47Z</dcterms:created>
  <dc:creator>Sergei Abramov</dc:creator>
  <dc:description/>
  <dc:language>en-US</dc:language>
  <cp:lastModifiedBy>abram</cp:lastModifiedBy>
  <dcterms:modified xsi:type="dcterms:W3CDTF">2009-03-12T05:50:44Z</dcterms:modified>
  <cp:revision>949</cp:revision>
  <dc:subject/>
  <dc:title>Slide 1</dc:title>
</cp:coreProperties>
</file>