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61E6-9ED4-437D-BAE8-9718426AB2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DE45-B1BB-4E65-A3EA-F8537F65AD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BCAC-CC56-44BE-8626-0F3633922D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DF0E-1A8E-4E19-9975-DE9E9A6C36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A755-9C86-4AA6-9178-D2B627D904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EDDE-0A95-49B9-BA57-C18855D1A3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12BC-0243-42D6-B8B8-CE1D456DD7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3B6F-9791-4C19-9567-0D8A513F35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05E7-C33C-42C9-84A1-D50F3A1341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D13B-7C93-493D-A822-1D1923349B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BD56-28BB-4E14-A91C-CE321FBE3B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EAD5-6E68-4841-855B-47CDF8582E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453E-3E14-4211-8610-3311885F9F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5163-BBBF-43F1-9DE2-9CBB77B960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E754-836F-4206-8E10-988F92810F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3CD6-6DF2-488D-BE09-F7A7A9D50D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FB98-FB82-41F0-9C94-D7D1BA1583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96F3-9419-40E7-AA07-272FC6587B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0B82-2D8C-4FE4-AB3A-F6B26C2A75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8394-D186-49B9-BF00-61228AABCD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CE22-B2A0-4EEE-ACC5-5732A0F939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DEB3-4771-40F4-8C24-189709E410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2BDE-4D02-46A1-8F64-EAE5EA11A5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5DD3-857F-4E92-BA6B-57B21830C0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7A4A-CAF2-4D62-8B9D-A706E3F3D2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061C-831B-47B2-B513-73C189BADC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B540-45AB-46D2-A60F-6A7DC03D01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CE59-DC18-4959-8383-81F195B508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CDC2-B412-418C-9F93-4FB77324A7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E4DA-B247-463A-858B-EB37A39648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694C-96B2-4924-93AF-C4D9558A29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1681-D083-40F5-BB94-758B5C12B7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A0AC-420E-4160-8E6E-14DB5E8C9F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BFC3-799D-43AF-988D-96833FFEA5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0E5E-EC90-4CB4-A8E3-F94B79EC7C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5147-86FB-4C42-BC95-9C8DA96868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1980-326D-4BFE-B2F1-F30A12ADCE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CD88-0C8C-40B6-8E4D-B16F784374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82CC-D3EB-426D-99E1-7D81AEB69C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84BE-8BFB-48AC-ABCC-3D61EDC149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14F7-E53E-4703-8E1E-5210CC0FAF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8C71-BE69-487E-9FB6-3998CAF214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8957-DE0B-4C86-BD9C-CDD3CC7547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DBDA-9724-4F3E-8C4C-E4EDBF15DA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88EF-93BF-4B4B-A213-1C7B6C2F64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1F32-0725-48A4-A4D3-A64FFE6508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3EB7-A16B-4D3E-BC7F-81D7F46093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E3E4-03B7-4067-BE8C-CB8ED9E6F0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6F40-A00F-4099-A4A6-872603A859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CAB5-3CD4-4F89-8A88-A5541175D5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AC9B-7928-42DF-82D7-46D67F130B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2A3C-AF59-41BA-933F-CE917E0DB8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81B0-9EE3-4505-8505-483314C97A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C9ED-5371-4C6D-9D81-08419591D3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A520-7407-4521-A641-FBCA7C3998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E2A3-C06A-4399-BA85-6A214014D4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CD03-E635-4A7C-8A59-8FD3D14ED3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8FB1-45EF-42E7-8010-8DFBF31539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9305-1CCA-4708-81CA-684379AE20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5330-11B0-4D1A-A60E-0FB2AF6FD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1F0F-3ACE-446D-8E3A-5E909920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A88C-1E08-4CB2-9117-0B7D0141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892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064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892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064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B281-AA06-40B0-AAD4-F21F0B5F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AC14-8A90-41DA-9798-CC013E5B0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4036-E363-4B9E-9C62-526435EB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D902-FBE7-45AF-84F6-A9778402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45B8-5E28-447B-9A7C-F3A431F2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88D6-F81C-4168-BCF0-5B41C1AB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7760" y="258480"/>
            <a:ext cx="83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6D9E-A202-42A3-A3BB-27D80B2D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33F0-A776-4980-BEDA-723B019F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024D-0EE8-498C-8547-8F849A30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80F4-D920-416F-9D08-507F76CB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DECD-F936-49C6-9669-A679BAE6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E899-7C54-47A1-A3A5-A52E21C4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DFFC-CD61-4CAC-97D4-38F6C028A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892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00640" y="159984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892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00640" y="4346280"/>
            <a:ext cx="2734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C627-609B-405C-BBD8-E131457C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5758-731C-4E20-8C51-5213D358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3833-B6F4-437E-B3F1-208E7954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9241-C896-4861-88D6-1D1D6DA9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7760" y="258480"/>
            <a:ext cx="83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C00F-A46A-4674-801A-41ED5F77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E9B6-D779-4C84-B2D4-25748828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09240" y="434628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6143-8E8C-4244-83C3-3CAD2BB8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9240" y="1599840"/>
            <a:ext cx="414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49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14E5-5370-4CB5-AB6C-A0A735FC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964"/>
            </a:gs>
            <a:gs pos="100000">
              <a:srgbClr val="ffe5c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метасистемная лестница"/>
          <p:cNvPicPr/>
          <p:nvPr/>
        </p:nvPicPr>
        <p:blipFill>
          <a:blip r:embed="rId2"/>
          <a:stretch/>
        </p:blipFill>
        <p:spPr>
          <a:xfrm>
            <a:off x="33480" y="34920"/>
            <a:ext cx="704880" cy="1420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FAE8-28D8-4EC1-B46B-267F32EFB9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964"/>
            </a:gs>
            <a:gs pos="100000">
              <a:srgbClr val="ffe5c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метасистемная лестница"/>
          <p:cNvPicPr/>
          <p:nvPr/>
        </p:nvPicPr>
        <p:blipFill>
          <a:blip r:embed="rId2"/>
          <a:stretch/>
        </p:blipFill>
        <p:spPr>
          <a:xfrm>
            <a:off x="250920" y="225360"/>
            <a:ext cx="3214440" cy="648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Object 7"/>
          <p:cNvGraphicFramePr/>
          <p:nvPr/>
        </p:nvGraphicFramePr>
        <p:xfrm>
          <a:off x="1706400" y="4835520"/>
          <a:ext cx="4064040" cy="406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6400" y="4835520"/>
                    <a:ext cx="40640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E1FB-1EAE-48C6-A92A-7D31CA9A82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66720" y="844560"/>
            <a:ext cx="5776920" cy="45561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cc66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Глава </a:t>
            </a: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10</a:t>
            </a: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. </a:t>
            </a:r>
            <a:br>
              <a:rPr sz="4400"/>
            </a:b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Суперкомпиляция. Gener</a:t>
            </a: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:</a:t>
            </a: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 построени</a:t>
            </a: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e</a:t>
            </a: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 тесной общей</a:t>
            </a:r>
            <a:br>
              <a:rPr sz="4400"/>
            </a:b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надконфигурации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0.2.1 Вспомогательные конструкции и функци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gLookUp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 ce ce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= [cv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значит в таблице есть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v, (ce,ce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gLookUp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 ce ce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= [  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значит 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аблице нет такого элемен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gLookUp :: GTab-&gt;CExp-&gt;CExp -&gt; [CVar]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-- либо [], либо [cvar]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gLookUp t ce ce’ =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 [ cv | (cv,(a,b))&lt;-t, a==ce, b==ce’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0.2.1 Вспомогательные конструкции и функци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sCAExp, isAtom :: CExp -&gt; Bool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sAtom (ATOM _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True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sAtom _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False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sCAExp (ATOM _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True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sCAExp (CVA _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True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sCAExp _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Fal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10.2.2 Обобщение</a:t>
            </a:r>
            <a:br>
              <a:rPr sz="4400"/>
            </a:b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c-выражений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9200" y="1631880"/>
          <a:ext cx="8950680" cy="5114880"/>
        </p:xfrm>
        <a:graphic>
          <a:graphicData uri="http://schemas.openxmlformats.org/drawingml/2006/table">
            <a:tbl>
              <a:tblPr/>
              <a:tblGrid>
                <a:gridCol w="2054520"/>
                <a:gridCol w="1660320"/>
                <a:gridCol w="1586160"/>
                <a:gridCol w="1584000"/>
                <a:gridCol w="2065680"/>
              </a:tblGrid>
              <a:tr h="97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АТОМ а</a:t>
                      </a:r>
                      <a:endParaRPr b="1" lang="en-US" sz="2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VA i</a:t>
                      </a:r>
                      <a:endParaRPr b="1" lang="en-US" sz="2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V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j</a:t>
                      </a:r>
                      <a:endParaRPr b="1" lang="en-US" sz="2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 x y</a:t>
                      </a:r>
                      <a:endParaRPr b="1" lang="en-US" sz="2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OM a’</a:t>
                      </a:r>
                      <a:endParaRPr b="1" lang="en-US" sz="2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a==a’?</a:t>
                      </a:r>
                      <a:br>
                        <a:rPr sz="28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ookUp/</a:t>
                      </a: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ahoma"/>
                          <a:ea typeface="Tahoma"/>
                        </a:rPr>
                        <a:t>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*</a:t>
                      </a:r>
                      <a:endParaRPr b="1" lang="en-US" sz="2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ookUp/</a:t>
                      </a: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ahoma"/>
                          <a:ea typeface="Tahoma"/>
                        </a:rPr>
                        <a:t>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*</a:t>
                      </a:r>
                      <a:endParaRPr b="1" lang="en-US" sz="2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ookUp/</a:t>
                      </a: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ahoma"/>
                          <a:ea typeface="Tahoma"/>
                        </a:rPr>
                        <a:t>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*</a:t>
                      </a:r>
                      <a:endParaRPr b="1" lang="en-US" sz="2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ookUp/</a:t>
                      </a: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ahoma"/>
                          <a:ea typeface="Tahoma"/>
                        </a:rPr>
                        <a:t>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*</a:t>
                      </a:r>
                      <a:endParaRPr b="1" lang="en-US" sz="2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VA i’</a:t>
                      </a:r>
                      <a:endParaRPr b="1" lang="en-US" sz="2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ookUp/</a:t>
                      </a: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ahoma"/>
                          <a:ea typeface="Tahoma"/>
                        </a:rPr>
                        <a:t>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*</a:t>
                      </a:r>
                      <a:endParaRPr b="1" lang="en-US" sz="2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ookUp/</a:t>
                      </a: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ahoma"/>
                          <a:ea typeface="Tahoma"/>
                        </a:rPr>
                        <a:t>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*</a:t>
                      </a:r>
                      <a:endParaRPr b="1" lang="en-US" sz="2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ookUp/</a:t>
                      </a: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ahoma"/>
                          <a:ea typeface="Tahoma"/>
                        </a:rPr>
                        <a:t>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*</a:t>
                      </a:r>
                      <a:endParaRPr b="1" lang="en-US" sz="2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ookUp/</a:t>
                      </a: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ahoma"/>
                          <a:ea typeface="Tahoma"/>
                        </a:rPr>
                        <a:t>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*</a:t>
                      </a:r>
                      <a:endParaRPr b="1" lang="en-US" sz="2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VE j’</a:t>
                      </a:r>
                      <a:endParaRPr b="1" lang="en-US" sz="2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ookUp/</a:t>
                      </a: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ahoma"/>
                        </a:rPr>
                        <a:t>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*</a:t>
                      </a:r>
                      <a:endParaRPr b="1" lang="en-US" sz="2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ookUp/</a:t>
                      </a: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ahoma"/>
                        </a:rPr>
                        <a:t>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*</a:t>
                      </a:r>
                      <a:endParaRPr b="1" lang="en-US" sz="2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ookUp/</a:t>
                      </a: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ahoma"/>
                          <a:ea typeface="Tahoma"/>
                        </a:rPr>
                        <a:t>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*</a:t>
                      </a:r>
                      <a:endParaRPr b="1" lang="en-US" sz="2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ookUp/</a:t>
                      </a: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ahoma"/>
                          <a:ea typeface="Tahoma"/>
                        </a:rPr>
                        <a:t>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*</a:t>
                      </a:r>
                      <a:endParaRPr b="1" lang="en-US" sz="2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 x’ y’</a:t>
                      </a:r>
                      <a:endParaRPr b="1" lang="en-US" sz="2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ookUp/</a:t>
                      </a: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ahoma"/>
                          <a:ea typeface="Tahoma"/>
                        </a:rPr>
                        <a:t>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*</a:t>
                      </a:r>
                      <a:endParaRPr b="1" lang="en-US" sz="2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ookUp/</a:t>
                      </a: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ahoma"/>
                          <a:ea typeface="Tahoma"/>
                        </a:rPr>
                        <a:t>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*</a:t>
                      </a:r>
                      <a:endParaRPr b="1" lang="en-US" sz="2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ookUp/</a:t>
                      </a: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ahoma"/>
                          <a:ea typeface="Tahoma"/>
                        </a:rPr>
                        <a:t>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*</a:t>
                      </a:r>
                      <a:endParaRPr b="1" lang="en-US" sz="2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gen t x x’ -&gt;t’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gen t’ y y’-&gt;t’’</a:t>
                      </a:r>
                      <a:endParaRPr b="1" lang="en-US" sz="2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493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genCExp::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GTab -&gt; CExp -&gt; CExp -&gt; FreeIndx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-&gt; (GTab,CExp,FreeIndx)</a:t>
            </a:r>
            <a:br>
              <a:rPr sz="2800"/>
            </a:br>
            <a:br>
              <a:rPr sz="1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genCExp t a@(ATOM x) (ATOM y) i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x==y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t, a, i)</a:t>
            </a:r>
            <a:br>
              <a:rPr sz="2800"/>
            </a:br>
            <a:br>
              <a:rPr sz="16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genCExp t (CONS x1 x2)(CONS y1 y2) i=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t’’, (CONS z1 z2), i’’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wher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t’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z1, i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 = genCExp 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x1 y1 i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t’’, z2, i’’) = genCExp t’ x2 y2 i’</a:t>
            </a:r>
            <a:br>
              <a:rPr sz="2800"/>
            </a:br>
            <a:br>
              <a:rPr sz="16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genCExp t x y i =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ase (gLookUp t x y) of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[z]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-&gt; (t,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z, i 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-&gt; (t’, v, i’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wher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v, i’) =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f (isCAExp x)&amp;&amp;(isCAExp y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he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mkCAVar i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mkCEVar i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v, (x, y)):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10.2.3 Обобщение c-сред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genCEnv :: GTab -&gt; CEnv -&gt; CEnv -&gt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FreeIndx -&gt; (GTab,CEnv,FreeIndx)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genCEnv t [] [] i = (t, [], i)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genCEnv t ((a:=cx):ce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_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=cx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: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 i =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t’’, ((a:=cx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’’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: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’’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, i’’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wher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t’,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’’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i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genCExp 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 cx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’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t’’,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’’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i’’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genCEnv t’ ce 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’’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07760" y="-360"/>
            <a:ext cx="8343720" cy="1444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0.3 genTabToSubsts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.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 Построение sGenUp и sGenDn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98240"/>
            <a:ext cx="8493120" cy="54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 текстов алгоритмов видно, что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 c-переменные в обобщающей в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баз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xGe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это те (и только те) c-переменны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которые представлены в первой позиции элементов таблицы обобщений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 = [(v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(x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y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),...(v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(x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y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)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 = [(v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 (x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y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),...(v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 (x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y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)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c-переменные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вязаны в таблице как раз с теми фрагментами из исходных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R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баз, которые и были обобщены этой c-переменной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с фрагментом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з первой c-базы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D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с фрагментом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з второй c-базы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о сути представляет две подстановк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GenD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GenU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br>
              <a:rPr sz="14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GenDn = [ (v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:-&gt; x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, ..., (v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:-&gt; x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 ]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GenUp = [ (v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:-&gt; y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, ..., (v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:-&gt; y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 ]</a:t>
            </a:r>
            <a:br>
              <a:rPr sz="2800"/>
            </a:br>
            <a:br>
              <a:rPr sz="14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акие, что: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Gen/.sGenDn = cxD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xGen/.sGenUp = cx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707760" y="-360"/>
            <a:ext cx="8343720" cy="1444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0.3 genTabToSubsts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.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 Построение sGenUp и sGenDn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82240" y="1599840"/>
            <a:ext cx="8739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genTabToSubsts::GTab-&gt;(Subst,Subst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genTabToSubsts t =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[v:-&gt;x | (v,(x,y))&lt;-t ]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[v:-&gt;y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| (v,(x,y))&lt;-t ]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707760" y="-360"/>
            <a:ext cx="8343720" cy="1444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0.3 genTabToSubsts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.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 Построение sGenUp и sGenDn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10.4 Обобщение рестрикций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аны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U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D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такие, что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Up = ((tUp, cenvUp), rUp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Dn = ((tDn, cenvDn), rDn)</a:t>
            </a:r>
            <a:br>
              <a:rPr sz="28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theSameTerm tUp tD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tUp = tDn = 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length cenvU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length cenvD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n</a:t>
            </a:r>
            <a:br>
              <a:rPr sz="2400"/>
            </a:br>
            <a:br>
              <a:rPr sz="16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envUp =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var</a:t>
            </a:r>
            <a:r>
              <a:rPr b="1" lang="ru-RU" sz="2800" spc="-1" strike="noStrike" baseline="-25000">
                <a:solidFill>
                  <a:srgbClr val="8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=cexpUp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,... (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var</a:t>
            </a:r>
            <a:r>
              <a:rPr b="1" lang="ru-RU" sz="2800" spc="-1" strike="noStrike" baseline="-25000">
                <a:solidFill>
                  <a:srgbClr val="8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=cexpUp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]</a:t>
            </a:r>
            <a:br>
              <a:rPr sz="2800"/>
            </a:br>
            <a:br>
              <a:rPr sz="16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envDn =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var</a:t>
            </a:r>
            <a:r>
              <a:rPr b="1" lang="ru-RU" sz="2800" spc="-1" strike="noStrike" baseline="-25000">
                <a:solidFill>
                  <a:srgbClr val="8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=cexpDn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,..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var</a:t>
            </a:r>
            <a:r>
              <a:rPr b="1" lang="ru-RU" sz="2800" spc="-1" strike="noStrike" baseline="-25000">
                <a:solidFill>
                  <a:srgbClr val="8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=cexpDn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10.4 Обобщение рестрикций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роим тесную общую надконфигурацию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Gen 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≥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c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Gen 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≥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cDn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Gen = ((t, cenvGen), rGen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envGen =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[(var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=cexpGen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,...(var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=cexpGen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]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делано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expGen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GenU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GenD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expGen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/.sGenUp==cexpUp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expGen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≥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cexpUp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expGen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/.sGenDn == cexpDn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expGen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≥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cexpDn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br>
              <a:rPr sz="2800"/>
            </a:b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Осталось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построи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Gen r’Up r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Gen/.sGenUp/.r’Up==rUp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Gen/.sGenDn/.r’Dn==r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95440" y="5149800"/>
            <a:ext cx="8229600" cy="1641600"/>
          </a:xfrm>
          <a:prstGeom prst="roundRect">
            <a:avLst>
              <a:gd name="adj" fmla="val 25435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-3240" y="557280"/>
            <a:ext cx="9190080" cy="6287760"/>
            <a:chOff x="-3240" y="557280"/>
            <a:chExt cx="9190080" cy="6287760"/>
          </a:xfrm>
        </p:grpSpPr>
        <p:pic>
          <p:nvPicPr>
            <p:cNvPr id="95" name="Picture 3" descr="slides"/>
            <p:cNvPicPr/>
            <p:nvPr/>
          </p:nvPicPr>
          <p:blipFill>
            <a:blip r:embed="rId1"/>
            <a:stretch/>
          </p:blipFill>
          <p:spPr>
            <a:xfrm>
              <a:off x="-3240" y="557280"/>
              <a:ext cx="9147240" cy="62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4"/>
            <p:cNvSpPr/>
            <p:nvPr/>
          </p:nvSpPr>
          <p:spPr>
            <a:xfrm>
              <a:off x="5000760" y="169344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упер-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компиляц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scp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7" name="Text Box 5"/>
            <p:cNvSpPr/>
            <p:nvPr/>
          </p:nvSpPr>
          <p:spPr>
            <a:xfrm>
              <a:off x="6894360" y="2774520"/>
              <a:ext cx="20210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пециализац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ограмм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8" name="Text Box 6"/>
            <p:cNvSpPr/>
            <p:nvPr/>
          </p:nvSpPr>
          <p:spPr>
            <a:xfrm>
              <a:off x="7080120" y="1834920"/>
              <a:ext cx="20894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иложен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уперкомпиляции,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в том числ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9" name="Text Box 7"/>
            <p:cNvSpPr/>
            <p:nvPr/>
          </p:nvSpPr>
          <p:spPr>
            <a:xfrm>
              <a:off x="3209760" y="1145880"/>
              <a:ext cx="277200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Базовы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онятия и методы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метавычислени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int, SR, ptr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0" name="Text Box 8"/>
            <p:cNvSpPr/>
            <p:nvPr/>
          </p:nvSpPr>
          <p:spPr>
            <a:xfrm>
              <a:off x="4189320" y="3051000"/>
              <a:ext cx="277200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версно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вычислени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ura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1" name="Text Box 9"/>
            <p:cNvSpPr/>
            <p:nvPr/>
          </p:nvSpPr>
          <p:spPr>
            <a:xfrm>
              <a:off x="2227320" y="306504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Окрестностны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анализ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nan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2" name="Text Box 10"/>
            <p:cNvSpPr/>
            <p:nvPr/>
          </p:nvSpPr>
          <p:spPr>
            <a:xfrm>
              <a:off x="7262640" y="1077480"/>
              <a:ext cx="19242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6600"/>
                  </a:solidFill>
                  <a:latin typeface="Arial"/>
                </a:rPr>
                <a:t>Приложен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6600"/>
                  </a:solidFill>
                  <a:latin typeface="Arial"/>
                </a:rPr>
                <a:t>метавычислени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3" name="Text Box 11"/>
            <p:cNvSpPr/>
            <p:nvPr/>
          </p:nvSpPr>
          <p:spPr>
            <a:xfrm>
              <a:off x="2173320" y="1707840"/>
              <a:ext cx="12841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ые методы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4" name="Text Box 12"/>
            <p:cNvSpPr/>
            <p:nvPr/>
          </p:nvSpPr>
          <p:spPr>
            <a:xfrm>
              <a:off x="352440" y="2252520"/>
              <a:ext cx="14889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ы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иложен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5" name="Text Box 13"/>
            <p:cNvSpPr/>
            <p:nvPr/>
          </p:nvSpPr>
          <p:spPr>
            <a:xfrm>
              <a:off x="442800" y="6522840"/>
              <a:ext cx="8039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[2] Л.В.Парменова  «Метавычисления и их применения. Суперкомпиляция»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6" name="Text Box 14"/>
            <p:cNvSpPr/>
            <p:nvPr/>
          </p:nvSpPr>
          <p:spPr>
            <a:xfrm>
              <a:off x="1938240" y="6233760"/>
              <a:ext cx="55562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[1] С.М.Абрамов «Метавычисления и их применения»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7" name="Text Box 15"/>
            <p:cNvSpPr/>
            <p:nvPr/>
          </p:nvSpPr>
          <p:spPr>
            <a:xfrm>
              <a:off x="469800" y="711000"/>
              <a:ext cx="27720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Область возможных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новых исследовани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8" name="Text Box 16"/>
            <p:cNvSpPr/>
            <p:nvPr/>
          </p:nvSpPr>
          <p:spPr>
            <a:xfrm>
              <a:off x="1673280" y="4481280"/>
              <a:ext cx="27716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Окрестностно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тестировани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9" name="Text Box 17"/>
            <p:cNvSpPr/>
            <p:nvPr/>
          </p:nvSpPr>
          <p:spPr>
            <a:xfrm>
              <a:off x="3265560" y="513360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Реализац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нестандартных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емантик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10" name="Text Box 18"/>
            <p:cNvSpPr/>
            <p:nvPr/>
          </p:nvSpPr>
          <p:spPr>
            <a:xfrm>
              <a:off x="5280120" y="4322520"/>
              <a:ext cx="1844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версно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ограммиро-вани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11" name="Text Box 19"/>
            <p:cNvSpPr/>
            <p:nvPr/>
          </p:nvSpPr>
          <p:spPr>
            <a:xfrm>
              <a:off x="5497560" y="1077480"/>
              <a:ext cx="18558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6600"/>
                  </a:solidFill>
                  <a:latin typeface="Arial"/>
                </a:rPr>
                <a:t>Методы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6600"/>
                  </a:solidFill>
                  <a:latin typeface="Arial"/>
                </a:rPr>
                <a:t>метавычислени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112" name="Text Box 20"/>
          <p:cNvSpPr/>
          <p:nvPr/>
        </p:nvSpPr>
        <p:spPr>
          <a:xfrm>
            <a:off x="671400" y="-82440"/>
            <a:ext cx="77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Структура курса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3" name="AutoShape 21"/>
          <p:cNvSpPr/>
          <p:nvPr/>
        </p:nvSpPr>
        <p:spPr>
          <a:xfrm>
            <a:off x="5943600" y="2389320"/>
            <a:ext cx="887400" cy="3089160"/>
          </a:xfrm>
          <a:prstGeom prst="upArrow">
            <a:avLst>
              <a:gd name="adj1" fmla="val 50000"/>
              <a:gd name="adj2" fmla="val 87028"/>
            </a:avLst>
          </a:prstGeom>
          <a:solidFill>
            <a:srgbClr val="ff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10.4 Обобщение рестрикций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же построено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tab, </a:t>
            </a: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cenvGe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 i’) =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раздел 10.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genCEnv [ ]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cenvD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cenvUp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i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sGenD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sGenUp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 =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раздел 10.3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genTabToSubsts t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завершения построени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Ge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необходимо построить наиболее сильные ограничени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Ge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условие н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Ge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разложим на два независимых условия)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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r’Up: (rGen/.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sGenUp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 +. r’Up ==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rUp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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r’Dn: (rGen/.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sGenD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 +. r’Dn ==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r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595440" y="5373720"/>
            <a:ext cx="8229600" cy="1117440"/>
          </a:xfrm>
          <a:prstGeom prst="roundRect">
            <a:avLst>
              <a:gd name="adj" fmla="val 25435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10.4 Обобщение рестрикций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прощаем условие н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Ge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се неравенства из (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Gen/.sGenD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входят в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D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се неравенства из (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Gen/.sGenU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входят в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U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о есть, в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Ge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ходят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только такие неравенств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x:=/=:y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что ..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равенств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x:=/=:y)/.sGenD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либо тавтология, либо неравенство из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равенств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x:=/=:y)/.sGenU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либо тавтология, либо неравенство из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10.4 Обобщение рестрикций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Ge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ходят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такие неравенств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x:=/=:y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, что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равенств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x:=/=:y)/.sGenD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либо тавтология, либо неравенство из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равенств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x:=/=:y)/.sGenU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либо тавтология, либо неравенство из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Ge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должно быть как можно более сильным ограничением — содержать как можно больше таких неравенств. То есть,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Gen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лжно содержать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только такие и все так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еравенства (как описано выше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utoShape 26"/>
          <p:cNvSpPr/>
          <p:nvPr/>
        </p:nvSpPr>
        <p:spPr>
          <a:xfrm>
            <a:off x="2521080" y="2027160"/>
            <a:ext cx="411948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x:=/=:y)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rGe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Условие на rGen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2884320" y="1333440"/>
            <a:ext cx="339264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rGe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158" name="AutoShape 4"/>
          <p:cNvCxnSpPr>
            <a:stCxn id="159" idx="2"/>
            <a:endCxn id="160" idx="3"/>
          </p:cNvCxnSpPr>
          <p:nvPr/>
        </p:nvCxnSpPr>
        <p:spPr>
          <a:xfrm flipH="1">
            <a:off x="3207960" y="3728520"/>
            <a:ext cx="1031040" cy="108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161" name="Oval 5"/>
          <p:cNvSpPr/>
          <p:nvPr/>
        </p:nvSpPr>
        <p:spPr>
          <a:xfrm>
            <a:off x="1828800" y="4476600"/>
            <a:ext cx="628560" cy="628920"/>
          </a:xfrm>
          <a:prstGeom prst="ellipse">
            <a:avLst/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258840" y="5403960"/>
            <a:ext cx="166356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D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2085840" y="5405400"/>
            <a:ext cx="234972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autologie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4" name="Oval 8"/>
          <p:cNvSpPr/>
          <p:nvPr/>
        </p:nvSpPr>
        <p:spPr>
          <a:xfrm>
            <a:off x="6630840" y="4476600"/>
            <a:ext cx="628920" cy="628920"/>
          </a:xfrm>
          <a:prstGeom prst="ellipse">
            <a:avLst/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165" name="AutoShape 9"/>
          <p:cNvCxnSpPr>
            <a:stCxn id="159" idx="6"/>
            <a:endCxn id="166" idx="1"/>
          </p:cNvCxnSpPr>
          <p:nvPr/>
        </p:nvCxnSpPr>
        <p:spPr>
          <a:xfrm>
            <a:off x="4924080" y="3728520"/>
            <a:ext cx="956520" cy="108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167" name="AutoShape 10"/>
          <p:cNvCxnSpPr>
            <a:stCxn id="161" idx="2"/>
            <a:endCxn id="162" idx="0"/>
          </p:cNvCxnSpPr>
          <p:nvPr/>
        </p:nvCxnSpPr>
        <p:spPr>
          <a:xfrm flipH="1">
            <a:off x="1090440" y="4791240"/>
            <a:ext cx="710280" cy="58464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168" name="AutoShape 11"/>
          <p:cNvCxnSpPr>
            <a:stCxn id="161" idx="6"/>
            <a:endCxn id="163" idx="0"/>
          </p:cNvCxnSpPr>
          <p:nvPr/>
        </p:nvCxnSpPr>
        <p:spPr>
          <a:xfrm>
            <a:off x="2486160" y="4790880"/>
            <a:ext cx="775440" cy="58644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169" name="AutoShape 12"/>
          <p:cNvCxnSpPr>
            <a:stCxn id="164" idx="6"/>
            <a:endCxn id="170" idx="0"/>
          </p:cNvCxnSpPr>
          <p:nvPr/>
        </p:nvCxnSpPr>
        <p:spPr>
          <a:xfrm>
            <a:off x="7287840" y="4790880"/>
            <a:ext cx="626040" cy="58644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159" name="Oval 14"/>
          <p:cNvSpPr/>
          <p:nvPr/>
        </p:nvSpPr>
        <p:spPr>
          <a:xfrm>
            <a:off x="4267080" y="3414600"/>
            <a:ext cx="628920" cy="628920"/>
          </a:xfrm>
          <a:prstGeom prst="ellipse">
            <a:avLst/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171" name="AutoShape 15"/>
          <p:cNvCxnSpPr>
            <a:stCxn id="155" idx="2"/>
            <a:endCxn id="159" idx="0"/>
          </p:cNvCxnSpPr>
          <p:nvPr/>
        </p:nvCxnSpPr>
        <p:spPr>
          <a:xfrm>
            <a:off x="4581000" y="2905200"/>
            <a:ext cx="1080" cy="48168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160" name="AutoShape 16"/>
          <p:cNvSpPr/>
          <p:nvPr/>
        </p:nvSpPr>
        <p:spPr>
          <a:xfrm>
            <a:off x="1108080" y="3446640"/>
            <a:ext cx="2071800" cy="563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GenDn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172" name="AutoShape 17"/>
          <p:cNvCxnSpPr>
            <a:stCxn id="160" idx="2"/>
            <a:endCxn id="161" idx="0"/>
          </p:cNvCxnSpPr>
          <p:nvPr/>
        </p:nvCxnSpPr>
        <p:spPr>
          <a:xfrm flipH="1">
            <a:off x="2142360" y="4038480"/>
            <a:ext cx="2520" cy="41040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166" name="AutoShape 21"/>
          <p:cNvSpPr/>
          <p:nvPr/>
        </p:nvSpPr>
        <p:spPr>
          <a:xfrm>
            <a:off x="5908680" y="3446640"/>
            <a:ext cx="2071800" cy="563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Ge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173" name="AutoShape 22"/>
          <p:cNvCxnSpPr>
            <a:stCxn id="164" idx="2"/>
            <a:endCxn id="174" idx="0"/>
          </p:cNvCxnSpPr>
          <p:nvPr/>
        </p:nvCxnSpPr>
        <p:spPr>
          <a:xfrm flipH="1">
            <a:off x="5740200" y="4791240"/>
            <a:ext cx="862560" cy="58464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175" name="AutoShape 23"/>
          <p:cNvCxnSpPr>
            <a:stCxn id="166" idx="2"/>
            <a:endCxn id="164" idx="0"/>
          </p:cNvCxnSpPr>
          <p:nvPr/>
        </p:nvCxnSpPr>
        <p:spPr>
          <a:xfrm>
            <a:off x="6945120" y="4038480"/>
            <a:ext cx="1080" cy="41040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174" name="AutoShape 24"/>
          <p:cNvSpPr/>
          <p:nvPr/>
        </p:nvSpPr>
        <p:spPr>
          <a:xfrm>
            <a:off x="4908600" y="5403960"/>
            <a:ext cx="166356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Up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" name="AutoShape 25"/>
          <p:cNvSpPr/>
          <p:nvPr/>
        </p:nvSpPr>
        <p:spPr>
          <a:xfrm>
            <a:off x="6738840" y="5405400"/>
            <a:ext cx="234972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autologie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Условие на rGen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7" name="AutoShape 3"/>
          <p:cNvSpPr/>
          <p:nvPr/>
        </p:nvSpPr>
        <p:spPr>
          <a:xfrm>
            <a:off x="2884320" y="1333440"/>
            <a:ext cx="339264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rGe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178" name="AutoShape 4"/>
          <p:cNvCxnSpPr>
            <a:stCxn id="179" idx="6"/>
            <a:endCxn id="180" idx="2"/>
          </p:cNvCxnSpPr>
          <p:nvPr/>
        </p:nvCxnSpPr>
        <p:spPr>
          <a:xfrm flipV="1">
            <a:off x="2486160" y="3217680"/>
            <a:ext cx="1753200" cy="216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179" name="Oval 5"/>
          <p:cNvSpPr/>
          <p:nvPr/>
        </p:nvSpPr>
        <p:spPr>
          <a:xfrm>
            <a:off x="1828800" y="2905200"/>
            <a:ext cx="628560" cy="628560"/>
          </a:xfrm>
          <a:prstGeom prst="ellipse">
            <a:avLst/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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258840" y="5403960"/>
            <a:ext cx="166356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D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2085840" y="5405400"/>
            <a:ext cx="234972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autologie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3" name="Oval 8"/>
          <p:cNvSpPr/>
          <p:nvPr/>
        </p:nvSpPr>
        <p:spPr>
          <a:xfrm>
            <a:off x="6635880" y="2903400"/>
            <a:ext cx="628560" cy="628920"/>
          </a:xfrm>
          <a:prstGeom prst="ellipse">
            <a:avLst/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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184" name="AutoShape 9"/>
          <p:cNvCxnSpPr>
            <a:stCxn id="183" idx="2"/>
            <a:endCxn id="180" idx="6"/>
          </p:cNvCxnSpPr>
          <p:nvPr/>
        </p:nvCxnSpPr>
        <p:spPr>
          <a:xfrm flipH="1">
            <a:off x="4924080" y="3217680"/>
            <a:ext cx="1683360" cy="108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185" name="AutoShape 10"/>
          <p:cNvCxnSpPr>
            <a:stCxn id="181" idx="0"/>
            <a:endCxn id="186" idx="2"/>
          </p:cNvCxnSpPr>
          <p:nvPr/>
        </p:nvCxnSpPr>
        <p:spPr>
          <a:xfrm flipV="1">
            <a:off x="1090080" y="5027400"/>
            <a:ext cx="2520" cy="34776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187" name="AutoShape 11"/>
          <p:cNvCxnSpPr>
            <a:stCxn id="182" idx="0"/>
            <a:endCxn id="188" idx="2"/>
          </p:cNvCxnSpPr>
          <p:nvPr/>
        </p:nvCxnSpPr>
        <p:spPr>
          <a:xfrm flipV="1">
            <a:off x="3260880" y="5027400"/>
            <a:ext cx="2160" cy="34992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189" name="AutoShape 12"/>
          <p:cNvCxnSpPr>
            <a:stCxn id="190" idx="0"/>
            <a:endCxn id="191" idx="2"/>
          </p:cNvCxnSpPr>
          <p:nvPr/>
        </p:nvCxnSpPr>
        <p:spPr>
          <a:xfrm flipV="1">
            <a:off x="7913160" y="5027400"/>
            <a:ext cx="1080" cy="34992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192" name="AutoShape 13"/>
          <p:cNvCxnSpPr>
            <a:stCxn id="193" idx="0"/>
            <a:endCxn id="194" idx="2"/>
          </p:cNvCxnSpPr>
          <p:nvPr/>
        </p:nvCxnSpPr>
        <p:spPr>
          <a:xfrm flipV="1">
            <a:off x="5740560" y="5027400"/>
            <a:ext cx="2160" cy="34776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180" name="Oval 14"/>
          <p:cNvSpPr/>
          <p:nvPr/>
        </p:nvSpPr>
        <p:spPr>
          <a:xfrm>
            <a:off x="4267080" y="2903400"/>
            <a:ext cx="628920" cy="628920"/>
          </a:xfrm>
          <a:prstGeom prst="ellipse">
            <a:avLst/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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195" name="AutoShape 15"/>
          <p:cNvCxnSpPr>
            <a:stCxn id="180" idx="0"/>
            <a:endCxn id="177" idx="2"/>
          </p:cNvCxnSpPr>
          <p:nvPr/>
        </p:nvCxnSpPr>
        <p:spPr>
          <a:xfrm flipV="1">
            <a:off x="4581000" y="2210760"/>
            <a:ext cx="1080" cy="66420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186" name="AutoShape 16"/>
          <p:cNvSpPr/>
          <p:nvPr/>
        </p:nvSpPr>
        <p:spPr>
          <a:xfrm>
            <a:off x="55440" y="4435560"/>
            <a:ext cx="2071800" cy="563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/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GenD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196" name="AutoShape 17"/>
          <p:cNvCxnSpPr>
            <a:stCxn id="186" idx="0"/>
            <a:endCxn id="179" idx="3"/>
          </p:cNvCxnSpPr>
          <p:nvPr/>
        </p:nvCxnSpPr>
        <p:spPr>
          <a:xfrm flipV="1">
            <a:off x="1092240" y="3469680"/>
            <a:ext cx="829440" cy="93708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197" name="AutoShape 18"/>
          <p:cNvCxnSpPr>
            <a:stCxn id="188" idx="0"/>
            <a:endCxn id="179" idx="5"/>
          </p:cNvCxnSpPr>
          <p:nvPr/>
        </p:nvCxnSpPr>
        <p:spPr>
          <a:xfrm flipH="1" flipV="1">
            <a:off x="2364840" y="3469680"/>
            <a:ext cx="897840" cy="93708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188" name="AutoShape 19"/>
          <p:cNvSpPr/>
          <p:nvPr/>
        </p:nvSpPr>
        <p:spPr>
          <a:xfrm>
            <a:off x="2225520" y="4435560"/>
            <a:ext cx="2071800" cy="563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/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GenD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4" name="AutoShape 20"/>
          <p:cNvSpPr/>
          <p:nvPr/>
        </p:nvSpPr>
        <p:spPr>
          <a:xfrm>
            <a:off x="4705200" y="4435560"/>
            <a:ext cx="2071800" cy="563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/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Ge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p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1" name="AutoShape 21"/>
          <p:cNvSpPr/>
          <p:nvPr/>
        </p:nvSpPr>
        <p:spPr>
          <a:xfrm>
            <a:off x="6877080" y="4435560"/>
            <a:ext cx="2071800" cy="563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/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Ge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p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198" name="AutoShape 22"/>
          <p:cNvCxnSpPr>
            <a:stCxn id="194" idx="0"/>
            <a:endCxn id="183" idx="3"/>
          </p:cNvCxnSpPr>
          <p:nvPr/>
        </p:nvCxnSpPr>
        <p:spPr>
          <a:xfrm flipV="1">
            <a:off x="5742000" y="3468240"/>
            <a:ext cx="986400" cy="93888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199" name="AutoShape 23"/>
          <p:cNvCxnSpPr>
            <a:stCxn id="191" idx="0"/>
            <a:endCxn id="183" idx="5"/>
          </p:cNvCxnSpPr>
          <p:nvPr/>
        </p:nvCxnSpPr>
        <p:spPr>
          <a:xfrm flipH="1" flipV="1">
            <a:off x="7171560" y="3468240"/>
            <a:ext cx="741960" cy="93888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193" name="AutoShape 24"/>
          <p:cNvSpPr/>
          <p:nvPr/>
        </p:nvSpPr>
        <p:spPr>
          <a:xfrm>
            <a:off x="4908600" y="5403960"/>
            <a:ext cx="166356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Up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0" name="AutoShape 25"/>
          <p:cNvSpPr/>
          <p:nvPr/>
        </p:nvSpPr>
        <p:spPr>
          <a:xfrm>
            <a:off x="6738840" y="5405400"/>
            <a:ext cx="234972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autologie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Условие на rGen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2884320" y="1333440"/>
            <a:ext cx="339264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rGe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202" name="AutoShape 4"/>
          <p:cNvCxnSpPr>
            <a:stCxn id="203" idx="6"/>
            <a:endCxn id="204" idx="2"/>
          </p:cNvCxnSpPr>
          <p:nvPr/>
        </p:nvCxnSpPr>
        <p:spPr>
          <a:xfrm flipV="1">
            <a:off x="2486160" y="3217680"/>
            <a:ext cx="1753200" cy="216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203" name="Oval 5"/>
          <p:cNvSpPr/>
          <p:nvPr/>
        </p:nvSpPr>
        <p:spPr>
          <a:xfrm>
            <a:off x="1828800" y="2905200"/>
            <a:ext cx="628560" cy="628560"/>
          </a:xfrm>
          <a:prstGeom prst="ellipse">
            <a:avLst/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.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258840" y="5403960"/>
            <a:ext cx="166356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D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2085840" y="5405400"/>
            <a:ext cx="234972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autologie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6635880" y="2903400"/>
            <a:ext cx="628560" cy="628920"/>
          </a:xfrm>
          <a:prstGeom prst="ellipse">
            <a:avLst/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+.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208" name="AutoShape 10"/>
          <p:cNvCxnSpPr>
            <a:stCxn id="207" idx="2"/>
            <a:endCxn id="204" idx="6"/>
          </p:cNvCxnSpPr>
          <p:nvPr/>
        </p:nvCxnSpPr>
        <p:spPr>
          <a:xfrm flipH="1">
            <a:off x="4924080" y="3217680"/>
            <a:ext cx="1683360" cy="108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209" name="AutoShape 11"/>
          <p:cNvCxnSpPr>
            <a:stCxn id="205" idx="0"/>
            <a:endCxn id="210" idx="2"/>
          </p:cNvCxnSpPr>
          <p:nvPr/>
        </p:nvCxnSpPr>
        <p:spPr>
          <a:xfrm flipV="1">
            <a:off x="1090080" y="5027400"/>
            <a:ext cx="2520" cy="34776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211" name="AutoShape 12"/>
          <p:cNvCxnSpPr>
            <a:stCxn id="206" idx="0"/>
            <a:endCxn id="212" idx="2"/>
          </p:cNvCxnSpPr>
          <p:nvPr/>
        </p:nvCxnSpPr>
        <p:spPr>
          <a:xfrm flipV="1">
            <a:off x="3260880" y="5027400"/>
            <a:ext cx="2160" cy="34992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213" name="AutoShape 13"/>
          <p:cNvCxnSpPr>
            <a:stCxn id="214" idx="0"/>
            <a:endCxn id="215" idx="2"/>
          </p:cNvCxnSpPr>
          <p:nvPr/>
        </p:nvCxnSpPr>
        <p:spPr>
          <a:xfrm flipV="1">
            <a:off x="7913160" y="5027400"/>
            <a:ext cx="1080" cy="34992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216" name="AutoShape 14"/>
          <p:cNvCxnSpPr>
            <a:stCxn id="217" idx="0"/>
            <a:endCxn id="218" idx="2"/>
          </p:cNvCxnSpPr>
          <p:nvPr/>
        </p:nvCxnSpPr>
        <p:spPr>
          <a:xfrm flipV="1">
            <a:off x="5740560" y="5027400"/>
            <a:ext cx="2160" cy="34776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204" name="Oval 15"/>
          <p:cNvSpPr/>
          <p:nvPr/>
        </p:nvSpPr>
        <p:spPr>
          <a:xfrm>
            <a:off x="4267080" y="2903400"/>
            <a:ext cx="628920" cy="628920"/>
          </a:xfrm>
          <a:prstGeom prst="ellipse">
            <a:avLst/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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219" name="AutoShape 16"/>
          <p:cNvCxnSpPr>
            <a:stCxn id="204" idx="0"/>
            <a:endCxn id="201" idx="2"/>
          </p:cNvCxnSpPr>
          <p:nvPr/>
        </p:nvCxnSpPr>
        <p:spPr>
          <a:xfrm flipV="1">
            <a:off x="4581000" y="2210760"/>
            <a:ext cx="1080" cy="66420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210" name="AutoShape 17"/>
          <p:cNvSpPr/>
          <p:nvPr/>
        </p:nvSpPr>
        <p:spPr>
          <a:xfrm>
            <a:off x="55440" y="4435560"/>
            <a:ext cx="2071800" cy="563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/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GenD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220" name="AutoShape 18"/>
          <p:cNvCxnSpPr>
            <a:stCxn id="210" idx="0"/>
            <a:endCxn id="203" idx="3"/>
          </p:cNvCxnSpPr>
          <p:nvPr/>
        </p:nvCxnSpPr>
        <p:spPr>
          <a:xfrm flipV="1">
            <a:off x="1092240" y="3469680"/>
            <a:ext cx="829440" cy="93708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221" name="AutoShape 19"/>
          <p:cNvCxnSpPr>
            <a:stCxn id="212" idx="0"/>
            <a:endCxn id="203" idx="5"/>
          </p:cNvCxnSpPr>
          <p:nvPr/>
        </p:nvCxnSpPr>
        <p:spPr>
          <a:xfrm flipH="1" flipV="1">
            <a:off x="2364840" y="3469680"/>
            <a:ext cx="897840" cy="93708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212" name="AutoShape 20"/>
          <p:cNvSpPr/>
          <p:nvPr/>
        </p:nvSpPr>
        <p:spPr>
          <a:xfrm>
            <a:off x="2225520" y="4435560"/>
            <a:ext cx="2071800" cy="563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/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GenD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8" name="AutoShape 21"/>
          <p:cNvSpPr/>
          <p:nvPr/>
        </p:nvSpPr>
        <p:spPr>
          <a:xfrm>
            <a:off x="4705200" y="4435560"/>
            <a:ext cx="2071800" cy="563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/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Ge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p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5" name="AutoShape 22"/>
          <p:cNvSpPr/>
          <p:nvPr/>
        </p:nvSpPr>
        <p:spPr>
          <a:xfrm>
            <a:off x="6877080" y="4435560"/>
            <a:ext cx="2071800" cy="563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/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Ge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p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222" name="AutoShape 23"/>
          <p:cNvCxnSpPr>
            <a:stCxn id="218" idx="0"/>
            <a:endCxn id="207" idx="3"/>
          </p:cNvCxnSpPr>
          <p:nvPr/>
        </p:nvCxnSpPr>
        <p:spPr>
          <a:xfrm flipV="1">
            <a:off x="5742000" y="3468240"/>
            <a:ext cx="986400" cy="93888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223" name="AutoShape 24"/>
          <p:cNvCxnSpPr>
            <a:stCxn id="215" idx="0"/>
            <a:endCxn id="207" idx="5"/>
          </p:cNvCxnSpPr>
          <p:nvPr/>
        </p:nvCxnSpPr>
        <p:spPr>
          <a:xfrm flipH="1" flipV="1">
            <a:off x="7171560" y="3468240"/>
            <a:ext cx="741960" cy="93888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217" name="AutoShape 25"/>
          <p:cNvSpPr/>
          <p:nvPr/>
        </p:nvSpPr>
        <p:spPr>
          <a:xfrm>
            <a:off x="4908600" y="5403960"/>
            <a:ext cx="166356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Up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4" name="AutoShape 26"/>
          <p:cNvSpPr/>
          <p:nvPr/>
        </p:nvSpPr>
        <p:spPr>
          <a:xfrm>
            <a:off x="6738840" y="5405400"/>
            <a:ext cx="234972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autologie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10.4 Обобщение рестрикций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6400" indent="-35640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означим через (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mkRestr r s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рестрикцию, содержащую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такие, и все так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еравенства (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x:=/=:y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, чт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x:=/=:y)/.s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либо тавтология, либо неравенство из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56400" indent="-35640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огда, построение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Ge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водится к следующему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RESTR rGDn) = mkRestr rDn sGenDn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RESTR rGUp) = mkRestr rUp sGenUp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Gen=RESTR [ n | n&lt;-rGDn, n ‘elem‘ rGUp ]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пересечение списков неравенст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10.4.2 Функция mkRestr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рестрикция (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D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л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U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подстановка (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GenD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л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GenU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, тогда рестрикция (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G = mkRestr r 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 — объединение </a:t>
            </a:r>
            <a:br>
              <a:rPr sz="32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G = (RESTR r1) +. (RESTR r2)</a:t>
            </a:r>
            <a:br>
              <a:rPr sz="3200"/>
            </a:br>
            <a:br>
              <a:rPr sz="16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де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список всех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x:=/=:y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аких, чт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x:=/=:y)/.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еравенство из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список всех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x:=/=:y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аких, чт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x:=/=:y)/.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тавтолог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10.4.2 Функция mkRestr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строение r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Пусть (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a:=/=:b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 из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пусть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x:=/=:y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акое, что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x:=/=:y)/.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==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a:=/=:b)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x /.s = a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y /.s = b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о есть, дл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/.s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ca-выражени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является прообразом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ca-выражени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является прообразом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10.4.2 Функция mkRestr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о есть, в список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ходят те и только те неравенств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x:=/=:y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которых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1 = [ x:=/=:y |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a:=/=:b) &lt;- r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x&lt;-(invAImg a)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y&lt;-(invAImg b) ]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invAImg c)_x0016_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писок всех ca-выражений прообразов ca-выражени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для операции (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/.s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nvAImg c 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if (isAtom c) then [c] else [ ]) ++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[ x | (x@(CVA _):-&gt;z)&lt;-s, z==c 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AutoShape 4"/>
          <p:cNvSpPr/>
          <p:nvPr/>
        </p:nvSpPr>
        <p:spPr>
          <a:xfrm>
            <a:off x="193680" y="887400"/>
            <a:ext cx="8820000" cy="1844640"/>
          </a:xfrm>
          <a:prstGeom prst="rightArrow">
            <a:avLst>
              <a:gd name="adj1" fmla="val 50000"/>
              <a:gd name="adj2" fmla="val 11953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19.04.2007</a:t>
            </a: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0.1 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Gener: 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Постановка задач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аны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U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D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такие, что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Up = ((tUp, cenvUp), rUp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Dn = ((tDn, cenvDn), rDn)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theSameTerm tUp tD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tUp = tDn = 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length cenvU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length cenvD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n</a:t>
            </a:r>
            <a:br>
              <a:rPr sz="2400"/>
            </a:br>
            <a:br>
              <a:rPr sz="16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envUp =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var</a:t>
            </a:r>
            <a:r>
              <a:rPr b="1" lang="ru-RU" sz="2800" spc="-1" strike="noStrike" baseline="-25000">
                <a:solidFill>
                  <a:srgbClr val="8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=cexpUp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,... (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var</a:t>
            </a:r>
            <a:r>
              <a:rPr b="1" lang="ru-RU" sz="2800" spc="-1" strike="noStrike" baseline="-25000">
                <a:solidFill>
                  <a:srgbClr val="8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=cexpUp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]</a:t>
            </a:r>
            <a:br>
              <a:rPr sz="2800"/>
            </a:br>
            <a:br>
              <a:rPr sz="16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envDn =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var</a:t>
            </a:r>
            <a:r>
              <a:rPr b="1" lang="ru-RU" sz="2800" spc="-1" strike="noStrike" baseline="-25000">
                <a:solidFill>
                  <a:srgbClr val="8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=cexpDn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,..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var</a:t>
            </a:r>
            <a:r>
              <a:rPr b="1" lang="ru-RU" sz="2800" spc="-1" strike="noStrike" baseline="-25000">
                <a:solidFill>
                  <a:srgbClr val="8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=cexpDn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10.4.2 Функция mkRestr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строение r2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усть (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x:=/=:y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 не тавтология, 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x:=/=:y)/.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тавтология: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a = x/.s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b = y/.s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sCAExp x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sCAExp y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x/=y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sAtom a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sAtom b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a/=b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10.4.2 Функция mkRestr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ак как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является рестрикцией над обобщающими ca-переменными (ca-переменными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 левых частей подстановк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, то можно определить, что в список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ходят все такие (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x:=/=:y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: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VA _) = x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VA _) = y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x/=y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x :-&gt; a) ‘elem‘ s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y :-&gt; b) ‘elem‘ s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sAtom 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sAtom b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a/=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10.4.2 Функция mkRestr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mkRestr :: Restr -&gt; Subst -&gt; Restr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mkRestr (RESTR r) s =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(RESTR r1) +. (RESTR r2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where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r1=[ x:=/=:y | (a:=/=:b) &lt;- r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    x&lt;- invAImg a, y&lt;- invAImg b ]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invAImg c 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     (if isAtom c then [c] else [ ]) ++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     [ x | (x@(CVA _):-&gt;z)&lt;-s, z==c ]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r2=[ x:=/=:y |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        (x@(CVA _):-&gt; (ATOM a)) &lt;- s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        (y@(CVA _):-&gt; (ATOM b)) &lt;- s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a /= b 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10.4.3 Функция genRestr. Обобщение рестрикций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 данным рестрикциям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U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D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подстановкам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GenU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GenD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функци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genRest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роит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Ge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genRestr::Restr-&gt;Restr-&gt;Subst-&gt;Subst -&gt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Restr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genRestr rDn rUp sGenDn sGenUp = rGen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where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RESTR rGDn) = mkRestr rDn sGenDn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RESTR rGUp) = mkRestr rUp sGenUp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Gen 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RESTR [ n | n&lt;-rGDn, n ‘elem‘ rGUp ]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-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ересечение списков неравенст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1" name="AutoShape 7"/>
          <p:cNvCxnSpPr>
            <a:stCxn id="242" idx="0"/>
            <a:endCxn id="243" idx="2"/>
          </p:cNvCxnSpPr>
          <p:nvPr/>
        </p:nvCxnSpPr>
        <p:spPr>
          <a:xfrm flipV="1">
            <a:off x="4182840" y="5864040"/>
            <a:ext cx="440280" cy="4370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0.5 Функция genConf. Обобщение конфигураций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ны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U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D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акие, что:</a:t>
            </a:r>
            <a:br>
              <a:rPr sz="3200"/>
            </a:br>
            <a:br>
              <a:rPr sz="14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Up = ((tUp, cenvUp), rUp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Dn = ((tDn, cenvDn), rDn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heSameTerm tUp tDn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Up = tDn = t</a:t>
            </a:r>
            <a:br>
              <a:rPr sz="3200"/>
            </a:br>
            <a:br>
              <a:rPr sz="14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зультат функци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genConf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упорядоченная тройка</a:t>
            </a:r>
            <a:br>
              <a:rPr sz="3200"/>
            </a:br>
            <a:br>
              <a:rPr sz="14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tab, ((t, cenvGen), rGen), i’)</a:t>
            </a:r>
            <a:br>
              <a:rPr sz="3200"/>
            </a:br>
            <a:br>
              <a:rPr sz="14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аблица обобщени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ab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обобщающая конфигураци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Ge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свободный индекс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2502000" y="5200560"/>
            <a:ext cx="4241880" cy="64476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3621240" y="6319800"/>
            <a:ext cx="1123920" cy="50976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0.5 Функция genConf. Обобщение конфигураций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genConf::Conf -&gt; Conf -&gt; FreeIndx -&gt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(GTab, Conf, FreeIndx)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genConf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((tDn, cenvDn), rDn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((tUp, cenvUp), rUp) i 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(tab, ((tDn, cenvGen), rGen), i’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where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tab, cenvGen, i’) 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genCEnv [] cenvDn cenvUp i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sGenDn, sGenUp) 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genTabToSubsts tab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Gen 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genRestr rDn rUp sGenDn sGen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07760" y="7272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0.6 isEqCUpCGen: Проверка вложения cUp 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≥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 cDn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77440"/>
            <a:ext cx="8493120" cy="53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аны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U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D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такие, что:</a:t>
            </a:r>
            <a:br>
              <a:rPr sz="2800"/>
            </a:br>
            <a:br>
              <a:rPr sz="12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Up = ((tUp, cenvUp), rUp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Dn = ((tDn, cenvDn), rDn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heSameTerm tUp tDn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Up = tDn = t</a:t>
            </a:r>
            <a:br>
              <a:rPr sz="2800"/>
            </a:br>
            <a:br>
              <a:rPr sz="12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лгоритм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en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зволяет вычислить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Gen=((t, cenvGen), rGen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GenU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GenD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br>
              <a:rPr sz="12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tab, cGen, i’) = genConf cDn cUp i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sGenDn, sGenUp) = genTabToSubsts tab</a:t>
            </a:r>
            <a:br>
              <a:rPr sz="2800"/>
            </a:br>
            <a:br>
              <a:rPr sz="12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акие, чт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Gen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≥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U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Gen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≥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D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нам надо проверить условие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Up 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≥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cD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Какие иде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7200" y="1374480"/>
            <a:ext cx="849312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силу построения тесного обобщения: услови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Up </a:t>
            </a: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≥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cD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равносильно условию «конфигураци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Ge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овпадающая с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U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с точность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 переименовки переменных», что равносильно следующему условию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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s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подстановка-переименовка: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envGen/.s == cenvUp)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amp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rGen/.s == rU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707760" y="7272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0.6 isEqCUpCGen: Проверка вложения cUp 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≥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 cDn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7200" y="1409760"/>
            <a:ext cx="849312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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одстановка-переименовка: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cenvGen/.s == cenvUp)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amp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rGen/.s == rU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 построению дл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GenU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ыполнено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envGen/.sGenUp == cenvU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U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ходит каждое неравенство из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rGen/. sGenU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верка услови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Up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≥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D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ведена к проверке двух условий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GenU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является подстановкой-переименовко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ждое неравенство из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U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ходит в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rGen/.sGenU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707760" y="7272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0.6 isEqCUpCGen: Проверка вложения cUp 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≥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 cDn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1131840" y="1349280"/>
            <a:ext cx="6235920" cy="11844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становка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GenUp = [(v1:-&gt;x1),...,(vn:-&gt;xn)]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является  подстановкой-переименовкой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252440" indent="-53316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v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x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c-переменные с одинаковыми типа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252440" indent="-53316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 c-переменные в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xs = [x1,...,xn]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различны: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xs == nub x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707760" y="7272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0.6 isEqCUpCGen: Проверка вложения cUp 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≥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 cDn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10.1 Постановка задачи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троить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тесную общую надконфигурацию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Gen </a:t>
            </a: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≥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cUp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Gen </a:t>
            </a: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≥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cD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силу Утв.22, стр.40 существуют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GenU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GenD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’U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’D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акие, что: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Up = cGen /. sGenUp /. r’Up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Dn = cGen /. sGenDn /. r’D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ждое неравенство из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U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ходит в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rGen/.sGenU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252440" indent="-53316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исок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misse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сех неравенств из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U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которые не вошли в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Gen/.sGenU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является пустым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ull mis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707760" y="7272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0.6 isEqCUpCGen: Проверка вложения cUp 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≥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 cDn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203040" y="1599840"/>
            <a:ext cx="874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809640"/>
                <a:tab algn="l" pos="1349280"/>
                <a:tab algn="l" pos="3043080"/>
                <a:tab algn="l" pos="439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sEqCUpCGen::Conf -&gt; Conf -&gt; Subst -&gt; Bool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sEqCUpCGen cUp cGen sGenUp =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sRenaming &amp;&amp; (null missed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wher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sRenaming =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all (sametypes) sGenUp) &amp;&amp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xs == nub xs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xs = [ x | (v:-&gt;x) &lt;- sGenUp ]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_, RESTR rGen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cGe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_, RESTR rUp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cU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’ = rGen /. sGenU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missed =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[ x | x&lt;-rUp, not (x ‘elem‘ r’) 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707760" y="7272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0.6 isEqCUpCGen: Проверка вложения cUp 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≥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 cDn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673092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ametype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:: SBind -&gt; Bool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ametypes ((CVA i):-&gt;(CVA j)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rue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ametypes ((CVE i):-&gt;(CVE j)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True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ametype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_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 Fal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707760" y="7272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0.6 isEqCUpCGen: Проверка вложения cUp 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≥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 cDn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99920" y="-360"/>
            <a:ext cx="8343720" cy="151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0.6.1 mkSubstUpDn: построение cUp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/.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sUpDn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==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cDn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493120" cy="53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случае, когд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Up </a:t>
            </a: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≥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cD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о есть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isEqCUpCGen cUp cGen sGenUp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будет необходимо знать подстановку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UpD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приводящую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U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D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становк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UpD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может быть построена из подстановок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GenU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GenD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99920" y="-360"/>
            <a:ext cx="8343720" cy="151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0.6.1 mkSubstUpDn: построение cUp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/.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sUpDn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==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cDn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66" name="Oval 5"/>
          <p:cNvSpPr/>
          <p:nvPr/>
        </p:nvSpPr>
        <p:spPr>
          <a:xfrm>
            <a:off x="3763800" y="1749600"/>
            <a:ext cx="1648080" cy="8395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Ge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7" name="Oval 6"/>
          <p:cNvSpPr/>
          <p:nvPr/>
        </p:nvSpPr>
        <p:spPr>
          <a:xfrm>
            <a:off x="811080" y="3429000"/>
            <a:ext cx="1648080" cy="8398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p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8" name="Oval 7"/>
          <p:cNvSpPr/>
          <p:nvPr/>
        </p:nvSpPr>
        <p:spPr>
          <a:xfrm>
            <a:off x="6388200" y="3429000"/>
            <a:ext cx="1647720" cy="8398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269" name="AutoShape 8"/>
          <p:cNvCxnSpPr>
            <a:stCxn id="266" idx="3"/>
            <a:endCxn id="267" idx="7"/>
          </p:cNvCxnSpPr>
          <p:nvPr/>
        </p:nvCxnSpPr>
        <p:spPr>
          <a:xfrm flipH="1">
            <a:off x="2217240" y="2486160"/>
            <a:ext cx="1788480" cy="10468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70" name="AutoShape 9"/>
          <p:cNvCxnSpPr>
            <a:stCxn id="266" idx="5"/>
            <a:endCxn id="268" idx="1"/>
          </p:cNvCxnSpPr>
          <p:nvPr/>
        </p:nvCxnSpPr>
        <p:spPr>
          <a:xfrm>
            <a:off x="5169960" y="2486160"/>
            <a:ext cx="1459800" cy="10468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271" name="Text Box 10"/>
          <p:cNvSpPr/>
          <p:nvPr/>
        </p:nvSpPr>
        <p:spPr>
          <a:xfrm>
            <a:off x="1527120" y="2378160"/>
            <a:ext cx="173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GenUp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745240" y="2378160"/>
            <a:ext cx="173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GenD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3038040" y="5691240"/>
            <a:ext cx="312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Общий случай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Gener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99920" y="-360"/>
            <a:ext cx="8343720" cy="151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0.6.1 mkSubstUpDn: построение cUp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/.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sUpDn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==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cDn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5" name="Oval 3"/>
          <p:cNvSpPr/>
          <p:nvPr/>
        </p:nvSpPr>
        <p:spPr>
          <a:xfrm>
            <a:off x="3763800" y="1749600"/>
            <a:ext cx="1648080" cy="8395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Ge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811080" y="1749600"/>
            <a:ext cx="1648080" cy="8395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p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7" name="Oval 5"/>
          <p:cNvSpPr/>
          <p:nvPr/>
        </p:nvSpPr>
        <p:spPr>
          <a:xfrm>
            <a:off x="6388200" y="3429000"/>
            <a:ext cx="1647720" cy="8398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278" name="AutoShape 6"/>
          <p:cNvCxnSpPr>
            <a:stCxn id="275" idx="2"/>
            <a:endCxn id="276" idx="6"/>
          </p:cNvCxnSpPr>
          <p:nvPr/>
        </p:nvCxnSpPr>
        <p:spPr>
          <a:xfrm flipH="1">
            <a:off x="2477520" y="2169720"/>
            <a:ext cx="1267560" cy="10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79" name="AutoShape 7"/>
          <p:cNvCxnSpPr>
            <a:stCxn id="275" idx="5"/>
            <a:endCxn id="277" idx="1"/>
          </p:cNvCxnSpPr>
          <p:nvPr/>
        </p:nvCxnSpPr>
        <p:spPr>
          <a:xfrm>
            <a:off x="5169960" y="2486160"/>
            <a:ext cx="1459800" cy="10468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280" name="Text Box 8"/>
          <p:cNvSpPr/>
          <p:nvPr/>
        </p:nvSpPr>
        <p:spPr>
          <a:xfrm>
            <a:off x="2290680" y="1463760"/>
            <a:ext cx="173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GenUp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745240" y="2378160"/>
            <a:ext cx="173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GenD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1224720" y="5691240"/>
            <a:ext cx="675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Случай, когда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isEqCUpCGen cUp cGen sGenUp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3" name="AutoShape 11"/>
          <p:cNvSpPr/>
          <p:nvPr/>
        </p:nvSpPr>
        <p:spPr>
          <a:xfrm>
            <a:off x="179280" y="3002040"/>
            <a:ext cx="3522600" cy="2533680"/>
          </a:xfrm>
          <a:prstGeom prst="wedgeRectCallout">
            <a:avLst>
              <a:gd name="adj1" fmla="val 31750"/>
              <a:gd name="adj2" fmla="val -92481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становка-переименовка! Можно сделать текстуальную инверсию!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2292480" y="1467000"/>
            <a:ext cx="173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pGe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285" name="AutoShape 13"/>
          <p:cNvCxnSpPr>
            <a:stCxn id="276" idx="6"/>
            <a:endCxn id="275" idx="2"/>
          </p:cNvCxnSpPr>
          <p:nvPr/>
        </p:nvCxnSpPr>
        <p:spPr>
          <a:xfrm>
            <a:off x="2477880" y="2169720"/>
            <a:ext cx="126756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86" name="AutoShape 15"/>
          <p:cNvCxnSpPr>
            <a:stCxn id="276" idx="5"/>
            <a:endCxn id="277" idx="2"/>
          </p:cNvCxnSpPr>
          <p:nvPr/>
        </p:nvCxnSpPr>
        <p:spPr>
          <a:xfrm>
            <a:off x="2217600" y="2486160"/>
            <a:ext cx="4152240" cy="13644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287" name="AutoShape 18"/>
          <p:cNvSpPr/>
          <p:nvPr/>
        </p:nvSpPr>
        <p:spPr>
          <a:xfrm>
            <a:off x="171360" y="4416480"/>
            <a:ext cx="6715080" cy="1170000"/>
          </a:xfrm>
          <a:prstGeom prst="wedgeRectCallout">
            <a:avLst>
              <a:gd name="adj1" fmla="val 6476"/>
              <a:gd name="adj2" fmla="val -164245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D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sUpGen.*.GenD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(sGenDn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(-1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*.GenD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142560" y="1599840"/>
            <a:ext cx="8948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mkSubstUpDn :: Subst -&gt; Subst -&gt; Subst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mkSubstUpDn sGenUp sGenDn =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invSubst sGenUp).*.sGenDn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nvSubst :: Subst -&gt; Subst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nvSubst 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[ x:-&gt;v | (v:-&gt;x)&lt;-s ]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-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пользовать осторожно! тольк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--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подстановок-переименов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799920" y="-360"/>
            <a:ext cx="8343720" cy="151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0.6.1 mkSubstUpDn: построение cUp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/.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sUpDn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==</a:t>
            </a: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cDn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Поправка Юрия Климова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наружил некорректность алгоритма Л.В.Парменово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ложил алгорит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справляющий ситуаци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блема: нам не известно множество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autolo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то есть предикат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sTaut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2"/>
          <p:cNvSpPr/>
          <p:nvPr/>
        </p:nvSpPr>
        <p:spPr>
          <a:xfrm>
            <a:off x="2521080" y="2027160"/>
            <a:ext cx="411948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x:=/=:y)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rGe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Условие на rGen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4" name="AutoShape 4"/>
          <p:cNvSpPr/>
          <p:nvPr/>
        </p:nvSpPr>
        <p:spPr>
          <a:xfrm>
            <a:off x="2884320" y="1333440"/>
            <a:ext cx="339264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rGe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295" name="AutoShape 5"/>
          <p:cNvCxnSpPr>
            <a:stCxn id="296" idx="2"/>
            <a:endCxn id="297" idx="3"/>
          </p:cNvCxnSpPr>
          <p:nvPr/>
        </p:nvCxnSpPr>
        <p:spPr>
          <a:xfrm flipH="1">
            <a:off x="3207960" y="3728520"/>
            <a:ext cx="1031040" cy="108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298" name="Oval 6"/>
          <p:cNvSpPr/>
          <p:nvPr/>
        </p:nvSpPr>
        <p:spPr>
          <a:xfrm>
            <a:off x="1828800" y="4476600"/>
            <a:ext cx="628560" cy="628920"/>
          </a:xfrm>
          <a:prstGeom prst="ellipse">
            <a:avLst/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258840" y="5403960"/>
            <a:ext cx="166356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D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2085840" y="5405400"/>
            <a:ext cx="234972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autologie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1" name="Oval 9"/>
          <p:cNvSpPr/>
          <p:nvPr/>
        </p:nvSpPr>
        <p:spPr>
          <a:xfrm>
            <a:off x="6630840" y="4476600"/>
            <a:ext cx="628920" cy="628920"/>
          </a:xfrm>
          <a:prstGeom prst="ellipse">
            <a:avLst/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302" name="AutoShape 10"/>
          <p:cNvCxnSpPr>
            <a:stCxn id="296" idx="6"/>
            <a:endCxn id="303" idx="1"/>
          </p:cNvCxnSpPr>
          <p:nvPr/>
        </p:nvCxnSpPr>
        <p:spPr>
          <a:xfrm>
            <a:off x="4924080" y="3728520"/>
            <a:ext cx="956520" cy="108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304" name="AutoShape 11"/>
          <p:cNvCxnSpPr>
            <a:stCxn id="298" idx="2"/>
            <a:endCxn id="299" idx="0"/>
          </p:cNvCxnSpPr>
          <p:nvPr/>
        </p:nvCxnSpPr>
        <p:spPr>
          <a:xfrm flipH="1">
            <a:off x="1090440" y="4791240"/>
            <a:ext cx="710280" cy="58464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305" name="AutoShape 12"/>
          <p:cNvCxnSpPr>
            <a:stCxn id="298" idx="6"/>
            <a:endCxn id="300" idx="0"/>
          </p:cNvCxnSpPr>
          <p:nvPr/>
        </p:nvCxnSpPr>
        <p:spPr>
          <a:xfrm>
            <a:off x="2486160" y="4790880"/>
            <a:ext cx="775440" cy="58644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306" name="AutoShape 13"/>
          <p:cNvCxnSpPr>
            <a:stCxn id="301" idx="6"/>
            <a:endCxn id="307" idx="0"/>
          </p:cNvCxnSpPr>
          <p:nvPr/>
        </p:nvCxnSpPr>
        <p:spPr>
          <a:xfrm>
            <a:off x="7287840" y="4790880"/>
            <a:ext cx="626040" cy="58644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296" name="Oval 14"/>
          <p:cNvSpPr/>
          <p:nvPr/>
        </p:nvSpPr>
        <p:spPr>
          <a:xfrm>
            <a:off x="4267080" y="3414600"/>
            <a:ext cx="628920" cy="628920"/>
          </a:xfrm>
          <a:prstGeom prst="ellipse">
            <a:avLst/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308" name="AutoShape 15"/>
          <p:cNvCxnSpPr>
            <a:stCxn id="292" idx="2"/>
            <a:endCxn id="296" idx="0"/>
          </p:cNvCxnSpPr>
          <p:nvPr/>
        </p:nvCxnSpPr>
        <p:spPr>
          <a:xfrm>
            <a:off x="4581000" y="2905200"/>
            <a:ext cx="1080" cy="48168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297" name="AutoShape 16"/>
          <p:cNvSpPr/>
          <p:nvPr/>
        </p:nvSpPr>
        <p:spPr>
          <a:xfrm>
            <a:off x="1108080" y="3446640"/>
            <a:ext cx="2071800" cy="563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GenDn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309" name="AutoShape 17"/>
          <p:cNvCxnSpPr>
            <a:stCxn id="297" idx="2"/>
            <a:endCxn id="298" idx="0"/>
          </p:cNvCxnSpPr>
          <p:nvPr/>
        </p:nvCxnSpPr>
        <p:spPr>
          <a:xfrm flipH="1">
            <a:off x="2142360" y="4038480"/>
            <a:ext cx="2520" cy="41040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303" name="AutoShape 18"/>
          <p:cNvSpPr/>
          <p:nvPr/>
        </p:nvSpPr>
        <p:spPr>
          <a:xfrm>
            <a:off x="5908680" y="3446640"/>
            <a:ext cx="2071800" cy="563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Ge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310" name="AutoShape 19"/>
          <p:cNvCxnSpPr>
            <a:stCxn id="301" idx="2"/>
            <a:endCxn id="311" idx="0"/>
          </p:cNvCxnSpPr>
          <p:nvPr/>
        </p:nvCxnSpPr>
        <p:spPr>
          <a:xfrm flipH="1">
            <a:off x="5740200" y="4791240"/>
            <a:ext cx="862560" cy="58464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312" name="AutoShape 20"/>
          <p:cNvCxnSpPr>
            <a:stCxn id="303" idx="2"/>
            <a:endCxn id="301" idx="0"/>
          </p:cNvCxnSpPr>
          <p:nvPr/>
        </p:nvCxnSpPr>
        <p:spPr>
          <a:xfrm>
            <a:off x="6945120" y="4038480"/>
            <a:ext cx="1080" cy="41040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311" name="AutoShape 21"/>
          <p:cNvSpPr/>
          <p:nvPr/>
        </p:nvSpPr>
        <p:spPr>
          <a:xfrm>
            <a:off x="4908600" y="5403960"/>
            <a:ext cx="166356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Up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7" name="AutoShape 22"/>
          <p:cNvSpPr/>
          <p:nvPr/>
        </p:nvSpPr>
        <p:spPr>
          <a:xfrm>
            <a:off x="6738840" y="5405400"/>
            <a:ext cx="234972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autologie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Условие на rGen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4" name="AutoShape 3"/>
          <p:cNvSpPr/>
          <p:nvPr/>
        </p:nvSpPr>
        <p:spPr>
          <a:xfrm>
            <a:off x="2884320" y="1333440"/>
            <a:ext cx="339264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rGe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315" name="AutoShape 4"/>
          <p:cNvCxnSpPr>
            <a:stCxn id="316" idx="6"/>
            <a:endCxn id="317" idx="2"/>
          </p:cNvCxnSpPr>
          <p:nvPr/>
        </p:nvCxnSpPr>
        <p:spPr>
          <a:xfrm flipV="1">
            <a:off x="2486160" y="3217680"/>
            <a:ext cx="1753200" cy="216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316" name="Oval 5"/>
          <p:cNvSpPr/>
          <p:nvPr/>
        </p:nvSpPr>
        <p:spPr>
          <a:xfrm>
            <a:off x="1828800" y="2905200"/>
            <a:ext cx="628560" cy="628560"/>
          </a:xfrm>
          <a:prstGeom prst="ellipse">
            <a:avLst/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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8" name="AutoShape 6"/>
          <p:cNvSpPr/>
          <p:nvPr/>
        </p:nvSpPr>
        <p:spPr>
          <a:xfrm>
            <a:off x="258840" y="5403960"/>
            <a:ext cx="166356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D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9" name="AutoShape 7"/>
          <p:cNvSpPr/>
          <p:nvPr/>
        </p:nvSpPr>
        <p:spPr>
          <a:xfrm>
            <a:off x="2085840" y="5405400"/>
            <a:ext cx="234972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autologie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0" name="Oval 8"/>
          <p:cNvSpPr/>
          <p:nvPr/>
        </p:nvSpPr>
        <p:spPr>
          <a:xfrm>
            <a:off x="6635880" y="2903400"/>
            <a:ext cx="628560" cy="628920"/>
          </a:xfrm>
          <a:prstGeom prst="ellipse">
            <a:avLst/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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321" name="AutoShape 9"/>
          <p:cNvCxnSpPr>
            <a:stCxn id="320" idx="2"/>
            <a:endCxn id="317" idx="6"/>
          </p:cNvCxnSpPr>
          <p:nvPr/>
        </p:nvCxnSpPr>
        <p:spPr>
          <a:xfrm flipH="1">
            <a:off x="4924080" y="3217680"/>
            <a:ext cx="1683360" cy="108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322" name="AutoShape 10"/>
          <p:cNvCxnSpPr>
            <a:stCxn id="318" idx="0"/>
            <a:endCxn id="323" idx="2"/>
          </p:cNvCxnSpPr>
          <p:nvPr/>
        </p:nvCxnSpPr>
        <p:spPr>
          <a:xfrm flipV="1">
            <a:off x="1090080" y="5027400"/>
            <a:ext cx="2520" cy="34776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324" name="AutoShape 11"/>
          <p:cNvCxnSpPr>
            <a:stCxn id="319" idx="0"/>
            <a:endCxn id="325" idx="2"/>
          </p:cNvCxnSpPr>
          <p:nvPr/>
        </p:nvCxnSpPr>
        <p:spPr>
          <a:xfrm flipV="1">
            <a:off x="3260880" y="5027400"/>
            <a:ext cx="2160" cy="34992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326" name="AutoShape 12"/>
          <p:cNvCxnSpPr>
            <a:stCxn id="327" idx="0"/>
            <a:endCxn id="328" idx="2"/>
          </p:cNvCxnSpPr>
          <p:nvPr/>
        </p:nvCxnSpPr>
        <p:spPr>
          <a:xfrm flipV="1">
            <a:off x="7913160" y="5027400"/>
            <a:ext cx="1080" cy="34992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329" name="AutoShape 13"/>
          <p:cNvCxnSpPr>
            <a:stCxn id="330" idx="0"/>
            <a:endCxn id="331" idx="2"/>
          </p:cNvCxnSpPr>
          <p:nvPr/>
        </p:nvCxnSpPr>
        <p:spPr>
          <a:xfrm flipV="1">
            <a:off x="5740560" y="5027400"/>
            <a:ext cx="2160" cy="34776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317" name="Oval 14"/>
          <p:cNvSpPr/>
          <p:nvPr/>
        </p:nvSpPr>
        <p:spPr>
          <a:xfrm>
            <a:off x="4267080" y="2903400"/>
            <a:ext cx="628920" cy="628920"/>
          </a:xfrm>
          <a:prstGeom prst="ellipse">
            <a:avLst/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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332" name="AutoShape 15"/>
          <p:cNvCxnSpPr>
            <a:stCxn id="317" idx="0"/>
            <a:endCxn id="314" idx="2"/>
          </p:cNvCxnSpPr>
          <p:nvPr/>
        </p:nvCxnSpPr>
        <p:spPr>
          <a:xfrm flipV="1">
            <a:off x="4581000" y="2210760"/>
            <a:ext cx="1080" cy="66420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323" name="AutoShape 16"/>
          <p:cNvSpPr/>
          <p:nvPr/>
        </p:nvSpPr>
        <p:spPr>
          <a:xfrm>
            <a:off x="55440" y="4435560"/>
            <a:ext cx="2071800" cy="563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/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GenD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333" name="AutoShape 17"/>
          <p:cNvCxnSpPr>
            <a:stCxn id="323" idx="0"/>
            <a:endCxn id="316" idx="3"/>
          </p:cNvCxnSpPr>
          <p:nvPr/>
        </p:nvCxnSpPr>
        <p:spPr>
          <a:xfrm flipV="1">
            <a:off x="1092240" y="3469680"/>
            <a:ext cx="829440" cy="93708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334" name="AutoShape 18"/>
          <p:cNvCxnSpPr>
            <a:stCxn id="325" idx="0"/>
            <a:endCxn id="316" idx="5"/>
          </p:cNvCxnSpPr>
          <p:nvPr/>
        </p:nvCxnSpPr>
        <p:spPr>
          <a:xfrm flipH="1" flipV="1">
            <a:off x="2364840" y="3469680"/>
            <a:ext cx="897840" cy="93708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325" name="AutoShape 19"/>
          <p:cNvSpPr/>
          <p:nvPr/>
        </p:nvSpPr>
        <p:spPr>
          <a:xfrm>
            <a:off x="2225520" y="4435560"/>
            <a:ext cx="2071800" cy="563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/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GenD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1" name="AutoShape 20"/>
          <p:cNvSpPr/>
          <p:nvPr/>
        </p:nvSpPr>
        <p:spPr>
          <a:xfrm>
            <a:off x="4705200" y="4435560"/>
            <a:ext cx="2071800" cy="563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/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Ge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p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8" name="AutoShape 21"/>
          <p:cNvSpPr/>
          <p:nvPr/>
        </p:nvSpPr>
        <p:spPr>
          <a:xfrm>
            <a:off x="6877080" y="4435560"/>
            <a:ext cx="2071800" cy="563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/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Ge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p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335" name="AutoShape 22"/>
          <p:cNvCxnSpPr>
            <a:stCxn id="331" idx="0"/>
            <a:endCxn id="320" idx="3"/>
          </p:cNvCxnSpPr>
          <p:nvPr/>
        </p:nvCxnSpPr>
        <p:spPr>
          <a:xfrm flipV="1">
            <a:off x="5742000" y="3468240"/>
            <a:ext cx="986400" cy="93888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336" name="AutoShape 23"/>
          <p:cNvCxnSpPr>
            <a:stCxn id="328" idx="0"/>
            <a:endCxn id="320" idx="5"/>
          </p:cNvCxnSpPr>
          <p:nvPr/>
        </p:nvCxnSpPr>
        <p:spPr>
          <a:xfrm flipH="1" flipV="1">
            <a:off x="7171560" y="3468240"/>
            <a:ext cx="741960" cy="93888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330" name="AutoShape 24"/>
          <p:cNvSpPr/>
          <p:nvPr/>
        </p:nvSpPr>
        <p:spPr>
          <a:xfrm>
            <a:off x="4908600" y="5403960"/>
            <a:ext cx="166356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Up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7" name="AutoShape 25"/>
          <p:cNvSpPr/>
          <p:nvPr/>
        </p:nvSpPr>
        <p:spPr>
          <a:xfrm>
            <a:off x="6738840" y="5405400"/>
            <a:ext cx="234972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autologie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10.1 Постановка задачи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9600" y="1599840"/>
            <a:ext cx="8744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о е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должно быть выполнен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Gen = ((t, cenvGen), rGen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envGen =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[(va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=cexpGen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,...(va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=cexpGen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]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expGen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/.sGenUp==cexpU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expGen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≥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cexpU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expGen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/.sGenDn == cexpDn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expGen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≥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cexpDn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Gen/.sGenUp/.r’Up==rUp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Gen/.sGenDn/.r’Dn==rD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utoShape 2"/>
          <p:cNvSpPr/>
          <p:nvPr/>
        </p:nvSpPr>
        <p:spPr>
          <a:xfrm>
            <a:off x="2521080" y="2027160"/>
            <a:ext cx="411948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x:=/=:y) </a:t>
            </a:r>
            <a:r>
              <a:rPr b="1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rGe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Условие на rGen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39" name="AutoShape 4"/>
          <p:cNvSpPr/>
          <p:nvPr/>
        </p:nvSpPr>
        <p:spPr>
          <a:xfrm>
            <a:off x="2884320" y="1333440"/>
            <a:ext cx="339264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rGe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340" name="AutoShape 5"/>
          <p:cNvCxnSpPr>
            <a:stCxn id="341" idx="2"/>
            <a:endCxn id="342" idx="3"/>
          </p:cNvCxnSpPr>
          <p:nvPr/>
        </p:nvCxnSpPr>
        <p:spPr>
          <a:xfrm flipH="1">
            <a:off x="3207960" y="3728520"/>
            <a:ext cx="1031040" cy="108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343" name="Oval 6"/>
          <p:cNvSpPr/>
          <p:nvPr/>
        </p:nvSpPr>
        <p:spPr>
          <a:xfrm>
            <a:off x="1828800" y="4476600"/>
            <a:ext cx="628560" cy="628920"/>
          </a:xfrm>
          <a:prstGeom prst="ellipse">
            <a:avLst/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4" name="AutoShape 7"/>
          <p:cNvSpPr/>
          <p:nvPr/>
        </p:nvSpPr>
        <p:spPr>
          <a:xfrm>
            <a:off x="258840" y="5403960"/>
            <a:ext cx="166356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D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5" name="AutoShape 8"/>
          <p:cNvSpPr/>
          <p:nvPr/>
        </p:nvSpPr>
        <p:spPr>
          <a:xfrm>
            <a:off x="2085840" y="5405400"/>
            <a:ext cx="234972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autologie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6" name="Oval 9"/>
          <p:cNvSpPr/>
          <p:nvPr/>
        </p:nvSpPr>
        <p:spPr>
          <a:xfrm>
            <a:off x="6630840" y="4476600"/>
            <a:ext cx="628920" cy="628920"/>
          </a:xfrm>
          <a:prstGeom prst="ellipse">
            <a:avLst/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347" name="AutoShape 10"/>
          <p:cNvCxnSpPr>
            <a:stCxn id="341" idx="6"/>
            <a:endCxn id="348" idx="1"/>
          </p:cNvCxnSpPr>
          <p:nvPr/>
        </p:nvCxnSpPr>
        <p:spPr>
          <a:xfrm>
            <a:off x="4924080" y="3728520"/>
            <a:ext cx="956520" cy="108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349" name="AutoShape 11"/>
          <p:cNvCxnSpPr>
            <a:stCxn id="343" idx="2"/>
            <a:endCxn id="344" idx="0"/>
          </p:cNvCxnSpPr>
          <p:nvPr/>
        </p:nvCxnSpPr>
        <p:spPr>
          <a:xfrm flipH="1">
            <a:off x="1090440" y="4791240"/>
            <a:ext cx="710280" cy="58464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350" name="AutoShape 12"/>
          <p:cNvCxnSpPr>
            <a:stCxn id="343" idx="6"/>
            <a:endCxn id="345" idx="0"/>
          </p:cNvCxnSpPr>
          <p:nvPr/>
        </p:nvCxnSpPr>
        <p:spPr>
          <a:xfrm>
            <a:off x="2486160" y="4790880"/>
            <a:ext cx="775440" cy="58644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351" name="AutoShape 13"/>
          <p:cNvCxnSpPr>
            <a:stCxn id="346" idx="6"/>
            <a:endCxn id="352" idx="0"/>
          </p:cNvCxnSpPr>
          <p:nvPr/>
        </p:nvCxnSpPr>
        <p:spPr>
          <a:xfrm>
            <a:off x="7287840" y="4790880"/>
            <a:ext cx="626040" cy="58644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341" name="Oval 14"/>
          <p:cNvSpPr/>
          <p:nvPr/>
        </p:nvSpPr>
        <p:spPr>
          <a:xfrm>
            <a:off x="4267080" y="3414600"/>
            <a:ext cx="628920" cy="628920"/>
          </a:xfrm>
          <a:prstGeom prst="ellipse">
            <a:avLst/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353" name="AutoShape 15"/>
          <p:cNvCxnSpPr>
            <a:stCxn id="341" idx="0"/>
            <a:endCxn id="337" idx="2"/>
          </p:cNvCxnSpPr>
          <p:nvPr/>
        </p:nvCxnSpPr>
        <p:spPr>
          <a:xfrm flipV="1">
            <a:off x="4581000" y="2904840"/>
            <a:ext cx="1080" cy="48168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342" name="AutoShape 16"/>
          <p:cNvSpPr/>
          <p:nvPr/>
        </p:nvSpPr>
        <p:spPr>
          <a:xfrm>
            <a:off x="1108080" y="3446640"/>
            <a:ext cx="2071800" cy="563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GenDn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354" name="AutoShape 17"/>
          <p:cNvCxnSpPr>
            <a:stCxn id="342" idx="2"/>
            <a:endCxn id="343" idx="0"/>
          </p:cNvCxnSpPr>
          <p:nvPr/>
        </p:nvCxnSpPr>
        <p:spPr>
          <a:xfrm flipH="1">
            <a:off x="2142360" y="4038480"/>
            <a:ext cx="2520" cy="41040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348" name="AutoShape 18"/>
          <p:cNvSpPr/>
          <p:nvPr/>
        </p:nvSpPr>
        <p:spPr>
          <a:xfrm>
            <a:off x="5908680" y="3446640"/>
            <a:ext cx="2071800" cy="563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Ge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355" name="AutoShape 19"/>
          <p:cNvCxnSpPr>
            <a:stCxn id="346" idx="2"/>
            <a:endCxn id="356" idx="0"/>
          </p:cNvCxnSpPr>
          <p:nvPr/>
        </p:nvCxnSpPr>
        <p:spPr>
          <a:xfrm flipH="1">
            <a:off x="5740200" y="4791240"/>
            <a:ext cx="862560" cy="58464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357" name="AutoShape 20"/>
          <p:cNvCxnSpPr>
            <a:stCxn id="348" idx="2"/>
            <a:endCxn id="346" idx="0"/>
          </p:cNvCxnSpPr>
          <p:nvPr/>
        </p:nvCxnSpPr>
        <p:spPr>
          <a:xfrm>
            <a:off x="6945120" y="4038480"/>
            <a:ext cx="1080" cy="41040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356" name="AutoShape 21"/>
          <p:cNvSpPr/>
          <p:nvPr/>
        </p:nvSpPr>
        <p:spPr>
          <a:xfrm>
            <a:off x="4908600" y="5403960"/>
            <a:ext cx="166356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Up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2" name="AutoShape 22"/>
          <p:cNvSpPr/>
          <p:nvPr/>
        </p:nvSpPr>
        <p:spPr>
          <a:xfrm>
            <a:off x="6738840" y="5405400"/>
            <a:ext cx="234972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autologie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8" name="AutoShape 23"/>
          <p:cNvSpPr/>
          <p:nvPr/>
        </p:nvSpPr>
        <p:spPr>
          <a:xfrm>
            <a:off x="77760" y="120600"/>
            <a:ext cx="6311880" cy="1066680"/>
          </a:xfrm>
          <a:prstGeom prst="wedgeRectCallout">
            <a:avLst>
              <a:gd name="adj1" fmla="val -43134"/>
              <a:gd name="adj2" fmla="val 442856"/>
            </a:avLst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Пусть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  <a:ea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r’=(/.sGenDn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(-1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Когда возможно, что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r’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rGe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?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Условие на rGen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60" name="AutoShape 3"/>
          <p:cNvSpPr/>
          <p:nvPr/>
        </p:nvSpPr>
        <p:spPr>
          <a:xfrm>
            <a:off x="2884320" y="1333440"/>
            <a:ext cx="339264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rGe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361" name="AutoShape 4"/>
          <p:cNvCxnSpPr>
            <a:stCxn id="362" idx="6"/>
            <a:endCxn id="363" idx="2"/>
          </p:cNvCxnSpPr>
          <p:nvPr/>
        </p:nvCxnSpPr>
        <p:spPr>
          <a:xfrm flipV="1">
            <a:off x="2486160" y="3217680"/>
            <a:ext cx="1753200" cy="216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362" name="Oval 5"/>
          <p:cNvSpPr/>
          <p:nvPr/>
        </p:nvSpPr>
        <p:spPr>
          <a:xfrm>
            <a:off x="1828800" y="2905200"/>
            <a:ext cx="628560" cy="628560"/>
          </a:xfrm>
          <a:prstGeom prst="ellipse">
            <a:avLst/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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4" name="AutoShape 6"/>
          <p:cNvSpPr/>
          <p:nvPr/>
        </p:nvSpPr>
        <p:spPr>
          <a:xfrm>
            <a:off x="258840" y="5403960"/>
            <a:ext cx="166356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D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5" name="AutoShape 7"/>
          <p:cNvSpPr/>
          <p:nvPr/>
        </p:nvSpPr>
        <p:spPr>
          <a:xfrm>
            <a:off x="2085840" y="5405400"/>
            <a:ext cx="234972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autologie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366" name="AutoShape 10"/>
          <p:cNvCxnSpPr>
            <a:stCxn id="364" idx="0"/>
            <a:endCxn id="367" idx="2"/>
          </p:cNvCxnSpPr>
          <p:nvPr/>
        </p:nvCxnSpPr>
        <p:spPr>
          <a:xfrm flipV="1">
            <a:off x="1090080" y="5027400"/>
            <a:ext cx="2520" cy="34776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368" name="AutoShape 11"/>
          <p:cNvCxnSpPr>
            <a:stCxn id="365" idx="0"/>
            <a:endCxn id="369" idx="2"/>
          </p:cNvCxnSpPr>
          <p:nvPr/>
        </p:nvCxnSpPr>
        <p:spPr>
          <a:xfrm flipV="1">
            <a:off x="3260880" y="5027400"/>
            <a:ext cx="2160" cy="34992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363" name="Oval 14"/>
          <p:cNvSpPr/>
          <p:nvPr/>
        </p:nvSpPr>
        <p:spPr>
          <a:xfrm>
            <a:off x="4267080" y="2903400"/>
            <a:ext cx="628920" cy="628920"/>
          </a:xfrm>
          <a:prstGeom prst="ellipse">
            <a:avLst/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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370" name="AutoShape 15"/>
          <p:cNvCxnSpPr>
            <a:stCxn id="363" idx="0"/>
            <a:endCxn id="360" idx="2"/>
          </p:cNvCxnSpPr>
          <p:nvPr/>
        </p:nvCxnSpPr>
        <p:spPr>
          <a:xfrm flipV="1">
            <a:off x="4581000" y="2210760"/>
            <a:ext cx="1080" cy="66420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367" name="AutoShape 16"/>
          <p:cNvSpPr/>
          <p:nvPr/>
        </p:nvSpPr>
        <p:spPr>
          <a:xfrm>
            <a:off x="55440" y="4435560"/>
            <a:ext cx="2071800" cy="563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/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GenD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371" name="AutoShape 17"/>
          <p:cNvCxnSpPr>
            <a:stCxn id="367" idx="0"/>
            <a:endCxn id="362" idx="3"/>
          </p:cNvCxnSpPr>
          <p:nvPr/>
        </p:nvCxnSpPr>
        <p:spPr>
          <a:xfrm flipV="1">
            <a:off x="1092240" y="3469680"/>
            <a:ext cx="829440" cy="93708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372" name="AutoShape 18"/>
          <p:cNvCxnSpPr>
            <a:stCxn id="369" idx="0"/>
            <a:endCxn id="362" idx="5"/>
          </p:cNvCxnSpPr>
          <p:nvPr/>
        </p:nvCxnSpPr>
        <p:spPr>
          <a:xfrm flipH="1" flipV="1">
            <a:off x="2364840" y="3469680"/>
            <a:ext cx="897840" cy="93708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369" name="AutoShape 19"/>
          <p:cNvSpPr/>
          <p:nvPr/>
        </p:nvSpPr>
        <p:spPr>
          <a:xfrm>
            <a:off x="2225520" y="4435560"/>
            <a:ext cx="2071800" cy="563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/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GenD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373" name="Group 30"/>
          <p:cNvGrpSpPr/>
          <p:nvPr/>
        </p:nvGrpSpPr>
        <p:grpSpPr>
          <a:xfrm>
            <a:off x="4705200" y="2903400"/>
            <a:ext cx="4243680" cy="2473560"/>
            <a:chOff x="4705200" y="2903400"/>
            <a:chExt cx="4243680" cy="2473560"/>
          </a:xfrm>
        </p:grpSpPr>
        <p:sp>
          <p:nvSpPr>
            <p:cNvPr id="374" name="Oval 8"/>
            <p:cNvSpPr/>
            <p:nvPr/>
          </p:nvSpPr>
          <p:spPr>
            <a:xfrm>
              <a:off x="6635880" y="2903400"/>
              <a:ext cx="628560" cy="628920"/>
            </a:xfrm>
            <a:prstGeom prst="ellipse">
              <a:avLst/>
            </a:prstGeom>
            <a:solidFill>
              <a:srgbClr val="ffe5c5"/>
            </a:solidFill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</a:t>
              </a:r>
              <a:endParaRPr b="1" lang="en-US" sz="4400" spc="-1" strike="noStrike">
                <a:solidFill>
                  <a:srgbClr val="800000"/>
                </a:solidFill>
                <a:latin typeface="Arial"/>
              </a:endParaRPr>
            </a:p>
          </p:txBody>
        </p:sp>
        <p:cxnSp>
          <p:nvCxnSpPr>
            <p:cNvPr id="375" name="AutoShape 9"/>
            <p:cNvCxnSpPr>
              <a:stCxn id="374" idx="2"/>
              <a:endCxn id="363" idx="6"/>
            </p:cNvCxnSpPr>
            <p:nvPr/>
          </p:nvCxnSpPr>
          <p:spPr>
            <a:xfrm flipH="1">
              <a:off x="4924080" y="3217680"/>
              <a:ext cx="1683360" cy="1080"/>
            </a:xfrm>
            <a:prstGeom prst="straightConnector1">
              <a:avLst/>
            </a:prstGeom>
            <a:ln w="57240">
              <a:solidFill>
                <a:srgbClr val="800000"/>
              </a:solidFill>
              <a:miter/>
              <a:tailEnd len="med" type="triangle" w="med"/>
            </a:ln>
          </p:spPr>
        </p:cxnSp>
        <p:cxnSp>
          <p:nvCxnSpPr>
            <p:cNvPr id="376" name="AutoShape 12"/>
            <p:cNvCxnSpPr>
              <a:stCxn id="377" idx="0"/>
              <a:endCxn id="378" idx="2"/>
            </p:cNvCxnSpPr>
            <p:nvPr/>
          </p:nvCxnSpPr>
          <p:spPr>
            <a:xfrm flipV="1">
              <a:off x="7913160" y="5027400"/>
              <a:ext cx="1080" cy="349920"/>
            </a:xfrm>
            <a:prstGeom prst="straightConnector1">
              <a:avLst/>
            </a:prstGeom>
            <a:ln w="57240">
              <a:solidFill>
                <a:srgbClr val="800000"/>
              </a:solidFill>
              <a:miter/>
              <a:tailEnd len="med" type="triangle" w="med"/>
            </a:ln>
          </p:spPr>
        </p:cxnSp>
        <p:cxnSp>
          <p:nvCxnSpPr>
            <p:cNvPr id="379" name="AutoShape 13"/>
            <p:cNvCxnSpPr>
              <a:stCxn id="380" idx="0"/>
              <a:endCxn id="381" idx="2"/>
            </p:cNvCxnSpPr>
            <p:nvPr/>
          </p:nvCxnSpPr>
          <p:spPr>
            <a:xfrm flipV="1">
              <a:off x="5740560" y="5027400"/>
              <a:ext cx="2160" cy="347760"/>
            </a:xfrm>
            <a:prstGeom prst="straightConnector1">
              <a:avLst/>
            </a:prstGeom>
            <a:ln w="57240">
              <a:solidFill>
                <a:srgbClr val="800000"/>
              </a:solidFill>
              <a:miter/>
              <a:tailEnd len="med" type="triangle" w="med"/>
            </a:ln>
          </p:spPr>
        </p:cxnSp>
        <p:sp>
          <p:nvSpPr>
            <p:cNvPr id="381" name="AutoShape 20"/>
            <p:cNvSpPr/>
            <p:nvPr/>
          </p:nvSpPr>
          <p:spPr>
            <a:xfrm>
              <a:off x="4705200" y="4435560"/>
              <a:ext cx="2071800" cy="563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/.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sGen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Up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78" name="AutoShape 21"/>
            <p:cNvSpPr/>
            <p:nvPr/>
          </p:nvSpPr>
          <p:spPr>
            <a:xfrm>
              <a:off x="6877080" y="4435560"/>
              <a:ext cx="2071800" cy="563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/.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sGen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Up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cxnSp>
          <p:nvCxnSpPr>
            <p:cNvPr id="382" name="AutoShape 22"/>
            <p:cNvCxnSpPr>
              <a:stCxn id="381" idx="0"/>
              <a:endCxn id="374" idx="3"/>
            </p:cNvCxnSpPr>
            <p:nvPr/>
          </p:nvCxnSpPr>
          <p:spPr>
            <a:xfrm flipV="1">
              <a:off x="5742000" y="3468240"/>
              <a:ext cx="986400" cy="938880"/>
            </a:xfrm>
            <a:prstGeom prst="straightConnector1">
              <a:avLst/>
            </a:prstGeom>
            <a:ln w="57240">
              <a:solidFill>
                <a:srgbClr val="800000"/>
              </a:solidFill>
              <a:miter/>
              <a:tailEnd len="med" type="triangle" w="med"/>
            </a:ln>
          </p:spPr>
        </p:cxnSp>
        <p:cxnSp>
          <p:nvCxnSpPr>
            <p:cNvPr id="383" name="AutoShape 23"/>
            <p:cNvCxnSpPr>
              <a:stCxn id="378" idx="0"/>
              <a:endCxn id="374" idx="5"/>
            </p:cNvCxnSpPr>
            <p:nvPr/>
          </p:nvCxnSpPr>
          <p:spPr>
            <a:xfrm flipH="1" flipV="1">
              <a:off x="7171560" y="3468240"/>
              <a:ext cx="741960" cy="938880"/>
            </a:xfrm>
            <a:prstGeom prst="straightConnector1">
              <a:avLst/>
            </a:prstGeom>
            <a:ln w="57240">
              <a:solidFill>
                <a:srgbClr val="800000"/>
              </a:solidFill>
              <a:miter/>
              <a:tailEnd len="med" type="triangle" w="med"/>
            </a:ln>
          </p:spPr>
        </p:cxnSp>
      </p:grpSp>
      <p:sp>
        <p:nvSpPr>
          <p:cNvPr id="380" name="AutoShape 24"/>
          <p:cNvSpPr/>
          <p:nvPr/>
        </p:nvSpPr>
        <p:spPr>
          <a:xfrm>
            <a:off x="4908600" y="5403960"/>
            <a:ext cx="166356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Up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7" name="AutoShape 25"/>
          <p:cNvSpPr/>
          <p:nvPr/>
        </p:nvSpPr>
        <p:spPr>
          <a:xfrm>
            <a:off x="6738840" y="5405400"/>
            <a:ext cx="234972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autologie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384" name="Group 28"/>
          <p:cNvGrpSpPr/>
          <p:nvPr/>
        </p:nvGrpSpPr>
        <p:grpSpPr>
          <a:xfrm>
            <a:off x="2172960" y="5156280"/>
            <a:ext cx="2171520" cy="1333440"/>
            <a:chOff x="2172960" y="5156280"/>
            <a:chExt cx="2171520" cy="1333440"/>
          </a:xfrm>
        </p:grpSpPr>
        <p:sp>
          <p:nvSpPr>
            <p:cNvPr id="385" name="Line 26"/>
            <p:cNvSpPr/>
            <p:nvPr/>
          </p:nvSpPr>
          <p:spPr>
            <a:xfrm>
              <a:off x="2174760" y="5156280"/>
              <a:ext cx="2169720" cy="133344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86" name="Line 27"/>
            <p:cNvSpPr/>
            <p:nvPr/>
          </p:nvSpPr>
          <p:spPr>
            <a:xfrm flipH="1">
              <a:off x="2172960" y="5156280"/>
              <a:ext cx="2169720" cy="133344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cxnSp>
        <p:nvCxnSpPr>
          <p:cNvPr id="387" name="AutoShape 29"/>
          <p:cNvCxnSpPr>
            <a:stCxn id="367" idx="0"/>
            <a:endCxn id="363" idx="2"/>
          </p:cNvCxnSpPr>
          <p:nvPr/>
        </p:nvCxnSpPr>
        <p:spPr>
          <a:xfrm flipV="1">
            <a:off x="1092240" y="3217680"/>
            <a:ext cx="3147120" cy="118944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grpSp>
        <p:nvGrpSpPr>
          <p:cNvPr id="388" name="Group 31"/>
          <p:cNvGrpSpPr/>
          <p:nvPr/>
        </p:nvGrpSpPr>
        <p:grpSpPr>
          <a:xfrm>
            <a:off x="5740200" y="3446640"/>
            <a:ext cx="2240280" cy="1930320"/>
            <a:chOff x="5740200" y="3446640"/>
            <a:chExt cx="2240280" cy="1930320"/>
          </a:xfrm>
        </p:grpSpPr>
        <p:sp>
          <p:nvSpPr>
            <p:cNvPr id="389" name="Oval 32"/>
            <p:cNvSpPr/>
            <p:nvPr/>
          </p:nvSpPr>
          <p:spPr>
            <a:xfrm>
              <a:off x="6630840" y="4476600"/>
              <a:ext cx="628920" cy="628920"/>
            </a:xfrm>
            <a:prstGeom prst="ellipse">
              <a:avLst/>
            </a:prstGeom>
            <a:solidFill>
              <a:srgbClr val="ffe5c5"/>
            </a:solidFill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или</a:t>
              </a:r>
              <a:endParaRPr b="1" lang="en-US" sz="2400" spc="-1" strike="noStrike">
                <a:solidFill>
                  <a:srgbClr val="800000"/>
                </a:solidFill>
                <a:latin typeface="Arial"/>
              </a:endParaRPr>
            </a:p>
          </p:txBody>
        </p:sp>
        <p:cxnSp>
          <p:nvCxnSpPr>
            <p:cNvPr id="390" name="AutoShape 33"/>
            <p:cNvCxnSpPr>
              <a:stCxn id="389" idx="6"/>
            </p:cNvCxnSpPr>
            <p:nvPr/>
          </p:nvCxnSpPr>
          <p:spPr>
            <a:xfrm>
              <a:off x="7287840" y="4790880"/>
              <a:ext cx="626040" cy="586440"/>
            </a:xfrm>
            <a:prstGeom prst="straightConnector1">
              <a:avLst/>
            </a:prstGeom>
            <a:ln w="57240">
              <a:solidFill>
                <a:srgbClr val="800000"/>
              </a:solidFill>
              <a:miter/>
              <a:tailEnd len="med" type="triangle" w="med"/>
            </a:ln>
          </p:spPr>
        </p:cxnSp>
        <p:sp>
          <p:nvSpPr>
            <p:cNvPr id="391" name="AutoShape 34"/>
            <p:cNvSpPr/>
            <p:nvPr/>
          </p:nvSpPr>
          <p:spPr>
            <a:xfrm>
              <a:off x="5908680" y="3446640"/>
              <a:ext cx="2071800" cy="563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/.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sGen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Up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cxnSp>
          <p:nvCxnSpPr>
            <p:cNvPr id="392" name="AutoShape 35"/>
            <p:cNvCxnSpPr>
              <a:stCxn id="389" idx="2"/>
            </p:cNvCxnSpPr>
            <p:nvPr/>
          </p:nvCxnSpPr>
          <p:spPr>
            <a:xfrm flipH="1">
              <a:off x="5740200" y="4791240"/>
              <a:ext cx="862560" cy="584640"/>
            </a:xfrm>
            <a:prstGeom prst="straightConnector1">
              <a:avLst/>
            </a:prstGeom>
            <a:ln w="57240">
              <a:solidFill>
                <a:srgbClr val="800000"/>
              </a:solidFill>
              <a:miter/>
              <a:tailEnd len="med" type="triangle" w="med"/>
            </a:ln>
          </p:spPr>
        </p:cxnSp>
        <p:cxnSp>
          <p:nvCxnSpPr>
            <p:cNvPr id="393" name="AutoShape 36"/>
            <p:cNvCxnSpPr>
              <a:stCxn id="391" idx="2"/>
              <a:endCxn id="389" idx="0"/>
            </p:cNvCxnSpPr>
            <p:nvPr/>
          </p:nvCxnSpPr>
          <p:spPr>
            <a:xfrm>
              <a:off x="6945120" y="4038480"/>
              <a:ext cx="1080" cy="410400"/>
            </a:xfrm>
            <a:prstGeom prst="straightConnector1">
              <a:avLst/>
            </a:prstGeom>
            <a:ln w="57240">
              <a:solidFill>
                <a:srgbClr val="800000"/>
              </a:solidFill>
              <a:miter/>
              <a:tailEnd len="med" type="triangle" w="med"/>
            </a:ln>
          </p:spPr>
        </p:cxnSp>
      </p:grpSp>
      <p:sp>
        <p:nvSpPr>
          <p:cNvPr id="394" name="AutoShape 44"/>
          <p:cNvSpPr/>
          <p:nvPr/>
        </p:nvSpPr>
        <p:spPr>
          <a:xfrm>
            <a:off x="3892680" y="2881440"/>
            <a:ext cx="1363680" cy="517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heck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5" name="Text Box 45"/>
          <p:cNvSpPr/>
          <p:nvPr/>
        </p:nvSpPr>
        <p:spPr>
          <a:xfrm>
            <a:off x="3699720" y="2219400"/>
            <a:ext cx="83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!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396" name="AutoShape 46"/>
          <p:cNvCxnSpPr>
            <a:stCxn id="367" idx="0"/>
            <a:endCxn id="394" idx="1"/>
          </p:cNvCxnSpPr>
          <p:nvPr/>
        </p:nvCxnSpPr>
        <p:spPr>
          <a:xfrm flipV="1">
            <a:off x="1091880" y="3139200"/>
            <a:ext cx="2772000" cy="126756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397" name="AutoShape 47"/>
          <p:cNvCxnSpPr>
            <a:stCxn id="394" idx="3"/>
            <a:endCxn id="391" idx="0"/>
          </p:cNvCxnSpPr>
          <p:nvPr/>
        </p:nvCxnSpPr>
        <p:spPr>
          <a:xfrm>
            <a:off x="5284440" y="3139920"/>
            <a:ext cx="1661400" cy="27828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Условие на rGen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2884320" y="1333440"/>
            <a:ext cx="339264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rGe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0" name="AutoShape 6"/>
          <p:cNvSpPr/>
          <p:nvPr/>
        </p:nvSpPr>
        <p:spPr>
          <a:xfrm>
            <a:off x="258840" y="5403960"/>
            <a:ext cx="166356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D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401" name="AutoShape 8"/>
          <p:cNvCxnSpPr>
            <a:stCxn id="400" idx="0"/>
            <a:endCxn id="402" idx="2"/>
          </p:cNvCxnSpPr>
          <p:nvPr/>
        </p:nvCxnSpPr>
        <p:spPr>
          <a:xfrm flipV="1">
            <a:off x="1090080" y="5027400"/>
            <a:ext cx="2520" cy="34776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403" name="AutoShape 11"/>
          <p:cNvCxnSpPr>
            <a:stCxn id="404" idx="0"/>
            <a:endCxn id="399" idx="2"/>
          </p:cNvCxnSpPr>
          <p:nvPr/>
        </p:nvCxnSpPr>
        <p:spPr>
          <a:xfrm flipV="1">
            <a:off x="4581000" y="2210760"/>
            <a:ext cx="1080" cy="64188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402" name="AutoShape 12"/>
          <p:cNvSpPr/>
          <p:nvPr/>
        </p:nvSpPr>
        <p:spPr>
          <a:xfrm>
            <a:off x="55440" y="4435560"/>
            <a:ext cx="2071800" cy="563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/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GenD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5" name="AutoShape 25"/>
          <p:cNvSpPr/>
          <p:nvPr/>
        </p:nvSpPr>
        <p:spPr>
          <a:xfrm>
            <a:off x="4908600" y="5403960"/>
            <a:ext cx="166356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Up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6" name="AutoShape 26"/>
          <p:cNvSpPr/>
          <p:nvPr/>
        </p:nvSpPr>
        <p:spPr>
          <a:xfrm>
            <a:off x="6738840" y="5405400"/>
            <a:ext cx="234972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autologie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407" name="Group 31"/>
          <p:cNvGrpSpPr/>
          <p:nvPr/>
        </p:nvGrpSpPr>
        <p:grpSpPr>
          <a:xfrm>
            <a:off x="5740200" y="3446640"/>
            <a:ext cx="2240280" cy="1930320"/>
            <a:chOff x="5740200" y="3446640"/>
            <a:chExt cx="2240280" cy="1930320"/>
          </a:xfrm>
        </p:grpSpPr>
        <p:sp>
          <p:nvSpPr>
            <p:cNvPr id="408" name="Oval 32"/>
            <p:cNvSpPr/>
            <p:nvPr/>
          </p:nvSpPr>
          <p:spPr>
            <a:xfrm>
              <a:off x="6630840" y="4476600"/>
              <a:ext cx="628920" cy="628920"/>
            </a:xfrm>
            <a:prstGeom prst="ellipse">
              <a:avLst/>
            </a:prstGeom>
            <a:solidFill>
              <a:srgbClr val="ffe5c5"/>
            </a:solidFill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или</a:t>
              </a:r>
              <a:endParaRPr b="1" lang="en-US" sz="2400" spc="-1" strike="noStrike">
                <a:solidFill>
                  <a:srgbClr val="800000"/>
                </a:solidFill>
                <a:latin typeface="Arial"/>
              </a:endParaRPr>
            </a:p>
          </p:txBody>
        </p:sp>
        <p:cxnSp>
          <p:nvCxnSpPr>
            <p:cNvPr id="409" name="AutoShape 33"/>
            <p:cNvCxnSpPr>
              <a:stCxn id="408" idx="6"/>
            </p:cNvCxnSpPr>
            <p:nvPr/>
          </p:nvCxnSpPr>
          <p:spPr>
            <a:xfrm>
              <a:off x="7287840" y="4790880"/>
              <a:ext cx="626040" cy="586440"/>
            </a:xfrm>
            <a:prstGeom prst="straightConnector1">
              <a:avLst/>
            </a:prstGeom>
            <a:ln w="57240">
              <a:solidFill>
                <a:srgbClr val="800000"/>
              </a:solidFill>
              <a:miter/>
              <a:tailEnd len="med" type="triangle" w="med"/>
            </a:ln>
          </p:spPr>
        </p:cxnSp>
        <p:sp>
          <p:nvSpPr>
            <p:cNvPr id="410" name="AutoShape 34"/>
            <p:cNvSpPr/>
            <p:nvPr/>
          </p:nvSpPr>
          <p:spPr>
            <a:xfrm>
              <a:off x="5908680" y="3446640"/>
              <a:ext cx="2071800" cy="563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/.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sGen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Up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cxnSp>
          <p:nvCxnSpPr>
            <p:cNvPr id="411" name="AutoShape 35"/>
            <p:cNvCxnSpPr>
              <a:stCxn id="408" idx="2"/>
            </p:cNvCxnSpPr>
            <p:nvPr/>
          </p:nvCxnSpPr>
          <p:spPr>
            <a:xfrm flipH="1">
              <a:off x="5740200" y="4791240"/>
              <a:ext cx="862560" cy="584640"/>
            </a:xfrm>
            <a:prstGeom prst="straightConnector1">
              <a:avLst/>
            </a:prstGeom>
            <a:ln w="57240">
              <a:solidFill>
                <a:srgbClr val="800000"/>
              </a:solidFill>
              <a:miter/>
              <a:tailEnd len="med" type="triangle" w="med"/>
            </a:ln>
          </p:spPr>
        </p:cxnSp>
        <p:cxnSp>
          <p:nvCxnSpPr>
            <p:cNvPr id="412" name="AutoShape 36"/>
            <p:cNvCxnSpPr>
              <a:stCxn id="410" idx="2"/>
              <a:endCxn id="408" idx="0"/>
            </p:cNvCxnSpPr>
            <p:nvPr/>
          </p:nvCxnSpPr>
          <p:spPr>
            <a:xfrm>
              <a:off x="6945120" y="4038480"/>
              <a:ext cx="1080" cy="410400"/>
            </a:xfrm>
            <a:prstGeom prst="straightConnector1">
              <a:avLst/>
            </a:prstGeom>
            <a:ln w="57240">
              <a:solidFill>
                <a:srgbClr val="800000"/>
              </a:solidFill>
              <a:miter/>
              <a:tailEnd len="med" type="triangle" w="med"/>
            </a:ln>
          </p:spPr>
        </p:cxnSp>
      </p:grpSp>
      <p:sp>
        <p:nvSpPr>
          <p:cNvPr id="413" name="Text Box 38"/>
          <p:cNvSpPr/>
          <p:nvPr/>
        </p:nvSpPr>
        <p:spPr>
          <a:xfrm>
            <a:off x="3699720" y="2219400"/>
            <a:ext cx="83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!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414" name="AutoShape 39"/>
          <p:cNvCxnSpPr>
            <a:stCxn id="402" idx="0"/>
            <a:endCxn id="404" idx="1"/>
          </p:cNvCxnSpPr>
          <p:nvPr/>
        </p:nvCxnSpPr>
        <p:spPr>
          <a:xfrm flipV="1">
            <a:off x="1091880" y="3139200"/>
            <a:ext cx="2778840" cy="126756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415" name="AutoShape 40"/>
          <p:cNvCxnSpPr>
            <a:stCxn id="404" idx="3"/>
            <a:endCxn id="410" idx="0"/>
          </p:cNvCxnSpPr>
          <p:nvPr/>
        </p:nvCxnSpPr>
        <p:spPr>
          <a:xfrm>
            <a:off x="5290920" y="3139920"/>
            <a:ext cx="1654920" cy="27828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404" name="AutoShape 41"/>
          <p:cNvSpPr/>
          <p:nvPr/>
        </p:nvSpPr>
        <p:spPr>
          <a:xfrm>
            <a:off x="3898800" y="2881440"/>
            <a:ext cx="1363680" cy="517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filter ?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Условие на rGen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17" name="Text Box 17"/>
          <p:cNvSpPr/>
          <p:nvPr/>
        </p:nvSpPr>
        <p:spPr>
          <a:xfrm>
            <a:off x="3699720" y="2219400"/>
            <a:ext cx="83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!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8" name="AutoShape 4"/>
          <p:cNvSpPr/>
          <p:nvPr/>
        </p:nvSpPr>
        <p:spPr>
          <a:xfrm flipH="1">
            <a:off x="2867040" y="1333440"/>
            <a:ext cx="339264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rGe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9" name="AutoShape 5"/>
          <p:cNvSpPr/>
          <p:nvPr/>
        </p:nvSpPr>
        <p:spPr>
          <a:xfrm flipH="1">
            <a:off x="7220880" y="5403960"/>
            <a:ext cx="166356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Up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420" name="AutoShape 6"/>
          <p:cNvCxnSpPr>
            <a:stCxn id="419" idx="0"/>
            <a:endCxn id="421" idx="2"/>
          </p:cNvCxnSpPr>
          <p:nvPr/>
        </p:nvCxnSpPr>
        <p:spPr>
          <a:xfrm flipV="1">
            <a:off x="8053200" y="5027400"/>
            <a:ext cx="1080" cy="34776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422" name="AutoShape 7"/>
          <p:cNvCxnSpPr>
            <a:stCxn id="423" idx="0"/>
            <a:endCxn id="418" idx="2"/>
          </p:cNvCxnSpPr>
          <p:nvPr/>
        </p:nvCxnSpPr>
        <p:spPr>
          <a:xfrm flipV="1">
            <a:off x="4563720" y="2210760"/>
            <a:ext cx="1080" cy="64188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421" name="AutoShape 8"/>
          <p:cNvSpPr/>
          <p:nvPr/>
        </p:nvSpPr>
        <p:spPr>
          <a:xfrm flipH="1">
            <a:off x="7016040" y="4435560"/>
            <a:ext cx="2071800" cy="563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/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Ge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p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4" name="AutoShape 9"/>
          <p:cNvSpPr/>
          <p:nvPr/>
        </p:nvSpPr>
        <p:spPr>
          <a:xfrm>
            <a:off x="55440" y="5403960"/>
            <a:ext cx="166392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D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5" name="AutoShape 10"/>
          <p:cNvSpPr/>
          <p:nvPr/>
        </p:nvSpPr>
        <p:spPr>
          <a:xfrm>
            <a:off x="1886040" y="5405400"/>
            <a:ext cx="2349360" cy="849240"/>
          </a:xfrm>
          <a:prstGeom prst="roundRect">
            <a:avLst>
              <a:gd name="adj" fmla="val 16667"/>
            </a:avLst>
          </a:prstGeom>
          <a:solidFill>
            <a:srgbClr val="ffe5c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autologie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426" name="Group 11"/>
          <p:cNvGrpSpPr/>
          <p:nvPr/>
        </p:nvGrpSpPr>
        <p:grpSpPr>
          <a:xfrm>
            <a:off x="887040" y="3446640"/>
            <a:ext cx="2240280" cy="1930320"/>
            <a:chOff x="887040" y="3446640"/>
            <a:chExt cx="2240280" cy="1930320"/>
          </a:xfrm>
        </p:grpSpPr>
        <p:sp>
          <p:nvSpPr>
            <p:cNvPr id="427" name="Oval 12"/>
            <p:cNvSpPr/>
            <p:nvPr/>
          </p:nvSpPr>
          <p:spPr>
            <a:xfrm>
              <a:off x="1777680" y="4476600"/>
              <a:ext cx="628920" cy="628920"/>
            </a:xfrm>
            <a:prstGeom prst="ellipse">
              <a:avLst/>
            </a:prstGeom>
            <a:solidFill>
              <a:srgbClr val="ffe5c5"/>
            </a:solidFill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или</a:t>
              </a:r>
              <a:endParaRPr b="1" lang="en-US" sz="2400" spc="-1" strike="noStrike">
                <a:solidFill>
                  <a:srgbClr val="800000"/>
                </a:solidFill>
                <a:latin typeface="Arial"/>
              </a:endParaRPr>
            </a:p>
          </p:txBody>
        </p:sp>
        <p:cxnSp>
          <p:nvCxnSpPr>
            <p:cNvPr id="428" name="AutoShape 13"/>
            <p:cNvCxnSpPr>
              <a:stCxn id="427" idx="6"/>
            </p:cNvCxnSpPr>
            <p:nvPr/>
          </p:nvCxnSpPr>
          <p:spPr>
            <a:xfrm>
              <a:off x="2434680" y="4790880"/>
              <a:ext cx="626040" cy="586440"/>
            </a:xfrm>
            <a:prstGeom prst="straightConnector1">
              <a:avLst/>
            </a:prstGeom>
            <a:ln w="57240">
              <a:solidFill>
                <a:srgbClr val="800000"/>
              </a:solidFill>
              <a:miter/>
              <a:tailEnd len="med" type="triangle" w="med"/>
            </a:ln>
          </p:spPr>
        </p:cxnSp>
        <p:sp>
          <p:nvSpPr>
            <p:cNvPr id="429" name="AutoShape 14"/>
            <p:cNvSpPr/>
            <p:nvPr/>
          </p:nvSpPr>
          <p:spPr>
            <a:xfrm>
              <a:off x="1055520" y="3446640"/>
              <a:ext cx="2071800" cy="563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/.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sGen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n</a:t>
              </a:r>
              <a:endParaRPr b="1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cxnSp>
          <p:nvCxnSpPr>
            <p:cNvPr id="430" name="AutoShape 15"/>
            <p:cNvCxnSpPr>
              <a:stCxn id="427" idx="2"/>
            </p:cNvCxnSpPr>
            <p:nvPr/>
          </p:nvCxnSpPr>
          <p:spPr>
            <a:xfrm flipH="1">
              <a:off x="887040" y="4791240"/>
              <a:ext cx="862560" cy="584640"/>
            </a:xfrm>
            <a:prstGeom prst="straightConnector1">
              <a:avLst/>
            </a:prstGeom>
            <a:ln w="57240">
              <a:solidFill>
                <a:srgbClr val="800000"/>
              </a:solidFill>
              <a:miter/>
              <a:tailEnd len="med" type="triangle" w="med"/>
            </a:ln>
          </p:spPr>
        </p:cxnSp>
        <p:cxnSp>
          <p:nvCxnSpPr>
            <p:cNvPr id="431" name="AutoShape 16"/>
            <p:cNvCxnSpPr>
              <a:stCxn id="429" idx="2"/>
              <a:endCxn id="427" idx="0"/>
            </p:cNvCxnSpPr>
            <p:nvPr/>
          </p:nvCxnSpPr>
          <p:spPr>
            <a:xfrm>
              <a:off x="2091960" y="4038480"/>
              <a:ext cx="1080" cy="410400"/>
            </a:xfrm>
            <a:prstGeom prst="straightConnector1">
              <a:avLst/>
            </a:prstGeom>
            <a:ln w="57240">
              <a:solidFill>
                <a:srgbClr val="800000"/>
              </a:solidFill>
              <a:miter/>
              <a:tailEnd len="med" type="triangle" w="med"/>
            </a:ln>
          </p:spPr>
        </p:cxnSp>
      </p:grpSp>
      <p:cxnSp>
        <p:nvCxnSpPr>
          <p:cNvPr id="432" name="AutoShape 18"/>
          <p:cNvCxnSpPr>
            <a:stCxn id="421" idx="0"/>
            <a:endCxn id="423" idx="3"/>
          </p:cNvCxnSpPr>
          <p:nvPr/>
        </p:nvCxnSpPr>
        <p:spPr>
          <a:xfrm flipH="1" flipV="1">
            <a:off x="5273280" y="3139200"/>
            <a:ext cx="2780640" cy="126756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433" name="AutoShape 19"/>
          <p:cNvCxnSpPr>
            <a:stCxn id="423" idx="1"/>
            <a:endCxn id="429" idx="0"/>
          </p:cNvCxnSpPr>
          <p:nvPr/>
        </p:nvCxnSpPr>
        <p:spPr>
          <a:xfrm flipH="1">
            <a:off x="2091960" y="3139920"/>
            <a:ext cx="1761120" cy="27828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423" name="AutoShape 23"/>
          <p:cNvSpPr/>
          <p:nvPr/>
        </p:nvSpPr>
        <p:spPr>
          <a:xfrm>
            <a:off x="3881520" y="2881440"/>
            <a:ext cx="1363680" cy="517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filter ?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10.4.2 Функция mkRestr</a:t>
            </a: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’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10960" y="1599840"/>
            <a:ext cx="8933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mkRest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:: Restr -&gt; Restr -&gt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Subst -&gt; Subst -&gt; Restr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mkRest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(RESTR 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) (RESTR 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) 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 s2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=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(RESTR r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whe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x:=/=: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|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a:=/=:b) &lt;- 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x&lt;- invAImg a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y&lt;- invAImg b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t ineq = (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x:=/=: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/.s2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isTauto ineq)||(ineq`elem`r2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]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invAImg c =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       (if isAtom c then [c] else [ ]) ++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       [ x | (x@(CVA _):-&gt;z)&lt;-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z==c ]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10.4.3 Функция genRestr. Поправка Юрия Климова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 данным рестрикциям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U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D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подстановкам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GenU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GenD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функци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genRest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оит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Ge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genRestr::Restr-&gt;Restr-&gt;Subst-&gt;Subst -&gt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Restr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genRestr rDn rUp sGenDn sGenUp =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mkRestr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rD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Up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GenDn sGenU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+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mkRestr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r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p rDn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Ge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p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sGenD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10.7 </a:t>
            </a: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Gener:</a:t>
            </a: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 выводы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главе 10 рассмотрен алгоритм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Gene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Обобщение двух конфигураций реализовано в две фазы: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обобще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баз конфигураций и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обобщение рестрикц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онфигураци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вая фаза реализована при помощи известного алгоритма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specific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gen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zatio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запрограммированного с учетом конструкции конфигураций для языка TS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10.7 </a:t>
            </a: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Gener:</a:t>
            </a: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 выводы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реализации второй фазы разработан и обоснован алгоритм обобщения рестрикций, используемых для TS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результате получен алгоритм обобщения, обладающий следующим свойством: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если выполнен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Up </a:t>
            </a: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≥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cD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то в результате обобщения будет построена конфигурац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Ge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совпадающая с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U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с точностью до переименования c-переменны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10.7 </a:t>
            </a: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Gener:</a:t>
            </a: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 выводы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анное свойство реализованного алгоритма обобщени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емонстрирует, что он строит тесные обобщения конфигурац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зволяет легко реализовать проверку услови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Up 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≥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cD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за счет анализа результатов работы алгоритма обобщен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м самым, проверка услови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Up 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≥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cD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тнесена к модулю обобщения, что позволяет упростить структуру суперкомпилятор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99920" y="-36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10.1 Постановка задачи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 есть, д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я построения обобщени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Ge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ары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U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D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еобходим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ыполнить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бобщение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R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-баз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построить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тесно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бщее надвыраж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[cexpGen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...cexpGen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ля правых частей c-сред из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U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D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[cexpU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...cexpU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[cexpDn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...cexpDn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роить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ответствующ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ождествляющие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станов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GenU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Ge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10.1 Постановка задачи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бобщением рестрикций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остроить наиболее сильные ограничени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Ge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акие, ч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уществуют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’U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’D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Gen /. sGenUp /. r’Up == rUp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Gen /. sGenDn /. r’Dn == rDn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GenU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GenD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подстановки с пред. шага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expGen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/. sGenUp == cexpU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expGen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/. sGenDn == cexpDn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10.2 Обобщение </a:t>
            </a: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SR</a:t>
            </a: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-баз конфигураций</a:t>
            </a:r>
            <a:endParaRPr b="1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льзуемся известным алгоритмом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most specific generalizatio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MSG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торый строит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xGe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xGe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xUp, xGe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xDn)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amp;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x’: ( x’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xUp, x’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xDn )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x’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xGen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xU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xD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xGe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жесткие c-конструкци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нашем случае — правые части c-сред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xGen= [cexpGen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... cexpGen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]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xU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[cexpUp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... cexpUp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]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xD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[cexpDn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... cexpDn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10.2.1 Вспомогательные конструкции и функции</a:t>
            </a: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аблица обобщен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Каждый элемент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va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(cexp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cexp2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)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значает, что ранее было принято решение: фрагмент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exp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з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D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фрагмент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exp2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з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U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бобщить c-переменно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va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Вс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cvar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попарно различны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0:02:47Z</dcterms:created>
  <dc:creator>Sergei Abramov</dc:creator>
  <dc:description/>
  <dc:language>en-US</dc:language>
  <cp:lastModifiedBy>abram</cp:lastModifiedBy>
  <dcterms:modified xsi:type="dcterms:W3CDTF">2009-03-19T06:16:22Z</dcterms:modified>
  <cp:revision>931</cp:revision>
  <dc:subject/>
  <dc:title>Slide 1</dc:title>
</cp:coreProperties>
</file>