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817-9331-4C55-B617-CAEFBE52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377-6B7E-4891-9BEB-EDA6772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F0A-FD7D-4CEA-9F21-A61B6C7D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69F-3C6D-4193-A9CE-47846698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9DF-A212-4802-903D-78728B97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D32C-DD6B-4CDF-BFBC-2E6BD1C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B0E7-28A8-4D65-8CA2-2255F14A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94E-F2BB-49F5-A211-0A4813E6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3B5A-DE98-4BC4-B37B-BE0493C8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E68-F695-49CA-887B-613D6648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8A7D-B643-479D-A26E-D0B207E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C91-9A95-42CF-AC57-42F45BA2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78F1-F81D-42B4-93D4-95B9A6C6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683F-ECC7-46F0-8C95-52CC2871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C493-395A-4505-8AD2-F1B5C510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85FF-4317-4FF1-BD22-DC27B129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126-2070-4143-8196-576C6128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848-358F-4530-AD37-097E0450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308-E82F-4CEA-A46A-7401BB6F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72E-B81A-424E-B0BC-EE40ED2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590-DC8C-4967-81DA-6C96191F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48F-B82D-4FD6-9C32-3559AA5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6F2-B539-47AF-8592-3F607F55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391-3484-43F8-8A77-E4253A8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D0C0-373A-43A1-AB57-8E01264EA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07D-EB49-428D-8FA8-42943BB65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5. Инверсное программи-рование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Доказательство корректност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inv 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|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p.:.x&gt;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.:.x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|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s,r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s,r)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|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s,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p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&lt;(ces,r)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 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&lt;x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 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x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Доказательство корректност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inv 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intL p (x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 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x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5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версное программировани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авнение логического программирования с инверсным программ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грамм-предикат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ойства инверсного программирования программ-предикатов позволяют рассматривать язык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ак язык логического программир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версное программирование программ-предикатов предоставляет больше изобразительных средств в распоряжение программиста, нежели традиционные язы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огического программир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цепция инверсного программирования не исчерпывается инверсным программированием программ-предикатов. Ее можно использовать для гораздо более широкого класса задач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8426000">
            <a:off x="7312680" y="4241880"/>
            <a:ext cx="887400" cy="3089520"/>
          </a:xfrm>
          <a:prstGeom prst="upArrow">
            <a:avLst>
              <a:gd name="adj1" fmla="val 50000"/>
              <a:gd name="adj2" fmla="val 87039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5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версное программировани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7160" y="1599840"/>
            <a:ext cx="87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ология программирования, основанная на использовании инверсных вычис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Инверсное программирование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граммист вместо того чтобы программировать требуемую в задании функци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еализует программ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функция которой при инверсном вычислении совпадает с функци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5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нверсное программировани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ждым текстом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но связать не одну, а две функции программ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:: D -&gt; EVa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бычная функция программы (семантика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= int p 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n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::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n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-&gt; 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n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инверсная функция (семантика) программы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n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x,y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ura p x y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n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(Class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тип запросов на инверсное вычисл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n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[(Subst,Restr)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тип результатов инверсного вычис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Перенос инверсных вычислений на произвольный язык L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я и варианты п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рен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нверсных вычислений с язык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произвольный язык программирова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:: ProgR -&gt; D -&gt; Dinv -&gt; Rinv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intL p (x,y) = ura intL (p.:.x) 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.:.) :: ProgL-&gt;Class -&gt; Clas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.:.(ces,r) = ((p:ces),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Корректность переноса инверсных вычислений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у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произвольный язык программирования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/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претато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класс, обобщенное данное дл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значение.  Тогда вычисление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intL p (x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ует инверс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числение и выполне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Корректность переноса инверсных вычислений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/.(R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попарно непересекающиеся подклассы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любого данн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ена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данн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 котором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ен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уществует номер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й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’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Кроме того, в данном случае, префикс дли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ска будет построе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v intL p (x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 конечное число ша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орректность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inv (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ратко)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произвольный язык программирования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/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претато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класс, обобщенное данное дл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intL p (x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, p 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Доказательство корректност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inv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intL p (x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intL (p.:.x)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intL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s,r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|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p.:.x&gt;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.:.x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|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s,r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s,r)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7-10-02T18:08:10Z</dcterms:modified>
  <cp:revision>605</cp:revision>
  <dc:subject/>
  <dc:title>Slide 1</dc:title>
</cp:coreProperties>
</file>