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85C-E6D4-4A0D-8910-6825CB7A8A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F52E-DC97-4086-BA69-A4948C6B4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372-8D7D-4C7A-8CE6-D423EC723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B78F-178E-44E4-8A67-912CF4A50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79F8-B104-4301-95FD-8C45B5ACF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990E-C21E-440D-BE52-323567C99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EDF-063A-47D4-8DC4-C4FFE739D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98E6-92DD-44B0-97E9-040695F82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0E2-7D61-429E-A4BD-DABB5498B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B4AB-2059-4107-A795-ACA5FB4BF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E36D-4F05-4E27-AC91-7F2CFCCF1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B51-59FA-4A2F-8C60-7A4B5EF99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BE12-EC56-456A-BEF0-DE878DA46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3B42-72F3-4956-84E1-0A7E505D8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C75-B130-4567-8BF8-9FA78D195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F7E0-1A07-465D-9F2D-C5ACF34E8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8A5-E406-45E3-8787-A8465075D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317-2C7D-46C5-B345-EE8CB1DF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564-8842-4E2F-8E3D-3123EDA1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626-97E6-4D47-A025-EF513C4E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F12-1F0E-4444-B7CD-CA0991FC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A33F-7468-48A7-A27B-9A7D1A76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7003-84A4-4596-BA4C-CD075150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DF90-7BBD-4835-835D-EA1EDCBD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9967-04BA-4A1E-BFF6-584FB7D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968-6D85-4DE0-9D83-CED4DAC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561-AAB2-436B-8B0D-9388DA4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685A-DADD-41DF-A322-4B6E3D4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585-5394-4711-BA77-0E2FBFCE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A045-324B-4D55-A3BA-4B40365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BFF8-D313-456F-B44F-F2A190E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EA5A-8610-495B-9836-C7893DB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55FE-EE92-4B3E-BF9B-9D7534CE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96C1-355D-40F8-8FC5-C3ADF3FF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1A3-2238-4B19-92F0-6F33BD1A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72A-1224-4645-80ED-8703680D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D87-5A53-4092-AEBD-C89DE67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48A-FFE5-44E5-AA09-09B533B8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F42-8FF2-43FB-8007-C7AED08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817-7C86-4449-BD00-56B3A69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08B-1B63-43AB-AFEC-1EC545A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FB06-437D-42FB-9FCE-F7D575E04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321C-C5B3-4635-B841-99E572E933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8343720" cy="14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Специализация, свойства, обозначе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12720"/>
            <a:ext cx="86868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ализация: основное свойство специализато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случая двухместной специализируемой програм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x]) [y] = p[x,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y]) [x] = p[x,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x,y]) [] = p[x,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]) [x,y] = p[x,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8343720" cy="14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Специализация, свойства, обозначения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12720"/>
            <a:ext cx="86868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ое свойство специализато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случая 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местной програм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[x,y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x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,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,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= (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D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,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y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,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D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S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,y,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]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s[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DD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 [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,y,z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дно из первых применений специализации на практике: рендеринг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D-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це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8343720" cy="142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Эффективная реализация нестандартных семантик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0240" y="1471680"/>
            <a:ext cx="86821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ализация схемы вычисления m-нестандартной функции програм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 = m [intL, p, d]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intL] [p, d]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intL] [p, d]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intL] [p,d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14480" y="2577960"/>
            <a:ext cx="4122720" cy="900360"/>
          </a:xfrm>
          <a:prstGeom prst="wedgeRectCallout">
            <a:avLst>
              <a:gd name="adj1" fmla="val 59166"/>
              <a:gd name="adj2" fmla="val 46120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стандартный интерпретатор язы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3567240" y="3784680"/>
            <a:ext cx="2525760" cy="46512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4643280" y="3209760"/>
            <a:ext cx="2684520" cy="46548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114480" y="3552840"/>
            <a:ext cx="2090520" cy="2062080"/>
          </a:xfrm>
          <a:prstGeom prst="wedgeRectCallout">
            <a:avLst>
              <a:gd name="adj1" fmla="val 115222"/>
              <a:gd name="adj2" fmla="val -26291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т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стан-дартных интерпре-таторов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624040" y="4379760"/>
            <a:ext cx="2133720" cy="46512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2595600" y="5470560"/>
            <a:ext cx="6372360" cy="877680"/>
          </a:xfrm>
          <a:prstGeom prst="wedgeRectCallout">
            <a:avLst>
              <a:gd name="adj1" fmla="val -33356"/>
              <a:gd name="adj2" fmla="val -122875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тор генераторов нестандартных интерпретаторов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8343720" cy="142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Эффективная реализация нестандартных семантик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0240" y="1471680"/>
            <a:ext cx="86821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ализация схемы вычисления m-нестандартной функции програм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d = m [intL, p, d]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int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d]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] [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]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]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intL] [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]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[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intL] [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]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5680" y="1330200"/>
            <a:ext cx="4486320" cy="1319400"/>
          </a:xfrm>
          <a:prstGeom prst="wedgeRectCallout">
            <a:avLst>
              <a:gd name="adj1" fmla="val 51555"/>
              <a:gd name="adj2" fmla="val 105236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станда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→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иля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681360" y="3798720"/>
            <a:ext cx="3575160" cy="46548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4643280" y="3209760"/>
            <a:ext cx="3270240" cy="46548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85680" y="2728800"/>
            <a:ext cx="2751120" cy="1238400"/>
          </a:xfrm>
          <a:prstGeom prst="wedgeRectCallout">
            <a:avLst>
              <a:gd name="adj1" fmla="val 79430"/>
              <a:gd name="adj2" fmla="val 54870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станда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ы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→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-пилятор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624040" y="4379760"/>
            <a:ext cx="3348000" cy="46512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262240" y="5975280"/>
            <a:ext cx="5411880" cy="773280"/>
          </a:xfrm>
          <a:prstGeom prst="wedgeRectCallout">
            <a:avLst>
              <a:gd name="adj1" fmla="val -34013"/>
              <a:gd name="adj2" fmla="val -121046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тор генераторов нестан-дартных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●→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иляторов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714760" y="4964040"/>
            <a:ext cx="3257280" cy="465120"/>
          </a:xfrm>
          <a:prstGeom prst="roundRect">
            <a:avLst>
              <a:gd name="adj" fmla="val 46449"/>
            </a:avLst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85680" y="4051440"/>
            <a:ext cx="2100240" cy="2697120"/>
          </a:xfrm>
          <a:prstGeom prst="wedgeRectCallout">
            <a:avLst>
              <a:gd name="adj1" fmla="val 69726"/>
              <a:gd name="adj2" fmla="val -29810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т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стан-дартных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●→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иля-торов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130320"/>
            <a:ext cx="8344080" cy="1217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Эффективная реализация нестандартных семантик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7680" y="1494000"/>
            <a:ext cx="87026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ции описывают схемы постро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е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граммных средств одноуровневой нестандартной интерпрета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естандартного интерпретатора язык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нерато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естандартны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терпрета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нератора генератор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тандарт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/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прета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47680" y="1494000"/>
            <a:ext cx="87026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ции описывают схемы постро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етыре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редст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естандарт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компиля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естандарт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компиляции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естандартны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компиля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нератор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естандарт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компиля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нератор генератор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тандартн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компиля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722160" y="130320"/>
            <a:ext cx="8344080" cy="1217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Эффективная реализация нестандартных семантик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03000"/>
            <a:ext cx="849312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енные выше семь проекций пока еще не были осуществлены на практ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ая реализация данных проекций потребует дальнейшего развития методов метавычислени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й 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uch Ston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для специализаторо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722160" y="130320"/>
            <a:ext cx="8344080" cy="1217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3.1 Эффективная реализация нестандартных семантик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6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3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 rot="5400000">
            <a:off x="1735560" y="410148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1280" y="205056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схемы выполнения шага окрестностного тестирования и инверсного вычисления программ в произвольном языке программирова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b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 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res,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 (x,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p’  intL p 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связать с любой программ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роме стандартной функции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br>
              <a:rPr sz="32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32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 -&gt;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d, p)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ще две функ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b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bh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nb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inv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(x,y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 D -&gt; 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 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 R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bh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 D -&gt; R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bh</a:t>
            </a:r>
            <a:r>
              <a:rPr b="1" lang="en-US" sz="3200" spc="-1" strike="noStrike" baseline="-18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in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 baseline="-18000">
                <a:solidFill>
                  <a:srgbClr val="000000"/>
                </a:solidFill>
                <a:latin typeface="Tahoma"/>
              </a:rPr>
              <a:t>nb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1280" y="205056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приме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R intL p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b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 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res,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(p:d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 p (x,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 (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p  intL p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аем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1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одификатор семантик языков программирования — произвольный алгорит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еализующий функцию со следующим типом: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 :: ProgR -&gt; D -&gt; D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&gt; 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язык программирования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/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ледующий язы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зовем модификацией язы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L, порожденной модификатор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модифицированным языком L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10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язык программирования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/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претатор. Следующий язык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зовем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одификацией язы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орожденной модификатор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модифицированным язык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диалекто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таксис програм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овпадает с синтаксисом язы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едметная обла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входные данные программ —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результаты вычисления программ —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 каждой программ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жем функцию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d = m intL p 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 D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&gt; R</a:t>
            </a:r>
            <a:r>
              <a:rPr b="1" lang="ru-RU" sz="2800" spc="-1" strike="noStrike" baseline="-18000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3. Нестандартные семантик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рминолог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стандартная семантика языка L, порожденная модификатором m (m-нестандартная семантика языка 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ы модификаторов семант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b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ы построения модификаторов семант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тандартные интерпретато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ации нестандартных интерпрета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8343720" cy="141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3.1 К эффективной реализации нестандартных семантик</a:t>
            </a:r>
            <a:endParaRPr b="1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1440000"/>
            <a:ext cx="849312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эффективность вычисления «напрямую» схе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 intL p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ее предложим метод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втомат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троения эффективных реализаций нестандартных семантик, основанные на применении специализации програм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4-09T05:39:53Z</dcterms:modified>
  <cp:revision>825</cp:revision>
  <dc:subject/>
  <dc:title>Slide 1</dc:title>
</cp:coreProperties>
</file>