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105-9663-4C90-8ADA-BF6033EB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090-9766-41B1-BE2A-F3D44E9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10C-E31A-43EA-9801-74478EDF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4B4-77EF-4DCC-AA0B-32861ECA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D53-C3F8-4CAE-A6D3-5937936C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12B-4EEE-4B8D-81C6-B34714D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18FC-7BAA-45E1-A4C7-3F241B7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30BD-022C-4A85-9B01-71209A1B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8102-97A3-41ED-A5E0-B3C4D2A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D4A6-3D0A-4D51-B68C-8A20E209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9D1-CE73-437C-A849-1B7B3AA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CE5-C272-4E49-A040-80DC3C5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85A-F6D1-47D5-BF87-F99686E8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EEA-7FA9-4938-ACCB-A09301F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84F-6CF6-43CC-953A-F3A58295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1138-DB2C-467C-A420-EAB32FB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094-E375-4E9A-AC21-2857557F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696-C949-4A8B-A542-B95C6B6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BEB-E101-40BD-B0E1-893F05E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ADF-E3D2-467D-9B54-1D89A6F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DC0-DF75-4156-8767-124196F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03D-F523-4264-BE2A-A1E830B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918-3B91-48F8-9358-A6C3097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99F-E64C-4951-A3D6-5D0E971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97E-AB88-4BCA-8486-39FB150DD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412-CA8B-473D-8F0F-5F286ACCA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1 Шаги форм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атриваем только конструктивные процесс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означают слова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В процесс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не вся информация 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была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спользова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65160" indent="-3412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но подменить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ой, что процес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бот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т таким же, ка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1 Шаги форм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 на вопрос «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акая информация о текст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d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ла использова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жество всех возможных таких подм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’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но подменить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роцес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т таким же, как и процес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цесс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акой ж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к и процес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 tr(p,d)=tr(p,d’), p d = p d’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1 Множество o(p, d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360" y="1599840"/>
            <a:ext cx="8771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 d) =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{ d’ | tr(p,d)=tr(p,d’), p d = p d’ }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очности определяет, какая информация о текст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ла использована, и какая информация о текст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была использована в процесс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жется, что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 d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им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ом и мы научимся его строить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2 Окрестност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9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ces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L-класс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EVal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огда будем называть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крестность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окрестностью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 центр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2 Окрестност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о удобно записывать центр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верхнем индексе: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рестность не может быть пустой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ут использованы нами для представ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информационная интерпрет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2 Окрестност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ут использованы нами для представ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информационная интерпретация, наприме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единственный (не единственный) элемен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o(p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..мнение класса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gt;=o(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gt;=o(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 baseline="-25000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≤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и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&lt;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..мнение класса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2 Окрестност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4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данног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ножество канонических форм окрестност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ечно 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уществует бесконечной последовательности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.. окрестностей данны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возможно бесконечно уточнять информацию о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 Вспомогательные функции алгоритма na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список параметров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вид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pa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,pa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огда 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om(p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сех возможных вход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p имеет представление:</a:t>
            </a:r>
            <a:br>
              <a:rPr sz="3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RESTR[])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[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,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,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зличные c-переменные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a-переменная,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a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a-переменная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e-переменная,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a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e-перемен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 Вспомогательные функции алгоритма na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7440" y="1599840"/>
            <a:ext cx="873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Если список параметр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вид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a.x, a.y, e.z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om(p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&lt;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&lt;c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ESTR[]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[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,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2,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3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68560" y="2608200"/>
            <a:ext cx="2503440" cy="1079640"/>
            <a:chOff x="2968560" y="2608200"/>
            <a:chExt cx="2503440" cy="1079640"/>
          </a:xfrm>
        </p:grpSpPr>
        <p:sp>
          <p:nvSpPr>
            <p:cNvPr id="142" name=""/>
            <p:cNvSpPr/>
            <p:nvPr/>
          </p:nvSpPr>
          <p:spPr>
            <a:xfrm>
              <a:off x="2968560" y="2608200"/>
              <a:ext cx="719280" cy="1079640"/>
            </a:xfrm>
            <a:prstGeom prst="line">
              <a:avLst/>
            </a:prstGeom>
            <a:ln w="57240">
              <a:solidFill>
                <a:srgbClr val="ff0000">
                  <a:alpha val="67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52720" y="2608200"/>
              <a:ext cx="719280" cy="1079640"/>
            </a:xfrm>
            <a:prstGeom prst="line">
              <a:avLst/>
            </a:prstGeom>
            <a:ln w="57240">
              <a:solidFill>
                <a:srgbClr val="ff0000">
                  <a:alpha val="67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53080" y="2608200"/>
              <a:ext cx="718920" cy="1079640"/>
            </a:xfrm>
            <a:prstGeom prst="line">
              <a:avLst/>
            </a:prstGeom>
            <a:ln w="57240">
              <a:solidFill>
                <a:srgbClr val="ff0000">
                  <a:alpha val="67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 Вспомогательные функции алгоритма na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xps :: Parms -&gt; FreeIndx -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Exps, FreeInd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xps [ ] i = ([], i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xps (parm:parms) 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cvar:ces), i’’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r, i’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case parm of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VE _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mkCEVar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VA _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mkCAVar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es, i’’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mkCExps parms i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4840" y="376884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де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заданны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яем «параллельно и синхронно» два вычисле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эталонное вычис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 точности, как это происходит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 p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общенное вычисл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очности, как это происходит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tr p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жеств достижимости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из дерева процессов только одной ветки, которая соответству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лонному вычислению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(p,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Аргументы eval’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      (t, e) 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’      t  e ce  r  ces p 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T ((t, ce), r)  p 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 (ces, 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ргумент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’ :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erm -&gt; Env -&gt; CEnv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tr -&gt; CExps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gR -&gt; FreeIndx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(EVal, Cla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427120" y="2055960"/>
            <a:ext cx="2324160" cy="610920"/>
            <a:chOff x="2427120" y="2055960"/>
            <a:chExt cx="2324160" cy="610920"/>
          </a:xfrm>
        </p:grpSpPr>
        <p:sp>
          <p:nvSpPr>
            <p:cNvPr id="152" name=""/>
            <p:cNvSpPr/>
            <p:nvPr/>
          </p:nvSpPr>
          <p:spPr>
            <a:xfrm flipH="1">
              <a:off x="2427120" y="2055960"/>
              <a:ext cx="90720" cy="610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847960" y="2055960"/>
              <a:ext cx="60480" cy="610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76520" y="2055960"/>
              <a:ext cx="1274760" cy="610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19240" y="3041640"/>
            <a:ext cx="2298600" cy="1008000"/>
            <a:chOff x="3819240" y="3041640"/>
            <a:chExt cx="2298600" cy="1008000"/>
          </a:xfrm>
        </p:grpSpPr>
        <p:sp>
          <p:nvSpPr>
            <p:cNvPr id="156" name=""/>
            <p:cNvSpPr/>
            <p:nvPr/>
          </p:nvSpPr>
          <p:spPr>
            <a:xfrm flipH="1" flipV="1">
              <a:off x="4328640" y="3041640"/>
              <a:ext cx="1279800" cy="100800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819240" y="3041640"/>
              <a:ext cx="2298600" cy="100800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90760" y="2979720"/>
            <a:ext cx="2689200" cy="611280"/>
            <a:chOff x="2390760" y="2979720"/>
            <a:chExt cx="2689200" cy="611280"/>
          </a:xfrm>
        </p:grpSpPr>
        <p:sp>
          <p:nvSpPr>
            <p:cNvPr id="159" name=""/>
            <p:cNvSpPr/>
            <p:nvPr/>
          </p:nvSpPr>
          <p:spPr>
            <a:xfrm flipV="1">
              <a:off x="2390760" y="2979720"/>
              <a:ext cx="42840" cy="611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811240" y="2979720"/>
              <a:ext cx="368280" cy="611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606840" y="2979720"/>
              <a:ext cx="85680" cy="611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60880" y="2979720"/>
              <a:ext cx="639720" cy="611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440240" y="2979720"/>
              <a:ext cx="639720" cy="611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an :: ProgR -&gt; [EVal] -&gt; (EVal, Class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an p d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eval’ (CALL f prms) e ce (RESTR[]) ces 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 (DEFINE f prms _) : p’ = 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(ces, i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CExps prms 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Env prms 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c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Env prms 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’ (CALL f args) e ce r ces p i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’ t e’ ce’ r ces p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w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FINE _ prms 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tDef f 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mkEnv prms (args/.e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mkEnv prms (args/.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’ (ALT c t1 t2) e ce r ces p i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cond c 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U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’ t1 (e+.ue) ce1’ r1 ces1 p i’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ALSE ue -&gt; eval’ t2 (e+.ue) ce2’ r2 ces2 p i’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nt1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2), uce1, uce2, i’) = ccond c ce 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e1,ces1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1)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e,ces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1’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ce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e2,ces2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2)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e,ces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2’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c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6240" y="1599840"/>
            <a:ext cx="889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’ exp e ce r ces p i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res, (ces, r)/.subst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xp/.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xp/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rue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ubst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nif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res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ые входные данны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вершается за конечное числ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агов. Тогд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вершается (з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ий фун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со следующим результато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вершается (з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тераций фун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со следующим результатом:</a:t>
            </a:r>
            <a:br>
              <a:rPr sz="32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 d = (res,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езультат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крестно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ая, что: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o(p,d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’ | tr(p,d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(p,d’), p d = p d’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3.1 Окрестностный анализатор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1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ые входные данны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вершается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 d = (res,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’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Тогда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вершается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теми же результатом и трассой, что и на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 d’ = (res,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окрестности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екстуально совпадают: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роит представление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есь: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 «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акая информация о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ла использована в процесс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колько данное описание удобно для человека? ... Посмотрим на примере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matc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рестностны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е введен в рассмотрение в 1970-ых годах В. Ф. Турчиным, при участии других членов московской Рабочей группы по языку Рефал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очный», «ad hoc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ложенный здесь окрестностный анализ — один из методов метавычислений, инструмент общего назначения для построения формальных ответов на интуитивный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ая информация 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ыла использована, и какая информация 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была использована в некотором процессе обработки текс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match d1 = (’SUCCESS,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1 =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’A ’NIL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’A ’NI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4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7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4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0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[ 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зволим изображать: ca-переменную в виде люб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дчеркнут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тома, над которым надписан индекс, ce-переменную в виде произвольн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важды надчеркнут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e-значения, над которым надписан индек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-9360" y="711360"/>
            <a:ext cx="4543200" cy="1029960"/>
          </a:xfrm>
          <a:prstGeom prst="rightArrow">
            <a:avLst>
              <a:gd name="adj1" fmla="val 50000"/>
              <a:gd name="adj2" fmla="val 1102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ксплицированная фор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и окрестности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ces,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се c-переменны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пишем в указанной выше форме, взяв в качеств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дчеркиваем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начения значе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/.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-переменной, полученное при отождествлен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rue, s) = unify ces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рминолог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дчеркнутые фрагмент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кры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-переменными в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1 =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’A ’NIL, CONS ’A ’NIL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[ 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598920" y="387972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46440" y="4245120"/>
            <a:ext cx="4254480" cy="71280"/>
            <a:chOff x="3646440" y="4245120"/>
            <a:chExt cx="4254480" cy="71280"/>
          </a:xfrm>
        </p:grpSpPr>
        <p:sp>
          <p:nvSpPr>
            <p:cNvPr id="191" name=""/>
            <p:cNvSpPr/>
            <p:nvPr/>
          </p:nvSpPr>
          <p:spPr>
            <a:xfrm>
              <a:off x="3646440" y="4287960"/>
              <a:ext cx="461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67360" y="4282920"/>
              <a:ext cx="809280" cy="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1280" y="431172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34000" y="4278240"/>
              <a:ext cx="481320" cy="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1280" y="424512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использовании эксплицированной формы записи окрестности нет необходимости особо указывать центр окрестности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B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TR[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8 :≠: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14]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X 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Y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TR[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8 :≠: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14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98880" y="3741840"/>
            <a:ext cx="5175360" cy="474480"/>
            <a:chOff x="3998880" y="3741840"/>
            <a:chExt cx="5175360" cy="474480"/>
          </a:xfrm>
        </p:grpSpPr>
        <p:sp>
          <p:nvSpPr>
            <p:cNvPr id="199" name=""/>
            <p:cNvSpPr/>
            <p:nvPr/>
          </p:nvSpPr>
          <p:spPr>
            <a:xfrm>
              <a:off x="4108320" y="374184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998880" y="4145040"/>
              <a:ext cx="4254480" cy="71280"/>
              <a:chOff x="3998880" y="4145040"/>
              <a:chExt cx="4254480" cy="71280"/>
            </a:xfrm>
          </p:grpSpPr>
          <p:sp>
            <p:nvSpPr>
              <p:cNvPr id="201" name=""/>
              <p:cNvSpPr/>
              <p:nvPr/>
            </p:nvSpPr>
            <p:spPr>
              <a:xfrm>
                <a:off x="3998880" y="418788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19800" y="4182840"/>
                <a:ext cx="80928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43720" y="4211640"/>
                <a:ext cx="809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86440" y="4178160"/>
                <a:ext cx="48132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3720" y="4145040"/>
                <a:ext cx="809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998880" y="5297400"/>
            <a:ext cx="5175360" cy="473040"/>
            <a:chOff x="3998880" y="5297400"/>
            <a:chExt cx="5175360" cy="473040"/>
          </a:xfrm>
        </p:grpSpPr>
        <p:grpSp>
          <p:nvGrpSpPr>
            <p:cNvPr id="207" name=""/>
            <p:cNvGrpSpPr/>
            <p:nvPr/>
          </p:nvGrpSpPr>
          <p:grpSpPr>
            <a:xfrm>
              <a:off x="3998880" y="5699160"/>
              <a:ext cx="4254480" cy="71280"/>
              <a:chOff x="3998880" y="5699160"/>
              <a:chExt cx="4254480" cy="71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998880" y="574200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19800" y="5736960"/>
                <a:ext cx="80928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43720" y="5765760"/>
                <a:ext cx="809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86440" y="5732280"/>
                <a:ext cx="48132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43720" y="5699160"/>
                <a:ext cx="809640" cy="46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108320" y="529740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B 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Z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’B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))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32 :≠: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14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32 :≠: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20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32 :≠: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26 ]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49600" y="4229280"/>
            <a:ext cx="3611880" cy="474480"/>
            <a:chOff x="4449600" y="4229280"/>
            <a:chExt cx="3611880" cy="474480"/>
          </a:xfrm>
        </p:grpSpPr>
        <p:sp>
          <p:nvSpPr>
            <p:cNvPr id="217" name=""/>
            <p:cNvSpPr/>
            <p:nvPr/>
          </p:nvSpPr>
          <p:spPr>
            <a:xfrm>
              <a:off x="4449600" y="4229280"/>
              <a:ext cx="361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54640" y="4675320"/>
              <a:ext cx="461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7840" y="469908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0560" y="4665600"/>
              <a:ext cx="480960" cy="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27840" y="463248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65400" y="2314440"/>
            <a:ext cx="5065920" cy="459720"/>
            <a:chOff x="3065400" y="2314440"/>
            <a:chExt cx="5065920" cy="459720"/>
          </a:xfrm>
        </p:grpSpPr>
        <p:sp>
          <p:nvSpPr>
            <p:cNvPr id="223" name=""/>
            <p:cNvSpPr/>
            <p:nvPr/>
          </p:nvSpPr>
          <p:spPr>
            <a:xfrm>
              <a:off x="3065400" y="231444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4     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098880" y="2728800"/>
              <a:ext cx="3270240" cy="5040"/>
              <a:chOff x="3098880" y="2728800"/>
              <a:chExt cx="3270240" cy="5040"/>
            </a:xfrm>
          </p:grpSpPr>
          <p:sp>
            <p:nvSpPr>
              <p:cNvPr id="225" name=""/>
              <p:cNvSpPr/>
              <p:nvPr/>
            </p:nvSpPr>
            <p:spPr>
              <a:xfrm>
                <a:off x="3098880" y="273060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32560" y="2730600"/>
                <a:ext cx="73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1520" y="2728800"/>
                <a:ext cx="48096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3054240" y="3314880"/>
            <a:ext cx="5065920" cy="459720"/>
            <a:chOff x="3054240" y="3314880"/>
            <a:chExt cx="5065920" cy="459720"/>
          </a:xfrm>
        </p:grpSpPr>
        <p:sp>
          <p:nvSpPr>
            <p:cNvPr id="229" name=""/>
            <p:cNvSpPr/>
            <p:nvPr/>
          </p:nvSpPr>
          <p:spPr>
            <a:xfrm>
              <a:off x="3054240" y="331488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                   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086280" y="3716280"/>
              <a:ext cx="4363920" cy="4680"/>
              <a:chOff x="3086280" y="3716280"/>
              <a:chExt cx="4363920" cy="4680"/>
            </a:xfrm>
          </p:grpSpPr>
          <p:sp>
            <p:nvSpPr>
              <p:cNvPr id="231" name=""/>
              <p:cNvSpPr/>
              <p:nvPr/>
            </p:nvSpPr>
            <p:spPr>
              <a:xfrm>
                <a:off x="3086280" y="371628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892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6924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5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(CONS ’B ’NIL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26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4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26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20 ]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449600" y="4229280"/>
            <a:ext cx="36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54640" y="4675320"/>
            <a:ext cx="461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022720" y="4646520"/>
            <a:ext cx="2889720" cy="56880"/>
            <a:chOff x="5022720" y="4646520"/>
            <a:chExt cx="2889720" cy="56880"/>
          </a:xfrm>
        </p:grpSpPr>
        <p:sp>
          <p:nvSpPr>
            <p:cNvPr id="239" name=""/>
            <p:cNvSpPr/>
            <p:nvPr/>
          </p:nvSpPr>
          <p:spPr>
            <a:xfrm>
              <a:off x="5022720" y="469980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2720" y="464652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65400" y="2314440"/>
            <a:ext cx="5065920" cy="459720"/>
            <a:chOff x="3065400" y="2314440"/>
            <a:chExt cx="5065920" cy="459720"/>
          </a:xfrm>
        </p:grpSpPr>
        <p:sp>
          <p:nvSpPr>
            <p:cNvPr id="242" name=""/>
            <p:cNvSpPr/>
            <p:nvPr/>
          </p:nvSpPr>
          <p:spPr>
            <a:xfrm>
              <a:off x="3065400" y="231444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8     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98880" y="2728800"/>
              <a:ext cx="3270240" cy="5040"/>
              <a:chOff x="3098880" y="2728800"/>
              <a:chExt cx="3270240" cy="5040"/>
            </a:xfrm>
          </p:grpSpPr>
          <p:sp>
            <p:nvSpPr>
              <p:cNvPr id="244" name=""/>
              <p:cNvSpPr/>
              <p:nvPr/>
            </p:nvSpPr>
            <p:spPr>
              <a:xfrm>
                <a:off x="3098880" y="273060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32560" y="2730600"/>
                <a:ext cx="73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51520" y="2728800"/>
                <a:ext cx="48096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054240" y="3314880"/>
            <a:ext cx="5065920" cy="459720"/>
            <a:chOff x="3054240" y="3314880"/>
            <a:chExt cx="5065920" cy="459720"/>
          </a:xfrm>
        </p:grpSpPr>
        <p:sp>
          <p:nvSpPr>
            <p:cNvPr id="248" name=""/>
            <p:cNvSpPr/>
            <p:nvPr/>
          </p:nvSpPr>
          <p:spPr>
            <a:xfrm>
              <a:off x="3054240" y="331488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                   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086280" y="3716280"/>
              <a:ext cx="4363920" cy="4680"/>
              <a:chOff x="3086280" y="3716280"/>
              <a:chExt cx="4363920" cy="4680"/>
            </a:xfrm>
          </p:grpSpPr>
          <p:sp>
            <p:nvSpPr>
              <p:cNvPr id="250" name=""/>
              <p:cNvSpPr/>
              <p:nvPr/>
            </p:nvSpPr>
            <p:spPr>
              <a:xfrm>
                <a:off x="3086280" y="371628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3892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6924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воды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крестности в наглядной форме определяю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информация о данных была использована в процессе обработки, a какая — н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е фрагменты в данных и как можно варьировать, сохраняя неизменным процесс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 d 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 его результ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6.5 Конечное объединение классов C</a:t>
            </a:r>
            <a:r>
              <a:rPr b="1" lang="ru-RU" sz="4000" spc="-1" strike="noStrike" baseline="-25000">
                <a:solidFill>
                  <a:srgbClr val="800000"/>
                </a:solidFill>
                <a:latin typeface="Tahoma"/>
              </a:rPr>
              <a:t>1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... C</a:t>
            </a:r>
            <a:r>
              <a:rPr b="1" lang="ru-RU" sz="40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и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71440" indent="-3823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писок классов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,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71440" indent="-3823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множеств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 17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  Пусть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(aces, ar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L-класс,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(bces, br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класс, c-переменные из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входят в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вободный индекс. Тогда, за конечное число шагов алгорит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C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i 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(su,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,i’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ит подстановк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одклассы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≤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 = 0,... 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такие, ч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Шаги форм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5440" y="1599840"/>
            <a:ext cx="8818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«информация 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была использована в некотором процессе обработки текс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? Какой-такой процес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 tr(p,d)=tr(p,d’), p d = p d’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нят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крест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L-класс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ется окрестностью данных d, если 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докрес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обственная подокрес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существует бесконечной последовательности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31800" y="1542960"/>
            <a:ext cx="7850160" cy="5192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119320" y="252576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61000" y="2340000"/>
            <a:ext cx="986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04000" y="2519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20480" y="3429000"/>
            <a:ext cx="749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85960" y="318132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14040" y="5986440"/>
            <a:ext cx="23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unifC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8440" y="3894120"/>
            <a:ext cx="749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6240" y="487836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7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nif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... строит подстановк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одклассы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≤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j = 0,... 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акие, чт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0 ≤ j &lt; k ≤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\ 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 17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... строит подстановк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одклассы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≤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 = 0,... 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такие, чт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сли 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emptC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idC=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ет вид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ce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INCONSISTENT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\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, и su=[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сли 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≠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общий подкласс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bces=aces/.s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каждое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r/.s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ит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31800" y="1542960"/>
            <a:ext cx="7850160" cy="51926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119320" y="252576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61000" y="2340000"/>
            <a:ext cx="986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2519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20480" y="3429000"/>
            <a:ext cx="749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85960" y="318132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14040" y="5986440"/>
            <a:ext cx="23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unifC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28440" y="3894120"/>
            <a:ext cx="749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487836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5 Операции над классами и окрестностя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им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6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\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...+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L-классы, то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L-класс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ение, пересечение и разность множеств, представленных конечным объединением L-классов, представимы конеч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бъедин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L-классов. Конечное пересечение множеств, представленных L-классами, представимо L-класс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крестност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6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4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крестно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…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нтерпрет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6 Проверка принадлежности данных классу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18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данног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= [EVal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класса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es, 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веденный ниже 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Ele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 конечное число шагов определяет, является ли d элементом множеств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6 Проверка принадлежности данных классу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Elem::[EVal]-&gt;Class -&gt; Boo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Elem d (ces, r)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ase (b, r’) of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(True, RESTR[]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(_ , _ 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Fals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(b,s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unify ces d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r’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r/.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7 Декомпозиция окрестн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2080" y="1599840"/>
            <a:ext cx="8688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ы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EVal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ют вид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=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++d2</a:t>
            </a:r>
            <a:r>
              <a:rPr b="0" lang="ru-RU" sz="3200" spc="-1" strike="noStrike" baseline="-6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окрестно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едставляюща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p, 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 интересует построение 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ение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ножества всех вариац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фрагме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охраняющих неизменным процесс и результа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(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(...</a:t>
            </a: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интерпретация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7 Декомпозиция окрестн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ие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ножества всех вариаци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фрагмен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сохраняющих неизменным процесс и результа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 (d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...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нтерпретац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7 Декомпозиция окрестн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11080" y="1541520"/>
            <a:ext cx="6810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30000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++d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6900840" y="2224080"/>
            <a:ext cx="13525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ahoma"/>
              </a:rPr>
              <a:t>C</a:t>
            </a:r>
            <a:r>
              <a:rPr b="1" lang="ru-RU" sz="2800" spc="-1" strike="noStrike" baseline="30000">
                <a:solidFill>
                  <a:srgbClr val="800000"/>
                </a:solidFill>
                <a:latin typeface="Tahoma"/>
                <a:ea typeface="Tahoma"/>
              </a:rPr>
              <a:t>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382760" y="1987560"/>
            <a:ext cx="59054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: Алгоритм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na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окрестностного анализато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 d = (res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крест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ая, чт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o(p,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8 Алгоритм декомпозиции окрестн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compose :: Class -&gt; [EVal] -&gt; [EVal]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lass,Class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compose o12 d1 d2 = (o1, o2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length d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length d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freeindx 0 o1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es1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CEVs [ ] l1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es2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2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CEVs [ ] l2 i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(ces1++d2, RESTR[]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(d1++ces2, RESTR[]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_,((ces’1,r1):_)) = unifC c1 o12 -- c1*o1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_,((ces’2,r2):_)) = unifC c2 o12 -- c2*o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1 = ( (take l1 ces’1), r1 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-взяли первы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2 = ( (drop l1 ces’2), r2 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-откинули первы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8 Алгоритм декомпозиции окрестн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- генератор списка уникаль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e-переменных заданной дл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Vs::CVars-&gt;Int-&gt;FreeIndx -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rs,FreeInd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Vs cvs 0 i = (cvs,i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Vs cvs (n+1) i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Vs (cv:cvs) n i’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(cv,i’) = mkCEVar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9 Примеры пересечения и декомпозиции окрестностей (1/2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31600"/>
            <a:ext cx="84931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эксплицированные канонические формы результатов реального счет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m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4 = [s4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tr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5 = [s5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tr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оследующих стро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ONS ’A (CONS ’B ’N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ONS ’Z (CONS ’A ’N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Z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)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9 Примеры пересечения и декомпозиции окрестностей (1/2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28760" y="2064960"/>
            <a:ext cx="84931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4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4,str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nan pmatch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4,str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s4] [st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5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5,str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nan pmatch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5,str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s4] [st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4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decompose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4,str]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s4] [st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decompose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[s5,str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s5] [st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6000">
                <a:solidFill>
                  <a:srgbClr val="000000"/>
                </a:solidFill>
                <a:latin typeface="Tahoma"/>
              </a:rPr>
              <a:t>*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,str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B 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)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4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6 ]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49600" y="4229280"/>
            <a:ext cx="3611880" cy="474480"/>
            <a:chOff x="4449600" y="4229280"/>
            <a:chExt cx="3611880" cy="474480"/>
          </a:xfrm>
        </p:grpSpPr>
        <p:sp>
          <p:nvSpPr>
            <p:cNvPr id="308" name=""/>
            <p:cNvSpPr/>
            <p:nvPr/>
          </p:nvSpPr>
          <p:spPr>
            <a:xfrm>
              <a:off x="4449600" y="4229280"/>
              <a:ext cx="361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54640" y="4675320"/>
              <a:ext cx="461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27840" y="469908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0560" y="4665600"/>
              <a:ext cx="480960" cy="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7840" y="463248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65400" y="2314440"/>
            <a:ext cx="5065920" cy="459720"/>
            <a:chOff x="3065400" y="2314440"/>
            <a:chExt cx="5065920" cy="459720"/>
          </a:xfrm>
        </p:grpSpPr>
        <p:sp>
          <p:nvSpPr>
            <p:cNvPr id="314" name=""/>
            <p:cNvSpPr/>
            <p:nvPr/>
          </p:nvSpPr>
          <p:spPr>
            <a:xfrm>
              <a:off x="3065400" y="231444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098880" y="2728800"/>
              <a:ext cx="3270240" cy="5040"/>
              <a:chOff x="3098880" y="2728800"/>
              <a:chExt cx="3270240" cy="5040"/>
            </a:xfrm>
          </p:grpSpPr>
          <p:sp>
            <p:nvSpPr>
              <p:cNvPr id="316" name=""/>
              <p:cNvSpPr/>
              <p:nvPr/>
            </p:nvSpPr>
            <p:spPr>
              <a:xfrm>
                <a:off x="3098880" y="273060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32560" y="2730600"/>
                <a:ext cx="73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51520" y="2728800"/>
                <a:ext cx="48096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054240" y="3314880"/>
            <a:ext cx="5065920" cy="459720"/>
            <a:chOff x="3054240" y="3314880"/>
            <a:chExt cx="5065920" cy="459720"/>
          </a:xfrm>
        </p:grpSpPr>
        <p:sp>
          <p:nvSpPr>
            <p:cNvPr id="320" name=""/>
            <p:cNvSpPr/>
            <p:nvPr/>
          </p:nvSpPr>
          <p:spPr>
            <a:xfrm>
              <a:off x="3054240" y="331488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086280" y="3716280"/>
              <a:ext cx="4363920" cy="4680"/>
              <a:chOff x="3086280" y="3716280"/>
              <a:chExt cx="4363920" cy="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086280" y="371628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3892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6924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[s5,str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(CONS ’B ’NIL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4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]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449600" y="4229280"/>
            <a:ext cx="36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54640" y="4675320"/>
            <a:ext cx="461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022720" y="4646520"/>
            <a:ext cx="2889720" cy="56880"/>
            <a:chOff x="5022720" y="4646520"/>
            <a:chExt cx="2889720" cy="56880"/>
          </a:xfrm>
        </p:grpSpPr>
        <p:sp>
          <p:nvSpPr>
            <p:cNvPr id="330" name=""/>
            <p:cNvSpPr/>
            <p:nvPr/>
          </p:nvSpPr>
          <p:spPr>
            <a:xfrm>
              <a:off x="5022720" y="469980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22720" y="464652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065400" y="2314440"/>
            <a:ext cx="5065920" cy="459720"/>
            <a:chOff x="3065400" y="2314440"/>
            <a:chExt cx="5065920" cy="459720"/>
          </a:xfrm>
        </p:grpSpPr>
        <p:sp>
          <p:nvSpPr>
            <p:cNvPr id="333" name=""/>
            <p:cNvSpPr/>
            <p:nvPr/>
          </p:nvSpPr>
          <p:spPr>
            <a:xfrm>
              <a:off x="3065400" y="231444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2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98880" y="2728800"/>
              <a:ext cx="3270240" cy="5040"/>
              <a:chOff x="3098880" y="2728800"/>
              <a:chExt cx="3270240" cy="5040"/>
            </a:xfrm>
          </p:grpSpPr>
          <p:sp>
            <p:nvSpPr>
              <p:cNvPr id="335" name=""/>
              <p:cNvSpPr/>
              <p:nvPr/>
            </p:nvSpPr>
            <p:spPr>
              <a:xfrm>
                <a:off x="3098880" y="273060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32560" y="2730600"/>
                <a:ext cx="73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51520" y="2728800"/>
                <a:ext cx="480960" cy="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054240" y="3314880"/>
            <a:ext cx="5065920" cy="459720"/>
            <a:chOff x="3054240" y="3314880"/>
            <a:chExt cx="5065920" cy="459720"/>
          </a:xfrm>
        </p:grpSpPr>
        <p:sp>
          <p:nvSpPr>
            <p:cNvPr id="339" name=""/>
            <p:cNvSpPr/>
            <p:nvPr/>
          </p:nvSpPr>
          <p:spPr>
            <a:xfrm>
              <a:off x="3054240" y="3314880"/>
              <a:ext cx="50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5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086280" y="3716280"/>
              <a:ext cx="4363920" cy="4680"/>
              <a:chOff x="3086280" y="3716280"/>
              <a:chExt cx="4363920" cy="4680"/>
            </a:xfrm>
          </p:grpSpPr>
          <p:sp>
            <p:nvSpPr>
              <p:cNvPr id="341" name=""/>
              <p:cNvSpPr/>
              <p:nvPr/>
            </p:nvSpPr>
            <p:spPr>
              <a:xfrm>
                <a:off x="3086280" y="3716280"/>
                <a:ext cx="461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3892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69240" y="3716280"/>
                <a:ext cx="4809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5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446800" y="1711440"/>
            <a:ext cx="736560" cy="459720"/>
            <a:chOff x="5446800" y="1711440"/>
            <a:chExt cx="736560" cy="459720"/>
          </a:xfrm>
        </p:grpSpPr>
        <p:sp>
          <p:nvSpPr>
            <p:cNvPr id="347" name=""/>
            <p:cNvSpPr/>
            <p:nvPr/>
          </p:nvSpPr>
          <p:spPr>
            <a:xfrm>
              <a:off x="5500800" y="171144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46800" y="2159280"/>
              <a:ext cx="736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448240" y="2784600"/>
            <a:ext cx="736560" cy="459720"/>
            <a:chOff x="5448240" y="2784600"/>
            <a:chExt cx="736560" cy="459720"/>
          </a:xfrm>
        </p:grpSpPr>
        <p:sp>
          <p:nvSpPr>
            <p:cNvPr id="350" name=""/>
            <p:cNvSpPr/>
            <p:nvPr/>
          </p:nvSpPr>
          <p:spPr>
            <a:xfrm>
              <a:off x="5502240" y="27846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48240" y="3232440"/>
              <a:ext cx="736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A (CONS ’B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)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A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(CONS ’B ’NIL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958080" y="2657520"/>
            <a:ext cx="809640" cy="479160"/>
            <a:chOff x="6958080" y="2657520"/>
            <a:chExt cx="809640" cy="479160"/>
          </a:xfrm>
        </p:grpSpPr>
        <p:sp>
          <p:nvSpPr>
            <p:cNvPr id="355" name=""/>
            <p:cNvSpPr/>
            <p:nvPr/>
          </p:nvSpPr>
          <p:spPr>
            <a:xfrm>
              <a:off x="7189920" y="265752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58080" y="313200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06540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897280" y="1757520"/>
            <a:ext cx="5065560" cy="459720"/>
            <a:chOff x="2897280" y="1757520"/>
            <a:chExt cx="5065560" cy="459720"/>
          </a:xfrm>
        </p:grpSpPr>
        <p:sp>
          <p:nvSpPr>
            <p:cNvPr id="359" name=""/>
            <p:cNvSpPr/>
            <p:nvPr/>
          </p:nvSpPr>
          <p:spPr>
            <a:xfrm>
              <a:off x="2897280" y="1757520"/>
              <a:ext cx="506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928960" y="2158920"/>
              <a:ext cx="4363200" cy="4680"/>
              <a:chOff x="2928960" y="2158920"/>
              <a:chExt cx="4363200" cy="4680"/>
            </a:xfrm>
          </p:grpSpPr>
          <p:sp>
            <p:nvSpPr>
              <p:cNvPr id="361" name=""/>
              <p:cNvSpPr/>
              <p:nvPr/>
            </p:nvSpPr>
            <p:spPr>
              <a:xfrm>
                <a:off x="2928960" y="2158920"/>
                <a:ext cx="461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81240" y="2158920"/>
                <a:ext cx="48060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811560" y="2158920"/>
                <a:ext cx="48060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2897280" y="4287960"/>
            <a:ext cx="2531880" cy="459720"/>
            <a:chOff x="2897280" y="4287960"/>
            <a:chExt cx="2531880" cy="459720"/>
          </a:xfrm>
        </p:grpSpPr>
        <p:sp>
          <p:nvSpPr>
            <p:cNvPr id="365" name=""/>
            <p:cNvSpPr/>
            <p:nvPr/>
          </p:nvSpPr>
          <p:spPr>
            <a:xfrm>
              <a:off x="2897280" y="4287960"/>
              <a:ext cx="25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28960" y="4689360"/>
              <a:ext cx="461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81600" y="4689360"/>
              <a:ext cx="480960" cy="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9960" y="520056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22720" y="5589720"/>
            <a:ext cx="2889720" cy="56520"/>
            <a:chOff x="5022720" y="5589720"/>
            <a:chExt cx="2889720" cy="56520"/>
          </a:xfrm>
        </p:grpSpPr>
        <p:sp>
          <p:nvSpPr>
            <p:cNvPr id="370" name=""/>
            <p:cNvSpPr/>
            <p:nvPr/>
          </p:nvSpPr>
          <p:spPr>
            <a:xfrm>
              <a:off x="5022720" y="564264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2720" y="5589720"/>
              <a:ext cx="2889720" cy="3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6.4 Интуитивный смысл окрестностей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t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’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ONS ’Z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A (CONS ’B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’NI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)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TR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’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’A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’Z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958080" y="2657520"/>
            <a:ext cx="809640" cy="479160"/>
            <a:chOff x="6958080" y="2657520"/>
            <a:chExt cx="809640" cy="479160"/>
          </a:xfrm>
        </p:grpSpPr>
        <p:sp>
          <p:nvSpPr>
            <p:cNvPr id="375" name=""/>
            <p:cNvSpPr/>
            <p:nvPr/>
          </p:nvSpPr>
          <p:spPr>
            <a:xfrm>
              <a:off x="7189920" y="265752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58080" y="313200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8080" y="3065400"/>
              <a:ext cx="809640" cy="4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2897280" y="175752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28960" y="2158920"/>
            <a:ext cx="461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81600" y="2158920"/>
            <a:ext cx="48096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рестностны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е введен в рассмотрение в 1970-ых годах В. Ф. Турчиным, при участии других членов московской Рабочей группы по языку Рефал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очный», «ad hoc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ложенный здесь окрестностный анализ — один из методов метавычислений, инструмент общего назначения для построения формальных ответов на интуитивный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ая информация о текст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ыла использована, и какая информация 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была использована в некотором процессе обработки текс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глядная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ксплиц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форма записи окрестности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переменные в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ответствуют фрагментам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ые можно варьирова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ы c-переменных и рестрикции в окрестности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ограничения на допустимые вариации данных фраг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Шаги форм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5440" y="1599840"/>
            <a:ext cx="8818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«информация 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была использована в некотором процессе обработки текс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? Какой-такой процес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(p,d) = { d’ | tr(p,d)=tr(p,d’), p d = p d’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нят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крест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L-класс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ется окрестностью данных d, если 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докрес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обственная подокрес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существует бесконечной последовательности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-18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: Алгоритм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na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окрестностного анализато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an p d = (res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крест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ая, чт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o(p,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глядная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ксплиц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форма записи окрестности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переменные в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ответствуют фрагментам дан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ые можно варьирова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ы c-переменных и рестрикции в окрестности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ограничения на допустимые вариации данных фраг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ерации над класса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сеч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*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разно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\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лассов, L-классов, окрест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принадлежности данных классу (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Ele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композиции окрест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Глава 6. Окрестностный анализ: декомпозиция окрестност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данны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еют ви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=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++d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o(p,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олучаемые в результате декомпозиции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compose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++d2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рестности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 = 1, 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определяют, какая информация о фрагмент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анны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ыла использована в процессе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(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и данны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6. Окрестностный анализ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ерации над классам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сеч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*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разно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\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лассов, L-классов, окрест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принадлежности данных классу (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Ele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композиции окрест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Глава 6. Окрестностный анализ: декомпозиция окрестности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данны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еют ви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=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++d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=o(p,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олучаемые в результате декомпозиции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compose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++d2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рестности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d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 = 1, 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определяют, какая информация о фрагмент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анны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ыла использована в процессе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(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и данны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+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6.1 Основные понят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крестностный анализ — инструмент формализации интуитивного вопрос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информация о текст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была использована, и какая информация 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е была использована в некотором процесс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бработки текст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-9360" y="711360"/>
            <a:ext cx="4543200" cy="1029960"/>
          </a:xfrm>
          <a:prstGeom prst="rightArrow">
            <a:avLst>
              <a:gd name="adj1" fmla="val 50000"/>
              <a:gd name="adj2" fmla="val 1102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18:32:33Z</dcterms:modified>
  <cp:revision>726</cp:revision>
  <dc:subject/>
  <dc:title>Slide 1</dc:title>
</cp:coreProperties>
</file>