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8E7-8E47-4F55-9D82-4BFBCC68A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CA7-B8FC-4645-974F-FF6646432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72D-7C78-4AB9-9954-99BBE9347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C53-30D5-4307-8177-27804F80A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220B-4471-46C5-BE81-EA93A4687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900-B185-467A-BCD4-DD4FC60CA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6C3-717A-459F-8BAB-67B3C5A33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276-B733-4D41-BA68-7A7BE8685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B7CD-D188-4CFE-BA00-D1923C495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A1E8-B2BA-4D86-965E-1FD5A3F27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13C-72F1-4371-8B7E-743B6E340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69B0-8571-4B27-97AA-8BB71E424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310-D725-49ED-BC58-47AFBB863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5EF-7F01-4A1A-836A-AB5F6FF9E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6C9-387F-4C88-9A5D-049B3625F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DEF-FB4C-4AE6-A95B-6BBE2CD8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F2C-DBAC-475E-BA36-A4F5D92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D17-BA2B-4B48-AAB3-3D41C9CD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E83-5F3A-4D73-8966-DCE4126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A888-BB44-4294-BC58-5519B54D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9857-FB1F-4890-81A6-262C942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3F5-D2A1-4BAB-B19F-4527004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F47C-295C-4FEF-B1E2-55DA207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6C6D-3827-42D2-9B78-1A0E243D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A579-497F-4E74-A723-FC76EF3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D15-4D33-49F6-B09E-1E9B158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DF7-0F75-46D2-B4BA-17228E9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4A7-4732-4B35-B7FB-0E27B4C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457-DDBD-408D-8455-463C954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B40D-A604-446C-8F93-FA98EF0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6F4-18B3-4FDD-A1F7-50AB3D38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4F9-DF26-474A-87B3-9564FC43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9EC-7CA5-453C-B12E-BC3659E6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44F-3024-468D-9192-297F60DD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1AD-2061-4C10-B71A-3822404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83B-7B44-4213-B350-996E849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366-975D-4BF8-96EC-94C3E61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8A6-2CDE-42CA-A005-CF23844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84D-908F-40C8-87B9-6B9E13E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1365-84EE-4B99-90DD-8AAB41683D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ED6-DCED-48D9-942A-4E4EC0E26A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8640" y="844560"/>
            <a:ext cx="5805360" cy="4556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9.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уперкомпиляция. Wh: алгоритм обнаружения возможного зацикли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199800"/>
            <a:ext cx="8343720" cy="117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9.2.2 numprog перенумерация термов исходной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4931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defs :: [FDef]-&gt;Int-&gt;([FDef], Int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defs [ ] i = ([ ], i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defs ((DEFINE fn prms t):fds)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DEFINE fn prms t’):fds’, i’’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’, i’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numterm t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fds’, i’’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numdefs fds i’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prog :: Prog -&gt; Prog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prog p =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 where (p’,_) = numdefs p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7760" y="99720"/>
            <a:ext cx="8343720" cy="123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9.2.3 Функция theSameTerm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422000"/>
            <a:ext cx="89503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:: Term -&gt; Term -&gt; Boo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(ALT’ _ _ _ i) (ALT’ _ _ _ j)=(i==j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(CALL’ _ _ i) (CALL’ _ _ j)  =(i==j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_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_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760" y="199800"/>
            <a:ext cx="8343720" cy="147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9.2.3 Функция theSameTerm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92240"/>
            <a:ext cx="849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tDn t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Dn = tUp = t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= ((t, cenvUp), rUp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 = ((t, cenvDn), rDn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length cenvUp) == (length cenvDn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Up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1),... 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n)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Dn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1),... 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n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199800"/>
            <a:ext cx="8343720" cy="147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9.2.4 Функция whConf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82480"/>
            <a:ext cx="91440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Conf:: Conf -&gt; Conf -&gt; Boo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Co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tDn, cenvDn), _) ((tUp, cenvUp), _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heSameTerm tDn tUp) &amp;&amp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nd (zipWith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\ (varDn:=cexpDn) (varUp:=cexpUp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(wh cexpDn cexpUp)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Dn cenv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9.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а общая постановка задачи, обзор пробле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формулирова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рамками изложения: другие иде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ковы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рестност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ь комбин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еремножения»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5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5943600" y="238932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9920" y="189000"/>
            <a:ext cx="8343720" cy="120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9. Wh: обнаружение возможного зацикли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1440" y="1469520"/>
            <a:ext cx="849312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 допустить построения в графе конфигураций бесконечных ветв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лучший (алгоритмически невозможный)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язан с точным распознанием ситуаци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программа не останавливается (зацикливается) на заданных входных данных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9920" y="189000"/>
            <a:ext cx="8343720" cy="120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9. Wh: обнаружение возможного зацикли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1280" y="1498320"/>
            <a:ext cx="849312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изуемое приближение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очередного шага развития вершины графа конфигураци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бо выдает сигнал о </a:t>
            </a:r>
            <a:r>
              <a:rPr b="0" i="1" lang="ru-RU" sz="3200" spc="-1" strike="noStrike" u="sng">
                <a:solidFill>
                  <a:srgbClr val="800000"/>
                </a:solidFill>
                <a:uFillTx/>
                <a:latin typeface="Tahoma"/>
              </a:rPr>
              <a:t>возможн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цикливании процесса построения данной ветв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бо не выдает такого сигн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е свой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а бесконечной ветви дерева процессов найдутся конфигура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едок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Wh cDn cUp)==Tr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9920" y="88560"/>
            <a:ext cx="8343720" cy="1274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9. Wh: обнаружение возможного зацикли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680" y="1442880"/>
            <a:ext cx="849312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личных реализац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ет быть м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ак сравни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ако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учш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уществует абсолютно лучшего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Tahoma"/>
              </a:rPr>
              <a:t>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я все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формализация интуитивного «две конфигурации опасно похож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9920" y="88560"/>
            <a:ext cx="8343720" cy="1274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9.1 Упрощающее отношени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680" y="1442880"/>
            <a:ext cx="849312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аш»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снован на упрощающем сравнении двух термов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но привести 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помощью стирания фрагментов (индексы c-переменных при сравнении в рассмотрение не берутс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аког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сно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йство — (теорема Kruskal J.B. Well-quasi-orde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49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9.2.1 Упрощающее сравнение c-выражен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5680" y="1471680"/>
            <a:ext cx="87883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42892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::CExp-&gt;CExp-&gt;Boo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(ATOM y) (ATOM x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x == y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(CVE y)    (CVE x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(CVA y)    (CVA x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(CONS y1 y2) x@(CONS x1 x2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wh y1 x1)&amp;&amp;(wh y2 x2) ||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wh y1 x) || (wh y2 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(CONS y1 y2) x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wh y1 x) || (wh y2 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 y 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404640"/>
            <a:ext cx="8820000" cy="1845000"/>
          </a:xfrm>
          <a:prstGeom prst="rightArrow">
            <a:avLst>
              <a:gd name="adj1" fmla="val 50000"/>
              <a:gd name="adj2" fmla="val 11951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31.03.2007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199800"/>
            <a:ext cx="8343720" cy="117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9.2.2 numprog перенумерация термов исходной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4931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е конфигурации не являются опасно близкими, если у них термы разные.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Что так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«разные» и «не разные» терм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м нужно отношение «тот же самый терм из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перенумеруем все термы в программ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пассивные термы тратить номер не над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199800"/>
            <a:ext cx="8343720" cy="117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9.2.2 numprog перенумерация термов исходной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4931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term :: Term -&gt; Int -&gt; (Term, Int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term t@(ALT c t1 t2)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ALT’ c t1’ t2’ i), i’’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1’, i’) = numterm t1 (i+1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2’, i’’) = numterm t2 i’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term t@(CALL fn args)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CALL’ fn args i), i+1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umterm t i = (t, 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3-19T06:15:21Z</dcterms:modified>
  <cp:revision>839</cp:revision>
  <dc:subject/>
  <dc:title>Slide 1</dc:title>
</cp:coreProperties>
</file>