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3.jpeg" ContentType="image/jpeg"/>
  <Override PartName="/ppt/media/image15.png" ContentType="image/png"/>
  <Override PartName="/ppt/media/image9.wmf" ContentType="image/x-wmf"/>
  <Override PartName="/ppt/media/image14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8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4.wmf" ContentType="image/x-wmf"/>
  <Override PartName="/ppt/media/image27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1.wmf" ContentType="image/x-wmf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media/image1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600-3FA6-48A2-87EB-7667E6B4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33720" y="476820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C78-F2E4-4F6C-95F0-46DFBDCF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7640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64D-CD8D-49CC-86E1-CCEEFC8A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0496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7656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13372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0496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7656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B80-20D3-441C-9756-D9C4C3E7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6048-9618-4943-A696-3BA301B0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2B19-6EEB-4D09-AE76-75680E17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173E-9D78-4B93-83C5-594C6C3A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86E2-1CA5-4100-8C01-E2CFB35D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88AB-667B-4D1D-89AC-A2AC4361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133360" y="1023480"/>
            <a:ext cx="7010280" cy="11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7769-E7CA-4B11-B7B2-63765CE2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A1A3-DD83-4D51-ACC9-41B6C209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4F5-78EA-486A-8363-AC5F84E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7640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AE37-28F2-4BBA-AB43-ED1A1E4F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CCC2-6CD3-4B94-840A-EE6DDEE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133720" y="476820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B9ED-3167-418A-B23D-9DF41532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57640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007B-469F-48B9-8E9E-F1F6FA02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0496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7656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13372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40496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7656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B6D9-E7AA-47CF-8AF3-B6986E59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DD8-B8BB-4EB4-BDDE-D747B187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809-1970-4069-8C54-93BD4A83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F16-B503-4426-8590-7A2BC870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33360" y="1023480"/>
            <a:ext cx="7010280" cy="11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221-53B1-4843-B1DB-A4093D31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3E6-BBC7-418D-A30F-2144480F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7640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535-7617-4849-9A4D-E887BDD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4B6-24EA-4AD0-8959-172A9FE7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3880" y="6388200"/>
            <a:ext cx="19051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7CC6-F85D-4E52-B831-6EE7C24728AB}" type="datetime">
              <a:rPr b="0" lang="ru-RU" sz="1000" spc="-1" strike="noStrike">
                <a:solidFill>
                  <a:srgbClr val="336666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3660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581960" y="64004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E3A1-C70D-4846-8200-F60FA33995C0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42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0480" y="117360"/>
            <a:ext cx="1090440" cy="1255680"/>
            <a:chOff x="150480" y="117360"/>
            <a:chExt cx="1090440" cy="1255680"/>
          </a:xfrm>
        </p:grpSpPr>
        <p:sp>
          <p:nvSpPr>
            <p:cNvPr id="6" name=""/>
            <p:cNvSpPr/>
            <p:nvPr/>
          </p:nvSpPr>
          <p:spPr>
            <a:xfrm flipH="1">
              <a:off x="748800" y="117360"/>
              <a:ext cx="269280" cy="122760"/>
            </a:xfrm>
            <a:custGeom>
              <a:avLst/>
              <a:gdLst/>
              <a:ahLst/>
              <a:rect l="l" t="t" r="r" b="b"/>
              <a:pathLst>
                <a:path w="493" h="225">
                  <a:moveTo>
                    <a:pt x="34" y="183"/>
                  </a:moveTo>
                  <a:cubicBezTo>
                    <a:pt x="52" y="168"/>
                    <a:pt x="73" y="144"/>
                    <a:pt x="106" y="132"/>
                  </a:cubicBezTo>
                  <a:cubicBezTo>
                    <a:pt x="139" y="120"/>
                    <a:pt x="190" y="127"/>
                    <a:pt x="232" y="114"/>
                  </a:cubicBezTo>
                  <a:cubicBezTo>
                    <a:pt x="285" y="99"/>
                    <a:pt x="317" y="78"/>
                    <a:pt x="358" y="54"/>
                  </a:cubicBezTo>
                  <a:cubicBezTo>
                    <a:pt x="421" y="18"/>
                    <a:pt x="471" y="0"/>
                    <a:pt x="493" y="21"/>
                  </a:cubicBezTo>
                  <a:lnTo>
                    <a:pt x="490" y="183"/>
                  </a:lnTo>
                  <a:lnTo>
                    <a:pt x="469" y="183"/>
                  </a:lnTo>
                  <a:lnTo>
                    <a:pt x="466" y="129"/>
                  </a:lnTo>
                  <a:cubicBezTo>
                    <a:pt x="451" y="123"/>
                    <a:pt x="408" y="138"/>
                    <a:pt x="376" y="147"/>
                  </a:cubicBezTo>
                  <a:cubicBezTo>
                    <a:pt x="344" y="153"/>
                    <a:pt x="328" y="171"/>
                    <a:pt x="274" y="183"/>
                  </a:cubicBezTo>
                  <a:cubicBezTo>
                    <a:pt x="229" y="191"/>
                    <a:pt x="144" y="173"/>
                    <a:pt x="91" y="180"/>
                  </a:cubicBezTo>
                  <a:cubicBezTo>
                    <a:pt x="38" y="187"/>
                    <a:pt x="9" y="225"/>
                    <a:pt x="0" y="225"/>
                  </a:cubicBezTo>
                  <a:lnTo>
                    <a:pt x="34" y="1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27560" y="984600"/>
              <a:ext cx="33120" cy="1738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150120" y="1084320"/>
              <a:ext cx="1090440" cy="288720"/>
            </a:xfrm>
            <a:custGeom>
              <a:avLst/>
              <a:gdLst/>
              <a:ahLst/>
              <a:rect l="l" t="t" r="r" b="b"/>
              <a:pathLst>
                <a:path w="1995" h="528">
                  <a:moveTo>
                    <a:pt x="0" y="0"/>
                  </a:moveTo>
                  <a:cubicBezTo>
                    <a:pt x="115" y="356"/>
                    <a:pt x="317" y="499"/>
                    <a:pt x="317" y="499"/>
                  </a:cubicBezTo>
                  <a:cubicBezTo>
                    <a:pt x="317" y="499"/>
                    <a:pt x="1350" y="528"/>
                    <a:pt x="1587" y="499"/>
                  </a:cubicBezTo>
                  <a:cubicBezTo>
                    <a:pt x="1747" y="470"/>
                    <a:pt x="1729" y="368"/>
                    <a:pt x="1741" y="323"/>
                  </a:cubicBezTo>
                  <a:cubicBezTo>
                    <a:pt x="1774" y="311"/>
                    <a:pt x="1754" y="315"/>
                    <a:pt x="1759" y="329"/>
                  </a:cubicBezTo>
                  <a:cubicBezTo>
                    <a:pt x="1764" y="343"/>
                    <a:pt x="1760" y="387"/>
                    <a:pt x="1769" y="408"/>
                  </a:cubicBezTo>
                  <a:cubicBezTo>
                    <a:pt x="1779" y="429"/>
                    <a:pt x="1776" y="446"/>
                    <a:pt x="1814" y="453"/>
                  </a:cubicBezTo>
                  <a:cubicBezTo>
                    <a:pt x="1814" y="453"/>
                    <a:pt x="1968" y="484"/>
                    <a:pt x="1995" y="453"/>
                  </a:cubicBezTo>
                  <a:cubicBezTo>
                    <a:pt x="1987" y="350"/>
                    <a:pt x="1981" y="314"/>
                    <a:pt x="1978" y="269"/>
                  </a:cubicBezTo>
                  <a:cubicBezTo>
                    <a:pt x="1909" y="257"/>
                    <a:pt x="1890" y="257"/>
                    <a:pt x="1855" y="242"/>
                  </a:cubicBezTo>
                  <a:cubicBezTo>
                    <a:pt x="1820" y="227"/>
                    <a:pt x="1776" y="204"/>
                    <a:pt x="1769" y="181"/>
                  </a:cubicBezTo>
                  <a:lnTo>
                    <a:pt x="1769" y="90"/>
                  </a:lnTo>
                  <a:lnTo>
                    <a:pt x="1522" y="86"/>
                  </a:lnTo>
                  <a:cubicBezTo>
                    <a:pt x="1475" y="93"/>
                    <a:pt x="1516" y="119"/>
                    <a:pt x="1486" y="134"/>
                  </a:cubicBezTo>
                  <a:cubicBezTo>
                    <a:pt x="1425" y="141"/>
                    <a:pt x="637" y="89"/>
                    <a:pt x="589" y="90"/>
                  </a:cubicBezTo>
                  <a:cubicBezTo>
                    <a:pt x="589" y="90"/>
                    <a:pt x="294" y="4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748800" y="124920"/>
              <a:ext cx="14400" cy="1738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88000" y="165960"/>
              <a:ext cx="952200" cy="953280"/>
            </a:xfrm>
            <a:custGeom>
              <a:avLst/>
              <a:gdLst/>
              <a:ahLst/>
              <a:rect l="l" t="t" r="r" b="b"/>
              <a:pathLst>
                <a:path w="1742" h="1743">
                  <a:moveTo>
                    <a:pt x="0" y="733"/>
                  </a:moveTo>
                  <a:cubicBezTo>
                    <a:pt x="59" y="1139"/>
                    <a:pt x="103" y="1266"/>
                    <a:pt x="295" y="1743"/>
                  </a:cubicBezTo>
                  <a:cubicBezTo>
                    <a:pt x="570" y="1471"/>
                    <a:pt x="1063" y="1443"/>
                    <a:pt x="1669" y="1639"/>
                  </a:cubicBezTo>
                  <a:cubicBezTo>
                    <a:pt x="1462" y="1155"/>
                    <a:pt x="1447" y="549"/>
                    <a:pt x="1742" y="0"/>
                  </a:cubicBezTo>
                  <a:cubicBezTo>
                    <a:pt x="369" y="0"/>
                    <a:pt x="7" y="696"/>
                    <a:pt x="0" y="7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17720" y="1231920"/>
            <a:ext cx="7226280" cy="2019240"/>
          </a:xfrm>
          <a:prstGeom prst="rect">
            <a:avLst/>
          </a:prstGeom>
          <a:gradFill rotWithShape="0">
            <a:gsLst>
              <a:gs pos="0">
                <a:srgbClr val="d6eaea"/>
              </a:gs>
              <a:gs pos="50000">
                <a:srgbClr val="99cccc"/>
              </a:gs>
              <a:gs pos="100000">
                <a:srgbClr val="d6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1333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15F1-9C75-475A-B7B5-A667894CBAAA}" type="datetime">
              <a:rPr b="0" lang="ru-RU" sz="1000" spc="-1" strike="noStrike">
                <a:solidFill>
                  <a:srgbClr val="336666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4203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620120" y="6388200"/>
            <a:ext cx="12189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8C0E-59DD-403C-AB41-D6666A6E9537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13840" y="1362240"/>
            <a:ext cx="1528920" cy="1758600"/>
            <a:chOff x="213840" y="1362240"/>
            <a:chExt cx="1528920" cy="1758600"/>
          </a:xfrm>
        </p:grpSpPr>
        <p:sp>
          <p:nvSpPr>
            <p:cNvPr id="55" name=""/>
            <p:cNvSpPr/>
            <p:nvPr/>
          </p:nvSpPr>
          <p:spPr>
            <a:xfrm flipH="1">
              <a:off x="1052280" y="1362240"/>
              <a:ext cx="377640" cy="172080"/>
            </a:xfrm>
            <a:custGeom>
              <a:avLst/>
              <a:gdLst/>
              <a:ahLst/>
              <a:rect l="l" t="t" r="r" b="b"/>
              <a:pathLst>
                <a:path w="493" h="225">
                  <a:moveTo>
                    <a:pt x="34" y="183"/>
                  </a:moveTo>
                  <a:cubicBezTo>
                    <a:pt x="52" y="168"/>
                    <a:pt x="73" y="144"/>
                    <a:pt x="106" y="132"/>
                  </a:cubicBezTo>
                  <a:cubicBezTo>
                    <a:pt x="139" y="120"/>
                    <a:pt x="190" y="127"/>
                    <a:pt x="232" y="114"/>
                  </a:cubicBezTo>
                  <a:cubicBezTo>
                    <a:pt x="285" y="99"/>
                    <a:pt x="317" y="78"/>
                    <a:pt x="358" y="54"/>
                  </a:cubicBezTo>
                  <a:cubicBezTo>
                    <a:pt x="421" y="18"/>
                    <a:pt x="471" y="0"/>
                    <a:pt x="493" y="21"/>
                  </a:cubicBezTo>
                  <a:lnTo>
                    <a:pt x="490" y="183"/>
                  </a:lnTo>
                  <a:lnTo>
                    <a:pt x="469" y="183"/>
                  </a:lnTo>
                  <a:lnTo>
                    <a:pt x="466" y="129"/>
                  </a:lnTo>
                  <a:cubicBezTo>
                    <a:pt x="451" y="123"/>
                    <a:pt x="408" y="138"/>
                    <a:pt x="376" y="147"/>
                  </a:cubicBezTo>
                  <a:cubicBezTo>
                    <a:pt x="344" y="153"/>
                    <a:pt x="328" y="171"/>
                    <a:pt x="274" y="183"/>
                  </a:cubicBezTo>
                  <a:cubicBezTo>
                    <a:pt x="229" y="191"/>
                    <a:pt x="144" y="173"/>
                    <a:pt x="91" y="180"/>
                  </a:cubicBezTo>
                  <a:cubicBezTo>
                    <a:pt x="38" y="187"/>
                    <a:pt x="9" y="225"/>
                    <a:pt x="0" y="225"/>
                  </a:cubicBezTo>
                  <a:lnTo>
                    <a:pt x="34" y="1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022400" y="2577240"/>
              <a:ext cx="46440" cy="243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13480" y="2716560"/>
              <a:ext cx="1528920" cy="404280"/>
            </a:xfrm>
            <a:custGeom>
              <a:avLst/>
              <a:gdLst/>
              <a:ahLst/>
              <a:rect l="l" t="t" r="r" b="b"/>
              <a:pathLst>
                <a:path w="1995" h="528">
                  <a:moveTo>
                    <a:pt x="0" y="0"/>
                  </a:moveTo>
                  <a:cubicBezTo>
                    <a:pt x="115" y="356"/>
                    <a:pt x="317" y="499"/>
                    <a:pt x="317" y="499"/>
                  </a:cubicBezTo>
                  <a:cubicBezTo>
                    <a:pt x="317" y="499"/>
                    <a:pt x="1350" y="528"/>
                    <a:pt x="1587" y="499"/>
                  </a:cubicBezTo>
                  <a:cubicBezTo>
                    <a:pt x="1747" y="470"/>
                    <a:pt x="1729" y="368"/>
                    <a:pt x="1741" y="323"/>
                  </a:cubicBezTo>
                  <a:cubicBezTo>
                    <a:pt x="1774" y="311"/>
                    <a:pt x="1754" y="315"/>
                    <a:pt x="1759" y="329"/>
                  </a:cubicBezTo>
                  <a:cubicBezTo>
                    <a:pt x="1764" y="343"/>
                    <a:pt x="1760" y="387"/>
                    <a:pt x="1769" y="408"/>
                  </a:cubicBezTo>
                  <a:cubicBezTo>
                    <a:pt x="1779" y="429"/>
                    <a:pt x="1776" y="446"/>
                    <a:pt x="1814" y="453"/>
                  </a:cubicBezTo>
                  <a:cubicBezTo>
                    <a:pt x="1814" y="453"/>
                    <a:pt x="1968" y="484"/>
                    <a:pt x="1995" y="453"/>
                  </a:cubicBezTo>
                  <a:cubicBezTo>
                    <a:pt x="1987" y="350"/>
                    <a:pt x="1981" y="314"/>
                    <a:pt x="1978" y="269"/>
                  </a:cubicBezTo>
                  <a:cubicBezTo>
                    <a:pt x="1909" y="257"/>
                    <a:pt x="1890" y="257"/>
                    <a:pt x="1855" y="242"/>
                  </a:cubicBezTo>
                  <a:cubicBezTo>
                    <a:pt x="1820" y="227"/>
                    <a:pt x="1776" y="204"/>
                    <a:pt x="1769" y="181"/>
                  </a:cubicBezTo>
                  <a:lnTo>
                    <a:pt x="1769" y="90"/>
                  </a:lnTo>
                  <a:lnTo>
                    <a:pt x="1522" y="86"/>
                  </a:lnTo>
                  <a:cubicBezTo>
                    <a:pt x="1475" y="93"/>
                    <a:pt x="1516" y="119"/>
                    <a:pt x="1486" y="134"/>
                  </a:cubicBezTo>
                  <a:cubicBezTo>
                    <a:pt x="1425" y="141"/>
                    <a:pt x="637" y="89"/>
                    <a:pt x="589" y="90"/>
                  </a:cubicBezTo>
                  <a:cubicBezTo>
                    <a:pt x="589" y="90"/>
                    <a:pt x="294" y="4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052280" y="1372680"/>
              <a:ext cx="20520" cy="2437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07160" y="1430280"/>
              <a:ext cx="1334880" cy="1335240"/>
            </a:xfrm>
            <a:custGeom>
              <a:avLst/>
              <a:gdLst/>
              <a:ahLst/>
              <a:rect l="l" t="t" r="r" b="b"/>
              <a:pathLst>
                <a:path w="1742" h="1743">
                  <a:moveTo>
                    <a:pt x="0" y="733"/>
                  </a:moveTo>
                  <a:cubicBezTo>
                    <a:pt x="59" y="1139"/>
                    <a:pt x="103" y="1266"/>
                    <a:pt x="295" y="1743"/>
                  </a:cubicBezTo>
                  <a:cubicBezTo>
                    <a:pt x="570" y="1471"/>
                    <a:pt x="1063" y="1443"/>
                    <a:pt x="1669" y="1639"/>
                  </a:cubicBezTo>
                  <a:cubicBezTo>
                    <a:pt x="1462" y="1155"/>
                    <a:pt x="1447" y="549"/>
                    <a:pt x="1742" y="0"/>
                  </a:cubicBezTo>
                  <a:cubicBezTo>
                    <a:pt x="369" y="0"/>
                    <a:pt x="7" y="696"/>
                    <a:pt x="0" y="7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rners-Lee" TargetMode="External"/><Relationship Id="rId2" Type="http://schemas.openxmlformats.org/officeDocument/2006/relationships/hyperlink" Target="http://en.wikipedia.org/wiki/Berners-Lee" TargetMode="External"/><Relationship Id="rId3" Type="http://schemas.openxmlformats.org/officeDocument/2006/relationships/hyperlink" Target="http://en.wikipedia.org/wiki/Berners-Lee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hyperlink" Target="http://www.rambler.ru/" TargetMode="External"/><Relationship Id="rId3" Type="http://schemas.openxmlformats.org/officeDocument/2006/relationships/hyperlink" Target="http://www.google.ru/" TargetMode="External"/><Relationship Id="rId4" Type="http://schemas.openxmlformats.org/officeDocument/2006/relationships/hyperlink" Target="http://lingvo.yandex.ru/" TargetMode="External"/><Relationship Id="rId5" Type="http://schemas.openxmlformats.org/officeDocument/2006/relationships/hyperlink" Target="http://en.wikipedia.org/" TargetMode="External"/><Relationship Id="rId6" Type="http://schemas.openxmlformats.org/officeDocument/2006/relationships/hyperlink" Target="http://ru.wikipedia.org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botik.ru/~botik/tools/" TargetMode="External"/><Relationship Id="rId2" Type="http://schemas.openxmlformats.org/officeDocument/2006/relationships/hyperlink" Target="http://www.botik.ru/~botik/tools/" TargetMode="External"/><Relationship Id="rId3" Type="http://schemas.openxmlformats.org/officeDocument/2006/relationships/hyperlink" Target="http://www.botik.ru/~botik/tools/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botik.ru/~botik/tester/" TargetMode="External"/><Relationship Id="rId4" Type="http://schemas.openxmlformats.org/officeDocument/2006/relationships/hyperlink" Target="http://www.botik.ru/~botik/tester/" TargetMode="External"/><Relationship Id="rId5" Type="http://schemas.openxmlformats.org/officeDocument/2006/relationships/hyperlink" Target="http://www.botik.ru/~botik/tester/" TargetMode="External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hyperlink" Target="http://www.botik.ru/~botik/key/" TargetMode="External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botik.ru/~botik/key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botik.ru/~botik/look/" TargetMode="External"/><Relationship Id="rId2" Type="http://schemas.openxmlformats.org/officeDocument/2006/relationships/hyperlink" Target="http://www.botik.ru/~botik/look/" TargetMode="External"/><Relationship Id="rId3" Type="http://schemas.openxmlformats.org/officeDocument/2006/relationships/hyperlink" Target="http://www.botik.ru/~botik/look/" TargetMode="External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botik.ru/" TargetMode="External"/><Relationship Id="rId2" Type="http://schemas.openxmlformats.org/officeDocument/2006/relationships/hyperlink" Target="http://www.botik.ru/" TargetMode="External"/><Relationship Id="rId3" Type="http://schemas.openxmlformats.org/officeDocument/2006/relationships/hyperlink" Target="http://www.botik.ru/" TargetMode="External"/><Relationship Id="rId4" Type="http://schemas.openxmlformats.org/officeDocument/2006/relationships/hyperlink" Target="http://www.botik.ru/" TargetMode="External"/><Relationship Id="rId5" Type="http://schemas.openxmlformats.org/officeDocument/2006/relationships/hyperlink" Target="http://www.botik.ru/" TargetMode="External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6480" y="781200"/>
            <a:ext cx="7067520" cy="28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лайды к курсу лекци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ля Абонентов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 «Боти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Абрамов С. М.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ООО «Ботик-технологии»,</a:t>
            </a:r>
            <a:br>
              <a:rPr sz="3000"/>
            </a:b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Переславль-Залесский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loud"/>
          <p:cNvSpPr/>
          <p:nvPr/>
        </p:nvSpPr>
        <p:spPr>
          <a:xfrm>
            <a:off x="663480" y="1413000"/>
            <a:ext cx="8012160" cy="5368680"/>
          </a:xfrm>
          <a:prstGeom prst="pie">
            <a:avLst/>
          </a:prstGeom>
          <a:solidFill>
            <a:srgbClr val="ffe0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116000" y="4076280"/>
            <a:ext cx="1655640" cy="136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охождение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NS-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запрос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aptop"/>
          <p:cNvSpPr/>
          <p:nvPr/>
        </p:nvSpPr>
        <p:spPr>
          <a:xfrm>
            <a:off x="395280" y="5445000"/>
            <a:ext cx="1368360" cy="1217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963080" y="3852720"/>
            <a:ext cx="1384920" cy="2897280"/>
            <a:chOff x="1963080" y="3852720"/>
            <a:chExt cx="1384920" cy="2897280"/>
          </a:xfrm>
        </p:grpSpPr>
        <p:sp>
          <p:nvSpPr>
            <p:cNvPr id="167" name="tower"/>
            <p:cNvSpPr/>
            <p:nvPr/>
          </p:nvSpPr>
          <p:spPr>
            <a:xfrm>
              <a:off x="2843280" y="543708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68" name="tower"/>
            <p:cNvSpPr/>
            <p:nvPr/>
          </p:nvSpPr>
          <p:spPr>
            <a:xfrm>
              <a:off x="2843280" y="3852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63080" y="479124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DNS1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94760" y="638172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DNS2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811680" y="3852720"/>
            <a:ext cx="4349520" cy="1239840"/>
            <a:chOff x="3811680" y="3852720"/>
            <a:chExt cx="4349520" cy="1239840"/>
          </a:xfrm>
        </p:grpSpPr>
        <p:sp>
          <p:nvSpPr>
            <p:cNvPr id="172" name="tower"/>
            <p:cNvSpPr/>
            <p:nvPr/>
          </p:nvSpPr>
          <p:spPr>
            <a:xfrm>
              <a:off x="5219640" y="3852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11680" y="386064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ru”-DNS1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4" name="tower"/>
            <p:cNvSpPr/>
            <p:nvPr/>
          </p:nvSpPr>
          <p:spPr>
            <a:xfrm>
              <a:off x="6299280" y="386064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35680" y="386064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ru”-DNS2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7400" y="5445000"/>
            <a:ext cx="4163400" cy="1239840"/>
            <a:chOff x="4937400" y="5445000"/>
            <a:chExt cx="4163400" cy="1239840"/>
          </a:xfrm>
        </p:grpSpPr>
        <p:sp>
          <p:nvSpPr>
            <p:cNvPr id="177" name="tower"/>
            <p:cNvSpPr/>
            <p:nvPr/>
          </p:nvSpPr>
          <p:spPr>
            <a:xfrm>
              <a:off x="6372360" y="544500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7400" y="5452920"/>
              <a:ext cx="113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nag.ru”</a:t>
              </a:r>
              <a:br>
                <a:rPr sz="1800"/>
              </a:b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DNS1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9" name="tower"/>
            <p:cNvSpPr/>
            <p:nvPr/>
          </p:nvSpPr>
          <p:spPr>
            <a:xfrm>
              <a:off x="7451640" y="54529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61400" y="5452920"/>
              <a:ext cx="113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nag.ru”</a:t>
              </a:r>
              <a:br>
                <a:rPr sz="1800"/>
              </a:b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DNS2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140360" y="1830240"/>
            <a:ext cx="2808000" cy="1238400"/>
            <a:chOff x="4140360" y="1830240"/>
            <a:chExt cx="2808000" cy="1238400"/>
          </a:xfrm>
        </p:grpSpPr>
        <p:sp>
          <p:nvSpPr>
            <p:cNvPr id="182" name="tower"/>
            <p:cNvSpPr/>
            <p:nvPr/>
          </p:nvSpPr>
          <p:spPr>
            <a:xfrm>
              <a:off x="4140360" y="1836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3" name="tower"/>
            <p:cNvSpPr/>
            <p:nvPr/>
          </p:nvSpPr>
          <p:spPr>
            <a:xfrm>
              <a:off x="4716360" y="18367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4" name="tower"/>
            <p:cNvSpPr/>
            <p:nvPr/>
          </p:nvSpPr>
          <p:spPr>
            <a:xfrm>
              <a:off x="5291280" y="1836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5" name="tower"/>
            <p:cNvSpPr/>
            <p:nvPr/>
          </p:nvSpPr>
          <p:spPr>
            <a:xfrm>
              <a:off x="5867280" y="18367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6" name="tower"/>
            <p:cNvSpPr/>
            <p:nvPr/>
          </p:nvSpPr>
          <p:spPr>
            <a:xfrm>
              <a:off x="6443640" y="183024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18200" y="2421000"/>
              <a:ext cx="22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InterNIC root-DNS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0" y="5805360"/>
            <a:ext cx="1871640" cy="3988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Tahoma"/>
              </a:rPr>
              <a:t>ftp.nag.ru?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71640" y="2707920"/>
            <a:ext cx="1224000" cy="1297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924280"/>
            <a:ext cx="576360" cy="100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653000"/>
            <a:ext cx="64800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08720" y="6021360"/>
            <a:ext cx="1871640" cy="6732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Tahoma"/>
              </a:rPr>
              <a:t>ftp.nag.ru = 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128.64.73.19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CCB-6F70-435E-860C-539DC6A4426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AA7F5-1643-4049-B290-40C303F7CDCC}" type="datetime1">
              <a:rPr lang="en-US"/>
              <a:t>07/31/26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22448 -0.23889 E">
                                      <p:cBhvr>
                                        <p:cTn id="87" dur="3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48 -0.23896 L 0.36423 -0.51192 E">
                                      <p:cBhvr>
                                        <p:cTn id="9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423 -0.51192 L 0.48437 -0.21791 E">
                                      <p:cBhvr>
                                        <p:cTn id="10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37 -0.21791 L 0.61823 0.034 E">
                                      <p:cBhvr>
                                        <p:cTn id="12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1735 L -0.12587 -0.28661 E">
                                      <p:cBhvr>
                                        <p:cTn id="13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-0.26926 L -0.2441 -0.5524 E">
                                      <p:cBhvr>
                                        <p:cTn id="13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819 -0.56327 L -0.38003 -0.30118 E">
                                      <p:cBhvr>
                                        <p:cTn id="14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5 -0.29031 L -0.59844 -0.04881 E">
                                      <p:cBhvr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796000" y="4797360"/>
            <a:ext cx="792000" cy="824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Е </a:t>
            </a:r>
            <a:r>
              <a:rPr b="1" lang="ru-RU" sz="1600" spc="-1" strike="noStrike">
                <a:solidFill>
                  <a:srgbClr val="336666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 4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429000"/>
            <a:ext cx="863640" cy="824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Е </a:t>
            </a:r>
            <a:r>
              <a:rPr b="1" lang="ru-RU" sz="1600" spc="-1" strike="noStrike">
                <a:solidFill>
                  <a:srgbClr val="336666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 3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1413000"/>
            <a:ext cx="863640" cy="95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ahoma"/>
              </a:rPr>
              <a:t>Е </a:t>
            </a:r>
            <a:r>
              <a:rPr b="1" lang="ru-RU" sz="1400" spc="-1" strike="noStrike">
                <a:solidFill>
                  <a:srgbClr val="336666"/>
                </a:solidFill>
                <a:latin typeface="Wingdings"/>
                <a:ea typeface="Wingdings"/>
              </a:rPr>
              <a:t></a:t>
            </a:r>
            <a:r>
              <a:rPr b="1" lang="ru-RU" sz="1400" spc="-1" strike="noStrike">
                <a:solidFill>
                  <a:srgbClr val="336666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Маршрутизация в Сет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1880" y="1980720"/>
            <a:ext cx="50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аблица маршрутизац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ель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спользу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запол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бновля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д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е таблиц маршру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пазо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ов (первый номер и ма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292720" y="2003400"/>
            <a:ext cx="3672000" cy="2851200"/>
            <a:chOff x="5292720" y="2003400"/>
            <a:chExt cx="3672000" cy="2851200"/>
          </a:xfrm>
        </p:grpSpPr>
        <p:sp>
          <p:nvSpPr>
            <p:cNvPr id="199" name=""/>
            <p:cNvSpPr/>
            <p:nvPr/>
          </p:nvSpPr>
          <p:spPr>
            <a:xfrm>
              <a:off x="5292720" y="3009960"/>
              <a:ext cx="623880" cy="61416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66"/>
                  </a:solidFill>
                  <a:latin typeface="Tahoma"/>
                </a:rPr>
                <a:t>А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746680" y="2525760"/>
              <a:ext cx="530280" cy="52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9440" y="3624120"/>
              <a:ext cx="36036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16600" y="336384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56360" y="2003400"/>
              <a:ext cx="625320" cy="61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8120" y="3065400"/>
              <a:ext cx="625680" cy="61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66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80240" y="4240080"/>
              <a:ext cx="62388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66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465960" y="3642840"/>
              <a:ext cx="87156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34000" y="2554200"/>
              <a:ext cx="2653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66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0840" y="4201920"/>
              <a:ext cx="623880" cy="615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66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04120" y="4605120"/>
              <a:ext cx="181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1480" y="3560760"/>
              <a:ext cx="700200" cy="69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29440" y="299880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66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08720" y="394812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66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364000" y="1557360"/>
            <a:ext cx="1008360" cy="6494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Tahoma"/>
              </a:rPr>
              <a:t>То: Е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4752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5B2-79F2-41D4-8428-16703AF9996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3D47F-399D-4760-8DBE-BD09D63F8F8C}" type="datetime1">
              <a:rPr lang="en-US"/>
              <a:t>07/31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09445 0.14166 E">
                                      <p:cBhvr>
                                        <p:cTn id="167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0.14166 L -0.01563 0.36226 E">
                                      <p:cBhvr>
                                        <p:cTn id="17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0.36226 L 0.25989 0.36226 E">
                                      <p:cBhvr>
                                        <p:cTn id="18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76120" y="574560"/>
            <a:ext cx="70102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. Введение для пользователей сети Интернет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.2 Настройка Се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и У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подклю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онка с прин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кция «Параметр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8BD-54F6-4BCE-8DF3-D6FBBC98A8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0BDAE-4081-4F51-AD47-6F2781EF534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90520" y="1393920"/>
            <a:ext cx="85694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235-68B8-490A-854A-845CA258E1C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52747-2672-4820-B3AA-40632C21D7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стройка сетевых параметров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чная настройка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показать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смесь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ручной настройки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показать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E60-F44F-45DE-B26A-B215F0792C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A622B-2FC7-4B03-BC05-1C5BF5F74AD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46240" y="538200"/>
            <a:ext cx="709776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. Введение для пользователей сети Интернет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.3 Сетевые при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WW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— всемирная информационная паутин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62012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урсы и и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тексты и гиперресурсы – тексты (ресурсы), ссылающиеся на другие гипертексты (гипер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ные брауз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36A-B569-49C4-BF6C-9FEB21A5DD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6E0FE-5468-4DF7-AA4F-5E64F235F1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Идея, изменившая мир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62012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ель WWW, Тим Бернерс Ли, в 2004г. получи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4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€1,000,0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inland's Millennium Technology Prize (премия "Технология тысячелетия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6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5,000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премия Чарльза Старка Дрейп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угие пре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en.wikipedia.org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/wiki/Berners-Lee</a:t>
            </a:r>
            <a:br>
              <a:rPr sz="3000"/>
            </a:b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E52-A8FF-4373-8A32-CEF8BBFC70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A2B76-A807-4952-B3D5-8CF5094B2EE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WW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— всемирная информационная паутин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2600" y="1833480"/>
            <a:ext cx="8715240" cy="25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20840" y="2862360"/>
            <a:ext cx="5689440" cy="676080"/>
          </a:xfrm>
          <a:prstGeom prst="leftArrow">
            <a:avLst>
              <a:gd name="adj1" fmla="val 49769"/>
              <a:gd name="adj2" fmla="val 15225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 (файл)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-6480" y="1805040"/>
            <a:ext cx="8418600" cy="2125080"/>
            <a:chOff x="-6480" y="1805040"/>
            <a:chExt cx="8418600" cy="2125080"/>
          </a:xfrm>
        </p:grpSpPr>
        <p:graphicFrame>
          <p:nvGraphicFramePr>
            <p:cNvPr id="231" name=""/>
            <p:cNvGraphicFramePr/>
            <p:nvPr/>
          </p:nvGraphicFramePr>
          <p:xfrm>
            <a:off x="301680" y="2660400"/>
            <a:ext cx="1042920" cy="96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1680" y="2660400"/>
                      <a:ext cx="1042920" cy="96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"/>
            <p:cNvGraphicFramePr/>
            <p:nvPr/>
          </p:nvGraphicFramePr>
          <p:xfrm>
            <a:off x="6964200" y="1957320"/>
            <a:ext cx="1447920" cy="197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64200" y="1957320"/>
                      <a:ext cx="1447920" cy="19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"/>
            <p:cNvSpPr/>
            <p:nvPr/>
          </p:nvSpPr>
          <p:spPr>
            <a:xfrm>
              <a:off x="-6480" y="1805040"/>
              <a:ext cx="619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абота напрямую (мим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XY)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320840" y="2260440"/>
            <a:ext cx="5803920" cy="677880"/>
          </a:xfrm>
          <a:prstGeom prst="rightArrow">
            <a:avLst>
              <a:gd name="adj1" fmla="val 49880"/>
              <a:gd name="adj2" fmla="val 142381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7159680" y="2763720"/>
            <a:ext cx="606240" cy="782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7170840" y="2774880"/>
            <a:ext cx="606240" cy="7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A8E-6152-49F2-BAB5-52343129FBD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8896C-2838-4D84-9D43-3AC77CDDE4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6809E-006 L -0.69445 0.00162 E">
                                      <p:cBhvr>
                                        <p:cTn id="229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6809E-006 L -0.69445 0.00162 E">
                                      <p:cBhvr>
                                        <p:cTn id="233" dur="3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ограмма курс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 Введение для пользователей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нятия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ройка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ые 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P-телеф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4F4-E331-4F4D-89D0-5ACC6A5979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F15F5-3161-43FE-AB73-5A8BE6B74E1B}" type="datetime1">
              <a:rPr lang="en-US"/>
              <a:t>07/31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3246480" y="2189160"/>
          <a:ext cx="2205000" cy="22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6480" y="2189160"/>
                    <a:ext cx="22050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WW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— всемирная информационная паутин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520" y="4755960"/>
            <a:ext cx="762012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ер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cache — прокси-кэ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ем о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ера в брауз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4243320"/>
            <a:ext cx="6489720" cy="569880"/>
          </a:xfrm>
          <a:prstGeom prst="wedgeRectCallout">
            <a:avLst>
              <a:gd name="adj1" fmla="val 26638"/>
              <a:gd name="adj2" fmla="val 224375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ясно как? Поищем в ЧаВО!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1280" y="2441520"/>
            <a:ext cx="2370240" cy="676440"/>
          </a:xfrm>
          <a:prstGeom prst="leftArrow">
            <a:avLst>
              <a:gd name="adj1" fmla="val 49769"/>
              <a:gd name="adj2" fmla="val 633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 (файл)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68120" y="1951200"/>
          <a:ext cx="104328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" y="1951200"/>
                    <a:ext cx="1043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7415280" y="1901880"/>
          <a:ext cx="1447560" cy="197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15280" y="1901880"/>
                    <a:ext cx="144756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-6480" y="1461960"/>
            <a:ext cx="61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чере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20840" y="1917720"/>
            <a:ext cx="2451240" cy="677880"/>
          </a:xfrm>
          <a:prstGeom prst="rightArrow">
            <a:avLst>
              <a:gd name="adj1" fmla="val 49880"/>
              <a:gd name="adj2" fmla="val 6013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1080" y="4248000"/>
            <a:ext cx="5586480" cy="570240"/>
          </a:xfrm>
          <a:prstGeom prst="wedgeRectCallout">
            <a:avLst>
              <a:gd name="adj1" fmla="val -37949"/>
              <a:gd name="adj2" fmla="val 154458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ясно? Поищем в ЧаВО!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5360" y="3235320"/>
          <a:ext cx="104292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5360" y="3235320"/>
                    <a:ext cx="10429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230480" y="3514680"/>
            <a:ext cx="2369880" cy="676440"/>
          </a:xfrm>
          <a:prstGeom prst="leftArrow">
            <a:avLst>
              <a:gd name="adj1" fmla="val 49769"/>
              <a:gd name="adj2" fmla="val 633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 (файл)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09680" y="2990880"/>
            <a:ext cx="2451240" cy="677880"/>
          </a:xfrm>
          <a:prstGeom prst="rightArrow">
            <a:avLst>
              <a:gd name="adj1" fmla="val 49880"/>
              <a:gd name="adj2" fmla="val 6013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88080" y="2859120"/>
            <a:ext cx="2369880" cy="676080"/>
          </a:xfrm>
          <a:prstGeom prst="leftArrow">
            <a:avLst>
              <a:gd name="adj1" fmla="val 49769"/>
              <a:gd name="adj2" fmla="val 6342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 (файл)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67280" y="2335320"/>
            <a:ext cx="2451240" cy="677880"/>
          </a:xfrm>
          <a:prstGeom prst="rightArrow">
            <a:avLst>
              <a:gd name="adj1" fmla="val 49880"/>
              <a:gd name="adj2" fmla="val 6013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7837560" y="2668680"/>
            <a:ext cx="606240" cy="782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4008600" y="2743200"/>
            <a:ext cx="606240" cy="782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1"/>
          <a:stretch/>
        </p:blipFill>
        <p:spPr>
          <a:xfrm>
            <a:off x="4008600" y="2744640"/>
            <a:ext cx="606240" cy="7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EBB-F97F-4544-88CF-F8B4FD5DA0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4B086-5CEC-4335-8083-34334BF357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2858E-006 L -0.41719 0.00833 E">
                                      <p:cBhvr>
                                        <p:cTn id="255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0167E-006 L -0.39253 -0.08395 E">
                                      <p:cBhvr>
                                        <p:cTn id="26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278 L -0.38733 0.10222 E">
                                      <p:cBhvr>
                                        <p:cTn id="29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есурсы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для новичков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ов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www.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ww.ramble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www.googl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вари (толковые и перевод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lingvo.yandex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en.wikipedi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ru.wikipedi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683-8365-4C84-8F7E-03FBEF8DA1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AE689-10AB-4284-BBE0-B78CBB2254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— электронная почт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рес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r@mail-do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ресные пол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тирование (щадящее и чрезмерно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955-539F-4F73-B4C8-E475C65C06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E6A6D-F56E-48E5-8454-B075E8B5B4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— электронная почт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т пис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ий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/и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ding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ис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I8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-12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E: 8bit, Quoted Pri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065-81D0-4CA6-9EE6-0C7D997C4A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07DE2-9180-4696-B1DE-58531313BF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— электронная почт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ложения в пис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в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э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53D-DB4D-48EA-8FB6-F8C5F20AE2F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A9CF1-751C-4AC2-B043-7A24B52BA1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272880" y="2025720"/>
          <a:ext cx="855360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2025720"/>
                    <a:ext cx="85536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— электронная почт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3000" y="1510920"/>
            <a:ext cx="61484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TP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послать письм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3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доступ к почтовому ящ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788000" y="3895560"/>
            <a:ext cx="4267080" cy="2924280"/>
            <a:chOff x="4788000" y="3895560"/>
            <a:chExt cx="4267080" cy="2924280"/>
          </a:xfrm>
        </p:grpSpPr>
        <p:sp>
          <p:nvSpPr>
            <p:cNvPr id="274" name=""/>
            <p:cNvSpPr/>
            <p:nvPr/>
          </p:nvSpPr>
          <p:spPr>
            <a:xfrm>
              <a:off x="4788000" y="5280120"/>
              <a:ext cx="2641680" cy="12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13760" y="3895560"/>
              <a:ext cx="2641320" cy="29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496960" y="4645080"/>
            <a:ext cx="2538720" cy="1873080"/>
            <a:chOff x="2496960" y="4645080"/>
            <a:chExt cx="2538720" cy="1873080"/>
          </a:xfrm>
        </p:grpSpPr>
        <p:sp>
          <p:nvSpPr>
            <p:cNvPr id="277" name=""/>
            <p:cNvSpPr/>
            <p:nvPr/>
          </p:nvSpPr>
          <p:spPr>
            <a:xfrm>
              <a:off x="2496960" y="4645080"/>
              <a:ext cx="1900440" cy="18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4200" y="5332320"/>
              <a:ext cx="2481480" cy="57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11360" y="2932200"/>
            <a:ext cx="3641760" cy="1030320"/>
            <a:chOff x="2511360" y="2932200"/>
            <a:chExt cx="3641760" cy="1030320"/>
          </a:xfrm>
        </p:grpSpPr>
        <p:sp>
          <p:nvSpPr>
            <p:cNvPr id="280" name=""/>
            <p:cNvSpPr/>
            <p:nvPr/>
          </p:nvSpPr>
          <p:spPr>
            <a:xfrm>
              <a:off x="2511360" y="2932200"/>
              <a:ext cx="2772000" cy="10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81480" y="3193920"/>
              <a:ext cx="2771640" cy="5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9A4-0A04-46ED-9D80-7BFE781B6F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EA76D-BD8B-406D-8332-57D443DB01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279360" y="2025720"/>
          <a:ext cx="855360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025720"/>
                    <a:ext cx="85536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53960" y="1535040"/>
            <a:ext cx="7329600" cy="1625760"/>
          </a:xfrm>
          <a:prstGeom prst="wedgeRectCallout">
            <a:avLst>
              <a:gd name="adj1" fmla="val -12615"/>
              <a:gd name="adj2" fmla="val 84472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омпьютер вне СТ «Ботик», то требуется имя и пароль — использовать те же, что и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0760" y="1417680"/>
            <a:ext cx="6734160" cy="2716200"/>
          </a:xfrm>
          <a:prstGeom prst="wedgeRectCallout">
            <a:avLst>
              <a:gd name="adj1" fmla="val -16643"/>
              <a:gd name="adj2" fmla="val 83254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 имени пользователя: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pa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ma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ma,papa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,!papa,!mama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86080" y="1415880"/>
            <a:ext cx="6748200" cy="2352960"/>
          </a:xfrm>
          <a:prstGeom prst="wedgeRectCallout">
            <a:avLst>
              <a:gd name="adj1" fmla="val -16499"/>
              <a:gd name="adj2" fmla="val 103847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доступе: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мя пользов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дает шаблон выбора писем.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а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всех вариантов выбора один и тот же.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6800" y="1473120"/>
            <a:ext cx="8650440" cy="1467000"/>
          </a:xfrm>
          <a:prstGeom prst="wedgeRectCallout">
            <a:avLst>
              <a:gd name="adj1" fmla="val 7513"/>
              <a:gd name="adj2" fmla="val 232361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ая организация в СТ «Ботик» доступа 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ящику — храним письма для многих пользователей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abc.pereslavl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Доступ к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 в СТ «Ботик»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3960" y="1436760"/>
            <a:ext cx="7329600" cy="1001520"/>
          </a:xfrm>
          <a:prstGeom prst="wedgeRectCallout">
            <a:avLst>
              <a:gd name="adj1" fmla="val -13199"/>
              <a:gd name="adj2" fmla="val 178050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омпьютер в СТ «Ботик», то не требуется авторизации (имя/пароль)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51B-AB8F-470A-B9FE-3109D58A45F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4162A-E339-4FDF-B027-C617D9B1F3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и У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подклю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онка с прин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кция «Параметры для ..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+POP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8A0-8B64-4E03-8085-2B01353EF0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435BE-D8AD-4485-94DD-221CB6B1BA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040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651640" y="4149720"/>
            <a:ext cx="1512720" cy="14292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15C-EA15-4BE1-98BF-F2875E0A2BA6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CDBED-7470-4923-8F70-1D41F6E6C7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6080" y="1836720"/>
            <a:ext cx="9097920" cy="42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E05-5063-4F69-92B7-FE3BC572607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0A6D6-CEC8-4079-926B-866DC6B8D7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ограмма курс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 «Ботик» сегодн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январь 2000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, Прейскурант, Регл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онент и его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кет программ Botik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Nadmin::Абон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е с персоналом Опер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72A-5DDC-4CBE-9AFC-7416B38ACB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18D72-F5DC-4299-81F4-7D2C99076B2A}" type="datetime1">
              <a:rPr lang="en-US"/>
              <a:t>07/31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Другие сетевые приложения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IP-телефони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oogle Ear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7D5-CAF2-41D2-AA5E-585A2B2FAAC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FA11D-AF25-41E5-8FFB-E2E01FDC78B4}" type="datetime1">
              <a:rPr lang="en-US"/>
              <a:t>07/31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скуссия в форум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зумные аспекты дискусси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можность обанкротить абонента с реальным IP-номером и/или с почтой в СТ «Ботик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же было в сотовых сетях России, до принятия закона «платит звонящ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ор ситуации: «входящий/исходящий трафик — платный/бесплатный» и «кто из двоих должен платить за паке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 передачи дан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динально не похожи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елефо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от провода у всех удивительно пох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B49-7CBE-46AA-8C35-2C4F85953FB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8A92D-877C-4D1B-A15E-F1381F9642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зумные аспекты дискусси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гда и кому нужен реальный IP-номер (Антон Карп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можн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ерва посмотреть заголовки, а потом решать — качать письмо или нет (но письма все равно приняты, оплатить придетс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гда придется платить за уже переданные для Вас письма и траф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рог блокировки не блокирует  ни почту, ни входящи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афик для реальны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м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1A9-F7AC-4418-92F2-5DB37EEF1CB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CFAB2-67A1-4736-AC76-96AB9ED0AC3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зумные аспекты дискусси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9720" y="1612800"/>
            <a:ext cx="84693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азывается абонентом Ботика быть опасно, или надо отказываться от почты и не использовать реальный IP. Может есть ещё какие-то опасности, о которых ещё не поздно узнать новичку? Не планирует ли Ботик попытаться решить эту проблему? Botik Key мог бы сообщать о статусе машины и блокировать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реальна опас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яжелом случае с ботиками можно договориться о блокировании (почты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ператоров связи и защита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лости в Сети — уже уголовно наказуемое пре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зделение «К» и СОРМ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DA9-0C07-4441-BE46-4CAAE63DDCC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B9FFA-C57E-41F7-966D-DC10509242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 «Бот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сновные сведения для Абонентов СТ «Ботик»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 и его услу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говор, Прейскурант, Регла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кет программ Botik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Nadmin::Абонен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аимодействие с персоналом Опер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 «Ботик» сегодня (январь 2007 г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435-C003-48CE-BAD0-2F08B1903B2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F6D24-29A5-432F-9F3E-BA6319052379}" type="datetime1">
              <a:rPr lang="en-US"/>
              <a:t>07/31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51200" y="246240"/>
            <a:ext cx="7192800" cy="52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1 Абонент и его усл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724280"/>
            <a:ext cx="6192720" cy="1513080"/>
          </a:xfrm>
          <a:prstGeom prst="rightArrow">
            <a:avLst>
              <a:gd name="adj1" fmla="val 50000"/>
              <a:gd name="adj2" fmla="val 1023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Абонент и его услуг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99760" y="1211040"/>
            <a:ext cx="7364520" cy="56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 — Сторона, подписавшая Догов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ьзоват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ятие — услугами пользуются сотру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ое лицо — услугами пользуются члены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говор дает право Абоненту запрашивать (заявкой) услуги и/или отказываться от каких-либо услу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085-02AA-4944-BE11-CAA3BE42CED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6D204-7285-4DFF-93E7-C594D65F56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Услуги Абонента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о Прейскуранту)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62012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говор не фиксирует сколько и каких услуг будет у Абон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любого Абонента может быть любое количество любых услу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м числе — ни о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CBA-614A-409C-A04D-81455FA4C1C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CC70A-663F-4A4B-B879-205D9E5112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ограмма курс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. Информационная безопасность— защита о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ых а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оумышленников (защита от кражи трафик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D1C-53B2-4905-B2E8-9C3058A9DF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76A79-27BB-4CA5-9519-21BADDFE6439}" type="datetime1">
              <a:rPr lang="en-US"/>
              <a:t>07/31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992160" y="1612800"/>
            <a:ext cx="8151840" cy="49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страционные и консультационные услуги административной групп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уги-подключения одиночных машин и сетей Абонента — цепочки из ключевых сл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IALU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LI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лематические услу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-R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HO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P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уги группы технической поддержки (консультации и ремонт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ни за просрочку оплаты платеж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5170320"/>
            <a:ext cx="8839440" cy="143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— услуга по организации телематической услуги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уга по использованию — абонентская плат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афик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уги по переключению, изменению режимов и параметров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440" y="3670200"/>
            <a:ext cx="8839440" cy="143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ультации и поддержк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ы на площадке Оператор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ы с выездом к Абоненту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ые услуги группы технической поддержки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600" y="4221000"/>
            <a:ext cx="8839080" cy="143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— услуга по организации подключения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уга по использованию — абонентская плат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афик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уги по переключению, изменению режимов и параметров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9920" y="2516040"/>
            <a:ext cx="8839080" cy="378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страция учетных данных об Абоненте в базе данных Оператора в Системе Nadmin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ление (печать, подписание) Абонентского Договор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чать счетов-фактур и их доставк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чать по заявкам Абонентов счетов для авансовых платежей и их доставк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ультации по содержанию документов из абонентского комплекта (Договор, Прейскурант, Регламент)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бор претензий по расчетам за услуги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ем по телефону заявок от имени Абонента в системе Nadmin::Абонент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лассы услуг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FB5-F231-45A2-A1C3-59797D61379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ACF1D-5FC4-442D-94FD-6179F897D0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2 Договор, Прейскурант, Регл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омплект документов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бумажный экземпляр с подписями и печа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основные понятия,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йскурант и Регламе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только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е — для каждого Абонента сво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затрудняемся ответить на общий вопрос «А сколько стоит у Вас ...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изменяться Опер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 изменения Оператор должен за две недели предупре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09F-DD21-43AE-A9AD-F7FEFB54FE0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7FC56-A4CC-4807-9C06-02474F32B2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омплект документов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йскура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ен в электронной форме в системе Nadmin::Абон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 пересмотрен Опера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перечень услуг, доступных в рамках данного Договора, и тарифы на их использование (ц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A88-2AD5-4A38-8D33-2AA2C4794C6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48CBA-4C56-4A2F-9396-5146E12EB1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омплект документов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гла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ен в электронной форме в системе Nadmin::Абон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 пересмотрен Опера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ывает для каждой услуги технические подробности, сроки, ТТ и ТУ, условия и обязанности Сторон, показатели качества и способы их измерения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689-234C-47B9-A005-58B5EFE0599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9A14D-A5A8-4CB9-997E-FC304780A1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омплект документов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ламент для каждой Услуги определя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требования и технические условия предоставления Услуги, в том числе условия возможности предоставления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и обязанности, которые должны выполнять Оператор и Абонент при оказании Оператором Абоненту данной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и качества Услуги, технические средства и процедуры контроля качества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E07-B8CF-4B8F-B90D-8A45BD00178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BF69A-D748-4058-BF31-1775D4109B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3 Пакет програм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Botik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724280"/>
            <a:ext cx="6192720" cy="1513080"/>
          </a:xfrm>
          <a:prstGeom prst="rightArrow">
            <a:avLst>
              <a:gd name="adj1" fmla="val 50000"/>
              <a:gd name="adj2" fmla="val 1023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акет программ Botik Tool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tik Tes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делает  простой и быстрой (как «раз, два, три») процедуру тщательного тестирования и точной диагностики качества связи в СТ «Бо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tik Ke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клиентская часть системы подтверждения права доступа Абонента к Сети —самозванцу не просто выдать свой компьютер за компьютер добросовестного Абон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tik Loo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редназначена для просмотра детальной информации о сеансах связи Абонента, анализа расходов за пользование услугами СТ «Ботик» и выявления причин наибольши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tik M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карта СТ «Ботик» — специализированная векторная карта, на которой в реальном масштабе времени Абоненты смогут увидеть состояние СТ «Бо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botik.ru/~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botik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/tool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1303200" y="1481040"/>
            <a:ext cx="507960" cy="6350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1303200" y="2409840"/>
            <a:ext cx="507960" cy="63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1303200" y="3681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1305000" y="4844880"/>
            <a:ext cx="50796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095-152D-44A4-9B0F-EDE6ADCC7B0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BDC2A-3B56-4897-A8AF-51CEC9A1FC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51200" y="25992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Boti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327320" y="3882960"/>
            <a:ext cx="5079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513640" y="388800"/>
            <a:ext cx="507960" cy="635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2165400"/>
            <a:ext cx="9144000" cy="46400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929240" y="1496880"/>
            <a:ext cx="52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ww.botik.ru/~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botik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/tester/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374-01D3-436E-9710-810D01FCD94F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031C9-9542-4357-A45D-C7F09E9C41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95120" y="1184400"/>
            <a:ext cx="69310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Введение для пользователей сети Интерн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1 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новные понятия TCP/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620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жалоб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требу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елать, если невозмож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стройка Botik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ster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готовь сани летом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-сер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араметры тестир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ый хост — трассировать и доб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писание отч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бриг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8513640" y="388800"/>
            <a:ext cx="50796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EFC-4C8E-4B32-A649-2DFC26CC092B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20B10-C140-4603-9BF5-67EAD3C4452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51200" y="18864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Boti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281240" y="3814920"/>
            <a:ext cx="507960" cy="6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523880" y="2003400"/>
            <a:ext cx="5569200" cy="1343160"/>
          </a:xfrm>
          <a:prstGeom prst="rightArrow">
            <a:avLst>
              <a:gd name="adj1" fmla="val 50000"/>
              <a:gd name="adj2" fmla="val 1036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e, LOCAL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439120" y="436680"/>
            <a:ext cx="507960" cy="63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6742080" y="1557360"/>
          <a:ext cx="2205000" cy="223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2080" y="1557360"/>
                    <a:ext cx="22050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360360" y="2133720"/>
            <a:ext cx="1042920" cy="2236320"/>
            <a:chOff x="360360" y="2133720"/>
            <a:chExt cx="1042920" cy="2236320"/>
          </a:xfrm>
        </p:grpSpPr>
        <p:pic>
          <p:nvPicPr>
            <p:cNvPr id="356" name="" descr=""/>
            <p:cNvPicPr/>
            <p:nvPr/>
          </p:nvPicPr>
          <p:blipFill>
            <a:blip r:embed="rId4"/>
            <a:srcRect l="9148" t="14611" r="10833" b="0"/>
            <a:stretch/>
          </p:blipFill>
          <p:spPr>
            <a:xfrm>
              <a:off x="417600" y="3146400"/>
              <a:ext cx="927000" cy="1223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57" name=""/>
            <p:cNvGraphicFramePr/>
            <p:nvPr/>
          </p:nvGraphicFramePr>
          <p:xfrm>
            <a:off x="360360" y="2133720"/>
            <a:ext cx="1042920" cy="96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360" y="2133720"/>
                      <a:ext cx="1042920" cy="96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9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cc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,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OCAL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2003400"/>
            <a:ext cx="5569200" cy="1343160"/>
          </a:xfrm>
          <a:prstGeom prst="rightArrow">
            <a:avLst>
              <a:gd name="adj1" fmla="val 50000"/>
              <a:gd name="adj2" fmla="val 1036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e,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cc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, LOCAL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2004840"/>
            <a:ext cx="5569200" cy="1343160"/>
          </a:xfrm>
          <a:prstGeom prst="rightArrow">
            <a:avLst>
              <a:gd name="adj1" fmla="val 50000"/>
              <a:gd name="adj2" fmla="val 1036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e, LOCAL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ff00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RY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…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16120" y="23860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047-CBD6-4670-B7DC-B97EBEF1C738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3977F-0FCC-493B-8AAD-0F9607AFC7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ей-сервер и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ос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ответ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 запросом доступа к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 в Се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тказ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йтральные информационные со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жим доступа (регион доступа) в запросе на доступ к Се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ароль и ключ доступ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и где заводит паро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енные па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доступа (регион доступа) у пароля (ключа) досту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л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л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л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439120" y="436680"/>
            <a:ext cx="50796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A01B-AADD-47DC-8FF5-BEA5644C5B63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2D003-49E1-4E7D-88EB-11D083F4A3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439120" y="436680"/>
            <a:ext cx="507960" cy="635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52280" y="1479600"/>
            <a:ext cx="1079640" cy="1333440"/>
          </a:xfrm>
          <a:prstGeom prst="rect">
            <a:avLst/>
          </a:prstGeom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152280" y="2886120"/>
            <a:ext cx="5211720" cy="3998880"/>
          </a:xfrm>
          <a:prstGeom prst="rect">
            <a:avLst/>
          </a:prstGeom>
          <a:ln w="0">
            <a:noFill/>
          </a:ln>
          <a:effectLst>
            <a:outerShdw dist="63504" dir="13983909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6022800" y="1479600"/>
            <a:ext cx="2980080" cy="2198520"/>
          </a:xfrm>
          <a:prstGeom prst="rect">
            <a:avLst/>
          </a:prstGeom>
          <a:ln w="0">
            <a:noFill/>
          </a:ln>
          <a:effectLst>
            <a:outerShdw dist="71785" dir="135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4716360" y="4129200"/>
            <a:ext cx="4286520" cy="2755800"/>
          </a:xfrm>
          <a:prstGeom prst="rect">
            <a:avLst/>
          </a:prstGeom>
          <a:ln w="0">
            <a:noFill/>
          </a:ln>
          <a:effectLst>
            <a:outerShdw dist="71785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78" name=""/>
          <p:cNvSpPr/>
          <p:nvPr/>
        </p:nvSpPr>
        <p:spPr>
          <a:xfrm>
            <a:off x="1440000" y="126828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www.botik.ru/~botik/key/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724280"/>
            <a:ext cx="6192720" cy="1513080"/>
          </a:xfrm>
          <a:prstGeom prst="rightArrow">
            <a:avLst>
              <a:gd name="adj1" fmla="val 50000"/>
              <a:gd name="adj2" fmla="val 1023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4D7-EE08-4F2C-A113-8C01E5318A7D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6D130-11A4-447B-A799-672764A678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это важн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это нужн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йт программы, документация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botik.ru/~botik/key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ik Key P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8439120" y="436680"/>
            <a:ext cx="50796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6D9-C32B-4954-8729-062D200CFC29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E64C0-4A69-4A1C-9A6D-05606EE935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51200" y="25992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Boti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378080" y="3971880"/>
            <a:ext cx="507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Look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298000" y="441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68360" y="1415880"/>
            <a:ext cx="8470800" cy="5440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0" y="62784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http://www.botik.ru/~botik/look/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A97-76A1-46C6-A808-1362E0986220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D1098-1469-461A-A645-1504CF8467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Botik Look (синхронизация)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6904080" y="1479600"/>
          <a:ext cx="2205000" cy="22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080" y="1479600"/>
                    <a:ext cx="22050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233280" y="1974960"/>
          <a:ext cx="104292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1974960"/>
                    <a:ext cx="10429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8172360" y="2676600"/>
          <a:ext cx="50328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72360" y="2676600"/>
                    <a:ext cx="5032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28560" y="2676600"/>
          <a:ext cx="503280" cy="7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8560" y="2676600"/>
                    <a:ext cx="5032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1619280" y="2160720"/>
            <a:ext cx="5614920" cy="1268280"/>
          </a:xfrm>
          <a:prstGeom prst="rightArrow">
            <a:avLst>
              <a:gd name="adj1" fmla="val 50000"/>
              <a:gd name="adj2" fmla="val 110680"/>
            </a:avLst>
          </a:prstGeom>
          <a:solidFill>
            <a:srgbClr val="cc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онент, пользователь, пароль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19280" y="2163600"/>
            <a:ext cx="5614920" cy="1262160"/>
          </a:xfrm>
          <a:prstGeom prst="leftArrow">
            <a:avLst>
              <a:gd name="adj1" fmla="val 50000"/>
              <a:gd name="adj2" fmla="val 111216"/>
            </a:avLst>
          </a:prstGeom>
          <a:solidFill>
            <a:srgbClr val="99cc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ую статистику имею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9"/>
          <a:stretch/>
        </p:blipFill>
        <p:spPr>
          <a:xfrm>
            <a:off x="8456760" y="54936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619280" y="2160720"/>
            <a:ext cx="5614920" cy="1268280"/>
          </a:xfrm>
          <a:prstGeom prst="rightArrow">
            <a:avLst>
              <a:gd name="adj1" fmla="val 50000"/>
              <a:gd name="adj2" fmla="val 110680"/>
            </a:avLst>
          </a:prstGeom>
          <a:solidFill>
            <a:srgbClr val="cc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 новой информации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3944880"/>
            <a:ext cx="6408720" cy="1068480"/>
          </a:xfrm>
          <a:prstGeom prst="wedgeRectCallout">
            <a:avLst>
              <a:gd name="adj1" fmla="val -38777"/>
              <a:gd name="adj2" fmla="val -101560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ое хранилище статистики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87640" y="5157720"/>
            <a:ext cx="6156360" cy="1511280"/>
          </a:xfrm>
          <a:prstGeom prst="wedgeRectCallout">
            <a:avLst>
              <a:gd name="adj1" fmla="val 38449"/>
              <a:gd name="adj2" fmla="val -166282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рая статистика систем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dmin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33280" y="4508640"/>
            <a:ext cx="5167440" cy="322200"/>
            <a:chOff x="233280" y="4508640"/>
            <a:chExt cx="5167440" cy="322200"/>
          </a:xfrm>
        </p:grpSpPr>
        <p:sp>
          <p:nvSpPr>
            <p:cNvPr id="405" name=""/>
            <p:cNvSpPr/>
            <p:nvPr/>
          </p:nvSpPr>
          <p:spPr>
            <a:xfrm>
              <a:off x="233280" y="4508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71640" y="4508640"/>
              <a:ext cx="73800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09640" y="4508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48000" y="4508640"/>
              <a:ext cx="73800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6000" y="4508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360" y="4508640"/>
              <a:ext cx="73800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62360" y="4508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168720" y="5300640"/>
            <a:ext cx="2952720" cy="322200"/>
            <a:chOff x="3168720" y="5300640"/>
            <a:chExt cx="2952720" cy="322200"/>
          </a:xfrm>
        </p:grpSpPr>
        <p:sp>
          <p:nvSpPr>
            <p:cNvPr id="413" name=""/>
            <p:cNvSpPr/>
            <p:nvPr/>
          </p:nvSpPr>
          <p:spPr>
            <a:xfrm>
              <a:off x="3168720" y="5300640"/>
              <a:ext cx="73800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06720" y="5300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645080" y="5300640"/>
              <a:ext cx="1476360" cy="322200"/>
              <a:chOff x="4645080" y="5300640"/>
              <a:chExt cx="1476360" cy="322200"/>
            </a:xfrm>
          </p:grpSpPr>
          <p:sp>
            <p:nvSpPr>
              <p:cNvPr id="416" name=""/>
              <p:cNvSpPr/>
              <p:nvPr/>
            </p:nvSpPr>
            <p:spPr>
              <a:xfrm>
                <a:off x="4645080" y="5300640"/>
                <a:ext cx="738000" cy="32220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383080" y="5300640"/>
                <a:ext cx="738360" cy="32220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4645080" y="5300640"/>
            <a:ext cx="1476360" cy="322200"/>
            <a:chOff x="4645080" y="5300640"/>
            <a:chExt cx="1476360" cy="322200"/>
          </a:xfrm>
        </p:grpSpPr>
        <p:sp>
          <p:nvSpPr>
            <p:cNvPr id="419" name=""/>
            <p:cNvSpPr/>
            <p:nvPr/>
          </p:nvSpPr>
          <p:spPr>
            <a:xfrm>
              <a:off x="4645080" y="5300640"/>
              <a:ext cx="738000" cy="322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83080" y="5300640"/>
              <a:ext cx="738360" cy="322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619280" y="2163600"/>
            <a:ext cx="5614920" cy="1262160"/>
          </a:xfrm>
          <a:prstGeom prst="leftArrow">
            <a:avLst>
              <a:gd name="adj1" fmla="val 50000"/>
              <a:gd name="adj2" fmla="val 111216"/>
            </a:avLst>
          </a:prstGeom>
          <a:solidFill>
            <a:srgbClr val="99cc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662360" y="4508640"/>
            <a:ext cx="1476360" cy="322200"/>
            <a:chOff x="4662360" y="4508640"/>
            <a:chExt cx="1476360" cy="322200"/>
          </a:xfrm>
        </p:grpSpPr>
        <p:sp>
          <p:nvSpPr>
            <p:cNvPr id="423" name=""/>
            <p:cNvSpPr/>
            <p:nvPr/>
          </p:nvSpPr>
          <p:spPr>
            <a:xfrm>
              <a:off x="4662360" y="4508640"/>
              <a:ext cx="738000" cy="322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00360" y="4508640"/>
              <a:ext cx="738360" cy="322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A6B-E6CC-4DBD-A4C3-849F7449114E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4F1BF-4FAE-4338-B8AF-6782DCFE40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6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3025E-007 L -0.00209 -0.11772 E">
                                      <p:cBhvr>
                                        <p:cTn id="67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Look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ырая статис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окальное хранилище сырой статис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нхронизация с серве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егда удачная (почему так бывает?) — повто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делаете — быстрее дел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хронизация по распис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298000" y="44136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EEC-8651-4893-8982-6CD4D8A5816A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2B541-BCAF-4CC6-B1C8-9AFEC13DC4D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658880"/>
            <a:ext cx="359424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ы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334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334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ентские ма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334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шру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2286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2286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2286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ал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43320" y="1611360"/>
            <a:ext cx="4599000" cy="4608360"/>
            <a:chOff x="4243320" y="1611360"/>
            <a:chExt cx="4599000" cy="4608360"/>
          </a:xfrm>
        </p:grpSpPr>
        <p:sp>
          <p:nvSpPr>
            <p:cNvPr id="108" name=""/>
            <p:cNvSpPr/>
            <p:nvPr/>
          </p:nvSpPr>
          <p:spPr>
            <a:xfrm>
              <a:off x="4243320" y="2459160"/>
              <a:ext cx="136440" cy="12538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68760" y="1957320"/>
              <a:ext cx="346320" cy="11160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1040" y="3711600"/>
              <a:ext cx="34920" cy="13809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377960" y="3036960"/>
              <a:ext cx="1428840" cy="7048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88080" y="3036960"/>
              <a:ext cx="1012680" cy="7048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68960" y="1611360"/>
              <a:ext cx="1735200" cy="8049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773760" y="2652840"/>
              <a:ext cx="38160" cy="10620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800760" y="2416320"/>
              <a:ext cx="2013120" cy="1325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783120" y="3675240"/>
              <a:ext cx="2003400" cy="20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748720" y="2397240"/>
              <a:ext cx="93600" cy="12160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50160" y="3659040"/>
              <a:ext cx="9720" cy="15908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427800" y="3730680"/>
              <a:ext cx="347760" cy="1346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419880" y="4382640"/>
              <a:ext cx="1434960" cy="6937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9880" y="5040360"/>
              <a:ext cx="2340000" cy="2016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833960" y="5203800"/>
              <a:ext cx="934920" cy="1015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труктура Сет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43040" y="2378160"/>
            <a:ext cx="7310520" cy="2950920"/>
            <a:chOff x="743040" y="2378160"/>
            <a:chExt cx="7310520" cy="2950920"/>
          </a:xfrm>
        </p:grpSpPr>
        <p:sp>
          <p:nvSpPr>
            <p:cNvPr id="125" name=""/>
            <p:cNvSpPr/>
            <p:nvPr/>
          </p:nvSpPr>
          <p:spPr>
            <a:xfrm>
              <a:off x="4167360" y="4836960"/>
              <a:ext cx="514080" cy="49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9120" y="4170240"/>
              <a:ext cx="514440" cy="49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43720" y="2378160"/>
              <a:ext cx="514440" cy="49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3040" y="2570040"/>
              <a:ext cx="514440" cy="49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817560" y="2212920"/>
            <a:ext cx="8164440" cy="3202200"/>
            <a:chOff x="817560" y="2212920"/>
            <a:chExt cx="8164440" cy="3202200"/>
          </a:xfrm>
        </p:grpSpPr>
        <p:sp>
          <p:nvSpPr>
            <p:cNvPr id="130" name=""/>
            <p:cNvSpPr/>
            <p:nvPr/>
          </p:nvSpPr>
          <p:spPr>
            <a:xfrm>
              <a:off x="817560" y="399564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2560" y="353844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7240" y="286236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05640" y="355752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57880" y="491976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70880" y="5065560"/>
              <a:ext cx="365040" cy="349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34520" y="348444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221292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512720"/>
            <a:ext cx="4075200" cy="534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9680" y="5433840"/>
            <a:ext cx="3714840" cy="621000"/>
          </a:xfrm>
          <a:prstGeom prst="borderCallout2">
            <a:avLst>
              <a:gd name="adj1" fmla="val 18750"/>
              <a:gd name="adj2" fmla="val -8333"/>
              <a:gd name="adj3" fmla="val 18412"/>
              <a:gd name="adj4" fmla="val 103504"/>
              <a:gd name="adj5" fmla="val -244499"/>
              <a:gd name="adj6" fmla="val 108078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ередача пакетов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440" y="1317600"/>
            <a:ext cx="3759480" cy="847800"/>
          </a:xfrm>
          <a:prstGeom prst="borderCallout2">
            <a:avLst>
              <a:gd name="adj1" fmla="val 18750"/>
              <a:gd name="adj2" fmla="val -8333"/>
              <a:gd name="adj3" fmla="val 13481"/>
              <a:gd name="adj4" fmla="val 112162"/>
              <a:gd name="adj5" fmla="val 242694"/>
              <a:gd name="adj6" fmla="val 144638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 данным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ложить маршрут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55560" y="1219320"/>
            <a:ext cx="7575480" cy="5524560"/>
            <a:chOff x="655560" y="1219320"/>
            <a:chExt cx="7575480" cy="5524560"/>
          </a:xfrm>
        </p:grpSpPr>
        <p:graphicFrame>
          <p:nvGraphicFramePr>
            <p:cNvPr id="142" name=""/>
            <p:cNvGraphicFramePr/>
            <p:nvPr/>
          </p:nvGraphicFramePr>
          <p:xfrm>
            <a:off x="3686040" y="1969920"/>
            <a:ext cx="1043280" cy="96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86040" y="1969920"/>
                      <a:ext cx="104328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4956120" y="1428840"/>
            <a:ext cx="1042920" cy="961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6120" y="1428840"/>
                      <a:ext cx="1042920" cy="96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6235560" y="1219320"/>
            <a:ext cx="1043280" cy="96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35560" y="1219320"/>
                      <a:ext cx="1043280" cy="96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7188120" y="5781600"/>
            <a:ext cx="1042920" cy="962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88120" y="5781600"/>
                      <a:ext cx="104292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655560" y="3124080"/>
            <a:ext cx="687600" cy="63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5560" y="3124080"/>
                      <a:ext cx="687600" cy="63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>
            <a:off x="93600" y="3076560"/>
            <a:ext cx="3714840" cy="1400040"/>
          </a:xfrm>
          <a:prstGeom prst="borderCallout2">
            <a:avLst>
              <a:gd name="adj1" fmla="val 18750"/>
              <a:gd name="adj2" fmla="val -8333"/>
              <a:gd name="adj3" fmla="val 8162"/>
              <a:gd name="adj4" fmla="val 103375"/>
              <a:gd name="adj5" fmla="val 13263"/>
              <a:gd name="adj6" fmla="val 107476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збить на пакеты (чтобы не было монополии на канал)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7040" y="2935440"/>
            <a:ext cx="4602240" cy="2877840"/>
          </a:xfrm>
          <a:custGeom>
            <a:avLst/>
            <a:gdLst/>
            <a:ahLst/>
            <a:rect l="l" t="t" r="r" b="b"/>
            <a:pathLst>
              <a:path w="2899" h="1813">
                <a:moveTo>
                  <a:pt x="60" y="0"/>
                </a:moveTo>
                <a:cubicBezTo>
                  <a:pt x="57" y="96"/>
                  <a:pt x="0" y="472"/>
                  <a:pt x="45" y="576"/>
                </a:cubicBezTo>
                <a:cubicBezTo>
                  <a:pt x="90" y="680"/>
                  <a:pt x="157" y="679"/>
                  <a:pt x="330" y="626"/>
                </a:cubicBezTo>
                <a:cubicBezTo>
                  <a:pt x="503" y="573"/>
                  <a:pt x="877" y="256"/>
                  <a:pt x="1084" y="256"/>
                </a:cubicBezTo>
                <a:cubicBezTo>
                  <a:pt x="1291" y="256"/>
                  <a:pt x="1452" y="556"/>
                  <a:pt x="1574" y="626"/>
                </a:cubicBezTo>
                <a:cubicBezTo>
                  <a:pt x="1696" y="696"/>
                  <a:pt x="1634" y="683"/>
                  <a:pt x="1816" y="675"/>
                </a:cubicBezTo>
                <a:cubicBezTo>
                  <a:pt x="1998" y="667"/>
                  <a:pt x="2492" y="569"/>
                  <a:pt x="2669" y="576"/>
                </a:cubicBezTo>
                <a:cubicBezTo>
                  <a:pt x="2846" y="583"/>
                  <a:pt x="2853" y="585"/>
                  <a:pt x="2876" y="718"/>
                </a:cubicBezTo>
                <a:cubicBezTo>
                  <a:pt x="2899" y="851"/>
                  <a:pt x="2879" y="1189"/>
                  <a:pt x="2805" y="1372"/>
                </a:cubicBezTo>
                <a:cubicBezTo>
                  <a:pt x="2731" y="1555"/>
                  <a:pt x="2512" y="1721"/>
                  <a:pt x="2435" y="1813"/>
                </a:cubicBezTo>
              </a:path>
            </a:pathLst>
          </a:custGeom>
          <a:noFill/>
          <a:ln cap="rnd" w="127080">
            <a:solidFill>
              <a:srgbClr val="99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4FB-E5C6-48A4-BEDE-B8E95BF5FA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7EEA4-E5B7-450E-9DF4-520155A0B982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Look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 категорий и периода време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ы (чере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мотрим в жиз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йт программы, документация:</a:t>
            </a:r>
            <a:br>
              <a:rPr sz="3000"/>
            </a:b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botik.ru/~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botik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/look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8298000" y="44136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D24-F9E7-4ACE-A992-3E74A9EDACF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10566-7CB8-4C42-9EE9-AC51D9EBA2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4 Система Nadmin::Абонен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admin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ход 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у — главное, что Абонент должен знать и помни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разделы... Посмотрим в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072-5305-4E6A-AFF7-23036B07EEA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9A059-D2C0-4221-AC72-2C20DF4CEB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5 Взаимодействие с персоналом Опе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заимодействие с персоналом Оператор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явки 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у — если есть хоть какая-то техническая возмож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ефон 98-033 — прием заявок (вовсе не решение проблем и не «терапия по телефону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апия по телефону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ы «7х24» как правило обман покупателя, психо/маркетинговый ход—не наш стил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FF5-F9C5-46C8-9FBC-280BE79369B2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DC078-D030-43BD-A9C4-9D91F03D44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Главные принципы при подаче заявк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а жалоба — одна заявка.  Две жалобы — две заявки. 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к? А если будет не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ждая жалоба — в своем разде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к? А если будет не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кретность жалоб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к? А если будет не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ть все сведения, что у Вас запроше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к? А если будет не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541-A9FC-473F-8300-E11C2337880C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3CA32-361D-4B64-A9A9-40000CA668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бота с системой заявок в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вайте посмотрим, как это выглядит в жизни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05B-6EEB-4DBD-801B-B1C7CBD94907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6927D-BB53-4D4F-B20B-2DF584EDD8F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6 СТ «Ботик» сегодн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январь 2007 г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2006 – сегодняшний день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44084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ее 4000 компьютеров; более 1700 Абон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150 — юридическ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1600 — семьи переслав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90% подключен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e-F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истраль микрорайон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itched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Base-FX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магистраль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bon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itched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e-F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тойчивость к плохому электропит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048-BD6F-4E7F-B524-CAAE24C84D2D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6CC82-A0E8-4238-A25B-EA20CC9646EB}" type="datetime1">
              <a:rPr lang="en-US"/>
              <a:t>07/31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2007 – сегодняшний день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4408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органы власти, все школы, все учебные заведения (а значит, все учащиес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микрорайоны плотной застрой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 к Сети (оценка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5–7 тысяч жителей, то есть 10–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я молодежь и, в целом, самая активная часть (и экономически состоятельная часть) насе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02E-205E-438A-9EF1-70860E0AA912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1D52D-6EB7-4517-BA78-0F40DB7A30BE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ример из жизни (1997 год)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9660"/>
          <a:stretch/>
        </p:blipFill>
        <p:spPr>
          <a:xfrm>
            <a:off x="1116000" y="1052640"/>
            <a:ext cx="6840720" cy="56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726-35CA-444E-8380-DBEAE397EB9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C0356-0688-4588-A268-5F06CDAE16EA}" type="datetime1">
              <a:rPr lang="en-US"/>
              <a:t>07/31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роверено (10 лет): работает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0" t="0" r="6474" b="0"/>
          <a:stretch/>
        </p:blipFill>
        <p:spPr>
          <a:xfrm>
            <a:off x="4645080" y="1628640"/>
            <a:ext cx="4174920" cy="44532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4920" y="148428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211640" y="3645000"/>
            <a:ext cx="1297080" cy="360360"/>
          </a:xfrm>
          <a:prstGeom prst="rightArrow">
            <a:avLst>
              <a:gd name="adj1" fmla="val 44491"/>
              <a:gd name="adj2" fmla="val 62756"/>
            </a:avLst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2FA-BEEE-4F8D-9023-D18326E6B9E6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3F8A1-8B7D-477E-BC18-43600DAF12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-168" t="7312" r="-168" b="5493"/>
          <a:stretch/>
        </p:blipFill>
        <p:spPr>
          <a:xfrm>
            <a:off x="1998720" y="0"/>
            <a:ext cx="714528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9C9-3130-4464-8914-7EA9752E37D5}" type="slidenum">
              <a:t>7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7BCE7-70B2-4D9B-8412-D70554D682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ело Купань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0" t="0" r="0" b="8611"/>
          <a:stretch/>
        </p:blipFill>
        <p:spPr>
          <a:xfrm>
            <a:off x="2616120" y="1116000"/>
            <a:ext cx="4541760" cy="55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C75-4472-4E3D-ADE3-12138D95B14E}" type="slidenum">
              <a:t>7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CA6D3-24AE-4431-820F-9C10B0BA75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осёлок Купанское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rcRect l="28487" t="0" r="4416" b="0"/>
          <a:stretch/>
        </p:blipFill>
        <p:spPr>
          <a:xfrm>
            <a:off x="3076560" y="2260440"/>
            <a:ext cx="5857920" cy="38102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rcRect l="17859" t="0" r="6070" b="5087"/>
          <a:stretch/>
        </p:blipFill>
        <p:spPr>
          <a:xfrm>
            <a:off x="222120" y="1574640"/>
            <a:ext cx="2705400" cy="45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6F8-2700-459F-A277-A4E1C0D765DB}" type="slidenum">
              <a:t>7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9641A-9570-4ED8-A4DA-950697211B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ело Криушкино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rcRect l="0" t="6696" r="0" b="0"/>
          <a:stretch/>
        </p:blipFill>
        <p:spPr>
          <a:xfrm>
            <a:off x="2706840" y="1136520"/>
            <a:ext cx="448596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2FE-C126-415B-A37F-5556986CDC98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B6865-D8DD-42BB-BD22-DF7B39E11A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. Талицы, музей паровозов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68200" y="1752480"/>
            <a:ext cx="86202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874-9F6D-4BBE-8030-52B2001D4F77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423FD-FBF1-4197-9A65-E06DA196E4A8}" type="datetime1">
              <a:rPr lang="en-US"/>
              <a:t>07/31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заимодействие с другими операторами связ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520" y="1483920"/>
            <a:ext cx="73407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ст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тЛай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рТК (филиал «Центртелекома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5D5-70B3-4C16-9E4C-490D96E6CAF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FB83B-4382-4C82-AFDE-929AD64E0C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Текущее состояние контент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сомненное признание в России: 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botik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r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сто и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25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ерверов в номинации «Универсальные» —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ПОКАЗ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родской портал —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ПОКАЗ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ициативные серверы и служб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ровые серв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B49-538F-49C0-A102-C19473F513F1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6B236-CE2C-47D6-BA6B-284A04248C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51200" y="476280"/>
            <a:ext cx="71928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щита от злоумышленников (защита от кражи трафика и д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щита от сетевых ат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щита от виру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4BD-FFA7-4304-9402-8C46F78E2445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F9850-60A3-4EE5-A7B6-E429FE51D91E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Еще пример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6474" b="0"/>
          <a:stretch/>
        </p:blipFill>
        <p:spPr>
          <a:xfrm>
            <a:off x="4645080" y="1628640"/>
            <a:ext cx="4174920" cy="4453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4920" y="148428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211640" y="3645000"/>
            <a:ext cx="1297080" cy="360360"/>
          </a:xfrm>
          <a:prstGeom prst="rightArrow">
            <a:avLst>
              <a:gd name="adj1" fmla="val 44491"/>
              <a:gd name="adj2" fmla="val 62756"/>
            </a:avLst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547-8011-41E2-BD35-23DE4718E20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6C73B-038B-405E-8F26-E16C28A013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51200" y="404280"/>
            <a:ext cx="719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br>
              <a:rPr sz="48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1 Защита от вир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51200" y="549000"/>
            <a:ext cx="7192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br>
              <a:rPr sz="54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щита от сетевых ат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51200" y="1413000"/>
            <a:ext cx="719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3 Защита от злоумышленников (защита от кражи трафика и др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ередача данных в Сет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кеты данных и передача паке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 больших объемов данных как передача набор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нование в Сет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2.168.40.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anshee.pereslav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б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</a:t>
            </a:r>
            <a:r>
              <a:rPr b="0" lang="ru-RU" sz="3200" spc="-1" strike="noStrike">
                <a:solidFill>
                  <a:srgbClr val="000000"/>
                </a:solidFill>
                <a:latin typeface="Arrows1"/>
                <a:ea typeface="Arrows1"/>
              </a:rPr>
              <a:t>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90B-DA89-4980-89EF-FD8EA77A00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82A87-F0A9-4B11-AB04-55E59D78B26D}" type="datetime1">
              <a:rPr lang="en-US"/>
              <a:t>07/31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deja G. Khimshiashvili</cp:lastModifiedBy>
  <dcterms:modified xsi:type="dcterms:W3CDTF">2009-02-19T13:25:25Z</dcterms:modified>
  <cp:revision>297</cp:revision>
  <dc:subject/>
  <dc:title>PowerPoint Presentation</dc:title>
</cp:coreProperties>
</file>