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3.jpeg" ContentType="image/jpeg"/>
  <Override PartName="/ppt/media/image15.png" ContentType="image/png"/>
  <Override PartName="/ppt/media/image9.wmf" ContentType="image/x-wmf"/>
  <Override PartName="/ppt/media/image14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8.wmf" ContentType="image/x-wmf"/>
  <Override PartName="/ppt/media/image31.jpeg" ContentType="image/jpeg"/>
  <Override PartName="/ppt/media/image2.png" ContentType="image/png"/>
  <Override PartName="/ppt/media/image25.png" ContentType="image/png"/>
  <Override PartName="/ppt/media/image4.wmf" ContentType="image/x-wmf"/>
  <Override PartName="/ppt/media/image27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1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1.png" ContentType="image/png"/>
  <Override PartName="/ppt/media/image1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9DA-7F49-45CE-961E-6668688C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9C9-706F-4D47-803C-0CC7FCAD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239-071B-4D6F-BF86-80EF38F8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049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765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13372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049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765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9DC0-14AA-4201-8288-6012C4FB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444B-65E7-4920-A395-CA0563EE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32C3-F6C3-477C-BE91-FED2DFEF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496D-D35F-411F-835D-2046DC67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4298-EB78-44B7-B43F-A0C8D08E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C778-BF02-4757-AD5E-E46DFA5E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133360" y="1023480"/>
            <a:ext cx="7010280" cy="11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1B65-164D-4E49-9A27-A255D422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B37A-7077-4D1C-B3A5-39C281D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776-2F27-4A0D-9497-C0EB893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ADBC-178A-457C-90A0-5956EE6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E6AD-881C-418E-B6C6-03E03461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63D1-5AFB-4736-A771-AB9F46CB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5A2-123B-4ADE-A8A1-FAEEA1CA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049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76560" y="373356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13372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049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76560" y="4768200"/>
            <a:ext cx="21628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F299-4242-4CF8-AD5F-36235412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FE4-B758-4B92-8E2F-84D3181D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010-C4BF-4A3A-8FFC-3E7D4EE2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A24-30E9-45BC-BE8A-84C4A01C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33360" y="1023480"/>
            <a:ext cx="7010280" cy="1115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6AB-4371-4905-A72F-E3A16567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4F7-F178-4A7A-A353-DA3E4D7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76400" y="476820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8F4-5946-4DB3-913D-57237CA9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72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6400" y="3733560"/>
            <a:ext cx="32785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720" y="4768200"/>
            <a:ext cx="67183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0913-52DA-4329-A8BD-913151FC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3880" y="6388200"/>
            <a:ext cx="19051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C270-66D3-4B97-9EB5-71C98B06837A}" type="datetime">
              <a:rPr b="0" lang="ru-RU" sz="1000" spc="-1" strike="noStrike">
                <a:solidFill>
                  <a:srgbClr val="3366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3660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58196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2368-68CC-4117-95DC-838B0330333C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422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0480" y="117360"/>
            <a:ext cx="1090440" cy="1255680"/>
            <a:chOff x="150480" y="117360"/>
            <a:chExt cx="1090440" cy="1255680"/>
          </a:xfrm>
        </p:grpSpPr>
        <p:sp>
          <p:nvSpPr>
            <p:cNvPr id="6" name=""/>
            <p:cNvSpPr/>
            <p:nvPr/>
          </p:nvSpPr>
          <p:spPr>
            <a:xfrm flipH="1">
              <a:off x="748800" y="117360"/>
              <a:ext cx="269280" cy="122760"/>
            </a:xfrm>
            <a:custGeom>
              <a:avLst/>
              <a:gdLst/>
              <a:ahLst/>
              <a:rect l="l" t="t" r="r" b="b"/>
              <a:pathLst>
                <a:path w="493" h="225">
                  <a:moveTo>
                    <a:pt x="34" y="183"/>
                  </a:moveTo>
                  <a:cubicBezTo>
                    <a:pt x="52" y="168"/>
                    <a:pt x="73" y="144"/>
                    <a:pt x="106" y="132"/>
                  </a:cubicBezTo>
                  <a:cubicBezTo>
                    <a:pt x="139" y="120"/>
                    <a:pt x="190" y="127"/>
                    <a:pt x="232" y="114"/>
                  </a:cubicBezTo>
                  <a:cubicBezTo>
                    <a:pt x="285" y="99"/>
                    <a:pt x="317" y="78"/>
                    <a:pt x="358" y="54"/>
                  </a:cubicBezTo>
                  <a:cubicBezTo>
                    <a:pt x="421" y="18"/>
                    <a:pt x="471" y="0"/>
                    <a:pt x="493" y="21"/>
                  </a:cubicBezTo>
                  <a:lnTo>
                    <a:pt x="490" y="183"/>
                  </a:lnTo>
                  <a:lnTo>
                    <a:pt x="469" y="183"/>
                  </a:lnTo>
                  <a:lnTo>
                    <a:pt x="466" y="129"/>
                  </a:lnTo>
                  <a:cubicBezTo>
                    <a:pt x="451" y="123"/>
                    <a:pt x="408" y="138"/>
                    <a:pt x="376" y="147"/>
                  </a:cubicBezTo>
                  <a:cubicBezTo>
                    <a:pt x="344" y="153"/>
                    <a:pt x="328" y="171"/>
                    <a:pt x="274" y="183"/>
                  </a:cubicBezTo>
                  <a:cubicBezTo>
                    <a:pt x="229" y="191"/>
                    <a:pt x="144" y="173"/>
                    <a:pt x="91" y="180"/>
                  </a:cubicBezTo>
                  <a:cubicBezTo>
                    <a:pt x="38" y="187"/>
                    <a:pt x="9" y="225"/>
                    <a:pt x="0" y="225"/>
                  </a:cubicBezTo>
                  <a:lnTo>
                    <a:pt x="34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27560" y="984600"/>
              <a:ext cx="33120" cy="1738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150120" y="1084320"/>
              <a:ext cx="1090440" cy="288720"/>
            </a:xfrm>
            <a:custGeom>
              <a:avLst/>
              <a:gdLst/>
              <a:ahLst/>
              <a:rect l="l" t="t" r="r" b="b"/>
              <a:pathLst>
                <a:path w="1995" h="528">
                  <a:moveTo>
                    <a:pt x="0" y="0"/>
                  </a:moveTo>
                  <a:cubicBezTo>
                    <a:pt x="115" y="356"/>
                    <a:pt x="317" y="499"/>
                    <a:pt x="317" y="499"/>
                  </a:cubicBezTo>
                  <a:cubicBezTo>
                    <a:pt x="317" y="499"/>
                    <a:pt x="1350" y="528"/>
                    <a:pt x="1587" y="499"/>
                  </a:cubicBezTo>
                  <a:cubicBezTo>
                    <a:pt x="1747" y="470"/>
                    <a:pt x="1729" y="368"/>
                    <a:pt x="1741" y="323"/>
                  </a:cubicBezTo>
                  <a:cubicBezTo>
                    <a:pt x="1774" y="311"/>
                    <a:pt x="1754" y="315"/>
                    <a:pt x="1759" y="329"/>
                  </a:cubicBezTo>
                  <a:cubicBezTo>
                    <a:pt x="1764" y="343"/>
                    <a:pt x="1760" y="387"/>
                    <a:pt x="1769" y="408"/>
                  </a:cubicBezTo>
                  <a:cubicBezTo>
                    <a:pt x="1779" y="429"/>
                    <a:pt x="1776" y="446"/>
                    <a:pt x="1814" y="453"/>
                  </a:cubicBezTo>
                  <a:cubicBezTo>
                    <a:pt x="1814" y="453"/>
                    <a:pt x="1968" y="484"/>
                    <a:pt x="1995" y="453"/>
                  </a:cubicBezTo>
                  <a:cubicBezTo>
                    <a:pt x="1987" y="350"/>
                    <a:pt x="1981" y="314"/>
                    <a:pt x="1978" y="269"/>
                  </a:cubicBezTo>
                  <a:cubicBezTo>
                    <a:pt x="1909" y="257"/>
                    <a:pt x="1890" y="257"/>
                    <a:pt x="1855" y="242"/>
                  </a:cubicBezTo>
                  <a:cubicBezTo>
                    <a:pt x="1820" y="227"/>
                    <a:pt x="1776" y="204"/>
                    <a:pt x="1769" y="181"/>
                  </a:cubicBezTo>
                  <a:lnTo>
                    <a:pt x="1769" y="90"/>
                  </a:lnTo>
                  <a:lnTo>
                    <a:pt x="1522" y="86"/>
                  </a:lnTo>
                  <a:cubicBezTo>
                    <a:pt x="1475" y="93"/>
                    <a:pt x="1516" y="119"/>
                    <a:pt x="1486" y="134"/>
                  </a:cubicBezTo>
                  <a:cubicBezTo>
                    <a:pt x="1425" y="141"/>
                    <a:pt x="637" y="89"/>
                    <a:pt x="589" y="90"/>
                  </a:cubicBezTo>
                  <a:cubicBezTo>
                    <a:pt x="589" y="90"/>
                    <a:pt x="294" y="4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748800" y="124920"/>
              <a:ext cx="14400" cy="17388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288000" y="165960"/>
              <a:ext cx="952200" cy="953280"/>
            </a:xfrm>
            <a:custGeom>
              <a:avLst/>
              <a:gdLst/>
              <a:ahLst/>
              <a:rect l="l" t="t" r="r" b="b"/>
              <a:pathLst>
                <a:path w="1742" h="1743">
                  <a:moveTo>
                    <a:pt x="0" y="733"/>
                  </a:moveTo>
                  <a:cubicBezTo>
                    <a:pt x="59" y="1139"/>
                    <a:pt x="103" y="1266"/>
                    <a:pt x="295" y="1743"/>
                  </a:cubicBezTo>
                  <a:cubicBezTo>
                    <a:pt x="570" y="1471"/>
                    <a:pt x="1063" y="1443"/>
                    <a:pt x="1669" y="1639"/>
                  </a:cubicBezTo>
                  <a:cubicBezTo>
                    <a:pt x="1462" y="1155"/>
                    <a:pt x="1447" y="549"/>
                    <a:pt x="1742" y="0"/>
                  </a:cubicBezTo>
                  <a:cubicBezTo>
                    <a:pt x="369" y="0"/>
                    <a:pt x="7" y="696"/>
                    <a:pt x="0" y="7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17720" y="1231920"/>
            <a:ext cx="7226280" cy="2019240"/>
          </a:xfrm>
          <a:prstGeom prst="rect">
            <a:avLst/>
          </a:prstGeom>
          <a:gradFill rotWithShape="0">
            <a:gsLst>
              <a:gs pos="0">
                <a:srgbClr val="d6eaea"/>
              </a:gs>
              <a:gs pos="50000">
                <a:srgbClr val="99cccc"/>
              </a:gs>
              <a:gs pos="100000">
                <a:srgbClr val="d6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1333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830-586A-4E25-9C17-04818255EDF0}" type="datetime">
              <a:rPr b="0" lang="ru-RU" sz="1000" spc="-1" strike="noStrike">
                <a:solidFill>
                  <a:srgbClr val="336666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4203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620120" y="6388200"/>
            <a:ext cx="12189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43B0-A9CA-4575-A829-93621F412CB5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13840" y="1362240"/>
            <a:ext cx="1528920" cy="1758600"/>
            <a:chOff x="213840" y="1362240"/>
            <a:chExt cx="1528920" cy="1758600"/>
          </a:xfrm>
        </p:grpSpPr>
        <p:sp>
          <p:nvSpPr>
            <p:cNvPr id="55" name=""/>
            <p:cNvSpPr/>
            <p:nvPr/>
          </p:nvSpPr>
          <p:spPr>
            <a:xfrm flipH="1">
              <a:off x="1052280" y="1362240"/>
              <a:ext cx="377640" cy="172080"/>
            </a:xfrm>
            <a:custGeom>
              <a:avLst/>
              <a:gdLst/>
              <a:ahLst/>
              <a:rect l="l" t="t" r="r" b="b"/>
              <a:pathLst>
                <a:path w="493" h="225">
                  <a:moveTo>
                    <a:pt x="34" y="183"/>
                  </a:moveTo>
                  <a:cubicBezTo>
                    <a:pt x="52" y="168"/>
                    <a:pt x="73" y="144"/>
                    <a:pt x="106" y="132"/>
                  </a:cubicBezTo>
                  <a:cubicBezTo>
                    <a:pt x="139" y="120"/>
                    <a:pt x="190" y="127"/>
                    <a:pt x="232" y="114"/>
                  </a:cubicBezTo>
                  <a:cubicBezTo>
                    <a:pt x="285" y="99"/>
                    <a:pt x="317" y="78"/>
                    <a:pt x="358" y="54"/>
                  </a:cubicBezTo>
                  <a:cubicBezTo>
                    <a:pt x="421" y="18"/>
                    <a:pt x="471" y="0"/>
                    <a:pt x="493" y="21"/>
                  </a:cubicBezTo>
                  <a:lnTo>
                    <a:pt x="490" y="183"/>
                  </a:lnTo>
                  <a:lnTo>
                    <a:pt x="469" y="183"/>
                  </a:lnTo>
                  <a:lnTo>
                    <a:pt x="466" y="129"/>
                  </a:lnTo>
                  <a:cubicBezTo>
                    <a:pt x="451" y="123"/>
                    <a:pt x="408" y="138"/>
                    <a:pt x="376" y="147"/>
                  </a:cubicBezTo>
                  <a:cubicBezTo>
                    <a:pt x="344" y="153"/>
                    <a:pt x="328" y="171"/>
                    <a:pt x="274" y="183"/>
                  </a:cubicBezTo>
                  <a:cubicBezTo>
                    <a:pt x="229" y="191"/>
                    <a:pt x="144" y="173"/>
                    <a:pt x="91" y="180"/>
                  </a:cubicBezTo>
                  <a:cubicBezTo>
                    <a:pt x="38" y="187"/>
                    <a:pt x="9" y="225"/>
                    <a:pt x="0" y="225"/>
                  </a:cubicBezTo>
                  <a:lnTo>
                    <a:pt x="34" y="18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22400" y="2577240"/>
              <a:ext cx="46440" cy="24372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13480" y="2716560"/>
              <a:ext cx="1528920" cy="404280"/>
            </a:xfrm>
            <a:custGeom>
              <a:avLst/>
              <a:gdLst/>
              <a:ahLst/>
              <a:rect l="l" t="t" r="r" b="b"/>
              <a:pathLst>
                <a:path w="1995" h="528">
                  <a:moveTo>
                    <a:pt x="0" y="0"/>
                  </a:moveTo>
                  <a:cubicBezTo>
                    <a:pt x="115" y="356"/>
                    <a:pt x="317" y="499"/>
                    <a:pt x="317" y="499"/>
                  </a:cubicBezTo>
                  <a:cubicBezTo>
                    <a:pt x="317" y="499"/>
                    <a:pt x="1350" y="528"/>
                    <a:pt x="1587" y="499"/>
                  </a:cubicBezTo>
                  <a:cubicBezTo>
                    <a:pt x="1747" y="470"/>
                    <a:pt x="1729" y="368"/>
                    <a:pt x="1741" y="323"/>
                  </a:cubicBezTo>
                  <a:cubicBezTo>
                    <a:pt x="1774" y="311"/>
                    <a:pt x="1754" y="315"/>
                    <a:pt x="1759" y="329"/>
                  </a:cubicBezTo>
                  <a:cubicBezTo>
                    <a:pt x="1764" y="343"/>
                    <a:pt x="1760" y="387"/>
                    <a:pt x="1769" y="408"/>
                  </a:cubicBezTo>
                  <a:cubicBezTo>
                    <a:pt x="1779" y="429"/>
                    <a:pt x="1776" y="446"/>
                    <a:pt x="1814" y="453"/>
                  </a:cubicBezTo>
                  <a:cubicBezTo>
                    <a:pt x="1814" y="453"/>
                    <a:pt x="1968" y="484"/>
                    <a:pt x="1995" y="453"/>
                  </a:cubicBezTo>
                  <a:cubicBezTo>
                    <a:pt x="1987" y="350"/>
                    <a:pt x="1981" y="314"/>
                    <a:pt x="1978" y="269"/>
                  </a:cubicBezTo>
                  <a:cubicBezTo>
                    <a:pt x="1909" y="257"/>
                    <a:pt x="1890" y="257"/>
                    <a:pt x="1855" y="242"/>
                  </a:cubicBezTo>
                  <a:cubicBezTo>
                    <a:pt x="1820" y="227"/>
                    <a:pt x="1776" y="204"/>
                    <a:pt x="1769" y="181"/>
                  </a:cubicBezTo>
                  <a:lnTo>
                    <a:pt x="1769" y="90"/>
                  </a:lnTo>
                  <a:lnTo>
                    <a:pt x="1522" y="86"/>
                  </a:lnTo>
                  <a:cubicBezTo>
                    <a:pt x="1475" y="93"/>
                    <a:pt x="1516" y="119"/>
                    <a:pt x="1486" y="134"/>
                  </a:cubicBezTo>
                  <a:cubicBezTo>
                    <a:pt x="1425" y="141"/>
                    <a:pt x="637" y="89"/>
                    <a:pt x="589" y="90"/>
                  </a:cubicBezTo>
                  <a:cubicBezTo>
                    <a:pt x="589" y="90"/>
                    <a:pt x="294" y="45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052280" y="1372680"/>
              <a:ext cx="20520" cy="2437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07160" y="1430280"/>
              <a:ext cx="1334880" cy="1335240"/>
            </a:xfrm>
            <a:custGeom>
              <a:avLst/>
              <a:gdLst/>
              <a:ahLst/>
              <a:rect l="l" t="t" r="r" b="b"/>
              <a:pathLst>
                <a:path w="1742" h="1743">
                  <a:moveTo>
                    <a:pt x="0" y="733"/>
                  </a:moveTo>
                  <a:cubicBezTo>
                    <a:pt x="59" y="1139"/>
                    <a:pt x="103" y="1266"/>
                    <a:pt x="295" y="1743"/>
                  </a:cubicBezTo>
                  <a:cubicBezTo>
                    <a:pt x="570" y="1471"/>
                    <a:pt x="1063" y="1443"/>
                    <a:pt x="1669" y="1639"/>
                  </a:cubicBezTo>
                  <a:cubicBezTo>
                    <a:pt x="1462" y="1155"/>
                    <a:pt x="1447" y="549"/>
                    <a:pt x="1742" y="0"/>
                  </a:cubicBezTo>
                  <a:cubicBezTo>
                    <a:pt x="369" y="0"/>
                    <a:pt x="7" y="696"/>
                    <a:pt x="0" y="73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erners-Lee" TargetMode="External"/><Relationship Id="rId2" Type="http://schemas.openxmlformats.org/officeDocument/2006/relationships/hyperlink" Target="http://en.wikipedia.org/wiki/Berners-Lee" TargetMode="External"/><Relationship Id="rId3" Type="http://schemas.openxmlformats.org/officeDocument/2006/relationships/hyperlink" Target="http://en.wikipedia.org/wiki/Berners-Lee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andex.ru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hyperlink" Target="http://www.google.ru/" TargetMode="External"/><Relationship Id="rId4" Type="http://schemas.openxmlformats.org/officeDocument/2006/relationships/hyperlink" Target="http://lingvo.yandex.ru/" TargetMode="External"/><Relationship Id="rId5" Type="http://schemas.openxmlformats.org/officeDocument/2006/relationships/hyperlink" Target="http://en.wikipedia.org/" TargetMode="External"/><Relationship Id="rId6" Type="http://schemas.openxmlformats.org/officeDocument/2006/relationships/hyperlink" Target="http://ru.wikipedia.org/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botik.ru/~botik/tools/" TargetMode="External"/><Relationship Id="rId2" Type="http://schemas.openxmlformats.org/officeDocument/2006/relationships/hyperlink" Target="http://www.botik.ru/~botik/tools/" TargetMode="External"/><Relationship Id="rId3" Type="http://schemas.openxmlformats.org/officeDocument/2006/relationships/hyperlink" Target="http://www.botik.ru/~botik/tools/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hyperlink" Target="http://www.botik.ru/~botik/tester/" TargetMode="External"/><Relationship Id="rId4" Type="http://schemas.openxmlformats.org/officeDocument/2006/relationships/hyperlink" Target="http://www.botik.ru/~botik/tester/" TargetMode="External"/><Relationship Id="rId5" Type="http://schemas.openxmlformats.org/officeDocument/2006/relationships/hyperlink" Target="http://www.botik.ru/~botik/tester/" TargetMode="External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hyperlink" Target="http://www.botik.ru/~botik/key/" TargetMode="External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botik.ru/~botik/key/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botik.ru/~botik/look/" TargetMode="External"/><Relationship Id="rId2" Type="http://schemas.openxmlformats.org/officeDocument/2006/relationships/hyperlink" Target="http://www.botik.ru/~botik/look/" TargetMode="External"/><Relationship Id="rId3" Type="http://schemas.openxmlformats.org/officeDocument/2006/relationships/hyperlink" Target="http://www.botik.ru/~botik/look/" TargetMode="Externa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http://www.botik.ru/" TargetMode="External"/><Relationship Id="rId2" Type="http://schemas.openxmlformats.org/officeDocument/2006/relationships/hyperlink" Target="http://www.botik.ru/" TargetMode="External"/><Relationship Id="rId3" Type="http://schemas.openxmlformats.org/officeDocument/2006/relationships/hyperlink" Target="http://www.botik.ru/" TargetMode="External"/><Relationship Id="rId4" Type="http://schemas.openxmlformats.org/officeDocument/2006/relationships/hyperlink" Target="http://www.botik.ru/" TargetMode="External"/><Relationship Id="rId5" Type="http://schemas.openxmlformats.org/officeDocument/2006/relationships/hyperlink" Target="http://www.botik.ru/" TargetMode="External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76480" y="781200"/>
            <a:ext cx="7067520" cy="28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лайды к курсу лекций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ля Абонентов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 «Боти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Абрамов С. М.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ООО «Ботик-технологии»,</a:t>
            </a:r>
            <a:br>
              <a:rPr sz="3000"/>
            </a:br>
            <a:r>
              <a:rPr b="1" lang="ru-RU" sz="3000" spc="-1" strike="noStrike">
                <a:solidFill>
                  <a:srgbClr val="006666"/>
                </a:solidFill>
                <a:latin typeface="Arial"/>
              </a:rPr>
              <a:t>Переславль-Залесский</a:t>
            </a: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loud"/>
          <p:cNvSpPr/>
          <p:nvPr/>
        </p:nvSpPr>
        <p:spPr>
          <a:xfrm>
            <a:off x="663480" y="1413000"/>
            <a:ext cx="8012160" cy="5368680"/>
          </a:xfrm>
          <a:prstGeom prst="pie">
            <a:avLst/>
          </a:prstGeom>
          <a:solidFill>
            <a:srgbClr val="ffe0c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116000" y="4076280"/>
            <a:ext cx="1655640" cy="136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хождение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запро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aptop"/>
          <p:cNvSpPr/>
          <p:nvPr/>
        </p:nvSpPr>
        <p:spPr>
          <a:xfrm>
            <a:off x="395280" y="5445000"/>
            <a:ext cx="1368360" cy="1217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963080" y="3852720"/>
            <a:ext cx="1384920" cy="2897280"/>
            <a:chOff x="1963080" y="3852720"/>
            <a:chExt cx="1384920" cy="2897280"/>
          </a:xfrm>
        </p:grpSpPr>
        <p:sp>
          <p:nvSpPr>
            <p:cNvPr id="167" name="tower"/>
            <p:cNvSpPr/>
            <p:nvPr/>
          </p:nvSpPr>
          <p:spPr>
            <a:xfrm>
              <a:off x="2843280" y="543708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68" name="tower"/>
            <p:cNvSpPr/>
            <p:nvPr/>
          </p:nvSpPr>
          <p:spPr>
            <a:xfrm>
              <a:off x="284328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63080" y="479124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94760" y="6381720"/>
              <a:ext cx="7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811680" y="3852720"/>
            <a:ext cx="4349520" cy="1239840"/>
            <a:chOff x="3811680" y="3852720"/>
            <a:chExt cx="4349520" cy="1239840"/>
          </a:xfrm>
        </p:grpSpPr>
        <p:sp>
          <p:nvSpPr>
            <p:cNvPr id="172" name="tower"/>
            <p:cNvSpPr/>
            <p:nvPr/>
          </p:nvSpPr>
          <p:spPr>
            <a:xfrm>
              <a:off x="5219640" y="3852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11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ru”-DNS1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4" name="tower"/>
            <p:cNvSpPr/>
            <p:nvPr/>
          </p:nvSpPr>
          <p:spPr>
            <a:xfrm>
              <a:off x="6299280" y="38606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35680" y="3860640"/>
              <a:ext cx="13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ru”-DNS2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7400" y="5445000"/>
            <a:ext cx="4163400" cy="1239840"/>
            <a:chOff x="4937400" y="5445000"/>
            <a:chExt cx="4163400" cy="1239840"/>
          </a:xfrm>
        </p:grpSpPr>
        <p:sp>
          <p:nvSpPr>
            <p:cNvPr id="177" name="tower"/>
            <p:cNvSpPr/>
            <p:nvPr/>
          </p:nvSpPr>
          <p:spPr>
            <a:xfrm>
              <a:off x="6372360" y="544500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7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1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79" name="tower"/>
            <p:cNvSpPr/>
            <p:nvPr/>
          </p:nvSpPr>
          <p:spPr>
            <a:xfrm>
              <a:off x="7451640" y="54529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61400" y="5452920"/>
              <a:ext cx="113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“</a:t>
              </a: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nag.ru”</a:t>
              </a:r>
              <a:br>
                <a:rPr sz="1800"/>
              </a:b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DNS2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140360" y="1830240"/>
            <a:ext cx="2808000" cy="1238400"/>
            <a:chOff x="4140360" y="1830240"/>
            <a:chExt cx="2808000" cy="1238400"/>
          </a:xfrm>
        </p:grpSpPr>
        <p:sp>
          <p:nvSpPr>
            <p:cNvPr id="182" name="tower"/>
            <p:cNvSpPr/>
            <p:nvPr/>
          </p:nvSpPr>
          <p:spPr>
            <a:xfrm>
              <a:off x="414036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3" name="tower"/>
            <p:cNvSpPr/>
            <p:nvPr/>
          </p:nvSpPr>
          <p:spPr>
            <a:xfrm>
              <a:off x="471636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4" name="tower"/>
            <p:cNvSpPr/>
            <p:nvPr/>
          </p:nvSpPr>
          <p:spPr>
            <a:xfrm>
              <a:off x="5291280" y="183672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5" name="tower"/>
            <p:cNvSpPr/>
            <p:nvPr/>
          </p:nvSpPr>
          <p:spPr>
            <a:xfrm>
              <a:off x="5867280" y="1836720"/>
              <a:ext cx="50508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6" name="tower"/>
            <p:cNvSpPr/>
            <p:nvPr/>
          </p:nvSpPr>
          <p:spPr>
            <a:xfrm>
              <a:off x="6443640" y="1830240"/>
              <a:ext cx="504720" cy="123192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18200" y="2421000"/>
              <a:ext cx="227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66"/>
                  </a:solidFill>
                  <a:latin typeface="Tahoma"/>
                </a:rPr>
                <a:t>InterNIC root-DNS</a:t>
              </a:r>
              <a:endParaRPr b="0" lang="en-US" sz="1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5805360"/>
            <a:ext cx="1871640" cy="398880"/>
          </a:xfrm>
          <a:prstGeom prst="rect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Tahoma"/>
              </a:rPr>
              <a:t>ftp.nag.ru?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71640" y="2707920"/>
            <a:ext cx="1224000" cy="1297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924280"/>
            <a:ext cx="576360" cy="1009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653000"/>
            <a:ext cx="648000" cy="863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6021360"/>
            <a:ext cx="1871640" cy="67320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66"/>
                </a:solidFill>
                <a:latin typeface="Tahoma"/>
              </a:rPr>
              <a:t>ftp.nag.ru = </a:t>
            </a:r>
            <a:r>
              <a:rPr b="1" lang="en-US" sz="1800" spc="-1" strike="noStrike">
                <a:solidFill>
                  <a:srgbClr val="336666"/>
                </a:solidFill>
                <a:latin typeface="Tahoma"/>
              </a:rPr>
              <a:t>128.64.73.19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861-92CF-42DB-8032-90D0D9F1561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8EEC2-2DC9-4369-97F2-7F8F74ECE2DD}" type="datetime1">
              <a:rPr lang="en-US"/>
              <a:t>07/28/26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96296E-006 L 0.22448 -0.23889 E">
                                      <p:cBhvr>
                                        <p:cTn id="87" dur="3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48 -0.23896 L 0.36423 -0.51192 E">
                                      <p:cBhvr>
                                        <p:cTn id="9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423 -0.51192 L 0.48437 -0.21791 E">
                                      <p:cBhvr>
                                        <p:cTn id="10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37 -0.21791 L 0.61823 0.034 E">
                                      <p:cBhvr>
                                        <p:cTn id="12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1735 L -0.12587 -0.28661 E">
                                      <p:cBhvr>
                                        <p:cTn id="13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0.26926 L -0.2441 -0.5524 E">
                                      <p:cBhvr>
                                        <p:cTn id="13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819 -0.56327 L -0.38003 -0.30118 E">
                                      <p:cBhvr>
                                        <p:cTn id="14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95 -0.29031 L -0.59844 -0.04881 E">
                                      <p:cBhvr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796000" y="4797360"/>
            <a:ext cx="792000" cy="824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Е </a:t>
            </a:r>
            <a:r>
              <a:rPr b="1" lang="ru-RU" sz="1600" spc="-1" strike="noStrike">
                <a:solidFill>
                  <a:srgbClr val="336666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 4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429000"/>
            <a:ext cx="863640" cy="824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Е </a:t>
            </a:r>
            <a:r>
              <a:rPr b="1" lang="ru-RU" sz="1600" spc="-1" strike="noStrike">
                <a:solidFill>
                  <a:srgbClr val="336666"/>
                </a:solidFill>
                <a:latin typeface="Wingdings"/>
                <a:ea typeface="Wingdings"/>
              </a:rPr>
              <a:t></a:t>
            </a: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 3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1413000"/>
            <a:ext cx="863640" cy="95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Е </a:t>
            </a:r>
            <a:r>
              <a:rPr b="1" lang="ru-RU" sz="1400" spc="-1" strike="noStrike">
                <a:solidFill>
                  <a:srgbClr val="336666"/>
                </a:solidFill>
                <a:latin typeface="Wingdings"/>
                <a:ea typeface="Wingdings"/>
              </a:rPr>
              <a:t></a:t>
            </a: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 1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66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аршрутизация в Сет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1880" y="1980720"/>
            <a:ext cx="50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аблица маршрутизац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тель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а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использу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запол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обновля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д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е таблиц маршру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пазо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ов (первый номер и ма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292720" y="2003400"/>
            <a:ext cx="3672000" cy="2851200"/>
            <a:chOff x="5292720" y="2003400"/>
            <a:chExt cx="3672000" cy="2851200"/>
          </a:xfrm>
        </p:grpSpPr>
        <p:sp>
          <p:nvSpPr>
            <p:cNvPr id="199" name=""/>
            <p:cNvSpPr/>
            <p:nvPr/>
          </p:nvSpPr>
          <p:spPr>
            <a:xfrm>
              <a:off x="5292720" y="3009960"/>
              <a:ext cx="623880" cy="61416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А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746680" y="2525760"/>
              <a:ext cx="530280" cy="52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9440" y="3624120"/>
              <a:ext cx="360360" cy="61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16600" y="3363840"/>
              <a:ext cx="132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56360" y="2003400"/>
              <a:ext cx="62532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66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8120" y="3065400"/>
              <a:ext cx="625680" cy="614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80240" y="4240080"/>
              <a:ext cx="623880" cy="614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65960" y="3642840"/>
              <a:ext cx="871560" cy="76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4000" y="2554200"/>
              <a:ext cx="2653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6666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0840" y="4201920"/>
              <a:ext cx="623880" cy="615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6666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04120" y="4605120"/>
              <a:ext cx="181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91480" y="3560760"/>
              <a:ext cx="700200" cy="69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29440" y="299880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66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8720" y="3948120"/>
              <a:ext cx="264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66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364000" y="1557360"/>
            <a:ext cx="1008360" cy="649440"/>
          </a:xfrm>
          <a:prstGeom prst="rect">
            <a:avLst/>
          </a:prstGeom>
          <a:solidFill>
            <a:srgbClr val="99cccc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Tahoma"/>
              </a:rPr>
              <a:t>То: Е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4752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E39-69FB-4FF8-BCB8-0A2FA0CE02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32571-C23E-4A52-BA0D-3116775ECC1E}" type="datetime1">
              <a:rPr lang="en-US"/>
              <a:t>07/28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-0.09445 0.14166 E">
                                      <p:cBhvr>
                                        <p:cTn id="16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14166 L -0.01563 0.36226 E">
                                      <p:cBhvr>
                                        <p:cTn id="17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63 0.36226 L 0.25989 0.36226 E">
                                      <p:cBhvr>
                                        <p:cTn id="181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76120" y="574560"/>
            <a:ext cx="701028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2 Настройка Се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подклю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нка с прин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ция «Параметр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68C-02B6-4365-AE6F-DE126DEBDED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6D8C1-D0D7-40FF-95E3-AE0435FE2E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90520" y="1393920"/>
            <a:ext cx="85694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C03-18E2-4B87-A257-7382FA44546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617C5-9AB1-4E93-86D0-13A3E1544C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стройка сетевых параметров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чная настройка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показать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смесь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HCP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 ручной настройки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показать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C8D-C53D-4E3B-AC1A-5A69EE5C2D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8D481-2D02-4D5E-A6AD-4CCDCD94E7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46240" y="538200"/>
            <a:ext cx="7097760" cy="55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.3 Сетевые прил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— всемирная информационная паутин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62012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 и и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ертексты и гиперресурсы – тексты (ресурсы), ссылающиеся на другие гипертексты (гипер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брауз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869-8747-4CAF-864D-AAA319E141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598BB-97A8-499A-B996-1D3A8BF78C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Идея, изменившая мир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62012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ель WWW, Тим Бернерс Ли, в 2004г. получи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4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€1,000,00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inland's Millennium Technology Prize (премия "Технология тысячелетия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6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5,000,0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премия Чарльза Старка Дрей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угие пре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en.wikipedia.org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/wiki/Berners-Lee</a:t>
            </a:r>
            <a:br>
              <a:rPr sz="3000"/>
            </a:b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7B0-A8F4-48BB-809D-4FBA185C31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A2E4-666C-4032-9C12-4641000577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— всемирная информационная паутин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2600" y="1833480"/>
            <a:ext cx="8715240" cy="25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20840" y="2862360"/>
            <a:ext cx="5689440" cy="676080"/>
          </a:xfrm>
          <a:prstGeom prst="leftArrow">
            <a:avLst>
              <a:gd name="adj1" fmla="val 49769"/>
              <a:gd name="adj2" fmla="val 15225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-6480" y="1805040"/>
            <a:ext cx="8418600" cy="2125080"/>
            <a:chOff x="-6480" y="1805040"/>
            <a:chExt cx="8418600" cy="2125080"/>
          </a:xfrm>
        </p:grpSpPr>
        <p:graphicFrame>
          <p:nvGraphicFramePr>
            <p:cNvPr id="231" name=""/>
            <p:cNvGraphicFramePr/>
            <p:nvPr/>
          </p:nvGraphicFramePr>
          <p:xfrm>
            <a:off x="301680" y="2660400"/>
            <a:ext cx="1042920" cy="961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1680" y="2660400"/>
                      <a:ext cx="1042920" cy="96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3" name=""/>
            <p:cNvGraphicFramePr/>
            <p:nvPr/>
          </p:nvGraphicFramePr>
          <p:xfrm>
            <a:off x="6964200" y="1957320"/>
            <a:ext cx="1447920" cy="1972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64200" y="1957320"/>
                      <a:ext cx="1447920" cy="19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"/>
            <p:cNvSpPr/>
            <p:nvPr/>
          </p:nvSpPr>
          <p:spPr>
            <a:xfrm>
              <a:off x="-6480" y="1805040"/>
              <a:ext cx="619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Работа напрямую (мим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XY)</a:t>
              </a:r>
              <a:endParaRPr b="0" lang="en-US" sz="28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320840" y="2260440"/>
            <a:ext cx="5803920" cy="677880"/>
          </a:xfrm>
          <a:prstGeom prst="rightArrow">
            <a:avLst>
              <a:gd name="adj1" fmla="val 49880"/>
              <a:gd name="adj2" fmla="val 142381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7159680" y="2763720"/>
            <a:ext cx="606240" cy="782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170840" y="2774880"/>
            <a:ext cx="606240" cy="7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D81-F493-4849-8337-5ADD8827A0D5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E76A8-55BF-4D70-94D8-2874014334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6809E-006 L -0.69445 0.00162 E">
                                      <p:cBhvr>
                                        <p:cTn id="229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6809E-006 L -0.69445 0.00162 E">
                                      <p:cBhvr>
                                        <p:cTn id="233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нятия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ройка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е при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P-телеф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7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BAE-DA39-4F42-99E8-393DAEA9D4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BCFD3-2367-4896-81B4-294B48E4C88F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3246480" y="2189160"/>
          <a:ext cx="2205000" cy="22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6480" y="2189160"/>
                    <a:ext cx="2205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WW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— всемирная информационная паутин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23520" y="4755960"/>
            <a:ext cx="762012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cache — прокси-кэ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ем 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рой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а в брауз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4243320"/>
            <a:ext cx="6489720" cy="569880"/>
          </a:xfrm>
          <a:prstGeom prst="wedgeRectCallout">
            <a:avLst>
              <a:gd name="adj1" fmla="val 26638"/>
              <a:gd name="adj2" fmla="val 224375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ясно как? Поищем в ЧаВО!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1280" y="2441520"/>
            <a:ext cx="2370240" cy="676440"/>
          </a:xfrm>
          <a:prstGeom prst="leftArrow">
            <a:avLst>
              <a:gd name="adj1" fmla="val 49769"/>
              <a:gd name="adj2" fmla="val 633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68120" y="1951200"/>
          <a:ext cx="104328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120" y="1951200"/>
                    <a:ext cx="10432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7415280" y="1901880"/>
          <a:ext cx="1447560" cy="1973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15280" y="1901880"/>
                    <a:ext cx="144756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-6480" y="1461960"/>
            <a:ext cx="61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чере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20840" y="1917720"/>
            <a:ext cx="2451240" cy="677880"/>
          </a:xfrm>
          <a:prstGeom prst="rightArrow">
            <a:avLst>
              <a:gd name="adj1" fmla="val 49880"/>
              <a:gd name="adj2" fmla="val 6013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21080" y="4248000"/>
            <a:ext cx="5586480" cy="570240"/>
          </a:xfrm>
          <a:prstGeom prst="wedgeRectCallout">
            <a:avLst>
              <a:gd name="adj1" fmla="val -37949"/>
              <a:gd name="adj2" fmla="val 154458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ясно? Поищем в ЧаВО!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25360" y="3235320"/>
          <a:ext cx="104292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5360" y="3235320"/>
                    <a:ext cx="1042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230480" y="3514680"/>
            <a:ext cx="2369880" cy="676440"/>
          </a:xfrm>
          <a:prstGeom prst="leftArrow">
            <a:avLst>
              <a:gd name="adj1" fmla="val 49769"/>
              <a:gd name="adj2" fmla="val 633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09680" y="2990880"/>
            <a:ext cx="2451240" cy="677880"/>
          </a:xfrm>
          <a:prstGeom prst="rightArrow">
            <a:avLst>
              <a:gd name="adj1" fmla="val 49880"/>
              <a:gd name="adj2" fmla="val 6013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88080" y="2859120"/>
            <a:ext cx="2369880" cy="676080"/>
          </a:xfrm>
          <a:prstGeom prst="leftArrow">
            <a:avLst>
              <a:gd name="adj1" fmla="val 49769"/>
              <a:gd name="adj2" fmla="val 6342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 (файл)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67280" y="2335320"/>
            <a:ext cx="2451240" cy="677880"/>
          </a:xfrm>
          <a:prstGeom prst="rightArrow">
            <a:avLst>
              <a:gd name="adj1" fmla="val 49880"/>
              <a:gd name="adj2" fmla="val 6013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7837560" y="2668680"/>
            <a:ext cx="606240" cy="782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008600" y="2743200"/>
            <a:ext cx="606240" cy="782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4008600" y="2744640"/>
            <a:ext cx="606240" cy="7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AB2-F38C-4F1F-BAFC-25070701B9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ED702-55B4-4639-960D-6CC543E2ED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2858E-006 L -0.41719 0.00833 E">
                                      <p:cBhvr>
                                        <p:cTn id="255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20167E-006 L -0.39253 -0.08395 E">
                                      <p:cBhvr>
                                        <p:cTn id="26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0278 L -0.38733 0.10222 E">
                                      <p:cBhvr>
                                        <p:cTn id="29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есурсы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для новичков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исковые систе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yandex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ww.ramble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www.googl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ловари (толковые и перевод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lingvo.yandex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en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ru.wikipedia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1D3-DFB0-425E-A986-9F09D58E34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F2747-7AB6-4E0B-ADDA-7D2D7985E8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рес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r@mail-do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ресные пол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тирование (щадящее и чрезмерно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36A-3FD3-494A-A679-3DE3A9D2664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716A6-C8BE-41C6-9DA4-F161ECBB5C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т пис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ский тек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/ил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ding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ис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I8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-12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F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ME: 8bit, Quoted Pri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5E8-954D-4257-9F0A-36B96E50FA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71BDC-EC5B-448E-9D7E-396FC6B8FF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ложения в пись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мер в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э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8C3-AD9A-41DE-B05E-B337089A52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C1D18-9AAD-400F-9B58-3CDB5D3597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272880" y="2025720"/>
          <a:ext cx="855360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2025720"/>
                    <a:ext cx="85536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 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— электронная почт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33000" y="1510920"/>
            <a:ext cx="61484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TP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послать письм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3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— доступ к почтовому ящ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88000" y="3895560"/>
            <a:ext cx="4267080" cy="2924280"/>
            <a:chOff x="4788000" y="3895560"/>
            <a:chExt cx="4267080" cy="2924280"/>
          </a:xfrm>
        </p:grpSpPr>
        <p:sp>
          <p:nvSpPr>
            <p:cNvPr id="274" name=""/>
            <p:cNvSpPr/>
            <p:nvPr/>
          </p:nvSpPr>
          <p:spPr>
            <a:xfrm>
              <a:off x="4788000" y="5280120"/>
              <a:ext cx="2641680" cy="129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13760" y="3895560"/>
              <a:ext cx="2641320" cy="292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496960" y="4645080"/>
            <a:ext cx="2538720" cy="1873080"/>
            <a:chOff x="2496960" y="4645080"/>
            <a:chExt cx="2538720" cy="1873080"/>
          </a:xfrm>
        </p:grpSpPr>
        <p:sp>
          <p:nvSpPr>
            <p:cNvPr id="277" name=""/>
            <p:cNvSpPr/>
            <p:nvPr/>
          </p:nvSpPr>
          <p:spPr>
            <a:xfrm>
              <a:off x="2496960" y="4645080"/>
              <a:ext cx="1900440" cy="18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4200" y="5332320"/>
              <a:ext cx="2481480" cy="57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511360" y="2932200"/>
            <a:ext cx="3641760" cy="1030320"/>
            <a:chOff x="2511360" y="2932200"/>
            <a:chExt cx="3641760" cy="1030320"/>
          </a:xfrm>
        </p:grpSpPr>
        <p:sp>
          <p:nvSpPr>
            <p:cNvPr id="280" name=""/>
            <p:cNvSpPr/>
            <p:nvPr/>
          </p:nvSpPr>
          <p:spPr>
            <a:xfrm>
              <a:off x="2511360" y="2932200"/>
              <a:ext cx="277200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81480" y="3193920"/>
              <a:ext cx="2771640" cy="5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072-2CBA-4635-894D-41FE8F137ED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3C8E9-97F9-49B6-8A68-F076796EF5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3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279360" y="2025720"/>
          <a:ext cx="855360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025720"/>
                    <a:ext cx="85536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3960" y="1535040"/>
            <a:ext cx="7329600" cy="1625760"/>
          </a:xfrm>
          <a:prstGeom prst="wedgeRectCallout">
            <a:avLst>
              <a:gd name="adj1" fmla="val -12615"/>
              <a:gd name="adj2" fmla="val 84472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мпьютер вне СТ «Ботик», то требуется имя и пароль — использовать те же, что и дл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0760" y="1417680"/>
            <a:ext cx="6734160" cy="2716200"/>
          </a:xfrm>
          <a:prstGeom prst="wedgeRectCallout">
            <a:avLst>
              <a:gd name="adj1" fmla="val -16643"/>
              <a:gd name="adj2" fmla="val 83254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 имени пользователя: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p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a,pap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,!papa,!mama%abc.pereslavl.ru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486080" y="1415880"/>
            <a:ext cx="6748200" cy="2352960"/>
          </a:xfrm>
          <a:prstGeom prst="wedgeRectCallout">
            <a:avLst>
              <a:gd name="adj1" fmla="val -16499"/>
              <a:gd name="adj2" fmla="val 103847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доступе: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мя пользова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ет шаблон выбора писем.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а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ля всех вариантов выбора один и тот же.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6800" y="1473120"/>
            <a:ext cx="8650440" cy="1467000"/>
          </a:xfrm>
          <a:prstGeom prst="wedgeRectCallout">
            <a:avLst>
              <a:gd name="adj1" fmla="val 7513"/>
              <a:gd name="adj2" fmla="val 232361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ая организация в СТ «Ботик» доступа 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ящику — храним письма для многих пользователей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abc.pereslavl.r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Доступ к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 в СТ «Ботик»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3960" y="1436760"/>
            <a:ext cx="7329600" cy="1001520"/>
          </a:xfrm>
          <a:prstGeom prst="wedgeRectCallout">
            <a:avLst>
              <a:gd name="adj1" fmla="val -13199"/>
              <a:gd name="adj2" fmla="val 178050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компьютер в СТ «Ботик», то не требуется авторизации (имя/пароль)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A97-0F11-4425-A489-4841019122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3ED03-A066-4C1A-9F3A-ABD4258A36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и Услу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исок подключ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онка с прин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кция «Параметры для ..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+POP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2C1-BCD3-4779-B735-0F178FE14A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7E2F8-C631-407E-B0C6-66A426AECD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040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651640" y="4149720"/>
            <a:ext cx="1512720" cy="142920"/>
          </a:xfrm>
          <a:prstGeom prst="rect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931-54C2-42C9-B34E-BD1E982C9D5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24949-0B3D-4E96-81FE-1285C73D3D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Листочек с настройкам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6080" y="1836720"/>
            <a:ext cx="9097920" cy="424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6E6-1F99-40CD-8514-3C0461FE6A3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789B7-7F62-4994-B577-994632AF34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 «Ботик» сегодн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январь 2000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говор, Прейскурант, Рег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бонент и его услу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кет программ Botik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Nadmin::Абон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е с персоналом Опер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7E3-9F6A-4623-AA92-C5E8AE6F78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F2F3B-265F-45CD-8C95-24C937D7C656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ругие сетевые приложения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IP-телефония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oogle Earth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8D8-E68E-4AC8-95F3-5FA05F5CD30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CD3CA-C299-4A90-9A41-C793879E903C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искуссия в форум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133720" y="3733560"/>
            <a:ext cx="6718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зумные аспекты дискусси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зможность обанкротить абонента с реальным IP-номером и/или с почтой в СТ «Ботик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оже было в сотовых сетях России, до принятия закона «платит звонящ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бор ситуации: «входящий/исходящий трафик — платный/бесплатный» и «кто из двоих должен платить за пакет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 передачи дан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динально не похож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елефо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от провода у всех удивительно похо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019-F801-4CD0-815F-20BBA60A548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16B3D-8785-45B2-A93C-6E5796B105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зумные аспекты дискусси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гда и кому нужен реальный IP-номер (Антон Карп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3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можн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ерва посмотреть заголовки, а потом решать — качать письмо или нет (но письма все равно приняты, оплатить придетс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гда придется платить за уже переданные для Вас письма и траф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рог блокировки не блокирует  ни почту, ни входящи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афик для реальны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м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97E-193A-4306-992F-3596C13CF27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9A904-54BB-47CB-8339-C3BBC06566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зумные аспекты дискусси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39720" y="1612800"/>
            <a:ext cx="84693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казывается абонентом Ботика быть опасно, или надо отказываться от почты и не использовать реальный IP. Может есть ещё какие-то опасности, о которых ещё не поздно узнать новичку? Не планирует ли Ботик попытаться решить эту проблему? Botik Key мог бы сообщать о статусе машины и блокировать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реальна опас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яжелом случае с ботиками можно договориться о блокировании (почты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а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Операторов связи и защита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лости в Сети — уже уголовно наказуемое престу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разделение «К» и СОРМ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459-BA19-434A-83C7-27713E4A206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9D752-4A33-46E5-931A-CC1FC92742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33360" y="1023480"/>
            <a:ext cx="70102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 «Бот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Основные сведения для Абонентов СТ «Ботик»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 и его услуг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, Прейскурант, Регла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кет программ Botik T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Nadmin::Абон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заимодействие с персоналом Опер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 «Ботик» сегодня (январь 2007 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DE1-F999-4400-9693-908B12998AC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2FF8B-BA74-442E-95ED-E1EBF5CA4BBD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51200" y="246240"/>
            <a:ext cx="7192800" cy="52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1 Абонент и его услу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724280"/>
            <a:ext cx="6192720" cy="1513080"/>
          </a:xfrm>
          <a:prstGeom prst="rightArrow">
            <a:avLst>
              <a:gd name="adj1" fmla="val 50000"/>
              <a:gd name="adj2" fmla="val 102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Абонент и его услуг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99760" y="1211040"/>
            <a:ext cx="7364520" cy="56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 — Сторона, подписавшая Догов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ьзовате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риятие — услугами пользуются сотру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ое лицо — услугами пользуются члены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 дает право Абоненту запрашивать (заявкой) услуги и/или отказываться от каких-либо услу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C87-9ACC-4227-A4DF-5679AD741109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AFE01-AFD3-46F7-B3D1-65AB78E83B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Услуги Абонента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о Прейскуранту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62012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 не фиксирует сколько и каких услуг будет у Абон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 любого Абонента может быть любое количество любых услу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ом числе — ни 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2F1-2EA5-4A6D-88AB-B44B2F92122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8A7C6-C3A9-4E09-95D0-9D069922B0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рограмма курс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. Информационная безопасность— защита от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ых ат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оумышленников (защита от кражи трафик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465-25CD-4FE0-B796-EEB203ED79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2AD42-DAD9-4E97-95A2-FDC26BE8DD35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992160" y="1612800"/>
            <a:ext cx="8151840" cy="49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истрационные и консультационные услуги административной групп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уги-подключения одиночных машин и сетей Абонента — цепочки из ключевых сло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IALU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LI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лематические усл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-R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HO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P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уги группы технической поддержки (консультации и ремонты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ни за просрочку оплаты платеж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5170320"/>
            <a:ext cx="8839440" cy="143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— услуга по организации телематической услуги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а по использованию — абонентская плат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фик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и по переключению, изменению режимов и параметров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440" y="3670200"/>
            <a:ext cx="8839440" cy="143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ультации и поддержк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ы на площадке Оператор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ы с выездом к Абоненту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ые услуги группы технической поддержки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600" y="4221000"/>
            <a:ext cx="8839080" cy="143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— услуга по организации подключения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а по использованию — абонентская плат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афик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уги по переключению, изменению режимов и параметров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9920" y="2516040"/>
            <a:ext cx="8839080" cy="378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страция учетных данных об Абоненте в базе данных Оператора в Системе Nadmin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формление (печать, подписание) Абонентского Договор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чать счетов-фактур и их доставк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чать по заявкам Абонентов счетов для авансовых платежей и их доставк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нсультации по содержанию документов из абонентского комплекта (Договор, Прейскурант, Регламент)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бор претензий по расчетам за услуги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ем по телефону заявок от имени Абонента в системе Nadmin::Абонента</a:t>
            </a:r>
            <a:endParaRPr b="0" lang="en-US" sz="2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лассы услуг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7F4-568C-455A-9F6F-45263E136F5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17F14-2A58-4EEB-A544-F2F55A4A6E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2 Договор, Прейскурант, Регл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бумажный экземпляр с подписями и печа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основные понятия, права и обязанности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йскурант и Регламен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только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е — для каждого Абонента сво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затрудняемся ответить на общий вопрос «А сколько стоит у Вас ...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гут изменяться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изменения Оператор должен за две недели предупред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F6F-564D-4119-899F-BC1DD7BBF68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B3793-82FC-4851-B8D6-241016AA70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йскура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ен в электронной форме в системе Nadmin::Абон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пересмотрен Опера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перечень услуг, доступных в рамках данного Договора, и тарифы на их использование (цен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165-763F-4BCA-B085-3F3D312D141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2570-69F2-453C-8B19-8E77F02841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гламен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ен в электронной форме в системе Nadmin::Абонен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пересмотрен Операт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ывает для каждой услуги технические подробности, сроки, ТТ и ТУ, условия и обязанности Сторон, показатели качества и способы их измерения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01B-F771-4FD9-80BE-07FB08D58E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E8E87-31C7-4DF9-8323-FC16A5759C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омплект документов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гламент для каждой Услуги определя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ие требования и технические условия предоставления Услуги, в том числе условия возможности предоставления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я и обязанности, которые должны выполнять Оператор и Абонент при оказании Оператором Абоненту данной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и качества Услуги, технические средства и процедуры контроля качества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E92-6680-4150-9229-2D27612C428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8AF2A-0ACD-409B-98CF-15FF837578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 Пакет програм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Botik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724280"/>
            <a:ext cx="6192720" cy="1513080"/>
          </a:xfrm>
          <a:prstGeom prst="rightArrow">
            <a:avLst>
              <a:gd name="adj1" fmla="val 50000"/>
              <a:gd name="adj2" fmla="val 102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акет программ Botik Tool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Tes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делает  простой и быстрой (как «раз, два, три») процедуру тщательного тестирования и точной диагностики качества связи в СТ «Бо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Ke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лиентская часть системы подтверждения права доступа Абонента к Сети —самозванцу не просто выдать свой компьютер за компьютер добросовестного Абон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Loo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предназначена для просмотра детальной информации о сеансах связи Абонента, анализа расходов за пользование услугами СТ «Ботик» и выявления причин наибольши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otik M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карта СТ «Ботик» — специализированная векторная карта, на которой в реальном масштабе времени Абоненты смогут увидеть состояние СТ «Бот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botik.ru/~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botik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/too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1303200" y="148104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303200" y="240984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1303200" y="3681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1305000" y="484488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E34-620C-425A-800B-B1F70944569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8044B-3AB5-4F52-85F5-5CDAD76356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51200" y="25992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Boti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327320" y="3882960"/>
            <a:ext cx="5079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513640" y="38880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0" y="2165400"/>
            <a:ext cx="9144000" cy="46400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929240" y="1496880"/>
            <a:ext cx="52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http://www.botik.ru/~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botik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/tester/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373-1B8B-48B0-9218-A8D9F8BBD611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92216-5E64-45AF-BA06-7B66C25EC7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95120" y="1184400"/>
            <a:ext cx="6931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. Введение для пользователей сети Интерн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1 О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новные понятия TCP/I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e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6201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ребуетс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жалоба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требуе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елать, если невозмож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стройка Botik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ster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готовь сани летом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-сер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араметры тестир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ный хост — трассировать и доб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писание отч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зов бриг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8513640" y="38880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907-AB59-4820-9CDA-27D980D453FD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FB2DF-56AB-44BD-AFAC-3E831A9921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51200" y="18864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Boti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281240" y="3814920"/>
            <a:ext cx="507960" cy="63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523880" y="2003400"/>
            <a:ext cx="5569200" cy="1343160"/>
          </a:xfrm>
          <a:prstGeom prst="rightArrow">
            <a:avLst>
              <a:gd name="adj1" fmla="val 50000"/>
              <a:gd name="adj2" fmla="val 1036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, 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6742080" y="1557360"/>
          <a:ext cx="2205000" cy="223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42080" y="1557360"/>
                    <a:ext cx="2205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360360" y="2133720"/>
            <a:ext cx="1042920" cy="2236320"/>
            <a:chOff x="360360" y="2133720"/>
            <a:chExt cx="1042920" cy="2236320"/>
          </a:xfrm>
        </p:grpSpPr>
        <p:pic>
          <p:nvPicPr>
            <p:cNvPr id="356" name="" descr=""/>
            <p:cNvPicPr/>
            <p:nvPr/>
          </p:nvPicPr>
          <p:blipFill>
            <a:blip r:embed="rId4"/>
            <a:srcRect l="9148" t="14611" r="10833" b="0"/>
            <a:stretch/>
          </p:blipFill>
          <p:spPr>
            <a:xfrm>
              <a:off x="417600" y="3146400"/>
              <a:ext cx="927000" cy="12236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57" name=""/>
            <p:cNvGraphicFramePr/>
            <p:nvPr/>
          </p:nvGraphicFramePr>
          <p:xfrm>
            <a:off x="360360" y="2133720"/>
            <a:ext cx="1042920" cy="96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360" y="2133720"/>
                      <a:ext cx="104292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9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,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2003400"/>
            <a:ext cx="5569200" cy="1343160"/>
          </a:xfrm>
          <a:prstGeom prst="rightArrow">
            <a:avLst>
              <a:gd name="adj1" fmla="val 50000"/>
              <a:gd name="adj2" fmla="val 1036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,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WORLD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, 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3880" y="2004840"/>
            <a:ext cx="5569200" cy="1343160"/>
          </a:xfrm>
          <a:prstGeom prst="rightArrow">
            <a:avLst>
              <a:gd name="adj1" fmla="val 50000"/>
              <a:gd name="adj2" fmla="val 1036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ponse, LOCAL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ff0066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989000"/>
            <a:ext cx="5569200" cy="1373400"/>
          </a:xfrm>
          <a:prstGeom prst="leftArrow">
            <a:avLst>
              <a:gd name="adj1" fmla="val 50000"/>
              <a:gd name="adj2" fmla="val 101376"/>
            </a:avLst>
          </a:prstGeom>
          <a:solidFill>
            <a:srgbClr val="0000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SSAGE …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16120" y="23860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3B9-FEA4-4AFD-BBF4-DC82B67B177D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A71E5-C140-4918-B2FD-7C73E3556F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4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0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ей-сервер и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твет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respon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 запросом доступа к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уск в Сет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тказ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R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йтральные информационные со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жим доступа (регион доступа) в запросе на доступ к Се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ароль и ключ доступ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и где заводит паро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енные па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доступа (регион доступа) у пароля (ключа) дост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лю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323-DE47-40F5-956D-580E00BD50E4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6F510-2D91-4EFF-B1FD-53D1B3F001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152280" y="1479600"/>
            <a:ext cx="1079640" cy="1333440"/>
          </a:xfrm>
          <a:prstGeom prst="rect">
            <a:avLst/>
          </a:prstGeom>
          <a:ln w="0">
            <a:noFill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152280" y="2886120"/>
            <a:ext cx="5211720" cy="3998880"/>
          </a:xfrm>
          <a:prstGeom prst="rect">
            <a:avLst/>
          </a:prstGeom>
          <a:ln w="0">
            <a:noFill/>
          </a:ln>
          <a:effectLst>
            <a:outerShdw dist="63504" dir="13983909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6022800" y="1479600"/>
            <a:ext cx="2980080" cy="2198520"/>
          </a:xfrm>
          <a:prstGeom prst="rect">
            <a:avLst/>
          </a:prstGeom>
          <a:ln w="0">
            <a:noFill/>
          </a:ln>
          <a:effectLst>
            <a:outerShdw dist="71785" dir="135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4716360" y="4129200"/>
            <a:ext cx="4286520" cy="2755800"/>
          </a:xfrm>
          <a:prstGeom prst="rect">
            <a:avLst/>
          </a:prstGeom>
          <a:ln w="0">
            <a:noFill/>
          </a:ln>
          <a:effectLst>
            <a:outerShdw dist="71785" dir="135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78" name=""/>
          <p:cNvSpPr/>
          <p:nvPr/>
        </p:nvSpPr>
        <p:spPr>
          <a:xfrm>
            <a:off x="1440000" y="1268280"/>
            <a:ext cx="44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http://www.botik.ru/~botik/key/</a:t>
            </a: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4724280"/>
            <a:ext cx="6192720" cy="1513080"/>
          </a:xfrm>
          <a:prstGeom prst="rightArrow">
            <a:avLst>
              <a:gd name="adj1" fmla="val 50000"/>
              <a:gd name="adj2" fmla="val 102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DC0-929A-4F16-89FE-54026CA05CF6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87E9E-5F99-430A-9ECF-61E38A5AAE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Ke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это важ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это нужно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 программы, документация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botik.ru/~botik/key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tik Key P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8439120" y="436680"/>
            <a:ext cx="50796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606-F99E-452A-AD6C-093161197CC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A759-7305-43AB-B07E-40792541B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51200" y="25992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Botik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378080" y="3971880"/>
            <a:ext cx="507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Look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298000" y="441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468360" y="1415880"/>
            <a:ext cx="8470800" cy="5440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0" y="62784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Arial"/>
              </a:rPr>
              <a:t>http://www.botik.ru/~botik/look/</a:t>
            </a:r>
            <a:endParaRPr b="0" lang="en-US" sz="32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A82-9E49-4D93-81C7-35F67E7EEA2B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3BE39-85BF-4E1B-B00D-1D7851A6F2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Botik Look (синхронизация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904080" y="1479600"/>
          <a:ext cx="2205000" cy="22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080" y="1479600"/>
                    <a:ext cx="2205000" cy="22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233280" y="1974960"/>
          <a:ext cx="104292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1974960"/>
                    <a:ext cx="10429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8172360" y="2676600"/>
          <a:ext cx="50328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2676600"/>
                    <a:ext cx="503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28560" y="2676600"/>
          <a:ext cx="50328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8560" y="2676600"/>
                    <a:ext cx="50328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"/>
          <p:cNvSpPr/>
          <p:nvPr/>
        </p:nvSpPr>
        <p:spPr>
          <a:xfrm>
            <a:off x="1619280" y="2160720"/>
            <a:ext cx="5614920" cy="1268280"/>
          </a:xfrm>
          <a:prstGeom prst="rightArrow">
            <a:avLst>
              <a:gd name="adj1" fmla="val 50000"/>
              <a:gd name="adj2" fmla="val 110680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бонент, пользователь, пароль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19280" y="2163600"/>
            <a:ext cx="5614920" cy="1262160"/>
          </a:xfrm>
          <a:prstGeom prst="leftArrow">
            <a:avLst>
              <a:gd name="adj1" fmla="val 50000"/>
              <a:gd name="adj2" fmla="val 111216"/>
            </a:avLst>
          </a:prstGeom>
          <a:solidFill>
            <a:srgbClr val="99cc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статистику имею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9"/>
          <a:stretch/>
        </p:blipFill>
        <p:spPr>
          <a:xfrm>
            <a:off x="8456760" y="549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619280" y="2160720"/>
            <a:ext cx="5614920" cy="1268280"/>
          </a:xfrm>
          <a:prstGeom prst="rightArrow">
            <a:avLst>
              <a:gd name="adj1" fmla="val 50000"/>
              <a:gd name="adj2" fmla="val 110680"/>
            </a:avLst>
          </a:prstGeom>
          <a:solidFill>
            <a:srgbClr val="cc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 новой информации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3944880"/>
            <a:ext cx="6408720" cy="1068480"/>
          </a:xfrm>
          <a:prstGeom prst="wedgeRectCallout">
            <a:avLst>
              <a:gd name="adj1" fmla="val -38777"/>
              <a:gd name="adj2" fmla="val -101560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ое хранилище статистики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87640" y="5157720"/>
            <a:ext cx="6156360" cy="1511280"/>
          </a:xfrm>
          <a:prstGeom prst="wedgeRectCallout">
            <a:avLst>
              <a:gd name="adj1" fmla="val 38449"/>
              <a:gd name="adj2" fmla="val -166282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рая статистика систем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dmin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3280" y="4508640"/>
            <a:ext cx="5167440" cy="322200"/>
            <a:chOff x="233280" y="4508640"/>
            <a:chExt cx="5167440" cy="322200"/>
          </a:xfrm>
        </p:grpSpPr>
        <p:sp>
          <p:nvSpPr>
            <p:cNvPr id="405" name=""/>
            <p:cNvSpPr/>
            <p:nvPr/>
          </p:nvSpPr>
          <p:spPr>
            <a:xfrm>
              <a:off x="23328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640" y="4508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0964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48000" y="4508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600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24360" y="4508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62360" y="4508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168720" y="5300640"/>
            <a:ext cx="2952720" cy="322200"/>
            <a:chOff x="3168720" y="5300640"/>
            <a:chExt cx="2952720" cy="322200"/>
          </a:xfrm>
        </p:grpSpPr>
        <p:sp>
          <p:nvSpPr>
            <p:cNvPr id="413" name=""/>
            <p:cNvSpPr/>
            <p:nvPr/>
          </p:nvSpPr>
          <p:spPr>
            <a:xfrm>
              <a:off x="3168720" y="5300640"/>
              <a:ext cx="73800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06720" y="5300640"/>
              <a:ext cx="738360" cy="322200"/>
            </a:xfrm>
            <a:prstGeom prst="rect">
              <a:avLst/>
            </a:prstGeom>
            <a:solidFill>
              <a:srgbClr val="99cccc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645080" y="5300640"/>
              <a:ext cx="1476360" cy="322200"/>
              <a:chOff x="4645080" y="5300640"/>
              <a:chExt cx="1476360" cy="322200"/>
            </a:xfrm>
          </p:grpSpPr>
          <p:sp>
            <p:nvSpPr>
              <p:cNvPr id="416" name=""/>
              <p:cNvSpPr/>
              <p:nvPr/>
            </p:nvSpPr>
            <p:spPr>
              <a:xfrm>
                <a:off x="4645080" y="5300640"/>
                <a:ext cx="738000" cy="3222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383080" y="5300640"/>
                <a:ext cx="738360" cy="32220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645080" y="5300640"/>
            <a:ext cx="1476360" cy="322200"/>
            <a:chOff x="4645080" y="5300640"/>
            <a:chExt cx="1476360" cy="322200"/>
          </a:xfrm>
        </p:grpSpPr>
        <p:sp>
          <p:nvSpPr>
            <p:cNvPr id="419" name=""/>
            <p:cNvSpPr/>
            <p:nvPr/>
          </p:nvSpPr>
          <p:spPr>
            <a:xfrm>
              <a:off x="4645080" y="5300640"/>
              <a:ext cx="73800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83080" y="5300640"/>
              <a:ext cx="73836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619280" y="2163600"/>
            <a:ext cx="5614920" cy="1262160"/>
          </a:xfrm>
          <a:prstGeom prst="leftArrow">
            <a:avLst>
              <a:gd name="adj1" fmla="val 50000"/>
              <a:gd name="adj2" fmla="val 111216"/>
            </a:avLst>
          </a:prstGeom>
          <a:solidFill>
            <a:srgbClr val="99cc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662360" y="4508640"/>
            <a:ext cx="1476360" cy="322200"/>
            <a:chOff x="4662360" y="4508640"/>
            <a:chExt cx="1476360" cy="322200"/>
          </a:xfrm>
        </p:grpSpPr>
        <p:sp>
          <p:nvSpPr>
            <p:cNvPr id="423" name=""/>
            <p:cNvSpPr/>
            <p:nvPr/>
          </p:nvSpPr>
          <p:spPr>
            <a:xfrm>
              <a:off x="4662360" y="4508640"/>
              <a:ext cx="73800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00360" y="4508640"/>
              <a:ext cx="738360" cy="32220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2B5-3124-441D-81D2-058847855A1F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3F717-9E15-40EF-A5AD-4B88D6E19D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6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33025E-007 L -0.00209 -0.11772 E">
                                      <p:cBhvr>
                                        <p:cTn id="67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00"/>
                            </p:stCondLst>
                            <p:childTnLst>
                              <p:par>
                                <p:cTn id="6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Look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ырая статис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окальное хранилище сырой статис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нхронизация с сервер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всегда удачная (почему так бывает?) — повтор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ще делаете — быстрее дел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нхронизация по распис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8298000" y="441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53C-BBC1-4BFE-9DA6-EA0DE085FAE4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45B31-399B-4AE2-8FB2-5318DDC134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658880"/>
            <a:ext cx="359424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злы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334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334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ентские ма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3344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шру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2286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2286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22860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243320" y="1611360"/>
            <a:ext cx="4599000" cy="4608360"/>
            <a:chOff x="4243320" y="1611360"/>
            <a:chExt cx="4599000" cy="4608360"/>
          </a:xfrm>
        </p:grpSpPr>
        <p:sp>
          <p:nvSpPr>
            <p:cNvPr id="108" name=""/>
            <p:cNvSpPr/>
            <p:nvPr/>
          </p:nvSpPr>
          <p:spPr>
            <a:xfrm>
              <a:off x="4243320" y="2459160"/>
              <a:ext cx="136440" cy="1253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68760" y="1957320"/>
              <a:ext cx="346320" cy="1116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1040" y="3711600"/>
              <a:ext cx="34920" cy="13809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377960" y="3036960"/>
              <a:ext cx="1428840" cy="704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88080" y="3036960"/>
              <a:ext cx="1012680" cy="7048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68960" y="1611360"/>
              <a:ext cx="1735200" cy="8049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773760" y="2652840"/>
              <a:ext cx="38160" cy="10620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6800760" y="2416320"/>
              <a:ext cx="2013120" cy="1325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83120" y="3675240"/>
              <a:ext cx="2003400" cy="20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748720" y="2397240"/>
              <a:ext cx="93600" cy="12160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50160" y="3659040"/>
              <a:ext cx="9720" cy="15908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427800" y="3730680"/>
              <a:ext cx="347760" cy="1346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419880" y="4382640"/>
              <a:ext cx="1434960" cy="6937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19880" y="5040360"/>
              <a:ext cx="2340000" cy="2016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7833960" y="5203800"/>
              <a:ext cx="934920" cy="10159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труктура Сет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43040" y="2378160"/>
            <a:ext cx="7310520" cy="2950920"/>
            <a:chOff x="743040" y="2378160"/>
            <a:chExt cx="7310520" cy="2950920"/>
          </a:xfrm>
        </p:grpSpPr>
        <p:sp>
          <p:nvSpPr>
            <p:cNvPr id="125" name=""/>
            <p:cNvSpPr/>
            <p:nvPr/>
          </p:nvSpPr>
          <p:spPr>
            <a:xfrm>
              <a:off x="4167360" y="4836960"/>
              <a:ext cx="51408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39120" y="4170240"/>
              <a:ext cx="51444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43720" y="2378160"/>
              <a:ext cx="51444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3040" y="2570040"/>
              <a:ext cx="514440" cy="4921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17560" y="2212920"/>
            <a:ext cx="8164440" cy="3202200"/>
            <a:chOff x="817560" y="2212920"/>
            <a:chExt cx="8164440" cy="3202200"/>
          </a:xfrm>
        </p:grpSpPr>
        <p:sp>
          <p:nvSpPr>
            <p:cNvPr id="130" name=""/>
            <p:cNvSpPr/>
            <p:nvPr/>
          </p:nvSpPr>
          <p:spPr>
            <a:xfrm>
              <a:off x="817560" y="399564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2560" y="353844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7240" y="286236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605640" y="355752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57880" y="491976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570880" y="5065560"/>
              <a:ext cx="365040" cy="3495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534520" y="348444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2212920"/>
              <a:ext cx="365040" cy="349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66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512720"/>
            <a:ext cx="4075200" cy="534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9680" y="5433840"/>
            <a:ext cx="3714840" cy="621000"/>
          </a:xfrm>
          <a:prstGeom prst="borderCallout2">
            <a:avLst>
              <a:gd name="adj1" fmla="val 18750"/>
              <a:gd name="adj2" fmla="val -8333"/>
              <a:gd name="adj3" fmla="val 18412"/>
              <a:gd name="adj4" fmla="val 103504"/>
              <a:gd name="adj5" fmla="val -244499"/>
              <a:gd name="adj6" fmla="val 108078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ередача пакетов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440" y="1317600"/>
            <a:ext cx="3759480" cy="847800"/>
          </a:xfrm>
          <a:prstGeom prst="borderCallout2">
            <a:avLst>
              <a:gd name="adj1" fmla="val 18750"/>
              <a:gd name="adj2" fmla="val -8333"/>
              <a:gd name="adj3" fmla="val 13481"/>
              <a:gd name="adj4" fmla="val 112162"/>
              <a:gd name="adj5" fmla="val 242694"/>
              <a:gd name="adj6" fmla="val 144638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 данным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ложить маршрут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55560" y="1219320"/>
            <a:ext cx="7575480" cy="5524560"/>
            <a:chOff x="655560" y="1219320"/>
            <a:chExt cx="7575480" cy="5524560"/>
          </a:xfrm>
        </p:grpSpPr>
        <p:graphicFrame>
          <p:nvGraphicFramePr>
            <p:cNvPr id="142" name=""/>
            <p:cNvGraphicFramePr/>
            <p:nvPr/>
          </p:nvGraphicFramePr>
          <p:xfrm>
            <a:off x="3686040" y="1969920"/>
            <a:ext cx="1043280" cy="96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86040" y="1969920"/>
                      <a:ext cx="104328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4956120" y="1428840"/>
            <a:ext cx="1042920" cy="961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6120" y="1428840"/>
                      <a:ext cx="104292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6235560" y="1219320"/>
            <a:ext cx="1043280" cy="961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35560" y="1219320"/>
                      <a:ext cx="1043280" cy="96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7188120" y="5781600"/>
            <a:ext cx="1042920" cy="96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88120" y="5781600"/>
                      <a:ext cx="1042920" cy="9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655560" y="3124080"/>
            <a:ext cx="687600" cy="63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5560" y="3124080"/>
                      <a:ext cx="687600" cy="63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2" name=""/>
          <p:cNvSpPr/>
          <p:nvPr/>
        </p:nvSpPr>
        <p:spPr>
          <a:xfrm>
            <a:off x="93600" y="3076560"/>
            <a:ext cx="3714840" cy="1400040"/>
          </a:xfrm>
          <a:prstGeom prst="borderCallout2">
            <a:avLst>
              <a:gd name="adj1" fmla="val 18750"/>
              <a:gd name="adj2" fmla="val -8333"/>
              <a:gd name="adj3" fmla="val 8162"/>
              <a:gd name="adj4" fmla="val 103375"/>
              <a:gd name="adj5" fmla="val 13263"/>
              <a:gd name="adj6" fmla="val 107476"/>
            </a:avLst>
          </a:prstGeom>
          <a:solidFill>
            <a:srgbClr val="ffff9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Разбить на пакеты (чтобы не было монополии на канал)</a:t>
            </a:r>
            <a:endParaRPr b="0" lang="en-US" sz="2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7040" y="2935440"/>
            <a:ext cx="4602240" cy="2877840"/>
          </a:xfrm>
          <a:custGeom>
            <a:avLst/>
            <a:gdLst/>
            <a:ahLst/>
            <a:rect l="l" t="t" r="r" b="b"/>
            <a:pathLst>
              <a:path w="2899" h="1813">
                <a:moveTo>
                  <a:pt x="60" y="0"/>
                </a:moveTo>
                <a:cubicBezTo>
                  <a:pt x="57" y="96"/>
                  <a:pt x="0" y="472"/>
                  <a:pt x="45" y="576"/>
                </a:cubicBezTo>
                <a:cubicBezTo>
                  <a:pt x="90" y="680"/>
                  <a:pt x="157" y="679"/>
                  <a:pt x="330" y="626"/>
                </a:cubicBezTo>
                <a:cubicBezTo>
                  <a:pt x="503" y="573"/>
                  <a:pt x="877" y="256"/>
                  <a:pt x="1084" y="256"/>
                </a:cubicBezTo>
                <a:cubicBezTo>
                  <a:pt x="1291" y="256"/>
                  <a:pt x="1452" y="556"/>
                  <a:pt x="1574" y="626"/>
                </a:cubicBezTo>
                <a:cubicBezTo>
                  <a:pt x="1696" y="696"/>
                  <a:pt x="1634" y="683"/>
                  <a:pt x="1816" y="675"/>
                </a:cubicBezTo>
                <a:cubicBezTo>
                  <a:pt x="1998" y="667"/>
                  <a:pt x="2492" y="569"/>
                  <a:pt x="2669" y="576"/>
                </a:cubicBezTo>
                <a:cubicBezTo>
                  <a:pt x="2846" y="583"/>
                  <a:pt x="2853" y="585"/>
                  <a:pt x="2876" y="718"/>
                </a:cubicBezTo>
                <a:cubicBezTo>
                  <a:pt x="2899" y="851"/>
                  <a:pt x="2879" y="1189"/>
                  <a:pt x="2805" y="1372"/>
                </a:cubicBezTo>
                <a:cubicBezTo>
                  <a:pt x="2731" y="1555"/>
                  <a:pt x="2512" y="1721"/>
                  <a:pt x="2435" y="1813"/>
                </a:cubicBezTo>
              </a:path>
            </a:pathLst>
          </a:custGeom>
          <a:noFill/>
          <a:ln cap="rnd" w="127080">
            <a:solidFill>
              <a:srgbClr val="99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A4E-ABD3-4476-9FBD-5E9D7E6FD2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30A4C-75D6-4246-9296-336A6F42B959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Botik Look 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бор категорий и периода време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и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йлы (чере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X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мотрим в жиз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айт программы, документация:</a:t>
            </a:r>
            <a:br>
              <a:rPr sz="3000"/>
            </a:b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botik.ru/~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botik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/look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8298000" y="44136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35B-C7D7-4D80-9A91-10EADE1F3C3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F12AE-DC1A-4140-BE0E-37240A3EC3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4 Система Nadmin::Абонен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admin </a:t>
            </a: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ход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 — главное, что Абонент должен знать и помни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овные разделы... Посмотрим в жизни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E1F-30FE-4175-9020-00F43077F66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73EE3-E7AF-4F5F-BBD7-F9C6DC1FA8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5 Взаимодействие с персоналом Операт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заимодействие с персоналом Оператор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явки 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боненту — если есть хоть какая-то техническая возмож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лефон 98-033 — прием заявок (вовсе не решение проблем и не «терапия по телефону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ерапия по телефону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-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ы «7х24» как правило обман покупателя, психо/маркетинговый ход—не наш стил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FA2-C279-4426-9BE6-F54F7B029B97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A2DDE-B743-4807-A5BB-013F60FDE1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Главные принципы при подаче заявк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дна жалоба — одна заявка.  Две жалобы — две заявки. 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ждая жалоба — в своем раздел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кретность жалоб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ть все сведения, что у Вас запрошен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ак? А если будет не т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380-4DE7-4C3A-983A-7648664E1618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71F2A-5EE3-421D-B831-417FDDFCD5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бота с системой заявок в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admin::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Абоненту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вайте посмотрим, как это выглядит в жизни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005-486C-4C81-8E95-36DAD48D0CE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D8E67-0E38-49D2-973C-03AD39C47F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51200" y="601200"/>
            <a:ext cx="719280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 Основные сведения для Абонентов СТ «Ботик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6 СТ «Ботик» сегодн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январь 2007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2006 – сегодняшний день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44084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ее 4000 компьютеров; более 1700 Абон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150 — юридически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1600 — семьи переславц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90% подключе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е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e-F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гистраль микрорайон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itched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00Base-FX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магистраль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bon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itche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00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e-F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тойчивость к плохому электропит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1A4-3E98-4D65-8E78-1C76EA4105A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830F-F6BE-4EB7-B4F6-3FFB1576D157}" type="datetime1">
              <a:rPr lang="en-US"/>
              <a:t>07/28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2007 – сегодняшний день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44084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органы власти, все школы, все учебные заведения (а значит, все учащиес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се микрорайоны плотной застрой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ступ к Сети (оценка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оло 5–7 тысяч жителей, то есть 10–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ктически вся молодежь и, в целом, самая активная часть (и экономически состоятельная часть) насе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620-FE1A-40CC-A190-6C878824D57B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D4F5F-DC53-41B8-AF33-2EBD3F69A158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имер из жизни (1997 год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9660"/>
          <a:stretch/>
        </p:blipFill>
        <p:spPr>
          <a:xfrm>
            <a:off x="1116000" y="1052640"/>
            <a:ext cx="6840720" cy="56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780-F1C7-4302-8B54-5DFA0F643A5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791AA-0515-44FA-BF02-2C527F471740}" type="datetime1">
              <a:rPr lang="en-US"/>
              <a:t>07/28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Проверено (10 лет): работает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rcRect l="0" t="0" r="6474" b="0"/>
          <a:stretch/>
        </p:blipFill>
        <p:spPr>
          <a:xfrm>
            <a:off x="4645080" y="1628640"/>
            <a:ext cx="4174920" cy="44532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211640" y="3645000"/>
            <a:ext cx="1297080" cy="360360"/>
          </a:xfrm>
          <a:prstGeom prst="rightArrow">
            <a:avLst>
              <a:gd name="adj1" fmla="val 44491"/>
              <a:gd name="adj2" fmla="val 62756"/>
            </a:avLst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6AF-1636-4E4A-91E0-B9A4805A5CCC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60764-8EC3-40A3-A46C-F2EAD7AEBC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rcRect l="-168" t="7312" r="-168" b="5493"/>
          <a:stretch/>
        </p:blipFill>
        <p:spPr>
          <a:xfrm>
            <a:off x="1998720" y="0"/>
            <a:ext cx="7145280" cy="68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D16-FF31-4E55-87AF-19B3EAE68EA9}" type="slidenum">
              <a:t>7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95D1A-C366-4F0F-91A8-F474BBC4BA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ело Купань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rcRect l="0" t="0" r="0" b="8611"/>
          <a:stretch/>
        </p:blipFill>
        <p:spPr>
          <a:xfrm>
            <a:off x="2616120" y="1116000"/>
            <a:ext cx="45417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C80-ADC7-4C5D-ABFD-7B503457F1C5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772D4-6C99-42F4-AE1B-B4B9235B9B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осёлок Купанское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rcRect l="28487" t="0" r="4416" b="0"/>
          <a:stretch/>
        </p:blipFill>
        <p:spPr>
          <a:xfrm>
            <a:off x="3076560" y="2260440"/>
            <a:ext cx="5857920" cy="38102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rcRect l="17859" t="0" r="6070" b="5087"/>
          <a:stretch/>
        </p:blipFill>
        <p:spPr>
          <a:xfrm>
            <a:off x="222120" y="1574640"/>
            <a:ext cx="2705400" cy="45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4D6-3B5A-40ED-8917-E2A9EBE5377F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7C094-9D62-4470-A6E2-34CCD4D110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ело Криушкино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rcRect l="0" t="6696" r="0" b="0"/>
          <a:stretch/>
        </p:blipFill>
        <p:spPr>
          <a:xfrm>
            <a:off x="2706840" y="1136520"/>
            <a:ext cx="4485960" cy="531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436-5DDA-4BEF-8C44-51F4932A495F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3EBFC-5976-412E-A567-7381CC2D49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. Талицы, музей паровозов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68200" y="1752480"/>
            <a:ext cx="86202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977-4162-4042-B0D4-B9C73F26D332}" type="slidenum">
              <a:t>7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F93E2-9BFA-489D-BB66-E5EEB01FFB0B}" type="datetime1">
              <a:rPr lang="en-US"/>
              <a:t>07/28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заимодействие с другими операторами связи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23520" y="1483920"/>
            <a:ext cx="73407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ст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тЛай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ЯрТК (филиал «Центртелекома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73B1-CE58-457A-83F9-2292417588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905D0-A01F-4853-BB49-B36B587850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Текущее состояние контент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523520" y="1612800"/>
            <a:ext cx="7340760" cy="52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сомненное признание в России: 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botik</a:t>
            </a:r>
            <a:r>
              <a:rPr b="0" lang="ru-RU" sz="3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r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место и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254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ерверов в номинации «Универсальные» —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ОКАЗ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ородской портал — </a:t>
            </a:r>
            <a:r>
              <a:rPr b="1" lang="ru-RU" sz="3000" spc="-1" strike="noStrike">
                <a:solidFill>
                  <a:srgbClr val="cc0000"/>
                </a:solidFill>
                <a:latin typeface="Arial"/>
              </a:rPr>
              <a:t>ПОКАЗ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ициативные серверы и служб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гровые серв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6FE-E345-435C-AB7F-0DD47FB905F8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1CB24-20BA-4F4E-A95C-829F4E7918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51200" y="476280"/>
            <a:ext cx="71928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щита от злоумышленников (защита от кражи трафика и др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щита от сетевых ата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щита от виру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F091-2220-4FC8-9863-437966981D12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CA7C6-3096-40C4-B5C6-A5DDE8C8002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Еще пример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6474" b="0"/>
          <a:stretch/>
        </p:blipFill>
        <p:spPr>
          <a:xfrm>
            <a:off x="4645080" y="1628640"/>
            <a:ext cx="4174920" cy="445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453708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211640" y="3645000"/>
            <a:ext cx="1297080" cy="360360"/>
          </a:xfrm>
          <a:prstGeom prst="rightArrow">
            <a:avLst>
              <a:gd name="adj1" fmla="val 44491"/>
              <a:gd name="adj2" fmla="val 62756"/>
            </a:avLst>
          </a:prstGeom>
          <a:solidFill>
            <a:srgbClr val="ffff99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91D-43A0-48C5-B857-A1E28CA8239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16748-84AA-4263-92F3-3FFEC27CF9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51200" y="404280"/>
            <a:ext cx="7192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br>
              <a:rPr sz="48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1 Защита от вир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51200" y="549000"/>
            <a:ext cx="7192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br>
              <a:rPr sz="54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3.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щита от сетевых ат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51200" y="1413000"/>
            <a:ext cx="7192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Информационная безопасность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3 Защита от злоумышленников (защита от кражи трафика и др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2816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Передача данных в Сети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520" y="1612440"/>
            <a:ext cx="734076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акеты данных и передача паке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 больших объемов данных как передача набор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нование в Сет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2.168.40.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anshee.pereslavl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жб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я </a:t>
            </a:r>
            <a:r>
              <a:rPr b="0" lang="ru-RU" sz="3200" spc="-1" strike="noStrike">
                <a:solidFill>
                  <a:srgbClr val="000000"/>
                </a:solidFill>
                <a:latin typeface="Arrows1"/>
                <a:ea typeface="Arrows1"/>
              </a:rPr>
              <a:t>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07F8-12EB-4D9B-93CA-6CD7553429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49F8B-2EAF-432D-9402-4BE11AB54C46}" type="datetime1">
              <a:rPr lang="en-US"/>
              <a:t>07/28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deja G. Khimshiashvili</cp:lastModifiedBy>
  <dcterms:modified xsi:type="dcterms:W3CDTF">2009-02-19T13:25:25Z</dcterms:modified>
  <cp:revision>297</cp:revision>
  <dc:subject/>
  <dc:title>PowerPoint Presentation</dc:title>
</cp:coreProperties>
</file>