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8.png" ContentType="image/png"/>
  <Override PartName="/ppt/media/image21.jpeg" ContentType="image/jpeg"/>
  <Override PartName="/ppt/media/image16.jpeg" ContentType="image/jpeg"/>
  <Override PartName="/ppt/media/image27.png" ContentType="image/png"/>
  <Override PartName="/ppt/media/image1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4.wmf" ContentType="image/x-wmf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E2D-3682-4F86-B041-8914EE5C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CDD-673D-4205-A03E-CFFAF9C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55E-0D8B-495A-AA41-A1478E94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9728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860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79728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860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5EB-0B1E-45C9-8323-82B3AF73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9FF-3DA4-4BE2-90DA-999C22E6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5128-47E0-4147-8612-7C8CA8CD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A22C-B5BD-4F21-83DB-AC9EF3B4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BF0A-3729-45F4-AC5E-A56D919E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B7F3-CC72-49A9-BB7C-A1C03CD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16000" y="43920"/>
            <a:ext cx="8028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5E72-7FCD-4064-B741-70F20EA6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BEE6-F484-450D-8FF5-3A59BF8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335-1E94-4530-88E8-1E778533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9A8A-60B3-4C98-9C0F-B3CCA449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F1A5-1C68-4E37-8EB2-26D10C8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76E6-60CD-4660-94EE-8067F8C5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C628-D019-4E9D-8177-22362D55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728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2860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728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2860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1C51-F807-4216-893F-31730AC6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D12-83BD-490D-A190-4EAC4E07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47C-4239-4D63-BEF7-12CF2236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568-287D-4256-9BC0-E1968F14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16000" y="43920"/>
            <a:ext cx="8028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15F-849B-43C7-96A0-B0B9A161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D43-EEC8-47E0-A552-CAEB6CC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02B-6AA0-4E38-AD10-7D2FF6B3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516-0EC2-4FDA-9DCF-270BE45D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9C2A-1802-4656-9905-D6A5E1E50E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90000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4DF7-8B0A-4A38-94D1-244D21ADD1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1477800" cy="16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«Сети и телекоммуникации»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«Сет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Широковещательная передача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Broadcast (multicast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ача сообщения всем абонентам сегмента сети: в адресе получателя указывается адрес «FF:FF:FF:FF:FF:FF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кеты с таким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ресом воспринимаются всеми абонентами сегмент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Широко используется для технических целей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роткие сообщения о присутствии в сети и о состоя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Коаксиальный»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: 10Base-2, 10Base-5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Base-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10 Mbps) — первые из Ethernet-сет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-5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«тонкий коаксиал»: центральная медная жила (D = 0.89 мм), полиэтиленовый изолятор и внешняя оплетка из медного провода (D = ~5 мм), максимальная длина сегмента (без хабов): ~185 м, ~$0.10/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екомендуемо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аксимальное количество станций в сегменте — 30 (не только коллизии, но и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надежность контакто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Base-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10 Mbps): «толстый коаксиал», до 100 узлов в сегменте, длина до 500 м; относительно жёсткий, D = ~1 см; существенно дороже; более сложен в установк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10Base-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G-58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948" t="0" r="2863" b="0"/>
          <a:stretch/>
        </p:blipFill>
        <p:spPr>
          <a:xfrm>
            <a:off x="1042920" y="2205000"/>
            <a:ext cx="3600360" cy="204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256200" cy="268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21779" t="5967" r="5531" b="0"/>
          <a:stretch/>
        </p:blipFill>
        <p:spPr>
          <a:xfrm>
            <a:off x="971640" y="4437000"/>
            <a:ext cx="384336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929120" y="4437000"/>
            <a:ext cx="41464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10Base-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G-58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Оплетка кабеля обязательно должна быть заземлена на одном конце! Заземление кабеля в двух точках вызовет нежелательные токи в оплетке и повышение уровня поме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4920" y="2109960"/>
            <a:ext cx="9109080" cy="4703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13732" t="0" r="0" b="0"/>
          <a:stretch/>
        </p:blipFill>
        <p:spPr>
          <a:xfrm>
            <a:off x="7093080" y="4724280"/>
            <a:ext cx="183492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10Base-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, недостат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зкая надежность линейных сетей с топологией «шин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остаточная скорость передачи данных (всего 10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p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и на основе коаксиального кабеля постепенно вытесняются более надежными и перспективными сетями на основе кабеля витой па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Base-T, 100Base-T,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бель витой пар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e-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«T»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iste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названии стандарта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 принят в 1991 году, 802.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b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00Base-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а — двойная витая пара (Unshielded Twisted Pair — UTP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elde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Twisted Pair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T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FTP, SFTP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с разъемами RJ-4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опологи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звезд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длина любой линии (по стандарту) не более 100 м; центр «звезды»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1/3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Ха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b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центр, концентратор] — сетевой аппаратный узел, к которому подключаются все компьютеры в сети топологии "звезда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ктивный хаб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осстанавливает (усиливает) и ретранслирует сигн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ссивный хаб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сто соединяет среды передачи сигн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2/3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нцип работы хаба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акет, полученный на одном порту хаба немедленно ретранслируется на все остальные пор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аб объединяет сегменты 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бщий домен коллиз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аб решает проблему затухания сигнала, не решает проблему коллиз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3/3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бы характеризую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числу и типам портов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×TP + 1×B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скорости передачи да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ps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Hub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Mbps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Ethernet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илу принципов своей работы хабы не могут иметь порты с различной скоростью передачи данных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Mb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 Mb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0011" t="24021" r="21048" b="21451"/>
          <a:stretch/>
        </p:blipFill>
        <p:spPr>
          <a:xfrm>
            <a:off x="0" y="1197000"/>
            <a:ext cx="4572000" cy="30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2608200"/>
            <a:ext cx="5796000" cy="4249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029480" y="496800"/>
            <a:ext cx="48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× 10 Base T (RJ-45)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 × 10 Base 2 (BN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тория возникнове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т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thernet Networ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Xerox, 19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андар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thernet I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для сетей, построенных на основе коаксиального кабеля —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el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ox — стандарт Ethernet  II иногда называют стандартом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19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базе Ethernet DIX был разработан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EEE 802.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имеет различные модификации (для разных типов физической среды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10Base-5, 10Base-2, 10Base-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Топология «звезда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5124" t="10974" r="0" b="6770"/>
          <a:stretch/>
        </p:blipFill>
        <p:spPr>
          <a:xfrm>
            <a:off x="0" y="3517920"/>
            <a:ext cx="9144000" cy="33400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484360" y="1916280"/>
            <a:ext cx="3674880" cy="1871640"/>
            <a:chOff x="2484360" y="1916280"/>
            <a:chExt cx="3674880" cy="1871640"/>
          </a:xfrm>
        </p:grpSpPr>
        <p:sp>
          <p:nvSpPr>
            <p:cNvPr id="160" name=""/>
            <p:cNvSpPr/>
            <p:nvPr/>
          </p:nvSpPr>
          <p:spPr>
            <a:xfrm flipV="1">
              <a:off x="2773080" y="2131920"/>
              <a:ext cx="158436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421080" y="2132280"/>
              <a:ext cx="865080" cy="936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286160" y="2132280"/>
              <a:ext cx="0" cy="107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86160" y="2132280"/>
              <a:ext cx="1584360" cy="43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285800" y="2132280"/>
              <a:ext cx="863640" cy="936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84360" y="1916280"/>
              <a:ext cx="3674880" cy="1871640"/>
              <a:chOff x="2484360" y="1916280"/>
              <a:chExt cx="3674880" cy="18716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3841200" y="1916280"/>
                <a:ext cx="959400" cy="1871640"/>
                <a:chOff x="3841200" y="1916280"/>
                <a:chExt cx="959400" cy="1871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841200" y="1916280"/>
                  <a:ext cx="959400" cy="520560"/>
                </a:xfrm>
                <a:prstGeom prst="rect">
                  <a:avLst/>
                </a:pr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ahoma"/>
                    </a:rPr>
                    <a:t>HU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computr2"/>
                <p:cNvSpPr/>
                <p:nvPr/>
              </p:nvSpPr>
              <p:spPr>
                <a:xfrm>
                  <a:off x="3997080" y="3069000"/>
                  <a:ext cx="649440" cy="7189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133440" y="2924280"/>
                <a:ext cx="2378160" cy="719280"/>
                <a:chOff x="3133440" y="2924280"/>
                <a:chExt cx="2378160" cy="719280"/>
              </a:xfrm>
            </p:grpSpPr>
            <p:sp>
              <p:nvSpPr>
                <p:cNvPr id="170" name="computr2"/>
                <p:cNvSpPr/>
                <p:nvPr/>
              </p:nvSpPr>
              <p:spPr>
                <a:xfrm>
                  <a:off x="3133440" y="2924280"/>
                  <a:ext cx="64944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computr2"/>
                <p:cNvSpPr/>
                <p:nvPr/>
              </p:nvSpPr>
              <p:spPr>
                <a:xfrm>
                  <a:off x="4862520" y="2924280"/>
                  <a:ext cx="64908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484360" y="2348280"/>
                <a:ext cx="3674880" cy="718920"/>
                <a:chOff x="2484360" y="2348280"/>
                <a:chExt cx="3674880" cy="718920"/>
              </a:xfrm>
            </p:grpSpPr>
            <p:sp>
              <p:nvSpPr>
                <p:cNvPr id="173" name="computr2"/>
                <p:cNvSpPr/>
                <p:nvPr/>
              </p:nvSpPr>
              <p:spPr>
                <a:xfrm>
                  <a:off x="2484360" y="2348280"/>
                  <a:ext cx="649080" cy="7189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computr2"/>
                <p:cNvSpPr/>
                <p:nvPr/>
              </p:nvSpPr>
              <p:spPr>
                <a:xfrm>
                  <a:off x="5510160" y="2348280"/>
                  <a:ext cx="649080" cy="7189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Топология «звезда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4797360"/>
            <a:ext cx="8459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огичес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общий домен коллиз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зическое раздел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локализация последствий неисправности, индивидуальный контроль состояния кабелей, индивидуальное исправление неисправ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ущественно облегчена эксплуатац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больших сетей Eth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8000" y="1089000"/>
            <a:ext cx="8931240" cy="3564000"/>
            <a:chOff x="108000" y="1089000"/>
            <a:chExt cx="8931240" cy="3564000"/>
          </a:xfrm>
        </p:grpSpPr>
        <p:sp>
          <p:nvSpPr>
            <p:cNvPr id="178" name=""/>
            <p:cNvSpPr/>
            <p:nvPr/>
          </p:nvSpPr>
          <p:spPr>
            <a:xfrm flipV="1">
              <a:off x="1911240" y="1303560"/>
              <a:ext cx="2664000" cy="1728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575240" y="1303560"/>
              <a:ext cx="2664000" cy="1728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08000" y="2779920"/>
              <a:ext cx="8931240" cy="1873080"/>
              <a:chOff x="108000" y="2779920"/>
              <a:chExt cx="8931240" cy="18730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08000" y="2781360"/>
                <a:ext cx="3674880" cy="1871640"/>
                <a:chOff x="108000" y="2781360"/>
                <a:chExt cx="3674880" cy="187164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96720" y="2997000"/>
                  <a:ext cx="1584360" cy="360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1044720" y="2997360"/>
                  <a:ext cx="865080" cy="936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1909800" y="2997360"/>
                  <a:ext cx="0" cy="1079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09800" y="2997360"/>
                  <a:ext cx="1584360" cy="431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1909440" y="2997360"/>
                  <a:ext cx="863640" cy="936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108000" y="2781360"/>
                  <a:ext cx="3674880" cy="1871640"/>
                  <a:chOff x="108000" y="2781360"/>
                  <a:chExt cx="3674880" cy="187164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1464840" y="2781360"/>
                    <a:ext cx="959400" cy="1871640"/>
                    <a:chOff x="1464840" y="2781360"/>
                    <a:chExt cx="959400" cy="18716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1464840" y="2781360"/>
                      <a:ext cx="959400" cy="520560"/>
                    </a:xfrm>
                    <a:prstGeom prst="rect">
                      <a:avLst/>
                    </a:pr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computr2"/>
                    <p:cNvSpPr/>
                    <p:nvPr/>
                  </p:nvSpPr>
                  <p:spPr>
                    <a:xfrm>
                      <a:off x="1620720" y="3934080"/>
                      <a:ext cx="649440" cy="71892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757080" y="3789360"/>
                    <a:ext cx="2378160" cy="719280"/>
                    <a:chOff x="757080" y="3789360"/>
                    <a:chExt cx="2378160" cy="719280"/>
                  </a:xfrm>
                </p:grpSpPr>
                <p:sp>
                  <p:nvSpPr>
                    <p:cNvPr id="192" name="computr2"/>
                    <p:cNvSpPr/>
                    <p:nvPr/>
                  </p:nvSpPr>
                  <p:spPr>
                    <a:xfrm>
                      <a:off x="757080" y="3789360"/>
                      <a:ext cx="64944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computr2"/>
                    <p:cNvSpPr/>
                    <p:nvPr/>
                  </p:nvSpPr>
                  <p:spPr>
                    <a:xfrm>
                      <a:off x="2486160" y="3789360"/>
                      <a:ext cx="64908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108000" y="3213360"/>
                    <a:ext cx="3674880" cy="718920"/>
                    <a:chOff x="108000" y="3213360"/>
                    <a:chExt cx="3674880" cy="718920"/>
                  </a:xfrm>
                </p:grpSpPr>
                <p:sp>
                  <p:nvSpPr>
                    <p:cNvPr id="195" name="computr2"/>
                    <p:cNvSpPr/>
                    <p:nvPr/>
                  </p:nvSpPr>
                  <p:spPr>
                    <a:xfrm>
                      <a:off x="108000" y="3213360"/>
                      <a:ext cx="649080" cy="71892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computr2"/>
                    <p:cNvSpPr/>
                    <p:nvPr/>
                  </p:nvSpPr>
                  <p:spPr>
                    <a:xfrm>
                      <a:off x="3133800" y="3213360"/>
                      <a:ext cx="649080" cy="71892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5364360" y="2779920"/>
                <a:ext cx="3674880" cy="1871640"/>
                <a:chOff x="5364360" y="2779920"/>
                <a:chExt cx="3674880" cy="187164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653080" y="2995560"/>
                  <a:ext cx="1584360" cy="360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66160" y="2995920"/>
                  <a:ext cx="1584360" cy="431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013440" y="2779920"/>
                  <a:ext cx="2378160" cy="1871640"/>
                  <a:chOff x="6013440" y="2779920"/>
                  <a:chExt cx="2378160" cy="1871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V="1">
                    <a:off x="6300720" y="2995920"/>
                    <a:ext cx="865440" cy="9367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7166160" y="2995920"/>
                    <a:ext cx="0" cy="10792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7165800" y="2995920"/>
                    <a:ext cx="863640" cy="9367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721200" y="2779920"/>
                    <a:ext cx="959400" cy="52056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ahoma"/>
                      </a:rPr>
                      <a:t>HU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computr2"/>
                  <p:cNvSpPr/>
                  <p:nvPr/>
                </p:nvSpPr>
                <p:spPr>
                  <a:xfrm>
                    <a:off x="6877080" y="3932640"/>
                    <a:ext cx="649440" cy="71892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6013440" y="3787920"/>
                    <a:ext cx="2378160" cy="719280"/>
                    <a:chOff x="6013440" y="3787920"/>
                    <a:chExt cx="2378160" cy="719280"/>
                  </a:xfrm>
                </p:grpSpPr>
                <p:sp>
                  <p:nvSpPr>
                    <p:cNvPr id="207" name="computr2"/>
                    <p:cNvSpPr/>
                    <p:nvPr/>
                  </p:nvSpPr>
                  <p:spPr>
                    <a:xfrm>
                      <a:off x="6013440" y="3787920"/>
                      <a:ext cx="64944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computr2"/>
                    <p:cNvSpPr/>
                    <p:nvPr/>
                  </p:nvSpPr>
                  <p:spPr>
                    <a:xfrm>
                      <a:off x="7742520" y="3787920"/>
                      <a:ext cx="64908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5364360" y="3211920"/>
                  <a:ext cx="3674880" cy="718920"/>
                  <a:chOff x="5364360" y="3211920"/>
                  <a:chExt cx="3674880" cy="718920"/>
                </a:xfrm>
              </p:grpSpPr>
              <p:sp>
                <p:nvSpPr>
                  <p:cNvPr id="210" name="computr2"/>
                  <p:cNvSpPr/>
                  <p:nvPr/>
                </p:nvSpPr>
                <p:spPr>
                  <a:xfrm>
                    <a:off x="5364360" y="3211920"/>
                    <a:ext cx="649080" cy="71892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computr2"/>
                  <p:cNvSpPr/>
                  <p:nvPr/>
                </p:nvSpPr>
                <p:spPr>
                  <a:xfrm>
                    <a:off x="8390160" y="3211920"/>
                    <a:ext cx="649080" cy="71892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" name=""/>
            <p:cNvGrpSpPr/>
            <p:nvPr/>
          </p:nvGrpSpPr>
          <p:grpSpPr>
            <a:xfrm>
              <a:off x="3384720" y="1089000"/>
              <a:ext cx="2377440" cy="1871640"/>
              <a:chOff x="3384720" y="1089000"/>
              <a:chExt cx="2377440" cy="18716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3671640" y="1305000"/>
                <a:ext cx="865080" cy="936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537080" y="1305000"/>
                <a:ext cx="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4537080" y="1305000"/>
                <a:ext cx="863280" cy="936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92120" y="1089000"/>
                <a:ext cx="959400" cy="5205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computr2"/>
              <p:cNvSpPr/>
              <p:nvPr/>
            </p:nvSpPr>
            <p:spPr>
              <a:xfrm>
                <a:off x="4248000" y="2241720"/>
                <a:ext cx="649080" cy="71892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384720" y="2097000"/>
                <a:ext cx="2377440" cy="719280"/>
                <a:chOff x="3384720" y="2097000"/>
                <a:chExt cx="2377440" cy="719280"/>
              </a:xfrm>
            </p:grpSpPr>
            <p:sp>
              <p:nvSpPr>
                <p:cNvPr id="219" name="computr2"/>
                <p:cNvSpPr/>
                <p:nvPr/>
              </p:nvSpPr>
              <p:spPr>
                <a:xfrm>
                  <a:off x="3384720" y="2097000"/>
                  <a:ext cx="64908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computr2"/>
                <p:cNvSpPr/>
                <p:nvPr/>
              </p:nvSpPr>
              <p:spPr>
                <a:xfrm>
                  <a:off x="5113440" y="2097000"/>
                  <a:ext cx="64872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абель витой пар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93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P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витые между собой (с определенным шагом) пары проводов + перевитый пучок таких па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бель обладает волновыми свойствами (кроме функции проведения электрического тока) —  среда для передачи высокочастотного сиг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вивка — устойчивость сигнала к внешнему электромагнитному воздействи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соображений «равноправности» проводов  в перевитой паре проводов: в случае наводки в обоих проводах пары произойдет примерно одинаковое изменение потенци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инимающем устройстве оценивается разность потенциалов между проводами, помеха будет приемнику практически незамет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Разновидности кабелей витой пары и их примене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личие и тип экр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экранированны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UTP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внутренняя проводка и обычные усло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ранирован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TP, STP, SFTP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нешняя проводка и/или тяжелые усло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 пров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нолитный пров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«магистральный кабель»: низкие потери, жест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ногожильный пров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ch cor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, мягкий, значительные потер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личество пар в кабе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бель витой пары,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вилк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24540" t="5255" r="11576" b="32899"/>
          <a:stretch/>
        </p:blipFill>
        <p:spPr>
          <a:xfrm>
            <a:off x="1112760" y="4508640"/>
            <a:ext cx="2073240" cy="213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21440" y="1909800"/>
            <a:ext cx="3671640" cy="231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565440" y="4687920"/>
            <a:ext cx="2446560" cy="205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971640" y="1916280"/>
            <a:ext cx="3384360" cy="2168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335640" y="4724280"/>
            <a:ext cx="2700360" cy="199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ка вилк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UTP (1/3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1706" r="3346" b="1706"/>
          <a:stretch/>
        </p:blipFill>
        <p:spPr>
          <a:xfrm>
            <a:off x="1293840" y="4475160"/>
            <a:ext cx="3119400" cy="23385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293840" y="1916280"/>
            <a:ext cx="7305480" cy="2339640"/>
            <a:chOff x="1293840" y="1916280"/>
            <a:chExt cx="7305480" cy="23396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0" t="3543" r="2854" b="1969"/>
            <a:stretch/>
          </p:blipFill>
          <p:spPr>
            <a:xfrm>
              <a:off x="1293840" y="1916280"/>
              <a:ext cx="320688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3"/>
            <a:srcRect l="2657" t="0" r="2854" b="0"/>
            <a:stretch/>
          </p:blipFill>
          <p:spPr>
            <a:xfrm>
              <a:off x="5651640" y="1916280"/>
              <a:ext cx="2947680" cy="23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4"/>
          <a:srcRect l="0" t="2625" r="1575" b="0"/>
          <a:stretch/>
        </p:blipFill>
        <p:spPr>
          <a:xfrm>
            <a:off x="5446800" y="4473720"/>
            <a:ext cx="315252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ка вилк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UTP (2/3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908000" y="1193760"/>
            <a:ext cx="6985080" cy="563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ка вилк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UTP (3/3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71640" y="1954080"/>
            <a:ext cx="7891200" cy="2338200"/>
            <a:chOff x="971640" y="1954080"/>
            <a:chExt cx="7891200" cy="233820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rcRect l="0" t="6955" r="4626" b="0"/>
            <a:stretch/>
          </p:blipFill>
          <p:spPr>
            <a:xfrm>
              <a:off x="971640" y="1954080"/>
              <a:ext cx="319572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rcRect l="0" t="3543" r="2854" b="0"/>
            <a:stretch/>
          </p:blipFill>
          <p:spPr>
            <a:xfrm>
              <a:off x="5724360" y="1954080"/>
              <a:ext cx="3138480" cy="23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" descr=""/>
          <p:cNvPicPr/>
          <p:nvPr/>
        </p:nvPicPr>
        <p:blipFill>
          <a:blip r:embed="rId3"/>
          <a:srcRect l="0" t="0" r="2854" b="0"/>
          <a:stretch/>
        </p:blipFill>
        <p:spPr>
          <a:xfrm>
            <a:off x="3402000" y="4437000"/>
            <a:ext cx="3030480" cy="233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ипы разъемов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J-45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3840" y="1341360"/>
            <a:ext cx="5942160" cy="2951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303200" y="4944960"/>
            <a:ext cx="5919840" cy="179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озетка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«под винт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089160"/>
            <a:ext cx="6659640" cy="3768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3203640" cy="24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нцип функционирова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1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налог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разговор группы вежливых людей в небольшой темной комн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ждый человек слышит кажд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ка кто-то говорит, все остальные в комнате молч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 имеют одинаковое право и возможность говорить (множественный доступ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икто не говорит слишком долго — избегают монополизации на длительное время права говорить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ругие стандарты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956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thernet, 10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-T: UTP 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-FL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оволоконный каб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st Ethernet, 100 Mb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Base-TX: UTP 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Base-T4: UTP 4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Base-FX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оволоконный каб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igabit Etherne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G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X: STP 4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L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оволоконный каб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граничения на размеры сегмент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hared Ethernet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линный сегмен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ного хабов — большие задержки, много поздних коллизий — радикальное ухудшение работы сети (до полной потери работоспособност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уровн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ного активно работающих компьютер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растет вероятность коллизий — ухудшение характеристик сети (пропускная способность и задержка на уровн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авило 4 хабов (простой случай, в сети только хабы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8077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допускаются циклы в с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любыми двумя абонентами предельно допуска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 4-х хабов, если хабы удовлетворяют ограничениям на задержки сигна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 5 сегментов кабеля, до 100 метров кажд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есть, максимальный диаметр сети — до 500 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авило 4 хабов (простой случай, в сети только хабы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8077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ограничения гарантируют правильное обнаружение коллизии крайними абонент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ное правило необходимо, но не достаточно, если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ети используют разные среды передачи данных (а точный критерий — более сложны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22560" y="1485720"/>
            <a:ext cx="8498880" cy="5112000"/>
            <a:chOff x="322560" y="1485720"/>
            <a:chExt cx="8498880" cy="5112000"/>
          </a:xfrm>
        </p:grpSpPr>
        <p:grpSp>
          <p:nvGrpSpPr>
            <p:cNvPr id="259" name=""/>
            <p:cNvGrpSpPr/>
            <p:nvPr/>
          </p:nvGrpSpPr>
          <p:grpSpPr>
            <a:xfrm>
              <a:off x="324360" y="1485720"/>
              <a:ext cx="3386160" cy="2519640"/>
              <a:chOff x="324360" y="1485720"/>
              <a:chExt cx="3386160" cy="251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2126160" y="285444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1800" y="17751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33800" y="17751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3440" y="1775160"/>
                <a:ext cx="143964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1621080" y="256716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324360" y="1485720"/>
                <a:ext cx="1873080" cy="506520"/>
                <a:chOff x="324360" y="1485720"/>
                <a:chExt cx="1873080" cy="506520"/>
              </a:xfrm>
            </p:grpSpPr>
            <p:sp>
              <p:nvSpPr>
                <p:cNvPr id="266" name=""/>
                <p:cNvSpPr/>
                <p:nvPr/>
              </p:nvSpPr>
              <p:spPr>
                <a:xfrm flipH="1" rot="5400000">
                  <a:off x="1008360" y="148572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324360" y="1486080"/>
                  <a:ext cx="1873080" cy="506160"/>
                  <a:chOff x="324360" y="1486080"/>
                  <a:chExt cx="1873080" cy="50616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H="1" rot="5400000">
                    <a:off x="1692720" y="148608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 rot="5400000">
                    <a:off x="324000" y="14875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0" name=""/>
            <p:cNvGrpSpPr/>
            <p:nvPr/>
          </p:nvGrpSpPr>
          <p:grpSpPr>
            <a:xfrm>
              <a:off x="322560" y="4078080"/>
              <a:ext cx="3386160" cy="2519640"/>
              <a:chOff x="322560" y="4078080"/>
              <a:chExt cx="3386160" cy="251964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2124360" y="407808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1980000" y="52293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332000" y="52293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1280" y="5229360"/>
                <a:ext cx="1440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 rot="10800000">
                <a:off x="1619280" y="493920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322560" y="6091200"/>
                <a:ext cx="1873080" cy="506520"/>
                <a:chOff x="322560" y="6091200"/>
                <a:chExt cx="1873080" cy="506520"/>
              </a:xfrm>
            </p:grpSpPr>
            <p:sp>
              <p:nvSpPr>
                <p:cNvPr id="277" name=""/>
                <p:cNvSpPr/>
                <p:nvPr/>
              </p:nvSpPr>
              <p:spPr>
                <a:xfrm flipH="1" flipV="1" rot="16200000">
                  <a:off x="1006560" y="609300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322560" y="6091200"/>
                  <a:ext cx="1873080" cy="506160"/>
                  <a:chOff x="322560" y="6091200"/>
                  <a:chExt cx="1873080" cy="5061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16200000">
                    <a:off x="1690920" y="609264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16200000">
                    <a:off x="322560" y="60912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1" name=""/>
            <p:cNvGrpSpPr/>
            <p:nvPr/>
          </p:nvGrpSpPr>
          <p:grpSpPr>
            <a:xfrm>
              <a:off x="5435280" y="4078080"/>
              <a:ext cx="3386160" cy="2519640"/>
              <a:chOff x="5435280" y="4078080"/>
              <a:chExt cx="3386160" cy="2519640"/>
            </a:xfrm>
          </p:grpSpPr>
          <p:sp>
            <p:nvSpPr>
              <p:cNvPr id="282" name=""/>
              <p:cNvSpPr/>
              <p:nvPr/>
            </p:nvSpPr>
            <p:spPr>
              <a:xfrm flipH="1" flipV="1">
                <a:off x="5435280" y="407808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7019640" y="52293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7020000" y="52293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7092720" y="5229360"/>
                <a:ext cx="1440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 rot="10800000">
                <a:off x="6588000" y="493920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6948360" y="6091200"/>
                <a:ext cx="1873080" cy="506520"/>
                <a:chOff x="6948360" y="6091200"/>
                <a:chExt cx="1873080" cy="506520"/>
              </a:xfrm>
            </p:grpSpPr>
            <p:sp>
              <p:nvSpPr>
                <p:cNvPr id="288" name=""/>
                <p:cNvSpPr/>
                <p:nvPr/>
              </p:nvSpPr>
              <p:spPr>
                <a:xfrm flipV="1" rot="5400000">
                  <a:off x="7632720" y="609300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6948360" y="6091200"/>
                  <a:ext cx="1873080" cy="506160"/>
                  <a:chOff x="6948360" y="6091200"/>
                  <a:chExt cx="1873080" cy="5061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V="1" rot="5400000">
                    <a:off x="6948360" y="609264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V="1" rot="5400000">
                    <a:off x="8316720" y="60912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2" name=""/>
            <p:cNvGrpSpPr/>
            <p:nvPr/>
          </p:nvGrpSpPr>
          <p:grpSpPr>
            <a:xfrm>
              <a:off x="5435280" y="1485720"/>
              <a:ext cx="3386160" cy="2519640"/>
              <a:chOff x="5435280" y="1485720"/>
              <a:chExt cx="3386160" cy="251964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5435280" y="285444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019640" y="17751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020000" y="17751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092720" y="1775160"/>
                <a:ext cx="143964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88000" y="256716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6948360" y="1485720"/>
                <a:ext cx="1873080" cy="506520"/>
                <a:chOff x="6948360" y="1485720"/>
                <a:chExt cx="1873080" cy="506520"/>
              </a:xfrm>
            </p:grpSpPr>
            <p:sp>
              <p:nvSpPr>
                <p:cNvPr id="299" name=""/>
                <p:cNvSpPr/>
                <p:nvPr/>
              </p:nvSpPr>
              <p:spPr>
                <a:xfrm rot="16200000">
                  <a:off x="7632720" y="148572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6948360" y="1486080"/>
                  <a:ext cx="1873080" cy="506160"/>
                  <a:chOff x="6948360" y="1486080"/>
                  <a:chExt cx="1873080" cy="5061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6948360" y="148608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16200000">
                    <a:off x="8316720" y="14875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авило 4 хабов (придельный случай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20560" y="1482480"/>
            <a:ext cx="8013960" cy="5115240"/>
            <a:chOff x="520560" y="1482480"/>
            <a:chExt cx="8013960" cy="5115240"/>
          </a:xfrm>
        </p:grpSpPr>
        <p:sp>
          <p:nvSpPr>
            <p:cNvPr id="305" name=""/>
            <p:cNvSpPr/>
            <p:nvPr/>
          </p:nvSpPr>
          <p:spPr>
            <a:xfrm>
              <a:off x="826920" y="3283200"/>
              <a:ext cx="1152720" cy="79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640" y="4075200"/>
              <a:ext cx="7561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771640" y="4075200"/>
              <a:ext cx="936720" cy="223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492360" y="4003920"/>
              <a:ext cx="21600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634920" y="4003920"/>
              <a:ext cx="50508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932360" y="4003560"/>
              <a:ext cx="50328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5435640" y="4003560"/>
              <a:ext cx="21744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5435280" y="4074840"/>
              <a:ext cx="865080" cy="230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71640" y="1770120"/>
              <a:ext cx="936720" cy="223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92360" y="1698840"/>
              <a:ext cx="21600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634920" y="1698840"/>
              <a:ext cx="50508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32360" y="1698840"/>
              <a:ext cx="50328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435640" y="1698840"/>
              <a:ext cx="21744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435280" y="1770120"/>
              <a:ext cx="865080" cy="230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55640" y="4074840"/>
              <a:ext cx="1152360" cy="647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164360" y="3283200"/>
              <a:ext cx="1152720" cy="79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7092720" y="4074840"/>
              <a:ext cx="1152360" cy="647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76440" y="3751560"/>
              <a:ext cx="93672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88080" y="3751560"/>
              <a:ext cx="93636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43720" y="3751560"/>
              <a:ext cx="93672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32080" y="3751560"/>
              <a:ext cx="93672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0560" y="3102120"/>
              <a:ext cx="8013960" cy="1874520"/>
              <a:chOff x="520560" y="3102120"/>
              <a:chExt cx="8013960" cy="18745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20560" y="3103560"/>
                <a:ext cx="506520" cy="1873080"/>
                <a:chOff x="520560" y="3103560"/>
                <a:chExt cx="506520" cy="1873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22360" y="378792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520560" y="3103560"/>
                  <a:ext cx="506160" cy="1873080"/>
                  <a:chOff x="520560" y="3103560"/>
                  <a:chExt cx="506160" cy="1873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522000" y="310356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20560" y="44719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8028000" y="3102120"/>
                <a:ext cx="506520" cy="1873080"/>
                <a:chOff x="8028000" y="3102120"/>
                <a:chExt cx="506520" cy="18730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029800" y="378648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8028000" y="3102120"/>
                  <a:ext cx="506160" cy="1873080"/>
                  <a:chOff x="8028000" y="3102120"/>
                  <a:chExt cx="506160" cy="18730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8029440" y="31021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8028000" y="447048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7" name=""/>
            <p:cNvGrpSpPr/>
            <p:nvPr/>
          </p:nvGrpSpPr>
          <p:grpSpPr>
            <a:xfrm>
              <a:off x="2511360" y="6091560"/>
              <a:ext cx="4033440" cy="506160"/>
              <a:chOff x="2511360" y="6091560"/>
              <a:chExt cx="4033440" cy="5061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511360" y="6091560"/>
                <a:ext cx="1873080" cy="506160"/>
                <a:chOff x="2511360" y="6091560"/>
                <a:chExt cx="1873080" cy="506160"/>
              </a:xfrm>
            </p:grpSpPr>
            <p:sp>
              <p:nvSpPr>
                <p:cNvPr id="339" name=""/>
                <p:cNvSpPr/>
                <p:nvPr/>
              </p:nvSpPr>
              <p:spPr>
                <a:xfrm rot="16200000">
                  <a:off x="3195720" y="6091560"/>
                  <a:ext cx="50436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2511360" y="6091560"/>
                  <a:ext cx="1873080" cy="506160"/>
                  <a:chOff x="2511360" y="6091560"/>
                  <a:chExt cx="1873080" cy="5061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2511360" y="609156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6200000">
                    <a:off x="3879720" y="60930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4671720" y="6091560"/>
                <a:ext cx="1873080" cy="506160"/>
                <a:chOff x="4671720" y="6091560"/>
                <a:chExt cx="1873080" cy="506160"/>
              </a:xfrm>
            </p:grpSpPr>
            <p:sp>
              <p:nvSpPr>
                <p:cNvPr id="344" name=""/>
                <p:cNvSpPr/>
                <p:nvPr/>
              </p:nvSpPr>
              <p:spPr>
                <a:xfrm rot="16200000">
                  <a:off x="5356080" y="6091560"/>
                  <a:ext cx="50436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4671720" y="6091560"/>
                  <a:ext cx="1873080" cy="506160"/>
                  <a:chOff x="4671720" y="6091560"/>
                  <a:chExt cx="1873080" cy="5061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16200000">
                    <a:off x="4671720" y="609156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6040080" y="60930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8" name=""/>
            <p:cNvGrpSpPr/>
            <p:nvPr/>
          </p:nvGrpSpPr>
          <p:grpSpPr>
            <a:xfrm>
              <a:off x="2509920" y="1482480"/>
              <a:ext cx="1873080" cy="506520"/>
              <a:chOff x="2509920" y="1482480"/>
              <a:chExt cx="1873080" cy="506520"/>
            </a:xfrm>
          </p:grpSpPr>
          <p:sp>
            <p:nvSpPr>
              <p:cNvPr id="349" name=""/>
              <p:cNvSpPr/>
              <p:nvPr/>
            </p:nvSpPr>
            <p:spPr>
              <a:xfrm rot="16200000">
                <a:off x="3194280" y="1482480"/>
                <a:ext cx="504720" cy="504720"/>
              </a:xfrm>
              <a:prstGeom prst="ellipse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509920" y="1482840"/>
                <a:ext cx="1873080" cy="506160"/>
                <a:chOff x="2509920" y="1482840"/>
                <a:chExt cx="1873080" cy="506160"/>
              </a:xfrm>
            </p:grpSpPr>
            <p:sp>
              <p:nvSpPr>
                <p:cNvPr id="351" name=""/>
                <p:cNvSpPr/>
                <p:nvPr/>
              </p:nvSpPr>
              <p:spPr>
                <a:xfrm rot="16200000">
                  <a:off x="2509920" y="148284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16200000">
                  <a:off x="3878280" y="148428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4670280" y="1482480"/>
              <a:ext cx="1873080" cy="506520"/>
              <a:chOff x="4670280" y="1482480"/>
              <a:chExt cx="1873080" cy="506520"/>
            </a:xfrm>
          </p:grpSpPr>
          <p:sp>
            <p:nvSpPr>
              <p:cNvPr id="354" name=""/>
              <p:cNvSpPr/>
              <p:nvPr/>
            </p:nvSpPr>
            <p:spPr>
              <a:xfrm rot="16200000">
                <a:off x="5354640" y="1482480"/>
                <a:ext cx="504720" cy="504720"/>
              </a:xfrm>
              <a:prstGeom prst="ellipse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4670280" y="1482840"/>
                <a:ext cx="1873080" cy="506160"/>
                <a:chOff x="4670280" y="1482840"/>
                <a:chExt cx="1873080" cy="506160"/>
              </a:xfrm>
            </p:grpSpPr>
            <p:sp>
              <p:nvSpPr>
                <p:cNvPr id="356" name=""/>
                <p:cNvSpPr/>
                <p:nvPr/>
              </p:nvSpPr>
              <p:spPr>
                <a:xfrm rot="16200000">
                  <a:off x="4670280" y="148284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16200000">
                  <a:off x="6038640" y="148428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witch (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л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Bridge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похож н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единяет сегменты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отличается о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бивает домен коллизий, изолирует часть трафика, то есть позволяет сегментирова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обслуживать порты с разными скоростями и с разными средами передачи данных (10/100/100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T/TX/FL/FX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witch (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л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Bridge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820800"/>
            <a:ext cx="5487840" cy="3513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rcRect l="4590" t="20816" r="0" b="23220"/>
          <a:stretch/>
        </p:blipFill>
        <p:spPr>
          <a:xfrm>
            <a:off x="3132000" y="4292640"/>
            <a:ext cx="6012000" cy="2519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17360" y="602784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6 × 10/100 Base T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13280" y="11253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× 10/100 Base T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witch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–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ow To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ферная памя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tore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может обслужить линии с разными скоростями или ситуации «несколько шлют одному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что делается, когда память вся занята?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ing Table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по сути – таблиц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ршрутизаци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ает задачу динамическо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ршрутизации.  Некоторые модели – даже с поддержкой графов с циклам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spanning tree”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ход неисправносте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Forwarding Table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1/2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ing Tabl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ервоначальн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заполня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ем порт поступления пакета и адрес отправителя, поэтому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заполнении не нашлось свободного мест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ые решени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gin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Блуждающие устройства»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in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Forwarding Table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/2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споль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рес 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р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стрый поис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ные подходы, а именно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делать, если в таблице адрес получателя не найде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мулируем повед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а именно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делать, если адрес получател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F:FF:FF:FF:FF:F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мулируем повед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а именно.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рьба 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нцип функционирова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ждый имеет уникальное имя (аналог уникального Ethernet-адрес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гда кто-нибудь говорит, он называет имя собеседника и свое: «Слушай Петя, это Андрей, 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кто-то хочет обратиться ко всем, то он говорит: «Слушайте все, это Андрей, …» (широковещательная передач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нцип функционирова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двое начинают говорить одновременно, то они сразу обнаруживают это, поскольку слышат друг друга (обнаружение одновременной передачи, коллизии — Collision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этом случае оба замолкают и ждут некоторое время (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какое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аузы — попытка вновь начать разгов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сновные понят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hared Ethernet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699920"/>
            <a:ext cx="80773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е использование единой среды передачи информации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ared Ether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ли режим с разделением ка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правитель посылает пакеты (кадры), которые распространяются по всей сети и воспринимаются всеми компьютер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thernet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пакет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64—1518 байтов (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очем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раничили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аждого сообщения указываю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реса получателя и отправит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MAC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-адрес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адрес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6 байт; для людей: каждый байт—две 16-ричные цифры, между байтами —двоеточ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6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 принадлежит непосредственно аппаратуре сетевого адаптера (сетевой карте), присваивается в момент изгото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ллиз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ая пробл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Etherne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нет общего механизма распределения времени переда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одновременной передаче происходит наложение сигналов и искажение информации —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ллиз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Обработка коллиз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огда коллизия обнаружива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прекращают передачу, затем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ауза случайной дл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затем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посылка пак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епосылка —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ужен буф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на плате (как минимум на 1 паке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ння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пауза+перепосылка) 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здня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коллизии (потеря пакет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155736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w</cp:lastModifiedBy>
  <dcterms:modified xsi:type="dcterms:W3CDTF">2004-12-25T17:50:56Z</dcterms:modified>
  <cp:revision>485</cp:revision>
  <dc:subject/>
  <dc:title>Selling an Idea or a Product</dc:title>
</cp:coreProperties>
</file>