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003-83DA-4997-A124-13B866A0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C9C-0E1F-4E85-A5F0-008A3F30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693-20CF-4427-BC2F-17B81E70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9E6-58AF-4E27-B70B-0E6520B9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DA36-E72B-4508-91E3-8317AAE7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807A-A212-4769-AE89-160E914F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2565-05AA-44B3-9476-B283AEB2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20A3-FF3D-4C39-B5EF-A2FA019F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646E-229B-4C2E-8E64-BA318AA7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10F3-E9C9-4E9C-A266-4BBADD9C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C946-93C8-4C34-A637-EC86BE9B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424-5BED-4173-8BE8-C00BC420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A17A-84C2-412D-905C-16FD61E8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89F3-745E-4174-A1F4-E931DC6F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4A49-5B0A-417B-AC55-99B3ADDB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A3E8-C8CC-48C8-9407-25999522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35A3-2E18-47A0-9A75-D811D150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715-1898-4897-AB69-668EC54D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064-2304-49E8-B138-928D1423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370-A7BA-4B6E-A389-EE50D34B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8D9-01E9-4B60-AE8A-39D5E23E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CDC-DA03-4232-971D-7D74EC3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DC4-5916-4621-BB87-03DD9CC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99E-5164-46CA-9AF4-FABBF818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487E-4460-4358-8639-B2239724D4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900000" cy="100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8DD9-650E-4B9B-AAA0-757BFC03CCD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320" y="44280"/>
            <a:ext cx="1477800" cy="165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user@host.domain" TargetMode="External"/><Relationship Id="rId2" Type="http://schemas.openxmlformats.org/officeDocument/2006/relationships/hyperlink" Target="mailto:user@host.domain" TargetMode="External"/><Relationship Id="rId3" Type="http://schemas.openxmlformats.org/officeDocument/2006/relationships/hyperlink" Target="mailto:user@host.domain" TargetMode="External"/><Relationship Id="rId4" Type="http://schemas.openxmlformats.org/officeDocument/2006/relationships/hyperlink" Target="mailto:user@host.domain" TargetMode="External"/><Relationship Id="rId5" Type="http://schemas.openxmlformats.org/officeDocument/2006/relationships/hyperlink" Target="mailto:user@host.domain" TargetMode="External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ftpmail@botik.r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Сети и телекоммуникации»</a:t>
            </a:r>
            <a:br>
              <a:rPr sz="4000"/>
            </a:b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Часть 1 «История зарождения сетей. Протокол 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UUCP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»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ГП им. А.К.Айламазяна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Физическое перемещение носителя информаци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питальные затрат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оверность передачи информаци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пускная способно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держк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дежность передач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Физическое перемещение носителя информаци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питальные затрат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оверность передачи информаци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пускная способност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держк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дежность передачи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— за счет физической порчи нос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ередача по каналам связи.  Начало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0–70-ые: первые способы передачи  информации по провод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емы: 1.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b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6 Kb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специальные: 100—2048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bps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01336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ьютерные сети на базе протокола UUCP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токол передачи дан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огласованный набор сообщений и форматов сообщений, позволяющий компьютерам обмениваться информаци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NIX to UNIX Copy Protoco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аборатори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l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97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ет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дача: реализация взаимодействия компьютеров — возможность обмена файлами между любыми компьютерами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UC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се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UCP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ть: неполный граф, узлы—ЭВМ, ребра—наличие возможности передачи информации (канал, возможно сеансовый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. 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дресация и маршрутиза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UCP-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ме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доменный принцип именования.  Пример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ier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otik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аршрутизаци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заданному имени получателя в неполном графе сети обеспечить выбор сообщением пути успешной достав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796000" y="4797360"/>
            <a:ext cx="792000" cy="824040"/>
          </a:xfrm>
          <a:prstGeom prst="rect">
            <a:avLst/>
          </a:prstGeom>
          <a:solidFill>
            <a:srgbClr val="5e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Е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3429000"/>
            <a:ext cx="863640" cy="824040"/>
          </a:xfrm>
          <a:prstGeom prst="rect">
            <a:avLst/>
          </a:prstGeom>
          <a:solidFill>
            <a:srgbClr val="5e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Е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1413000"/>
            <a:ext cx="863640" cy="955800"/>
          </a:xfrm>
          <a:prstGeom prst="rect">
            <a:avLst/>
          </a:prstGeom>
          <a:solidFill>
            <a:srgbClr val="5e9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Е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: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аршрутиза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аблица маршрутизац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лучатель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кана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 используетс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Шаблоны им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то заполняе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 обновляетс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92720" y="2003400"/>
            <a:ext cx="3672000" cy="2851200"/>
            <a:chOff x="5292720" y="2003400"/>
            <a:chExt cx="3672000" cy="2851200"/>
          </a:xfrm>
        </p:grpSpPr>
        <p:sp>
          <p:nvSpPr>
            <p:cNvPr id="162" name=""/>
            <p:cNvSpPr/>
            <p:nvPr/>
          </p:nvSpPr>
          <p:spPr>
            <a:xfrm>
              <a:off x="5292720" y="3009960"/>
              <a:ext cx="623880" cy="61416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746680" y="2525760"/>
              <a:ext cx="530280" cy="52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9440" y="3624120"/>
              <a:ext cx="36036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16600" y="336384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56360" y="2003400"/>
              <a:ext cx="625320" cy="61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88120" y="3065400"/>
              <a:ext cx="625680" cy="61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80240" y="4240080"/>
              <a:ext cx="623880" cy="614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465960" y="3642840"/>
              <a:ext cx="87156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34000" y="2554200"/>
              <a:ext cx="2653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40840" y="4201920"/>
              <a:ext cx="623880" cy="615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04120" y="4605120"/>
              <a:ext cx="181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91480" y="3560760"/>
              <a:ext cx="700200" cy="69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9440" y="299880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8720" y="394812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64000" y="1557360"/>
            <a:ext cx="1008360" cy="649440"/>
          </a:xfrm>
          <a:prstGeom prst="rect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: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4752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09445 0.14166 E">
                                      <p:cBhvr>
                                        <p:cTn id="1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5 0.14166 L -0.01563 0.36226 E">
                                      <p:cBhvr>
                                        <p:cTn id="2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0.36226 L 0.25989 0.36226 E">
                                      <p:cBhvr>
                                        <p:cTn id="2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Доменные имена. Зачем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держка развития сетей, независимость таблиц маршрутизации от развития региональных и локальных се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ее компактные таблицы маршрутизации, быстрее работает алгоритм маршрутиз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еансовые канал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исание сеансов связ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редность ролей «передатчик—приемник»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-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ередач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UCP-jo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ую надо выполнить на удаленной маши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бор файл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е надо доставить на удаленную машин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oo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немедленное исполн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UCP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дани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uxq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осле завершения передачи либо запускает программу, либо обеспечивает дальнейшую доставк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редпосылки возникновения сете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ст числа ЭВМ (начиная с 40-50-ых годов 20 века), расширение сфер использования ЭВ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зные фазы обработки информации стали выполняться на разных компьюте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Новая задача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передача информации между ЭВ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хема работы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 множества заданий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path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!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host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!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Command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pa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host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1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!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host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!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...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!</a:t>
            </a:r>
            <a:r>
              <a:rPr b="0" i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host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ршрутизация и сортировка заданий по каналам отправ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тановление сеанса связи (hand-shak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хема работы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едача всех сообщений (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нтроль надежности передачи данн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нтрольные сум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тверждение передачи—квитир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даление/сохранение зад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едача инициативы (B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едача инициативы (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— до исчерпания накопленных зад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рыв соеди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работка полученных зад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Routing loop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и средства борьб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5473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шибки в таблице маршрутизации (человеческий фактор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четчи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ормирование обратного пу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host</a:t>
            </a: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1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!</a:t>
            </a: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host</a:t>
            </a: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2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!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...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!</a:t>
            </a: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host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Отбойник» вдоль обратного пути (гарантия доставки отбойни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maste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правка табли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292720" y="2003400"/>
            <a:ext cx="3672000" cy="3022560"/>
            <a:chOff x="5292720" y="2003400"/>
            <a:chExt cx="3672000" cy="3022560"/>
          </a:xfrm>
        </p:grpSpPr>
        <p:sp>
          <p:nvSpPr>
            <p:cNvPr id="191" name=""/>
            <p:cNvSpPr/>
            <p:nvPr/>
          </p:nvSpPr>
          <p:spPr>
            <a:xfrm>
              <a:off x="5292720" y="3009960"/>
              <a:ext cx="623880" cy="61416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746680" y="2525760"/>
              <a:ext cx="530280" cy="52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89440" y="3624120"/>
              <a:ext cx="36036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6600" y="336384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56360" y="2003400"/>
              <a:ext cx="625320" cy="614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88120" y="3065400"/>
              <a:ext cx="625680" cy="614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0240" y="4240080"/>
              <a:ext cx="623880" cy="614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65960" y="3642840"/>
              <a:ext cx="87156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34000" y="2554200"/>
              <a:ext cx="265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40840" y="4202280"/>
              <a:ext cx="623880" cy="615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04120" y="4605480"/>
              <a:ext cx="181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91480" y="3560760"/>
              <a:ext cx="700200" cy="69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29440" y="299880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08720" y="394812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16720" y="371628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4360" y="4653000"/>
              <a:ext cx="2653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72360" y="3573360"/>
              <a:ext cx="265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724360" y="1557360"/>
            <a:ext cx="719280" cy="576360"/>
          </a:xfrm>
          <a:prstGeom prst="rect">
            <a:avLst/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о: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013360"/>
            <a:ext cx="9144000" cy="1844640"/>
          </a:xfrm>
          <a:prstGeom prst="rightArrow">
            <a:avLst>
              <a:gd name="adj1" fmla="val 50000"/>
              <a:gd name="adj2" fmla="val 1239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48148E-006 L -0.12413 0.15486 L -0.0467 0.36551 L 0.10486 0.2044 L -0.13698 0.14398 L -0.05 0.37847 L 0.11458 0.20208 L -0.14514 0.13542 E">
                                      <p:cBhvr>
                                        <p:cTn id="36" dur="5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UCP: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игантский шаг в коммуникациях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 любой ЭВМ в любую ЭВМ в мире можно передать файл с приличной (по тем временам) скоростью и с весьма небольшой задержкой: 1—2—3 су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 «передачи в интересах ЭВМ» к «передачам в интересах людей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E-mail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ai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адреса пользователе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user</a:t>
            </a: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@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ost</a:t>
            </a: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5"/>
              </a:rPr>
              <a:t>domain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мвол “@” читается ка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c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cc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Blind Carbon Cop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 адреса имеют одинаковый маршрут—письмо не дублируетс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едует ка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ай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E-mail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ервис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66600" y="1773360"/>
            <a:ext cx="81421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ые услуги через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 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Д, справки, обслуживание...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TP-m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f-l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каз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ftpmail@botik.r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написание как нового сообщения, так и реплики на уже существующие) — предвестник Веб-форум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ередача информации, различные подход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изическое перемещение нос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едача сигнала по каналам связ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ередача информации, основные характеристик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t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Задерж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ndwid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Пропускная способность, Емкость канала, Скорость передачи да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дежнос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стовер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ерфокарты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(до середины 80-х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4560" y="2025720"/>
            <a:ext cx="720252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ерфокарты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(до середины 80-х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40720" cy="3736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ерфолент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3160" y="2532240"/>
            <a:ext cx="4111560" cy="2325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27640" y="1981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920" y="566100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фоленты (слев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ппарат коррекции ошибок пробивки перфоленты (справ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Магнитные лент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508640"/>
            <a:ext cx="3492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53, IBM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бит на дюйм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 футов (слев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С5017 (справ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8000" y="1473120"/>
            <a:ext cx="8928000" cy="5268960"/>
            <a:chOff x="108000" y="1473120"/>
            <a:chExt cx="8928000" cy="52689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108000" y="1473120"/>
              <a:ext cx="4613400" cy="29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937040" y="1473120"/>
              <a:ext cx="4098960" cy="291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"/>
            <p:cNvGrpSpPr/>
            <p:nvPr/>
          </p:nvGrpSpPr>
          <p:grpSpPr>
            <a:xfrm>
              <a:off x="3887640" y="4545000"/>
              <a:ext cx="5148360" cy="2197080"/>
              <a:chOff x="3887640" y="4545000"/>
              <a:chExt cx="5148360" cy="2197080"/>
            </a:xfrm>
          </p:grpSpPr>
          <p:pic>
            <p:nvPicPr>
              <p:cNvPr id="133" name="" descr=""/>
              <p:cNvPicPr/>
              <p:nvPr/>
            </p:nvPicPr>
            <p:blipFill>
              <a:blip r:embed="rId3"/>
              <a:srcRect l="0" t="0" r="9052" b="0"/>
              <a:stretch/>
            </p:blipFill>
            <p:spPr>
              <a:xfrm>
                <a:off x="3887640" y="4545000"/>
                <a:ext cx="2664000" cy="21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4"/>
              <a:srcRect l="11386" t="0" r="8646" b="0"/>
              <a:stretch/>
            </p:blipFill>
            <p:spPr>
              <a:xfrm>
                <a:off x="6696000" y="4546440"/>
                <a:ext cx="2340000" cy="2193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Магнитные дис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59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верху: НМД ЕС 5061 (лев.) и ВЦ на базе ЭВМ ЕС (прав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низу: ЕС 1020 (лев.) и ЕС 1050 (прав.).  С 1970 по 1997 год было произведено почти 16 тысяч ЭВМ серии Е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04840" y="4437000"/>
            <a:ext cx="8811720" cy="2304720"/>
            <a:chOff x="204840" y="4437000"/>
            <a:chExt cx="8811720" cy="230472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5244840" y="4437000"/>
              <a:ext cx="3771720" cy="23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204840" y="4438440"/>
              <a:ext cx="4581360" cy="23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2771640" y="1413000"/>
            <a:ext cx="6245280" cy="2770200"/>
            <a:chOff x="2771640" y="1413000"/>
            <a:chExt cx="6245280" cy="277020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rcRect l="0" t="0" r="4993" b="0"/>
            <a:stretch/>
          </p:blipFill>
          <p:spPr>
            <a:xfrm>
              <a:off x="2771640" y="1413000"/>
              <a:ext cx="2305080" cy="27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5292720" y="1413000"/>
              <a:ext cx="3724200" cy="277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w</cp:lastModifiedBy>
  <dcterms:modified xsi:type="dcterms:W3CDTF">2005-09-15T05:55:56Z</dcterms:modified>
  <cp:revision>233</cp:revision>
  <dc:subject/>
  <dc:title>Selling an Idea or a Product</dc:title>
</cp:coreProperties>
</file>