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6893-6FC8-4606-B17E-0A9E50B9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69D9-1ACE-4820-8C97-E7AE7F82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4E42-1D59-45E9-969E-F9D4CF4A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1FA1-B576-4FB8-A059-3CA8692A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51A2-09D5-49DE-89A9-187FC9BA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2BF3-76BB-4E39-B2A4-BA93C7C5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0DBC-025B-46C0-A7F5-6214CD01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B697-0D38-44FA-A35D-A92FDBE2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949B-EFC7-4EDC-B662-AF7C1C58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2D29-F0A4-4F75-A71E-A05CA729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A06A-5A80-426C-AE04-897F0BF4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7B12-43F1-4D3E-96C2-04ECA803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B675-0570-475D-9951-7128CBBA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2240-9FB8-4B57-88C5-1DF25A0F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0432-949D-4F5D-B47F-041A7A19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3F95-002A-4100-A11D-7B65C303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91EA-F78F-4DED-9CA7-65A2460E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6205-5784-4366-AD63-80C94567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EC5F-045E-496A-984C-A547D2DC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7039-91BA-48BB-A85F-28935C76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0CDE-475C-4022-9594-0574DF1D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7217-5BDD-4EE0-8978-5EE5AE27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4D04-49B9-4B46-B707-E8FAF333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D2A7-CE4B-40FB-9AD4-D708D24E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94B8-E340-45AD-B5A1-701A46AFE0C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tretch/>
        </p:blipFill>
        <p:spPr>
          <a:xfrm>
            <a:off x="22320" y="44280"/>
            <a:ext cx="900000" cy="100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0AB3-987F-4F32-B06C-F9F801F3774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320" y="44280"/>
            <a:ext cx="1477800" cy="1656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nternic.net/" TargetMode="External"/><Relationship Id="rId2" Type="http://schemas.openxmlformats.org/officeDocument/2006/relationships/hyperlink" Target="http://www.ripn.net/" TargetMode="External"/><Relationship Id="rId3" Type="http://schemas.openxmlformats.org/officeDocument/2006/relationships/hyperlink" Target="http://www.nic.ru/" TargetMode="External"/><Relationship Id="rId4" Type="http://schemas.openxmlformats.org/officeDocument/2006/relationships/hyperlink" Target="http://www.nic.ru/" TargetMode="External"/><Relationship Id="rId5" Type="http://schemas.openxmlformats.org/officeDocument/2006/relationships/hyperlink" Target="http://www.nic.ru/" TargetMode="External"/><Relationship Id="rId6" Type="http://schemas.openxmlformats.org/officeDocument/2006/relationships/hyperlink" Target="http://www.nic.ru/" TargetMode="External"/><Relationship Id="rId7" Type="http://schemas.openxmlformats.org/officeDocument/2006/relationships/hyperlink" Target="http://www.nic.ru/" TargetMode="External"/><Relationship Id="rId8" Type="http://schemas.openxmlformats.org/officeDocument/2006/relationships/hyperlink" Target="http://www.nic.ru/" TargetMode="External"/><Relationship Id="rId9" Type="http://schemas.openxmlformats.org/officeDocument/2006/relationships/hyperlink" Target="http://www.nic.ru/" TargetMode="External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194.226.65.158:8080/nic/whoi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ripe.net/db/copyright.html" TargetMode="External"/><Relationship Id="rId2" Type="http://schemas.openxmlformats.org/officeDocument/2006/relationships/hyperlink" Target="mailto:sizif@botik.ru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317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лайды к курсу лекций</a:t>
            </a: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«Сети и телекоммуникации»</a:t>
            </a:r>
            <a:br>
              <a:rPr sz="4400"/>
            </a:b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Часть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 «Протокол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TCP/IP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»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34560" y="4508280"/>
            <a:ext cx="82090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брамов С. 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УГП им. А.К.Айламазяна, Переславль-Залес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44280"/>
            <a:ext cx="7543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IP-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адрес,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IP-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одсеть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915920"/>
            <a:ext cx="82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-адрес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числовой адрес с длиной 4 байта (32 разряд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P-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дсе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сколько подряд идущих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адресов, двоичная запись которых имеет одинаковый префикс и все возможные различные суффиксы (в конце). Подсеть определяется значением префикса и его длин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43920"/>
            <a:ext cx="754380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ример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IP-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одсети, адрес и маска подсети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83.149.205.0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/25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2597040"/>
            <a:ext cx="8785440" cy="3424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Классы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IP-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етей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712000" cy="493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Выделенные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IP-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адрес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14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которы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адреса являются выделенными и трактуются по-особом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0.0.0.0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ho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0..0h..h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ост в нашей сет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 . . . . 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в нашей сет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0…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ть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..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узлы в сет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..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27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«петля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роверка принадлежности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IP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-адреса подсети 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560" y="1771200"/>
            <a:ext cx="8713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усть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адрес для проверки на принадлежность к подсе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адрес подсети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маск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сет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(X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в подсе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«меньше» подсе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А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«больше» подсе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9280" y="5300640"/>
          <a:ext cx="2449800" cy="1384200"/>
        </p:xfrm>
        <a:graphic>
          <a:graphicData uri="http://schemas.openxmlformats.org/drawingml/2006/table">
            <a:tbl>
              <a:tblPr/>
              <a:tblGrid>
                <a:gridCol w="865080"/>
                <a:gridCol w="831600"/>
                <a:gridCol w="753120"/>
              </a:tblGrid>
              <a:tr h="464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x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2770200" y="5302080"/>
          <a:ext cx="2520720" cy="1366560"/>
        </p:xfrm>
        <a:graphic>
          <a:graphicData uri="http://schemas.openxmlformats.org/drawingml/2006/table">
            <a:tbl>
              <a:tblPr/>
              <a:tblGrid>
                <a:gridCol w="839880"/>
                <a:gridCol w="841320"/>
                <a:gridCol w="839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435640" y="5300640"/>
          <a:ext cx="2519280" cy="1370160"/>
        </p:xfrm>
        <a:graphic>
          <a:graphicData uri="http://schemas.openxmlformats.org/drawingml/2006/table">
            <a:tbl>
              <a:tblPr/>
              <a:tblGrid>
                <a:gridCol w="838080"/>
                <a:gridCol w="842760"/>
                <a:gridCol w="838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8074080" y="5300640"/>
          <a:ext cx="961920" cy="1366920"/>
        </p:xfrm>
        <a:graphic>
          <a:graphicData uri="http://schemas.openxmlformats.org/drawingml/2006/table">
            <a:tbl>
              <a:tblPr/>
              <a:tblGrid>
                <a:gridCol w="479880"/>
                <a:gridCol w="48204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Таблица маршрутизации. Дихотомия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и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Default 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22320" y="1844640"/>
          <a:ext cx="7826040" cy="2595600"/>
        </p:xfrm>
        <a:graphic>
          <a:graphicData uri="http://schemas.openxmlformats.org/drawingml/2006/table">
            <a:tbl>
              <a:tblPr/>
              <a:tblGrid>
                <a:gridCol w="2608560"/>
                <a:gridCol w="2608920"/>
                <a:gridCol w="260856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Адрес се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Маска се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Интерфей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.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4653000"/>
            <a:ext cx="8642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аблицы маршрутизации часто неполны: адре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ожет не принадлежат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и одной подсет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Тогда пакет отправляется на умолчательный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интерфейс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rt hos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«умный» сервер, «старший брат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44280"/>
            <a:ext cx="80773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DNS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Domain Name Service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(служба доменных имен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перевод числовых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номеров в текстовые доменные имена и обрат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ерево (иерархическая структура)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аспределённая база данны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орень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етевой информационный цент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IC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Network Information Center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IC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оддерживает несколько ближайших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N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узлов —каждый из которых поддерживает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домены 1-го уровн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доменах заводят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д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домен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домены 2-го, 3-го и т.д. уровн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мены (поддомены) и название хоста разделяются точк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Делегирование доменов 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80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UCP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наследовал механизм делегирования домен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 домены 1-го уровня отвечает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IC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http://www.internic.ne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 домены 2-го уровня внутри домена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чает организация РосНИИ РОС (Российский НИИ Развития Общественных Сетей 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http://www.ripn.ne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er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  <a:hlinkClick r:id="rId3"/>
              </a:rPr>
              <a:t>http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4"/>
              </a:rPr>
              <a:t>://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  <a:hlinkClick r:id="rId5"/>
              </a:rPr>
              <a:t>www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6"/>
              </a:rPr>
              <a:t>.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  <a:hlinkClick r:id="rId7"/>
              </a:rPr>
              <a:t>nic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8"/>
              </a:rPr>
              <a:t>.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  <a:hlinkClick r:id="rId9"/>
              </a:rPr>
              <a:t>ru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ственный за домен поддерживает (как правило два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NS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ервер для домена.  Роль вторичного сервера, зеркалиров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-19080"/>
            <a:ext cx="8077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Иерархическая организация DNS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71640" y="1424160"/>
            <a:ext cx="7200720" cy="5389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Cloud"/>
          <p:cNvSpPr/>
          <p:nvPr/>
        </p:nvSpPr>
        <p:spPr>
          <a:xfrm>
            <a:off x="663480" y="1413000"/>
            <a:ext cx="8012160" cy="5368680"/>
          </a:xfrm>
          <a:prstGeom prst="pie">
            <a:avLst/>
          </a:prstGeom>
          <a:solidFill>
            <a:srgbClr val="ffe0c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116000" y="4076280"/>
            <a:ext cx="1655640" cy="1368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рохождение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DNS-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запрос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6" name="laptop"/>
          <p:cNvSpPr/>
          <p:nvPr/>
        </p:nvSpPr>
        <p:spPr>
          <a:xfrm>
            <a:off x="395280" y="5445000"/>
            <a:ext cx="1368360" cy="12178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963080" y="3852720"/>
            <a:ext cx="1384920" cy="2897280"/>
            <a:chOff x="1963080" y="3852720"/>
            <a:chExt cx="1384920" cy="2897280"/>
          </a:xfrm>
        </p:grpSpPr>
        <p:sp>
          <p:nvSpPr>
            <p:cNvPr id="158" name="tower"/>
            <p:cNvSpPr/>
            <p:nvPr/>
          </p:nvSpPr>
          <p:spPr>
            <a:xfrm>
              <a:off x="2843280" y="5437080"/>
              <a:ext cx="50472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ower"/>
            <p:cNvSpPr/>
            <p:nvPr/>
          </p:nvSpPr>
          <p:spPr>
            <a:xfrm>
              <a:off x="2843280" y="3852720"/>
              <a:ext cx="50472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63080" y="4791240"/>
              <a:ext cx="79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DN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94760" y="6381720"/>
              <a:ext cx="79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DN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811680" y="3852720"/>
            <a:ext cx="4349520" cy="1239840"/>
            <a:chOff x="3811680" y="3852720"/>
            <a:chExt cx="4349520" cy="1239840"/>
          </a:xfrm>
        </p:grpSpPr>
        <p:sp>
          <p:nvSpPr>
            <p:cNvPr id="163" name="tower"/>
            <p:cNvSpPr/>
            <p:nvPr/>
          </p:nvSpPr>
          <p:spPr>
            <a:xfrm>
              <a:off x="5219640" y="3852720"/>
              <a:ext cx="50472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11680" y="3860640"/>
              <a:ext cx="132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ru”-DN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ower"/>
            <p:cNvSpPr/>
            <p:nvPr/>
          </p:nvSpPr>
          <p:spPr>
            <a:xfrm>
              <a:off x="6299280" y="3860640"/>
              <a:ext cx="50472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35680" y="3860640"/>
              <a:ext cx="132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ru”-DN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937400" y="5445000"/>
            <a:ext cx="4163400" cy="1239840"/>
            <a:chOff x="4937400" y="5445000"/>
            <a:chExt cx="4163400" cy="1239840"/>
          </a:xfrm>
        </p:grpSpPr>
        <p:sp>
          <p:nvSpPr>
            <p:cNvPr id="168" name="tower"/>
            <p:cNvSpPr/>
            <p:nvPr/>
          </p:nvSpPr>
          <p:spPr>
            <a:xfrm>
              <a:off x="6372360" y="5445000"/>
              <a:ext cx="50472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37400" y="5452920"/>
              <a:ext cx="113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ag.ru”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DN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ower"/>
            <p:cNvSpPr/>
            <p:nvPr/>
          </p:nvSpPr>
          <p:spPr>
            <a:xfrm>
              <a:off x="7451640" y="5452920"/>
              <a:ext cx="50508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61400" y="5452920"/>
              <a:ext cx="113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ag.ru”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DN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140360" y="1830240"/>
            <a:ext cx="2808000" cy="1238400"/>
            <a:chOff x="4140360" y="1830240"/>
            <a:chExt cx="2808000" cy="1238400"/>
          </a:xfrm>
        </p:grpSpPr>
        <p:sp>
          <p:nvSpPr>
            <p:cNvPr id="173" name="tower"/>
            <p:cNvSpPr/>
            <p:nvPr/>
          </p:nvSpPr>
          <p:spPr>
            <a:xfrm>
              <a:off x="4140360" y="1836720"/>
              <a:ext cx="50472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ower"/>
            <p:cNvSpPr/>
            <p:nvPr/>
          </p:nvSpPr>
          <p:spPr>
            <a:xfrm>
              <a:off x="4716360" y="1836720"/>
              <a:ext cx="50508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ower"/>
            <p:cNvSpPr/>
            <p:nvPr/>
          </p:nvSpPr>
          <p:spPr>
            <a:xfrm>
              <a:off x="5291280" y="1836720"/>
              <a:ext cx="50472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ower"/>
            <p:cNvSpPr/>
            <p:nvPr/>
          </p:nvSpPr>
          <p:spPr>
            <a:xfrm>
              <a:off x="5867280" y="1836720"/>
              <a:ext cx="50508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ower"/>
            <p:cNvSpPr/>
            <p:nvPr/>
          </p:nvSpPr>
          <p:spPr>
            <a:xfrm>
              <a:off x="6443640" y="1830240"/>
              <a:ext cx="50472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18200" y="2421000"/>
              <a:ext cx="227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nterNIC root-D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0" y="5805360"/>
            <a:ext cx="1871640" cy="398880"/>
          </a:xfrm>
          <a:prstGeom prst="rect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tp.nag.r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771640" y="2707920"/>
            <a:ext cx="1224000" cy="1297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43280" y="2924280"/>
            <a:ext cx="576360" cy="1009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24360" y="4653000"/>
            <a:ext cx="648000" cy="863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08720" y="6021360"/>
            <a:ext cx="1871640" cy="673200"/>
          </a:xfrm>
          <a:prstGeom prst="rect">
            <a:avLst/>
          </a:prstGeom>
          <a:solidFill>
            <a:srgbClr val="00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tp.nag.ru =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28.64.73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96296E-006 L 0.22448 -0.23889 E">
                                      <p:cBhvr>
                                        <p:cTn id="17" dur="3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448 -0.23896 L 0.36423 -0.51192 E">
                                      <p:cBhvr>
                                        <p:cTn id="28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423 -0.51192 L 0.48437 -0.21791 E">
                                      <p:cBhvr>
                                        <p:cTn id="39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437 -0.21791 L 0.61823 0.034 E">
                                      <p:cBhvr>
                                        <p:cTn id="50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0.01735 L -0.12587 -0.28661 E">
                                      <p:cBhvr>
                                        <p:cTn id="60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06 -0.26926 L -0.2441 -0.5524 E">
                                      <p:cBhvr>
                                        <p:cTn id="67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819 -0.56327 L -0.38003 -0.30118 E">
                                      <p:cBhvr>
                                        <p:cTn id="7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795 -0.29031 L -0.59844 -0.04881 E">
                                      <p:cBhvr>
                                        <p:cTn id="81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редпосылки возникновения протокола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TCP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/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IP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ос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UC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сет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 Как следствие —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тали нетерпимыми недостатк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UC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ансность связ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следствие: высокие задержки, из практики: до трех суток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озможность монополизации канала (узл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ложный алгоритм маршрутизаци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следствие: низкая скорость решения задачи маршрутизации, высокая вычислительная нагрузка узлы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UCP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маршрутизации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DNS-кэширование (caching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гда DNS-сервер получает информацию о соответствии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IP-адрес  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мя хост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мя хоста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IP-адрес,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н кэширует эту информаци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случае повторного запроса может быть использована информация из кэш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эш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дна из часто используемых идей в отрасли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RU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п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5013360"/>
            <a:ext cx="9144000" cy="1844640"/>
          </a:xfrm>
          <a:prstGeom prst="rightArrow">
            <a:avLst>
              <a:gd name="adj1" fmla="val 50000"/>
              <a:gd name="adj2" fmla="val 1239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Распределение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IP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-номеров 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42560" y="1980720"/>
            <a:ext cx="810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3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== 4 294 967 296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номер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номеров катастрофически не хватает, проект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v6 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12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3.4×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3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делени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номеро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елегирование блоков (подсетей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омеро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Субделегирование», иерархия делегир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ссия: РосНИИ РОС (www.ripn.net), РУ-цент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лужба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WhoIs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969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ложение в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ux (MS Wi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La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http://194.226.65.158:8080/nic/whois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WhoIs botik ?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5640" y="980640"/>
            <a:ext cx="75596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This is the RIPE Whois secondary server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The objects are in RPSL format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Rights restricted by copyright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% See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Courier New"/>
                <a:ea typeface="Courier New"/>
                <a:hlinkClick r:id="rId1"/>
              </a:rPr>
              <a:t>http://www.ripe.net/db/copyright.html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etnum:      193.232.174.0 - 193.232.174.25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etname:      BOTI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:        Program Systems Institut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:        Russian Academy of Scienc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:        Pereslavl-Zalessk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ry:      RU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min-c:      SA45-RIP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ech-c:       YS17-RIP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v-srv:      ns.botik.ru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v-srv:      ns.runnet.ru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v-srv:      nss.ras.ru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us:       ASSIGNED P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tify:      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Courier New"/>
                <a:ea typeface="Courier New"/>
                <a:hlinkClick r:id="rId2"/>
              </a:rPr>
              <a:t>sizif@botik.ru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nt-by:       AS5572-M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ged:      eugene@nc.ras.ru 2001010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ged:      sizif@botik.ru 2002112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ource:       RI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WhoIs botik (2)?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5640" y="980640"/>
            <a:ext cx="75596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:       Sergei M Abram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:      Program Systems Instit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:      152020 Pereslavl-Zaless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:      Yaroslavl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:      Russ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hone:        +7 08535 9803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ax-no:       +7 08535 205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-mail:       abram@botik.r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ic-hdl:      SA45-RI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otify:       abram@botik.r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ged:      sizif@botik.ru 200004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ource:       RI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WhoIs 193.232.174.7?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16000" y="1196640"/>
            <a:ext cx="8028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e:        193.232.174.0/2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:        BOTI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rigin:       AS557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nt-by:       AS5572-M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ged:      sizif@botik.ru 1997022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urce:       RIP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WhoIs AS557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-block:     AS5377 - AS563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:        RIPE NCC ASN blo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ut-num:      AS557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-name:      BOTI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: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ientific &amp; Educational Network of Pereslavl-Zalessk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:       from AS3058 action pref=50; accept A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:       from AS13118 action pref=50; accept A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rt:       to AS3058 announce AS557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rt:       to AS13118 announce AS557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:      to AS13118 action pref=400; networks A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:      to AS3058 action pref=200; networks A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Заполнение таблиц маршрутизации 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учное построение табли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втоматизированные 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втоматические системы построения табли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лгоритмы построения табли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атическая маршрутизац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инамическая маршрутизац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18900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Статическая маршрутизация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483920"/>
            <a:ext cx="80773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Таблицы строятся в статике, как правило вручную, редактируется по мере необходимости (медленная реакция на отказы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Таблиц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дно-маршрутные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— для каждого адреса задан один пу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многомаршрутные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— есть несколько альтернативных путей + правило выбора (часто: один путь — основной, остальные резервные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бласти применени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статической маршрутиза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ебольшие сети с простой топологи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агистрали крупных сетей с простой структурой и очевидными наилучшими путями в подсе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едостатки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низкая отказоустойчивость, медленная реакция на отказ (требуется вмешательство администратора для переназначения путей следования пакетов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44280"/>
            <a:ext cx="80773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Динамическая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(адаптивная)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маршрутизация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 (1/2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8317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ользу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отоколы адаптивных алгоритм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маршрутизаторы собирают информацию о топологии связей в сети, оперативно реагируют на изменения конфигурации связ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таблицах маршрутизации кроме топологии пишется время жизни маршрута 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T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— заметить изменения и перестроить маршрутизацию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лгоритм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аспределенны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в сети нет специально выделенных маршрутизаторов для сбора и обобщения топологической информации: эта работа распределена между всеми маршрутизатор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44280"/>
            <a:ext cx="80773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Динамическая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(адаптивная)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маршрутизация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 (2/2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8317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Для эффекта от таких алгоритмов над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чтобы в сети присутствовали запасные каналы (избыточность графа связности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Требования на адаптивные алгоритмы маршрутизаци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бязаны обеспечивать выбор, если не оптимального, то хотя бы рационального маршру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стота алгоритмов, реализация требует слишком большого объема вычислений или интенсивного служебного трафи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ходимость, то есть всегда приводить к однозначному результату за приемлемое врем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268280"/>
            <a:ext cx="9144000" cy="1844640"/>
          </a:xfrm>
          <a:prstGeom prst="rightArrow">
            <a:avLst>
              <a:gd name="adj1" fmla="val 50000"/>
              <a:gd name="adj2" fmla="val 1239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Возможность монополизации канала (узла)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73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UC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опускается передача файлов большого (любого) разме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все время передачи файла канал (узел) монополизирован, невозможны никакие иные передачи через тот же канал (узе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пускается многочисленные передачи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, B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, 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, B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, 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, B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…)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монополизацией связи (без разрыва соединения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Протоколы обмена информацией о маршрутах 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ве типа алгоритмов и две группы протокол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истанционно-векторные алгоритмы (Distance Vector Algorithm, DVA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лгоритмы состояния каналов (Link State Algorithm, L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280" y="44280"/>
            <a:ext cx="8172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DVA: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дистанционно-векторные алгоритмы (1/2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ждый маршрутизатор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иодически и широковещательно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сем своим соседям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Y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рассылает вектор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{&lt;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X,Yi), Ii&gt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| i=1...n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сстоя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» от мен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X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до всех известных мне подсете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через интерфейс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не превысит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X,Y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ычно «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сстояни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» учитывает: число транзитных узлов и/ил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ncy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/ил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andwidth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/или надеж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лучив вектор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{&lt;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X,Yi), Ii&gt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| i=1...n}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от сосед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о интерфейсу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’,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ршрутизатор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’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строит вектор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{ &lt;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X’,X) +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X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I’&gt; }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объединяет его со своим прежним знанием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 рассылает новое значение вектора по се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конце концов, каждый маршрутизатор узнает информацию обо всех имеющихся в объединенной сети сетях и о расстоянии до них через соседние маршрутизаторы (интерфейсы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 адаптация?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71280" y="44280"/>
            <a:ext cx="8172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DVA: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дистанционно-векторные алгоритмы (2/2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имеры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P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Protoco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войств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рошо работают только в небольших сетя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крупных сетях — интенсивный широковещательный трафи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менения топологии отрабатываются не всегда корректно (так как маршрутизаторы не имеют точного представления о топологии связей в сети, располагают только обобщенной информацией — вектором расстояний, — к тому же полученной через посредников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дленная сходимость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 convergence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, медленное перестроение таблиц маршрутизации на роутерах при изменении топологии се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43920"/>
            <a:ext cx="754380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LSA: алгоритмы состояния каналов (1/2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267920"/>
            <a:ext cx="80773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дея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е «расскажу соседям о мире»,  а «миру расскажу о соседях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сылается не вся таблица маршрутизации, а лишь маленькие сообщения о состоянии близлежащих каналов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State Advertisemen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се маршрутизаторы имеют граф (один и тот же) всей сети.  Каждый локально делает одно и то ж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граф наноситс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tate Advertis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графе находятся оптимальные маршруты (из данной точки в любую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полняется таблица маршрутизаци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43920"/>
            <a:ext cx="754380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LSA: алгоритмы состояния каналов (2/2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267920"/>
            <a:ext cx="80773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LSA vs. DV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цесс маршрутизации более устойчив к изменениям конфигур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ироковещательная рассылка производится только при изменениях состояния связе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 так уж и часто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надежных сетях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только про изменения состояния связей (маленькие пакеты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сообщениях о состоянии связей указываетс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построении таблицы маршрутизации выбирается наискорейшее направл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имеры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to Intermediate System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стек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hortest Path Firs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стек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LS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тека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vel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Заключение (обзор главы 2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посылки возникновения протокол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шение проблем в протокол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дрес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сеть, Классы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верка принадлежност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адреса подсет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таблица маршрутизации, дихотоми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NS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служба доменных имен, делегирование доменов, прохождени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NS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проса, DNS-кэширование (caching), распределение (делегирование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номер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лужб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атическая маршрутизация и динамическая (адаптивная) маршрутиза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токолы обмена информацией о маршрутах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VA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Высокая  сложность задачи маршрутизаци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ложное сравнение адреса-строки с шаблоном (регулярное выражени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— ср. количество команд ЦПУ для сравнения адреса с шаблоно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— количество строк в таблице маршрутизации (количество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тей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½ M N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— ср. количество команд ЦПУ для решения задачи маршрутиза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ростом количества сетей  время маршрутизации будет расти линей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=1000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=2000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задача маршрутизации решается з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~1 000 000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анд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~1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к в те времен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Решение проблем в протоколе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TCP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/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IP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080" y="2062080"/>
            <a:ext cx="8820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C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/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Протокол управления передачей / Межсетевой протоко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дея высказан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обертом Каном в 1972 год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поступил на работу  в DARPA — Defense Advanced Research Projects Agency), как часть программы пакетных радиосетей: нужен надежный протокол для радиосистем: поддержка коммуникаций, несмотря на радиопомехи и т.п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дея переросла в полноправный проект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etting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 1983 протокол TCP/IP принят как стандар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требовалось его использование для всех узлов в се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Как избежать монополизации канала? 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граничение на длину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пакет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атомарной единицы сообщения)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~1440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ай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Убили двух зайцев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шена проблема монополиза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лаблены требования к ОЗУ маршрутизатора: достаточно хранить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небольшо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количество пакетов ограниченного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400 байт) разме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Ускорение поиска в таблице маршрутизации 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Идея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добьемс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возможности применения сортировки таблицы маршрутизации и алгоритма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дихотоми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 lo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стоимость поиска дихотомией, гд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количество команд для сравнения строки таблицы с адресом (будет показано, что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 = 5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число строк в таблице маршрутизации (число подсетей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ак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обиться? Адрес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целое из некоторого диапазона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дсе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непересекающиеся интервалы целы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Ускорение поиска в таблице маршрутизаци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1520" y="2479680"/>
          <a:ext cx="8934480" cy="2835360"/>
        </p:xfrm>
        <a:graphic>
          <a:graphicData uri="http://schemas.openxmlformats.org/drawingml/2006/table">
            <a:tbl>
              <a:tblPr/>
              <a:tblGrid>
                <a:gridCol w="2051280"/>
                <a:gridCol w="1944360"/>
                <a:gridCol w="1872000"/>
                <a:gridCol w="1657080"/>
                <a:gridCol w="1409760"/>
              </a:tblGrid>
              <a:tr h="1800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ток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исло подсетей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манд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1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дсеть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М, 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манд вс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ремя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ПУ</a:t>
                      </a:r>
                      <a:br>
                        <a:rPr sz="28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МГц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UC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 = 1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~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CP/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 =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~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~55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322200" y="586260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скорение почти в 20 000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75840" y="44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Идеи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IP-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адреса и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IP-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одсетей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00000" y="1988640"/>
            <a:ext cx="8244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дихотомии надо ввести ограничение на вид адреса.  Лучше всего зафиксировать его длину и сделать адрес числовы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UC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ыл замечательный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нцип доменной организации сети.  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CP/IP: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сети — непересекающиеся интервалы адрес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06:49:14Z</dcterms:created>
  <dc:creator>Sergei M. Abramov</dc:creator>
  <dc:description/>
  <dc:language>en-US</dc:language>
  <cp:lastModifiedBy>Sergei M. Abramow</cp:lastModifiedBy>
  <dcterms:modified xsi:type="dcterms:W3CDTF">2005-10-06T07:21:14Z</dcterms:modified>
  <cp:revision>362</cp:revision>
  <dc:subject/>
  <dc:title>Selling an Idea or a Product</dc:title>
</cp:coreProperties>
</file>