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8.png" ContentType="image/png"/>
  <Override PartName="/ppt/media/image21.jpeg" ContentType="image/jpeg"/>
  <Override PartName="/ppt/media/image16.jpeg" ContentType="image/jpeg"/>
  <Override PartName="/ppt/media/image27.png" ContentType="image/png"/>
  <Override PartName="/ppt/media/image1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5.wmf" ContentType="image/x-wmf"/>
  <Override PartName="/ppt/media/image23.jpeg" ContentType="image/jpeg"/>
  <Override PartName="/ppt/media/image18.jpeg" ContentType="image/jpeg"/>
  <Override PartName="/ppt/media/image19.jpeg" ContentType="image/jpeg"/>
  <Override PartName="/ppt/media/image24.wmf" ContentType="image/x-wmf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A26E-72A0-4831-90AE-30B0ED57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222800"/>
            <a:ext cx="807732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8711-346B-496D-80DA-71265652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05600" y="134136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22280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05600" y="422280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CDC-5302-4899-8864-818DA440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2600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797280" y="1341360"/>
            <a:ext cx="2600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28600" y="1341360"/>
            <a:ext cx="2600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222800"/>
            <a:ext cx="2600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797280" y="4222800"/>
            <a:ext cx="2600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28600" y="4222800"/>
            <a:ext cx="2600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CABF-4C33-4283-BD77-549EC8F1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774A-366A-448A-8660-472715E4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488F-E427-4D46-BF9C-0D6C8BEE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A6EC-7FF9-49BD-87B9-87DA646E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3941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05600" y="1341360"/>
            <a:ext cx="3941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EE86-F745-44C9-B090-4B4C233F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A2CD-AF15-453C-A62B-D5C172E7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16000" y="43920"/>
            <a:ext cx="8028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A8FF-D7E0-4125-B054-077012AC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05600" y="1341360"/>
            <a:ext cx="3941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22280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599F-2158-4A0B-B170-66A9950B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1AD-4FCA-4988-9974-96417F00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3941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05600" y="134136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05600" y="422280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C636-4914-457D-AF40-753262A4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05600" y="134136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320" y="4222800"/>
            <a:ext cx="807732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E330-C3EE-4F70-A8AD-D5737ABA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66320" y="4222800"/>
            <a:ext cx="807732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5E32-66FE-4A64-ACBF-E9EF9F68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5600" y="134136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320" y="422280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05600" y="422280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5178-09EC-4AF2-AD8E-D5535469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2600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797280" y="1341360"/>
            <a:ext cx="2600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28600" y="1341360"/>
            <a:ext cx="2600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66320" y="4222800"/>
            <a:ext cx="2600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797280" y="4222800"/>
            <a:ext cx="2600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28600" y="4222800"/>
            <a:ext cx="2600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3D63-5299-4F4A-8827-E9D56A36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A762-A609-4321-A107-64144E46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3941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5600" y="1341360"/>
            <a:ext cx="3941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FD2-1562-476E-9CB4-A0232CF9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040B-FC5F-4A73-A39B-BA113B4A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16000" y="43920"/>
            <a:ext cx="8028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3905-2D2D-4058-8D31-80923D51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5600" y="1341360"/>
            <a:ext cx="3941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22280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593-BA18-4037-BD82-7C1D54F7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3941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5600" y="134136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05600" y="422280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291-055E-41FF-8DD8-563C4CD9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05600" y="1341360"/>
            <a:ext cx="394164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222800"/>
            <a:ext cx="8077320" cy="26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1B55-A5B6-4F4E-BC9D-6E499420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70F5-B2E4-4CBD-9335-6A009826C10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22320" y="44280"/>
            <a:ext cx="900000" cy="100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32CC-1355-40AA-96BD-E69DACC3823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320" y="44280"/>
            <a:ext cx="1477800" cy="1656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лайды к курсу лекций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«Сети и телекоммуникации»</a:t>
            </a:r>
            <a:br>
              <a:rPr sz="4400"/>
            </a:b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Часть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3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«Сети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Ethernet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»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34560" y="4508280"/>
            <a:ext cx="8209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брамов С. 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УГП им. А.К.Айламазяна, Переславль-Залес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Широковещательная передача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.</a:t>
            </a: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Broadcast (multicast</a:t>
            </a: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дача сообщения всем абонентам сегмента сети: в адресе получателя указывается адрес «FF:FF:FF:FF:FF:FF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акеты с таким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C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дресом воспринимаются всеми абонентами сегмент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Широко используется для технических целей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ороткие сообщения о присутствии в сети и о состоян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«Коаксиальный»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Ethernet: 10Base-2, 10Base-5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Base-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10 Mbps) — первые из Ethernet-сет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G-5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«тонкий коаксиал»: центральная медная жила (D = 0.89 мм), полиэтиленовый изолятор и внешняя оплетка из медного провода (D = ~5 мм), максимальная длина сегмента (без хабов): ~185 м, ~$0.10/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Рекомендуемо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аксимальное количество станций в сегменте — 30 (не только коллизии, но и 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надежность контакто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Base-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10 Mbps): «толстый коаксиал», до 100 узлов в сегменте, длина до 500 м; относительно жёсткий, D = ~1 см; существенно дороже; более сложен в установк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10Base-2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RG-58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2948" t="0" r="2863" b="0"/>
          <a:stretch/>
        </p:blipFill>
        <p:spPr>
          <a:xfrm>
            <a:off x="1042920" y="2205000"/>
            <a:ext cx="3600360" cy="2044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3256200" cy="2682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21779" t="5967" r="5531" b="0"/>
          <a:stretch/>
        </p:blipFill>
        <p:spPr>
          <a:xfrm>
            <a:off x="971640" y="4437000"/>
            <a:ext cx="3843360" cy="2305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929120" y="4437000"/>
            <a:ext cx="414648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10Base-2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RG-58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Оплетка кабеля обязательно должна быть заземлена на одном конце! Заземление кабеля в двух точках вызовет нежелательные токи в оплетке и повышение уровня поме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4920" y="2109960"/>
            <a:ext cx="9109080" cy="4703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rcRect l="13732" t="0" r="0" b="0"/>
          <a:stretch/>
        </p:blipFill>
        <p:spPr>
          <a:xfrm>
            <a:off x="7093080" y="4724280"/>
            <a:ext cx="1834920" cy="1630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10Base-2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, недостатк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изкая надежность линейных сетей с топологией «шина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достаточная скорость передачи данных (всего 10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bp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ти на основе коаксиального кабеля постепенно вытесняются более надежными и перспективными сетями на основе кабеля витой па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44280"/>
            <a:ext cx="802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Base-T, 100Base-T,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кабель витой пары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ase-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«T» 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iste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названии стандарта)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андарт принят в 1991 году, 802.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1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bp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00Base-T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0 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реда — двойная витая пара (Unshielded Twisted Pair — UTP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ielde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Twisted Pair 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T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FTP, SFTP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с разъемами RJ-45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опология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звезда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длина любой линии (по стандарту) не более 100 м; центр «звезды» 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6000" y="44280"/>
            <a:ext cx="802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Hub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(1/3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Хаб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b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центр, концентратор] — сетевой аппаратный узел, к которому подключаются все компьютеры в сети топологии "звезда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ктивный хаб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осстанавливает (усиливает) и ретранслирует сигна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ассивный хаб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осто соединяет среды передачи сигн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44280"/>
            <a:ext cx="802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Hub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(2/3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инцип работы хаба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пакет, полученный на одном порту хаба немедленно ретранслируется на все остальные пор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аб объединяет сегменты в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бщий домен коллиз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аб решает проблему затухания сигнала, не решает проблему коллиз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6000" y="44280"/>
            <a:ext cx="802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Hub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(3/3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абы характеризую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числу и типам портов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пример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×TP + 1×B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скорости передачи данны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bps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Hub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 Mbps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 Ethernet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силу принципов своей работы хабы не могут иметь порты с различной скоростью передачи данных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Mbps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0 Mbps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дновременно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Hub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20011" t="24021" r="21048" b="21451"/>
          <a:stretch/>
        </p:blipFill>
        <p:spPr>
          <a:xfrm>
            <a:off x="0" y="1197000"/>
            <a:ext cx="4572000" cy="3019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348000" y="2608200"/>
            <a:ext cx="5796000" cy="4249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029480" y="496800"/>
            <a:ext cx="484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8 × 10 Base T (RJ-45) +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 × 10 Base 2 (BN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История возникновения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Ethernet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ети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thernet Networ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— Xerox, 197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тандарт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thernet I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для сетей, построенных на основе коаксиального кабеля —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C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tel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ox — стандарт Ethernet  II иногда называют стандартом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198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 базе Ethernet DIX был разработан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EEE 802.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; имеет различные модификации (для разных типов физической среды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10Base-5, 10Base-2, 10Base-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Топология «звезда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5124" t="10974" r="0" b="6770"/>
          <a:stretch/>
        </p:blipFill>
        <p:spPr>
          <a:xfrm>
            <a:off x="0" y="3517920"/>
            <a:ext cx="9144000" cy="334008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2484360" y="1916280"/>
            <a:ext cx="3674880" cy="1871640"/>
            <a:chOff x="2484360" y="1916280"/>
            <a:chExt cx="3674880" cy="1871640"/>
          </a:xfrm>
        </p:grpSpPr>
        <p:sp>
          <p:nvSpPr>
            <p:cNvPr id="160" name=""/>
            <p:cNvSpPr/>
            <p:nvPr/>
          </p:nvSpPr>
          <p:spPr>
            <a:xfrm flipV="1">
              <a:off x="2773080" y="2131920"/>
              <a:ext cx="1584360" cy="36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421080" y="2132280"/>
              <a:ext cx="865080" cy="936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286160" y="2132280"/>
              <a:ext cx="0" cy="1079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86160" y="2132280"/>
              <a:ext cx="1584360" cy="431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4285800" y="2132280"/>
              <a:ext cx="863640" cy="936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84360" y="1916280"/>
              <a:ext cx="3674880" cy="1871640"/>
              <a:chOff x="2484360" y="1916280"/>
              <a:chExt cx="3674880" cy="187164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3841200" y="1916280"/>
                <a:ext cx="959400" cy="1871640"/>
                <a:chOff x="3841200" y="1916280"/>
                <a:chExt cx="959400" cy="18716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841200" y="1916280"/>
                  <a:ext cx="959400" cy="520560"/>
                </a:xfrm>
                <a:prstGeom prst="rect">
                  <a:avLst/>
                </a:pr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ahoma"/>
                    </a:rPr>
                    <a:t>HU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computr2"/>
                <p:cNvSpPr/>
                <p:nvPr/>
              </p:nvSpPr>
              <p:spPr>
                <a:xfrm>
                  <a:off x="3997080" y="3069000"/>
                  <a:ext cx="649440" cy="71892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133440" y="2924280"/>
                <a:ext cx="2378160" cy="719280"/>
                <a:chOff x="3133440" y="2924280"/>
                <a:chExt cx="2378160" cy="719280"/>
              </a:xfrm>
            </p:grpSpPr>
            <p:sp>
              <p:nvSpPr>
                <p:cNvPr id="170" name="computr2"/>
                <p:cNvSpPr/>
                <p:nvPr/>
              </p:nvSpPr>
              <p:spPr>
                <a:xfrm>
                  <a:off x="3133440" y="2924280"/>
                  <a:ext cx="649440" cy="71928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computr2"/>
                <p:cNvSpPr/>
                <p:nvPr/>
              </p:nvSpPr>
              <p:spPr>
                <a:xfrm>
                  <a:off x="4862520" y="2924280"/>
                  <a:ext cx="649080" cy="71928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2484360" y="2348280"/>
                <a:ext cx="3674880" cy="718920"/>
                <a:chOff x="2484360" y="2348280"/>
                <a:chExt cx="3674880" cy="718920"/>
              </a:xfrm>
            </p:grpSpPr>
            <p:sp>
              <p:nvSpPr>
                <p:cNvPr id="173" name="computr2"/>
                <p:cNvSpPr/>
                <p:nvPr/>
              </p:nvSpPr>
              <p:spPr>
                <a:xfrm>
                  <a:off x="2484360" y="2348280"/>
                  <a:ext cx="649080" cy="71892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computr2"/>
                <p:cNvSpPr/>
                <p:nvPr/>
              </p:nvSpPr>
              <p:spPr>
                <a:xfrm>
                  <a:off x="5510160" y="2348280"/>
                  <a:ext cx="649080" cy="71892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Топология «звезда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4797360"/>
            <a:ext cx="845964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Логическ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общий домен коллиз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изическое разделени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локализация последствий неисправности, индивидуальный контроль состояния кабелей, индивидуальное исправление неисправ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ущественно облегчена эксплуатаци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больших сетей Ether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08000" y="1089000"/>
            <a:ext cx="8931240" cy="3564000"/>
            <a:chOff x="108000" y="1089000"/>
            <a:chExt cx="8931240" cy="3564000"/>
          </a:xfrm>
        </p:grpSpPr>
        <p:sp>
          <p:nvSpPr>
            <p:cNvPr id="178" name=""/>
            <p:cNvSpPr/>
            <p:nvPr/>
          </p:nvSpPr>
          <p:spPr>
            <a:xfrm flipV="1">
              <a:off x="1911240" y="1303560"/>
              <a:ext cx="2664000" cy="1728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4575240" y="1303560"/>
              <a:ext cx="2664000" cy="1728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08000" y="2779920"/>
              <a:ext cx="8931240" cy="1873080"/>
              <a:chOff x="108000" y="2779920"/>
              <a:chExt cx="8931240" cy="18730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108000" y="2781360"/>
                <a:ext cx="3674880" cy="1871640"/>
                <a:chOff x="108000" y="2781360"/>
                <a:chExt cx="3674880" cy="1871640"/>
              </a:xfrm>
            </p:grpSpPr>
            <p:sp>
              <p:nvSpPr>
                <p:cNvPr id="182" name=""/>
                <p:cNvSpPr/>
                <p:nvPr/>
              </p:nvSpPr>
              <p:spPr>
                <a:xfrm flipV="1">
                  <a:off x="396720" y="2997000"/>
                  <a:ext cx="1584360" cy="3603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1044720" y="2997360"/>
                  <a:ext cx="865080" cy="936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1909800" y="2997360"/>
                  <a:ext cx="0" cy="1079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909800" y="2997360"/>
                  <a:ext cx="1584360" cy="4316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flipV="1">
                  <a:off x="1909440" y="2997360"/>
                  <a:ext cx="863640" cy="936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108000" y="2781360"/>
                  <a:ext cx="3674880" cy="1871640"/>
                  <a:chOff x="108000" y="2781360"/>
                  <a:chExt cx="3674880" cy="187164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1464840" y="2781360"/>
                    <a:ext cx="959400" cy="1871640"/>
                    <a:chOff x="1464840" y="2781360"/>
                    <a:chExt cx="959400" cy="187164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1464840" y="2781360"/>
                      <a:ext cx="959400" cy="520560"/>
                    </a:xfrm>
                    <a:prstGeom prst="rect">
                      <a:avLst/>
                    </a:prstGeom>
                    <a:solidFill>
                      <a:srgbClr val="66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U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computr2"/>
                    <p:cNvSpPr/>
                    <p:nvPr/>
                  </p:nvSpPr>
                  <p:spPr>
                    <a:xfrm>
                      <a:off x="1620720" y="3934080"/>
                      <a:ext cx="649440" cy="718920"/>
                    </a:xfrm>
                    <a:prstGeom prst="pi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757080" y="3789360"/>
                    <a:ext cx="2378160" cy="719280"/>
                    <a:chOff x="757080" y="3789360"/>
                    <a:chExt cx="2378160" cy="719280"/>
                  </a:xfrm>
                </p:grpSpPr>
                <p:sp>
                  <p:nvSpPr>
                    <p:cNvPr id="192" name="computr2"/>
                    <p:cNvSpPr/>
                    <p:nvPr/>
                  </p:nvSpPr>
                  <p:spPr>
                    <a:xfrm>
                      <a:off x="757080" y="3789360"/>
                      <a:ext cx="649440" cy="719280"/>
                    </a:xfrm>
                    <a:prstGeom prst="pi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computr2"/>
                    <p:cNvSpPr/>
                    <p:nvPr/>
                  </p:nvSpPr>
                  <p:spPr>
                    <a:xfrm>
                      <a:off x="2486160" y="3789360"/>
                      <a:ext cx="649080" cy="719280"/>
                    </a:xfrm>
                    <a:prstGeom prst="pi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108000" y="3213360"/>
                    <a:ext cx="3674880" cy="718920"/>
                    <a:chOff x="108000" y="3213360"/>
                    <a:chExt cx="3674880" cy="718920"/>
                  </a:xfrm>
                </p:grpSpPr>
                <p:sp>
                  <p:nvSpPr>
                    <p:cNvPr id="195" name="computr2"/>
                    <p:cNvSpPr/>
                    <p:nvPr/>
                  </p:nvSpPr>
                  <p:spPr>
                    <a:xfrm>
                      <a:off x="108000" y="3213360"/>
                      <a:ext cx="649080" cy="718920"/>
                    </a:xfrm>
                    <a:prstGeom prst="pi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computr2"/>
                    <p:cNvSpPr/>
                    <p:nvPr/>
                  </p:nvSpPr>
                  <p:spPr>
                    <a:xfrm>
                      <a:off x="3133800" y="3213360"/>
                      <a:ext cx="649080" cy="718920"/>
                    </a:xfrm>
                    <a:prstGeom prst="pi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97" name=""/>
              <p:cNvGrpSpPr/>
              <p:nvPr/>
            </p:nvGrpSpPr>
            <p:grpSpPr>
              <a:xfrm>
                <a:off x="5364360" y="2779920"/>
                <a:ext cx="3674880" cy="1871640"/>
                <a:chOff x="5364360" y="2779920"/>
                <a:chExt cx="3674880" cy="1871640"/>
              </a:xfrm>
            </p:grpSpPr>
            <p:sp>
              <p:nvSpPr>
                <p:cNvPr id="198" name=""/>
                <p:cNvSpPr/>
                <p:nvPr/>
              </p:nvSpPr>
              <p:spPr>
                <a:xfrm flipV="1">
                  <a:off x="5653080" y="2995560"/>
                  <a:ext cx="1584360" cy="3603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166160" y="2995920"/>
                  <a:ext cx="1584360" cy="4316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6013440" y="2779920"/>
                  <a:ext cx="2378160" cy="1871640"/>
                  <a:chOff x="6013440" y="2779920"/>
                  <a:chExt cx="2378160" cy="187164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V="1">
                    <a:off x="6300720" y="2995920"/>
                    <a:ext cx="865440" cy="9367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V="1">
                    <a:off x="7166160" y="2995920"/>
                    <a:ext cx="0" cy="107928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flipV="1">
                    <a:off x="7165800" y="2995920"/>
                    <a:ext cx="863640" cy="9367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6721200" y="2779920"/>
                    <a:ext cx="959400" cy="520560"/>
                  </a:xfrm>
                  <a:prstGeom prst="rect">
                    <a:avLst/>
                  </a:pr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ahoma"/>
                      </a:rPr>
                      <a:t>HU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computr2"/>
                  <p:cNvSpPr/>
                  <p:nvPr/>
                </p:nvSpPr>
                <p:spPr>
                  <a:xfrm>
                    <a:off x="6877080" y="3932640"/>
                    <a:ext cx="649440" cy="718920"/>
                  </a:xfrm>
                  <a:prstGeom prst="pi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6" name=""/>
                  <p:cNvGrpSpPr/>
                  <p:nvPr/>
                </p:nvGrpSpPr>
                <p:grpSpPr>
                  <a:xfrm>
                    <a:off x="6013440" y="3787920"/>
                    <a:ext cx="2378160" cy="719280"/>
                    <a:chOff x="6013440" y="3787920"/>
                    <a:chExt cx="2378160" cy="719280"/>
                  </a:xfrm>
                </p:grpSpPr>
                <p:sp>
                  <p:nvSpPr>
                    <p:cNvPr id="207" name="computr2"/>
                    <p:cNvSpPr/>
                    <p:nvPr/>
                  </p:nvSpPr>
                  <p:spPr>
                    <a:xfrm>
                      <a:off x="6013440" y="3787920"/>
                      <a:ext cx="649440" cy="719280"/>
                    </a:xfrm>
                    <a:prstGeom prst="pi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computr2"/>
                    <p:cNvSpPr/>
                    <p:nvPr/>
                  </p:nvSpPr>
                  <p:spPr>
                    <a:xfrm>
                      <a:off x="7742520" y="3787920"/>
                      <a:ext cx="649080" cy="719280"/>
                    </a:xfrm>
                    <a:prstGeom prst="pi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5364360" y="3211920"/>
                  <a:ext cx="3674880" cy="718920"/>
                  <a:chOff x="5364360" y="3211920"/>
                  <a:chExt cx="3674880" cy="718920"/>
                </a:xfrm>
              </p:grpSpPr>
              <p:sp>
                <p:nvSpPr>
                  <p:cNvPr id="210" name="computr2"/>
                  <p:cNvSpPr/>
                  <p:nvPr/>
                </p:nvSpPr>
                <p:spPr>
                  <a:xfrm>
                    <a:off x="5364360" y="3211920"/>
                    <a:ext cx="649080" cy="718920"/>
                  </a:xfrm>
                  <a:prstGeom prst="pi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computr2"/>
                  <p:cNvSpPr/>
                  <p:nvPr/>
                </p:nvSpPr>
                <p:spPr>
                  <a:xfrm>
                    <a:off x="8390160" y="3211920"/>
                    <a:ext cx="649080" cy="718920"/>
                  </a:xfrm>
                  <a:prstGeom prst="pi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2" name=""/>
            <p:cNvGrpSpPr/>
            <p:nvPr/>
          </p:nvGrpSpPr>
          <p:grpSpPr>
            <a:xfrm>
              <a:off x="3384720" y="1089000"/>
              <a:ext cx="2377440" cy="1871640"/>
              <a:chOff x="3384720" y="1089000"/>
              <a:chExt cx="2377440" cy="187164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3671640" y="1305000"/>
                <a:ext cx="865080" cy="9367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4537080" y="1305000"/>
                <a:ext cx="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flipV="1">
                <a:off x="4537080" y="1305000"/>
                <a:ext cx="863280" cy="9367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92120" y="1089000"/>
                <a:ext cx="959400" cy="5205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ahoma"/>
                  </a:rPr>
                  <a:t>HU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computr2"/>
              <p:cNvSpPr/>
              <p:nvPr/>
            </p:nvSpPr>
            <p:spPr>
              <a:xfrm>
                <a:off x="4248000" y="2241720"/>
                <a:ext cx="649080" cy="71892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3384720" y="2097000"/>
                <a:ext cx="2377440" cy="719280"/>
                <a:chOff x="3384720" y="2097000"/>
                <a:chExt cx="2377440" cy="719280"/>
              </a:xfrm>
            </p:grpSpPr>
            <p:sp>
              <p:nvSpPr>
                <p:cNvPr id="219" name="computr2"/>
                <p:cNvSpPr/>
                <p:nvPr/>
              </p:nvSpPr>
              <p:spPr>
                <a:xfrm>
                  <a:off x="3384720" y="2097000"/>
                  <a:ext cx="649080" cy="71928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computr2"/>
                <p:cNvSpPr/>
                <p:nvPr/>
              </p:nvSpPr>
              <p:spPr>
                <a:xfrm>
                  <a:off x="5113440" y="2097000"/>
                  <a:ext cx="648720" cy="71928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Кабель витой пар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8934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P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витые между собой (с определенным шагом) пары проводов + перевитый пучок таких па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бель обладает волновыми свойствами (кроме функции проведения электрического тока) —  среда для передачи высокочастотного сигна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вивка — устойчивость сигнала к внешнему электромагнитному воздействию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соображений «равноправности» проводов  в перевитой паре проводов: в случае наводки в обоих проводах пары произойдет примерно одинаковое изменение потенциа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ринимающем устройстве оценивается разность потенциалов между проводами, помеха будет приемнику практически незамет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6000" y="44280"/>
            <a:ext cx="802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Разновидности кабелей витой пары и их применение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личие и тип экр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еэкранированны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UTP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внутренняя проводка и обычные услов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кранированны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TP, STP, SFTP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внешняя проводка и/или тяжелые услов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ип пров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нолитный прово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«магистральный кабель»: низкие потери, жестк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ногожильный прово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«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ch cor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, мягкий, значительные потер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личество пар в кабел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Кабель витой пары,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вилка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RJ-45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24540" t="5255" r="11576" b="32899"/>
          <a:stretch/>
        </p:blipFill>
        <p:spPr>
          <a:xfrm>
            <a:off x="1112760" y="4508640"/>
            <a:ext cx="2073240" cy="2133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21440" y="1909800"/>
            <a:ext cx="3671640" cy="2313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3565440" y="4687920"/>
            <a:ext cx="2446560" cy="20541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971640" y="1916280"/>
            <a:ext cx="3384360" cy="2168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6335640" y="4724280"/>
            <a:ext cx="2700360" cy="199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Установка вилки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RJ-45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на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UTP (1/3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1706" r="3346" b="1706"/>
          <a:stretch/>
        </p:blipFill>
        <p:spPr>
          <a:xfrm>
            <a:off x="1293840" y="4475160"/>
            <a:ext cx="3119400" cy="233856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1293840" y="1916280"/>
            <a:ext cx="7305480" cy="2339640"/>
            <a:chOff x="1293840" y="1916280"/>
            <a:chExt cx="7305480" cy="233964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rcRect l="0" t="3543" r="2854" b="1969"/>
            <a:stretch/>
          </p:blipFill>
          <p:spPr>
            <a:xfrm>
              <a:off x="1293840" y="1916280"/>
              <a:ext cx="3206880" cy="23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3"/>
            <a:srcRect l="2657" t="0" r="2854" b="0"/>
            <a:stretch/>
          </p:blipFill>
          <p:spPr>
            <a:xfrm>
              <a:off x="5651640" y="1916280"/>
              <a:ext cx="2947680" cy="233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" descr=""/>
          <p:cNvPicPr/>
          <p:nvPr/>
        </p:nvPicPr>
        <p:blipFill>
          <a:blip r:embed="rId4"/>
          <a:srcRect l="0" t="2625" r="1575" b="0"/>
          <a:stretch/>
        </p:blipFill>
        <p:spPr>
          <a:xfrm>
            <a:off x="5446800" y="4473720"/>
            <a:ext cx="3152520" cy="2340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Установка вилки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RJ-45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на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UTP (2/3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908000" y="1193760"/>
            <a:ext cx="6985080" cy="5632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Установка вилки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RJ-45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на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UTP (3/3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71640" y="1954080"/>
            <a:ext cx="7891200" cy="2338200"/>
            <a:chOff x="971640" y="1954080"/>
            <a:chExt cx="7891200" cy="233820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rcRect l="0" t="6955" r="4626" b="0"/>
            <a:stretch/>
          </p:blipFill>
          <p:spPr>
            <a:xfrm>
              <a:off x="971640" y="1954080"/>
              <a:ext cx="3195720" cy="23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2"/>
            <a:srcRect l="0" t="3543" r="2854" b="0"/>
            <a:stretch/>
          </p:blipFill>
          <p:spPr>
            <a:xfrm>
              <a:off x="5724360" y="1954080"/>
              <a:ext cx="3138480" cy="23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3" name="" descr=""/>
          <p:cNvPicPr/>
          <p:nvPr/>
        </p:nvPicPr>
        <p:blipFill>
          <a:blip r:embed="rId3"/>
          <a:srcRect l="0" t="0" r="2854" b="0"/>
          <a:stretch/>
        </p:blipFill>
        <p:spPr>
          <a:xfrm>
            <a:off x="3402000" y="4437000"/>
            <a:ext cx="3030480" cy="2338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Типы разъемов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RJ-45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293840" y="1341360"/>
            <a:ext cx="5942160" cy="2951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303200" y="4944960"/>
            <a:ext cx="5919840" cy="1797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Розетка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RJ-45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«под винт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3089160"/>
            <a:ext cx="6659640" cy="3768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3203640" cy="2470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ринцип функционирования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Ethernet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(1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Аналог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разговор группы вежливых людей в небольшой темной комнат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ждый человек слышит каждог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ка кто-то говорит, все остальные в комнате молча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се имеют одинаковое право и возможность говорить (множественный доступ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икто не говорит слишком долго — избегают монополизации на длительное время права говорить.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Другие стандарты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Ethernet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956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thernet, 10 M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-T: UTP 2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а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-FL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товолоконный кабел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ast Ethernet, 100 Mbp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Base-TX: UTP 2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а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Base-T4: UTP 4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а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Base-FX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товолоконный кабел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igabit Ethernet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G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X: STP 4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а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/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L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товолоконный кабел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Ограничения на размеры сегмента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Shared Ethernet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линный сегмен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много хабов — большие задержки, много поздних коллизий — радикальное ухудшение работы сети (до полной потери работоспособност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уровн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ного активно работающих компьютер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растет вероятность коллизий — ухудшение характеристик сети (пропускная способность и задержка на уровн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Правило 4 хабов (простой случай, в сети только хабы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483920"/>
            <a:ext cx="80773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допускаются циклы в се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жду любыми двумя абонентами предельно допускаетс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 4-х хабов, если хабы удовлетворяют ограничениям на задержки сигнал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 5 сегментов кабеля, до 100 метров кажд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 есть, максимальный диаметр сети — до 500 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Правило 4 хабов (простой случай, в сети только хабы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320" y="1483920"/>
            <a:ext cx="80773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и ограничения гарантируют правильное обнаружение коллизии крайними абонент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нное правило необходимо, но не достаточно, если 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сети используют разные среды передачи данных (а точный критерий — более сложный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322560" y="1485720"/>
            <a:ext cx="8498880" cy="5112000"/>
            <a:chOff x="322560" y="1485720"/>
            <a:chExt cx="8498880" cy="5112000"/>
          </a:xfrm>
        </p:grpSpPr>
        <p:grpSp>
          <p:nvGrpSpPr>
            <p:cNvPr id="259" name=""/>
            <p:cNvGrpSpPr/>
            <p:nvPr/>
          </p:nvGrpSpPr>
          <p:grpSpPr>
            <a:xfrm>
              <a:off x="324360" y="1485720"/>
              <a:ext cx="3386160" cy="2519640"/>
              <a:chOff x="324360" y="1485720"/>
              <a:chExt cx="3386160" cy="2519640"/>
            </a:xfrm>
          </p:grpSpPr>
          <p:sp>
            <p:nvSpPr>
              <p:cNvPr id="260" name=""/>
              <p:cNvSpPr/>
              <p:nvPr/>
            </p:nvSpPr>
            <p:spPr>
              <a:xfrm>
                <a:off x="2126160" y="2854440"/>
                <a:ext cx="1584360" cy="1150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81800" y="1775160"/>
                <a:ext cx="14436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333800" y="1775160"/>
                <a:ext cx="79200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13440" y="1775160"/>
                <a:ext cx="143964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1621080" y="2567160"/>
                <a:ext cx="936720" cy="576360"/>
              </a:xfrm>
              <a:prstGeom prst="rect">
                <a:avLst/>
              </a:prstGeom>
              <a:solidFill>
                <a:srgbClr val="5e93c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HU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324360" y="1485720"/>
                <a:ext cx="1873080" cy="506520"/>
                <a:chOff x="324360" y="1485720"/>
                <a:chExt cx="1873080" cy="506520"/>
              </a:xfrm>
            </p:grpSpPr>
            <p:sp>
              <p:nvSpPr>
                <p:cNvPr id="266" name=""/>
                <p:cNvSpPr/>
                <p:nvPr/>
              </p:nvSpPr>
              <p:spPr>
                <a:xfrm flipH="1" rot="5400000">
                  <a:off x="1008360" y="1485720"/>
                  <a:ext cx="504720" cy="504720"/>
                </a:xfrm>
                <a:prstGeom prst="ellipse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324360" y="1486080"/>
                  <a:ext cx="1873080" cy="506160"/>
                  <a:chOff x="324360" y="1486080"/>
                  <a:chExt cx="1873080" cy="50616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 flipH="1" rot="5400000">
                    <a:off x="1692720" y="148608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 rot="5400000">
                    <a:off x="324000" y="148752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0" name=""/>
            <p:cNvGrpSpPr/>
            <p:nvPr/>
          </p:nvGrpSpPr>
          <p:grpSpPr>
            <a:xfrm>
              <a:off x="322560" y="4078080"/>
              <a:ext cx="3386160" cy="2519640"/>
              <a:chOff x="322560" y="4078080"/>
              <a:chExt cx="3386160" cy="251964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2124360" y="4078080"/>
                <a:ext cx="1584360" cy="1150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1980000" y="5229360"/>
                <a:ext cx="14436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332000" y="5229360"/>
                <a:ext cx="79200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611280" y="5229360"/>
                <a:ext cx="144000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 rot="10800000">
                <a:off x="1619280" y="4939200"/>
                <a:ext cx="936720" cy="576360"/>
              </a:xfrm>
              <a:prstGeom prst="rect">
                <a:avLst/>
              </a:prstGeom>
              <a:solidFill>
                <a:srgbClr val="5e93c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HU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322560" y="6091200"/>
                <a:ext cx="1873080" cy="506520"/>
                <a:chOff x="322560" y="6091200"/>
                <a:chExt cx="1873080" cy="506520"/>
              </a:xfrm>
            </p:grpSpPr>
            <p:sp>
              <p:nvSpPr>
                <p:cNvPr id="277" name=""/>
                <p:cNvSpPr/>
                <p:nvPr/>
              </p:nvSpPr>
              <p:spPr>
                <a:xfrm flipH="1" flipV="1" rot="16200000">
                  <a:off x="1006560" y="6093000"/>
                  <a:ext cx="504720" cy="504720"/>
                </a:xfrm>
                <a:prstGeom prst="ellipse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8" name=""/>
                <p:cNvGrpSpPr/>
                <p:nvPr/>
              </p:nvGrpSpPr>
              <p:grpSpPr>
                <a:xfrm>
                  <a:off x="322560" y="6091200"/>
                  <a:ext cx="1873080" cy="506160"/>
                  <a:chOff x="322560" y="6091200"/>
                  <a:chExt cx="1873080" cy="50616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H="1" flipV="1" rot="16200000">
                    <a:off x="1690920" y="609264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flipV="1" rot="16200000">
                    <a:off x="322560" y="609120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1" name=""/>
            <p:cNvGrpSpPr/>
            <p:nvPr/>
          </p:nvGrpSpPr>
          <p:grpSpPr>
            <a:xfrm>
              <a:off x="5435280" y="4078080"/>
              <a:ext cx="3386160" cy="2519640"/>
              <a:chOff x="5435280" y="4078080"/>
              <a:chExt cx="3386160" cy="2519640"/>
            </a:xfrm>
          </p:grpSpPr>
          <p:sp>
            <p:nvSpPr>
              <p:cNvPr id="282" name=""/>
              <p:cNvSpPr/>
              <p:nvPr/>
            </p:nvSpPr>
            <p:spPr>
              <a:xfrm flipH="1" flipV="1">
                <a:off x="5435280" y="4078080"/>
                <a:ext cx="1584360" cy="1150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flipV="1">
                <a:off x="7019640" y="5229360"/>
                <a:ext cx="14436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flipV="1">
                <a:off x="7020000" y="5229360"/>
                <a:ext cx="79200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7092720" y="5229360"/>
                <a:ext cx="144000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 rot="10800000">
                <a:off x="6588000" y="4939200"/>
                <a:ext cx="936720" cy="576360"/>
              </a:xfrm>
              <a:prstGeom prst="rect">
                <a:avLst/>
              </a:prstGeom>
              <a:solidFill>
                <a:srgbClr val="5e93c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HU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6948360" y="6091200"/>
                <a:ext cx="1873080" cy="506520"/>
                <a:chOff x="6948360" y="6091200"/>
                <a:chExt cx="1873080" cy="506520"/>
              </a:xfrm>
            </p:grpSpPr>
            <p:sp>
              <p:nvSpPr>
                <p:cNvPr id="288" name=""/>
                <p:cNvSpPr/>
                <p:nvPr/>
              </p:nvSpPr>
              <p:spPr>
                <a:xfrm flipV="1" rot="5400000">
                  <a:off x="7632720" y="6093000"/>
                  <a:ext cx="504720" cy="504720"/>
                </a:xfrm>
                <a:prstGeom prst="ellipse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9" name=""/>
                <p:cNvGrpSpPr/>
                <p:nvPr/>
              </p:nvGrpSpPr>
              <p:grpSpPr>
                <a:xfrm>
                  <a:off x="6948360" y="6091200"/>
                  <a:ext cx="1873080" cy="506160"/>
                  <a:chOff x="6948360" y="6091200"/>
                  <a:chExt cx="1873080" cy="50616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flipV="1" rot="5400000">
                    <a:off x="6948360" y="609264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V="1" rot="5400000">
                    <a:off x="8316720" y="609120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2" name=""/>
            <p:cNvGrpSpPr/>
            <p:nvPr/>
          </p:nvGrpSpPr>
          <p:grpSpPr>
            <a:xfrm>
              <a:off x="5435280" y="1485720"/>
              <a:ext cx="3386160" cy="2519640"/>
              <a:chOff x="5435280" y="1485720"/>
              <a:chExt cx="3386160" cy="2519640"/>
            </a:xfrm>
          </p:grpSpPr>
          <p:sp>
            <p:nvSpPr>
              <p:cNvPr id="293" name=""/>
              <p:cNvSpPr/>
              <p:nvPr/>
            </p:nvSpPr>
            <p:spPr>
              <a:xfrm flipH="1">
                <a:off x="5435280" y="2854440"/>
                <a:ext cx="1584360" cy="1150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7019640" y="1775160"/>
                <a:ext cx="14436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7020000" y="1775160"/>
                <a:ext cx="79200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7092720" y="1775160"/>
                <a:ext cx="1439640" cy="1079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88000" y="2567160"/>
                <a:ext cx="936720" cy="576360"/>
              </a:xfrm>
              <a:prstGeom prst="rect">
                <a:avLst/>
              </a:prstGeom>
              <a:solidFill>
                <a:srgbClr val="5e93c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HU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6948360" y="1485720"/>
                <a:ext cx="1873080" cy="506520"/>
                <a:chOff x="6948360" y="1485720"/>
                <a:chExt cx="1873080" cy="506520"/>
              </a:xfrm>
            </p:grpSpPr>
            <p:sp>
              <p:nvSpPr>
                <p:cNvPr id="299" name=""/>
                <p:cNvSpPr/>
                <p:nvPr/>
              </p:nvSpPr>
              <p:spPr>
                <a:xfrm rot="16200000">
                  <a:off x="7632720" y="1485720"/>
                  <a:ext cx="504720" cy="504720"/>
                </a:xfrm>
                <a:prstGeom prst="ellipse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0" name=""/>
                <p:cNvGrpSpPr/>
                <p:nvPr/>
              </p:nvGrpSpPr>
              <p:grpSpPr>
                <a:xfrm>
                  <a:off x="6948360" y="1486080"/>
                  <a:ext cx="1873080" cy="506160"/>
                  <a:chOff x="6948360" y="1486080"/>
                  <a:chExt cx="1873080" cy="50616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rot="16200000">
                    <a:off x="6948360" y="148608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rot="16200000">
                    <a:off x="8316720" y="148752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равило 4 хабов (придельный случай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20560" y="1482480"/>
            <a:ext cx="8013960" cy="5115240"/>
            <a:chOff x="520560" y="1482480"/>
            <a:chExt cx="8013960" cy="5115240"/>
          </a:xfrm>
        </p:grpSpPr>
        <p:sp>
          <p:nvSpPr>
            <p:cNvPr id="305" name=""/>
            <p:cNvSpPr/>
            <p:nvPr/>
          </p:nvSpPr>
          <p:spPr>
            <a:xfrm>
              <a:off x="826920" y="3283200"/>
              <a:ext cx="1152720" cy="792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5640" y="4075200"/>
              <a:ext cx="75614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771640" y="4075200"/>
              <a:ext cx="936720" cy="2232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3492360" y="4003920"/>
              <a:ext cx="216000" cy="2303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3634920" y="4003920"/>
              <a:ext cx="505080" cy="2303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4932360" y="4003560"/>
              <a:ext cx="503280" cy="2374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5435640" y="4003560"/>
              <a:ext cx="217440" cy="2374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5435280" y="4074840"/>
              <a:ext cx="865080" cy="230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71640" y="1770120"/>
              <a:ext cx="936720" cy="2232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92360" y="1698840"/>
              <a:ext cx="216000" cy="2303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3634920" y="1698840"/>
              <a:ext cx="505080" cy="2303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932360" y="1698840"/>
              <a:ext cx="503280" cy="2374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5435640" y="1698840"/>
              <a:ext cx="217440" cy="2374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5435280" y="1770120"/>
              <a:ext cx="865080" cy="230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755640" y="4074840"/>
              <a:ext cx="1152360" cy="647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164360" y="3283200"/>
              <a:ext cx="1152720" cy="792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7092720" y="4074840"/>
              <a:ext cx="1152360" cy="647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76440" y="3751560"/>
              <a:ext cx="936720" cy="576000"/>
            </a:xfrm>
            <a:prstGeom prst="rect">
              <a:avLst/>
            </a:prstGeom>
            <a:solidFill>
              <a:srgbClr val="5e93c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HU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88080" y="3751560"/>
              <a:ext cx="936360" cy="576000"/>
            </a:xfrm>
            <a:prstGeom prst="rect">
              <a:avLst/>
            </a:prstGeom>
            <a:solidFill>
              <a:srgbClr val="5e93c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HU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43720" y="3751560"/>
              <a:ext cx="936720" cy="576000"/>
            </a:xfrm>
            <a:prstGeom prst="rect">
              <a:avLst/>
            </a:prstGeom>
            <a:solidFill>
              <a:srgbClr val="5e93c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HU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32080" y="3751560"/>
              <a:ext cx="936720" cy="576000"/>
            </a:xfrm>
            <a:prstGeom prst="rect">
              <a:avLst/>
            </a:prstGeom>
            <a:solidFill>
              <a:srgbClr val="5e93c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HU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520560" y="3102120"/>
              <a:ext cx="8013960" cy="1874520"/>
              <a:chOff x="520560" y="3102120"/>
              <a:chExt cx="8013960" cy="187452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520560" y="3103560"/>
                <a:ext cx="506520" cy="1873080"/>
                <a:chOff x="520560" y="3103560"/>
                <a:chExt cx="506520" cy="18730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22360" y="3787920"/>
                  <a:ext cx="504720" cy="504720"/>
                </a:xfrm>
                <a:prstGeom prst="ellipse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9" name=""/>
                <p:cNvGrpSpPr/>
                <p:nvPr/>
              </p:nvGrpSpPr>
              <p:grpSpPr>
                <a:xfrm>
                  <a:off x="520560" y="3103560"/>
                  <a:ext cx="506160" cy="1873080"/>
                  <a:chOff x="520560" y="3103560"/>
                  <a:chExt cx="506160" cy="1873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522000" y="310356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520560" y="447192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2" name=""/>
              <p:cNvGrpSpPr/>
              <p:nvPr/>
            </p:nvGrpSpPr>
            <p:grpSpPr>
              <a:xfrm>
                <a:off x="8028000" y="3102120"/>
                <a:ext cx="506520" cy="1873080"/>
                <a:chOff x="8028000" y="3102120"/>
                <a:chExt cx="506520" cy="18730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8029800" y="3786480"/>
                  <a:ext cx="504720" cy="504720"/>
                </a:xfrm>
                <a:prstGeom prst="ellipse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4" name=""/>
                <p:cNvGrpSpPr/>
                <p:nvPr/>
              </p:nvGrpSpPr>
              <p:grpSpPr>
                <a:xfrm>
                  <a:off x="8028000" y="3102120"/>
                  <a:ext cx="506160" cy="1873080"/>
                  <a:chOff x="8028000" y="3102120"/>
                  <a:chExt cx="506160" cy="187308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8029440" y="310212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8028000" y="447048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37" name=""/>
            <p:cNvGrpSpPr/>
            <p:nvPr/>
          </p:nvGrpSpPr>
          <p:grpSpPr>
            <a:xfrm>
              <a:off x="2511360" y="6091560"/>
              <a:ext cx="4033440" cy="506160"/>
              <a:chOff x="2511360" y="6091560"/>
              <a:chExt cx="4033440" cy="50616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2511360" y="6091560"/>
                <a:ext cx="1873080" cy="506160"/>
                <a:chOff x="2511360" y="6091560"/>
                <a:chExt cx="1873080" cy="506160"/>
              </a:xfrm>
            </p:grpSpPr>
            <p:sp>
              <p:nvSpPr>
                <p:cNvPr id="339" name=""/>
                <p:cNvSpPr/>
                <p:nvPr/>
              </p:nvSpPr>
              <p:spPr>
                <a:xfrm rot="16200000">
                  <a:off x="3195720" y="6091560"/>
                  <a:ext cx="504360" cy="504720"/>
                </a:xfrm>
                <a:prstGeom prst="ellipse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0" name=""/>
                <p:cNvGrpSpPr/>
                <p:nvPr/>
              </p:nvGrpSpPr>
              <p:grpSpPr>
                <a:xfrm>
                  <a:off x="2511360" y="6091560"/>
                  <a:ext cx="1873080" cy="506160"/>
                  <a:chOff x="2511360" y="6091560"/>
                  <a:chExt cx="1873080" cy="50616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 rot="16200000">
                    <a:off x="2511360" y="609156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rot="16200000">
                    <a:off x="3879720" y="609300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3" name=""/>
              <p:cNvGrpSpPr/>
              <p:nvPr/>
            </p:nvGrpSpPr>
            <p:grpSpPr>
              <a:xfrm>
                <a:off x="4671720" y="6091560"/>
                <a:ext cx="1873080" cy="506160"/>
                <a:chOff x="4671720" y="6091560"/>
                <a:chExt cx="1873080" cy="506160"/>
              </a:xfrm>
            </p:grpSpPr>
            <p:sp>
              <p:nvSpPr>
                <p:cNvPr id="344" name=""/>
                <p:cNvSpPr/>
                <p:nvPr/>
              </p:nvSpPr>
              <p:spPr>
                <a:xfrm rot="16200000">
                  <a:off x="5356080" y="6091560"/>
                  <a:ext cx="504360" cy="504720"/>
                </a:xfrm>
                <a:prstGeom prst="ellipse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4671720" y="6091560"/>
                  <a:ext cx="1873080" cy="506160"/>
                  <a:chOff x="4671720" y="6091560"/>
                  <a:chExt cx="1873080" cy="50616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rot="16200000">
                    <a:off x="4671720" y="609156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rot="16200000">
                    <a:off x="6040080" y="6093000"/>
                    <a:ext cx="504720" cy="504720"/>
                  </a:xfrm>
                  <a:prstGeom prst="ellipse">
                    <a:avLst/>
                  </a:prstGeom>
                  <a:solidFill>
                    <a:srgbClr val="66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8" name=""/>
            <p:cNvGrpSpPr/>
            <p:nvPr/>
          </p:nvGrpSpPr>
          <p:grpSpPr>
            <a:xfrm>
              <a:off x="2509920" y="1482480"/>
              <a:ext cx="1873080" cy="506520"/>
              <a:chOff x="2509920" y="1482480"/>
              <a:chExt cx="1873080" cy="506520"/>
            </a:xfrm>
          </p:grpSpPr>
          <p:sp>
            <p:nvSpPr>
              <p:cNvPr id="349" name=""/>
              <p:cNvSpPr/>
              <p:nvPr/>
            </p:nvSpPr>
            <p:spPr>
              <a:xfrm rot="16200000">
                <a:off x="3194280" y="1482480"/>
                <a:ext cx="504720" cy="504720"/>
              </a:xfrm>
              <a:prstGeom prst="ellipse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2509920" y="1482840"/>
                <a:ext cx="1873080" cy="506160"/>
                <a:chOff x="2509920" y="1482840"/>
                <a:chExt cx="1873080" cy="506160"/>
              </a:xfrm>
            </p:grpSpPr>
            <p:sp>
              <p:nvSpPr>
                <p:cNvPr id="351" name=""/>
                <p:cNvSpPr/>
                <p:nvPr/>
              </p:nvSpPr>
              <p:spPr>
                <a:xfrm rot="16200000">
                  <a:off x="2509920" y="1482840"/>
                  <a:ext cx="504720" cy="504720"/>
                </a:xfrm>
                <a:prstGeom prst="ellipse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rot="16200000">
                  <a:off x="3878280" y="1484280"/>
                  <a:ext cx="504720" cy="504720"/>
                </a:xfrm>
                <a:prstGeom prst="ellipse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" name=""/>
            <p:cNvGrpSpPr/>
            <p:nvPr/>
          </p:nvGrpSpPr>
          <p:grpSpPr>
            <a:xfrm>
              <a:off x="4670280" y="1482480"/>
              <a:ext cx="1873080" cy="506520"/>
              <a:chOff x="4670280" y="1482480"/>
              <a:chExt cx="1873080" cy="506520"/>
            </a:xfrm>
          </p:grpSpPr>
          <p:sp>
            <p:nvSpPr>
              <p:cNvPr id="354" name=""/>
              <p:cNvSpPr/>
              <p:nvPr/>
            </p:nvSpPr>
            <p:spPr>
              <a:xfrm rot="16200000">
                <a:off x="5354640" y="1482480"/>
                <a:ext cx="504720" cy="504720"/>
              </a:xfrm>
              <a:prstGeom prst="ellipse">
                <a:avLst/>
              </a:prstGeom>
              <a:solidFill>
                <a:srgbClr val="66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" name=""/>
              <p:cNvGrpSpPr/>
              <p:nvPr/>
            </p:nvGrpSpPr>
            <p:grpSpPr>
              <a:xfrm>
                <a:off x="4670280" y="1482840"/>
                <a:ext cx="1873080" cy="506160"/>
                <a:chOff x="4670280" y="1482840"/>
                <a:chExt cx="1873080" cy="506160"/>
              </a:xfrm>
            </p:grpSpPr>
            <p:sp>
              <p:nvSpPr>
                <p:cNvPr id="356" name=""/>
                <p:cNvSpPr/>
                <p:nvPr/>
              </p:nvSpPr>
              <p:spPr>
                <a:xfrm rot="16200000">
                  <a:off x="4670280" y="1482840"/>
                  <a:ext cx="504720" cy="504720"/>
                </a:xfrm>
                <a:prstGeom prst="ellipse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16200000">
                  <a:off x="6038640" y="1484280"/>
                  <a:ext cx="504720" cy="504720"/>
                </a:xfrm>
                <a:prstGeom prst="ellipse">
                  <a:avLst/>
                </a:prstGeom>
                <a:solidFill>
                  <a:srgbClr val="66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slow">
    <p:cover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Switch (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или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Bridge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witch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похож на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U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единяет сегменты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witch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отличается от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UB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бивает домен коллизий, изолирует часть трафика, то есть позволяет сегментироват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е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жет обслуживать порты с разными скоростями и с разными средами передачи данных (10/100/100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 T/TX/FL/FX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Switch (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или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Bridge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820800"/>
            <a:ext cx="5487840" cy="35132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rcRect l="4590" t="20816" r="0" b="23220"/>
          <a:stretch/>
        </p:blipFill>
        <p:spPr>
          <a:xfrm>
            <a:off x="3132000" y="4292640"/>
            <a:ext cx="6012000" cy="25192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17360" y="6027840"/>
            <a:ext cx="44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6 × 10/100 Base T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13280" y="11253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8 × 10/100 Base T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Switch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–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How To?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-and-Forw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уферная памят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tore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может обслужить линии с разными скоростями или ситуации «несколько шлют одному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 что делается, когда память вся занята?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ing Table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по сути – таблиц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ршрутизации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шает задачу динамической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ршрутизации.  Некоторые модели – даже с поддержкой графов с циклам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spanning tree” 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ход неисправностей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Forwarding Table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(1/2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warding Tabl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ервоначально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заполняетс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наем порт поступления пакета и адрес отправителя, поэтому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заполнении не нашлось свободного мест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зможные решени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ging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Блуждающие устройства»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ing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Forwarding Table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(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/2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используетс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дрес получателя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р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ыстрый поиск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ные подходы, а именно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делать, если в таблице адрес получателя не найден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мулируем поведени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, а именно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делать, если адрес получателя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F:FF:FF:FF:FF:FF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мулируем поведени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, а именно.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рьба с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st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ринцип функционирования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Ethernet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(2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ждый имеет уникальное имя (аналог уникального Ethernet-адрес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гда кто-нибудь говорит, он называет имя собеседника и свое: «Слушай Петя, это Андрей, …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кто-то хочет обратиться ко всем, то он говорит: «Слушайте все, это Андрей, …» (широковещательная передач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ринцип функционирования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Ethernet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(2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двое начинают говорить одновременно, то они сразу обнаруживают это, поскольку слышат друг друга (обнаружение одновременной передачи, коллизии — Collision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этом случае оба замолкают и ждут некоторое время (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какое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сле паузы — попытка вновь начать разгово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Основные понятия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Shared Ethernet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699920"/>
            <a:ext cx="80773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е использование единой среды передачи информации: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ared Etherne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ли режим с разделением кана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правитель посылает пакеты (кадры), которые распространяются по всей сети и воспринимаются всеми компьютер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thernet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пакеты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64—1518 байтов (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почем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граничили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каждого сообщения указывают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дреса получателя и отправите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802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MAC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-адрес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адрес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6 байт; для людей: каждый байт—две 16-ричные цифры, между байтами —двоеточ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B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6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адрес принадлежит непосредственно аппаратуре сетевого адаптера (сетевой карте), присваивается в момент изготов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Коллизи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ная проблем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d Etherne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нет общего механизма распределения времени передач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одновременной передаче происходит наложение сигналов и искажение информации —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ллиз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028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Обработка коллизи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Когда коллизия обнаруживаетс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се прекращают передачу, затем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ауза случайной длительност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затем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епосылка паке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ерепосылка —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нужен буфер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на плате (как минимум на 1 пакет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Рання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пауза+перепосылка) и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здня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коллизии (потеря пакет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667640" y="1557360"/>
            <a:ext cx="9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6:49:14Z</dcterms:created>
  <dc:creator>Sergei M. Abramov</dc:creator>
  <dc:description/>
  <dc:language>en-US</dc:language>
  <cp:lastModifiedBy>Sergei M. Abramow</cp:lastModifiedBy>
  <dcterms:modified xsi:type="dcterms:W3CDTF">2004-12-25T17:50:56Z</dcterms:modified>
  <cp:revision>485</cp:revision>
  <dc:subject/>
  <dc:title>Selling an Idea or a Product</dc:title>
</cp:coreProperties>
</file>