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3CF8-8154-4897-B52B-4B171A07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372-C66C-440E-8B50-E72A0710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5C6-9AF5-47F3-BFA3-09DF2C58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B5C-35B5-4905-AB9F-9393A142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6EB0-C64B-4274-95C8-25B2D01A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0D43-8385-44C4-8F64-2DEFFB57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3ADC-F154-4976-BBE9-99BE1A5E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A265-AA65-438F-868C-4CE0F254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EFED-2C33-493F-99F1-97F31E65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19A1-96CC-4D29-B7FD-5C389484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0CE5-459F-4358-9B70-B8E39509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124-3EA2-4095-ACB4-97A1F6CA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CDBA-2472-45A3-85D9-FCBA741E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9086-230B-4568-B506-330736AC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0A24-77E0-4FCB-AE3C-F084C4FB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D34A-219F-4365-BCF1-006F4A2C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E4AD-094E-4D41-9BFA-AC2B6378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1B5E-3005-446B-BAB8-0F32222F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640C-5EDF-4D4B-9BD8-3C53D5AC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A213-E112-4F95-84E3-003E1835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982-53E6-4C8A-BF61-6681CC46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EF8-8BA1-4277-BC89-B2D0C7CF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C5B-44E4-4467-BFB5-F4FAC300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920-D31E-431B-97B8-712D31D7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ADE7-7C49-4044-AE5F-00CC7BEF84D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22320" y="44280"/>
            <a:ext cx="900000" cy="100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9142-157D-4597-A6FC-4E4A845E27F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320" y="44280"/>
            <a:ext cx="1477800" cy="1656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user@host.domain" TargetMode="External"/><Relationship Id="rId2" Type="http://schemas.openxmlformats.org/officeDocument/2006/relationships/hyperlink" Target="mailto:user@host.domain" TargetMode="External"/><Relationship Id="rId3" Type="http://schemas.openxmlformats.org/officeDocument/2006/relationships/hyperlink" Target="mailto:user@host.domain" TargetMode="External"/><Relationship Id="rId4" Type="http://schemas.openxmlformats.org/officeDocument/2006/relationships/hyperlink" Target="mailto:user@host.domain" TargetMode="External"/><Relationship Id="rId5" Type="http://schemas.openxmlformats.org/officeDocument/2006/relationships/hyperlink" Target="mailto:user@host.domain" TargetMode="External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ftpmail@botik.r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лайды к курсу лекций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«Сети и телекоммуникации»</a:t>
            </a:r>
            <a:br>
              <a:rPr sz="4000"/>
            </a:b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Часть 1 «История зарождения сетей. Протокол 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UUCP</a:t>
            </a: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»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34560" y="4508280"/>
            <a:ext cx="8209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брамов С. 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ГП им. А.К.Айламазяна, Переславль-Залес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Физическое перемещение носителя информаци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питальные затраты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стоверность передачи информаци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пускная способность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держка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дежность передач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Физическое перемещение носителя информаци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питальные затраты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стоверность передачи информаци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пускная способность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держка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-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дежность передач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— за счет физической порчи нос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Передача по каналам связи.  Начало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60–70-ые: первые способы передачи  информации по провода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демы: 1.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bp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годн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6 Kbp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специальные: 100—2048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bps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013360"/>
            <a:ext cx="9144000" cy="1844640"/>
          </a:xfrm>
          <a:prstGeom prst="rightArrow">
            <a:avLst>
              <a:gd name="adj1" fmla="val 50000"/>
              <a:gd name="adj2" fmla="val 1239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Компьютерные сети на базе протокола UUCP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отокол передачи данн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огласованный набор сообщений и форматов сообщений, позволяющий компьютерам обмениваться информаци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UC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UNIX to UNIX Copy Protoco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аборатори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l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97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UCP-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ет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дача: реализация взаимодействия компьютеров — возможность обмена файлами между любыми компьютерами 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UC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се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UCP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ть: неполный граф, узлы—ЭВМ, ребра—наличие возможности передачи информации (канал, возможно сеансовый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UCP. 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Адресация и маршрутизац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UCP-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имен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доменный принцип именования.  Пример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ier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otik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аршрутизация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 заданному имени получателя в неполном графе сети обеспечить выбор сообщением пути успешной достав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796000" y="4797360"/>
            <a:ext cx="792000" cy="824040"/>
          </a:xfrm>
          <a:prstGeom prst="rect">
            <a:avLst/>
          </a:prstGeom>
          <a:solidFill>
            <a:srgbClr val="5e9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Е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3429000"/>
            <a:ext cx="863640" cy="824040"/>
          </a:xfrm>
          <a:prstGeom prst="rect">
            <a:avLst/>
          </a:prstGeom>
          <a:solidFill>
            <a:srgbClr val="5e9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Е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9640" y="1413000"/>
            <a:ext cx="863640" cy="955800"/>
          </a:xfrm>
          <a:prstGeom prst="rect">
            <a:avLst/>
          </a:prstGeom>
          <a:solidFill>
            <a:srgbClr val="5e9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Е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UCP: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маршрутизац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496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аблица маршрутизаци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лучатель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кана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к используетс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Шаблоны име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то заполняет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к обновляетс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292720" y="2003400"/>
            <a:ext cx="3672000" cy="2851200"/>
            <a:chOff x="5292720" y="2003400"/>
            <a:chExt cx="3672000" cy="2851200"/>
          </a:xfrm>
        </p:grpSpPr>
        <p:sp>
          <p:nvSpPr>
            <p:cNvPr id="162" name=""/>
            <p:cNvSpPr/>
            <p:nvPr/>
          </p:nvSpPr>
          <p:spPr>
            <a:xfrm>
              <a:off x="5292720" y="3009960"/>
              <a:ext cx="623880" cy="614160"/>
            </a:xfrm>
            <a:prstGeom prst="ellipse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5746680" y="2525760"/>
              <a:ext cx="530280" cy="52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89440" y="3624120"/>
              <a:ext cx="360360" cy="61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16600" y="3363840"/>
              <a:ext cx="13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56360" y="2003400"/>
              <a:ext cx="625320" cy="614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88120" y="3065400"/>
              <a:ext cx="625680" cy="614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80240" y="4240080"/>
              <a:ext cx="623880" cy="614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465960" y="3642840"/>
              <a:ext cx="871560" cy="76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34000" y="2554200"/>
              <a:ext cx="2653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40840" y="4201920"/>
              <a:ext cx="623880" cy="615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04120" y="4605120"/>
              <a:ext cx="181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91480" y="3560760"/>
              <a:ext cx="700200" cy="69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29440" y="2998800"/>
              <a:ext cx="264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08720" y="3948120"/>
              <a:ext cx="264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364000" y="1557360"/>
            <a:ext cx="1008360" cy="649440"/>
          </a:xfrm>
          <a:prstGeom prst="rect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о: 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47520" y="465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-0.09445 0.14166 E">
                                      <p:cBhvr>
                                        <p:cTn id="13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45 0.14166 L -0.01563 0.36226 E">
                                      <p:cBhvr>
                                        <p:cTn id="2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3 0.36226 L 0.25989 0.36226 E">
                                      <p:cBhvr>
                                        <p:cTn id="27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Доменные имена. Зачем?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ддержка развития сетей, независимость таблиц маршрутизации от развития региональных и локальных сет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олее компактные таблицы маршрутизации, быстрее работает алгоритм маршрутиз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Сеансовые канал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исание сеансов связ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чередность ролей «передатчик—приемник»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UCP-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ередач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UCP-jo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грамм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торую надо выполнить на удаленной маши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бор файл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торые надо доставить на удаленную машин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oo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немедленное исполнени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UCP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даний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uxq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осле завершения передачи либо запускает программу, либо обеспечивает дальнейшую доставк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Предпосылки возникновения сетей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ост числа ЭВМ (начиная с 40-50-ых годов 20 века), расширение сфер использования ЭВ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зные фазы обработки информации стали выполняться на разных компьютер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Новая задача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передача информации между ЭВ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хема работы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UCP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ание множества заданий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path</a:t>
            </a:r>
            <a:r>
              <a:rPr b="0" i="1" lang="ru-RU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!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host</a:t>
            </a:r>
            <a:r>
              <a:rPr b="0" i="1" lang="ru-RU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!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Command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pa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host</a:t>
            </a:r>
            <a:r>
              <a:rPr b="0" i="1" lang="ru-RU" sz="3200" spc="-1" strike="noStrike">
                <a:solidFill>
                  <a:srgbClr val="3333cc"/>
                </a:solidFill>
                <a:latin typeface="Tahoma"/>
              </a:rPr>
              <a:t>1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!</a:t>
            </a:r>
            <a:r>
              <a:rPr b="0" i="1" lang="ru-RU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host</a:t>
            </a:r>
            <a:r>
              <a:rPr b="0" i="1" lang="ru-RU" sz="3200" spc="-1" strike="noStrike">
                <a:solidFill>
                  <a:srgbClr val="3333cc"/>
                </a:solidFill>
                <a:latin typeface="Tahoma"/>
              </a:rPr>
              <a:t>2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!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...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 !</a:t>
            </a:r>
            <a:r>
              <a:rPr b="0" i="1" lang="ru-RU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host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ршрутизация и сортировка заданий по каналам отправ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тановление сеанса связи (hand-shak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хема работы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UCP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едача всех сообщений (A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нтроль надежности передачи данны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нтрольные сум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дтверждение передачи—квитиров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даление/сохранение зад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едача инициативы (B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едача инициативы (A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) — до исчерпания накопленных зад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рыв соедин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бработка полученных зад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Routing loop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и средства борьб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54734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шибки в таблице маршрутизации (человеческий фактор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четчик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ормирование обратного пут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host</a:t>
            </a: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1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!</a:t>
            </a: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host</a:t>
            </a: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2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!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...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!</a:t>
            </a: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host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Отбойник» вдоль обратного пути (гарантия доставки отбойник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maste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равка табли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292720" y="2003400"/>
            <a:ext cx="3672000" cy="3022560"/>
            <a:chOff x="5292720" y="2003400"/>
            <a:chExt cx="3672000" cy="3022560"/>
          </a:xfrm>
        </p:grpSpPr>
        <p:sp>
          <p:nvSpPr>
            <p:cNvPr id="191" name=""/>
            <p:cNvSpPr/>
            <p:nvPr/>
          </p:nvSpPr>
          <p:spPr>
            <a:xfrm>
              <a:off x="5292720" y="3009960"/>
              <a:ext cx="623880" cy="614160"/>
            </a:xfrm>
            <a:prstGeom prst="ellipse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746680" y="2525760"/>
              <a:ext cx="530280" cy="52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89440" y="3624120"/>
              <a:ext cx="360360" cy="61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16600" y="3363840"/>
              <a:ext cx="13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56360" y="2003400"/>
              <a:ext cx="625320" cy="614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88120" y="3065400"/>
              <a:ext cx="625680" cy="614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0240" y="4240080"/>
              <a:ext cx="623880" cy="614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465960" y="3642840"/>
              <a:ext cx="871560" cy="76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34000" y="2554200"/>
              <a:ext cx="2653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40840" y="4202280"/>
              <a:ext cx="623880" cy="615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04120" y="4605480"/>
              <a:ext cx="181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91480" y="3560760"/>
              <a:ext cx="700200" cy="69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29440" y="2998800"/>
              <a:ext cx="264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08720" y="3948120"/>
              <a:ext cx="264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16720" y="3716280"/>
              <a:ext cx="264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4360" y="4653000"/>
              <a:ext cx="2653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72360" y="3573360"/>
              <a:ext cx="2653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5724360" y="1557360"/>
            <a:ext cx="719280" cy="576360"/>
          </a:xfrm>
          <a:prstGeom prst="rect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То: 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013360"/>
            <a:ext cx="9144000" cy="1844640"/>
          </a:xfrm>
          <a:prstGeom prst="rightArrow">
            <a:avLst>
              <a:gd name="adj1" fmla="val 50000"/>
              <a:gd name="adj2" fmla="val 1239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48148E-006 L -0.12413 0.15486 L -0.0467 0.36551 L 0.10486 0.2044 L -0.13698 0.14398 L -0.05 0.37847 L 0.11458 0.20208 L -0.14514 0.13542 E">
                                      <p:cBhvr>
                                        <p:cTn id="36" dur="5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UCP: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гигантский шаг в коммуникациях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 любой ЭВМ в любую ЭВМ в мире можно передать файл с приличной (по тем временам) скоростью и с весьма небольшой задержкой: 1—2—3 сут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 «передачи в интересах ЭВМ» к «передачам в интересах людей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E-mail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ai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адреса пользователе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user</a:t>
            </a:r>
            <a:r>
              <a:rPr b="0" lang="ru-RU" sz="32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@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3"/>
              </a:rPr>
              <a:t>host</a:t>
            </a:r>
            <a:r>
              <a:rPr b="0" lang="ru-RU" sz="3200" spc="-1" strike="noStrike" u="sng">
                <a:solidFill>
                  <a:srgbClr val="3333cc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5"/>
              </a:rPr>
              <a:t>domain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мвол “@” читается ка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o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c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cc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Blind Carbon Cop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ка адреса имеют одинаковый маршрут—письмо не дублируетс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едует ка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1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айл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E-mail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ервис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66600" y="1773360"/>
            <a:ext cx="81421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ационные услуги через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mail 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Д, справки, обслуживание...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TP-m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ff-li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каз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ftpmail@botik.r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xt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lp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написание как нового сообщения, так и реплики на уже существующие) — предвестник Веб-форум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Передача информации, различные подход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изическое перемещение нос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ередача сигнала по каналам связ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Передача информации, основные характеристик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t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Задерж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andwid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Пропускная способность, Емкость канала, Скорость передачи данн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дежност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стовер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ерфокарты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(до середины 80-х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14560" y="2025720"/>
            <a:ext cx="7202520" cy="4643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ерфокарты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(до середины 80-х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640720" cy="3736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Перфолент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3160" y="2532240"/>
            <a:ext cx="4111560" cy="2325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427640" y="19810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920" y="566100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ерфоленты (слев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ппарат коррекции ошибок пробивки перфоленты (справ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Магнитные лент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4508640"/>
            <a:ext cx="349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53, IBM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 бит на дюйм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00 футов (слев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С5017 (справ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8000" y="1473120"/>
            <a:ext cx="8928000" cy="5268960"/>
            <a:chOff x="108000" y="1473120"/>
            <a:chExt cx="8928000" cy="526896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108000" y="1473120"/>
              <a:ext cx="4613400" cy="29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4937040" y="1473120"/>
              <a:ext cx="4098960" cy="2914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"/>
            <p:cNvGrpSpPr/>
            <p:nvPr/>
          </p:nvGrpSpPr>
          <p:grpSpPr>
            <a:xfrm>
              <a:off x="3887640" y="4545000"/>
              <a:ext cx="5148360" cy="2197080"/>
              <a:chOff x="3887640" y="4545000"/>
              <a:chExt cx="5148360" cy="2197080"/>
            </a:xfrm>
          </p:grpSpPr>
          <p:pic>
            <p:nvPicPr>
              <p:cNvPr id="133" name="" descr=""/>
              <p:cNvPicPr/>
              <p:nvPr/>
            </p:nvPicPr>
            <p:blipFill>
              <a:blip r:embed="rId3"/>
              <a:srcRect l="0" t="0" r="9052" b="0"/>
              <a:stretch/>
            </p:blipFill>
            <p:spPr>
              <a:xfrm>
                <a:off x="3887640" y="4545000"/>
                <a:ext cx="2664000" cy="219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" descr=""/>
              <p:cNvPicPr/>
              <p:nvPr/>
            </p:nvPicPr>
            <p:blipFill>
              <a:blip r:embed="rId4"/>
              <a:srcRect l="11386" t="0" r="8646" b="0"/>
              <a:stretch/>
            </p:blipFill>
            <p:spPr>
              <a:xfrm>
                <a:off x="6696000" y="4546440"/>
                <a:ext cx="2340000" cy="2193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Магнитные диск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592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верху: НМД ЕС 5061 (лев.) и ВЦ на базе ЭВМ ЕС (прав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низу: ЕС 1020 (лев.) и ЕС 1050 (прав.).  С 1970 по 1997 год было произведено почти 16 тысяч ЭВМ серии Е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04840" y="4437000"/>
            <a:ext cx="8811720" cy="2304720"/>
            <a:chOff x="204840" y="4437000"/>
            <a:chExt cx="8811720" cy="230472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5244840" y="4437000"/>
              <a:ext cx="3771720" cy="23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204840" y="4438440"/>
              <a:ext cx="4581360" cy="230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2771640" y="1413000"/>
            <a:ext cx="6245280" cy="2770200"/>
            <a:chOff x="2771640" y="1413000"/>
            <a:chExt cx="6245280" cy="2770200"/>
          </a:xfrm>
        </p:grpSpPr>
        <p:pic>
          <p:nvPicPr>
            <p:cNvPr id="141" name="" descr=""/>
            <p:cNvPicPr/>
            <p:nvPr/>
          </p:nvPicPr>
          <p:blipFill>
            <a:blip r:embed="rId3"/>
            <a:srcRect l="0" t="0" r="4993" b="0"/>
            <a:stretch/>
          </p:blipFill>
          <p:spPr>
            <a:xfrm>
              <a:off x="2771640" y="1413000"/>
              <a:ext cx="2305080" cy="27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5292720" y="1413000"/>
              <a:ext cx="3724200" cy="2770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6:49:14Z</dcterms:created>
  <dc:creator>Sergei M. Abramov</dc:creator>
  <dc:description/>
  <dc:language>en-US</dc:language>
  <cp:lastModifiedBy>Sergei M. Abramow</cp:lastModifiedBy>
  <dcterms:modified xsi:type="dcterms:W3CDTF">2005-09-15T05:55:56Z</dcterms:modified>
  <cp:revision>233</cp:revision>
  <dc:subject/>
  <dc:title>Selling an Idea or a Product</dc:title>
</cp:coreProperties>
</file>