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8.wmf" ContentType="image/x-wmf"/>
  <Override PartName="/ppt/media/image10.wmf" ContentType="image/x-wmf"/>
  <Override PartName="/ppt/media/image16.jpeg" ContentType="image/jpeg"/>
  <Override PartName="/ppt/media/image15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17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8647-7DE7-426C-8E62-5212771F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B5CB-9A14-4D25-A4A7-39D0B46E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115-055F-4B8F-8106-7D9D9481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12A5-DA3A-4A3E-9C52-13DB2625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F15C-3A0B-4D48-A45B-51EDF80A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31E8-7DE2-4265-99BC-431FC4D7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A2DF-3169-46EB-A88A-99005115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98E2-6146-416E-A4E5-65A7A36F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F226-462F-4C78-99B5-FF16D063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5E82-D39B-464F-9157-EE239753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B5A1-6AC0-41B5-83DE-1FC5DE8C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1A37-3069-493D-8693-CCB0A21E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173C-D893-4504-B05D-0CD1DDE9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6427-76A2-4C21-B0C8-CA6CE407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B938-28F8-4DD6-88DB-BBDC1877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B101-2830-4A5F-90EC-3541B882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1F49-50CE-44B1-B9D1-BAFFBF1D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7FB7-A5B2-494F-89AE-31D7F7A4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726A-5DB4-490D-8416-9F273DAC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A934-0EB6-4882-B6E4-B23329C8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836C-DEA9-43B7-858B-7A319795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B12F-666B-44C3-BCFC-2B32357B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7A88-DF6E-4463-9503-2ED1E90C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C662-455B-481A-9221-6D145C73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0E3A-64D6-4715-B7EF-9ED145ED442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F5AC-26D3-4B00-B132-F4E690B8E6F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uasa-battery.net/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tech@botik.ru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7416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Построение городской оптической магистрали с учетом особенностей электропитания в райцентрах Росси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34560" y="4508280"/>
            <a:ext cx="8209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брамов С. М., Котельников В. П.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номарев А. Ю., Шевчук Ю. 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осНИИ РП, Переславль-Залес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0520" y="163440"/>
            <a:ext cx="1093680" cy="1224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Устранение неэффективност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8893080" cy="46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Идея коммут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торного модул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8893080" cy="46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Структурная схема коммутаторного модул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214200" y="2637000"/>
            <a:ext cx="8713800" cy="2825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остав коммутаторного модуля (</a:t>
            </a:r>
            <a:r>
              <a:rPr b="1" lang="en-US" sz="4400" spc="-1" strike="noStrike">
                <a:solidFill>
                  <a:srgbClr val="008000"/>
                </a:solidFill>
                <a:latin typeface="Tahoma"/>
              </a:rPr>
              <a:t>$</a:t>
            </a: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172 + </a:t>
            </a:r>
            <a:r>
              <a:rPr b="1" lang="en-US" sz="4400" spc="-1" strike="noStrike">
                <a:solidFill>
                  <a:srgbClr val="008000"/>
                </a:solidFill>
                <a:latin typeface="Tahoma"/>
              </a:rPr>
              <a:t>N×$</a:t>
            </a: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120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2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еталлический контейн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6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оммутатор Fast Ethernet, 8 портов full-duplex (Sureco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N×$12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ансиверы Lantech (от 1 до 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00Base-TX RJ-45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FO 100Base-F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5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Аккумуляторная батарея 12V 24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3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лок пит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1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лок розеток, шнур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Компоновка коммутаторного модул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65120" y="2133720"/>
            <a:ext cx="8213400" cy="4465080"/>
            <a:chOff x="465120" y="2133720"/>
            <a:chExt cx="8213400" cy="4465080"/>
          </a:xfrm>
        </p:grpSpPr>
        <p:graphicFrame>
          <p:nvGraphicFramePr>
            <p:cNvPr id="195" name=""/>
            <p:cNvGraphicFramePr/>
            <p:nvPr/>
          </p:nvGraphicFramePr>
          <p:xfrm>
            <a:off x="3878280" y="2133720"/>
            <a:ext cx="3523680" cy="38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78280" y="2133720"/>
                      <a:ext cx="3523680" cy="38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465120" y="2237760"/>
              <a:ext cx="8213400" cy="4361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5120" y="2237760"/>
              <a:ext cx="8213400" cy="43610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91720" y="3573000"/>
              <a:ext cx="264600" cy="8424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91720" y="3573000"/>
              <a:ext cx="26460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21120" y="3564360"/>
              <a:ext cx="268200" cy="8244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21120" y="3564360"/>
              <a:ext cx="26820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23920" y="3657240"/>
              <a:ext cx="2815920" cy="2934720"/>
            </a:xfrm>
            <a:prstGeom prst="rect">
              <a:avLst/>
            </a:prstGeom>
            <a:solidFill>
              <a:srgbClr val="99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23920" y="3657240"/>
              <a:ext cx="2815920" cy="29347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35600" y="3178800"/>
              <a:ext cx="952200" cy="3173760"/>
            </a:xfrm>
            <a:prstGeom prst="rect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35600" y="3178800"/>
              <a:ext cx="952200" cy="31737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71040" y="3338640"/>
              <a:ext cx="486720" cy="482400"/>
            </a:xfrm>
            <a:custGeom>
              <a:avLst/>
              <a:gdLst/>
              <a:ahLst/>
              <a:rect l="l" t="t" r="r" b="b"/>
              <a:pathLst>
                <a:path w="155" h="156">
                  <a:moveTo>
                    <a:pt x="79" y="0"/>
                  </a:moveTo>
                  <a:lnTo>
                    <a:pt x="92" y="1"/>
                  </a:lnTo>
                  <a:lnTo>
                    <a:pt x="107" y="7"/>
                  </a:lnTo>
                  <a:lnTo>
                    <a:pt x="120" y="13"/>
                  </a:lnTo>
                  <a:lnTo>
                    <a:pt x="133" y="23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2"/>
                  </a:lnTo>
                  <a:lnTo>
                    <a:pt x="155" y="79"/>
                  </a:lnTo>
                  <a:lnTo>
                    <a:pt x="154" y="94"/>
                  </a:lnTo>
                  <a:lnTo>
                    <a:pt x="150" y="108"/>
                  </a:lnTo>
                  <a:lnTo>
                    <a:pt x="143" y="121"/>
                  </a:lnTo>
                  <a:lnTo>
                    <a:pt x="133" y="132"/>
                  </a:lnTo>
                  <a:lnTo>
                    <a:pt x="120" y="142"/>
                  </a:lnTo>
                  <a:lnTo>
                    <a:pt x="107" y="149"/>
                  </a:lnTo>
                  <a:lnTo>
                    <a:pt x="92" y="153"/>
                  </a:lnTo>
                  <a:lnTo>
                    <a:pt x="79" y="156"/>
                  </a:lnTo>
                  <a:lnTo>
                    <a:pt x="61" y="153"/>
                  </a:lnTo>
                  <a:lnTo>
                    <a:pt x="46" y="149"/>
                  </a:lnTo>
                  <a:lnTo>
                    <a:pt x="34" y="142"/>
                  </a:lnTo>
                  <a:lnTo>
                    <a:pt x="23" y="132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4" y="13"/>
                  </a:lnTo>
                  <a:lnTo>
                    <a:pt x="46" y="7"/>
                  </a:lnTo>
                  <a:lnTo>
                    <a:pt x="61" y="1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71040" y="3338640"/>
              <a:ext cx="486720" cy="482400"/>
            </a:xfrm>
            <a:custGeom>
              <a:avLst/>
              <a:gdLst/>
              <a:ahLst/>
              <a:rect l="l" t="t" r="r" b="b"/>
              <a:pathLst>
                <a:path w="155" h="156">
                  <a:moveTo>
                    <a:pt x="79" y="0"/>
                  </a:moveTo>
                  <a:lnTo>
                    <a:pt x="92" y="1"/>
                  </a:lnTo>
                  <a:lnTo>
                    <a:pt x="107" y="7"/>
                  </a:lnTo>
                  <a:lnTo>
                    <a:pt x="120" y="13"/>
                  </a:lnTo>
                  <a:lnTo>
                    <a:pt x="133" y="23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2"/>
                  </a:lnTo>
                  <a:lnTo>
                    <a:pt x="155" y="79"/>
                  </a:lnTo>
                  <a:lnTo>
                    <a:pt x="154" y="94"/>
                  </a:lnTo>
                  <a:lnTo>
                    <a:pt x="150" y="108"/>
                  </a:lnTo>
                  <a:lnTo>
                    <a:pt x="143" y="121"/>
                  </a:lnTo>
                  <a:lnTo>
                    <a:pt x="133" y="132"/>
                  </a:lnTo>
                  <a:lnTo>
                    <a:pt x="120" y="142"/>
                  </a:lnTo>
                  <a:lnTo>
                    <a:pt x="107" y="149"/>
                  </a:lnTo>
                  <a:lnTo>
                    <a:pt x="92" y="153"/>
                  </a:lnTo>
                  <a:lnTo>
                    <a:pt x="79" y="156"/>
                  </a:lnTo>
                  <a:lnTo>
                    <a:pt x="61" y="153"/>
                  </a:lnTo>
                  <a:lnTo>
                    <a:pt x="46" y="149"/>
                  </a:lnTo>
                  <a:lnTo>
                    <a:pt x="34" y="142"/>
                  </a:lnTo>
                  <a:lnTo>
                    <a:pt x="23" y="132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4" y="13"/>
                  </a:lnTo>
                  <a:lnTo>
                    <a:pt x="46" y="7"/>
                  </a:lnTo>
                  <a:lnTo>
                    <a:pt x="61" y="1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78480" y="3552840"/>
              <a:ext cx="75600" cy="75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0"/>
                  </a:moveTo>
                  <a:lnTo>
                    <a:pt x="13" y="0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2" y="15"/>
                  </a:lnTo>
                  <a:lnTo>
                    <a:pt x="22" y="18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19" y="23"/>
                  </a:lnTo>
                  <a:lnTo>
                    <a:pt x="18" y="23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3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8480" y="3552840"/>
              <a:ext cx="75600" cy="75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0"/>
                  </a:moveTo>
                  <a:lnTo>
                    <a:pt x="13" y="0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2" y="15"/>
                  </a:lnTo>
                  <a:lnTo>
                    <a:pt x="22" y="18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19" y="23"/>
                  </a:lnTo>
                  <a:lnTo>
                    <a:pt x="18" y="23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3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77600" y="3552840"/>
              <a:ext cx="75600" cy="75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0"/>
                  </a:moveTo>
                  <a:lnTo>
                    <a:pt x="15" y="0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4" y="15"/>
                  </a:lnTo>
                  <a:lnTo>
                    <a:pt x="22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977600" y="3552840"/>
              <a:ext cx="75600" cy="75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0"/>
                  </a:moveTo>
                  <a:lnTo>
                    <a:pt x="15" y="0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4" y="15"/>
                  </a:lnTo>
                  <a:lnTo>
                    <a:pt x="22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61720" y="2558160"/>
              <a:ext cx="2740680" cy="1005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61720" y="2558160"/>
              <a:ext cx="2740680" cy="10058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17400" y="4237200"/>
              <a:ext cx="42732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17400" y="4237200"/>
              <a:ext cx="42732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10000" y="4237200"/>
              <a:ext cx="43056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10000" y="4237200"/>
              <a:ext cx="43056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44520" y="4237200"/>
              <a:ext cx="27288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4520" y="4237200"/>
              <a:ext cx="27288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35720" y="4237200"/>
              <a:ext cx="42588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35720" y="4237200"/>
              <a:ext cx="42588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43240" y="4237200"/>
              <a:ext cx="27972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43240" y="4237200"/>
              <a:ext cx="27972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59280" y="4237200"/>
              <a:ext cx="42768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59280" y="4237200"/>
              <a:ext cx="42768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87320" y="4237200"/>
              <a:ext cx="26964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87320" y="4237200"/>
              <a:ext cx="26964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58720" y="4237200"/>
              <a:ext cx="42588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58720" y="4237200"/>
              <a:ext cx="42588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84600" y="4237200"/>
              <a:ext cx="27432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84600" y="4237200"/>
              <a:ext cx="27432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480" y="4237200"/>
              <a:ext cx="43452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480" y="4237200"/>
              <a:ext cx="43452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90520" y="4237200"/>
              <a:ext cx="26964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90520" y="4237200"/>
              <a:ext cx="26964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5480" y="3082320"/>
              <a:ext cx="3078000" cy="16808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5480" y="3082320"/>
              <a:ext cx="3078000" cy="16808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71040" y="4144320"/>
              <a:ext cx="486720" cy="480240"/>
            </a:xfrm>
            <a:custGeom>
              <a:avLst/>
              <a:gdLst/>
              <a:ahLst/>
              <a:rect l="l" t="t" r="r" b="b"/>
              <a:pathLst>
                <a:path w="155" h="156">
                  <a:moveTo>
                    <a:pt x="79" y="0"/>
                  </a:moveTo>
                  <a:lnTo>
                    <a:pt x="92" y="2"/>
                  </a:lnTo>
                  <a:lnTo>
                    <a:pt x="107" y="6"/>
                  </a:lnTo>
                  <a:lnTo>
                    <a:pt x="120" y="13"/>
                  </a:lnTo>
                  <a:lnTo>
                    <a:pt x="133" y="23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2"/>
                  </a:lnTo>
                  <a:lnTo>
                    <a:pt x="150" y="107"/>
                  </a:lnTo>
                  <a:lnTo>
                    <a:pt x="143" y="121"/>
                  </a:lnTo>
                  <a:lnTo>
                    <a:pt x="133" y="133"/>
                  </a:lnTo>
                  <a:lnTo>
                    <a:pt x="120" y="142"/>
                  </a:lnTo>
                  <a:lnTo>
                    <a:pt x="107" y="149"/>
                  </a:lnTo>
                  <a:lnTo>
                    <a:pt x="92" y="153"/>
                  </a:lnTo>
                  <a:lnTo>
                    <a:pt x="79" y="156"/>
                  </a:lnTo>
                  <a:lnTo>
                    <a:pt x="61" y="153"/>
                  </a:lnTo>
                  <a:lnTo>
                    <a:pt x="46" y="149"/>
                  </a:lnTo>
                  <a:lnTo>
                    <a:pt x="34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7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71040" y="4144320"/>
              <a:ext cx="486720" cy="480240"/>
            </a:xfrm>
            <a:custGeom>
              <a:avLst/>
              <a:gdLst/>
              <a:ahLst/>
              <a:rect l="l" t="t" r="r" b="b"/>
              <a:pathLst>
                <a:path w="155" h="156">
                  <a:moveTo>
                    <a:pt x="79" y="0"/>
                  </a:moveTo>
                  <a:lnTo>
                    <a:pt x="92" y="2"/>
                  </a:lnTo>
                  <a:lnTo>
                    <a:pt x="107" y="6"/>
                  </a:lnTo>
                  <a:lnTo>
                    <a:pt x="120" y="13"/>
                  </a:lnTo>
                  <a:lnTo>
                    <a:pt x="133" y="23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2"/>
                  </a:lnTo>
                  <a:lnTo>
                    <a:pt x="150" y="107"/>
                  </a:lnTo>
                  <a:lnTo>
                    <a:pt x="143" y="121"/>
                  </a:lnTo>
                  <a:lnTo>
                    <a:pt x="133" y="133"/>
                  </a:lnTo>
                  <a:lnTo>
                    <a:pt x="120" y="142"/>
                  </a:lnTo>
                  <a:lnTo>
                    <a:pt x="107" y="149"/>
                  </a:lnTo>
                  <a:lnTo>
                    <a:pt x="92" y="153"/>
                  </a:lnTo>
                  <a:lnTo>
                    <a:pt x="79" y="156"/>
                  </a:lnTo>
                  <a:lnTo>
                    <a:pt x="61" y="153"/>
                  </a:lnTo>
                  <a:lnTo>
                    <a:pt x="46" y="149"/>
                  </a:lnTo>
                  <a:lnTo>
                    <a:pt x="34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7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178480" y="4356720"/>
              <a:ext cx="75600" cy="70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78480" y="4356720"/>
              <a:ext cx="75600" cy="70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77600" y="4356720"/>
              <a:ext cx="75600" cy="70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0" y="19"/>
                  </a:lnTo>
                  <a:lnTo>
                    <a:pt x="18" y="22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77600" y="4356720"/>
              <a:ext cx="75600" cy="70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0" y="19"/>
                  </a:lnTo>
                  <a:lnTo>
                    <a:pt x="18" y="22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71040" y="4884480"/>
              <a:ext cx="486720" cy="47700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9" y="0"/>
                  </a:moveTo>
                  <a:lnTo>
                    <a:pt x="92" y="1"/>
                  </a:lnTo>
                  <a:lnTo>
                    <a:pt x="107" y="6"/>
                  </a:lnTo>
                  <a:lnTo>
                    <a:pt x="120" y="12"/>
                  </a:lnTo>
                  <a:lnTo>
                    <a:pt x="133" y="22"/>
                  </a:lnTo>
                  <a:lnTo>
                    <a:pt x="143" y="33"/>
                  </a:lnTo>
                  <a:lnTo>
                    <a:pt x="150" y="48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2"/>
                  </a:lnTo>
                  <a:lnTo>
                    <a:pt x="150" y="106"/>
                  </a:lnTo>
                  <a:lnTo>
                    <a:pt x="143" y="120"/>
                  </a:lnTo>
                  <a:lnTo>
                    <a:pt x="133" y="133"/>
                  </a:lnTo>
                  <a:lnTo>
                    <a:pt x="120" y="141"/>
                  </a:lnTo>
                  <a:lnTo>
                    <a:pt x="107" y="150"/>
                  </a:lnTo>
                  <a:lnTo>
                    <a:pt x="92" y="152"/>
                  </a:lnTo>
                  <a:lnTo>
                    <a:pt x="79" y="155"/>
                  </a:lnTo>
                  <a:lnTo>
                    <a:pt x="61" y="152"/>
                  </a:lnTo>
                  <a:lnTo>
                    <a:pt x="46" y="150"/>
                  </a:lnTo>
                  <a:lnTo>
                    <a:pt x="34" y="141"/>
                  </a:lnTo>
                  <a:lnTo>
                    <a:pt x="23" y="133"/>
                  </a:lnTo>
                  <a:lnTo>
                    <a:pt x="14" y="120"/>
                  </a:lnTo>
                  <a:lnTo>
                    <a:pt x="7" y="106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8"/>
                  </a:lnTo>
                  <a:lnTo>
                    <a:pt x="14" y="33"/>
                  </a:lnTo>
                  <a:lnTo>
                    <a:pt x="23" y="22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1" y="1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71040" y="4884480"/>
              <a:ext cx="486720" cy="47700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9" y="0"/>
                  </a:moveTo>
                  <a:lnTo>
                    <a:pt x="92" y="1"/>
                  </a:lnTo>
                  <a:lnTo>
                    <a:pt x="107" y="6"/>
                  </a:lnTo>
                  <a:lnTo>
                    <a:pt x="120" y="12"/>
                  </a:lnTo>
                  <a:lnTo>
                    <a:pt x="133" y="22"/>
                  </a:lnTo>
                  <a:lnTo>
                    <a:pt x="143" y="33"/>
                  </a:lnTo>
                  <a:lnTo>
                    <a:pt x="150" y="48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2"/>
                  </a:lnTo>
                  <a:lnTo>
                    <a:pt x="150" y="106"/>
                  </a:lnTo>
                  <a:lnTo>
                    <a:pt x="143" y="120"/>
                  </a:lnTo>
                  <a:lnTo>
                    <a:pt x="133" y="133"/>
                  </a:lnTo>
                  <a:lnTo>
                    <a:pt x="120" y="141"/>
                  </a:lnTo>
                  <a:lnTo>
                    <a:pt x="107" y="150"/>
                  </a:lnTo>
                  <a:lnTo>
                    <a:pt x="92" y="152"/>
                  </a:lnTo>
                  <a:lnTo>
                    <a:pt x="79" y="155"/>
                  </a:lnTo>
                  <a:lnTo>
                    <a:pt x="61" y="152"/>
                  </a:lnTo>
                  <a:lnTo>
                    <a:pt x="46" y="150"/>
                  </a:lnTo>
                  <a:lnTo>
                    <a:pt x="34" y="141"/>
                  </a:lnTo>
                  <a:lnTo>
                    <a:pt x="23" y="133"/>
                  </a:lnTo>
                  <a:lnTo>
                    <a:pt x="14" y="120"/>
                  </a:lnTo>
                  <a:lnTo>
                    <a:pt x="7" y="106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8"/>
                  </a:lnTo>
                  <a:lnTo>
                    <a:pt x="14" y="33"/>
                  </a:lnTo>
                  <a:lnTo>
                    <a:pt x="23" y="22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1" y="1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178480" y="5093640"/>
              <a:ext cx="75600" cy="74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2" y="7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19" y="22"/>
                  </a:lnTo>
                  <a:lnTo>
                    <a:pt x="18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8480" y="5093640"/>
              <a:ext cx="75600" cy="74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2" y="7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19" y="22"/>
                  </a:lnTo>
                  <a:lnTo>
                    <a:pt x="18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77600" y="5093640"/>
              <a:ext cx="75600" cy="74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5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77600" y="5093640"/>
              <a:ext cx="75600" cy="74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5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71040" y="5703480"/>
              <a:ext cx="486720" cy="47880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9" y="0"/>
                  </a:moveTo>
                  <a:lnTo>
                    <a:pt x="92" y="2"/>
                  </a:lnTo>
                  <a:lnTo>
                    <a:pt x="107" y="6"/>
                  </a:lnTo>
                  <a:lnTo>
                    <a:pt x="120" y="14"/>
                  </a:lnTo>
                  <a:lnTo>
                    <a:pt x="133" y="22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3"/>
                  </a:lnTo>
                  <a:lnTo>
                    <a:pt x="150" y="108"/>
                  </a:lnTo>
                  <a:lnTo>
                    <a:pt x="143" y="120"/>
                  </a:lnTo>
                  <a:lnTo>
                    <a:pt x="133" y="133"/>
                  </a:lnTo>
                  <a:lnTo>
                    <a:pt x="120" y="143"/>
                  </a:lnTo>
                  <a:lnTo>
                    <a:pt x="107" y="150"/>
                  </a:lnTo>
                  <a:lnTo>
                    <a:pt x="92" y="154"/>
                  </a:lnTo>
                  <a:lnTo>
                    <a:pt x="79" y="155"/>
                  </a:lnTo>
                  <a:lnTo>
                    <a:pt x="61" y="154"/>
                  </a:lnTo>
                  <a:lnTo>
                    <a:pt x="46" y="150"/>
                  </a:lnTo>
                  <a:lnTo>
                    <a:pt x="34" y="143"/>
                  </a:lnTo>
                  <a:lnTo>
                    <a:pt x="23" y="133"/>
                  </a:lnTo>
                  <a:lnTo>
                    <a:pt x="14" y="120"/>
                  </a:lnTo>
                  <a:lnTo>
                    <a:pt x="7" y="108"/>
                  </a:lnTo>
                  <a:lnTo>
                    <a:pt x="0" y="93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2"/>
                  </a:lnTo>
                  <a:lnTo>
                    <a:pt x="34" y="14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71040" y="5703480"/>
              <a:ext cx="486720" cy="47880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9" y="0"/>
                  </a:moveTo>
                  <a:lnTo>
                    <a:pt x="92" y="2"/>
                  </a:lnTo>
                  <a:lnTo>
                    <a:pt x="107" y="6"/>
                  </a:lnTo>
                  <a:lnTo>
                    <a:pt x="120" y="14"/>
                  </a:lnTo>
                  <a:lnTo>
                    <a:pt x="133" y="22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3"/>
                  </a:lnTo>
                  <a:lnTo>
                    <a:pt x="150" y="108"/>
                  </a:lnTo>
                  <a:lnTo>
                    <a:pt x="143" y="120"/>
                  </a:lnTo>
                  <a:lnTo>
                    <a:pt x="133" y="133"/>
                  </a:lnTo>
                  <a:lnTo>
                    <a:pt x="120" y="143"/>
                  </a:lnTo>
                  <a:lnTo>
                    <a:pt x="107" y="150"/>
                  </a:lnTo>
                  <a:lnTo>
                    <a:pt x="92" y="154"/>
                  </a:lnTo>
                  <a:lnTo>
                    <a:pt x="79" y="155"/>
                  </a:lnTo>
                  <a:lnTo>
                    <a:pt x="61" y="154"/>
                  </a:lnTo>
                  <a:lnTo>
                    <a:pt x="46" y="150"/>
                  </a:lnTo>
                  <a:lnTo>
                    <a:pt x="34" y="143"/>
                  </a:lnTo>
                  <a:lnTo>
                    <a:pt x="23" y="133"/>
                  </a:lnTo>
                  <a:lnTo>
                    <a:pt x="14" y="120"/>
                  </a:lnTo>
                  <a:lnTo>
                    <a:pt x="7" y="108"/>
                  </a:lnTo>
                  <a:lnTo>
                    <a:pt x="0" y="93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2"/>
                  </a:lnTo>
                  <a:lnTo>
                    <a:pt x="34" y="14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8480" y="5919480"/>
              <a:ext cx="75600" cy="72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20" y="19"/>
                  </a:lnTo>
                  <a:lnTo>
                    <a:pt x="19" y="21"/>
                  </a:lnTo>
                  <a:lnTo>
                    <a:pt x="18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8480" y="5919480"/>
              <a:ext cx="75600" cy="72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20" y="19"/>
                  </a:lnTo>
                  <a:lnTo>
                    <a:pt x="19" y="21"/>
                  </a:lnTo>
                  <a:lnTo>
                    <a:pt x="18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77600" y="5919480"/>
              <a:ext cx="75600" cy="72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22" y="17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77600" y="5919480"/>
              <a:ext cx="75600" cy="72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22" y="17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1200" y="4237200"/>
              <a:ext cx="26136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1200" y="4237200"/>
              <a:ext cx="26136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Компоновка коммутаторного модул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31640" y="2637000"/>
            <a:ext cx="8278200" cy="2878920"/>
            <a:chOff x="431640" y="2637000"/>
            <a:chExt cx="8278200" cy="2878920"/>
          </a:xfrm>
        </p:grpSpPr>
        <p:sp>
          <p:nvSpPr>
            <p:cNvPr id="263" name=""/>
            <p:cNvSpPr/>
            <p:nvPr/>
          </p:nvSpPr>
          <p:spPr>
            <a:xfrm>
              <a:off x="460080" y="2637000"/>
              <a:ext cx="8221320" cy="284796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0080" y="2637000"/>
              <a:ext cx="8221320" cy="28479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15640" y="2639880"/>
              <a:ext cx="2829240" cy="2288520"/>
            </a:xfrm>
            <a:prstGeom prst="rect">
              <a:avLst/>
            </a:prstGeom>
            <a:solidFill>
              <a:srgbClr val="99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15640" y="2639880"/>
              <a:ext cx="2829240" cy="22885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8480" y="2716920"/>
              <a:ext cx="3736440" cy="3168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8480" y="2716920"/>
              <a:ext cx="3736440" cy="31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56720" y="2639880"/>
              <a:ext cx="204840" cy="7668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56720" y="2639880"/>
              <a:ext cx="204840" cy="76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1280" y="2639880"/>
              <a:ext cx="207360" cy="7668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1280" y="2639880"/>
              <a:ext cx="207360" cy="76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42800" y="4010400"/>
              <a:ext cx="1032120" cy="4500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42800" y="4010400"/>
              <a:ext cx="1032120" cy="45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49280" y="4062600"/>
              <a:ext cx="962640" cy="793080"/>
            </a:xfrm>
            <a:prstGeom prst="rect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9280" y="4062600"/>
              <a:ext cx="962640" cy="793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1640" y="5306760"/>
              <a:ext cx="182520" cy="20916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9" y="0"/>
                  </a:moveTo>
                  <a:lnTo>
                    <a:pt x="0" y="0"/>
                  </a:lnTo>
                  <a:lnTo>
                    <a:pt x="0" y="60"/>
                  </a:lnTo>
                  <a:lnTo>
                    <a:pt x="58" y="60"/>
                  </a:lnTo>
                  <a:lnTo>
                    <a:pt x="58" y="5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66400" y="2734200"/>
              <a:ext cx="2740680" cy="1712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66400" y="2734200"/>
              <a:ext cx="2740680" cy="17125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01880" y="5379840"/>
              <a:ext cx="241920" cy="9792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01880" y="5379840"/>
              <a:ext cx="241920" cy="979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04320" y="5369400"/>
              <a:ext cx="242640" cy="10836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04320" y="5369400"/>
              <a:ext cx="242640" cy="1083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66160" y="4856040"/>
              <a:ext cx="3084840" cy="5238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66160" y="4856040"/>
              <a:ext cx="3084840" cy="5238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77840" y="2922840"/>
              <a:ext cx="887760" cy="1226520"/>
            </a:xfrm>
            <a:custGeom>
              <a:avLst/>
              <a:gdLst/>
              <a:ahLst/>
              <a:rect l="l" t="t" r="r" b="b"/>
              <a:pathLst>
                <a:path w="282" h="351">
                  <a:moveTo>
                    <a:pt x="163" y="351"/>
                  </a:moveTo>
                  <a:lnTo>
                    <a:pt x="282" y="283"/>
                  </a:lnTo>
                  <a:lnTo>
                    <a:pt x="117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77840" y="2922840"/>
              <a:ext cx="887760" cy="1226520"/>
            </a:xfrm>
            <a:custGeom>
              <a:avLst/>
              <a:gdLst/>
              <a:ahLst/>
              <a:rect l="l" t="t" r="r" b="b"/>
              <a:pathLst>
                <a:path w="282" h="351">
                  <a:moveTo>
                    <a:pt x="163" y="351"/>
                  </a:moveTo>
                  <a:lnTo>
                    <a:pt x="282" y="283"/>
                  </a:lnTo>
                  <a:lnTo>
                    <a:pt x="117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73400" y="2748600"/>
              <a:ext cx="425160" cy="7830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5" y="219"/>
                  </a:moveTo>
                  <a:lnTo>
                    <a:pt x="127" y="2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5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73400" y="2748600"/>
              <a:ext cx="425160" cy="7830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5" y="219"/>
                  </a:moveTo>
                  <a:lnTo>
                    <a:pt x="127" y="2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5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19760" y="2922840"/>
              <a:ext cx="890640" cy="1226520"/>
            </a:xfrm>
            <a:custGeom>
              <a:avLst/>
              <a:gdLst/>
              <a:ahLst/>
              <a:rect l="l" t="t" r="r" b="b"/>
              <a:pathLst>
                <a:path w="283" h="351">
                  <a:moveTo>
                    <a:pt x="164" y="351"/>
                  </a:moveTo>
                  <a:lnTo>
                    <a:pt x="283" y="283"/>
                  </a:lnTo>
                  <a:lnTo>
                    <a:pt x="118" y="0"/>
                  </a:lnTo>
                  <a:lnTo>
                    <a:pt x="0" y="68"/>
                  </a:lnTo>
                  <a:lnTo>
                    <a:pt x="164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119760" y="2922840"/>
              <a:ext cx="890640" cy="1226520"/>
            </a:xfrm>
            <a:custGeom>
              <a:avLst/>
              <a:gdLst/>
              <a:ahLst/>
              <a:rect l="l" t="t" r="r" b="b"/>
              <a:pathLst>
                <a:path w="283" h="351">
                  <a:moveTo>
                    <a:pt x="164" y="351"/>
                  </a:moveTo>
                  <a:lnTo>
                    <a:pt x="283" y="283"/>
                  </a:lnTo>
                  <a:lnTo>
                    <a:pt x="118" y="0"/>
                  </a:lnTo>
                  <a:lnTo>
                    <a:pt x="0" y="68"/>
                  </a:lnTo>
                  <a:lnTo>
                    <a:pt x="164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09560" y="2748600"/>
              <a:ext cx="434520" cy="78300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38" y="219"/>
                  </a:moveTo>
                  <a:lnTo>
                    <a:pt x="128" y="224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38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09560" y="2748600"/>
              <a:ext cx="434520" cy="78300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38" y="219"/>
                  </a:moveTo>
                  <a:lnTo>
                    <a:pt x="128" y="224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38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58800" y="2922840"/>
              <a:ext cx="884160" cy="1226520"/>
            </a:xfrm>
            <a:custGeom>
              <a:avLst/>
              <a:gdLst/>
              <a:ahLst/>
              <a:rect l="l" t="t" r="r" b="b"/>
              <a:pathLst>
                <a:path w="281" h="351">
                  <a:moveTo>
                    <a:pt x="165" y="351"/>
                  </a:moveTo>
                  <a:lnTo>
                    <a:pt x="281" y="283"/>
                  </a:lnTo>
                  <a:lnTo>
                    <a:pt x="119" y="0"/>
                  </a:lnTo>
                  <a:lnTo>
                    <a:pt x="0" y="68"/>
                  </a:lnTo>
                  <a:lnTo>
                    <a:pt x="165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58800" y="2922840"/>
              <a:ext cx="884160" cy="1226520"/>
            </a:xfrm>
            <a:custGeom>
              <a:avLst/>
              <a:gdLst/>
              <a:ahLst/>
              <a:rect l="l" t="t" r="r" b="b"/>
              <a:pathLst>
                <a:path w="281" h="351">
                  <a:moveTo>
                    <a:pt x="165" y="351"/>
                  </a:moveTo>
                  <a:lnTo>
                    <a:pt x="281" y="283"/>
                  </a:lnTo>
                  <a:lnTo>
                    <a:pt x="119" y="0"/>
                  </a:lnTo>
                  <a:lnTo>
                    <a:pt x="0" y="68"/>
                  </a:lnTo>
                  <a:lnTo>
                    <a:pt x="165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51120" y="2748600"/>
              <a:ext cx="428040" cy="783000"/>
            </a:xfrm>
            <a:custGeom>
              <a:avLst/>
              <a:gdLst/>
              <a:ahLst/>
              <a:rect l="l" t="t" r="r" b="b"/>
              <a:pathLst>
                <a:path w="136" h="224">
                  <a:moveTo>
                    <a:pt x="136" y="219"/>
                  </a:moveTo>
                  <a:lnTo>
                    <a:pt x="126" y="22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6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51120" y="2748600"/>
              <a:ext cx="428040" cy="783000"/>
            </a:xfrm>
            <a:custGeom>
              <a:avLst/>
              <a:gdLst/>
              <a:ahLst/>
              <a:rect l="l" t="t" r="r" b="b"/>
              <a:pathLst>
                <a:path w="136" h="224">
                  <a:moveTo>
                    <a:pt x="136" y="219"/>
                  </a:moveTo>
                  <a:lnTo>
                    <a:pt x="126" y="22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6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45880" y="2922840"/>
              <a:ext cx="884880" cy="1226520"/>
            </a:xfrm>
            <a:custGeom>
              <a:avLst/>
              <a:gdLst/>
              <a:ahLst/>
              <a:rect l="l" t="t" r="r" b="b"/>
              <a:pathLst>
                <a:path w="281" h="351">
                  <a:moveTo>
                    <a:pt x="163" y="351"/>
                  </a:moveTo>
                  <a:lnTo>
                    <a:pt x="281" y="283"/>
                  </a:lnTo>
                  <a:lnTo>
                    <a:pt x="117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45880" y="2922840"/>
              <a:ext cx="884880" cy="1226520"/>
            </a:xfrm>
            <a:custGeom>
              <a:avLst/>
              <a:gdLst/>
              <a:ahLst/>
              <a:rect l="l" t="t" r="r" b="b"/>
              <a:pathLst>
                <a:path w="281" h="351">
                  <a:moveTo>
                    <a:pt x="163" y="351"/>
                  </a:moveTo>
                  <a:lnTo>
                    <a:pt x="281" y="283"/>
                  </a:lnTo>
                  <a:lnTo>
                    <a:pt x="117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42160" y="2748600"/>
              <a:ext cx="421560" cy="783000"/>
            </a:xfrm>
            <a:custGeom>
              <a:avLst/>
              <a:gdLst/>
              <a:ahLst/>
              <a:rect l="l" t="t" r="r" b="b"/>
              <a:pathLst>
                <a:path w="134" h="224">
                  <a:moveTo>
                    <a:pt x="134" y="219"/>
                  </a:moveTo>
                  <a:lnTo>
                    <a:pt x="125" y="224"/>
                  </a:lnTo>
                  <a:lnTo>
                    <a:pt x="0" y="4"/>
                  </a:lnTo>
                  <a:lnTo>
                    <a:pt x="6" y="0"/>
                  </a:lnTo>
                  <a:lnTo>
                    <a:pt x="134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42160" y="2748600"/>
              <a:ext cx="421560" cy="783000"/>
            </a:xfrm>
            <a:custGeom>
              <a:avLst/>
              <a:gdLst/>
              <a:ahLst/>
              <a:rect l="l" t="t" r="r" b="b"/>
              <a:pathLst>
                <a:path w="134" h="224">
                  <a:moveTo>
                    <a:pt x="134" y="219"/>
                  </a:moveTo>
                  <a:lnTo>
                    <a:pt x="125" y="224"/>
                  </a:lnTo>
                  <a:lnTo>
                    <a:pt x="0" y="4"/>
                  </a:lnTo>
                  <a:lnTo>
                    <a:pt x="6" y="0"/>
                  </a:lnTo>
                  <a:lnTo>
                    <a:pt x="134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5000" y="2922840"/>
              <a:ext cx="880560" cy="122652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63" y="351"/>
                  </a:moveTo>
                  <a:lnTo>
                    <a:pt x="280" y="283"/>
                  </a:lnTo>
                  <a:lnTo>
                    <a:pt x="118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5000" y="2922840"/>
              <a:ext cx="880560" cy="122652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63" y="351"/>
                  </a:moveTo>
                  <a:lnTo>
                    <a:pt x="280" y="283"/>
                  </a:lnTo>
                  <a:lnTo>
                    <a:pt x="118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7680" y="2748600"/>
              <a:ext cx="427320" cy="783000"/>
            </a:xfrm>
            <a:custGeom>
              <a:avLst/>
              <a:gdLst/>
              <a:ahLst/>
              <a:rect l="l" t="t" r="r" b="b"/>
              <a:pathLst>
                <a:path w="136" h="224">
                  <a:moveTo>
                    <a:pt x="136" y="219"/>
                  </a:moveTo>
                  <a:lnTo>
                    <a:pt x="126" y="22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6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7680" y="2748600"/>
              <a:ext cx="427320" cy="783000"/>
            </a:xfrm>
            <a:custGeom>
              <a:avLst/>
              <a:gdLst/>
              <a:ahLst/>
              <a:rect l="l" t="t" r="r" b="b"/>
              <a:pathLst>
                <a:path w="136" h="224">
                  <a:moveTo>
                    <a:pt x="136" y="219"/>
                  </a:moveTo>
                  <a:lnTo>
                    <a:pt x="126" y="22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6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16920" y="2922840"/>
              <a:ext cx="887040" cy="1226520"/>
            </a:xfrm>
            <a:custGeom>
              <a:avLst/>
              <a:gdLst/>
              <a:ahLst/>
              <a:rect l="l" t="t" r="r" b="b"/>
              <a:pathLst>
                <a:path w="282" h="351">
                  <a:moveTo>
                    <a:pt x="164" y="351"/>
                  </a:moveTo>
                  <a:lnTo>
                    <a:pt x="282" y="283"/>
                  </a:lnTo>
                  <a:lnTo>
                    <a:pt x="119" y="0"/>
                  </a:lnTo>
                  <a:lnTo>
                    <a:pt x="0" y="68"/>
                  </a:lnTo>
                  <a:lnTo>
                    <a:pt x="164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16920" y="2922840"/>
              <a:ext cx="887040" cy="1226520"/>
            </a:xfrm>
            <a:custGeom>
              <a:avLst/>
              <a:gdLst/>
              <a:ahLst/>
              <a:rect l="l" t="t" r="r" b="b"/>
              <a:pathLst>
                <a:path w="282" h="351">
                  <a:moveTo>
                    <a:pt x="164" y="351"/>
                  </a:moveTo>
                  <a:lnTo>
                    <a:pt x="282" y="283"/>
                  </a:lnTo>
                  <a:lnTo>
                    <a:pt x="119" y="0"/>
                  </a:lnTo>
                  <a:lnTo>
                    <a:pt x="0" y="68"/>
                  </a:lnTo>
                  <a:lnTo>
                    <a:pt x="164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12480" y="2748600"/>
              <a:ext cx="425160" cy="7830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5" y="219"/>
                  </a:moveTo>
                  <a:lnTo>
                    <a:pt x="125" y="2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5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12480" y="2748600"/>
              <a:ext cx="425160" cy="7830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5" y="219"/>
                  </a:moveTo>
                  <a:lnTo>
                    <a:pt x="125" y="2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5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27320" y="5306760"/>
              <a:ext cx="182520" cy="20916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51" y="0"/>
                  </a:moveTo>
                  <a:lnTo>
                    <a:pt x="58" y="0"/>
                  </a:lnTo>
                  <a:lnTo>
                    <a:pt x="58" y="60"/>
                  </a:lnTo>
                  <a:lnTo>
                    <a:pt x="0" y="60"/>
                  </a:lnTo>
                  <a:lnTo>
                    <a:pt x="0" y="5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Металлический контейнер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500</a:t>
            </a:r>
            <a:r>
              <a:rPr b="1" lang="ru-RU" sz="3200" spc="-1" strike="noStrike">
                <a:solidFill>
                  <a:srgbClr val="000099"/>
                </a:solidFill>
                <a:latin typeface="SymbolProp BT"/>
                <a:ea typeface="SymbolProp BT"/>
              </a:rPr>
              <a:t>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150</a:t>
            </a:r>
            <a:r>
              <a:rPr b="1" lang="ru-RU" sz="3200" spc="-1" strike="noStrike">
                <a:solidFill>
                  <a:srgbClr val="000099"/>
                </a:solidFill>
                <a:latin typeface="SymbolProp BT"/>
                <a:ea typeface="SymbolProp BT"/>
              </a:rPr>
              <a:t>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250 мм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1619280" y="1989000"/>
            <a:ext cx="6192720" cy="4594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Металлический контейнер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500</a:t>
            </a:r>
            <a:r>
              <a:rPr b="1" lang="ru-RU" sz="3200" spc="-1" strike="noStrike">
                <a:solidFill>
                  <a:srgbClr val="000099"/>
                </a:solidFill>
                <a:latin typeface="SymbolProp BT"/>
                <a:ea typeface="SymbolProp BT"/>
              </a:rPr>
              <a:t>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150</a:t>
            </a:r>
            <a:r>
              <a:rPr b="1" lang="ru-RU" sz="3200" spc="-1" strike="noStrike">
                <a:solidFill>
                  <a:srgbClr val="000099"/>
                </a:solidFill>
                <a:latin typeface="SymbolProp BT"/>
                <a:ea typeface="SymbolProp BT"/>
              </a:rPr>
              <a:t>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250 мм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1474920" y="1989000"/>
            <a:ext cx="6192720" cy="4578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998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Аккумуляторная батаре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атарея NPL24-12I, </a:t>
            </a:r>
            <a:r>
              <a:rPr b="0" lang="ru-RU" sz="32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www.yuasa-battery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ип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инцово-гелевая, необслуживаемая (sealed lead-acid, P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рок службы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7—10 л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емк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и разряде током 1А: 24А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пряжение заряд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буферном режиме 13.5–13.8 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пряжение разряда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12.5–10.5 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Блок питан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rcRect l="411" t="5445" r="770" b="5139"/>
          <a:stretch/>
        </p:blipFill>
        <p:spPr>
          <a:xfrm>
            <a:off x="179280" y="2852640"/>
            <a:ext cx="8751960" cy="237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001 год: структура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rcRect l="0" t="0" r="4926" b="20050"/>
          <a:stretch/>
        </p:blipFill>
        <p:spPr>
          <a:xfrm>
            <a:off x="1949400" y="1974960"/>
            <a:ext cx="5243400" cy="4883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Блок питания (корпус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727280" y="1916280"/>
            <a:ext cx="5688000" cy="4708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Блок питания (компоновка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042920" y="1989000"/>
            <a:ext cx="6985080" cy="4745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998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Устойчивость к плохому электропитанию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35344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Допустимо на входе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от ~165 В до ~280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116000" y="2565360"/>
          <a:ext cx="7586640" cy="4049640"/>
        </p:xfrm>
        <a:graphic>
          <a:graphicData uri="http://schemas.openxmlformats.org/drawingml/2006/table">
            <a:tbl>
              <a:tblPr/>
              <a:tblGrid>
                <a:gridCol w="2232000"/>
                <a:gridCol w="2519280"/>
                <a:gridCol w="2835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и-веров (шт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номная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(час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ядка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час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8—9.3—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7—11—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—13—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—15—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—20—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—27—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99840" y="404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Улучшена коннективность магистральных роутеров 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250920" y="2349360"/>
          <a:ext cx="8640720" cy="3942000"/>
        </p:xfrm>
        <a:graphic>
          <a:graphicData uri="http://schemas.openxmlformats.org/drawingml/2006/table">
            <a:tbl>
              <a:tblPr/>
              <a:tblGrid>
                <a:gridCol w="1726920"/>
                <a:gridCol w="2233800"/>
                <a:gridCol w="2808360"/>
                <a:gridCol w="1871640"/>
              </a:tblGrid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ыло</a:t>
                      </a:r>
                      <a:br>
                        <a:rPr sz="28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-avg-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ло</a:t>
                      </a:r>
                      <a:br>
                        <a:rPr sz="28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-avg-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учше в...</a:t>
                      </a:r>
                      <a:br>
                        <a:rPr sz="28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-avg-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тери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TT (mse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.4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.1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-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dwith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/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998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Заключение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02920" y="1981080"/>
            <a:ext cx="69138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Готов отвечать на вопросы..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11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хнические подробности:</a:t>
            </a:r>
            <a:br>
              <a:rPr sz="3200"/>
            </a:br>
            <a:br>
              <a:rPr sz="3200"/>
            </a:br>
            <a:r>
              <a:rPr b="0" lang="en-US" sz="4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tech@botik.ru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001 год: структура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589040" y="1763640"/>
            <a:ext cx="7554960" cy="5087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rcRect l="0" t="0" r="4926" b="20050"/>
          <a:stretch/>
        </p:blipFill>
        <p:spPr>
          <a:xfrm>
            <a:off x="174600" y="2128680"/>
            <a:ext cx="2689200" cy="2503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001 год: недостатки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589040" y="1763640"/>
            <a:ext cx="7554960" cy="5087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058840"/>
            <a:ext cx="42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ольшое число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промежуточных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маршрутиза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001 год: недостатки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589040" y="1763640"/>
            <a:ext cx="7554960" cy="5087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058840"/>
            <a:ext cx="4284720" cy="25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устойчивос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к перебоя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электро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S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реша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проблему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Идея модернизации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058840"/>
            <a:ext cx="428472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ммутаторы н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магистр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стойчивост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магистрал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к перебоям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электро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944720" y="1784520"/>
            <a:ext cx="7199280" cy="507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12920" y="2116080"/>
            <a:ext cx="3679560" cy="3746520"/>
          </a:xfrm>
          <a:prstGeom prst="downArrowCallout">
            <a:avLst>
              <a:gd name="adj1" fmla="val 22956"/>
              <a:gd name="adj2" fmla="val 24282"/>
              <a:gd name="adj3" fmla="val 7203"/>
              <a:gd name="adj4" fmla="val 87120"/>
            </a:avLst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9520" y="318960"/>
            <a:ext cx="7981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Национальные особенности электропитания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2520" y="2117880"/>
            <a:ext cx="369576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изкое качество (180—260 вольт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ые аварии, длительные ремонт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ерные отключ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S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е справят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1200" y="270000"/>
            <a:ext cx="1168560" cy="1307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170240" y="2050920"/>
            <a:ext cx="4973760" cy="3768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PS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обыкновенный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8893080" cy="4672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Неэффективность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PS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8893080" cy="467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6:49:14Z</dcterms:created>
  <dc:creator>Sergei M. Abramov</dc:creator>
  <dc:description/>
  <dc:language>en-US</dc:language>
  <cp:lastModifiedBy>Sergei M. Abramov</cp:lastModifiedBy>
  <dcterms:modified xsi:type="dcterms:W3CDTF">2002-09-20T12:25:20Z</dcterms:modified>
  <cp:revision>149</cp:revision>
  <dc:subject/>
  <dc:title>Selling an Idea or a Product</dc:title>
</cp:coreProperties>
</file>