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8.wmf" ContentType="image/x-wmf"/>
  <Override PartName="/ppt/media/image10.wmf" ContentType="image/x-wmf"/>
  <Override PartName="/ppt/media/image16.jpeg" ContentType="image/jpe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5E1-D8B9-40AE-B14C-EDE3CB85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61B-8197-48CD-B988-9FAAE87A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904-6E48-4A0D-A6DA-260AD1ED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157-79A9-4E2A-BA16-55117549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CC92-38F7-4851-ACFA-9B7B395E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9FE6-09BD-4982-8361-10D24A73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0FA8-73D3-4FA8-89B8-680A8351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E2A4-86F9-481D-9306-1D5E9AE9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9706-1953-4436-88DF-30A22DFE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C746-C2A2-4B66-B6D5-B6E741A2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4F0F-BB48-4E73-8852-9B682FB1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9D1-B11F-4279-9648-1732C687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F51E-82C0-4548-9797-5970645E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B9AE-6E31-4069-836D-94423A1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73B8-02CF-4C41-A987-EBCAC712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2571-468F-47E2-AAF6-004B3CEC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5A6E-0497-4A4A-8950-13780E92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134-66C9-4CB3-ACCD-7A4029FF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F52-E707-4954-9317-16346690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B227-8994-4343-955C-B26297C0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993-ED20-4C36-95C1-F3954CE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9E7-DD68-47FE-8AF2-54E9077E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D8B-E8C5-4887-9D89-F878136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8EA-61BF-45ED-A90A-22935FF7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E5A3-31C3-4E45-8F03-B67BE3BB5E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548E-76BB-42FB-81CC-9E59EBF5C9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uasa-battery.net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tech@botik.ru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4167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остроение городской оптической магистрали с учетом особенностей электропитания в райцентрах Росс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, Котельников В. П.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омарев А. Ю., Шевчук Ю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осНИИ РП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0520" y="163440"/>
            <a:ext cx="109368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ранение неэффективност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дея коммут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труктурная схем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14200" y="2637000"/>
            <a:ext cx="8713800" cy="282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остав коммутаторного модуля (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72 + </a:t>
            </a:r>
            <a:r>
              <a:rPr b="1" lang="en-US" sz="4400" spc="-1" strike="noStrike">
                <a:solidFill>
                  <a:srgbClr val="008000"/>
                </a:solidFill>
                <a:latin typeface="Tahoma"/>
              </a:rPr>
              <a:t>N×$</a:t>
            </a: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120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Металлический контейн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6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оммутатор Fast Ethernet, 8 портов full-duplex (Surec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N×$12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ансиверы Lantech (от 1 до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00Base-TX RJ-45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FO 100Base-F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Аккумуляторная батарея 12V 24A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3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пит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$1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лок розеток, шнур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65120" y="2133720"/>
            <a:ext cx="8213400" cy="4465080"/>
            <a:chOff x="465120" y="2133720"/>
            <a:chExt cx="8213400" cy="4465080"/>
          </a:xfrm>
        </p:grpSpPr>
        <p:graphicFrame>
          <p:nvGraphicFramePr>
            <p:cNvPr id="195" name=""/>
            <p:cNvGraphicFramePr/>
            <p:nvPr/>
          </p:nvGraphicFramePr>
          <p:xfrm>
            <a:off x="3878280" y="2133720"/>
            <a:ext cx="3523680" cy="38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78280" y="2133720"/>
                      <a:ext cx="3523680" cy="38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120" y="2237760"/>
              <a:ext cx="8213400" cy="43610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91720" y="3573000"/>
              <a:ext cx="26460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21120" y="3564360"/>
              <a:ext cx="26820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3920" y="3657240"/>
              <a:ext cx="2815920" cy="2934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35600" y="3178800"/>
              <a:ext cx="952200" cy="3173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71040" y="3338640"/>
              <a:ext cx="486720" cy="48240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1"/>
                  </a:lnTo>
                  <a:lnTo>
                    <a:pt x="107" y="7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2"/>
                  </a:lnTo>
                  <a:lnTo>
                    <a:pt x="155" y="79"/>
                  </a:lnTo>
                  <a:lnTo>
                    <a:pt x="154" y="94"/>
                  </a:lnTo>
                  <a:lnTo>
                    <a:pt x="150" y="108"/>
                  </a:lnTo>
                  <a:lnTo>
                    <a:pt x="143" y="121"/>
                  </a:lnTo>
                  <a:lnTo>
                    <a:pt x="133" y="132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2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7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848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2" y="15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20" y="20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3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77600" y="3552840"/>
              <a:ext cx="75600" cy="75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1" y="0"/>
                  </a:moveTo>
                  <a:lnTo>
                    <a:pt x="15" y="0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4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61720" y="2558160"/>
              <a:ext cx="2740680" cy="1005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17400" y="4237200"/>
              <a:ext cx="427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10000" y="4237200"/>
              <a:ext cx="4305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4520" y="4237200"/>
              <a:ext cx="272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35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43240" y="4237200"/>
              <a:ext cx="2797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59280" y="4237200"/>
              <a:ext cx="4276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873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8720" y="4237200"/>
              <a:ext cx="42588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84600" y="4237200"/>
              <a:ext cx="2743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480" y="4237200"/>
              <a:ext cx="43452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0520" y="4237200"/>
              <a:ext cx="26964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25480" y="3082320"/>
              <a:ext cx="3078000" cy="16808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71040" y="4144320"/>
              <a:ext cx="486720" cy="480240"/>
            </a:xfrm>
            <a:custGeom>
              <a:avLst/>
              <a:gdLst/>
              <a:ahLst/>
              <a:rect l="l" t="t" r="r" b="b"/>
              <a:pathLst>
                <a:path w="155" h="156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3"/>
                  </a:lnTo>
                  <a:lnTo>
                    <a:pt x="133" y="23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7"/>
                  </a:lnTo>
                  <a:lnTo>
                    <a:pt x="143" y="121"/>
                  </a:lnTo>
                  <a:lnTo>
                    <a:pt x="133" y="133"/>
                  </a:lnTo>
                  <a:lnTo>
                    <a:pt x="120" y="142"/>
                  </a:lnTo>
                  <a:lnTo>
                    <a:pt x="107" y="149"/>
                  </a:lnTo>
                  <a:lnTo>
                    <a:pt x="92" y="153"/>
                  </a:lnTo>
                  <a:lnTo>
                    <a:pt x="79" y="156"/>
                  </a:lnTo>
                  <a:lnTo>
                    <a:pt x="61" y="153"/>
                  </a:lnTo>
                  <a:lnTo>
                    <a:pt x="46" y="149"/>
                  </a:lnTo>
                  <a:lnTo>
                    <a:pt x="34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7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4" y="13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7848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77600" y="4356720"/>
              <a:ext cx="75600" cy="70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19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4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71040" y="4884480"/>
              <a:ext cx="486720" cy="4770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1"/>
                  </a:lnTo>
                  <a:lnTo>
                    <a:pt x="107" y="6"/>
                  </a:lnTo>
                  <a:lnTo>
                    <a:pt x="120" y="12"/>
                  </a:lnTo>
                  <a:lnTo>
                    <a:pt x="133" y="22"/>
                  </a:lnTo>
                  <a:lnTo>
                    <a:pt x="143" y="33"/>
                  </a:lnTo>
                  <a:lnTo>
                    <a:pt x="150" y="48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2"/>
                  </a:lnTo>
                  <a:lnTo>
                    <a:pt x="150" y="106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1"/>
                  </a:lnTo>
                  <a:lnTo>
                    <a:pt x="107" y="150"/>
                  </a:lnTo>
                  <a:lnTo>
                    <a:pt x="92" y="152"/>
                  </a:lnTo>
                  <a:lnTo>
                    <a:pt x="79" y="155"/>
                  </a:lnTo>
                  <a:lnTo>
                    <a:pt x="61" y="152"/>
                  </a:lnTo>
                  <a:lnTo>
                    <a:pt x="46" y="150"/>
                  </a:lnTo>
                  <a:lnTo>
                    <a:pt x="34" y="141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6"/>
                  </a:lnTo>
                  <a:lnTo>
                    <a:pt x="0" y="92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8"/>
                  </a:lnTo>
                  <a:lnTo>
                    <a:pt x="14" y="33"/>
                  </a:lnTo>
                  <a:lnTo>
                    <a:pt x="23" y="22"/>
                  </a:lnTo>
                  <a:lnTo>
                    <a:pt x="34" y="12"/>
                  </a:lnTo>
                  <a:lnTo>
                    <a:pt x="46" y="6"/>
                  </a:lnTo>
                  <a:lnTo>
                    <a:pt x="61" y="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848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19" y="22"/>
                  </a:lnTo>
                  <a:lnTo>
                    <a:pt x="18" y="24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77600" y="5093640"/>
              <a:ext cx="75600" cy="74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4" y="4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1040" y="5703480"/>
              <a:ext cx="486720" cy="478800"/>
            </a:xfrm>
            <a:custGeom>
              <a:avLst/>
              <a:gdLst/>
              <a:ahLst/>
              <a:rect l="l" t="t" r="r" b="b"/>
              <a:pathLst>
                <a:path w="155" h="155">
                  <a:moveTo>
                    <a:pt x="79" y="0"/>
                  </a:moveTo>
                  <a:lnTo>
                    <a:pt x="92" y="2"/>
                  </a:lnTo>
                  <a:lnTo>
                    <a:pt x="107" y="6"/>
                  </a:lnTo>
                  <a:lnTo>
                    <a:pt x="120" y="14"/>
                  </a:lnTo>
                  <a:lnTo>
                    <a:pt x="133" y="22"/>
                  </a:lnTo>
                  <a:lnTo>
                    <a:pt x="143" y="34"/>
                  </a:lnTo>
                  <a:lnTo>
                    <a:pt x="150" y="47"/>
                  </a:lnTo>
                  <a:lnTo>
                    <a:pt x="154" y="61"/>
                  </a:lnTo>
                  <a:lnTo>
                    <a:pt x="155" y="78"/>
                  </a:lnTo>
                  <a:lnTo>
                    <a:pt x="154" y="93"/>
                  </a:lnTo>
                  <a:lnTo>
                    <a:pt x="150" y="108"/>
                  </a:lnTo>
                  <a:lnTo>
                    <a:pt x="143" y="120"/>
                  </a:lnTo>
                  <a:lnTo>
                    <a:pt x="133" y="133"/>
                  </a:lnTo>
                  <a:lnTo>
                    <a:pt x="120" y="143"/>
                  </a:lnTo>
                  <a:lnTo>
                    <a:pt x="107" y="150"/>
                  </a:lnTo>
                  <a:lnTo>
                    <a:pt x="92" y="154"/>
                  </a:lnTo>
                  <a:lnTo>
                    <a:pt x="79" y="155"/>
                  </a:lnTo>
                  <a:lnTo>
                    <a:pt x="61" y="154"/>
                  </a:lnTo>
                  <a:lnTo>
                    <a:pt x="46" y="150"/>
                  </a:lnTo>
                  <a:lnTo>
                    <a:pt x="34" y="143"/>
                  </a:lnTo>
                  <a:lnTo>
                    <a:pt x="23" y="133"/>
                  </a:lnTo>
                  <a:lnTo>
                    <a:pt x="14" y="120"/>
                  </a:lnTo>
                  <a:lnTo>
                    <a:pt x="7" y="108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0" y="61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2"/>
                  </a:lnTo>
                  <a:lnTo>
                    <a:pt x="34" y="14"/>
                  </a:lnTo>
                  <a:lnTo>
                    <a:pt x="46" y="6"/>
                  </a:lnTo>
                  <a:lnTo>
                    <a:pt x="61" y="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848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9" y="21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77600" y="5919480"/>
              <a:ext cx="75600" cy="72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1" y="0"/>
                  </a:move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8" y="21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1200" y="4237200"/>
              <a:ext cx="261360" cy="1606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Компоновка коммутаторного модул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1640" y="2637000"/>
            <a:ext cx="8278200" cy="2878920"/>
            <a:chOff x="431640" y="2637000"/>
            <a:chExt cx="8278200" cy="2878920"/>
          </a:xfrm>
        </p:grpSpPr>
        <p:sp>
          <p:nvSpPr>
            <p:cNvPr id="263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0080" y="2637000"/>
              <a:ext cx="8221320" cy="28479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solidFill>
              <a:srgbClr val="99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715640" y="2639880"/>
              <a:ext cx="2829240" cy="2288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8480" y="2716920"/>
              <a:ext cx="3736440" cy="31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56720" y="2639880"/>
              <a:ext cx="20484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1280" y="2639880"/>
              <a:ext cx="207360" cy="766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42800" y="4010400"/>
              <a:ext cx="1032120" cy="45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49280" y="4062600"/>
              <a:ext cx="962640" cy="793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164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9" y="0"/>
                  </a:moveTo>
                  <a:lnTo>
                    <a:pt x="0" y="0"/>
                  </a:lnTo>
                  <a:lnTo>
                    <a:pt x="0" y="60"/>
                  </a:lnTo>
                  <a:lnTo>
                    <a:pt x="58" y="60"/>
                  </a:lnTo>
                  <a:lnTo>
                    <a:pt x="58" y="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6400" y="2734200"/>
              <a:ext cx="2740680" cy="17125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1880" y="5379840"/>
              <a:ext cx="241920" cy="97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04320" y="5369400"/>
              <a:ext cx="242640" cy="1083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6160" y="4856040"/>
              <a:ext cx="3084840" cy="523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77840" y="2922840"/>
              <a:ext cx="88776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3" y="351"/>
                  </a:moveTo>
                  <a:lnTo>
                    <a:pt x="282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340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7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19760" y="2922840"/>
              <a:ext cx="890640" cy="1226520"/>
            </a:xfrm>
            <a:custGeom>
              <a:avLst/>
              <a:gdLst/>
              <a:ahLst/>
              <a:rect l="l" t="t" r="r" b="b"/>
              <a:pathLst>
                <a:path w="283" h="351">
                  <a:moveTo>
                    <a:pt x="164" y="351"/>
                  </a:moveTo>
                  <a:lnTo>
                    <a:pt x="283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09560" y="2748600"/>
              <a:ext cx="434520" cy="783000"/>
            </a:xfrm>
            <a:custGeom>
              <a:avLst/>
              <a:gdLst/>
              <a:ahLst/>
              <a:rect l="l" t="t" r="r" b="b"/>
              <a:pathLst>
                <a:path w="138" h="224">
                  <a:moveTo>
                    <a:pt x="138" y="219"/>
                  </a:moveTo>
                  <a:lnTo>
                    <a:pt x="128" y="22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38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58800" y="2922840"/>
              <a:ext cx="88416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5" y="351"/>
                  </a:moveTo>
                  <a:lnTo>
                    <a:pt x="281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5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51120" y="2748600"/>
              <a:ext cx="42804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5880" y="2922840"/>
              <a:ext cx="884880" cy="1226520"/>
            </a:xfrm>
            <a:custGeom>
              <a:avLst/>
              <a:gdLst/>
              <a:ahLst/>
              <a:rect l="l" t="t" r="r" b="b"/>
              <a:pathLst>
                <a:path w="281" h="351">
                  <a:moveTo>
                    <a:pt x="163" y="351"/>
                  </a:moveTo>
                  <a:lnTo>
                    <a:pt x="281" y="283"/>
                  </a:lnTo>
                  <a:lnTo>
                    <a:pt x="117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2160" y="2748600"/>
              <a:ext cx="421560" cy="78300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134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6" y="0"/>
                  </a:lnTo>
                  <a:lnTo>
                    <a:pt x="134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5000" y="2922840"/>
              <a:ext cx="880560" cy="1226520"/>
            </a:xfrm>
            <a:custGeom>
              <a:avLst/>
              <a:gdLst/>
              <a:ahLst/>
              <a:rect l="l" t="t" r="r" b="b"/>
              <a:pathLst>
                <a:path w="280" h="351">
                  <a:moveTo>
                    <a:pt x="163" y="351"/>
                  </a:moveTo>
                  <a:lnTo>
                    <a:pt x="280" y="283"/>
                  </a:lnTo>
                  <a:lnTo>
                    <a:pt x="118" y="0"/>
                  </a:lnTo>
                  <a:lnTo>
                    <a:pt x="0" y="68"/>
                  </a:lnTo>
                  <a:lnTo>
                    <a:pt x="163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680" y="2748600"/>
              <a:ext cx="427320" cy="783000"/>
            </a:xfrm>
            <a:custGeom>
              <a:avLst/>
              <a:gdLst/>
              <a:ahLst/>
              <a:rect l="l" t="t" r="r" b="b"/>
              <a:pathLst>
                <a:path w="136" h="224">
                  <a:moveTo>
                    <a:pt x="136" y="219"/>
                  </a:moveTo>
                  <a:lnTo>
                    <a:pt x="126" y="22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36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6920" y="2922840"/>
              <a:ext cx="887040" cy="1226520"/>
            </a:xfrm>
            <a:custGeom>
              <a:avLst/>
              <a:gdLst/>
              <a:ahLst/>
              <a:rect l="l" t="t" r="r" b="b"/>
              <a:pathLst>
                <a:path w="282" h="351">
                  <a:moveTo>
                    <a:pt x="164" y="351"/>
                  </a:moveTo>
                  <a:lnTo>
                    <a:pt x="282" y="283"/>
                  </a:lnTo>
                  <a:lnTo>
                    <a:pt x="119" y="0"/>
                  </a:lnTo>
                  <a:lnTo>
                    <a:pt x="0" y="68"/>
                  </a:lnTo>
                  <a:lnTo>
                    <a:pt x="164" y="35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12480" y="2748600"/>
              <a:ext cx="425160" cy="783000"/>
            </a:xfrm>
            <a:custGeom>
              <a:avLst/>
              <a:gdLst/>
              <a:ahLst/>
              <a:rect l="l" t="t" r="r" b="b"/>
              <a:pathLst>
                <a:path w="135" h="224">
                  <a:moveTo>
                    <a:pt x="135" y="219"/>
                  </a:moveTo>
                  <a:lnTo>
                    <a:pt x="125" y="224"/>
                  </a:lnTo>
                  <a:lnTo>
                    <a:pt x="0" y="4"/>
                  </a:lnTo>
                  <a:lnTo>
                    <a:pt x="7" y="0"/>
                  </a:lnTo>
                  <a:lnTo>
                    <a:pt x="135" y="21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27320" y="5306760"/>
              <a:ext cx="182520" cy="20916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1" y="0"/>
                  </a:moveTo>
                  <a:lnTo>
                    <a:pt x="58" y="0"/>
                  </a:lnTo>
                  <a:lnTo>
                    <a:pt x="58" y="60"/>
                  </a:lnTo>
                  <a:lnTo>
                    <a:pt x="0" y="60"/>
                  </a:lnTo>
                  <a:lnTo>
                    <a:pt x="0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1619280" y="1989000"/>
            <a:ext cx="6192720" cy="4594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еталлический контейнер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50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150</a:t>
            </a:r>
            <a:r>
              <a:rPr b="1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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250 мм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474920" y="1989000"/>
            <a:ext cx="6192720" cy="4578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Аккумуляторная батаре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атарея NPL24-12I, </a:t>
            </a:r>
            <a:r>
              <a:rPr b="0" lang="ru-RU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yuasa-battery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ип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винцово-гелевая, необслуживаемая (sealed lead-acid, P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ок службы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7—10 ле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и разряде током 1А: 24А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заряд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буферном режиме 13.5–13.8 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пряжение разряд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2.5–10.5 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rcRect l="411" t="5445" r="770" b="5139"/>
          <a:stretch/>
        </p:blipFill>
        <p:spPr>
          <a:xfrm>
            <a:off x="179280" y="2852640"/>
            <a:ext cx="8751960" cy="23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0" t="0" r="4926" b="20050"/>
          <a:stretch/>
        </p:blipFill>
        <p:spPr>
          <a:xfrm>
            <a:off x="1949400" y="1974960"/>
            <a:ext cx="5243400" cy="4883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рпус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8000" cy="4708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47280" y="304560"/>
            <a:ext cx="75963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Блок питания (компоновка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1989000"/>
            <a:ext cx="6985080" cy="4745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Устойчивость к плохому электропитанию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35344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Допустимо на входе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т ~165 В до ~280 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16000" y="2565360"/>
          <a:ext cx="7586640" cy="4049640"/>
        </p:xfrm>
        <a:graphic>
          <a:graphicData uri="http://schemas.openxmlformats.org/drawingml/2006/table">
            <a:tbl>
              <a:tblPr/>
              <a:tblGrid>
                <a:gridCol w="2232000"/>
                <a:gridCol w="2519280"/>
                <a:gridCol w="2835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и-веров (шт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номная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дка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ас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8—9.3—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7—11—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—13—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—15—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—20—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—27—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984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Улучшена коннективность магистральных роутеров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250920" y="2349360"/>
          <a:ext cx="8640720" cy="3942000"/>
        </p:xfrm>
        <a:graphic>
          <a:graphicData uri="http://schemas.openxmlformats.org/drawingml/2006/table">
            <a:tbl>
              <a:tblPr/>
              <a:tblGrid>
                <a:gridCol w="1726920"/>
                <a:gridCol w="2233800"/>
                <a:gridCol w="2808360"/>
                <a:gridCol w="1871640"/>
              </a:tblGrid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ы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ло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учше в...</a:t>
                      </a: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-avg-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ери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TT (ms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3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4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.1-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dwith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/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98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Заключение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02920" y="1981080"/>
            <a:ext cx="69138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Готов отвечать на вопросы..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11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хнические подробности:</a:t>
            </a:r>
            <a:br>
              <a:rPr sz="3200"/>
            </a:br>
            <a:br>
              <a:rPr sz="3200"/>
            </a:br>
            <a:r>
              <a:rPr b="0" lang="en-US" sz="48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tech@botik.ru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168200" cy="1308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структура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rcRect l="0" t="0" r="4926" b="20050"/>
          <a:stretch/>
        </p:blipFill>
        <p:spPr>
          <a:xfrm>
            <a:off x="174600" y="2128680"/>
            <a:ext cx="2689200" cy="2503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058840"/>
            <a:ext cx="42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шое число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промежуточных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ршрутиз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2001 год: недостатк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89040" y="1763640"/>
            <a:ext cx="7554960" cy="5087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058840"/>
            <a:ext cx="428472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устойчивость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реша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проблему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дея модернизации магистрали СТ «Ботик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58840"/>
            <a:ext cx="42847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ммутаторы н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ойчивость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магистрал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к перебоя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электро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944720" y="1784520"/>
            <a:ext cx="7199280" cy="5073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12920" y="2116080"/>
            <a:ext cx="3679560" cy="3746520"/>
          </a:xfrm>
          <a:prstGeom prst="downArrowCallout">
            <a:avLst>
              <a:gd name="adj1" fmla="val 22956"/>
              <a:gd name="adj2" fmla="val 24282"/>
              <a:gd name="adj3" fmla="val 7203"/>
              <a:gd name="adj4" fmla="val 87120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9520" y="318960"/>
            <a:ext cx="79819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Национальные особенности электропит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2520" y="2117880"/>
            <a:ext cx="36957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изкое качество (180—260 воль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ые аварии, длительные ремон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ерные отключ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S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 справят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200" y="270000"/>
            <a:ext cx="1168560" cy="130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170240" y="2050920"/>
            <a:ext cx="4973760" cy="3768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ыкновенны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2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3189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Неэффективность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UP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023920" y="1981080"/>
          <a:ext cx="17798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3920" y="1981080"/>
                    <a:ext cx="1779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33280" y="376200"/>
            <a:ext cx="1168560" cy="1308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8840" y="2033640"/>
            <a:ext cx="360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250920" y="1989000"/>
            <a:ext cx="8893080" cy="467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M. Abramov</cp:lastModifiedBy>
  <dcterms:modified xsi:type="dcterms:W3CDTF">2002-09-20T12:25:20Z</dcterms:modified>
  <cp:revision>149</cp:revision>
  <dc:subject/>
  <dc:title>Selling an Idea or a Product</dc:title>
</cp:coreProperties>
</file>