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8.wmf" ContentType="image/x-wmf"/>
  <Override PartName="/ppt/media/image10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A1F-31B2-4BDF-8CEF-A4D448A4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A39-ABE6-4D6A-BB1B-C0F621AE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B94-264A-463F-8455-D14EE67B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4CD-487E-4CA4-B541-0E4901DC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26E3-8E40-42AA-AF19-F75BAAFE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9BD2-1B92-4C4F-BE83-8265AF38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6A7-4800-4EC7-B013-EBD0D987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A179-BBDF-4586-B1C5-408A3174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71E0-F060-4B17-BB92-575F72C6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AEF3-7FF7-4D1D-96BD-A636F587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6E37-D6B2-4BD0-A08F-C2B0328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05F-6F2B-4474-9311-9B0D3557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AA53-4283-43D5-9AA5-B19FBA4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20B4-6A55-4ECE-B52B-6AE2443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99B5-F036-4EFE-8CC2-CE4E8C78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B333-5DCB-4DC1-9549-27B3560C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9662-17A5-450F-99EC-498225CA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7BC-70ED-4CA9-B078-6F93AA7C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1EB-5257-4E36-9FA9-87A21DB7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665-EDD6-4B12-8BC8-90102576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341-3BA3-4A44-AF18-F3DC72D8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B4E-1CDA-4D46-ADC2-3A6251FF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930-BBC7-4A9E-98E0-FEEC52C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5CA-C7B3-4785-B72B-DF51E331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F3B3-0422-427A-84A4-407BB4FFA3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986B-2867-4760-B7A1-0F4441AFBC9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uasa-battery.net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ech@botik.ru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остроение городской оптической магистрали с учетом особенностей электропитания в райцентрах Росс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, Котельников В. П.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омарев А. Ю., Шевчук Ю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сНИИ РП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0520" y="163440"/>
            <a:ext cx="109368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ранение неэффективност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я коммут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труктурная схем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14200" y="2637000"/>
            <a:ext cx="8713800" cy="28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остав коммутаторного модуля (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72 + 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N×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20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еталлический контейн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6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ммутатор Fast Ethernet, 8 портов full-duplex (Sure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N×$1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ансиверы Lantech (от 1 до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00Base-TX RJ-4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FO 100Base-F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Аккумуляторная батарея 12V 24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3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пит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розеток, шнур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65120" y="2133720"/>
            <a:ext cx="8213400" cy="4465080"/>
            <a:chOff x="465120" y="2133720"/>
            <a:chExt cx="8213400" cy="4465080"/>
          </a:xfrm>
        </p:grpSpPr>
        <p:graphicFrame>
          <p:nvGraphicFramePr>
            <p:cNvPr id="195" name=""/>
            <p:cNvGraphicFramePr/>
            <p:nvPr/>
          </p:nvGraphicFramePr>
          <p:xfrm>
            <a:off x="3878280" y="2133720"/>
            <a:ext cx="3523680" cy="38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78280" y="2133720"/>
                      <a:ext cx="3523680" cy="38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1640" y="2637000"/>
            <a:ext cx="8278200" cy="2878920"/>
            <a:chOff x="431640" y="2637000"/>
            <a:chExt cx="8278200" cy="2878920"/>
          </a:xfrm>
        </p:grpSpPr>
        <p:sp>
          <p:nvSpPr>
            <p:cNvPr id="263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164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9" y="0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58" y="60"/>
                  </a:lnTo>
                  <a:lnTo>
                    <a:pt x="58" y="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732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1" y="0"/>
                  </a:moveTo>
                  <a:lnTo>
                    <a:pt x="58" y="0"/>
                  </a:lnTo>
                  <a:lnTo>
                    <a:pt x="58" y="60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619280" y="1989000"/>
            <a:ext cx="6192720" cy="459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474920" y="1989000"/>
            <a:ext cx="6192720" cy="4578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Аккумуляторная батаре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тарея NPL24-12I, 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yuasa-battery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инцово-гелевая, необслуживаемая (sealed lead-acid, P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ок службы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7—10 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 разряде током 1А: 24А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заря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буферном режиме 13.5–13.8 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разряд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2.5–10.5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rcRect l="411" t="5445" r="770" b="5139"/>
          <a:stretch/>
        </p:blipFill>
        <p:spPr>
          <a:xfrm>
            <a:off x="179280" y="2852640"/>
            <a:ext cx="875196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0" t="0" r="4926" b="20050"/>
          <a:stretch/>
        </p:blipFill>
        <p:spPr>
          <a:xfrm>
            <a:off x="1949400" y="1974960"/>
            <a:ext cx="5243400" cy="488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рпус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800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мпоновка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1989000"/>
            <a:ext cx="6985080" cy="474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ойчивость к плохому электропитанию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пустимо на входе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т ~165 В до ~280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16000" y="2565360"/>
          <a:ext cx="7586640" cy="4049640"/>
        </p:xfrm>
        <a:graphic>
          <a:graphicData uri="http://schemas.openxmlformats.org/drawingml/2006/table">
            <a:tbl>
              <a:tblPr/>
              <a:tblGrid>
                <a:gridCol w="2232000"/>
                <a:gridCol w="2519280"/>
                <a:gridCol w="2835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и-веров (шт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номная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дка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—9.3—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—11—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—13—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—15—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—20—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—27—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984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лучшена коннективность магистральных роутеров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349360"/>
          <a:ext cx="8640720" cy="3942000"/>
        </p:xfrm>
        <a:graphic>
          <a:graphicData uri="http://schemas.openxmlformats.org/drawingml/2006/table">
            <a:tbl>
              <a:tblPr/>
              <a:tblGrid>
                <a:gridCol w="1726920"/>
                <a:gridCol w="2233800"/>
                <a:gridCol w="2808360"/>
                <a:gridCol w="187164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ы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учше в...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ери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TT (ms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4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1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dwith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/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Заключени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02920" y="1981080"/>
            <a:ext cx="69138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отов отвечать на вопросы..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11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е подробности:</a:t>
            </a:r>
            <a:br>
              <a:rPr sz="3200"/>
            </a:br>
            <a:br>
              <a:rPr sz="3200"/>
            </a:b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tech@botik.r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4926" b="20050"/>
          <a:stretch/>
        </p:blipFill>
        <p:spPr>
          <a:xfrm>
            <a:off x="174600" y="2128680"/>
            <a:ext cx="2689200" cy="250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884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шое числ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промежуточн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ршрутиз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058840"/>
            <a:ext cx="428472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устойчив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реша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проблем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дея модернизаци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58840"/>
            <a:ext cx="4284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мутаторы 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ойчивос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944720" y="1784520"/>
            <a:ext cx="7199280" cy="50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12920" y="2116080"/>
            <a:ext cx="3679560" cy="3746520"/>
          </a:xfrm>
          <a:prstGeom prst="downArrowCallout">
            <a:avLst>
              <a:gd name="adj1" fmla="val 22956"/>
              <a:gd name="adj2" fmla="val 24282"/>
              <a:gd name="adj3" fmla="val 7203"/>
              <a:gd name="adj4" fmla="val 87120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9520" y="318960"/>
            <a:ext cx="7981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Национальные особенности электропит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2520" y="2117880"/>
            <a:ext cx="36957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зкое качество (180—260 воль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ые аварии, длительные ремон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ерные отклю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справя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200" y="270000"/>
            <a:ext cx="1168560" cy="130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170240" y="2050920"/>
            <a:ext cx="4973760" cy="376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ыкновенны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Неэффективность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v</cp:lastModifiedBy>
  <dcterms:modified xsi:type="dcterms:W3CDTF">2002-09-20T12:25:20Z</dcterms:modified>
  <cp:revision>149</cp:revision>
  <dc:subject/>
  <dc:title>Selling an Idea or a Product</dc:title>
</cp:coreProperties>
</file>